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095C-A8AA-4E3D-9B7D-306333B8A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0B27-587E-4432-992A-1505477B5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3E81-E19F-40CA-A22D-82988437D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E114-FAA1-4F7D-9B20-92D1CD6F3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ECA85-FCF8-4922-8C77-9EE15BAE6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3F6D2-AD7C-4709-A1B7-48DB91D37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2AC2D-D12D-4EAF-AB5E-0500BED89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BAC86-82DB-4C7F-AB71-A28D11735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81390-27E7-4218-8417-5E91BDB75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ECC10-523F-44AA-8EC8-5DE89787F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06C14-B394-42CC-8B20-E6A8879DA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AABF-1EF7-4E98-8765-DCCA31DCC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58104-5AB6-4CA2-B4F4-7A7AA18C0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C1E0C-F5AF-418A-8F15-0A32610B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DE8E8-4968-4CF1-81F8-836E012BD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8704D-1C40-4C18-9B27-4431CD326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F2200-26C3-4179-AB79-692FFD014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41DF-8C39-42A1-A4F4-79987A0C0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714B-2333-477A-B6B1-53A5AAD81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D86C-53CF-459B-B2B4-CC114EB1B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49BB-9450-4825-A5C1-DCD0EECCC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77B5-D6B0-4305-B833-6B236C36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53F8-57BB-47B9-BE45-8C13EF841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A4F5-C37A-4DDF-835B-F86A5339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60A2D-9C41-47C2-A339-725A4A32D77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F8F1D-CAFB-4459-9991-D6AA101B654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755640" y="1915200"/>
            <a:ext cx="7716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FUTURE SIMPLE</a:t>
            </a:r>
            <a:r>
              <a:rPr b="1" lang="ru-RU" sz="7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INDEFINITE</a:t>
            </a:r>
            <a:r>
              <a:rPr b="1" lang="ru-RU" sz="7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8000" y="277560"/>
            <a:ext cx="90360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Tomorrow </a:t>
            </a:r>
            <a:r>
              <a:rPr b="0" i="1" lang="ru-RU" sz="2800" spc="-1" strike="noStrike">
                <a:solidFill>
                  <a:srgbClr val="3399ff"/>
                </a:solidFill>
                <a:latin typeface="Arial"/>
              </a:rPr>
              <a:t>завтра</a:t>
            </a: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, the day after tomorrow </a:t>
            </a:r>
            <a:r>
              <a:rPr b="0" i="1" lang="ru-RU" sz="2800" spc="-1" strike="noStrike">
                <a:solidFill>
                  <a:srgbClr val="3399ff"/>
                </a:solidFill>
                <a:latin typeface="Arial"/>
              </a:rPr>
              <a:t>послезавтра</a:t>
            </a: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, next week (month, year) </a:t>
            </a:r>
            <a:r>
              <a:rPr b="0" i="1" lang="ru-RU" sz="2800" spc="-1" strike="noStrike">
                <a:solidFill>
                  <a:srgbClr val="3399ff"/>
                </a:solidFill>
                <a:latin typeface="Arial"/>
              </a:rPr>
              <a:t>на</a:t>
            </a:r>
            <a:r>
              <a:rPr b="0" i="1" lang="en-US" sz="28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3399ff"/>
                </a:solidFill>
                <a:latin typeface="Arial"/>
              </a:rPr>
              <a:t>следующей</a:t>
            </a:r>
            <a:r>
              <a:rPr b="0" i="1" lang="en-US" sz="28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3399ff"/>
                </a:solidFill>
                <a:latin typeface="Arial"/>
              </a:rPr>
              <a:t>неделе</a:t>
            </a: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, in a week </a:t>
            </a:r>
            <a:r>
              <a:rPr b="0" i="1" lang="ru-RU" sz="2800" spc="-1" strike="noStrike">
                <a:solidFill>
                  <a:srgbClr val="3399ff"/>
                </a:solidFill>
                <a:latin typeface="Arial"/>
              </a:rPr>
              <a:t>через</a:t>
            </a:r>
            <a:r>
              <a:rPr b="0" i="1" lang="en-US" sz="28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3399ff"/>
                </a:solidFill>
                <a:latin typeface="Arial"/>
              </a:rPr>
              <a:t>неделю</a:t>
            </a: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,</a:t>
            </a:r>
            <a:br>
              <a:rPr sz="2800"/>
            </a:b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 one of these days </a:t>
            </a:r>
            <a:r>
              <a:rPr b="0" i="1" lang="ru-RU" sz="2800" spc="-1" strike="noStrike">
                <a:solidFill>
                  <a:srgbClr val="3399ff"/>
                </a:solidFill>
                <a:latin typeface="Arial"/>
              </a:rPr>
              <a:t>на</a:t>
            </a:r>
            <a:r>
              <a:rPr b="0" i="1" lang="en-US" sz="28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3399ff"/>
                </a:solidFill>
                <a:latin typeface="Arial"/>
              </a:rPr>
              <a:t>днях</a:t>
            </a: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.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79280" y="2060640"/>
          <a:ext cx="8856720" cy="3381480"/>
        </p:xfrm>
        <a:graphic>
          <a:graphicData uri="http://schemas.openxmlformats.org/drawingml/2006/table">
            <a:tbl>
              <a:tblPr/>
              <a:tblGrid>
                <a:gridCol w="936720"/>
                <a:gridCol w="719280"/>
                <a:gridCol w="1081080"/>
                <a:gridCol w="934920"/>
                <a:gridCol w="1297080"/>
                <a:gridCol w="936360"/>
                <a:gridCol w="935280"/>
                <a:gridCol w="1008000"/>
                <a:gridCol w="1008000"/>
              </a:tblGrid>
              <a:tr h="5508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cc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cc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cc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1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entaur"/>
                          <a:ea typeface="Times New Roman"/>
                        </a:rPr>
                        <a:t>I 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entaur"/>
                          <a:ea typeface="Times New Roman"/>
                        </a:rPr>
                        <a:t>He 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entaur"/>
                          <a:ea typeface="Times New Roman"/>
                        </a:rPr>
                        <a:t>She 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entaur"/>
                          <a:ea typeface="Times New Roman"/>
                        </a:rPr>
                        <a:t>You 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entaur"/>
                          <a:ea typeface="Times New Roman"/>
                        </a:rPr>
                        <a:t>We 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entaur"/>
                          <a:ea typeface="Times New Roman"/>
                        </a:rPr>
                        <a:t>They</a:t>
                      </a:r>
                      <a:r>
                        <a:rPr b="1" lang="en-US" sz="3000" spc="-1" strike="noStrike">
                          <a:solidFill>
                            <a:srgbClr val="333333"/>
                          </a:solidFill>
                          <a:latin typeface="Centaur"/>
                          <a:ea typeface="Times New Roman"/>
                        </a:rPr>
                        <a:t> 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66"/>
                          </a:solidFill>
                          <a:latin typeface="Centaur"/>
                          <a:ea typeface="Times New Roman"/>
                        </a:rPr>
                        <a:t>will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entaur"/>
                          <a:ea typeface="Times New Roman"/>
                        </a:rPr>
                        <a:t>come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entaur"/>
                          <a:ea typeface="Times New Roman"/>
                        </a:rPr>
                        <a:t>come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entaur"/>
                          <a:ea typeface="Times New Roman"/>
                        </a:rPr>
                        <a:t>come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entaur"/>
                          <a:ea typeface="Times New Roman"/>
                        </a:rPr>
                        <a:t>come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entaur"/>
                          <a:ea typeface="Times New Roman"/>
                        </a:rPr>
                        <a:t>come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entaur"/>
                          <a:ea typeface="Times New Roman"/>
                        </a:rPr>
                        <a:t>come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entaur"/>
                          <a:ea typeface="Times New Roman"/>
                        </a:rPr>
                        <a:t>I 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entaur"/>
                          <a:ea typeface="Times New Roman"/>
                        </a:rPr>
                        <a:t>He 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entaur"/>
                          <a:ea typeface="Times New Roman"/>
                        </a:rPr>
                        <a:t>She 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entaur"/>
                          <a:ea typeface="Times New Roman"/>
                        </a:rPr>
                        <a:t>You 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entaur"/>
                          <a:ea typeface="Times New Roman"/>
                        </a:rPr>
                        <a:t>We 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entaur"/>
                          <a:ea typeface="Times New Roman"/>
                        </a:rPr>
                        <a:t>They 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66"/>
                          </a:solidFill>
                          <a:latin typeface="Centaur"/>
                          <a:ea typeface="Times New Roman"/>
                        </a:rPr>
                        <a:t>will not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66"/>
                          </a:solidFill>
                          <a:latin typeface="Centaur"/>
                          <a:ea typeface="Times New Roman"/>
                        </a:rPr>
                        <a:t>won’t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entaur"/>
                          <a:ea typeface="Times New Roman"/>
                        </a:rPr>
                        <a:t>come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entaur"/>
                          <a:ea typeface="Times New Roman"/>
                        </a:rPr>
                        <a:t>come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entaur"/>
                          <a:ea typeface="Times New Roman"/>
                        </a:rPr>
                        <a:t>come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entaur"/>
                          <a:ea typeface="Times New Roman"/>
                        </a:rPr>
                        <a:t>come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entaur"/>
                          <a:ea typeface="Times New Roman"/>
                        </a:rPr>
                        <a:t>come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entaur"/>
                          <a:ea typeface="Times New Roman"/>
                        </a:rPr>
                        <a:t>come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66"/>
                          </a:solidFill>
                          <a:latin typeface="Centaur"/>
                          <a:ea typeface="Times New Roman"/>
                        </a:rPr>
                        <a:t>Will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entaur"/>
                          <a:ea typeface="Times New Roman"/>
                        </a:rPr>
                        <a:t>I 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entaur"/>
                          <a:ea typeface="Times New Roman"/>
                        </a:rPr>
                        <a:t>He 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entaur"/>
                          <a:ea typeface="Times New Roman"/>
                        </a:rPr>
                        <a:t>She 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entaur"/>
                          <a:ea typeface="Times New Roman"/>
                        </a:rPr>
                        <a:t>You 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entaur"/>
                          <a:ea typeface="Times New Roman"/>
                        </a:rPr>
                        <a:t>We 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entaur"/>
                          <a:ea typeface="Times New Roman"/>
                        </a:rPr>
                        <a:t>They 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entaur"/>
                          <a:ea typeface="Times New Roman"/>
                        </a:rPr>
                        <a:t>come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entaur"/>
                          <a:ea typeface="Times New Roman"/>
                        </a:rPr>
                        <a:t>come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entaur"/>
                          <a:ea typeface="Times New Roman"/>
                        </a:rPr>
                        <a:t>come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entaur"/>
                          <a:ea typeface="Times New Roman"/>
                        </a:rPr>
                        <a:t>come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entaur"/>
                          <a:ea typeface="Times New Roman"/>
                        </a:rPr>
                        <a:t>come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entaur"/>
                          <a:ea typeface="Times New Roman"/>
                        </a:rPr>
                        <a:t>come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"/>
          <p:cNvSpPr/>
          <p:nvPr/>
        </p:nvSpPr>
        <p:spPr>
          <a:xfrm>
            <a:off x="108000" y="5785920"/>
            <a:ext cx="903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I will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e you tomorrow</a:t>
            </a: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 = I’ll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e you tomorr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He will not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ve time</a:t>
            </a: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 = He won’t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ve ti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65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600" spc="-1" strike="noStrike">
                <a:solidFill>
                  <a:srgbClr val="00cc00"/>
                </a:solidFill>
                <a:latin typeface="Arial"/>
              </a:rPr>
              <a:t>1. I will keep watch on the navigating bridge. 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2. Will you change the ship’s course soon? – Yes, we will. 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3. Motorman Dubov will maintain the engine during his watch.</a:t>
            </a:r>
            <a:br>
              <a:rPr sz="3600"/>
            </a:br>
            <a:r>
              <a:rPr b="1" lang="en-US" sz="3600" spc="-1" strike="noStrike">
                <a:solidFill>
                  <a:srgbClr val="00cc00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4. Will the weather be better in the near future? – No, it won’t.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277920"/>
            <a:ext cx="8785440" cy="64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5. Will you get the engine ready in an hour? – No, we won’t. we’ll get it ready in two or three hours.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cc00"/>
                </a:solidFill>
                <a:latin typeface="Arial"/>
              </a:rPr>
              <a:t>6. Who will be responsible for the safety of your ship in the coming voyage? – The captain will.</a:t>
            </a:r>
            <a:br>
              <a:rPr sz="4000"/>
            </a:br>
            <a:r>
              <a:rPr b="1" lang="en-US" sz="4000" spc="-1" strike="noStrike">
                <a:solidFill>
                  <a:srgbClr val="00cc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3399ff"/>
                </a:solidFill>
                <a:latin typeface="Arial"/>
              </a:rPr>
              <a:t>7. They won’t call at this port.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79280" y="0"/>
            <a:ext cx="669780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What are you doing now? Write answers about yourself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At the moment I …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what do you do regularly?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Every day I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hat did  you do yesterda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Yesterday I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hat will you do tomorrow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Tomorrow I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115920"/>
          <a:ext cx="9143640" cy="6405480"/>
        </p:xfrm>
        <a:graphic>
          <a:graphicData uri="http://schemas.openxmlformats.org/drawingml/2006/table">
            <a:tbl>
              <a:tblPr/>
              <a:tblGrid>
                <a:gridCol w="515160"/>
                <a:gridCol w="7337880"/>
                <a:gridCol w="129060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 steward </a:t>
                      </a:r>
                      <a:r>
                        <a:rPr b="1" i="1" lang="ru-RU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………….……........</a:t>
                      </a: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the floor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99ff66"/>
                          </a:solidFill>
                          <a:latin typeface="Times New Roman"/>
                          <a:ea typeface="Times New Roman"/>
                        </a:rPr>
                        <a:t>clean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 Master ……</a:t>
                      </a:r>
                      <a:r>
                        <a:rPr b="1" lang="ru-RU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...</a:t>
                      </a: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ith the superintendent.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99ff66"/>
                          </a:solidFill>
                          <a:latin typeface="Times New Roman"/>
                          <a:ea typeface="Times New Roman"/>
                        </a:rPr>
                        <a:t>talk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 Radio Officer ……</a:t>
                      </a:r>
                      <a:r>
                        <a:rPr b="1" lang="ru-RU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….</a:t>
                      </a: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…to the radio.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99ff66"/>
                          </a:solidFill>
                          <a:latin typeface="Times New Roman"/>
                          <a:ea typeface="Times New Roman"/>
                        </a:rPr>
                        <a:t>listen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 ship ………</a:t>
                      </a:r>
                      <a:r>
                        <a:rPr b="1" lang="ru-RU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….</a:t>
                      </a: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1" lang="ru-RU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into Hong Kong harbour.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99ff66"/>
                          </a:solidFill>
                          <a:latin typeface="Times New Roman"/>
                          <a:ea typeface="Times New Roman"/>
                        </a:rPr>
                        <a:t>sail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 cadets ……</a:t>
                      </a:r>
                      <a:r>
                        <a:rPr b="1" lang="ru-RU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………</a:t>
                      </a:r>
                      <a:r>
                        <a:rPr b="1" lang="ru-RU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the vessel.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99ff66"/>
                          </a:solidFill>
                          <a:latin typeface="Times New Roman"/>
                          <a:ea typeface="Times New Roman"/>
                        </a:rPr>
                        <a:t>board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e ………..……</a:t>
                      </a:r>
                      <a:r>
                        <a:rPr b="1" lang="ru-RU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.….</a:t>
                      </a: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………. ashore.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99ff66"/>
                          </a:solidFill>
                          <a:latin typeface="Times New Roman"/>
                          <a:ea typeface="Times New Roman"/>
                        </a:rPr>
                        <a:t>go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y …</a:t>
                      </a:r>
                      <a:r>
                        <a:rPr b="1" lang="ru-RU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………….</a:t>
                      </a: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or the Chief Mate’s instructions.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99ff66"/>
                          </a:solidFill>
                          <a:latin typeface="Times New Roman"/>
                          <a:ea typeface="Times New Roman"/>
                        </a:rPr>
                        <a:t>wait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 ratings ……….…</a:t>
                      </a:r>
                      <a:r>
                        <a:rPr b="1" lang="ru-RU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..</a:t>
                      </a: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the deck crane.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99ff66"/>
                          </a:solidFill>
                          <a:latin typeface="Times New Roman"/>
                          <a:ea typeface="Times New Roman"/>
                        </a:rPr>
                        <a:t>repair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 engineer ………</a:t>
                      </a:r>
                      <a:r>
                        <a:rPr b="1" lang="ru-RU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….</a:t>
                      </a: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.…… the radar.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99ff66"/>
                          </a:solidFill>
                          <a:latin typeface="Times New Roman"/>
                          <a:ea typeface="Times New Roman"/>
                        </a:rPr>
                        <a:t>test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 engineers ………</a:t>
                      </a:r>
                      <a:r>
                        <a:rPr b="1" lang="ru-RU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 engine room. 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99ff66"/>
                          </a:solidFill>
                          <a:latin typeface="Times New Roman"/>
                          <a:ea typeface="Times New Roman"/>
                        </a:rPr>
                        <a:t>check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5T07:40:10Z</dcterms:created>
  <dc:creator>Артем</dc:creator>
  <dc:description/>
  <dc:language>en-US</dc:language>
  <cp:lastModifiedBy>Артем</cp:lastModifiedBy>
  <dcterms:modified xsi:type="dcterms:W3CDTF">2010-11-19T07:23:55Z</dcterms:modified>
  <cp:revision>4</cp:revision>
  <dc:subject/>
  <dc:title>Слайд 1</dc:title>
</cp:coreProperties>
</file>