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8994-D07C-43CB-8495-03A264267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061E-7E47-4A20-8B07-134C780C2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67A9-BD2A-4A0E-BDF2-7959F6EFC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B057-CD5D-48F1-9998-11C1107B8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3AC31-04DA-4F07-AA94-9CDFA1059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F1EA9-9E14-48A9-A1B6-31A550879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C2798-1D45-448C-B623-59A681632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CAC7F-E2D6-4D2A-908F-4B7558285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9F629-3FEB-4E19-9757-CC53B8A8A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2ED8F-81AA-4D5D-AAFB-5A23C8EF8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24AA2-D13B-4C51-B223-495D8C6D7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BDD7-F8B9-414A-AFBB-D76B9AE68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054CC-24A3-4BA3-B9BF-B52C07D81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F1E63-C6F1-4D73-BD6E-E595704E2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1028D-643A-4436-A685-95F856194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E854D-6F92-472B-954F-B6C7F70FE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F0F6B-FBDA-4325-8CBA-235B1D619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AC85-EB4F-41B3-B863-DC8BA6975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6E09-7E02-453F-8B0B-3CED4BD48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114E-AC77-49E5-B2F2-ACD11B1BD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C49A-7E88-4100-AFE6-B1F4E3617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3E64-B701-4D3F-951C-4C29B35C3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B4A4-C772-4FEB-AFFE-B04B32282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7639-DE9E-4528-99B6-3463BBC47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AF65A-97B9-4EF2-8B30-CC386CA906A2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3B11E-1B52-4844-96EB-C9185D87C301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755640" y="1915200"/>
            <a:ext cx="7716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FUTURE SIMPLE</a:t>
            </a:r>
            <a:r>
              <a:rPr b="1" lang="ru-RU" sz="7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INDEFINITE</a:t>
            </a:r>
            <a:r>
              <a:rPr b="1" lang="ru-RU" sz="7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8000" y="277560"/>
            <a:ext cx="9036000" cy="17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Arial"/>
              </a:rPr>
              <a:t>Tomorrow </a:t>
            </a:r>
            <a:r>
              <a:rPr b="0" i="1" lang="ru-RU" sz="2800" spc="-1" strike="noStrike">
                <a:solidFill>
                  <a:srgbClr val="3399ff"/>
                </a:solidFill>
                <a:latin typeface="Arial"/>
              </a:rPr>
              <a:t>завтра</a:t>
            </a:r>
            <a:r>
              <a:rPr b="0" lang="en-US" sz="2800" spc="-1" strike="noStrike">
                <a:solidFill>
                  <a:srgbClr val="3399ff"/>
                </a:solidFill>
                <a:latin typeface="Arial"/>
              </a:rPr>
              <a:t>, the day after tomorrow </a:t>
            </a:r>
            <a:r>
              <a:rPr b="0" i="1" lang="ru-RU" sz="2800" spc="-1" strike="noStrike">
                <a:solidFill>
                  <a:srgbClr val="3399ff"/>
                </a:solidFill>
                <a:latin typeface="Arial"/>
              </a:rPr>
              <a:t>послезавтра</a:t>
            </a:r>
            <a:r>
              <a:rPr b="0" lang="en-US" sz="2800" spc="-1" strike="noStrike">
                <a:solidFill>
                  <a:srgbClr val="3399ff"/>
                </a:solidFill>
                <a:latin typeface="Arial"/>
              </a:rPr>
              <a:t>, next week (month, year) </a:t>
            </a:r>
            <a:r>
              <a:rPr b="0" i="1" lang="ru-RU" sz="2800" spc="-1" strike="noStrike">
                <a:solidFill>
                  <a:srgbClr val="3399ff"/>
                </a:solidFill>
                <a:latin typeface="Arial"/>
              </a:rPr>
              <a:t>на</a:t>
            </a:r>
            <a:r>
              <a:rPr b="0" i="1" lang="en-US" sz="28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3399ff"/>
                </a:solidFill>
                <a:latin typeface="Arial"/>
              </a:rPr>
              <a:t>следующей</a:t>
            </a:r>
            <a:r>
              <a:rPr b="0" i="1" lang="en-US" sz="28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3399ff"/>
                </a:solidFill>
                <a:latin typeface="Arial"/>
              </a:rPr>
              <a:t>неделе</a:t>
            </a:r>
            <a:r>
              <a:rPr b="0" lang="en-US" sz="2800" spc="-1" strike="noStrike">
                <a:solidFill>
                  <a:srgbClr val="3399ff"/>
                </a:solidFill>
                <a:latin typeface="Arial"/>
              </a:rPr>
              <a:t>, in a week </a:t>
            </a:r>
            <a:r>
              <a:rPr b="0" i="1" lang="ru-RU" sz="2800" spc="-1" strike="noStrike">
                <a:solidFill>
                  <a:srgbClr val="3399ff"/>
                </a:solidFill>
                <a:latin typeface="Arial"/>
              </a:rPr>
              <a:t>через</a:t>
            </a:r>
            <a:r>
              <a:rPr b="0" i="1" lang="en-US" sz="28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3399ff"/>
                </a:solidFill>
                <a:latin typeface="Arial"/>
              </a:rPr>
              <a:t>неделю</a:t>
            </a:r>
            <a:r>
              <a:rPr b="0" lang="en-US" sz="2800" spc="-1" strike="noStrike">
                <a:solidFill>
                  <a:srgbClr val="3399ff"/>
                </a:solidFill>
                <a:latin typeface="Arial"/>
              </a:rPr>
              <a:t>,</a:t>
            </a:r>
            <a:br>
              <a:rPr sz="2800"/>
            </a:br>
            <a:r>
              <a:rPr b="0" lang="en-US" sz="2800" spc="-1" strike="noStrike">
                <a:solidFill>
                  <a:srgbClr val="3399ff"/>
                </a:solidFill>
                <a:latin typeface="Arial"/>
              </a:rPr>
              <a:t> one of these days </a:t>
            </a:r>
            <a:r>
              <a:rPr b="0" i="1" lang="ru-RU" sz="2800" spc="-1" strike="noStrike">
                <a:solidFill>
                  <a:srgbClr val="3399ff"/>
                </a:solidFill>
                <a:latin typeface="Arial"/>
              </a:rPr>
              <a:t>на</a:t>
            </a:r>
            <a:r>
              <a:rPr b="0" i="1" lang="en-US" sz="28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3399ff"/>
                </a:solidFill>
                <a:latin typeface="Arial"/>
              </a:rPr>
              <a:t>днях</a:t>
            </a:r>
            <a:r>
              <a:rPr b="0" lang="en-US" sz="2800" spc="-1" strike="noStrike">
                <a:solidFill>
                  <a:srgbClr val="3399ff"/>
                </a:solidFill>
                <a:latin typeface="Arial"/>
              </a:rPr>
              <a:t>.</a:t>
            </a: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79280" y="2060640"/>
          <a:ext cx="8856720" cy="3381480"/>
        </p:xfrm>
        <a:graphic>
          <a:graphicData uri="http://schemas.openxmlformats.org/drawingml/2006/table">
            <a:tbl>
              <a:tblPr/>
              <a:tblGrid>
                <a:gridCol w="936720"/>
                <a:gridCol w="719280"/>
                <a:gridCol w="1081080"/>
                <a:gridCol w="934920"/>
                <a:gridCol w="1297080"/>
                <a:gridCol w="936360"/>
                <a:gridCol w="935280"/>
                <a:gridCol w="1008000"/>
                <a:gridCol w="1008000"/>
              </a:tblGrid>
              <a:tr h="5508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cc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cc00"/>
                          </a:solidFill>
                          <a:latin typeface="Times New Roman"/>
                          <a:ea typeface="Times New Roman"/>
                        </a:rPr>
                        <a:t>– 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cc00"/>
                          </a:solidFill>
                          <a:latin typeface="Times New Roman"/>
                          <a:ea typeface="Times New Roman"/>
                        </a:rPr>
                        <a:t>?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31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Centaur"/>
                          <a:ea typeface="Times New Roman"/>
                        </a:rPr>
                        <a:t>I 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Centaur"/>
                          <a:ea typeface="Times New Roman"/>
                        </a:rPr>
                        <a:t>He 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Centaur"/>
                          <a:ea typeface="Times New Roman"/>
                        </a:rPr>
                        <a:t>She 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Centaur"/>
                          <a:ea typeface="Times New Roman"/>
                        </a:rPr>
                        <a:t>You 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Centaur"/>
                          <a:ea typeface="Times New Roman"/>
                        </a:rPr>
                        <a:t>We 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Centaur"/>
                          <a:ea typeface="Times New Roman"/>
                        </a:rPr>
                        <a:t>They</a:t>
                      </a:r>
                      <a:r>
                        <a:rPr b="1" lang="en-US" sz="3000" spc="-1" strike="noStrike">
                          <a:solidFill>
                            <a:srgbClr val="333333"/>
                          </a:solidFill>
                          <a:latin typeface="Centaur"/>
                          <a:ea typeface="Times New Roman"/>
                        </a:rPr>
                        <a:t> 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0066"/>
                          </a:solidFill>
                          <a:latin typeface="Centaur"/>
                          <a:ea typeface="Times New Roman"/>
                        </a:rPr>
                        <a:t>will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Centaur"/>
                          <a:ea typeface="Times New Roman"/>
                        </a:rPr>
                        <a:t>come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Centaur"/>
                          <a:ea typeface="Times New Roman"/>
                        </a:rPr>
                        <a:t>come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Centaur"/>
                          <a:ea typeface="Times New Roman"/>
                        </a:rPr>
                        <a:t>come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Centaur"/>
                          <a:ea typeface="Times New Roman"/>
                        </a:rPr>
                        <a:t>come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Centaur"/>
                          <a:ea typeface="Times New Roman"/>
                        </a:rPr>
                        <a:t>come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Centaur"/>
                          <a:ea typeface="Times New Roman"/>
                        </a:rPr>
                        <a:t>come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Centaur"/>
                          <a:ea typeface="Times New Roman"/>
                        </a:rPr>
                        <a:t>I 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Centaur"/>
                          <a:ea typeface="Times New Roman"/>
                        </a:rPr>
                        <a:t>He 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Centaur"/>
                          <a:ea typeface="Times New Roman"/>
                        </a:rPr>
                        <a:t>She 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Centaur"/>
                          <a:ea typeface="Times New Roman"/>
                        </a:rPr>
                        <a:t>You 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Centaur"/>
                          <a:ea typeface="Times New Roman"/>
                        </a:rPr>
                        <a:t>We 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Centaur"/>
                          <a:ea typeface="Times New Roman"/>
                        </a:rPr>
                        <a:t>They 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0066"/>
                          </a:solidFill>
                          <a:latin typeface="Centaur"/>
                          <a:ea typeface="Times New Roman"/>
                        </a:rPr>
                        <a:t>will not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0066"/>
                          </a:solidFill>
                          <a:latin typeface="Centaur"/>
                          <a:ea typeface="Times New Roman"/>
                        </a:rPr>
                        <a:t>won’t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Centaur"/>
                          <a:ea typeface="Times New Roman"/>
                        </a:rPr>
                        <a:t>come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Centaur"/>
                          <a:ea typeface="Times New Roman"/>
                        </a:rPr>
                        <a:t>come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Centaur"/>
                          <a:ea typeface="Times New Roman"/>
                        </a:rPr>
                        <a:t>come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Centaur"/>
                          <a:ea typeface="Times New Roman"/>
                        </a:rPr>
                        <a:t>come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Centaur"/>
                          <a:ea typeface="Times New Roman"/>
                        </a:rPr>
                        <a:t>come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Centaur"/>
                          <a:ea typeface="Times New Roman"/>
                        </a:rPr>
                        <a:t>come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0066"/>
                          </a:solidFill>
                          <a:latin typeface="Centaur"/>
                          <a:ea typeface="Times New Roman"/>
                        </a:rPr>
                        <a:t>Will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Centaur"/>
                          <a:ea typeface="Times New Roman"/>
                        </a:rPr>
                        <a:t>I 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Centaur"/>
                          <a:ea typeface="Times New Roman"/>
                        </a:rPr>
                        <a:t>He 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Centaur"/>
                          <a:ea typeface="Times New Roman"/>
                        </a:rPr>
                        <a:t>She 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Centaur"/>
                          <a:ea typeface="Times New Roman"/>
                        </a:rPr>
                        <a:t>You 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Centaur"/>
                          <a:ea typeface="Times New Roman"/>
                        </a:rPr>
                        <a:t>We 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Centaur"/>
                          <a:ea typeface="Times New Roman"/>
                        </a:rPr>
                        <a:t>They 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Centaur"/>
                          <a:ea typeface="Times New Roman"/>
                        </a:rPr>
                        <a:t>come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Centaur"/>
                          <a:ea typeface="Times New Roman"/>
                        </a:rPr>
                        <a:t>come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Centaur"/>
                          <a:ea typeface="Times New Roman"/>
                        </a:rPr>
                        <a:t>come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Centaur"/>
                          <a:ea typeface="Times New Roman"/>
                        </a:rPr>
                        <a:t>come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Centaur"/>
                          <a:ea typeface="Times New Roman"/>
                        </a:rPr>
                        <a:t>come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Centaur"/>
                          <a:ea typeface="Times New Roman"/>
                        </a:rPr>
                        <a:t>come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"/>
          <p:cNvSpPr/>
          <p:nvPr/>
        </p:nvSpPr>
        <p:spPr>
          <a:xfrm>
            <a:off x="108000" y="5785920"/>
            <a:ext cx="903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I will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e you tomorrow</a:t>
            </a: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 = I’ll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e you tomorrow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He will not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ave time</a:t>
            </a: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 = He won’t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ave tim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9144000" cy="65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3600" spc="-1" strike="noStrike">
                <a:solidFill>
                  <a:srgbClr val="00cc00"/>
                </a:solidFill>
                <a:latin typeface="Arial"/>
              </a:rPr>
              <a:t>1. I will keep watch on the navigating bridge. 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2. Will you change the ship’s course soon? – Yes, we will. 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3399ff"/>
                </a:solidFill>
                <a:latin typeface="Arial"/>
              </a:rPr>
              <a:t>3. Motorman Dubov will maintain the engine during his watch.</a:t>
            </a:r>
            <a:br>
              <a:rPr sz="3600"/>
            </a:br>
            <a:r>
              <a:rPr b="1" lang="en-US" sz="3600" spc="-1" strike="noStrike">
                <a:solidFill>
                  <a:srgbClr val="00cc00"/>
                </a:solidFill>
                <a:latin typeface="Arial"/>
              </a:rPr>
              <a:t>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4. Will the weather be better in the near future? – No, it won’t.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9280" y="277920"/>
            <a:ext cx="8785440" cy="64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5. Will you get the engine ready in an hour? – No, we won’t. we’ll get it ready in two or three hours.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cc00"/>
                </a:solidFill>
                <a:latin typeface="Arial"/>
              </a:rPr>
              <a:t>6. Who will be responsible for the safety of your ship in the coming voyage? – The captain will.</a:t>
            </a:r>
            <a:br>
              <a:rPr sz="4000"/>
            </a:br>
            <a:r>
              <a:rPr b="1" lang="en-US" sz="4000" spc="-1" strike="noStrike">
                <a:solidFill>
                  <a:srgbClr val="00cc00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3399ff"/>
                </a:solidFill>
                <a:latin typeface="Arial"/>
              </a:rPr>
              <a:t>7. They won’t call at this port.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79280" y="0"/>
            <a:ext cx="669780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What are you doing now? Write answers about yourself.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At the moment I …</a:t>
            </a:r>
            <a:br>
              <a:rPr sz="2800"/>
            </a:br>
            <a:br>
              <a:rPr sz="2800"/>
            </a:b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what do you do regularly?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Every day I 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hat did  you do yesterda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Yesterday I 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hat will you do tomorrow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Tomorrow I 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0" y="115920"/>
          <a:ext cx="9143640" cy="6405480"/>
        </p:xfrm>
        <a:graphic>
          <a:graphicData uri="http://schemas.openxmlformats.org/drawingml/2006/table">
            <a:tbl>
              <a:tblPr/>
              <a:tblGrid>
                <a:gridCol w="515160"/>
                <a:gridCol w="7337880"/>
                <a:gridCol w="1290600"/>
              </a:tblGrid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he steward </a:t>
                      </a:r>
                      <a:r>
                        <a:rPr b="1" i="1" lang="ru-RU" sz="3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………….……........</a:t>
                      </a: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the floor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99ff66"/>
                          </a:solidFill>
                          <a:latin typeface="Times New Roman"/>
                          <a:ea typeface="Times New Roman"/>
                        </a:rPr>
                        <a:t>clean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he Master ……</a:t>
                      </a:r>
                      <a:r>
                        <a:rPr b="1" lang="ru-RU" sz="3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....</a:t>
                      </a: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with the superintendent.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99ff66"/>
                          </a:solidFill>
                          <a:latin typeface="Times New Roman"/>
                          <a:ea typeface="Times New Roman"/>
                        </a:rPr>
                        <a:t>talk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he Radio Officer ……</a:t>
                      </a:r>
                      <a:r>
                        <a:rPr b="1" lang="ru-RU" sz="3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….</a:t>
                      </a: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.…to the radio.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99ff66"/>
                          </a:solidFill>
                          <a:latin typeface="Times New Roman"/>
                          <a:ea typeface="Times New Roman"/>
                        </a:rPr>
                        <a:t>listen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he ship ………</a:t>
                      </a:r>
                      <a:r>
                        <a:rPr b="1" lang="ru-RU" sz="3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….</a:t>
                      </a: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r>
                        <a:rPr b="1" lang="ru-RU" sz="3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into Hong Kong harbour.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99ff66"/>
                          </a:solidFill>
                          <a:latin typeface="Times New Roman"/>
                          <a:ea typeface="Times New Roman"/>
                        </a:rPr>
                        <a:t>sail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he cadets ……</a:t>
                      </a:r>
                      <a:r>
                        <a:rPr b="1" lang="ru-RU" sz="3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..</a:t>
                      </a: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………</a:t>
                      </a:r>
                      <a:r>
                        <a:rPr b="1" lang="ru-RU" sz="3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the vessel.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99ff66"/>
                          </a:solidFill>
                          <a:latin typeface="Times New Roman"/>
                          <a:ea typeface="Times New Roman"/>
                        </a:rPr>
                        <a:t>board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We ………..……</a:t>
                      </a:r>
                      <a:r>
                        <a:rPr b="1" lang="ru-RU" sz="3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..….</a:t>
                      </a: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………. ashore.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99ff66"/>
                          </a:solidFill>
                          <a:latin typeface="Times New Roman"/>
                          <a:ea typeface="Times New Roman"/>
                        </a:rPr>
                        <a:t>go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hey …</a:t>
                      </a:r>
                      <a:r>
                        <a:rPr b="1" lang="ru-RU" sz="3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………….</a:t>
                      </a: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or the Chief Mate’s instructions.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99ff66"/>
                          </a:solidFill>
                          <a:latin typeface="Times New Roman"/>
                          <a:ea typeface="Times New Roman"/>
                        </a:rPr>
                        <a:t>wait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he ratings ……….…</a:t>
                      </a:r>
                      <a:r>
                        <a:rPr b="1" lang="ru-RU" sz="3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...</a:t>
                      </a: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the deck crane.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99ff66"/>
                          </a:solidFill>
                          <a:latin typeface="Times New Roman"/>
                          <a:ea typeface="Times New Roman"/>
                        </a:rPr>
                        <a:t>repair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he engineer ………</a:t>
                      </a:r>
                      <a:r>
                        <a:rPr b="1" lang="ru-RU" sz="3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….</a:t>
                      </a: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..…… the radar.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99ff66"/>
                          </a:solidFill>
                          <a:latin typeface="Times New Roman"/>
                          <a:ea typeface="Times New Roman"/>
                        </a:rPr>
                        <a:t>test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he engineers ………</a:t>
                      </a:r>
                      <a:r>
                        <a:rPr b="1" lang="ru-RU" sz="3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he engine room. 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99ff66"/>
                          </a:solidFill>
                          <a:latin typeface="Times New Roman"/>
                          <a:ea typeface="Times New Roman"/>
                        </a:rPr>
                        <a:t>check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5T07:40:10Z</dcterms:created>
  <dc:creator>Артем</dc:creator>
  <dc:description/>
  <dc:language>en-US</dc:language>
  <cp:lastModifiedBy>Артем</cp:lastModifiedBy>
  <dcterms:modified xsi:type="dcterms:W3CDTF">2010-11-19T07:23:55Z</dcterms:modified>
  <cp:revision>4</cp:revision>
  <dc:subject/>
  <dc:title>Слайд 1</dc:title>
</cp:coreProperties>
</file>