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50D-BBA1-4C8F-92D7-69F72EA0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87C-70B0-457E-B8B1-51E5CAEA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6DC-1485-4329-9E53-972EE45D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62B-1555-4F2D-B8BD-4EB4525D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8CBF-0447-4B4D-8055-92006BE3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7050-CDB8-4858-B9F8-48661C65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34EC-805B-47D9-AD60-707AFFB6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B79D-A651-41D9-935F-53AA5C1B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9C60-A743-463C-8C5D-5BAC3383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8959-B46C-4E55-844B-E0C2EFE8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FFB1-04F5-42BD-B800-D8E293DD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1DD-9DF1-41C8-A520-759935C7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FF78-9DC4-479C-A0A6-D15CEF90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9E5B-30BA-4BA1-883D-A89352D6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509A-0D5F-4632-87CB-C7548EF9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976F-962A-4BFE-826F-22BB1AFD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DB14-7E4C-45E1-8DB9-5E9B4003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8E4-F4EE-450D-B2A2-ABA577A0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B44-E682-4CFA-865D-227FD3CA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CDF-3CB2-458C-AF5E-10AD1F6C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225-32D7-432B-ADB0-2B7922AB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374-15E9-430C-B405-D26278DF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007-C25F-41E7-8E42-72ECC372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1CB-AF90-4C40-BA5E-1D35F40B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B805-F854-4B66-A813-2A1DA2C6E87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443D-F065-4B94-8797-4425FA48F6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1915200"/>
            <a:ext cx="771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FUTURE SIMPLE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INDEFINITE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277560"/>
            <a:ext cx="90360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omorrow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завтра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, the day after tomorrow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послезавтра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, next week (month, year)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на</a:t>
            </a:r>
            <a:r>
              <a:rPr b="0" i="1" lang="en-US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следующей</a:t>
            </a:r>
            <a:r>
              <a:rPr b="0" i="1" lang="en-US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неделе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, in a week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через</a:t>
            </a:r>
            <a:r>
              <a:rPr b="0" i="1" lang="en-US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неделю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 one of these days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на</a:t>
            </a:r>
            <a:r>
              <a:rPr b="0" i="1" lang="en-US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днях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2060640"/>
          <a:ext cx="8856720" cy="3381480"/>
        </p:xfrm>
        <a:graphic>
          <a:graphicData uri="http://schemas.openxmlformats.org/drawingml/2006/table">
            <a:tbl>
              <a:tblPr/>
              <a:tblGrid>
                <a:gridCol w="936720"/>
                <a:gridCol w="719280"/>
                <a:gridCol w="1081080"/>
                <a:gridCol w="934920"/>
                <a:gridCol w="1297080"/>
                <a:gridCol w="936360"/>
                <a:gridCol w="935280"/>
                <a:gridCol w="1008000"/>
                <a:gridCol w="1008000"/>
              </a:tblGrid>
              <a:tr h="550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I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H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Sh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You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W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They</a:t>
                      </a:r>
                      <a:r>
                        <a:rPr b="1" lang="en-US" sz="3000" spc="-1" strike="noStrike">
                          <a:solidFill>
                            <a:srgbClr val="333333"/>
                          </a:solidFill>
                          <a:latin typeface="Centaur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66"/>
                          </a:solidFill>
                          <a:latin typeface="Centaur"/>
                          <a:ea typeface="Times New Roman"/>
                        </a:rPr>
                        <a:t>will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I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H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Sh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You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W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They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66"/>
                          </a:solidFill>
                          <a:latin typeface="Centaur"/>
                          <a:ea typeface="Times New Roman"/>
                        </a:rPr>
                        <a:t>will no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66"/>
                          </a:solidFill>
                          <a:latin typeface="Centaur"/>
                          <a:ea typeface="Times New Roman"/>
                        </a:rPr>
                        <a:t>won’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66"/>
                          </a:solidFill>
                          <a:latin typeface="Centaur"/>
                          <a:ea typeface="Times New Roman"/>
                        </a:rPr>
                        <a:t>Will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I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H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Sh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You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W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They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108000" y="5785920"/>
            <a:ext cx="90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 wi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e you tomorrow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= I’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e you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He will no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ve time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= He won’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ve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1. I will keep watch on the navigating bridge.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2. Will you change the ship’s course soon? – Yes, we will.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3. Motorman Dubov will maintain the engine during his watch.</a:t>
            </a:r>
            <a:br>
              <a:rPr sz="3600"/>
            </a:b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4. Will the weather be better in the near future? – No, it won’t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64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5. Will you get the engine ready in an hour? – No, we won’t. we’ll get it ready in two or three hours.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6. Who will be responsible for the safety of your ship in the coming voyage? – The captain will.</a:t>
            </a: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7. They won’t call at this port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0"/>
            <a:ext cx="66978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hat are you doing now? Write answers about yourself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At the moment I …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hat do you do regularly?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very day I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did  you do yester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Yesterday I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will you do tomorr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omorrow I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115920"/>
          <a:ext cx="9143640" cy="6405480"/>
        </p:xfrm>
        <a:graphic>
          <a:graphicData uri="http://schemas.openxmlformats.org/drawingml/2006/table">
            <a:tbl>
              <a:tblPr/>
              <a:tblGrid>
                <a:gridCol w="515160"/>
                <a:gridCol w="7337880"/>
                <a:gridCol w="12906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steward </a:t>
                      </a:r>
                      <a:r>
                        <a:rPr b="1" i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……….…….......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e floor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clea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aster 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.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th the superintendent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talk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Radio Officer 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…to the radio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liste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ship …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into Hong Kong harbour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sail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cadets 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e vessel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boar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 ………..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…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……. ashore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go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y 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………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 the Chief Mate’s instructions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wai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ratings ……….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e deck crane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repair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engineer …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…… the radar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tes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engineers …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engine room.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check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07:40:10Z</dcterms:created>
  <dc:creator>Артем</dc:creator>
  <dc:description/>
  <dc:language>en-US</dc:language>
  <cp:lastModifiedBy>Артем</cp:lastModifiedBy>
  <dcterms:modified xsi:type="dcterms:W3CDTF">2010-11-19T07:23:55Z</dcterms:modified>
  <cp:revision>4</cp:revision>
  <dc:subject/>
  <dc:title>Слайд 1</dc:title>
</cp:coreProperties>
</file>