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0.gif" ContentType="image/gif"/>
  <Override PartName="/ppt/media/image52.png" ContentType="image/png"/>
  <Override PartName="/ppt/media/image51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15.jpeg" ContentType="image/jpeg"/>
  <Override PartName="/ppt/media/image71.gif" ContentType="image/gif"/>
  <Override PartName="/ppt/media/image22.png" ContentType="image/png"/>
  <Override PartName="/ppt/media/image59.png" ContentType="image/png"/>
  <Override PartName="/ppt/media/image23.png" ContentType="image/png"/>
  <Override PartName="/ppt/media/image24.png" ContentType="image/png"/>
  <Override PartName="/ppt/media/image33.jpeg" ContentType="image/jpeg"/>
  <Override PartName="/ppt/media/image16.gif" ContentType="image/gif"/>
  <Override PartName="/ppt/media/image19.png" ContentType="image/png"/>
  <Override PartName="/ppt/media/image4.gif" ContentType="image/gif"/>
  <Override PartName="/ppt/media/image27.png" ContentType="image/png"/>
  <Override PartName="/ppt/media/image17.jpeg" ContentType="image/jpeg"/>
  <Override PartName="/ppt/media/image60.gif" ContentType="image/gif"/>
  <Override PartName="/ppt/media/image63.png" ContentType="image/png"/>
  <Override PartName="/ppt/media/image70.gif" ContentType="image/gif"/>
  <Override PartName="/ppt/media/image67.png" ContentType="image/png"/>
  <Override PartName="/ppt/media/image30.png" ContentType="image/png"/>
  <Override PartName="/ppt/media/image79.png" ContentType="image/png"/>
  <Override PartName="/ppt/media/image76.gif" ContentType="image/gif"/>
  <Override PartName="/ppt/media/image69.jpeg" ContentType="image/jpeg"/>
  <Override PartName="/ppt/media/image73.gif" ContentType="image/gif"/>
  <Override PartName="/ppt/media/image66.png" ContentType="image/png"/>
  <Override PartName="/ppt/media/image13.png" ContentType="image/png"/>
  <Override PartName="/ppt/media/image80.jpeg" ContentType="image/jpeg"/>
  <Override PartName="/ppt/media/image65.png" ContentType="image/png"/>
  <Override PartName="/ppt/media/image18.jpeg" ContentType="image/jpeg"/>
  <Override PartName="/ppt/media/image64.png" ContentType="image/png"/>
  <Override PartName="/ppt/media/image77.jpeg" ContentType="image/jpeg"/>
  <Override PartName="/ppt/media/image3.gif" ContentType="image/gif"/>
  <Override PartName="/ppt/media/image25.png" ContentType="image/png"/>
  <Override PartName="/ppt/media/image62.png" ContentType="image/png"/>
  <Override PartName="/ppt/media/image72.jpeg" ContentType="image/jpeg"/>
  <Override PartName="/ppt/media/image14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12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61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45.gif" ContentType="image/gif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74.jpeg" ContentType="image/jpeg"/>
  <Override PartName="/ppt/media/image34.png" ContentType="image/png"/>
  <Override PartName="/ppt/media/image32.gif" ContentType="image/gif"/>
  <Override PartName="/ppt/media/image35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567283-3D65-4075-8173-5CB172C7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45A487-6AED-49CC-A692-C7E7D5C7B27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D24BAA-11AC-49F7-89B4-CBBD043BFC4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2A0-1F9D-4AE7-9C69-365F08AF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50C-8843-4CCC-AF83-2292BA7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739-9019-4087-8060-C04C5471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73F-A84B-42D0-8F38-23E7E073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7D2F-6DAE-4CA1-AEAC-8DD2A7EB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DD66-5BE6-4E82-AF88-2CAEC0B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DBB-C8DE-4F99-9108-CFC46A6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2CE-86D1-49BD-B109-7390A84E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35C6-EA5D-409E-A80C-BC72BDF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A55-58E1-44BE-887F-0B67996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A8A1-07BD-4018-9EBE-A39448D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538-219C-4DF0-80ED-77BF1CB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D39C-ECDD-4823-A2C3-D0B53A7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15B-C35D-4E8C-B103-84F2283A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6E6-1D9E-4D84-BF82-A9CB0CC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0AC-AF6A-4A72-95CF-90D12D5C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D8E-69B2-41C2-88DD-D80D81E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5B9-F066-4A91-81F7-8AF04276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D85-90E5-4172-BBF3-55507B0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9E6-2184-48ED-9E82-D3E429E1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823-E10A-433B-80B9-3738E28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2B7-38BC-4CE2-A36D-2BBECDA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FA1-3281-4AA4-A473-5826232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79D-940F-42A6-B2BF-FD35E4C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5A51E9-4B72-4CFD-BE43-AA9B82138C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328148-8E1E-4390-828D-6C558DF53C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2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hysbook.ru/index.php/&#1048;&#1079;&#1086;&#1073;&#1088;&#1072;&#1078;&#1077;&#1085;&#1080;&#1077;:Img_Iper_Ref_010.jpg" TargetMode="External"/><Relationship Id="rId2" Type="http://schemas.openxmlformats.org/officeDocument/2006/relationships/image" Target="../media/image69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gif"/><Relationship Id="rId3" Type="http://schemas.openxmlformats.org/officeDocument/2006/relationships/image" Target="../media/image72.jpeg"/><Relationship Id="rId4" Type="http://schemas.openxmlformats.org/officeDocument/2006/relationships/image" Target="../media/image73.gi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ysbook.ru/index.php/&#1048;&#1079;&#1086;&#1073;&#1088;&#1072;&#1078;&#1077;&#1085;&#1080;&#1077;:Img_Iper_Ref_00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physbook.ru/index.php/&#1048;&#1079;&#1086;&#1073;&#1088;&#1072;&#1078;&#1077;&#1085;&#1080;&#1077;:Img_Iper_Ref_001.jp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785960" y="1785960"/>
            <a:ext cx="564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00040" y="1714320"/>
            <a:ext cx="8072280" cy="19184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  <a:effectLst>
            <a:glow rad="228600">
              <a:srgbClr val="4f8dfe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Электрические  цепи  переменного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т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5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700">
            <a:solidFill>
              <a:srgbClr val="3333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e-science.ru/img/images/theory/current/diagram1.gif"/>
          <p:cNvPicPr/>
          <p:nvPr/>
        </p:nvPicPr>
        <p:blipFill>
          <a:blip r:embed="rId1"/>
          <a:stretch/>
        </p:blipFill>
        <p:spPr>
          <a:xfrm>
            <a:off x="2000160" y="2000160"/>
            <a:ext cx="4119120" cy="3007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785880" y="642960"/>
            <a:ext cx="75006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торная диаграмма  при наличии в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ько активного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cultinfo.ru/fulltext/1/001/010/001/246240060.jpg"/>
          <p:cNvPicPr/>
          <p:nvPr/>
        </p:nvPicPr>
        <p:blipFill>
          <a:blip r:embed="rId1"/>
          <a:stretch/>
        </p:blipFill>
        <p:spPr>
          <a:xfrm>
            <a:off x="1857240" y="142920"/>
            <a:ext cx="5857560" cy="4038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785880" y="4429080"/>
            <a:ext cx="8178480" cy="17960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лебания  силы  тока  на  конденсаторе  опережают  колебания  напряжения  по  времени  на четверть  периода, а по фазе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ди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876360" y="5301360"/>
            <a:ext cx="20916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1133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"/>
          <p:cNvPicPr/>
          <p:nvPr/>
        </p:nvPicPr>
        <p:blipFill>
          <a:blip r:embed="rId1"/>
          <a:stretch/>
        </p:blipFill>
        <p:spPr>
          <a:xfrm>
            <a:off x="2500200" y="0"/>
            <a:ext cx="2990520" cy="61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2"/>
          <a:stretch/>
        </p:blipFill>
        <p:spPr>
          <a:xfrm>
            <a:off x="3357720" y="500040"/>
            <a:ext cx="894960" cy="47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0" y="1143000"/>
            <a:ext cx="286668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2857320" y="1143000"/>
            <a:ext cx="2361960" cy="47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5"/>
          <a:stretch/>
        </p:blipFill>
        <p:spPr>
          <a:xfrm>
            <a:off x="5214960" y="1143000"/>
            <a:ext cx="3781080" cy="54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tretch/>
        </p:blipFill>
        <p:spPr>
          <a:xfrm>
            <a:off x="5429160" y="1714320"/>
            <a:ext cx="2809440" cy="47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7"/>
          <a:stretch/>
        </p:blipFill>
        <p:spPr>
          <a:xfrm>
            <a:off x="1857240" y="2500200"/>
            <a:ext cx="4676400" cy="61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8"/>
          <a:stretch/>
        </p:blipFill>
        <p:spPr>
          <a:xfrm>
            <a:off x="2786040" y="3500280"/>
            <a:ext cx="2009520" cy="47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9"/>
          <a:stretch/>
        </p:blipFill>
        <p:spPr>
          <a:xfrm>
            <a:off x="1928880" y="4214880"/>
            <a:ext cx="1780920" cy="85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0"/>
          <a:stretch/>
        </p:blipFill>
        <p:spPr>
          <a:xfrm>
            <a:off x="3714840" y="4357800"/>
            <a:ext cx="1152000" cy="66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11"/>
          <a:stretch/>
        </p:blipFill>
        <p:spPr>
          <a:xfrm>
            <a:off x="2928960" y="5000760"/>
            <a:ext cx="1800000" cy="1114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2009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0" y="24861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0" y="2962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0" y="3505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39816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0" y="4600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5533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0" y="6391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439520" y="732960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0" y="8839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3240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2"/>
          <a:stretch/>
        </p:blipFill>
        <p:spPr>
          <a:xfrm>
            <a:off x="5364000" y="4941000"/>
            <a:ext cx="2371320" cy="1114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http://e-science.ru/img/images/theory/current/diagram2.gif"/>
          <p:cNvPicPr/>
          <p:nvPr/>
        </p:nvPicPr>
        <p:blipFill>
          <a:blip r:embed="rId1"/>
          <a:stretch/>
        </p:blipFill>
        <p:spPr>
          <a:xfrm>
            <a:off x="1143000" y="2000160"/>
            <a:ext cx="6500520" cy="421452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2"/>
          <p:cNvSpPr/>
          <p:nvPr/>
        </p:nvSpPr>
        <p:spPr>
          <a:xfrm>
            <a:off x="1285920" y="214200"/>
            <a:ext cx="742932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ная диаграмма  при  наличии в 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 емкостного 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www.cultinfo.ru/fulltext/1/001/010/001/270521948.jpg"/>
          <p:cNvPicPr/>
          <p:nvPr/>
        </p:nvPicPr>
        <p:blipFill>
          <a:blip r:embed="rId1"/>
          <a:stretch/>
        </p:blipFill>
        <p:spPr>
          <a:xfrm>
            <a:off x="1357200" y="160200"/>
            <a:ext cx="6071760" cy="3689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928800" y="3929040"/>
            <a:ext cx="7500600" cy="11869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ебания  силы  тока  на  катушке  индуктивности  отстают  от  колебаний  напряжения  по  времени  на  четверть  периода , а по  фазе 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6228360" y="4725000"/>
            <a:ext cx="186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5652000" y="4725000"/>
            <a:ext cx="209160" cy="676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1133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2286000" y="142920"/>
            <a:ext cx="2742840" cy="618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2"/>
          <a:stretch/>
        </p:blipFill>
        <p:spPr>
          <a:xfrm>
            <a:off x="2000160" y="642960"/>
            <a:ext cx="3657240" cy="47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3"/>
          <a:stretch/>
        </p:blipFill>
        <p:spPr>
          <a:xfrm>
            <a:off x="1928880" y="1071720"/>
            <a:ext cx="4000320" cy="704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6215040" y="1143000"/>
            <a:ext cx="2361960" cy="47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5"/>
          <a:stretch/>
        </p:blipFill>
        <p:spPr>
          <a:xfrm>
            <a:off x="2000160" y="1857240"/>
            <a:ext cx="2276280" cy="47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2400120" cy="475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7"/>
          <a:stretch/>
        </p:blipFill>
        <p:spPr>
          <a:xfrm>
            <a:off x="2000160" y="2500200"/>
            <a:ext cx="4933440" cy="61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8"/>
          <a:stretch/>
        </p:blipFill>
        <p:spPr>
          <a:xfrm>
            <a:off x="3000240" y="3357720"/>
            <a:ext cx="1895040" cy="47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9"/>
          <a:stretch/>
        </p:blipFill>
        <p:spPr>
          <a:xfrm>
            <a:off x="2500200" y="4000680"/>
            <a:ext cx="2800080" cy="856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10"/>
          <a:stretch/>
        </p:blipFill>
        <p:spPr>
          <a:xfrm>
            <a:off x="3071880" y="5000760"/>
            <a:ext cx="1895040" cy="6188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0" y="2009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5929200" y="1146960"/>
            <a:ext cx="49968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0" y="31910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0" y="3666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0" y="41432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4762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0" y="5695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0" y="65530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0" y="7172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1"/>
          <a:stretch/>
        </p:blipFill>
        <p:spPr>
          <a:xfrm>
            <a:off x="5929200" y="5000760"/>
            <a:ext cx="1866600" cy="618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4411800" y="528120"/>
            <a:ext cx="31968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http://e-science.ru/img/images/theory/current/diagram3.gif"/>
          <p:cNvPicPr/>
          <p:nvPr/>
        </p:nvPicPr>
        <p:blipFill>
          <a:blip r:embed="rId1"/>
          <a:stretch/>
        </p:blipFill>
        <p:spPr>
          <a:xfrm>
            <a:off x="1000080" y="1285920"/>
            <a:ext cx="6857640" cy="53575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2"/>
          <p:cNvSpPr/>
          <p:nvPr/>
        </p:nvSpPr>
        <p:spPr>
          <a:xfrm>
            <a:off x="857160" y="214200"/>
            <a:ext cx="757224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ная  диаграмма  при  наличии в  цепи  переменного 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 индуктивного  сопроти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cultinfo.ru/fulltext/1/001/010/001/269456558.jpg"/>
          <p:cNvPicPr/>
          <p:nvPr/>
        </p:nvPicPr>
        <p:blipFill>
          <a:blip r:embed="rId1"/>
          <a:stretch/>
        </p:blipFill>
        <p:spPr>
          <a:xfrm>
            <a:off x="357120" y="3357720"/>
            <a:ext cx="3685680" cy="2647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cultinfo.ru/fulltext/1/001/010/001/266734830.jpg"/>
          <p:cNvPicPr/>
          <p:nvPr/>
        </p:nvPicPr>
        <p:blipFill>
          <a:blip r:embed="rId2"/>
          <a:stretch/>
        </p:blipFill>
        <p:spPr>
          <a:xfrm>
            <a:off x="428760" y="1143000"/>
            <a:ext cx="4785840" cy="20761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4071960" y="928800"/>
            <a:ext cx="285732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4429080" y="857160"/>
            <a:ext cx="4428720" cy="496404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 наличии  в  цепи  переменного  тока  активного , индуктивного и емкостного сопроти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 фаз  между  колебаниями  силы  тока  и  напряжения  равн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5637960" y="5214960"/>
            <a:ext cx="45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2714760" y="1285920"/>
            <a:ext cx="1428480" cy="1856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3000240" y="1071720"/>
            <a:ext cx="642600" cy="35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http://festival.1september.ru/articles/520469/img1.gif"/>
          <p:cNvPicPr/>
          <p:nvPr/>
        </p:nvPicPr>
        <p:blipFill>
          <a:blip r:embed="rId1"/>
          <a:stretch/>
        </p:blipFill>
        <p:spPr>
          <a:xfrm>
            <a:off x="714240" y="1785960"/>
            <a:ext cx="7357680" cy="4285800"/>
          </a:xfrm>
          <a:prstGeom prst="rect">
            <a:avLst/>
          </a:prstGeom>
          <a:ln w="9525">
            <a:noFill/>
          </a:ln>
        </p:spPr>
      </p:pic>
      <p:sp>
        <p:nvSpPr>
          <p:cNvPr id="216" name="TextBox 2"/>
          <p:cNvSpPr/>
          <p:nvPr/>
        </p:nvSpPr>
        <p:spPr>
          <a:xfrm>
            <a:off x="357120" y="285840"/>
            <a:ext cx="8643600" cy="118692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торная  диаграмма  напряжений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ти  переменного  тока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~U_m = \sqrt{U^2_{Rm} + (U_{Lm} - U_{Cm})^2}"/>
          <p:cNvPicPr/>
          <p:nvPr/>
        </p:nvPicPr>
        <p:blipFill>
          <a:blip r:embed="rId3"/>
          <a:stretch/>
        </p:blipFill>
        <p:spPr>
          <a:xfrm>
            <a:off x="2071800" y="6072120"/>
            <a:ext cx="4183560" cy="4996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2643120" y="6429240"/>
            <a:ext cx="21384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929040" y="5000760"/>
            <a:ext cx="14256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857760" y="5000760"/>
            <a:ext cx="642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~\vec U_{Rm}"/>
          <p:cNvPicPr/>
          <p:nvPr/>
        </p:nvPicPr>
        <p:blipFill>
          <a:blip r:embed="rId1"/>
          <a:stretch/>
        </p:blipFill>
        <p:spPr>
          <a:xfrm>
            <a:off x="17297280" y="-230976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~\vec U_{Cm}"/>
          <p:cNvPicPr/>
          <p:nvPr/>
        </p:nvPicPr>
        <p:blipFill>
          <a:blip r:embed="rId2"/>
          <a:stretch/>
        </p:blipFill>
        <p:spPr>
          <a:xfrm>
            <a:off x="17597520" y="-230976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~\vec U_{Lm}"/>
          <p:cNvPicPr/>
          <p:nvPr/>
        </p:nvPicPr>
        <p:blipFill>
          <a:blip r:embed="rId3"/>
          <a:stretch/>
        </p:blipFill>
        <p:spPr>
          <a:xfrm>
            <a:off x="17961120" y="-2309760"/>
            <a:ext cx="333000" cy="209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~\vec U_{Rm}"/>
          <p:cNvPicPr/>
          <p:nvPr/>
        </p:nvPicPr>
        <p:blipFill>
          <a:blip r:embed="rId4"/>
          <a:stretch/>
        </p:blipFill>
        <p:spPr>
          <a:xfrm>
            <a:off x="7086600" y="-176040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~\vec U_{Cm}"/>
          <p:cNvPicPr/>
          <p:nvPr/>
        </p:nvPicPr>
        <p:blipFill>
          <a:blip r:embed="rId5"/>
          <a:stretch/>
        </p:blipFill>
        <p:spPr>
          <a:xfrm>
            <a:off x="7386480" y="-1760400"/>
            <a:ext cx="342720" cy="20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~\vec U_{Lm}"/>
          <p:cNvPicPr/>
          <p:nvPr/>
        </p:nvPicPr>
        <p:blipFill>
          <a:blip r:embed="rId6"/>
          <a:stretch/>
        </p:blipFill>
        <p:spPr>
          <a:xfrm>
            <a:off x="7750080" y="-1760400"/>
            <a:ext cx="333000" cy="209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~U_m = \sqrt{U^2_{Rm} + (U_{Lm} - U_{Cm})^2}"/>
          <p:cNvPicPr/>
          <p:nvPr/>
        </p:nvPicPr>
        <p:blipFill>
          <a:blip r:embed="rId7"/>
          <a:stretch/>
        </p:blipFill>
        <p:spPr>
          <a:xfrm>
            <a:off x="2000160" y="500040"/>
            <a:ext cx="4517640" cy="539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~U_{m} = \sqrt{(I_m R)^2 + (I_m X_L - I_m X_C)^2} = I_m \cdot \sqrt{R^2 + (X_L - X_C)^2} = I_m \cdot \sqrt{R^2 + (L \omega - \frac{1}{C \omega})^2}"/>
          <p:cNvPicPr/>
          <p:nvPr/>
        </p:nvPicPr>
        <p:blipFill>
          <a:blip r:embed="rId8"/>
          <a:srcRect l="-1530" t="0" r="0" b="0"/>
          <a:stretch/>
        </p:blipFill>
        <p:spPr>
          <a:xfrm>
            <a:off x="369720" y="1857240"/>
            <a:ext cx="8666280" cy="57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~I_m = \frac{U_m}{\sqrt{R^2 + (L \omega - \frac{1}{C \omega})^2}}"/>
          <p:cNvPicPr/>
          <p:nvPr/>
        </p:nvPicPr>
        <p:blipFill>
          <a:blip r:embed="rId9"/>
          <a:stretch/>
        </p:blipFill>
        <p:spPr>
          <a:xfrm>
            <a:off x="642960" y="2643120"/>
            <a:ext cx="2497320" cy="64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~Z = \sqrt{R^2 + (L \omega - \frac{1}{C \omega})^2}"/>
          <p:cNvPicPr/>
          <p:nvPr/>
        </p:nvPicPr>
        <p:blipFill>
          <a:blip r:embed="rId10"/>
          <a:stretch/>
        </p:blipFill>
        <p:spPr>
          <a:xfrm>
            <a:off x="4572000" y="2643120"/>
            <a:ext cx="2105640" cy="53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~I_m = \frac{U_m}{Z}"/>
          <p:cNvPicPr/>
          <p:nvPr/>
        </p:nvPicPr>
        <p:blipFill>
          <a:blip r:embed="rId11"/>
          <a:stretch/>
        </p:blipFill>
        <p:spPr>
          <a:xfrm>
            <a:off x="2928960" y="3500280"/>
            <a:ext cx="1799640" cy="945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5"/>
          <p:cNvSpPr/>
          <p:nvPr/>
        </p:nvSpPr>
        <p:spPr>
          <a:xfrm>
            <a:off x="1357200" y="4929120"/>
            <a:ext cx="692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6"/>
          <p:cNvSpPr/>
          <p:nvPr/>
        </p:nvSpPr>
        <p:spPr>
          <a:xfrm>
            <a:off x="357120" y="5072040"/>
            <a:ext cx="85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  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е  сопротивление  участка  цепи  переменному  т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15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http://festival.1september.ru/articles/577340/Image3478.gif"/>
          <p:cNvPicPr/>
          <p:nvPr/>
        </p:nvPicPr>
        <p:blipFill>
          <a:blip r:embed="rId12"/>
          <a:stretch/>
        </p:blipFill>
        <p:spPr>
          <a:xfrm>
            <a:off x="3714840" y="5572080"/>
            <a:ext cx="3499920" cy="89964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23640" y="548640"/>
            <a:ext cx="8106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ктивное, емкостное и  индуктивное  сопротивления  в  цепи  переменн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23640" y="1268640"/>
            <a:ext cx="846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он  Ома  для участка цепи  переменного  тока  с  последовательно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единенными  сопротив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95640" y="2493000"/>
            <a:ext cx="757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 Мощность  в  цепи  переменного 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67640" y="3861000"/>
            <a:ext cx="717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. Электрический  резонанс  и его 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95640" y="1268640"/>
            <a:ext cx="7929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72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i="1" lang="ru-RU" sz="7200" spc="-1" strike="noStrike" u="sng">
                <a:solidFill>
                  <a:srgbClr val="c00000"/>
                </a:solidFill>
                <a:uFillTx/>
                <a:latin typeface="Calibri"/>
              </a:rPr>
              <a:t>.Мощность  в  цепи  переменного  то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~P = U \cdot I"/>
          <p:cNvPicPr/>
          <p:nvPr/>
        </p:nvPicPr>
        <p:blipFill>
          <a:blip r:embed="rId1"/>
          <a:stretch/>
        </p:blipFill>
        <p:spPr>
          <a:xfrm>
            <a:off x="1857240" y="285840"/>
            <a:ext cx="1356840" cy="499680"/>
          </a:xfrm>
          <a:prstGeom prst="rect">
            <a:avLst/>
          </a:prstGeom>
          <a:ln w="9525">
            <a:noFill/>
          </a:ln>
        </p:spPr>
      </p:pic>
      <p:pic>
        <p:nvPicPr>
          <p:cNvPr id="239" name="Рисунок 2" descr="~p = u \cdot i"/>
          <p:cNvPicPr/>
          <p:nvPr/>
        </p:nvPicPr>
        <p:blipFill>
          <a:blip r:embed="rId2"/>
          <a:stretch/>
        </p:blipFill>
        <p:spPr>
          <a:xfrm>
            <a:off x="4786200" y="142920"/>
            <a:ext cx="1285560" cy="571320"/>
          </a:xfrm>
          <a:prstGeom prst="rect">
            <a:avLst/>
          </a:prstGeom>
          <a:ln w="9525">
            <a:noFill/>
          </a:ln>
        </p:spPr>
      </p:pic>
      <p:pic>
        <p:nvPicPr>
          <p:cNvPr id="240" name="Рисунок 3" descr="~u = U_m \cdot \cos \omega t"/>
          <p:cNvPicPr/>
          <p:nvPr/>
        </p:nvPicPr>
        <p:blipFill>
          <a:blip r:embed="rId3"/>
          <a:stretch/>
        </p:blipFill>
        <p:spPr>
          <a:xfrm>
            <a:off x="857160" y="1143000"/>
            <a:ext cx="2285640" cy="49968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4" descr="~i = I_m \cdot \cos (\omega t + \varphi_c)"/>
          <p:cNvPicPr/>
          <p:nvPr/>
        </p:nvPicPr>
        <p:blipFill>
          <a:blip r:embed="rId4"/>
          <a:stretch/>
        </p:blipFill>
        <p:spPr>
          <a:xfrm>
            <a:off x="4786200" y="1071720"/>
            <a:ext cx="2642760" cy="556920"/>
          </a:xfrm>
          <a:prstGeom prst="rect">
            <a:avLst/>
          </a:prstGeom>
          <a:ln w="9525">
            <a:noFill/>
          </a:ln>
        </p:spPr>
      </p:pic>
      <p:pic>
        <p:nvPicPr>
          <p:cNvPr id="242" name="Рисунок 5" descr="~p = u \cdot i = U_m \cdot I_m \cdot \cos \omega t \cdot \cos (\omega t + \varphi_c)"/>
          <p:cNvPicPr/>
          <p:nvPr/>
        </p:nvPicPr>
        <p:blipFill>
          <a:blip r:embed="rId5"/>
          <a:stretch/>
        </p:blipFill>
        <p:spPr>
          <a:xfrm>
            <a:off x="1643040" y="1928880"/>
            <a:ext cx="5500440" cy="699840"/>
          </a:xfrm>
          <a:prstGeom prst="rect">
            <a:avLst/>
          </a:prstGeom>
          <a:ln w="9525">
            <a:noFill/>
          </a:ln>
        </p:spPr>
      </p:pic>
      <p:pic>
        <p:nvPicPr>
          <p:cNvPr id="243" name="Picture 1" descr="http://www.sverh-zadacha.ucoz.ru/lessons/Contents/koleb/perem_tok/P1.png"/>
          <p:cNvPicPr/>
          <p:nvPr/>
        </p:nvPicPr>
        <p:blipFill>
          <a:blip r:embed="rId6"/>
          <a:stretch/>
        </p:blipFill>
        <p:spPr>
          <a:xfrm>
            <a:off x="2286000" y="4429080"/>
            <a:ext cx="4438440" cy="995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~P = \frac{U_m \cdot I_m}{2} \cos \varphi_c"/>
          <p:cNvPicPr/>
          <p:nvPr/>
        </p:nvPicPr>
        <p:blipFill>
          <a:blip r:embed="rId7"/>
          <a:stretch/>
        </p:blipFill>
        <p:spPr>
          <a:xfrm>
            <a:off x="857160" y="3071880"/>
            <a:ext cx="2928600" cy="785520"/>
          </a:xfrm>
          <a:prstGeom prst="rect">
            <a:avLst/>
          </a:prstGeom>
          <a:ln w="9525">
            <a:noFill/>
          </a:ln>
        </p:spPr>
      </p:pic>
      <p:pic>
        <p:nvPicPr>
          <p:cNvPr id="245" name="Рисунок 8" descr="~P = \frac{U_m}{\sqrt{2}} \cdot \frac{I_m}{\sqrt{2}} \cos \varphi_c = U \cdot I \cos \varphi_c"/>
          <p:cNvPicPr/>
          <p:nvPr/>
        </p:nvPicPr>
        <p:blipFill>
          <a:blip r:embed="rId8"/>
          <a:stretch/>
        </p:blipFill>
        <p:spPr>
          <a:xfrm>
            <a:off x="4500720" y="2857320"/>
            <a:ext cx="4428720" cy="107136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85840"/>
            <a:ext cx="85006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цепи  переменного  тока  только  активное  сопротивление 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еляемая  мощность  максимальна. В этом  случае  активное  сопроти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ию, получаемую  от сети  полностью  превращает  во  внутреннюю энерг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но в  сеть  энергия  не  возвращаетс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500040" y="1428840"/>
            <a:ext cx="8429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Если  в  цепи переменного  тока  только  емкостное сопротивление , то конденсатор  энергию , получаемую от сети , полностью  превращает  в  энерг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ического  поля  конденсатора ,  затем  эта  энергия  обратно 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ется  в  сеть , во внутреннюю  энергию  не  пере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71320" y="2714760"/>
            <a:ext cx="7857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Если  в  цепи  переменного  тока только  индуктивное  сопротивление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ушка  индуктивности  энергию , получаемую от  сети  , 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вращает  в энергию  магнитного  поля  вокруг  катушки , затем  эта  энергия  обратно  полностью  возвращается в сеть , во  внутреннюю  энергия  не  пере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571320" y="4429080"/>
            <a:ext cx="7929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Если  в  цепи  переменного  тока  имеются  и  активное , и  индуктивное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 емкостное  сопротивления , то мощность ( выделяемое  тепло )  будет меньше максимальной. Активное  сопротивление  только  часть  энергии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емое  от  сети,  превращает  во  внутреннюю  энергию, конденсатор  и  катушка  индуктивности  энергию   обратно  возвращают  в  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Рис. 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14320"/>
            <a:ext cx="3500280" cy="2428560"/>
          </a:xfrm>
          <a:prstGeom prst="rect">
            <a:avLst/>
          </a:prstGeom>
          <a:ln w="9525">
            <a:noFill/>
          </a:ln>
        </p:spPr>
      </p:pic>
      <p:sp>
        <p:nvSpPr>
          <p:cNvPr id="251" name="Прямоугольник 2"/>
          <p:cNvSpPr/>
          <p:nvPr/>
        </p:nvSpPr>
        <p:spPr>
          <a:xfrm>
            <a:off x="4286160" y="285840"/>
            <a:ext cx="4571640" cy="283284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этого графика видно, что в течение одной четверти периода мощность положительна и энерг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сети  поступает к данному участку цепи; но в течение следующей четверти периода мощность отрицательна, и данный участок отдает без потерь обратно в сеть полученную ранее энергию. Поступающая в течение четверти периода энергия запасается в магнитном поле тока, а затем без потерь возвращается в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4357800" y="3357720"/>
            <a:ext cx="4571640" cy="2558520"/>
          </a:xfrm>
          <a:prstGeom prst="rect">
            <a:avLst/>
          </a:prstGeom>
          <a:blipFill rotWithShape="0">
            <a:blip r:embed="rId4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ь при наличии проводника с активным сопротивлением в цепи, электромагнитная энергия превращается во внутреннюю энергию проводника, который нагревается. Обратного превращения внутренней энергии в электромагнитную на участке с активным сопротивлением уже не происходит, энергия в сеть  не  возвра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14200" y="500040"/>
            <a:ext cx="40003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 колебаний  мощ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 наличии в цепи  переменного тока только индуктивного  сопроти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23640" y="1268640"/>
            <a:ext cx="8280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3</a:t>
            </a:r>
            <a:r>
              <a:rPr b="1" i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. Электрический  резонанс  и его  примене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040" y="1028520"/>
            <a:ext cx="7857720" cy="48445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ческий резонан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увеличение амплитуды механических (звуковых) колебаний под влиянием внешних воздействий. В индийской классической музыке известен такой факт: если поместить гитару  в пустой комнате в углу, а напротив искусный музыкант-гитарист станет играть, то другая  гитара начнет вибрировать с той же частотой, что и первый, повторяя мелодию. Певец силой голоса может разбить вдребезги бокал при условии, что взятая нота точно соотвествует частотным характеристикам этого бокал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индийский гомеопат Раджан Шанкаран также экспериментировал с резонансом и пением песен, стараясь войти в резонанс с паци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http://festival.1september.ru/articles/577340/Image3473.gif"/>
          <p:cNvPicPr/>
          <p:nvPr/>
        </p:nvPicPr>
        <p:blipFill>
          <a:blip r:embed="rId1"/>
          <a:stretch/>
        </p:blipFill>
        <p:spPr>
          <a:xfrm>
            <a:off x="142920" y="571320"/>
            <a:ext cx="4428720" cy="1285560"/>
          </a:xfrm>
          <a:prstGeom prst="rect">
            <a:avLst/>
          </a:prstGeom>
          <a:ln w="9525">
            <a:noFill/>
          </a:ln>
        </p:spPr>
      </p:pic>
      <p:pic>
        <p:nvPicPr>
          <p:cNvPr id="257" name="Рисунок 2" descr="http://festival.1september.ru/articles/577340/Image3474.gif"/>
          <p:cNvPicPr/>
          <p:nvPr/>
        </p:nvPicPr>
        <p:blipFill>
          <a:blip r:embed="rId2"/>
          <a:stretch/>
        </p:blipFill>
        <p:spPr>
          <a:xfrm>
            <a:off x="214200" y="2571840"/>
            <a:ext cx="6286320" cy="1428480"/>
          </a:xfrm>
          <a:prstGeom prst="rect">
            <a:avLst/>
          </a:prstGeom>
          <a:ln w="9525">
            <a:noFill/>
          </a:ln>
        </p:spPr>
      </p:pic>
      <p:pic>
        <p:nvPicPr>
          <p:cNvPr id="258" name="Рисунок 3" descr="img7.jpg (1895 bytes)"/>
          <p:cNvPicPr/>
          <p:nvPr/>
        </p:nvPicPr>
        <p:blipFill>
          <a:blip r:embed="rId3"/>
          <a:stretch/>
        </p:blipFill>
        <p:spPr>
          <a:xfrm>
            <a:off x="857160" y="4214880"/>
            <a:ext cx="3428640" cy="856800"/>
          </a:xfrm>
          <a:prstGeom prst="rect">
            <a:avLst/>
          </a:prstGeom>
          <a:ln w="9525">
            <a:noFill/>
          </a:ln>
        </p:spPr>
      </p:pic>
      <p:pic>
        <p:nvPicPr>
          <p:cNvPr id="259" name="Рисунок 4" descr="http://festival.1september.ru/articles/577340/Image3481.gif"/>
          <p:cNvPicPr/>
          <p:nvPr/>
        </p:nvPicPr>
        <p:blipFill>
          <a:blip r:embed="rId4"/>
          <a:stretch/>
        </p:blipFill>
        <p:spPr>
          <a:xfrm>
            <a:off x="500040" y="5286240"/>
            <a:ext cx="5071680" cy="114264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7"/>
          <p:cNvSpPr/>
          <p:nvPr/>
        </p:nvSpPr>
        <p:spPr>
          <a:xfrm>
            <a:off x="7143840" y="1857240"/>
            <a:ext cx="1499760" cy="785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7572240" y="214200"/>
            <a:ext cx="1428480" cy="856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2" name="Picture 2" descr="http://www.cultinfo.ru/fulltext/1/001/010/001/266734830.jpg"/>
          <p:cNvPicPr/>
          <p:nvPr/>
        </p:nvPicPr>
        <p:blipFill>
          <a:blip r:embed="rId5"/>
          <a:stretch/>
        </p:blipFill>
        <p:spPr>
          <a:xfrm>
            <a:off x="4786200" y="428760"/>
            <a:ext cx="4142880" cy="20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ens.tpu.ru/POSOBIE_FIS_KUSN/%CA%EE%EB%E5%E1%E0%ED%E8%FF%20%E8%20%E2%EE%EB%ED%FB.%20%C3%E5%EE%EC%E5%F2%F0%E8%F7%E5%F1%EA%E0%FF%20%E8%20%E2%EE%EB%ED%EE%E2%E0%FF%20%EE%EF%F2%E8%EA%E0/ima/image721.jpg"/>
          <p:cNvPicPr/>
          <p:nvPr/>
        </p:nvPicPr>
        <p:blipFill>
          <a:blip r:embed="rId1"/>
          <a:stretch/>
        </p:blipFill>
        <p:spPr>
          <a:xfrm>
            <a:off x="785880" y="1143000"/>
            <a:ext cx="7587000" cy="42858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"/>
          <p:cNvSpPr/>
          <p:nvPr/>
        </p:nvSpPr>
        <p:spPr>
          <a:xfrm>
            <a:off x="571320" y="1357200"/>
            <a:ext cx="642600" cy="7138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642960" y="3786120"/>
            <a:ext cx="571320" cy="785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857160" y="1071720"/>
            <a:ext cx="571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1000080" y="1571760"/>
            <a:ext cx="21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3071880" y="5072040"/>
            <a:ext cx="571320" cy="571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7572240" y="5000760"/>
            <a:ext cx="713880" cy="428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7858080" y="4714920"/>
            <a:ext cx="856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3000240" y="485784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4800" spc="-1" strike="noStrike">
                <a:solidFill>
                  <a:srgbClr val="000000"/>
                </a:solidFill>
                <a:latin typeface="Calibri"/>
              </a:rPr>
              <a:t>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286080" y="5286240"/>
            <a:ext cx="35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1214280" y="214200"/>
            <a:ext cx="671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5"/>
          <p:cNvSpPr/>
          <p:nvPr/>
        </p:nvSpPr>
        <p:spPr>
          <a:xfrm>
            <a:off x="857160" y="357120"/>
            <a:ext cx="7500600" cy="45540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зонансная  кривая  при электрическом  резонан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3"/>
          <p:cNvSpPr/>
          <p:nvPr/>
        </p:nvSpPr>
        <p:spPr>
          <a:xfrm>
            <a:off x="3357720" y="4929120"/>
            <a:ext cx="35676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Прямоугольник 17"/>
          <p:cNvSpPr/>
          <p:nvPr/>
        </p:nvSpPr>
        <p:spPr>
          <a:xfrm>
            <a:off x="3643200" y="5143680"/>
            <a:ext cx="213840" cy="2854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7929720" y="4857840"/>
            <a:ext cx="499680" cy="142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Прямоугольник 19"/>
          <p:cNvSpPr/>
          <p:nvPr/>
        </p:nvSpPr>
        <p:spPr>
          <a:xfrm>
            <a:off x="1143000" y="1428840"/>
            <a:ext cx="35676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Прямоугольник 20"/>
          <p:cNvSpPr/>
          <p:nvPr/>
        </p:nvSpPr>
        <p:spPr>
          <a:xfrm>
            <a:off x="857160" y="3643200"/>
            <a:ext cx="35676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071360" y="1214280"/>
            <a:ext cx="21384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Прямоугольник 22"/>
          <p:cNvSpPr/>
          <p:nvPr/>
        </p:nvSpPr>
        <p:spPr>
          <a:xfrm>
            <a:off x="785880" y="1214280"/>
            <a:ext cx="213840" cy="35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1143000" y="4000680"/>
            <a:ext cx="285480" cy="2138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42960" y="571320"/>
            <a:ext cx="7786440" cy="585036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Электрический резонан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резкое увеличение силы тока в контуре при приближении частоты внешнего воздействия к собственной частоте колебаний контура. Явление электрического резонанса исследовал Никола Тесла (1856-1943), сын сельского священника из Хорватии. Он некоторое время учился у Эдисона, но потом быстро отделился. Именно ему принадлежат такие слов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Все связи между явлениями устанавливаются исключительно путем разного рода простых и сложных резонансов - согласованных вибраций физических систем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лай Тесла писал, ч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терия и пространство нераздели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материя – только лишь одно из проявлений организованных электромагнитных колебаний, описываемых общим математическим алгоритм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ми Вивекананда, известный индийский философ, приехавший на запад посетил Теслу в Нью-Йорке в 1906 году , с восторгом отозвался о нем своему коллеге: "Этот человек отличается от всех западных людей… Вне сомнения, он отличается духовностью высшего уровня…В его электрических многокрасочных огнях я почувствовал присутствие самого Брахмы…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 кто помнит, что именно Тесле, а не Маркони принадлежит патент на изобретение радио, он также изобрел электромоторы, электромобиль, и целый ряд способов для получения электроэнергии в любой точке пространства. После его смерти его архивы таинственно исче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6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-11025000" y="-927720"/>
            <a:ext cx="31194000" cy="185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36360" rIns="363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кость конденсатора можно плавно изменять, меняя тем самым собственную частоту контура. Если мы настроим контур на желательную частоту, например n1, то э. д. с. с частотой n1 вызовет в контуре сильные вынужденные колебания, а все остальные э. д. с.— слабые. Следовательно,</a:t>
            </a:r>
            <a:br>
              <a:rPr sz="18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physel.ru/images/stories/physel2/kniga3/ris54.gif"/>
          <p:cNvPicPr/>
          <p:nvPr/>
        </p:nvPicPr>
        <p:blipFill>
          <a:blip r:embed="rId1"/>
          <a:stretch/>
        </p:blipFill>
        <p:spPr>
          <a:xfrm>
            <a:off x="928800" y="1000080"/>
            <a:ext cx="7616880" cy="5000400"/>
          </a:xfrm>
          <a:prstGeom prst="rect">
            <a:avLst/>
          </a:prstGeom>
          <a:ln w="57150">
            <a:solidFill>
              <a:srgbClr val="c00000"/>
            </a:solidFill>
            <a:round/>
          </a:ln>
          <a:effectLst>
            <a:glow rad="228600">
              <a:srgbClr val="ff8636">
                <a:alpha val="40000"/>
              </a:srgbClr>
            </a:glow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51640" y="836640"/>
            <a:ext cx="8496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1.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Активное, емкостное и  индуктивное  сопротивления  в  цепи  переменного  т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23640" y="2637000"/>
            <a:ext cx="835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Закон  Ома  для участка цепи  переменного  тока  с  последовательно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единенными  сопротивл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 электрического  резонанс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File0304"/>
          <p:cNvPicPr/>
          <p:nvPr/>
        </p:nvPicPr>
        <p:blipFill>
          <a:blip r:embed="rId2"/>
          <a:stretch/>
        </p:blipFill>
        <p:spPr>
          <a:xfrm>
            <a:off x="539640" y="2133720"/>
            <a:ext cx="2952360" cy="2249280"/>
          </a:xfrm>
          <a:prstGeom prst="rect">
            <a:avLst/>
          </a:prstGeom>
          <a:ln w="38100">
            <a:solidFill>
              <a:srgbClr val="000000"/>
            </a:solidFill>
            <a:miter/>
          </a:ln>
          <a:effectLst>
            <a:outerShdw algn="ctr" dir="18900000" dist="107423" rotWithShape="0">
              <a:srgbClr val="808080">
                <a:alpha val="50000"/>
              </a:srgbClr>
            </a:outerShdw>
          </a:effectLst>
        </p:spPr>
      </p:pic>
      <p:pic>
        <p:nvPicPr>
          <p:cNvPr id="288" name="Picture 5" descr="add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39640" y="6381720"/>
            <a:ext cx="190080" cy="19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rem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459640" y="6381720"/>
            <a:ext cx="190080" cy="19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лебательный контур"/>
          <p:cNvPicPr/>
          <p:nvPr/>
        </p:nvPicPr>
        <p:blipFill>
          <a:blip r:embed="rId5"/>
          <a:stretch/>
        </p:blipFill>
        <p:spPr>
          <a:xfrm>
            <a:off x="3851280" y="2133720"/>
            <a:ext cx="4111200" cy="3288960"/>
          </a:xfrm>
          <a:prstGeom prst="rect">
            <a:avLst/>
          </a:prstGeom>
          <a:ln w="38100">
            <a:solidFill>
              <a:srgbClr val="000000"/>
            </a:solidFill>
            <a:miter/>
          </a:ln>
          <a:effectLst>
            <a:outerShdw algn="ctr" dir="18900000" dist="107423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http://stoom.ru/images/stories/electric/rcondenc7.jpg"/>
          <p:cNvPicPr/>
          <p:nvPr/>
        </p:nvPicPr>
        <p:blipFill>
          <a:blip r:embed="rId1"/>
          <a:stretch/>
        </p:blipFill>
        <p:spPr>
          <a:xfrm>
            <a:off x="357120" y="749880"/>
            <a:ext cx="7929360" cy="5946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42920" y="214200"/>
            <a:ext cx="8893440" cy="13694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нденсатор  в цепи  постоянного  тока ( ток  в цеп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ечет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ds"/>
          <p:cNvPicPr/>
          <p:nvPr/>
        </p:nvPicPr>
        <p:blipFill>
          <a:blip r:embed="rId1"/>
          <a:stretch/>
        </p:blipFill>
        <p:spPr>
          <a:xfrm>
            <a:off x="471600" y="-136440"/>
            <a:ext cx="85320" cy="16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http://www.physics.ru/courses/op25part2/content/chapter2/section/paragraph3/images/2-3-1.gif"/>
          <p:cNvPicPr/>
          <p:nvPr/>
        </p:nvPicPr>
        <p:blipFill>
          <a:blip r:embed="rId2"/>
          <a:stretch/>
        </p:blipFill>
        <p:spPr>
          <a:xfrm>
            <a:off x="714240" y="1214280"/>
            <a:ext cx="8259480" cy="4224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3429000" y="3429000"/>
            <a:ext cx="1285560" cy="369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357720" y="4357800"/>
            <a:ext cx="1785600" cy="571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Плюс 7"/>
          <p:cNvSpPr/>
          <p:nvPr/>
        </p:nvSpPr>
        <p:spPr>
          <a:xfrm>
            <a:off x="3429000" y="4572000"/>
            <a:ext cx="499680" cy="35676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Минус 8"/>
          <p:cNvSpPr/>
          <p:nvPr/>
        </p:nvSpPr>
        <p:spPr>
          <a:xfrm>
            <a:off x="4643280" y="4572000"/>
            <a:ext cx="571320" cy="42840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Плюс 9"/>
          <p:cNvSpPr/>
          <p:nvPr/>
        </p:nvSpPr>
        <p:spPr>
          <a:xfrm>
            <a:off x="7072200" y="2928960"/>
            <a:ext cx="35676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Плюс 10"/>
          <p:cNvSpPr/>
          <p:nvPr/>
        </p:nvSpPr>
        <p:spPr>
          <a:xfrm>
            <a:off x="7500960" y="2928960"/>
            <a:ext cx="28548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Плюс 11"/>
          <p:cNvSpPr/>
          <p:nvPr/>
        </p:nvSpPr>
        <p:spPr>
          <a:xfrm>
            <a:off x="7858080" y="2928960"/>
            <a:ext cx="28548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Плюс 12"/>
          <p:cNvSpPr/>
          <p:nvPr/>
        </p:nvSpPr>
        <p:spPr>
          <a:xfrm>
            <a:off x="8215200" y="2928960"/>
            <a:ext cx="356760" cy="285480"/>
          </a:xfrm>
          <a:prstGeom prst="mathPlus">
            <a:avLst>
              <a:gd name="adj1" fmla="val 23520"/>
            </a:avLst>
          </a:prstGeom>
          <a:solidFill>
            <a:srgbClr val="7030a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Минус 13"/>
          <p:cNvSpPr/>
          <p:nvPr/>
        </p:nvSpPr>
        <p:spPr>
          <a:xfrm>
            <a:off x="7072200" y="3571920"/>
            <a:ext cx="35676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Минус 14"/>
          <p:cNvSpPr/>
          <p:nvPr/>
        </p:nvSpPr>
        <p:spPr>
          <a:xfrm>
            <a:off x="7429680" y="3571920"/>
            <a:ext cx="42840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Минус 15"/>
          <p:cNvSpPr/>
          <p:nvPr/>
        </p:nvSpPr>
        <p:spPr>
          <a:xfrm>
            <a:off x="7858080" y="3571920"/>
            <a:ext cx="428400" cy="28548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Минус 16"/>
          <p:cNvSpPr/>
          <p:nvPr/>
        </p:nvSpPr>
        <p:spPr>
          <a:xfrm>
            <a:off x="8215200" y="3500280"/>
            <a:ext cx="428400" cy="428400"/>
          </a:xfrm>
          <a:prstGeom prst="mathMinus">
            <a:avLst>
              <a:gd name="adj1" fmla="val 2352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3" name="Прямая со стрелкой 20"/>
          <p:cNvCxnSpPr/>
          <p:nvPr/>
        </p:nvCxnSpPr>
        <p:spPr>
          <a:xfrm>
            <a:off x="2643120" y="1357200"/>
            <a:ext cx="3429360" cy="1800"/>
          </a:xfrm>
          <a:prstGeom prst="straightConnector1">
            <a:avLst/>
          </a:prstGeom>
          <a:ln w="381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114" name="TextBox 21"/>
          <p:cNvSpPr/>
          <p:nvPr/>
        </p:nvSpPr>
        <p:spPr>
          <a:xfrm>
            <a:off x="3929040" y="714240"/>
            <a:ext cx="999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2"/>
          <p:cNvSpPr/>
          <p:nvPr/>
        </p:nvSpPr>
        <p:spPr>
          <a:xfrm>
            <a:off x="179640" y="5429160"/>
            <a:ext cx="8784720" cy="130932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результате  периодической зарядки и  перезарядки  конденсатора  в  цеп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се  время  протекает  ток переменный  ток. В цепи с конденсатором протекает только переменный ток, постоянный ток не проте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142920" y="462240"/>
            <a:ext cx="8857800" cy="608832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1" lang="ru-RU" sz="16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Активное, индуктивное и емкостное сопротивления в цепи переменного т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В цепях переменного тока различают три вида сопротивлений: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активное, индуктивное и емкост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Активным сопротивлением называется сопротивление переменному току со стороны материала проводника (при прохождении переменного тока по проводнику последний нагревается, т.е. потребляет мощнос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На переменный ток влияют не только напряжение и сопротивление цепи, но и индуктивность проводников, включенных в цепь. При включении в цепь переменного тока катушки индуктивности в ней индуцируется э.д.с. самоиндукции (так как магнитный поток, пронизывающий витки катушки, изменяется), которая препятствует нарастанию тока при его увеличении и уменьшению тока при спаде его величины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Иными словами, когда напряжение в цепи переменного тока с включенной катушкой индуктивности достигнет максимума, ток не успеет достигнуть той величины, которой он достиг бы в цепи без катушки индуктивности. Между напряжением U и током I возникает сдвиг по фаз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Таким образом, действие индуктивности в отношении величины переменного тока подобно действию сопротивления проводника. С увеличением индуктивности сопротивление цепи переменному току увеличивается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Сопротивление, которым обладает цепь вследствие наличия в ней индуктивности, называется индуктивным сопротивлением</a:t>
            </a: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Если в цепь переменного тока включить конденсатор, переменный ток не исчезнет, как это случилось бы с постоянным током. В цепи будет продолжать течь ток заряда или разряда конденсатора, т.е. переменный ток. Величина этого тока зависит от емкости конденсатора: чем больше емкость, тем больше ток заряда и разряда. Следовательно, конденсатор можно рассматривать как некоторое сопротивление переменному току, возникающее вследствие того, что при заряде конденсатора между его обкладками возникает напряжение (Uc), направленное навстречу напряжению, которое приложено на зажимах. </a:t>
            </a:r>
            <a:r>
              <a:rPr b="1" lang="ru-RU" sz="14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Это дополнительное сопротивление, вносимое конденсатором в цепь, называется емкостным сопротивлением</a:t>
            </a:r>
            <a:r>
              <a:rPr b="0" lang="ru-RU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Рис.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2071800"/>
            <a:ext cx="6405480" cy="3328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4000320" y="1714320"/>
            <a:ext cx="642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5643720" y="1643040"/>
            <a:ext cx="642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188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076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cultinfo.ru/fulltext/1/001/010/001/276561598.jpg"/>
          <p:cNvPicPr/>
          <p:nvPr/>
        </p:nvPicPr>
        <p:blipFill>
          <a:blip r:embed="rId1"/>
          <a:stretch/>
        </p:blipFill>
        <p:spPr>
          <a:xfrm>
            <a:off x="1214280" y="142920"/>
            <a:ext cx="6725520" cy="4771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323640" y="5085360"/>
            <a:ext cx="8316000" cy="1369440"/>
          </a:xfrm>
          <a:prstGeom prst="rect">
            <a:avLst/>
          </a:prstGeom>
          <a:blipFill rotWithShape="0">
            <a:blip r:embed="rId2"/>
            <a:srcRect/>
            <a:tile tx="0" ty="0" sx="100000" sy="100000" algn="tl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ебания  силы  то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апряжения  на  активном  сопротивлении происходят в одной и той же фазе,разность фаз колебаний   равна 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143080" y="2857320"/>
            <a:ext cx="2476080" cy="47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761760" cy="62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2286000" y="3571920"/>
            <a:ext cx="5076360" cy="66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2357280" y="4286160"/>
            <a:ext cx="2190240" cy="47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2786040" y="4857840"/>
            <a:ext cx="1323720" cy="66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6"/>
          <a:stretch/>
        </p:blipFill>
        <p:spPr>
          <a:xfrm>
            <a:off x="3000240" y="5715000"/>
            <a:ext cx="1133280" cy="676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100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571760" y="3502800"/>
            <a:ext cx="57132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439520" y="229068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 flipH="1">
            <a:off x="9144000" y="3500280"/>
            <a:ext cx="4536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4439520" y="3890880"/>
            <a:ext cx="264600" cy="7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4" descr="Рис. 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57280" y="142920"/>
            <a:ext cx="2999880" cy="242856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  <Words>1089</Words>
  <Paragraphs>85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2:34:31Z</dcterms:created>
  <dc:creator>Пользователь</dc:creator>
  <dc:description/>
  <dc:language>en-US</dc:language>
  <cp:lastModifiedBy>Owner</cp:lastModifiedBy>
  <dcterms:modified xsi:type="dcterms:W3CDTF">2014-07-13T18:38:12Z</dcterms:modified>
  <cp:revision>167</cp:revision>
  <dc:subject/>
  <dc:title>Электрические цепи переменного т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