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3CC1-0B66-4350-8F7E-1BACAEC2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8B8-4D76-4407-93A6-3B61F0E6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13B-34CE-4771-B855-6E591F84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1080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81848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0276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1080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81848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2DB3-34F1-4B2B-8B38-02839433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C289-751E-45A7-B28E-55CC411F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3948-95D7-45A4-A65F-BD5AC3D5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6645-4E8E-466A-99A7-B7E1E317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EC2C-C782-4312-9DC0-438C931F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6178-8018-4491-948E-39F6C704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02760" y="284040"/>
            <a:ext cx="978372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372D-A3FC-450E-87ED-3100494E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09CE-BBAE-47CF-8DFC-F89DD13B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4767-9AB0-4D01-B782-2919C1D7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E9E4-12B4-48DA-8C82-4881BE04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7FDC-F4FB-4079-B3FE-49F109B4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A8E5-5F65-4F1A-A990-C842FF25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0107-130A-436A-9A4C-999CA28C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1080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81848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0276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1080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81848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F16A-800B-4E62-8AA9-1735C219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FB8B-FD14-4CA2-9754-26FB8863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1FF-0F82-4CF4-B011-2AFB01E5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777F-2CC5-4F9B-B969-51F66177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02760" y="284040"/>
            <a:ext cx="978372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ABA-5771-444B-BBDE-0E09BEE5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21B1-E48D-40C3-995F-32830C41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89B-0C6B-4E13-9710-2AF6FBDF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91B-AB75-4E4C-BDE2-8C1B0C62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360" y="176040"/>
            <a:ext cx="1218852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-6840" y="2058840"/>
            <a:ext cx="12195360" cy="18284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</a:pPr>
            <a:r>
              <a:rPr b="0" lang="ru-RU" sz="6000" spc="148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6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202400" y="6422760"/>
            <a:ext cx="30006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596560" y="6422760"/>
            <a:ext cx="5043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0658880" y="6422760"/>
            <a:ext cx="94608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923CC51-45E7-4CCA-A057-E18F991A8207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360" y="176040"/>
            <a:ext cx="1218852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202400" y="6422760"/>
            <a:ext cx="30006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596560" y="6422760"/>
            <a:ext cx="5043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658880" y="6422760"/>
            <a:ext cx="94608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A2731C9-9282-4261-ADC9-5A2AF3C0D01B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0" lang="ru-RU" sz="6000" spc="148" strike="noStrike" cap="all">
                <a:solidFill>
                  <a:srgbClr val="099bdd"/>
                </a:solidFill>
                <a:latin typeface="Corbel"/>
              </a:rPr>
              <a:t>КТ </a:t>
            </a:r>
            <a:r>
              <a:rPr b="0" lang="ru-RU" sz="4800" spc="148" strike="noStrike" cap="all">
                <a:solidFill>
                  <a:srgbClr val="099bdd"/>
                </a:solidFill>
                <a:latin typeface="Corbel"/>
              </a:rPr>
              <a:t>признаки отека головного мозга</a:t>
            </a:r>
            <a:endParaRPr b="0" lang="ru-RU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3996360"/>
            <a:ext cx="9143640" cy="130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8960" y="5625000"/>
            <a:ext cx="5028840" cy="12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72080" indent="-17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1" i="1" lang="ru-RU" sz="2200" spc="-1" strike="noStrike">
                <a:solidFill>
                  <a:srgbClr val="ffffff"/>
                </a:solidFill>
                <a:latin typeface="Corbel"/>
              </a:rPr>
              <a:t>Отек левого полушария голов­ного мозга. КТ, аксиальный срез. Слева хуже визуализируются борозды по сравнению с правым полушарием, и менее отчетливая дифференцировка серого и белого веще­ства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6" name="Picture 2" descr="Снимки МРТ и КТ. Отек головного мозга"/>
          <p:cNvPicPr/>
          <p:nvPr/>
        </p:nvPicPr>
        <p:blipFill>
          <a:blip r:embed="rId1"/>
          <a:stretch/>
        </p:blipFill>
        <p:spPr>
          <a:xfrm>
            <a:off x="1832040" y="0"/>
            <a:ext cx="8156880" cy="5390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6040440" y="5534640"/>
            <a:ext cx="545832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500" spc="-1" strike="noStrike">
                <a:solidFill>
                  <a:srgbClr val="ffffff"/>
                </a:solidFill>
                <a:latin typeface="Corbel"/>
              </a:rPr>
              <a:t>Гипоксия. КТ, аксиальный срез. Граница между серым и белым веществом не дифференцируется. Борозды уже не ви­зуализируются, что свидетельствует о необ­ратимом повреждении паренхимы головно­го мозг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02760" y="5272200"/>
            <a:ext cx="9783720" cy="9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i="1" lang="ru-RU" sz="2200" spc="-1" strike="noStrike">
                <a:solidFill>
                  <a:srgbClr val="ffffff"/>
                </a:solidFill>
                <a:latin typeface="Corbel"/>
              </a:rPr>
              <a:t>КТ картина при диффузно-аксональном повреждении головного мозга (диффузный отек, множество мелких кровоизлияний)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0" name="Picture 2" descr="http://bsmp.tomsk.ru/assets/images/Articles/20neyro.jpg"/>
          <p:cNvPicPr/>
          <p:nvPr/>
        </p:nvPicPr>
        <p:blipFill>
          <a:blip r:embed="rId1"/>
          <a:stretch/>
        </p:blipFill>
        <p:spPr>
          <a:xfrm>
            <a:off x="359640" y="0"/>
            <a:ext cx="11538360" cy="49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3" name="Picture 2" descr="КТ признаки отека головного мозга"/>
          <p:cNvPicPr/>
          <p:nvPr/>
        </p:nvPicPr>
        <p:blipFill>
          <a:blip r:embed="rId1"/>
          <a:srcRect l="0" t="20788" r="0" b="0"/>
          <a:stretch/>
        </p:blipFill>
        <p:spPr>
          <a:xfrm>
            <a:off x="986760" y="291240"/>
            <a:ext cx="10234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6" name="Picture 4" descr="Отек головного мозга"/>
          <p:cNvPicPr/>
          <p:nvPr/>
        </p:nvPicPr>
        <p:blipFill>
          <a:blip r:embed="rId1"/>
          <a:srcRect l="0" t="19249" r="0" b="0"/>
          <a:stretch/>
        </p:blipFill>
        <p:spPr>
          <a:xfrm>
            <a:off x="1014480" y="335160"/>
            <a:ext cx="975312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9" name="Picture 2" descr="http://bsmp.tomsk.ru/assets/images/Articles/18neyro.jpg"/>
          <p:cNvPicPr/>
          <p:nvPr/>
        </p:nvPicPr>
        <p:blipFill>
          <a:blip r:embed="rId1"/>
          <a:stretch/>
        </p:blipFill>
        <p:spPr>
          <a:xfrm>
            <a:off x="0" y="699480"/>
            <a:ext cx="1203228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22" name="Picture 2" descr="Внутрижелудочковое кровоизлияние. Отек головного мозга"/>
          <p:cNvPicPr/>
          <p:nvPr/>
        </p:nvPicPr>
        <p:blipFill>
          <a:blip r:embed="rId1"/>
          <a:stretch/>
        </p:blipFill>
        <p:spPr>
          <a:xfrm>
            <a:off x="1333080" y="1080"/>
            <a:ext cx="91544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25" name="Picture 2" descr="http://www.radiographia.ru/sites/default/files2/images/%D0%B2%D0%B8%D1%873.JPG"/>
          <p:cNvPicPr/>
          <p:nvPr/>
        </p:nvPicPr>
        <p:blipFill>
          <a:blip r:embed="rId1"/>
          <a:stretch/>
        </p:blipFill>
        <p:spPr>
          <a:xfrm>
            <a:off x="667440" y="582480"/>
            <a:ext cx="1077480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тек головного мозга — увеличение объема головного мозга вследствие накопления жидкости </a:t>
            </a:r>
            <a:r>
              <a:rPr b="0" lang="ru-RU" sz="2200" spc="-1" strike="noStrike" u="sng">
                <a:solidFill>
                  <a:srgbClr val="ffffff"/>
                </a:solidFill>
                <a:uFill>
                  <a:solidFill>
                    <a:srgbClr val="ff0000"/>
                  </a:solidFill>
                </a:uFill>
                <a:latin typeface="Corbel"/>
              </a:rPr>
              <a:t>в межклеточных пространствах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1" lang="ru-RU" sz="4000" spc="-1" strike="noStrike" cap="all">
                <a:solidFill>
                  <a:srgbClr val="099bdd"/>
                </a:solidFill>
                <a:latin typeface="Corbel"/>
              </a:rPr>
              <a:t>Причины развития отека мозга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8080" y="1953360"/>
            <a:ext cx="1041876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тек головного мозга встречается в 20% случаев всех тяжелых черепно-мозговых травм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роме того, часто возникает при опухолях и инсультах.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уществует множество причин отека мозга: 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Задержка жидкости в паренхиме головного мозга (вазогенный, цитотоксический)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Нарушение ауторегуляции церебральных сосудов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Гипоксия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Такие симптомы отека мозга как набухание мозговой ткани, обусловленное травмой, может развиваться быстро, но обычно через 1-2 дня.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патогенез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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Мозг увеличивается в объеме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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озникают явления масс-эффекта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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исходит сдавление головного мозга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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вышается внутричерепное давление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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нижается церебральное перфузионное давление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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исходит нарушение мозгового кровообращения - возникает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orbel"/>
              </a:rPr>
              <a:t>ишемия головного мозга.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 u="sng">
                <a:solidFill>
                  <a:srgbClr val="2c2c2c"/>
                </a:solidFill>
                <a:uFill>
                  <a:solidFill>
                    <a:srgbClr val="c00000"/>
                  </a:solidFill>
                </a:uFill>
                <a:latin typeface="Corbel"/>
              </a:rPr>
              <a:t>Сосудистый фактор </a:t>
            </a:r>
            <a:r>
              <a:rPr b="0" lang="ru-RU" sz="2000" spc="-1" strike="noStrike">
                <a:solidFill>
                  <a:srgbClr val="2c2c2c"/>
                </a:solidFill>
                <a:latin typeface="Corbel"/>
              </a:rPr>
              <a:t>- нарушение проницаемости сосудов приводит к проникновению белка и компонентов плазмы крови в тканевые пространства мозга          Повышается осмолярность межклеточной жидкости и происходит повреждение клеточных мембран.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 u="sng">
                <a:solidFill>
                  <a:srgbClr val="2c2c2c"/>
                </a:solidFill>
                <a:uFill>
                  <a:solidFill>
                    <a:srgbClr val="c00000"/>
                  </a:solidFill>
                </a:uFill>
                <a:latin typeface="Corbel"/>
              </a:rPr>
              <a:t>Тканевой фактор </a:t>
            </a:r>
            <a:r>
              <a:rPr b="0" lang="ru-RU" sz="2000" spc="-1" strike="noStrike">
                <a:solidFill>
                  <a:srgbClr val="2c2c2c"/>
                </a:solidFill>
                <a:latin typeface="Corbel"/>
              </a:rPr>
              <a:t>- повреждение клеточных мембран и цитоплазмы нейронов.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0880" y="1925640"/>
            <a:ext cx="11388240" cy="429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азогенный – встречается наиболее часто. Возникает в результате нарушения функции гематоэнцефалического барьера. В его патогенезе: выход плазмы во внеклеточное пространство, увеличение в объеме белого вещества головного мозга.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Цитотоксический - развивается в результате гипоксии, ишемии и интоксикации. Внутриклеточный и является следствием метаболических нарушений астроглии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смотический  - возникает в результате гиперосмолярности мозговой ткани без нарушения функциональности ГЭБ.  При метаболических энцефалопатиях, утоплении в пресной воде, гиперволемии, полидипсии, неадекватном гемодиализе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Интерстициальный - Развивается вокруг боковых желудочков вследствие пропитывания воды через их стенки в ткани мозга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Факторы развития отека головного мозг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ложительный водный баланс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• повышение фильтрационного давления (повышение венозного давления, расширение артериол, сужение венул)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• снижение градиента осмотического давления между кровью и межклеточной средой (гипопротеинемия, избыток осмотически активных веществ в межклеточном пространстве)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• повышение проницаемости капилляров (действие гуморальных факторов, нарушение трофики стенки капилляров)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• нарушение оттока лимфы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• нарушение нервной и гуморальной регуляции водно-электролитного обмена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Общемозговой синдром </a:t>
            </a:r>
            <a:r>
              <a:rPr b="0" lang="ru-RU" sz="2700" spc="-1" strike="noStrike" cap="all">
                <a:solidFill>
                  <a:srgbClr val="099bdd"/>
                </a:solidFill>
                <a:latin typeface="Corbel"/>
              </a:rPr>
              <a:t>Возникает вследствие повышения ВЧД. </a:t>
            </a:r>
            <a:br>
              <a:rPr sz="4000"/>
            </a:br>
            <a:endParaRPr b="0" lang="ru-RU" sz="2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5540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риступообразная головная боль распирающего характера, приводящая к рвоте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Изменения в деятелсьности сердечно-сосудистой системы. 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сихомоторное возбуждение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Нарушение сознания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Застойные диски зрительных нервов. 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>
              <a:lnSpc>
                <a:spcPct val="85000"/>
              </a:lnSpc>
              <a:buNone/>
            </a:pPr>
            <a:r>
              <a:rPr b="1" lang="ru-RU" sz="4000" spc="-1" strike="noStrike" cap="all">
                <a:solidFill>
                  <a:srgbClr val="099bdd"/>
                </a:solidFill>
                <a:latin typeface="Corbel"/>
              </a:rPr>
              <a:t>Что покажут снимки КТ головы при отеке головного мозга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Утрата четкости границы между серым и белым вещество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Увеличение объема паренхимы головного мозга, уменьшение объема субарахноидаль­ного пространства и цистерн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Белое вещество гиподенсивно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Наличие объемного воздействия с возможным вклинение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Рядом с зоной отека визуализируются интактные участки головного мозга (например, «симптом белого мозжечка»)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Визуализация     КТ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5800" y="2011680"/>
            <a:ext cx="57769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Вазогенный, интерстициальный и цитотоксический отек головного мозга на КТ снимках характеризуется пониженной плотностью, которая численно выражается 18-29 единиц по шкале Хаунсфилда, в то время как нормальная плотность белого вещества мозга составляет 25-35 ед. и серого вещества - 35-55 ед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3" name="Picture 2" descr="отек гм кт.jpg"/>
          <p:cNvPicPr/>
          <p:nvPr/>
        </p:nvPicPr>
        <p:blipFill>
          <a:blip r:embed="rId1"/>
          <a:stretch/>
        </p:blipFill>
        <p:spPr>
          <a:xfrm>
            <a:off x="6139800" y="2110320"/>
            <a:ext cx="6051960" cy="39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лосы">
  <a:themeElements>
    <a:clrScheme name="Полосы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лосы">
  <a:themeElements>
    <a:clrScheme name="Полосы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3090430[[fn=Окаймление]]</Template>
  <TotalTime>40</TotalTime>
  <Application>LibreOffice/7.4.7.2$Linux_X86_64 LibreOffice_project/40$Build-2</Application>
  <AppVersion>15.0000</AppVersion>
  <Words>433</Words>
  <Paragraphs>43</Paragraphs>
  <Company>NMH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9T08:25:56Z</dcterms:created>
  <dc:creator>Айдос Молдабеков</dc:creator>
  <dc:description/>
  <dc:language>en-US</dc:language>
  <cp:lastModifiedBy>Айжан</cp:lastModifiedBy>
  <dcterms:modified xsi:type="dcterms:W3CDTF">2019-11-14T16:32:30Z</dcterms:modified>
  <cp:revision>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6</vt:r8>
  </property>
</Properties>
</file>