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19F-22FF-4EBD-BFA3-C56910E46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5F0-06A7-432B-BDE4-60296653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F902-BF81-4045-A421-CC596240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C9CB-A066-4D28-A895-41417153B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7F1C-F0CE-40BF-8CD4-8618F458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CE31-8899-4737-AAE7-27548A05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E06A-DA20-4414-8567-9B7F145E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E0900-75CD-4561-9110-5F70238F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DE27-7C1A-473B-8311-012F930E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65BC-1FC9-4762-A5DE-A1F32124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54BD3-A50E-4DD7-95E7-E841AB46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DB3-E4B3-4113-802B-81DC42E1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2DC2-6053-4F3D-9D81-0E73BAFD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A3E3-BBDB-40CD-8AE5-D602F2B4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06B2-9F09-4335-B18A-2155A41A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AF0B-B3BD-4F0E-86E6-607A8134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7CDD-5BDD-486A-8D03-4A72B611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B2D4-7084-4BA2-B921-34D93EDE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4A1-384A-44C5-A9E8-17CA403A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755-31AE-4801-9FE6-5C574B75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DF13-8246-4EC8-9776-CF5E7DD1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593C-2022-4E98-AE69-C975A2061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76EB-EF49-47E9-88DC-2EA0882E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C3D-0408-439E-A27F-131FA2C1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08F6-5A0A-4F30-9F05-C79C0A4E6DA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B3B3-601C-4C34-AFF1-F167CC4BC4A1}" type="slidenum">
              <a:rPr b="0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6920" y="1285560"/>
            <a:ext cx="7632720" cy="214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100" spc="-1" strike="noStrike">
                <a:solidFill>
                  <a:srgbClr val="ffffcc"/>
                </a:solidFill>
                <a:latin typeface="Arial"/>
              </a:rPr>
              <a:t>Гигиена и антисептика рук медицинского персонала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3789000"/>
            <a:ext cx="662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клюева Анна Михайловна  - врач-эпидемиолог ГБУЗ СО «Красноуфимская ЦРБ»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2" descr="C:\Documents and Settings\эксперт\Мои документы\Документация\совет сестёр\эмблемы1\1.jpg"/>
          <p:cNvPicPr/>
          <p:nvPr/>
        </p:nvPicPr>
        <p:blipFill>
          <a:blip r:embed="rId1"/>
          <a:stretch/>
        </p:blipFill>
        <p:spPr>
          <a:xfrm>
            <a:off x="-42840" y="158760"/>
            <a:ext cx="1579680" cy="18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407360" cy="609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Arial"/>
              </a:rPr>
              <a:t>Микрофлора кожи рук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58560" y="1413000"/>
            <a:ext cx="651348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Резидентная </a:t>
            </a: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стимулирует образование антител и препятствует заселению кожи грамотрицательными микроорганизмами. Находится в волосяных фолликулах, сальных, потовых железах, в области ногтевых валиков, под ногтями, между пальцами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Она представлена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Коагулазаотрицательными стафилококками (эпидермальный сапрофитический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Дифтероид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Реже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Коагулазаположительными стафилококками (золотистый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Verdana"/>
              </a:rPr>
              <a:t>Грамотрицательными бактериями (клебсиеллы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Verdana"/>
              </a:rPr>
              <a:t>Ее невозможно полностью удалить при обычном мытье рук и обработке антисептик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308720" cy="514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Транзиторная микрофлора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32000" y="765000"/>
            <a:ext cx="68976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едставлена преимущественно микроорганизмами, находящимися во внешней среде учреждения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атогенные микроорганизмы (сальмонеллы, шигеллы, ротавирусы, вирусы гепатита А и др.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условно патогенные микроорганизмы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грамположительные (стафилококки золотистый и эпидермальный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грамотрицательные (кишечная палочка, клебсиеллы, псевдомонады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 грибы (кандиды, аспиргиллы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cccc"/>
                </a:solidFill>
                <a:uFillTx/>
                <a:latin typeface="Verdana"/>
              </a:rPr>
              <a:t>Видовой состав микрофлоры зависит от характера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 </a:t>
            </a:r>
            <a:r>
              <a:rPr b="0" lang="ru-RU" sz="1800" spc="-1" strike="noStrike" u="sng">
                <a:solidFill>
                  <a:srgbClr val="ffcccc"/>
                </a:solidFill>
                <a:uFillTx/>
                <a:latin typeface="Verdana"/>
              </a:rPr>
              <a:t>выполняемой работы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у санитарок это чаще кишечная палочка (64,2 %) и клебсиеллы (29,4 %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у мед сестер – золотистый стафилококк и кишечная палочка (по 33,6 %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у врачей – кишечная палочка (22,5 %) и стафилококк (15,6 %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cc"/>
                </a:solidFill>
                <a:latin typeface="Verdana"/>
              </a:rPr>
              <a:t>В отделениях для пациентов со СПИД у 73% персонала с рук выделяется бактериальная и грибковая микрофлор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746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Транзиторная микрофлора сохраняется на руках не более 24 часов и может быть удалена путем обычного мытья рук и обработки антисептиками.</a:t>
            </a:r>
            <a:br>
              <a:rPr sz="1800"/>
            </a:br>
            <a:br>
              <a:rPr sz="1800"/>
            </a:br>
            <a:r>
              <a:rPr b="0" lang="ru-RU" sz="1800" spc="-1" strike="noStrike" u="sng">
                <a:solidFill>
                  <a:srgbClr val="eaeaea"/>
                </a:solidFill>
                <a:uFillTx/>
                <a:latin typeface="Arial"/>
              </a:rPr>
              <a:t>Наиболее загрязненными участками кожи рук являются: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подногтевое пространство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околоногтевые валики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подушечки пальцев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иболее сложно промываемыми участками считаются: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межпальцевые промежутки  </a:t>
            </a: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- выемка большого пальца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иболее эффективным методом предупреждения распространения микроорганизмов между персоналом и пациентами в ЛПУ является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ытье рук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Теория и практика антисептической обработки рук (препятствия к качественной обработке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Раздражение и сухость кожи рук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достаточная материальная обеспеченность и техническая оснащенность отделений (нет необходимых антисептиков, мыла, разовых салфеток и дозаторов). Недоступность средств и отсутствие условий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согласие с требованиями по мытью рук (70 % сотрудников считают их завышенными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Отсутствие мотивации (многие считают, что другие сотрудники тоже не так часто моют руки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аличие экстремальных ситуаций, когда «не до мытья и антисептической обработки рук и недостаток персонала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Завышенная самооценка (80 – 90 % сотрудников считают, что обрабатывают руки всегда, когда это необходимо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Несоблюдение технологии антисептической обработки рук.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Человеческий фактор (незнание, забывчивость, отсутствие времени)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585000" indent="-585000"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Verdana"/>
              </a:rPr>
              <a:t>Отсутствие научно-обоснованных данных о значении гигиены рук для профилактики внутрибольничных инфекций.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Средняя частота мытья рук: 5-30 раз в смен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отребность: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детском отделении 8 раз в час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ОРИТ 20 раз в час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ремя обработки: 6,6 – 24 сек. (норма 30 сек.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астота выполнения: 40% (5-81 %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Чем выше необходимость соблюдения гигиены, тем хуже частота выполнения мероприяти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рактика показывает, что требования не могут быть выполнены на 100% ( у врачей хуже, чем у медсестер, а у медсестер хуже в будние дни, чем в выходные)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41528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cffff"/>
                </a:solidFill>
                <a:latin typeface="Arial"/>
              </a:rPr>
              <a:t>Залог успеха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547640" y="1773000"/>
            <a:ext cx="6112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1. Чистые, непокрытые лаком, коротко остриженные ногт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2. Ухоженные (без трещин и заусениц) рук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3. Отсутствие накладных ногт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4. Отсутствие украшений (кольца, браслеты, пирсинг, часы)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Verdana"/>
              </a:rPr>
              <a:t>5. Безобрезной (европейский) маникюр.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55640" y="765000"/>
            <a:ext cx="7702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Человеческие руки простерилизовать нельзя, и поэтому основная задача подготовки рук к операции состоит в максимальном уменьшении количества микроорганизмов на коже и замедлении поступления новых из ее глубины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55676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9900"/>
                </a:solidFill>
                <a:latin typeface="Arial"/>
              </a:rPr>
              <a:t>Уровни деконтаминаци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258560" y="1628280"/>
            <a:ext cx="651348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00"/>
                </a:solidFill>
                <a:latin typeface="Verdana"/>
              </a:rPr>
              <a:t>Социальный или бытовой</a:t>
            </a: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 – мытье умеренно загрязненных рук мылом и в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озволяет удалить с кожи до 40 – 80 % транзиторной микрофлор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оводится: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началом работы и после ее оконч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приемом пищи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кормлением пациентов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и работе с продуктами питания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еред и после ухода за пациент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и перемене места работы или рода деятельнос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ри переходе из грязной зоны в чистую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После посещения туалета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33ff"/>
                </a:solidFill>
                <a:latin typeface="Arial"/>
              </a:rPr>
              <a:t>Техника мытья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32000" y="1844280"/>
            <a:ext cx="644040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нять с рук часы и украше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Отрегулировать струю воды (температура 37 – 40 С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мочить руки проточной водо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Намылить мылом до получения обильной пены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мыть мыло и грязь проточной водой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Осушить руки салфеткой (бумажной или хлопчатобумажной)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 помощью салфетки закрыть барашки водопроводного кра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ff"/>
                </a:solidFill>
                <a:latin typeface="Verdana"/>
              </a:rPr>
              <a:t>Салфетку выбросить в контейнер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856800"/>
            <a:ext cx="822960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Для мытья рук применяют туалетное мыло (кусковое или жидкое в локтевых или ручных дозаторах)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. Вытирают руки индивидуальным полотенцем (салфеткой), предпочтительно одноразовым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4" name="Picture 10" descr="i25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611280" y="1916280"/>
            <a:ext cx="2448000" cy="374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A60101S_2"/>
          <p:cNvPicPr/>
          <p:nvPr/>
        </p:nvPicPr>
        <p:blipFill>
          <a:blip r:embed="rId2"/>
          <a:stretch/>
        </p:blipFill>
        <p:spPr>
          <a:xfrm>
            <a:off x="5769000" y="1998720"/>
            <a:ext cx="2743200" cy="27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ex8"/>
          <p:cNvPicPr/>
          <p:nvPr/>
        </p:nvPicPr>
        <p:blipFill>
          <a:blip r:embed="rId3"/>
          <a:srcRect l="58314" t="9021" r="-328" b="37032"/>
          <a:stretch/>
        </p:blipFill>
        <p:spPr>
          <a:xfrm>
            <a:off x="2927520" y="3105000"/>
            <a:ext cx="2390760" cy="30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0596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….Бывают моменты, когда для освещения и понимания настоящего полезно перевернуть несколько страниц истории медицины, а может быть и не только забытых, сколько для многих не известных.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Н.Н Бурденко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931160" cy="6033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00"/>
                </a:solidFill>
                <a:latin typeface="Arial"/>
              </a:rPr>
              <a:t>2.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Гигиенический уровень (дезинфекция)</a:t>
            </a: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– мытье рук с применение антисептических (дезинфицирующих) средств. 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   Позволяет более эффективно удалить транзиторную микрофлор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Проводится: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еред выполнением инвазивных манипуляций 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еред и после ухода за раной и мочевым катетером 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до и после одевания перчаток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осле контакта с биологическими жидкостями и предметами ими загрязненными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* при уходе за пациентами с ослабленным иммунитетом и новорожденным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С этой целью применяются средства с антимикробным действием: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- антисептическое мыло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"/>
              </a:rPr>
              <a:t>- водные или спиртовые антисептики</a:t>
            </a:r>
            <a:br>
              <a:rPr sz="1800"/>
            </a:b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920" y="404280"/>
            <a:ext cx="7556400" cy="100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aa8456"/>
                </a:solidFill>
                <a:latin typeface="Arial"/>
              </a:rPr>
              <a:t>Техника антисептической обработки</a:t>
            </a:r>
            <a:r>
              <a:rPr b="1" lang="ru-RU" sz="3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87280" y="1700280"/>
            <a:ext cx="6585120" cy="39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При применении антисептического мыла – соответствует технологии социального (бытового) уровня обработки рук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При применении раствора антисептика</a:t>
            </a: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Verdana"/>
              </a:rPr>
              <a:t>снять с рук украшения и час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нанести на руки 3 -5 гр. антисепти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1" i="1" lang="ru-RU" sz="1800" spc="-1" strike="noStrike">
                <a:solidFill>
                  <a:srgbClr val="ffffcc"/>
                </a:solidFill>
                <a:latin typeface="Verdana"/>
              </a:rPr>
              <a:t>втирать его в кожу рук в течение 3 минут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610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Хирургический уровень</a:t>
            </a: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 – специальная обработка рук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озволяет уничтожить транзиторную микрофлору и снизить содержание резидентных микроорганизм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Проводится перед любым хирургическим вмешательством и предусматривает предварительное мытье рук с мылом. Для хирургической обработки рук применяются кожные антисептики следующих групп: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гуанидин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ПАВ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на основе органических кислот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кислородсодержащие препарат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галлоид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спирты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- бистеридины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Arial"/>
              </a:rPr>
              <a:t>В отличие от гигиенической дезинфекции, хирургическая антисептика требует повторного нанесения на руки препарата в тех же объемах (3 гр.), с последующим его втиранием в течение 3-5 минут, с захватыванием запястий и предплечий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Этапы хирургической антисептики рук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 течение 2-х минут кисти рук и предплечья моют тёплой проточной водой с нейтральным жидким мылом (гигиеническое мытьё) </a:t>
            </a: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Для обработки подногтевых пространств могут быть использованы мягкие  щеточки, которые применяют только при первичном мытье рук, 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Verdana"/>
              </a:rPr>
              <a:t>однократно.</a:t>
            </a:r>
            <a:br>
              <a:rPr sz="1800"/>
            </a:br>
            <a:r>
              <a:rPr b="0" lang="ru-RU" sz="1800" spc="-1" strike="noStrike" u="sng">
                <a:solidFill>
                  <a:srgbClr val="ffff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сле мытья рук кисти и предплечья высушивают стерильной салфеткой  и далее в течение 5 мин. В кожу кистей рук и предплечий тщательно втирают антисептик порциями  по 3 мл дважды до полного высыхания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Далее на сухие руки надевают стерильные перчатк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ри операциях, продолжительностью более часа, необходимо перед сменой перчаток повторно обрабатывать руки антисептик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сле окончания операции необходимо снять перчатки и вымыть руки тёплой водой и мыл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Затем в течение 1-3 минут нанести специальный крем для предупреждения сухости кожи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1 ступен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кругообразные движения согнутых пальцев правой руки в левой ладони и наоборот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5" name="Picture 7" descr="ruki"/>
          <p:cNvPicPr/>
          <p:nvPr/>
        </p:nvPicPr>
        <p:blipFill>
          <a:blip r:embed="rId1">
            <a:lum contrast="24000"/>
          </a:blip>
          <a:srcRect l="58562" t="68336" r="0" b="7654"/>
          <a:stretch/>
        </p:blipFill>
        <p:spPr>
          <a:xfrm>
            <a:off x="4572000" y="1413000"/>
            <a:ext cx="38876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2 ступень 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           Правая ладонь на левую тыльную сторону кисти и левую ладонь на правую тыльную сторону ки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8" name="Picture 7" descr="ruki"/>
          <p:cNvPicPr/>
          <p:nvPr/>
        </p:nvPicPr>
        <p:blipFill>
          <a:blip r:embed="rId1">
            <a:lum contrast="30000"/>
          </a:blip>
          <a:srcRect l="56557" t="7805" r="0" b="67098"/>
          <a:stretch/>
        </p:blipFill>
        <p:spPr>
          <a:xfrm>
            <a:off x="395280" y="1484280"/>
            <a:ext cx="432108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4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3 ступень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Ладонь к    ладони рук с перекрёстными пальцам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Соединить руки в замочек и пальцами одной руки движениями вверх и вниз тереть внутренние поверхности пальцев и межпальцевые промежутки другой ру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7" descr="ruki"/>
          <p:cNvPicPr/>
          <p:nvPr/>
        </p:nvPicPr>
        <p:blipFill>
          <a:blip r:embed="rId1">
            <a:lum contrast="30000"/>
          </a:blip>
          <a:srcRect l="0" t="37844" r="57714" b="37560"/>
          <a:stretch/>
        </p:blipFill>
        <p:spPr>
          <a:xfrm>
            <a:off x="3995640" y="1413000"/>
            <a:ext cx="446400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3" name="Picture 7" descr="ruki"/>
          <p:cNvPicPr/>
          <p:nvPr/>
        </p:nvPicPr>
        <p:blipFill>
          <a:blip r:embed="rId1">
            <a:lum contrast="24000"/>
          </a:blip>
          <a:srcRect l="0" t="68336" r="56695" b="6926"/>
          <a:stretch/>
        </p:blipFill>
        <p:spPr>
          <a:xfrm>
            <a:off x="826920" y="1413000"/>
            <a:ext cx="3889440" cy="4680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51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4</a:t>
            </a: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 ступень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охватить основание большого пальца левой кисти между большим и указательным пальцами правой кисти и вращательными движениями обработать выемку большого пальца. Повторить на запястье. Поменять рук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22480" y="1599840"/>
            <a:ext cx="39639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5 ступен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ru-RU" sz="2400" spc="-1" strike="noStrike">
                <a:solidFill>
                  <a:srgbClr val="eaeaea"/>
                </a:solidFill>
                <a:latin typeface="Verdana"/>
              </a:rPr>
              <a:t>тыльную поверхность фаланг согнутых пальцев растирать о ладонь противоположной руки, с последующей сменой рук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7" name="Picture 7" descr="ruki"/>
          <p:cNvPicPr/>
          <p:nvPr/>
        </p:nvPicPr>
        <p:blipFill>
          <a:blip r:embed="rId1">
            <a:lum contrast="24000"/>
          </a:blip>
          <a:srcRect l="57714" t="38524" r="0" b="37626"/>
          <a:stretch/>
        </p:blipFill>
        <p:spPr>
          <a:xfrm>
            <a:off x="539640" y="1628640"/>
            <a:ext cx="374508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Arial"/>
              </a:rPr>
              <a:t>Правило горного озера      Ступени обработки рук</a:t>
            </a:r>
            <a:endParaRPr b="0" lang="en-US" sz="3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18560" y="1861200"/>
            <a:ext cx="3512880" cy="40078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6 ступень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ладонь в ладонь включая запястья Обработать ладонную поверхность одной руки о другую возвратно-поступательными движениями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0" name="Picture 7" descr="ruki"/>
          <p:cNvPicPr/>
          <p:nvPr/>
        </p:nvPicPr>
        <p:blipFill>
          <a:blip r:embed="rId1">
            <a:lum contrast="36000"/>
          </a:blip>
          <a:srcRect l="0" t="7843" r="53070" b="67382"/>
          <a:stretch/>
        </p:blipFill>
        <p:spPr>
          <a:xfrm>
            <a:off x="4211640" y="1484280"/>
            <a:ext cx="4535640" cy="476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Операция овариотомии в клинике Новацкого И.Н. </a:t>
            </a: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Снегирев Р.Ф. (1870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cc"/>
                </a:solidFill>
                <a:latin typeface="Arial"/>
              </a:rPr>
              <a:t>«Собравшиеся вокруг операционного стола хирурги в виц.мундирах и сюртуках входили в полость живота, чтобы высказать  затем свое мнение. Каждый старался помочь – брал губку, вытирал кровь в ране. Шовный материал висел на пуговице у фельдшера или оконной задвижке. Перед началом шитья его слюнявили …»</a:t>
            </a:r>
            <a:r>
              <a:rPr b="1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0033824"/>
          <p:cNvPicPr/>
          <p:nvPr/>
        </p:nvPicPr>
        <p:blipFill>
          <a:blip r:embed="rId1"/>
          <a:stretch/>
        </p:blipFill>
        <p:spPr>
          <a:xfrm>
            <a:off x="-612720" y="0"/>
            <a:ext cx="100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Зачем нужны перчатки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снижают риск профессионального заражения при контакте с пациентами или их выделениям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снижают риск контаминации рук персонала транзиторными возбудителями и последующей их передачи пациентам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снижают риск  заражения хирургических пациентов микробами, являющимися частью резидентной флоры рук хирургов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Перчатки необходимо надевать </a:t>
            </a:r>
            <a:r>
              <a:rPr b="0" lang="ru-RU" sz="2400" spc="-1" strike="noStrike">
                <a:solidFill>
                  <a:srgbClr val="0000cc"/>
                </a:solidFill>
                <a:latin typeface="Verdana"/>
              </a:rPr>
              <a:t>во всех случаях, когда возможен контакт  с кровью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 или другими биологическими субстратами, потенциально или явно контаминированными микроорганизмами, слизистыми оболочками, поврежденной кожей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6" name="Picture 7" descr="i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651200" y="1873080"/>
            <a:ext cx="4035600" cy="39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946400" y="1599840"/>
            <a:ext cx="37400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Verdana"/>
              </a:rPr>
              <a:t>Не допускается использование одной и той же пары перчаток при контакте (для ухода) с двумя и более пациентами</a:t>
            </a:r>
            <a:r>
              <a:rPr b="0" lang="ru-RU" sz="2000" spc="-1" strike="noStrike">
                <a:solidFill>
                  <a:srgbClr val="eaeaea"/>
                </a:solidFill>
                <a:latin typeface="Verdana"/>
              </a:rPr>
              <a:t>, при переходе от одного пациента к другому или от контаминированного микроорганизмами участка тела - к чистому. После снятия перчаток проводят гигиеническую обработку рук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7" descr="pressfoto_2620"/>
          <p:cNvPicPr/>
          <p:nvPr/>
        </p:nvPicPr>
        <p:blipFill>
          <a:blip r:embed="rId1"/>
          <a:srcRect l="0" t="0" r="0" b="13683"/>
          <a:stretch/>
        </p:blipFill>
        <p:spPr>
          <a:xfrm>
            <a:off x="611280" y="981000"/>
            <a:ext cx="3886200" cy="2735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picture03"/>
          <p:cNvPicPr/>
          <p:nvPr/>
        </p:nvPicPr>
        <p:blipFill>
          <a:blip r:embed="rId2"/>
          <a:stretch/>
        </p:blipFill>
        <p:spPr>
          <a:xfrm>
            <a:off x="1957320" y="3933720"/>
            <a:ext cx="319104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При загрязнении перчаток выделениями, кровью и т.п. во избежание загрязнения рук в процессе их снятия следует тампоном (салфеткой), смоченным раствором дезинфицирующего средства (или антисептика), убрать видимые загрязнения. Снять перчатки, погрузить их в раствор средства, затем утилизировать. Руки обработать антисептиком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3" name="Picture 7" descr="1910"/>
          <p:cNvPicPr/>
          <p:nvPr/>
        </p:nvPicPr>
        <p:blipFill>
          <a:blip r:embed="rId1"/>
          <a:stretch/>
        </p:blipFill>
        <p:spPr>
          <a:xfrm>
            <a:off x="6143760" y="1703520"/>
            <a:ext cx="2506680" cy="2360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i6"/>
          <p:cNvPicPr/>
          <p:nvPr/>
        </p:nvPicPr>
        <p:blipFill>
          <a:blip r:embed="rId2"/>
          <a:stretch/>
        </p:blipFill>
        <p:spPr>
          <a:xfrm>
            <a:off x="4716360" y="1484280"/>
            <a:ext cx="1656000" cy="1730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i8"/>
          <p:cNvPicPr/>
          <p:nvPr/>
        </p:nvPicPr>
        <p:blipFill>
          <a:blip r:embed="rId3"/>
          <a:stretch/>
        </p:blipFill>
        <p:spPr>
          <a:xfrm>
            <a:off x="4714920" y="3786120"/>
            <a:ext cx="229860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</a:rPr>
              <a:t>Использование перчаток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302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В ходе проведения манипуляций пациенту персонал не должен вести записи, прикасаться к телефонной трубке и тому подобно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Verdana"/>
              </a:rPr>
              <a:t>Не рекомендуется мытьё рук в перчатках в промежутках между обслуживанием пациентов или между проведением чистых и грязных манипуляций с одним пациентом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Содержимое 4" descr="_________________4accab97733bf.jpg"/>
          <p:cNvPicPr/>
          <p:nvPr/>
        </p:nvPicPr>
        <p:blipFill>
          <a:blip r:embed="rId1"/>
          <a:stretch/>
        </p:blipFill>
        <p:spPr>
          <a:xfrm>
            <a:off x="5956200" y="1643040"/>
            <a:ext cx="261648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07280" cy="604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«Мойте руки как можно чаще!!!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ff"/>
                </a:solidFill>
                <a:latin typeface="Arial"/>
              </a:rPr>
              <a:t>«Мойте руки перед и после каждого контакта с пациентом!!!»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Arial"/>
              </a:rPr>
              <a:t> НО</a:t>
            </a: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ногократное мытье рук может привести к сухости кожи, образованию трещин, воспалению кожи (дерматит), колонизации поврежденной кожи патогенными микроорганизмами.</a:t>
            </a:r>
            <a:br>
              <a:rPr sz="2000"/>
            </a:b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Чем чаще и тщательнее персонал моет руки, тем выше риск повреждения кожи, увеличение возможности передачи инфекции и значительных затрат рабочего времени (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16 </a:t>
            </a: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час. на смену из 12 чел.  </a:t>
            </a: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)</a:t>
            </a:r>
            <a:br>
              <a:rPr sz="2000"/>
            </a:br>
            <a:br>
              <a:rPr sz="20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МЫТЬ ИЛИ НЕ МЫТЬ?!» - вот в чем вопрос!!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10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Здесь необходимо руководствоваться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- особенностями лечебного и диагностического процесса в конкретном отделении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- спецификой обслуживаемых контингентов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- характером микробного пейзажа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ак альтернатива многократному в течение рабочей смены мытью рук – использование безводных антисептиков.</a:t>
            </a:r>
            <a:r>
              <a:rPr b="0" lang="ru-RU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перь чистыми руками и чистой совестью даже малоопытный хирург может достичь лучших результатов, чем раньше самый знаменитый профессор хирургии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Теодор Бильрот (189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6240" y="277560"/>
            <a:ext cx="8080200" cy="361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400" spc="-1" strike="noStrike">
                <a:solidFill>
                  <a:srgbClr val="66ffcc"/>
                </a:solidFill>
                <a:latin typeface="Arial"/>
              </a:rPr>
              <a:t>СПАСИБО ЗА ВНИМАНИЕ!!!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0920" y="980640"/>
            <a:ext cx="7931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ffcc"/>
                </a:solidFill>
                <a:latin typeface="Verdana"/>
              </a:rPr>
              <a:t>БУДЬТЕ ЗДОРОВЫ!!!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8" descr="BD20109_"/>
          <p:cNvPicPr/>
          <p:nvPr/>
        </p:nvPicPr>
        <p:blipFill>
          <a:blip r:embed="rId1"/>
          <a:stretch/>
        </p:blipFill>
        <p:spPr>
          <a:xfrm>
            <a:off x="2916360" y="2720880"/>
            <a:ext cx="35035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4920" y="692280"/>
            <a:ext cx="80629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«….Человек ложится на операционный стол в наших госпиталях подвергаясь большей опасности смерти, чем английский солдат на полях Ватерлоо.»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Джеймс Симпсон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5876640"/>
            <a:ext cx="410544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гнац Филипп Земмельвейс</a:t>
            </a: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cc"/>
                </a:solidFill>
                <a:latin typeface="Arial"/>
              </a:rPr>
              <a:t>1818-1865 гг.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Picture 3" descr="semmelweis0_cr"/>
          <p:cNvPicPr/>
          <p:nvPr/>
        </p:nvPicPr>
        <p:blipFill>
          <a:blip r:embed="rId1"/>
          <a:stretch/>
        </p:blipFill>
        <p:spPr>
          <a:xfrm>
            <a:off x="395280" y="476280"/>
            <a:ext cx="3817800" cy="51134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4572000" y="549360"/>
            <a:ext cx="41036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«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Die Aetiologie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 der Begriff und die Prophylaxe des Kindbettfiebers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»</a:t>
            </a: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(1861 г.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«Этиология происхождение и профилактика родильной горячки» (1861 г.)</a:t>
            </a:r>
            <a:br>
              <a:rPr sz="2400"/>
            </a:b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 1847 году Игнац Земмельвейс провёл одно из первых в истории аналитическое эпидемиологическое исследование и доказал, что деконтаминация рук медицинского персонала является важнейшей процедурой, позволяющей предупредить возникновение «родильной горячки»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semmelweis2_cr"/>
          <p:cNvPicPr/>
          <p:nvPr/>
        </p:nvPicPr>
        <p:blipFill>
          <a:blip r:embed="rId1"/>
          <a:stretch/>
        </p:blipFill>
        <p:spPr>
          <a:xfrm>
            <a:off x="2124000" y="476280"/>
            <a:ext cx="45720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Руки – это «инструмент», которым пользуются чаще всего. Но в отличие от медицинских инструментов, руки не могут быть полностью лишены микробов и поэтому их дезинфекция постоянно необходима во время работы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99ff"/>
                </a:solidFill>
                <a:latin typeface="Arial"/>
              </a:rPr>
              <a:t>Гигиена рук- признанный и единственный способ предупреждения передачи возбудителей инфекционных болезней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ожа устойчива к инфекции. Для её развития необходима высокая концентрация микроорганизмов и повреждение рогового слоя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троение кож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1.Эпидермис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Роговой слой 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лестящий сл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Зернистый сл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Шиповатый слой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Verdana"/>
              </a:rPr>
              <a:t>Базальная мембрана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2. Дерма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осочковый слой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Сетчатый слой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3.Подкожно-жировая клетчатка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ридатки кожи: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Волос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Ногти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Verdana"/>
              </a:rPr>
              <a:t>Потовые и сальные железы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4T04:48:33Z</dcterms:created>
  <dc:creator>Фидер Ж.А.</dc:creator>
  <dc:description/>
  <cp:keywords>Горное озеро</cp:keywords>
  <dc:language>en-US</dc:language>
  <cp:lastModifiedBy>SamLab.ws</cp:lastModifiedBy>
  <dcterms:modified xsi:type="dcterms:W3CDTF">2012-01-29T05:35:12Z</dcterms:modified>
  <cp:revision>19</cp:revision>
  <dc:subject>Гигиена рук медицинского персонала</dc:subject>
  <dc:title>внутрибольничное обучение</dc:title>
</cp:coreProperties>
</file>