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6248-9BCC-4BCF-9485-F3BD000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A592-1FBB-4E2E-93FB-F51D810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B184-4F78-4EB8-95EF-2A499024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FB28-FBE1-4BF8-945E-873EA0AB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0967-A4D8-4E78-9D3C-79832D1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9E2-135C-433E-A211-92AE314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B67-7B34-46E9-AD65-0E03957C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463-0146-4DE3-9C0E-194A5EEE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B2B-3109-43BA-B89D-EBA996A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F520-63A8-46C5-A343-9E56258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500-BD7B-4E61-A053-AEB135B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A106-0B70-432C-A7A5-A4F4A5E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7786-D3F7-40F4-8A24-AC37F78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D4F0-365D-4471-BC89-FE25491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C7BA-BD75-4EEF-B671-C374934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E23-2F05-41A4-9B92-39951CD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86FA-8CAB-475D-9876-8ED481C8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1A5D-5DBE-4459-9DEB-B19EB67E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FE53-9018-4154-8683-4A41110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8EF2-D7C0-4761-89CE-BE88DAC5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0BE-D83B-43DA-9885-2C93F2D2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4344-DFC4-413B-88DC-AB4663D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D827-1817-4EEC-8146-2340DDA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8951-AD38-452A-98AC-1A59D0A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3DC-F83E-4F8E-B047-FCAEBC36BF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2CBD-88E6-446B-B780-032DB57BB7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fdef6"/>
                </a:solidFill>
                <a:latin typeface="Arial"/>
              </a:rPr>
              <a:t>Компьютерная память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КЭШ-памя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98100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-память (англ. Cache, СОЗУ, сверхоперативное ОЗУ) – это буферная память с большей скоростью доступа (чем у ОЗУ), предназначенная для ускорения обращения ЦП к данным, содержащимся в ОЗУ. В современных ПК кэш-память расположена на кристалле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 состоит из блоков данных, каждый из которых является копией блока данных в основной памяти. Каждая запись имеет идентификатор, определяющий соответствие между блоками данных в кэше и их копиями в основной памяти. Когда ЦПУ обращается к данным, прежде всего исследуется кэш. Если в кэше найдена запись с идентификатором, совпадающим с идентификатором затребованного элемента данных, то используются элементы данных в кэше. Такой случай называется попаданием кэш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кэше не найдено записей, содержащих затребованный элемент данных, то он читается из основной памяти в кэш, и становятся доступным для последующих обращений. Такой случай называется промахом кэша.  Процент обращений к кэшу, когда в нём найден результат, называется уровнем попаданий или коэффициентом попаданий в кэш . У современных ЦП данный коэффициент больше 9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156360" y="4175280"/>
            <a:ext cx="2790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П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981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ое запоминающее устройство (ПЗУ, ROM — англ. read-only memory) — энергонезависимая память, используется для хранения массива «неизменяемых» данных. В ПК таким массивом явля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IOS представляет собой набор микропрограмм, обеспечивающих опознание устройств (процессор, память, видео, диски и т. д.), проверку их исправности, инициацию, то есть запуск, с определенными параметрами и затем передачу управления загрузчику операцион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754520" y="3068640"/>
            <a:ext cx="4281480" cy="32115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789440" y="638172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ПЗУ, содержаща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0920" y="2924280"/>
            <a:ext cx="446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ЗУ должна обеспечить надежное хранение данных при отсутствии питания, компенсируя недостаток ОЗУ (энергозависимость). Это накладывает ограничения на изменение данных в ПЗУ, т.к. повреждени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иведёт к невозможности запуска ПК. Если раньше информацию на ПЗУ нельзя было вообще переписать, то современные микросхемы позволяют изменить данные, хранящиеся в них с помощью специальной процедуры обновл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е извлекая микросхемы из системной платы. Другой способ - можно извлечь микросхему и записать на неё информацию с помощью программ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 (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Basic Input/Output System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765000"/>
            <a:ext cx="871380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кольку BIOS первой вступает в работу после включения компьютера, давайте рассмотрим более подробно, какие процессы при этом протекают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осле нажатия кнопки включения компьютера блок питания производит самотестирование напряжений. Если все соответствует норме, то на процессор подается напряжение и сигнал сброса. Процессор сбрасывает свою память и начинает работу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ервое что делает процессор - получает из BIOS POST-программу (Power-On Self Test - самотестирование при включении). В соответствие с этой программой начинается тестирование составляющих компьютера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процессор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Копирование BIOS в оперативную память и проверка контрольных сумм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регенерации памяти и тестирование 64 Кбайт нижне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астройка чипсет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и настройка видеоадаптера - именно в этот момент на экране монитора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являются первые сообщения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лное тестирование оперативно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клавиатуры и других устройств ввода-вывод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контрольной суммы CMOS и состояния батарейк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COM и LPT-порт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дисководов и IDE-устройст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аспределение системных ресурс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других устройств, содержащих свой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ызов программного прерывания BIOS INT 19h, по которому ищется загрузочный секто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Управление передается загрузчику операционной системы, который загружает ОС в компьют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в результате всех этих манипуляций произойдет какой-либо сбой, то компьютер выдаст определенную комбинацию звуковых сигналов или на экран выведется сообщение об ошиб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Настройка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765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ройка самой BI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с помощью программы BIOS SetUp, в которую можно попасть при нажатии кнопки Delete (либо, в некоторых версиях - F2) во время загрузки компьютера (не стоит путать программу BIOS SetUp с самой системой BI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SetUp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т данные дл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, которые задаются устройствам ПК при запуске системы, системные дата/время и т.д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записываются не в микросхеме ПЗУ, а в специальной микросхем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 позволяет оперативно управля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меняя содержимого микросхемы ПЗУ (повышая надежность систем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OS всех распространенных матплат основаны на коде, написанном одной из двух фирм: American Management, Inc. (AMI) или Award. Они несколько отличаются друг от друга, однако в общем пох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408120" cy="2406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38200" y="4292640"/>
            <a:ext cx="3889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MOS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-микросх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9228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OS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звание технологии, по которой производится микросхема: Complementary Metal-Oxide-Semiconductor - комплементарный металлооксидный полупроводник или КМО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5715000" cy="2219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flipH="1">
            <a:off x="5219640" y="5013360"/>
            <a:ext cx="2448000" cy="863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4724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4941720"/>
            <a:ext cx="792000" cy="28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72428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 пита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икросх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177336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1970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ая микросхема является энергозависимой и для обеспечения ее постоянного питания используется автономный источник питания (батарейка). Т.к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ребляет очень мало энергии, то стандартная батарейка, расположенная на материнской плате, питает CMOS в течение 5-6 лет, после чего необходимо производить ее зам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ли придется производить настройк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и каждом включении ПК, т.к. при отсутствии информаци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уда переписываются типовые настройки из ПЗУ). Это также можно использовать для устранения неисправностей, связанных с неправильными настройками BIOS. Для этого надо выключить компьютер, вынуть на 30 секунд батарейку из материнской платы (или можно замкнуть специальную перемычку), установить ее назад, и типовые настройки BIOS будут восстановлены, а компьютер снова заработ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140000" y="5734080"/>
            <a:ext cx="3384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45440" y="551664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ычка для сброс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50920" y="115920"/>
            <a:ext cx="8713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ая память (устройство хранения информации, запоминающее устройство) — часть вычислительной машины, физическое устройство или среда для хранения данных, используемых в вычислениях, в течение определённого време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ь в вычислительных устройствах имеет иерархическую структуру и обычно предполагает использование нескольких запоминающих устройств, имеющих различные характерис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34936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ерархия памяти современных компьютеров строится на нескольких уровнях, причем более высокий уровень меньше по объему, быстрее и имеет большую стоимость в пересчете на байт, чем более низкий уров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922560" y="2349360"/>
            <a:ext cx="489744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2111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50920" y="3619440"/>
            <a:ext cx="8642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ую память можно разделить на две групп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пам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мины «внутренняя» и «внешняя» объясняют положение памяти относительно ЦП: к внутренней памяти ЦП обращается напрямую, без использования специальных команд; к устройствам внешней памяти процессор обращается посредством специальных команд, кроме того информация из внешней памяти переписывается сначала во внутреннюю, а уже затем обрабатывается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6040" y="44280"/>
            <a:ext cx="8229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Характеристики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928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характеристикам памяти относят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ёмкость памяти (бит/бай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действие (бит/байт в секунд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онезависимость (при снятии электропитания информация в памяти не исчезае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мость хранения единицы информации (бита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2708280"/>
            <a:ext cx="8373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лассификация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656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Внутренняя память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11239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остав внутренней памяти входя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память Ц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эш-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З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40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Регистровая память Ц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0920" y="5262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(местная) память процессора - самая быстродействующая память, она входит в состав ЦП и предназначена для временного хранения информации, необходимой для работы процессора в текущем так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мкость регистровой памяти: несколько сотен машинных сл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0920" y="1123920"/>
            <a:ext cx="864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ивное запоминающее устройство, оперативная память,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англ. Random Access Memory, память с произвольным доступом;) — быстродействующая энергозависимая память, в которой временно хранятся данные и команды, обрабатываемые ЦП в данный момен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У еще называется основной памятью, т.к. обрабатываемые процессором данные (например, запущенная пользователем ПК программа) помещаются именно в 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ключении компьютера содержимое стирается из оперативной памяти, поэтому перед выключением компьютера все необходимые данные нужно сохран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ъёма и производительности ОЗУ зависит производительность ЦП – например, чем больше объём оперативной памяти, тем большее количество задач одновременно может выполняться компьютером. В современных ПК объём ОЗУ составляет в среднем 4 Гбай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ивно ОЗУ исполняется в виде съёмных модулей разной ёмкости памяти (например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айт, 1 Гбайт, 2 Гбайт). Существует несколько разновидностей модулей оперативной 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M,  DIMM, DDR DIM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ервые два типа модулей являются устаревшими и уже не использу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D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112536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ется несколько тип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, DDR2, DDR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т.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аются они типоразмером и производ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производительност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от поколения к поколению осуществляется за счет увеличения разрядности внутренней шин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4360" y="544500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778280" cy="51134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600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Производительность модулей </a:t>
            </a: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DDR</a:t>
            </a: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 ОЗУ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000" y="901800"/>
            <a:ext cx="5905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1600 (DDR-200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100 (DDR-2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1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400 (DDR-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700 (DDR-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,84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200 (DDR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3200 (DDR2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500 (DDR-4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4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700 (DDR-4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,1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7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000 (DDR5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1,2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4200 (DDR2-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300 (DDR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5300 (DDR2-667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1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3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5600 (DDR-7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6400 (DDR2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6400 (DDR3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8500 (DDR2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8500 (DDR3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0600 (DDR3-1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2800 (DDR3-16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 8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4400 (DDR3-1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5000 (DDR3-18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7,19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6000 (DDR3-20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000 (DDR3-21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066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600 (DDR3-22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7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8400 (DDR3-2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9200 (DDR3-2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6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907920"/>
            <a:ext cx="3132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кировка модулей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PC3-16000 (DDR3-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6000 –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опускная способность шины памяти (Мбайт/с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2000 – частота шины памяти (МГц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Конструктивные особенности модулей ОЗУ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14860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модули ОЗУ вследствие высоких частот, на которых они работают, имеют большое энергопотребление. Поэтому они могут иметь нестандартное напряжение питания, которое устанавливается вручную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атеринской платы. Кроме того они выделяют большое количество тепла, которое нужно отводить с помощью системы охлаждения (радиатор, радиатор с тепловой трубкой, вентилятор и т.д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2736720" cy="2260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1878120" cy="1547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2520720" cy="1951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880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вухканальный режим 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11253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канальный режим — режим работы оперативной памяти и её взаимодействия с материнской платой, процессором и другими компонентами компьютера, при котором может быть увеличена скорость передачи данных между ними, за счёт использования двух каналов для доступа к объединённому банку памяти. Таким образом система, при использовании например двух модулей памяти (два по 1 Гбайту)  в двухканальном режиме, может работать быстрее чем при использовании одного модуля (2 Гбай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вухканальный режим поддерживается, если на обоих каналах DIMM установлено одинаковое количество памяти с одинаковыми характеристиками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920" y="4060800"/>
            <a:ext cx="4103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теоретическом увеличении пропускной способности памяти в 2 раза, тесты[1], на практике прирост составляет порядка 5-10 % в играх, и от 20 % до 70 % в «тяжёлых» графических приложениях, которые по максимуму используют оперативную память и обрабатывают графику в больших разрешениях (Photoshop, CorelDraw и другие инженерные приложения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594240" cy="2394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643280" y="623736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ьзование двух модулей памяти DDR SDRAM в двухканальном режи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9:06Z</dcterms:created>
  <dc:creator>User</dc:creator>
  <dc:description/>
  <dc:language>en-US</dc:language>
  <cp:lastModifiedBy>User</cp:lastModifiedBy>
  <dcterms:modified xsi:type="dcterms:W3CDTF">2012-10-09T05:28:38Z</dcterms:modified>
  <cp:revision>32</cp:revision>
  <dc:subject/>
  <dc:title>Шины системной платы</dc:title>
</cp:coreProperties>
</file>