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A2B6-5839-45B0-9132-0DD67EC8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EB85-0FB4-41FE-AFD8-D6D0442C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9F75-1278-4502-A3D3-E587EE51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2921-897E-403B-A86F-0B2CF6C4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E879-A93D-4155-8C44-4E83D29B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D9CB-52CB-4EE0-AF63-661DA438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531A-7ADD-40A1-A914-D2AF4CE7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CAA5-0158-4DB1-9C2C-C3929467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EE85-2671-4EE8-8BF9-4F7A7E4B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CAF0-70C8-4485-AB9C-FFA59070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8992-B5AA-4C64-9CF9-120D1B65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BDBD-E2BC-4356-B927-F49C210B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9355-1261-4DC1-B643-F58521AE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1E61-905B-46B7-A2C3-355AF306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1FD1-8A3E-49ED-B539-54FDF3A1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5B7E-167A-4B64-964B-3543BF6D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CA4A-8B33-46D6-BF0C-AAE7A33B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AD68-5AC8-433F-9593-D1F9C813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6911-95B5-4719-8762-884B57B0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5F7A-1056-4E18-AC96-99385A0D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7551-A3D9-4908-BC03-59C57ACA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C981-C07C-44C2-AF33-96159320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26B6-382B-41F9-ACD3-47F4D30D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E072-5B63-4BF9-B82C-37638411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0242-3409-4AEF-AC6C-652FF6B2A0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6BA2-A3F5-49A1-A82A-50E2A0806B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fdef6"/>
                </a:solidFill>
                <a:latin typeface="Arial"/>
              </a:rPr>
              <a:t>Компьютерная память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КЭШ-память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981000"/>
            <a:ext cx="871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ЭШ-память (англ. Cache, СОЗУ, сверхоперативное ОЗУ) – это буферная память с большей скоростью доступа (чем у ОЗУ), предназначенная для ускорения обращения ЦП к данным, содержащимся в ОЗУ. В современных ПК кэш-память расположена на кристалле Ц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эш состоит из блоков данных, каждый из которых является копией блока данных в основной памяти. Каждая запись имеет идентификатор, определяющий соответствие между блоками данных в кэше и их копиями в основной памяти. Когда ЦПУ обращается к данным, прежде всего исследуется кэш. Если в кэше найдена запись с идентификатором, совпадающим с идентификатором затребованного элемента данных, то используются элементы данных в кэше. Такой случай называется попаданием кэш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0920" y="4076640"/>
            <a:ext cx="57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в кэше не найдено записей, содержащих затребованный элемент данных, то он читается из основной памяти в кэш, и становятся доступным для последующих обращений. Такой случай называется промахом кэша.  Процент обращений к кэшу, когда в нём найден результат, называется уровнем попаданий или коэффициентом попаданий в кэш . У современных ЦП данный коэффициент больше 90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6156360" y="4175280"/>
            <a:ext cx="279072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ПЗУ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0920" y="98100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оянное запоминающее устройство (ПЗУ, ROM — англ. read-only memory) — энергонезависимая память, используется для хранения массива «неизменяемых» данных. В ПК таким массивом являетс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IOS представляет собой набор микропрограмм, обеспечивающих опознание устройств (процессор, память, видео, диски и т. д.), проверку их исправности, инициацию, то есть запуск, с определенными параметрами и затем передачу управления загрузчику операционн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4754520" y="3068640"/>
            <a:ext cx="4281480" cy="32115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4789440" y="638172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схема ПЗУ, содержаща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0920" y="2924280"/>
            <a:ext cx="4465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ЗУ должна обеспечить надежное хранение данных при отсутствии питания, компенсируя недостаток ОЗУ (энергозависимость). Это накладывает ограничения на изменение данных в ПЗУ, т.к. повреждени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риведёт к невозможности запуска ПК. Если раньше информацию на ПЗУ нельзя было вообще переписать, то современные микросхемы позволяют изменить данные, хранящиеся в них с помощью специальной процедуры обновления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не извлекая микросхемы из системной платы. Другой способ - можно извлечь микросхему и записать на неё информацию с помощью программато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BIOS (</a:t>
            </a: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Basic Input/Output System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50920" y="765000"/>
            <a:ext cx="8713800" cy="60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скольку BIOS первой вступает в работу после включения компьютера, давайте рассмотрим более подробно, какие процессы при этом протекают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После нажатия кнопки включения компьютера блок питания производит самотестирование напряжений. Если все соответствует норме, то на процессор подается напряжение и сигнал сброса. Процессор сбрасывает свою память и начинает работу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Первое что делает процессор - получает из BIOS POST-программу (Power-On Self Test - самотестирование при включении). В соответствие с этой программой начинается тестирование составляющих компьютера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Тестирование процессора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Копирование BIOS в оперативную память и проверка контрольных сумм BIOS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роверка регенерации памяти и тестирование 64 Кбайт нижней памяти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Настройка чипсета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иск и настройка видеоадаптера - именно в этот момент на экране монитора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являются первые сообщения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лное тестирование оперативной памяти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Тестирование клавиатуры и других устройств ввода-вывода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роверка контрольной суммы CMOS и состояния батарейки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Инициализация COM и LPT-портов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Инициализация дисководов и IDE-устройств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Распределение системных ресурсов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иск других устройств, содержащих свой BIOS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Вызов программного прерывания BIOS INT 19h, по которому ищется загрузочный сектор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Управление передается загрузчику операционной системы, который загружает ОС в компьютер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Если в результате всех этих манипуляций произойдет какой-либо сбой, то компьютер выдаст определенную комбинацию звуковых сигналов или на экран выведется сообщение об ошибке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Настройка </a:t>
            </a: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BI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50920" y="76500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ройка самой BI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сходит с помощью программы BIOS SetUp, в которую можно попасть при нажатии кнопки Delete (либо, в некоторых версиях - F2) во время загрузки компьютера (не стоит путать программу BIOS SetUp с самой системой BIO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 SetUp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анит данные дл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аметры, которые задаются устройствам ПК при запуске системы, системные дата/время и т.д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торые записываются не в микросхеме ПЗУ, а в специальной микросхем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что позволяет оперативно управля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меняя содержимого микросхемы ПЗУ (повышая надежность системы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IOS всех распространенных матплат основаны на коде, написанном одной из двух фирм: American Management, Inc. (AMI) или Award. Они несколько отличаются друг от друга, однако в общем похож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5148360" y="4292640"/>
            <a:ext cx="3408120" cy="24066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538200" y="4292640"/>
            <a:ext cx="388944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CMOS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-микросхе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0920" y="692280"/>
            <a:ext cx="871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MOS -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звание технологии, по которой производится микросхема: Complementary Metal-Oxide-Semiconductor - комплементарный металлооксидный полупроводник или КМО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619280" y="4437000"/>
            <a:ext cx="5715000" cy="22194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 flipH="1">
            <a:off x="5219640" y="5013360"/>
            <a:ext cx="2448000" cy="863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80360" y="47242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схе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332000" y="4941720"/>
            <a:ext cx="792000" cy="287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472428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чник питан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икросх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79280" y="1773360"/>
            <a:ext cx="871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9280" y="119700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нная микросхема является энергозависимой и для обеспечения ее постоянного питания используется автономный источник питания (батарейка). Т.к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требляет очень мало энергии, то стандартная батарейка, расположенная на материнской плате, питает CMOS в течение 5-6 лет, после чего необходимо производить ее замен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или придется производить настройк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и каждом включении ПК, т.к. при отсутствии информации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уда переписываются типовые настройки из ПЗУ). Это также можно использовать для устранения неисправностей, связанных с неправильными настройками BIOS. Для этого надо выключить компьютер, вынуть на 30 секунд батарейку из материнской платы (или можно замкнуть специальную перемычку), установить ее назад, и типовые настройки BIOS будут восстановлены, а компьютер снова заработа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4140000" y="5734080"/>
            <a:ext cx="3384360" cy="719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345440" y="551664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мычка для сброс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схем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50920" y="115920"/>
            <a:ext cx="87138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пьютерная память (устройство хранения информации, запоминающее устройство) — часть вычислительной машины, физическое устройство или среда для хранения данных, используемых в вычислениях, в течение определённого време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ь в вычислительных устройствах имеет иерархическую структуру и обычно предполагает использование нескольких запоминающих устройств, имеющих различные характерист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9280" y="234936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ерархия памяти современных компьютеров строится на нескольких уровнях, причем более высокий уровень меньше по объему, быстрее и имеет большую стоимость в пересчете на байт, чем более низкий уров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922560" y="2349360"/>
            <a:ext cx="4897440" cy="42958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179280" y="4724280"/>
            <a:ext cx="1417680" cy="14176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1619280" y="5229360"/>
            <a:ext cx="21114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250920" y="3619440"/>
            <a:ext cx="86421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пьютерную память можно разделить на две групп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памя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яя памя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рмины «внутренняя» и «внешняя» объясняют положение памяти относительно ЦП: к внутренней памяти ЦП обращается напрямую, без использования специальных команд; к устройствам внешней памяти процессор обращается посредством специальных команд, кроме того информация из внешней памяти переписывается сначала во внутреннюю, а уже затем обрабатывается Ц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46040" y="44280"/>
            <a:ext cx="82296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Характеристики памя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79280" y="9079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характеристикам памяти относят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ёмкость памяти (бит/байт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стродействие (бит/байт в секунду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ергонезависимость (при снятии электропитания информация в памяти не исчезает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оимость хранения единицы информации (бита)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5280" y="2708280"/>
            <a:ext cx="83739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Классификация памя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6560" y="1155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Внутренняя память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0920" y="112392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остав внутренней памяти входя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гистровая память ЦП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З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эш-памя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З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5280" y="400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Регистровая память Ц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0920" y="52624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гистровая (местная) память процессора - самая быстродействующая память, она входит в состав ЦП и предназначена для временного хранения информации, необходимой для работы процессора в текущем так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мкость регистровой памяти: несколько сотен машинных сл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5076720" y="11970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ОЗУ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50920" y="1123920"/>
            <a:ext cx="864072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еративное запоминающее устройство, оперативная память,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англ. Random Access Memory, память с произвольным доступом;) — быстродействующая энергозависимая память, в которой временно хранятся данные и команды, обрабатываемые ЦП в данный момен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ЗУ еще называется основной памятью, т.к. обрабатываемые процессором данные (например, запущенная пользователем ПК программа) помещаются именно в 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ключении компьютера содержимое стирается из оперативной памяти, поэтому перед выключением компьютера все необходимые данные нужно сохрани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объёма и производительности ОЗУ зависит производительность ЦП – например, чем больше объём оперативной памяти, тем большее количество задач одновременно может выполняться компьютером. В современных ПК объём ОЗУ составляет в среднем 4 Гбай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руктивно ОЗУ исполняется в виде съёмных модулей разной ёмкости памяти (например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1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айт, 1 Гбайт, 2 Гбайт). Существует несколько разновидностей модулей оперативной памяти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M,  DIMM, DDR DIMM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Первые два типа модулей являются устаревшими и уже не использую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DD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4000" y="1125360"/>
            <a:ext cx="37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ется несколько типо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D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мяти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DR, DDR2, DDR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т.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личаются они типоразмером и производительно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личение производительност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DR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мяти от поколения к поколению осуществляется за счет увеличения разрядности внутренней шин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84360" y="5445000"/>
            <a:ext cx="65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778280" cy="51134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3600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Производительность модулей </a:t>
            </a:r>
            <a:r>
              <a:rPr b="1" lang="en-US" sz="2800" spc="-1" strike="noStrike">
                <a:solidFill>
                  <a:srgbClr val="dfdef6"/>
                </a:solidFill>
                <a:latin typeface="Arial"/>
              </a:rPr>
              <a:t>DDR</a:t>
            </a: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 ОЗУ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8000" y="901800"/>
            <a:ext cx="5905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1600 (DDR-200)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,5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6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100 (DDR-266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,66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133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400 (DDR-3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8,75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4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700 (DDR-3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,84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667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200 (DDR-4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 2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-3200 (DDR2-4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 2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500 (DDR-4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7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 467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700 (DDR-466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9,16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 733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4000 (DDR5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1,25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 0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-4200 (DDR2-5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3,33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 2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4300 (DDR5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3,33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 267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-5300 (DDR2-667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1,4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3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5600 (DDR-7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3,75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6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-6400 (DDR2-8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 4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6400 (DDR3-8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 4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-8500 (DDR2-1066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,4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5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8500 (DDR3-1066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,66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533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0600 (DDR3-13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3,33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 667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2800 (DDR3-16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 8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4400 (DDR3-18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2,5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 4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5000 (DDR3-1866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7,19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0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6000 (DDR3-20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5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 0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7000 (DDR3-21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3,33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7 066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7600 (DDR3-22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7,5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7 6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8400 (DDR3-23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3,75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8 4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9200 (DDR3-24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0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6 2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907920"/>
            <a:ext cx="3132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кировка модулей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D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PC3-16000 (DDR3-2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6000 –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ропускная способность шины памяти (Мбайт/с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2000 – частота шины памяти (МГц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288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Конструктивные особенности модулей ОЗУ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50920" y="148608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которые модули ОЗУ вследствие высоких частот, на которых они работают, имеют большое энергопотребление. Поэтому они могут иметь нестандартное напряжение питания, которое устанавливается вручную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атеринской платы. Кроме того они выделяют большое количество тепла, которое нужно отводить с помощью системы охлаждения (радиатор, радиатор с тепловой трубкой, вентилятор и т.д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1835280" y="4508640"/>
            <a:ext cx="2736720" cy="226044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1878120" cy="15476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3780000" y="3068640"/>
            <a:ext cx="2520720" cy="19512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5867280" y="4437000"/>
            <a:ext cx="2880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Двухканальный режим ОЗУ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50920" y="112536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ухканальный режим — режим работы оперативной памяти и её взаимодействия с материнской платой, процессором и другими компонентами компьютера, при котором может быть увеличена скорость передачи данных между ними, за счёт использования двух каналов для доступа к объединённому банку памяти. Таким образом система, при использовании например двух модулей памяти (два по 1 Гбайту)  в двухканальном режиме, может работать быстрее чем при использовании одного модуля (2 Гбайт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вухканальный режим поддерживается, если на обоих каналах DIMM установлено одинаковое количество памяти с одинаковыми характеристиками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50920" y="4060800"/>
            <a:ext cx="4103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теоретическом увеличении пропускной способности памяти в 2 раза, тесты[1], на практике прирост составляет порядка 5-10 % в играх, и от 20 % до 70 % в «тяжёлых» графических приложениях, которые по максимуму используют оперативную память и обрабатывают графику в больших разрешениях (Photoshop, CorelDraw и другие инженерные приложения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594240" cy="23940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4643280" y="6237360"/>
            <a:ext cx="410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спользование двух модулей памяти DDR SDRAM в двухканальном режим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7:29:06Z</dcterms:created>
  <dc:creator>User</dc:creator>
  <dc:description/>
  <dc:language>en-US</dc:language>
  <cp:lastModifiedBy>User</cp:lastModifiedBy>
  <dcterms:modified xsi:type="dcterms:W3CDTF">2012-10-09T05:28:38Z</dcterms:modified>
  <cp:revision>32</cp:revision>
  <dc:subject/>
  <dc:title>Шины системной платы</dc:title>
</cp:coreProperties>
</file>