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5174-5AFA-4337-A99F-8C2804BB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0BCC-3C7B-4E94-9291-7AC5681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7C6E-5436-4DDC-9A38-F16D3419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69CB-FD94-40A8-A498-3C0BE4A8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5C7-B62E-4435-A835-35723AC6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E0E7-8465-431F-9D09-D2B1AA9C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53C-433A-4ECD-9FA9-BC5D6E9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EE00-EF81-408A-BE84-AB7E0541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8A8-B5D1-4879-94A8-5CF4D1AF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063-1A62-459E-BA64-FA58FD28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DC47-A5C6-45A5-B621-02E4AA7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DA82-987E-4C18-B197-B553FCC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8541-0234-4764-9138-92670F23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9EF6-82BA-4265-B731-CEEC8C9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D85E-5858-496F-BD9F-87A204B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E51-18F0-41ED-86D5-E9ECE515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6123-FBEF-4410-8980-8D408C5F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17BA-E6FA-49F0-981A-C5949DDF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EEC4-67B8-4C68-9B2C-508BF3D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4DD2-C98B-4CB4-8FA6-E0CB069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70C5-5BEA-4509-9347-1F12EAC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57E3-1B79-43E4-9268-72AB4E3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9187-8ED9-4121-A309-13A6C45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9D9A-7BE7-4959-94C4-7D29CEA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031-91BF-4866-AC11-E789D822BD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FE38-49EB-4866-AE9E-3C864A172E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fdef6"/>
                </a:solidFill>
                <a:latin typeface="Arial"/>
              </a:rPr>
              <a:t>Компьютерная память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КЭШ-памя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981000"/>
            <a:ext cx="87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-память (англ. Cache, СОЗУ, сверхоперативное ОЗУ) – это буферная память с большей скоростью доступа (чем у ОЗУ), предназначенная для ускорения обращения ЦП к данным, содержащимся в ОЗУ. В современных ПК кэш-память расположена на кристалле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эш состоит из блоков данных, каждый из которых является копией блока данных в основной памяти. Каждая запись имеет идентификатор, определяющий соответствие между блоками данных в кэше и их копиями в основной памяти. Когда ЦПУ обращается к данным, прежде всего исследуется кэш. Если в кэше найдена запись с идентификатором, совпадающим с идентификатором затребованного элемента данных, то используются элементы данных в кэше. Такой случай называется попаданием кэш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407664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в кэше не найдено записей, содержащих затребованный элемент данных, то он читается из основной памяти в кэш, и становятся доступным для последующих обращений. Такой случай называется промахом кэша.  Процент обращений к кэшу, когда в нём найден результат, называется уровнем попаданий или коэффициентом попаданий в кэш . У современных ЦП данный коэффициент больше 90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156360" y="4175280"/>
            <a:ext cx="27907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П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0920" y="98100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ое запоминающее устройство (ПЗУ, ROM — англ. read-only memory) — энергонезависимая память, используется для хранения массива «неизменяемых» данных. В ПК таким массивом явля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IOS представляет собой набор микропрограмм, обеспечивающих опознание устройств (процессор, память, видео, диски и т. д.), проверку их исправности, инициацию, то есть запуск, с определенными параметрами и затем передачу управления загрузчику операцион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754520" y="3068640"/>
            <a:ext cx="4281480" cy="32115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789440" y="638172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ПЗУ, содержаща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0920" y="2924280"/>
            <a:ext cx="446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ЗУ должна обеспечить надежное хранение данных при отсутствии питания, компенсируя недостаток ОЗУ (энергозависимость). Это накладывает ограничения на изменение данных в ПЗУ, т.к. повреждени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иведёт к невозможности запуска ПК. Если раньше информацию на ПЗУ нельзя было вообще переписать, то современные микросхемы позволяют изменить данные, хранящиеся в них с помощью специальной процедуры обновления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е извлекая микросхемы из системной платы. Другой способ - можно извлечь микросхему и записать на неё информацию с помощью программато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 (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Basic Input/Output System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765000"/>
            <a:ext cx="871380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кольку BIOS первой вступает в работу после включения компьютера, давайте рассмотрим более подробно, какие процессы при этом протекают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осле нажатия кнопки включения компьютера блок питания производит самотестирование напряжений. Если все соответствует норме, то на процессор подается напряжение и сигнал сброса. Процессор сбрасывает свою память и начинает работу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Первое что делает процессор - получает из BIOS POST-программу (Power-On Self Test - самотестирование при включении). В соответствие с этой программой начинается тестирование составляющих компьютера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процессор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Копирование BIOS в оперативную память и проверка контрольных сумм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регенерации памяти и тестирование 64 Кбайт нижне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астройка чипсет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и настройка видеоадаптера - именно в этот момент на экране монитора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являются первые сообщения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лное тестирование оперативной памят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стирование клавиатуры и других устройств ввода-вывода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оверка контрольной суммы CMOS и состояния батарейки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COM и LPT-порт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Инициализация дисководов и IDE-устройст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Распределение системных ресурсов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иск других устройств, содержащих свой BIOS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ызов программного прерывания BIOS INT 19h, по которому ищется загрузочный секто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Управление передается загрузчику операционной системы, который загружает ОС в компьют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Если в результате всех этих манипуляций произойдет какой-либо сбой, то компьютер выдаст определенную комбинацию звуковых сигналов или на экран выведется сообщение об ошиб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Настройка </a:t>
            </a: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0920" y="7650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ройка самой BI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сходит с помощью программы BIOS SetUp, в которую можно попасть при нажатии кнопки Delete (либо, в некоторых версиях - F2) во время загрузки компьютера (не стоит путать программу BIOS SetUp с самой системой BI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SetUp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т данные дл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, которые задаются устройствам ПК при запуске системы, системные дата/время и т.д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торые записываются не в микросхеме ПЗУ, а в специальной микросхем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что позволяет оперативно управля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меняя содержимого микросхемы ПЗУ (повышая надежность систем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OS всех распространенных матплат основаны на коде, написанном одной из двух фирм: American Management, Inc. (AMI) или Award. Они несколько отличаются друг от друга, однако в общем пох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408120" cy="2406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538200" y="4292640"/>
            <a:ext cx="3889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MOS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-микросх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69228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MOS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звание технологии, по которой производится микросхема: Complementary Metal-Oxide-Semiconductor - комплементарный металлооксидный полупроводник или КМО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619280" y="4437000"/>
            <a:ext cx="5715000" cy="22194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 flipH="1">
            <a:off x="5219640" y="5013360"/>
            <a:ext cx="2448000" cy="863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4724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4941720"/>
            <a:ext cx="792000" cy="28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472428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 пита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икросх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177336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9280" y="11970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ная микросхема является энергозависимой и для обеспечения ее постоянного питания используется автономный источник питания (батарейка). Т.к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ребляет очень мало энергии, то стандартная батарейка, расположенная на материнской плате, питает CMOS в течение 5-6 лет, после чего необходимо производить ее зам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ли придется производить настройк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и каждом включении ПК, т.к. при отсутствии информации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уда переписываются типовые настройки из ПЗУ). Это также можно использовать для устранения неисправностей, связанных с неправильными настройками BIOS. Для этого надо выключить компьютер, вынуть на 30 секунд батарейку из материнской платы (или можно замкнуть специальную перемычку), установить ее назад, и типовые настройки BIOS будут восстановлены, а компьютер снова заработ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4140000" y="5734080"/>
            <a:ext cx="3384360" cy="719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45440" y="551664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ычка для сброс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OS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росхе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50920" y="115920"/>
            <a:ext cx="8713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ая память (устройство хранения информации, запоминающее устройство) — часть вычислительной машины, физическое устройство или среда для хранения данных, используемых в вычислениях, в течение определённого време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ь в вычислительных устройствах имеет иерархическую структуру и обычно предполагает использование нескольких запоминающих устройств, имеющих различные характерис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34936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ерархия памяти современных компьютеров строится на нескольких уровнях, причем более высокий уровень меньше по объему, быстрее и имеет большую стоимость в пересчете на байт, чем более низкий уров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922560" y="2349360"/>
            <a:ext cx="489744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417680" cy="1417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2111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50920" y="3619440"/>
            <a:ext cx="8642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ную память можно разделить на две групп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пам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рмины «внутренняя» и «внешняя» объясняют положение памяти относительно ЦП: к внутренней памяти ЦП обращается напрямую, без использования специальных команд; к устройствам внешней памяти процессор обращается посредством специальных команд, кроме того информация из внешней памяти переписывается сначала во внутреннюю, а уже затем обрабатывается Ц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6040" y="44280"/>
            <a:ext cx="8229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Характеристики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7928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характеристикам памяти относят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ёмкость памяти (бит/бай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действие (бит/байт в секунд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онезависимость (при снятии электропитания информация в памяти не исчезае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имость хранения единицы информации (бита)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2708280"/>
            <a:ext cx="8373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лассификация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656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Внутренняя память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11239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остав внутренней памяти входя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память Ц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З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эш-памя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З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95280" y="40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Регистровая память Ц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0920" y="52624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истровая (местная) память процессора - самая быстродействующая память, она входит в состав ЦП и предназначена для временного хранения информации, необходимой для работы процессора в текущем так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мкость регистровой памяти: несколько сотен машинных сл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0920" y="1123920"/>
            <a:ext cx="864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ивное запоминающее устройство, оперативная память,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англ. Random Access Memory, память с произвольным доступом;) — быстродействующая энергозависимая память, в которой временно хранятся данные и команды, обрабатываемые ЦП в данный момен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У еще называется основной памятью, т.к. обрабатываемые процессором данные (например, запущенная пользователем ПК программа) помещаются именно в 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ключении компьютера содержимое стирается из оперативной памяти, поэтому перед выключением компьютера все необходимые данные нужно сохран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ъёма и производительности ОЗУ зависит производительность ЦП – например, чем больше объём оперативной памяти, тем большее количество задач одновременно может выполняться компьютером. В современных ПК объём ОЗУ составляет в среднем 4 Гбай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ивно ОЗУ исполняется в виде съёмных модулей разной ёмкости памяти (например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айт, 1 Гбайт, 2 Гбайт). Существует несколько разновидностей модулей оперативной 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M,  DIMM, DDR DIMM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ервые два типа модулей являются устаревшими и уже не использу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DD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112536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ется несколько тип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, DDR2, DDR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т.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личаются они типоразмером и производитель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производительност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и от поколения к поколению осуществляется за счет увеличения разрядности внутренней шин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4360" y="544500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778280" cy="51134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600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Производительность модулей </a:t>
            </a: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DDR</a:t>
            </a: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 ОЗУ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000" y="901800"/>
            <a:ext cx="5905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1600 (DDR-200)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100 (DDR-2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1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400 (DDR-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700 (DDR-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,84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200 (DDR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3200 (DDR2-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500 (DDR-4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4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700 (DDR-4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,1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7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000 (DDR5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1,2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4200 (DDR2-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4300 (DDR5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2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5300 (DDR2-667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1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3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5600 (DDR-7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6400 (DDR2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6400 (DDR3-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2-8500 (DDR2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4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8500 (DDR3-10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,66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533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0600 (DDR3-13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 667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2800 (DDR3-16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 8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4400 (DDR3-18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2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5000 (DDR3-1866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7,19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6000 (DDR3-20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5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 0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000 (DDR3-2133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3,33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066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7600 (DDR3-22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7,5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 6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8400 (DDR3-23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3,75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 4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C3-19200 (DDR3-2400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0,00 Гбит/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6 200 МБ/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907920"/>
            <a:ext cx="3132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кировка модулей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PC3-16000 (DDR3-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6000 –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ропускная способность шины памяти (Мбайт/с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2000 – частота шины памяти (МГц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Конструктивные особенности модулей ОЗУ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0920" y="14860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модули ОЗУ вследствие высоких частот, на которых они работают, имеют большое энергопотребление. Поэтому они могут иметь нестандартное напряжение питания, которое устанавливается вручную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атеринской платы. Кроме того они выделяют большое количество тепла, которое нужно отводить с помощью системы охлаждения (радиатор, радиатор с тепловой трубкой, вентилятор и т.д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2736720" cy="2260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1878120" cy="1547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2520720" cy="1951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867280" y="4437000"/>
            <a:ext cx="2880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вухканальный режим ОЗУ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920" y="11253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канальный режим — режим работы оперативной памяти и её взаимодействия с материнской платой, процессором и другими компонентами компьютера, при котором может быть увеличена скорость передачи данных между ними, за счёт использования двух каналов для доступа к объединённому банку памяти. Таким образом система, при использовании например двух модулей памяти (два по 1 Гбайту)  в двухканальном режиме, может работать быстрее чем при использовании одного модуля (2 Гбай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вухканальный режим поддерживается, если на обоих каналах DIMM установлено одинаковое количество памяти с одинаковыми характеристиками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920" y="4060800"/>
            <a:ext cx="4103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теоретическом увеличении пропускной способности памяти в 2 раза, тесты[1], на практике прирост составляет порядка 5-10 % в играх, и от 20 % до 70 % в «тяжёлых» графических приложениях, которые по максимуму используют оперативную память и обрабатывают графику в больших разрешениях (Photoshop, CorelDraw и другие инженерные приложения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594240" cy="2394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4643280" y="6237360"/>
            <a:ext cx="41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пользование двух модулей памяти DDR SDRAM в двухканальном режим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7:29:06Z</dcterms:created>
  <dc:creator>User</dc:creator>
  <dc:description/>
  <dc:language>en-US</dc:language>
  <cp:lastModifiedBy>User</cp:lastModifiedBy>
  <dcterms:modified xsi:type="dcterms:W3CDTF">2012-10-09T05:28:38Z</dcterms:modified>
  <cp:revision>32</cp:revision>
  <dc:subject/>
  <dc:title>Шины системной платы</dc:title>
</cp:coreProperties>
</file>