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7F7-E1DB-4435-B6CE-F63F94A3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D2F-32BC-491F-9C4A-6F701EF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7FF-A50F-4095-B2EF-CBDA99D2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D42-AC07-4605-A032-9EAFE180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E95C-DBC8-47DC-A8A0-B25E89A6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E77E-EF30-49C0-AB7C-651EFE7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335B-3533-4488-9597-69E0E0A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8FE3-BCBB-4A4A-8FB2-E474CEF8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2F9C-28AC-428D-9744-8BB12B5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D667-F913-43C1-9E9D-1BA92EF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694D-42DA-42BC-BB83-89D4F655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F5D-C88E-4A2F-9CCA-5BC7C781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F04-10CE-4A53-B7DA-D2F8AB1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E795-7F3E-4847-BC8C-9C8C4A3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7544-03DB-477C-9729-A7EC9A5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54F0-3C53-4894-B57A-C70C4EEB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E575-295B-45D7-8F9E-8F82F863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22D-5360-4FF2-BAD5-115E40F4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ACD-9964-44E5-A493-32CDFFD8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EAC-9205-47FD-BF29-873129E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37E-28CB-4994-99DE-CCAB7A64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459-00EA-43E8-86F9-108CF37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0FD-65D4-450A-ADF1-13F6A63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BFE-98CA-491B-A354-D50CCA9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DC04-F015-43B8-BF54-820453B1B6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549360"/>
          </a:xfrm>
          <a:prstGeom prst="rect">
            <a:avLst/>
          </a:prstGeom>
          <a:ln w="41400">
            <a:solidFill>
              <a:srgbClr val="8c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53F-50B2-414D-82EF-912C362177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  У  ДЕТЕЙ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3360"/>
            <a:ext cx="68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cc"/>
                </a:solidFill>
                <a:uFillTx/>
                <a:latin typeface="Tahoma"/>
              </a:rPr>
              <a:t>Детская краевая клиническая  боль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26496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6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Симптомы эзофагита у новорожденных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61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драж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овавая рвота , примесь крови в стуле , мел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ый пла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ем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аз от пищ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индром Сандифера (кривоше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достаточная прибавка в вес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спи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резмерное срыги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ды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в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пноэ , стрид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611280" y="6453360"/>
            <a:ext cx="8229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Vandenplas  Y., Hegar B., 2000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НЕПИЩЕВОДНЫЕ ПРОЯВЛЕНИЯ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ронхо-легоч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очной кашель ,бронхиальная астма, бронхоэктатическая болезнь, фиброзирующий альвеолит, аспирационнные пневмонии пароксизмальные ночные апное, кровохаркань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кардиальная боль в  грудной  клет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оларинг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иплость голоса, ларингоспазм, полипы, язвы, гранулемы голосовых связок, стеноз гортани, злокачественные поражения гортани, ларингит, фарингит, чувство кома в горле, синусит, средний о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оматолог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иес , эрозии эмали зубов , периодонт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агностические критерии ГЭРБ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Клиниче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изжоги 2 раза в неделю и более можно рассматривать без других методов как ГЭРБ (Бельгия 2003 г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Суточный мониторинг 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увствительность метода 88-9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Эндоскоп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воляет оценить степень тяжести поражения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Рентген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яет выявить недостаточность кардии , грыжу пищеводного отверстия диафрагмы , наличия заброса контрастного вещества из желудка в просвет пище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ff99"/>
                </a:solidFill>
                <a:uFillTx/>
                <a:latin typeface="Tahoma"/>
              </a:rPr>
              <a:t>Патоморфолог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аления , эрозии , изменения цилиндрического эпител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ассификация рефлюкс-эзофагита по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avery-Miller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 модификации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arisson et a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341360"/>
          <a:ext cx="8686800" cy="4807080"/>
        </p:xfrm>
        <a:graphic>
          <a:graphicData uri="http://schemas.openxmlformats.org/drawingml/2006/table">
            <a:tbl>
              <a:tblPr/>
              <a:tblGrid>
                <a:gridCol w="1377720"/>
                <a:gridCol w="7309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тяже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истика изменени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знаки рефлюкс-эзофагита отсу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но (или более) линейное повреждение (эрозия) слизистой оболочки с эритемой , часто покрытое экссудатом , занимающие более 10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ивные  эрозивные повреждения слизистой оболочки , занимающие 10-50 % окружности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жественные эрозивные повреждения , занимающие практически всю окружность дистального отдела пище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ложненные формы рефлюкс-эзофагита : язва стриктура , пищевод Барр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сложнения  ГЭР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355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птические язвы пищевода  2-7  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енозирование пищевода     4-2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ищевод Баррета                       3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600" spc="-1" strike="noStrike">
                <a:solidFill>
                  <a:srgbClr val="66ff99"/>
                </a:solidFill>
                <a:latin typeface="Tahoma"/>
              </a:rPr>
              <a:t>(по  данным  США  10-15 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4392720" cy="2592360"/>
          </a:xfrm>
          <a:prstGeom prst="rect">
            <a:avLst/>
          </a:prstGeom>
          <a:ln w="223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Пищевод Баррет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- это приобретенное состояние, являющееся осложнением гастроэзофагеальной рефлюксной болезни, проявляющееся замещением в пределах слизистой оболочки пищевода плоскоклеточного  эпителия    цилиндрическим  в   виде специализированной кишечной метаплазии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  ГЭР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транение симптомов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с рефлюк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эзофаг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твращение или устранен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ение качества пи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Консервативное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Соблюдение определенного образа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Ди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Tahoma"/>
              </a:rPr>
              <a:t>Медикаментозное  леч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 антациды и альгина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 прокине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 антисекреторные  препар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блокаторы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оров гистам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)  ингибиторы протонной помп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ff99"/>
                </a:solidFill>
                <a:uFillTx/>
                <a:latin typeface="Tahoma"/>
              </a:rPr>
              <a:t>Хирургическое  лечени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Рекомендации по режиму  и диет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Основные правила , которые должен соблюдать больной независимо от степени выраженности РЭ и стадии заболева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принятия пищи избегать наклонов вперед и не лож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ть с приподнятым головным концом кровати на 15-20 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носить тесную    одежду и тугие пояса, корсеты, бандажи, приводящие к повышению внутрибрюшного дав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бегать обильных приемов пищи,  не     есть  на ночь и  не употреблять слишком горячей 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ить употребление продуктов вызывающих снижение давления НПС и обладающих раздражающим действием (жиры, алкоголь, кофе, шоколад, цитрусовы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курения и   употребления алкогол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нижение массы тела при ожир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   возможности отказ от    приема  лекарств , вызывающих рефлюкс (антихолинергические , спазмолитики, седативны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квилизаторы,     ингибиторы     кальциевых     канал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блокаторы , теофиллин , простагландины , нитра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нтациды и альгина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55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ff"/>
                </a:solidFill>
                <a:uFillTx/>
                <a:latin typeface="Tahoma"/>
              </a:rPr>
              <a:t>Цель  применения :</a:t>
            </a:r>
            <a:r>
              <a:rPr b="1" lang="ru-RU" sz="1800" spc="-1" strike="noStrike">
                <a:solidFill>
                  <a:srgbClr val="66ff99"/>
                </a:solidFill>
                <a:latin typeface="Tahoma"/>
              </a:rPr>
              <a:t>  снижение кислотно-протеолитической                                        агрессии желудочного со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Фосфалюгель                                Маало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Магалф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льци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66ff99"/>
                </a:solidFill>
                <a:uFillTx/>
                <a:latin typeface="Tahoma"/>
              </a:rPr>
              <a:t>Назначаются по 1 пакету не менее 3-х раз в день через 1.5 -2 часа после еды и на ночь в зависимости от выраженности симпто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170520" cy="4270320"/>
          </a:xfrm>
          <a:prstGeom prst="rect">
            <a:avLst/>
          </a:prstGeom>
          <a:ln w="2232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астроэзофагеальная рефлюксная болезнь - это хроническое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ецидивирующее заболевание, обусловленное нарушением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оторно- эвакуаторной  функции гастроэзофагеальной зоны   и характеризующееся спонтанным или регулярно повторяющимся забрасыванием в пищевод желудочного или дуоденального содержимого, что приводит к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вреждению дистального отдела пищевода с развитием в нем эрозивно-язвенных , катаральных и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ли  функциональных нарушени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ладают антирефлюксным   действ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иливают   высвобождение     ацетилхолина  в  ЖКТ,   стимулируя моторику желудка, тонкой кишки и пище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ышают тонус нижнего пищеводного сфин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скоряют эвакуацию из желуд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казывают положительное влияние на пищеводный клиренс и снижают гастроэзофагеальный рефлю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рокине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1052640"/>
          <a:ext cx="8496000" cy="4741560"/>
        </p:xfrm>
        <a:graphic>
          <a:graphicData uri="http://schemas.openxmlformats.org/drawingml/2006/table">
            <a:tbl>
              <a:tblPr/>
              <a:tblGrid>
                <a:gridCol w="3876480"/>
                <a:gridCol w="4619520"/>
              </a:tblGrid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токлопрамид (церук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 мг\кг за 20-30 мин. до еды 3-4 раза в су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мперид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отилиу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5 мг\кг за 15-20 мин. до еды 3 раза в день (при необходимости перед сно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изапр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координакс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3-4 раза в день – дети раннего возра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-40 мг в сутки в 2-4 приема - подро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финиум бром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иаба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2 мг\кг в сутки в готовом растворе в 3 приема за 20 мин. до корм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99"/>
                      </a:solidFill>
                    </a:lnL>
                    <a:lnR w="13680">
                      <a:solidFill>
                        <a:srgbClr val="66ff99"/>
                      </a:solidFill>
                    </a:lnR>
                    <a:lnT w="13680">
                      <a:solidFill>
                        <a:srgbClr val="66ff99"/>
                      </a:solidFill>
                    </a:lnT>
                    <a:lnB w="13680">
                      <a:solidFill>
                        <a:srgbClr val="66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557360"/>
            <a:ext cx="288000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локато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цепт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1557360"/>
            <a:ext cx="2879640" cy="1655640"/>
          </a:xfrm>
          <a:prstGeom prst="rect">
            <a:avLst/>
          </a:prstGeom>
          <a:solidFill>
            <a:srgbClr val="72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гибито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тонн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22100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Цель :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меньшение повреждающего действия кислого желудочного содержимого на слизистую оболочку пище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620640"/>
            <a:ext cx="6264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Антисекреторные препар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1125360"/>
            <a:ext cx="287280" cy="432000"/>
          </a:xfrm>
          <a:prstGeom prst="downArrow">
            <a:avLst>
              <a:gd name="adj1" fmla="val 50000"/>
              <a:gd name="adj2" fmla="val 375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1125360"/>
            <a:ext cx="287640" cy="43200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локаторы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цепторов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истами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561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ме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 рани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оление          фамо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назатидин (акси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коление            роксатид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869000"/>
            <a:ext cx="8642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20 мг – продолжительность действия 12 часов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амотидин 40 мг – продолжительность действия 1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превосходят по суммарной эффективности при лечении ГЭРБ блокаторы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цепторов  гистамина в 2 раза , а прокинетики в 3 р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66ff99"/>
                </a:solidFill>
                <a:latin typeface="Tahoma"/>
              </a:rPr>
              <a:t>(публикации </a:t>
            </a:r>
            <a:r>
              <a:rPr b="0" lang="en-US" sz="1800" spc="-1" strike="noStrike">
                <a:solidFill>
                  <a:srgbClr val="66ff99"/>
                </a:solidFill>
                <a:latin typeface="Tahoma"/>
              </a:rPr>
              <a:t>COCHRAN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ПП  являются препаратами выбора в лечении различных форм ГЭР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99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66ff99"/>
                </a:solidFill>
                <a:latin typeface="Tahoma"/>
              </a:rPr>
              <a:t>Рекомендации Российской гастроэнтерологической ассоциации по обследованию и лечению больных ГЭРБ (2000 г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04640"/>
            <a:ext cx="6121440" cy="7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Ингибиторы протонной помпы (ИПП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57610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м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осек , омез , ультоп , ромес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нсо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ланза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нто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епразо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пари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зомепраз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(нексиу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981000"/>
            <a:ext cx="36716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П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ЛЕЧЕНИЕ ИПП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Основной курс леч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• не менее 4-8 месяц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Поддерживающая терап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\2 суточной дозы препарата ежедневно в течение 6-12 месяцев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99"/>
                </a:solidFill>
                <a:latin typeface="Tahoma"/>
              </a:rPr>
              <a:t>Терапия " по требованию"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при возникновении изжоги 2-3 раза в неделю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 терапии "по требованию" используется эзомепразол  в дозе 20 мг/сут - 2 таблетки в недел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ХИРУРГИЧЕСКОЕ ЛЕЧ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ЦЕЛЬ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сстановление нормальной функции кард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 u="sng">
                <a:solidFill>
                  <a:srgbClr val="66ff99"/>
                </a:solidFill>
                <a:uFillTx/>
                <a:latin typeface="Tahoma"/>
              </a:rPr>
              <a:t>Показания к оперативному лечению</a:t>
            </a:r>
            <a:r>
              <a:rPr b="1" lang="ru-RU" sz="2000" spc="-1" strike="noStrike">
                <a:solidFill>
                  <a:srgbClr val="66ff99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зуспешность консервативного лечения в течение 6 ме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ложнение ГЭРБ (стриктуры,повторные кровотеч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ые аспирационные пневмо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четание ГЭРБ с бронхиальной астм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фрактерной к адекватной антирефлюкс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рап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ходимость долгосрочной антирефлюксной терапии у  молодых пациентов с ГЭР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НЕДОСТАТКИ ХИРУРГИЧЕСКОГО ЛЕЧ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зультаты зависят от опыта хиру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меется риск летального исх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небольшой части случаев после операции остается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обходимость в лекарственной терапи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006720" cy="4495680"/>
          </a:xfrm>
          <a:prstGeom prst="rect">
            <a:avLst/>
          </a:prstGeom>
          <a:ln w="3492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Благодарю  за  ваше  внимание …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94360" cy="4496040"/>
          </a:xfrm>
          <a:prstGeom prst="rect">
            <a:avLst/>
          </a:prstGeom>
          <a:ln w="3168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ЭТИОЛОГИЯ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е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а, связанная с наклонным положением тулов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жи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рем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ыжа пищеводного отверстия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карственые средства (антагонисты кальция , антихолинергические препараты ,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блокаторы) , теофиллины , глюкокортикостероиды , нитраты , седативные препараты , снотворные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акторы питания (шоколад, кислые фруктовые соки , алкоголь , жир , острая пища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граничение экскурсии диафраг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ричины  ГЭРБ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очность запирательного механизма кард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худшение  опорожнения желудка   (повышение   внутрижелудочного давл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юкс желудочного и дуоденального содержимого в пищев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нижение пищеводного клирен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меньшение резистентности слизистой пищев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376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эрозивная   рефлюкс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олезнь (Н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6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ый эзофаг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розивная ГЭРБ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en-US" sz="2800" spc="-1" strike="noStrike" u="sng">
                <a:solidFill>
                  <a:srgbClr val="66ff99"/>
                </a:solidFill>
                <a:uFillTx/>
                <a:latin typeface="Tahoma"/>
              </a:rPr>
              <a:t>37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щевод Барре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99"/>
                </a:solidFill>
                <a:latin typeface="Tahoma"/>
              </a:rPr>
              <a:t>3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Клиническая классификация  ГЭРБ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5661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семирный   конгрэсс  гастроэнтерологов ,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s-Angeles , USA , 200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тологически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ГЭР считается рефлюкс с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пищеводе мен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4,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или более </a:t>
            </a:r>
            <a:r>
              <a:rPr b="1" lang="ru-RU" sz="3200" spc="-1" strike="noStrike">
                <a:solidFill>
                  <a:srgbClr val="66ff99"/>
                </a:solidFill>
                <a:latin typeface="Tahoma"/>
              </a:rPr>
              <a:t>7.0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должительностью больше 5 минут, более 50 эпизодов в течение суток, общей продолжительностью более 1 часа и существующий не менее 3 меся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иник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ж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ргитация (срыгив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ы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и  за  груд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фа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22936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жога  и  регургитация (срыгивание) –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 раз в неделю – высоко достоверные критерии диагностики ГЭРБ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лассификация  изжоги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 степень  (легк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редко , 1 раз в 2-3 нед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средней тяжес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частая , возникает чаще 1 раза в нед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ь (тяжел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жога возникает ежедне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 другим симптомам ГЭРБ можно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тнести 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щущение кома в горле при глот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динофагия  ( боль при глотан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люнотечение (в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зультате вагального рефлек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к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увство раннего насыщ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яжесть в животе после е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теориз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оль в нижней челю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жение я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8:49:12Z</dcterms:created>
  <dc:creator>Dina</dc:creator>
  <dc:description/>
  <dc:language>en-US</dc:language>
  <cp:lastModifiedBy>Dina</cp:lastModifiedBy>
  <dcterms:modified xsi:type="dcterms:W3CDTF">2004-10-12T12:51:33Z</dcterms:modified>
  <cp:revision>46</cp:revision>
  <dc:subject/>
  <dc:title>ГАСТРОЭЗОФАГЕАЛЬНАЯ РЕФЛЮКСНАЯ БОЛЕЗНЬ </dc:title>
</cp:coreProperties>
</file>