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247C-7663-4724-8EE3-1C70A3559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97837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02760" y="4208400"/>
            <a:ext cx="97837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A757-CF37-43F7-98AF-B182DF7DE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47743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16120" y="2011680"/>
            <a:ext cx="47743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02760" y="4208400"/>
            <a:ext cx="47743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16120" y="4208400"/>
            <a:ext cx="47743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CC2B-916B-4198-A93D-5E1D01B0C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31500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10800" y="2011680"/>
            <a:ext cx="31500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818480" y="2011680"/>
            <a:ext cx="31500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02760" y="4208400"/>
            <a:ext cx="31500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510800" y="4208400"/>
            <a:ext cx="31500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818480" y="4208400"/>
            <a:ext cx="31500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7A10-03B2-43C2-87D7-375AE2B4B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26607-0704-484E-80A0-F30AC564D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02760" y="2011680"/>
            <a:ext cx="9783720" cy="420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5FE05-7FE0-441F-A0F1-1FB9A575B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9783720" cy="420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B1767-1309-4251-80E7-189BB23A7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4774320" cy="420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16120" y="2011680"/>
            <a:ext cx="4774320" cy="420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4B445-5F88-4E58-B648-2D36F6CF1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68A66-DAAA-4686-A1D6-D3A3FCAD8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202760" y="284040"/>
            <a:ext cx="978372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CDF17-84E0-4C68-A311-C4FC1858F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47743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16120" y="2011680"/>
            <a:ext cx="4774320" cy="420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202760" y="4208400"/>
            <a:ext cx="47743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1D288-E977-495F-AA99-909A71B5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02760" y="2011680"/>
            <a:ext cx="9783720" cy="420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1469-3F29-4726-B0B7-8F1A566F6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4774320" cy="420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16120" y="2011680"/>
            <a:ext cx="47743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16120" y="4208400"/>
            <a:ext cx="47743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E35EF-6D34-41A6-B01C-CDB0B8C1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47743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16120" y="2011680"/>
            <a:ext cx="47743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202760" y="4208400"/>
            <a:ext cx="97837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C8D56-D465-45F2-98F9-B4E9364A1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97837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202760" y="4208400"/>
            <a:ext cx="97837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55DB3-680B-4A69-AA56-CEE7F128A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47743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16120" y="2011680"/>
            <a:ext cx="47743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02760" y="4208400"/>
            <a:ext cx="47743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16120" y="4208400"/>
            <a:ext cx="47743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ED090-99A0-4540-A114-60C17D799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31500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10800" y="2011680"/>
            <a:ext cx="31500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818480" y="2011680"/>
            <a:ext cx="31500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202760" y="4208400"/>
            <a:ext cx="31500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510800" y="4208400"/>
            <a:ext cx="31500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7818480" y="4208400"/>
            <a:ext cx="31500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4143F-FE3A-4E83-AA2B-BF0F2E2B8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9783720" cy="420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9A7C-9566-4EE2-817A-95AAF6583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4774320" cy="420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16120" y="2011680"/>
            <a:ext cx="4774320" cy="420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A72C-E053-4E83-A995-54D561F06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F244-951E-478D-9C6A-06A7F406A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202760" y="284040"/>
            <a:ext cx="978372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271F-B5C6-4BFF-B226-42CBAD705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47743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16120" y="2011680"/>
            <a:ext cx="4774320" cy="420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02760" y="4208400"/>
            <a:ext cx="47743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7A46-FBA0-4363-A9E4-6F17F9FC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4774320" cy="420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16120" y="2011680"/>
            <a:ext cx="47743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16120" y="4208400"/>
            <a:ext cx="47743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A845-6E97-4D8D-B6D0-5A8E28966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47743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16120" y="2011680"/>
            <a:ext cx="47743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02760" y="4208400"/>
            <a:ext cx="97837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5DB3-A604-4C4F-A99D-6EB1ED34F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9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 hidden="1"/>
          <p:cNvSpPr/>
          <p:nvPr/>
        </p:nvSpPr>
        <p:spPr>
          <a:xfrm>
            <a:off x="360" y="176040"/>
            <a:ext cx="12188520" cy="164556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-6840" y="2058840"/>
            <a:ext cx="12195360" cy="182844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65760" y="2166480"/>
            <a:ext cx="11471040" cy="173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80000"/>
              </a:lnSpc>
              <a:buNone/>
            </a:pPr>
            <a:r>
              <a:rPr b="0" lang="ru-RU" sz="6000" spc="148" strike="noStrike" cap="all">
                <a:solidFill>
                  <a:srgbClr val="099bdd"/>
                </a:solidFill>
                <a:latin typeface="Corbel"/>
              </a:rPr>
              <a:t>Образец заголовка</a:t>
            </a:r>
            <a:endParaRPr b="0" lang="ru-RU" sz="6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1202400" y="6422760"/>
            <a:ext cx="3000600" cy="36468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05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5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5596560" y="6422760"/>
            <a:ext cx="50439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10658880" y="6422760"/>
            <a:ext cx="946080" cy="364680"/>
          </a:xfrm>
          <a:prstGeom prst="rect">
            <a:avLst/>
          </a:prstGeom>
          <a:noFill/>
          <a:ln w="0">
            <a:noFill/>
          </a:ln>
        </p:spPr>
        <p:txBody>
          <a:bodyPr lIns="4572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C0A0D434-3B5D-4184-9C3E-340B50A72E0E}" type="slidenum">
              <a:rPr b="0" lang="ru-RU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ru-RU" sz="1600" spc="-1" strike="noStrike">
              <a:solidFill>
                <a:srgbClr val="ffffff"/>
              </a:solidFill>
              <a:latin typeface="Corbel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ru-RU" sz="1600" spc="-1" strike="noStrike">
              <a:solidFill>
                <a:srgbClr val="ffffff"/>
              </a:solidFill>
              <a:latin typeface="Corbel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9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360" y="176040"/>
            <a:ext cx="12188520" cy="164556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ru-RU" sz="4000" spc="-1" strike="noStrike" cap="all">
                <a:solidFill>
                  <a:srgbClr val="099bdd"/>
                </a:solidFill>
                <a:latin typeface="Corbel"/>
              </a:rPr>
              <a:t>Образец заголовка</a:t>
            </a:r>
            <a:endParaRPr b="0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202760" y="2011680"/>
            <a:ext cx="9783720" cy="420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Образец текста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lvl="1" marL="411480" indent="-1828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Второй уровень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  <a:p>
            <a:pPr lvl="2" marL="640080" indent="-1828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Третий уровень</a:t>
            </a: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  <a:p>
            <a:pPr lvl="3" marL="868680" indent="-1828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Четвертый уровень</a:t>
            </a:r>
            <a:endParaRPr b="0" lang="ru-RU" sz="1600" spc="-1" strike="noStrike">
              <a:solidFill>
                <a:srgbClr val="ffffff"/>
              </a:solidFill>
              <a:latin typeface="Corbel"/>
            </a:endParaRPr>
          </a:p>
          <a:p>
            <a:pPr lvl="4" marL="1097280" indent="-1828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Пятый уровень</a:t>
            </a:r>
            <a:endParaRPr b="0" lang="ru-RU" sz="1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1202400" y="6422760"/>
            <a:ext cx="3000600" cy="36468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05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5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5596560" y="6422760"/>
            <a:ext cx="50439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10658880" y="6422760"/>
            <a:ext cx="946080" cy="364680"/>
          </a:xfrm>
          <a:prstGeom prst="rect">
            <a:avLst/>
          </a:prstGeom>
          <a:noFill/>
          <a:ln w="0">
            <a:noFill/>
          </a:ln>
        </p:spPr>
        <p:txBody>
          <a:bodyPr lIns="4572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7624EEF2-ED21-40A3-AC08-5F885AC9B355}" type="slidenum">
              <a:rPr b="0" lang="ru-RU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65760" y="2166480"/>
            <a:ext cx="11471040" cy="173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6000" spc="148" strike="noStrike" cap="all">
              <a:solidFill>
                <a:srgbClr val="099bdd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523880" y="3996360"/>
            <a:ext cx="9143640" cy="130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1" lang="ru-RU" sz="4000" spc="-1" strike="noStrike" cap="all">
                <a:solidFill>
                  <a:srgbClr val="099bdd"/>
                </a:solidFill>
                <a:latin typeface="Corbel"/>
              </a:rPr>
              <a:t>Причины развития отека мозга</a:t>
            </a:r>
            <a:br>
              <a:rPr sz="4000"/>
            </a:br>
            <a:endParaRPr b="0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9783720" cy="420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Отек головного мозга встречается в 20% случаев всех тяжелых черепно-мозговых травм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Кроме того, часто возникает при опухолях и инсультах.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Существует множество причин отека мозга: 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Задержка жидкости в паренхиме головного мозга (вазогенный, цитотоксический)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Нарушение ауторегуляции церебральных сосудов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Гипоксия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Такие симптомы отека мозга как набухание мозговой ткани, обусловленное травмой, может развиваться быстро, но обычно через 1-2 дня.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1" lang="ru-RU" sz="4000" spc="-1" strike="noStrike" cap="all">
                <a:solidFill>
                  <a:srgbClr val="099bdd"/>
                </a:solidFill>
                <a:latin typeface="Corbel"/>
              </a:rPr>
              <a:t>Клинические проявления</a:t>
            </a:r>
            <a:br>
              <a:rPr sz="4000"/>
            </a:br>
            <a:endParaRPr b="0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9783720" cy="420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Типичные симптомы: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Угрожающий жизни клинический синдром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Пострадавшим обычно по­казана интубация и искусственная вентиляция легких.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000" spc="-1" strike="noStrike" cap="all">
              <a:solidFill>
                <a:srgbClr val="099bdd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9783720" cy="420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1" lang="ru-RU" sz="2200" spc="-1" strike="noStrike">
                <a:solidFill>
                  <a:srgbClr val="ffffff"/>
                </a:solidFill>
                <a:latin typeface="Corbel"/>
              </a:rPr>
              <a:t>Что покажут снимки КТ головы при отеке головного мозга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Утрата четкости границы между серым и белым веществом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Увеличение объема паренхимы головного мозга, уменьшение объема субарахноидаль­ного пространства и цистерн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Белое вещество гиподенсивно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Наличие объемного воздействия с возможным вклинением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Рядом с зоной отека визуализируются интактные участки головного мозга (например, «сим­птом белого мозжечка»).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000" spc="-1" strike="noStrike" cap="all">
              <a:solidFill>
                <a:srgbClr val="099bdd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9783720" cy="420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1" lang="ru-RU" sz="2200" spc="-1" strike="noStrike">
                <a:solidFill>
                  <a:srgbClr val="ffffff"/>
                </a:solidFill>
                <a:latin typeface="Corbel"/>
              </a:rPr>
              <a:t>Информативна ли МРТ головного мозга при его отеке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Утрата четкости границы между серым и белым веществом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На Т1- ВИ, полученных с импульсной последовательностью «инверсия- восстановление», отсутствует типичный контраст между гипоинтенсив- ным серым веществом и гиперинтенсивным белым веществом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 </a:t>
            </a: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ИКД снижен при цитотоксическом отеке и повышен при вазогенном и интер­стициальном отеке головного мозга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Нарушение ликвороциркуляции.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000" spc="-1" strike="noStrike" cap="all">
              <a:solidFill>
                <a:srgbClr val="099bdd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9783720" cy="420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1" lang="ru-RU" sz="2200" spc="-1" strike="noStrike">
                <a:solidFill>
                  <a:srgbClr val="ffffff"/>
                </a:solidFill>
                <a:latin typeface="Corbel"/>
              </a:rPr>
              <a:t>Что хотел бы знать лечащий врач 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Объемное воздействие (степень смещения срединных структур в милли­метрах, симптомы вклинения, нарушение ликвороциркуляции, инсуль­ты)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Признаки смерти мозга.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4000"/>
          </a:bodyPr>
          <a:p>
            <a:pPr indent="0">
              <a:lnSpc>
                <a:spcPct val="85000"/>
              </a:lnSpc>
              <a:buNone/>
            </a:pPr>
            <a:r>
              <a:rPr b="1" lang="ru-RU" sz="4000" spc="-1" strike="noStrike" cap="all">
                <a:solidFill>
                  <a:srgbClr val="099bdd"/>
                </a:solidFill>
                <a:latin typeface="Corbel"/>
              </a:rPr>
              <a:t>Какие заболевания имеют симптомы, схожие с отеком головного мозга</a:t>
            </a:r>
            <a:br>
              <a:rPr sz="4000"/>
            </a:br>
            <a:endParaRPr b="0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9783720" cy="420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1" lang="ru-RU" sz="2200" spc="-1" strike="noStrike">
                <a:solidFill>
                  <a:srgbClr val="ffffff"/>
                </a:solidFill>
                <a:latin typeface="Corbel"/>
              </a:rPr>
              <a:t>Незавершенная миелинизация мозговой ткани: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 </a:t>
            </a: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- Четкая граница между серым и белым веществом, хотя борозды могут не прослеживаться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- Отсутствие асимметрии полушарий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000" spc="-1" strike="noStrike" cap="all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9783720" cy="420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1" lang="ru-RU" sz="2200" spc="-1" strike="noStrike">
                <a:solidFill>
                  <a:srgbClr val="ffffff"/>
                </a:solidFill>
                <a:latin typeface="Corbel"/>
              </a:rPr>
              <a:t>Лечение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Отек мозга подразумевает следующее лечение: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маннитол адекватно состоянию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Гемикраниотомия по по­казаниям.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Полосы">
  <a:themeElements>
    <a:clrScheme name="Полосы">
      <a:dk1>
        <a:srgbClr val="2c2c2c"/>
      </a:dk1>
      <a:lt1>
        <a:srgbClr val="ffffff"/>
      </a:lt1>
      <a:dk2>
        <a:srgbClr val="099bdd"/>
      </a:dk2>
      <a:lt2>
        <a:srgbClr val="f2f2f2"/>
      </a:lt2>
      <a:accent1>
        <a:srgbClr val="ffc000"/>
      </a:accent1>
      <a:accent2>
        <a:srgbClr val="a5d028"/>
      </a:accent2>
      <a:accent3>
        <a:srgbClr val="08cc78"/>
      </a:accent3>
      <a:accent4>
        <a:srgbClr val="f24099"/>
      </a:accent4>
      <a:accent5>
        <a:srgbClr val="828288"/>
      </a:accent5>
      <a:accent6>
        <a:srgbClr val="f56617"/>
      </a:accent6>
      <a:hlink>
        <a:srgbClr val="005dba"/>
      </a:hlink>
      <a:folHlink>
        <a:srgbClr val="6c606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Полосы">
  <a:themeElements>
    <a:clrScheme name="Полосы">
      <a:dk1>
        <a:srgbClr val="2c2c2c"/>
      </a:dk1>
      <a:lt1>
        <a:srgbClr val="ffffff"/>
      </a:lt1>
      <a:dk2>
        <a:srgbClr val="099bdd"/>
      </a:dk2>
      <a:lt2>
        <a:srgbClr val="f2f2f2"/>
      </a:lt2>
      <a:accent1>
        <a:srgbClr val="ffc000"/>
      </a:accent1>
      <a:accent2>
        <a:srgbClr val="a5d028"/>
      </a:accent2>
      <a:accent3>
        <a:srgbClr val="08cc78"/>
      </a:accent3>
      <a:accent4>
        <a:srgbClr val="f24099"/>
      </a:accent4>
      <a:accent5>
        <a:srgbClr val="828288"/>
      </a:accent5>
      <a:accent6>
        <a:srgbClr val="f56617"/>
      </a:accent6>
      <a:hlink>
        <a:srgbClr val="005dba"/>
      </a:hlink>
      <a:folHlink>
        <a:srgbClr val="6c606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M03090430[[fn=Окаймление]]</Template>
  <TotalTime>3</TotalTime>
  <Application>LibreOffice/7.4.7.2$Linux_X86_64 LibreOffice_project/40$Build-2</Application>
  <AppVersion>15.0000</AppVersion>
  <Words>180</Words>
  <Paragraphs>34</Paragraphs>
  <Company>NMH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1-09T08:25:56Z</dcterms:created>
  <dc:creator>Айдос Молдабеков</dc:creator>
  <dc:description/>
  <dc:language>en-US</dc:language>
  <cp:lastModifiedBy>Айдос Молдабеков</cp:lastModifiedBy>
  <dcterms:modified xsi:type="dcterms:W3CDTF">2019-11-09T08:29:51Z</dcterms:modified>
  <cp:revision>1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8</vt:r8>
  </property>
</Properties>
</file>