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DBD0-8CAA-460F-8C13-38D89D95C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01E6-5A6B-4DF9-9F48-12C5EFABD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765E-38D4-4824-A3B5-76D6D5579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101A-441C-4709-8DBC-7880B4877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6173-A165-4F8E-95C0-E001F8012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54CE-36B4-4484-AB43-76584E059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8201-55E9-42F9-B3D3-31035F5F2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C189-00DB-4CF3-AD45-79565CC08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82D2-DDC5-4F67-895D-45577E5DD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29A2-9540-4546-84F8-BF60B0879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FC89-6ADE-4B9B-B77D-D647C34BA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10A1-0572-45C8-B610-0F63E4EEB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2346-E8CB-402E-80BA-42AF3FE84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B622-1FE7-407E-B089-255768ED6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B1A4-AE08-4FAB-8A7B-463C54059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B233-B415-45BF-A7D9-58C25FC4D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F8FB-BA1C-475F-8774-6A5D332E0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B22E-E083-4075-A4FF-BFC1ED362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6420-1735-487F-A8AC-1E4CEEA71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3542-373C-4B53-B0F1-54076313F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D645-D483-4B04-A6FD-F132A0D4F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B21F-8A3F-4C2B-B571-C5012C2CC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CC84-288B-4913-A51E-7006CD2B7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173E-2162-4924-A0D1-86855E552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D0E6-5DC6-40D1-8EB3-FD9849EB6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1DE8-DA00-469D-BEBF-712B5DF5D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8A98-8C6F-46BF-ADAC-7AB07EDF8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B16F-5842-4B1E-83BC-0EA7AD737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263C-476D-46F7-BA95-E2401E190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9EEE-9BFC-40A8-AB46-08A512B0F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B27D-F8B0-4245-8A5E-A04CA5A5C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40B2-6FBD-420C-A255-9F40735F3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41A9-BECA-41D2-BF6C-C7C918D98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31FB-25BD-4FE2-A282-43C7E0C8B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D9FB-1E20-4D30-B9BD-DB9969288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53F0-3B9E-4FC1-A71C-A8341B708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F899-B8DC-4D2C-9B0F-E02368165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71B5-69E3-4E0E-ACAC-86F82A1E6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E476-EFCE-4EDC-B094-02B7FCD2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2095-DF37-4E02-8B3D-5EBA49164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99C1-BF94-496C-A88D-5EF16EDE6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19E1-6563-485F-A3EF-BF0A31C90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777B-F70D-4E8A-A333-D28D7F646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6686-1B3C-4AD4-8325-1A975F589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51E9-5B34-4120-BF9A-3B73A9EF1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A5B2-70D8-4A82-B2E6-9276D06BA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4A68-0A56-4007-9A83-3A4A22DBE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A97C-FA80-44D0-BEC1-616FD1D5C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AB3F-F3C8-4272-8B3D-4C8682848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58D2-4455-46B3-BE44-2C1E3EB75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2081-8C09-4FD0-8B49-B593EF1AD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023E-503D-4475-8494-F53FE3E4C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51C3-3F23-4387-ADCD-B1549036A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6E33-8EDB-434D-8E5E-A1F6D9544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9171-2879-4E7B-A366-CEFAF22B0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A0CE-53BD-46F5-8942-5CA470F84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5695-FF4E-499A-B33C-D8D557890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6D4E-08EE-43B5-A28E-49B497AB3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4EA9-ACA6-43CA-B557-26BF7429F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590B-D31D-4AA8-8CD7-2BE343B5F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5898-5D07-4AE1-813D-930A32F7D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6DA2-761D-48D2-8204-A0293738B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4DA0-FCD2-4457-9E3E-E2531835B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C895-A387-4735-893B-4A9EB6926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A638-D5F5-4B52-B92B-F59076FD8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D0E1-E2E2-4061-82FF-90E9CE402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DD99-9C55-4F61-8CF8-22FC1FE95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8001-54EA-4D4B-8DA7-F104343D9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05D9-6E88-45E3-9EE6-356432B76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C244-8961-4209-B512-EE6823AC1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A880-E7C7-4DD6-91C1-37A095083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59C5-D89F-4EA1-8045-CAF1EA460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5FF9-F269-423A-9AE4-468CDE108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FF7B-F731-4D0D-92E9-ECC78D850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A2AD-4B03-4B20-A2C6-4EB35FDDE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6F94-548A-43C8-8936-8CA4E1CB4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71F8-DF62-4EC9-88DA-DBC007E72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74BC-2701-42FC-BB3B-A68E0EE7A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4BAF-4CEB-4316-8F67-F905410DD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319B-4EEF-4896-B39B-479274DDE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0513-6490-4709-B063-91E3E140B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6760-3993-446C-9DC2-A5D99810A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37E6-8F3F-475A-AE8D-0903E5D44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463E-52DF-46F0-908D-CA733F716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0D76-1B5E-4587-9F27-8E16C7BBF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C64E-257B-4226-A3FA-DFBA58E778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78EF-2B49-46C1-9F03-4A80D10B8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94E3-E363-475E-9268-A66422576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09AB-3B65-4731-A1A5-981B7DAD5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4B561-CD64-4BBA-A68C-D8337257F9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80F6-0DA9-452D-814C-86DF5F15A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7C44-2D0F-4AB2-AF95-1461C8109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1C5B-BF63-47DD-B835-0F4183F4C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1548-67E5-4EB3-9E5A-0D5A3863F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01A2-15F6-4AA6-9033-7759B9D53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3531-DDE8-4F52-8F8C-EC8F78761B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tn_chapter_contents"/>
          <p:cNvPicPr/>
          <p:nvPr/>
        </p:nvPicPr>
        <p:blipFill>
          <a:blip r:embed="rId2"/>
          <a:stretch/>
        </p:blipFill>
        <p:spPr>
          <a:xfrm>
            <a:off x="8001000" y="114480"/>
            <a:ext cx="1000080" cy="342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Band_with_swallow_10b"/>
          <p:cNvPicPr/>
          <p:nvPr/>
        </p:nvPicPr>
        <p:blipFill>
          <a:blip r:embed="rId3"/>
          <a:stretch/>
        </p:blipFill>
        <p:spPr>
          <a:xfrm>
            <a:off x="-4680" y="-27000"/>
            <a:ext cx="9153360" cy="1076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btn_chapter_contents"/>
          <p:cNvPicPr/>
          <p:nvPr/>
        </p:nvPicPr>
        <p:blipFill>
          <a:blip r:embed="rId4"/>
          <a:stretch/>
        </p:blipFill>
        <p:spPr>
          <a:xfrm>
            <a:off x="7988400" y="127080"/>
            <a:ext cx="1000080" cy="34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009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9C6B-7CF2-4E68-9B01-3085B1FE1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Band_with_swallow_10b"/>
          <p:cNvPicPr/>
          <p:nvPr/>
        </p:nvPicPr>
        <p:blipFill>
          <a:blip r:embed="rId2"/>
          <a:stretch/>
        </p:blipFill>
        <p:spPr>
          <a:xfrm>
            <a:off x="-4680" y="-27000"/>
            <a:ext cx="9153360" cy="107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31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title2-AZAR_BEG_3ED"/>
          <p:cNvPicPr/>
          <p:nvPr/>
        </p:nvPicPr>
        <p:blipFill>
          <a:blip r:embed="rId1"/>
          <a:stretch/>
        </p:blipFill>
        <p:spPr>
          <a:xfrm>
            <a:off x="3024360" y="423720"/>
            <a:ext cx="3047760" cy="2374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746360" y="4038480"/>
            <a:ext cx="5649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larendon Condensed"/>
              </a:rPr>
              <a:t>Teacher Resource Dis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larendon Condensed"/>
              </a:rPr>
              <a:t>Slide shows for use wit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larendon Condensed"/>
              </a:rPr>
              <a:t>PowerPoint presentation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logo"/>
          <p:cNvPicPr/>
          <p:nvPr/>
        </p:nvPicPr>
        <p:blipFill>
          <a:blip r:embed="rId2"/>
          <a:stretch/>
        </p:blipFill>
        <p:spPr>
          <a:xfrm>
            <a:off x="990720" y="5181480"/>
            <a:ext cx="790560" cy="933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839680" y="2971800"/>
            <a:ext cx="362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larendon Condensed"/>
              </a:rPr>
              <a:t>Betty Schrampfer Az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larendon Condensed"/>
              </a:rPr>
              <a:t>Stacy A. Ha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227680" y="594360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larendon Condensed"/>
              </a:rPr>
              <a:t>Laurette Poulos Simm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200040" y="6461280"/>
            <a:ext cx="2710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07 by Pearson Education, Inc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DF14-8D38-4642-B3FC-1F0BB9ABB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09480" y="1523880"/>
            <a:ext cx="8001000" cy="131292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ela is leaving at noon tomorr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7"/>
          <p:cNvPicPr/>
          <p:nvPr/>
        </p:nvPicPr>
        <p:blipFill>
          <a:blip r:embed="rId1"/>
          <a:stretch/>
        </p:blipFill>
        <p:spPr>
          <a:xfrm>
            <a:off x="3352680" y="2895480"/>
            <a:ext cx="2286000" cy="342900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197" name="Text Box 6"/>
          <p:cNvSpPr/>
          <p:nvPr/>
        </p:nvSpPr>
        <p:spPr>
          <a:xfrm>
            <a:off x="914400" y="22860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USING THE PRESENT PROGRESSIVE TO EXPRESS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7315-9935-4383-9353-06CB737DF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"/>
          <p:cNvSpPr/>
          <p:nvPr/>
        </p:nvSpPr>
        <p:spPr>
          <a:xfrm>
            <a:off x="2438280" y="388620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77640" y="1630440"/>
            <a:ext cx="82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Sela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 going to leav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oon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379440" y="269712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Sela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 leav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noon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824560" y="3881520"/>
            <a:ext cx="350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e mean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914400" y="22860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USING THE PRESENT PROGRESSIVE TO EXPRESS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72FA-545B-410C-91C9-2C321897D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438280" y="388620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74760" y="1630440"/>
            <a:ext cx="82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They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 going t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f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okyo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76560" y="2697120"/>
            <a:ext cx="72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They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 fl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okyo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824560" y="3881520"/>
            <a:ext cx="350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e mean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914400" y="22860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USING THE PRESENT PROGRESSIVE TO EXPRESS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E62E-660C-4F6F-97AF-804908FF5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438280" y="2057040"/>
            <a:ext cx="1447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r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e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05160" y="2057040"/>
            <a:ext cx="1600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p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t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744640" y="1371600"/>
            <a:ext cx="35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Verb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914400" y="22860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USING THE PRESENT PROGRESSIVE TO EXPRESS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308A-245E-46FD-B551-B236B7650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048120" y="2971800"/>
            <a:ext cx="601956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3520" y="1066680"/>
            <a:ext cx="8305560" cy="175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357360" y="1295280"/>
            <a:ext cx="520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going to fly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Ghana on Mond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961800" y="495288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sent progress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733920" y="318456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ying t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hana on Mon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5715000" y="378288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9"/>
          <p:cNvPicPr/>
          <p:nvPr/>
        </p:nvPicPr>
        <p:blipFill>
          <a:blip r:embed="rId1"/>
          <a:stretch/>
        </p:blipFill>
        <p:spPr>
          <a:xfrm>
            <a:off x="449280" y="1905120"/>
            <a:ext cx="2674800" cy="37335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223" name="Line 11"/>
          <p:cNvSpPr/>
          <p:nvPr/>
        </p:nvSpPr>
        <p:spPr>
          <a:xfrm>
            <a:off x="3581280" y="4392720"/>
            <a:ext cx="4496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3603240" y="3157560"/>
            <a:ext cx="21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7995960" y="38703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4AF0-D911-4798-AD9B-D87D0528E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533520" y="1066680"/>
            <a:ext cx="8305560" cy="1752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457200" y="1447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going to leave at 9:00 tomorr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590200" y="380988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sent progress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533520" y="29718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leaving at 9:00 tomorr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609480" y="3610080"/>
            <a:ext cx="769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8225280" y="30909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E6A3-A497-4313-8B9D-AC52907E2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10"/>
          <p:cNvPicPr/>
          <p:nvPr/>
        </p:nvPicPr>
        <p:blipFill>
          <a:blip r:embed="rId1"/>
          <a:stretch/>
        </p:blipFill>
        <p:spPr>
          <a:xfrm>
            <a:off x="2438280" y="3505320"/>
            <a:ext cx="3733920" cy="302724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237" name="Rectangle 6"/>
          <p:cNvSpPr/>
          <p:nvPr/>
        </p:nvSpPr>
        <p:spPr>
          <a:xfrm>
            <a:off x="762120" y="1219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going to meet her at the bus stop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143000" y="19051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am meeting her at the bus sto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1219320" y="2514600"/>
            <a:ext cx="65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2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7698240" y="19051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4"/>
          <p:cNvSpPr/>
          <p:nvPr/>
        </p:nvSpPr>
        <p:spPr>
          <a:xfrm>
            <a:off x="2513880" y="2590920"/>
            <a:ext cx="40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sent progress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C731-E34C-44DB-8DD9-4AB43EE03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1753200" y="1523880"/>
            <a:ext cx="5278680" cy="143460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t’s going to be 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ice day tomorrow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6"/>
          <p:cNvPicPr/>
          <p:nvPr/>
        </p:nvPicPr>
        <p:blipFill>
          <a:blip r:embed="rId1"/>
          <a:stretch/>
        </p:blipFill>
        <p:spPr>
          <a:xfrm>
            <a:off x="1371600" y="3505320"/>
            <a:ext cx="6095880" cy="25905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896B-B432-48C2-B0BD-6293C42C0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915120" y="3094200"/>
            <a:ext cx="218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now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yesterda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914400" y="2025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yesterda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tomorr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476000" y="140184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5712120" y="14018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4856400" y="3124080"/>
            <a:ext cx="331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ing to sn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FC5B-D63A-4D4D-B0F2-838DEC4BA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609480" y="4419720"/>
            <a:ext cx="286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n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last nigh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380880" y="2025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yesterda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morn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tomorrow mor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231840" y="2590920"/>
            <a:ext cx="806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yesterday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even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tomorrow eve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157320" y="3124080"/>
            <a:ext cx="75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las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nigh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         tomorrow nigh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1476000" y="140184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2120" y="14018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4664520" y="4419720"/>
            <a:ext cx="366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going to g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tomorrow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nigh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0" y="1411200"/>
            <a:ext cx="9144000" cy="520560"/>
          </a:xfrm>
          <a:prstGeom prst="rect">
            <a:avLst/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57200" y="20034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1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Future time: using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be going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2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Using the present progressive to express futur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3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Words used for past time and futur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4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Using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a couple of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a few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with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ago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(past) and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5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Using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today, tonight,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this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morning, afternoon,... 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6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Future time: using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w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7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Asking questions with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w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8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Verb summary: present, past, and fu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313a"/>
                </a:solidFill>
                <a:latin typeface="Arial"/>
              </a:rPr>
              <a:t>10-9   Verb summary: forms of </a:t>
            </a:r>
            <a:r>
              <a:rPr b="0" i="1" lang="en-US" sz="2400" spc="-1" strike="noStrike">
                <a:solidFill>
                  <a:srgbClr val="c7313a"/>
                </a:solidFill>
                <a:latin typeface="Arial"/>
              </a:rPr>
              <a:t>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Chapter_10_ copy"/>
          <p:cNvPicPr/>
          <p:nvPr/>
        </p:nvPicPr>
        <p:blipFill>
          <a:blip r:embed="rId1"/>
          <a:srcRect l="0" t="-1611" r="0" b="0"/>
          <a:stretch/>
        </p:blipFill>
        <p:spPr>
          <a:xfrm>
            <a:off x="1085760" y="73080"/>
            <a:ext cx="356256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3298-8646-462E-914C-39F2A7B47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914400" y="2025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last week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next wee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1476000" y="140184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5712120" y="14018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532800" y="3094200"/>
            <a:ext cx="334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last week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5203800" y="3124080"/>
            <a:ext cx="300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’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ing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do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next we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6C04-0F39-4CEC-AD11-68B119C6C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2057400" y="1981080"/>
            <a:ext cx="685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month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mon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year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y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weekend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eeke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spring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sp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1476000" y="13716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410440" y="13716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465840" y="27003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la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60020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594360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10560" y="4435560"/>
            <a:ext cx="300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nt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last spr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5029200" y="446580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ing to g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</a:t>
            </a:r>
            <a:r>
              <a:rPr b="1" i="1" lang="en-US" sz="3200" spc="-1" strike="noStrike">
                <a:solidFill>
                  <a:srgbClr val="006600"/>
                </a:solidFill>
                <a:latin typeface="Arial"/>
              </a:rPr>
              <a:t>next spring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4717440" y="2666880"/>
            <a:ext cx="12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n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DC9D-2805-4BAA-AD79-D94F51F8B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04920" y="1676520"/>
            <a:ext cx="929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... minutes ag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 ... minutes (from no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...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ay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 ... days (from no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...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eeks ago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 ... weeks (from no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...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th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 ... months (from no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...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year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g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 ... years (from now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476000" y="12492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5486760" y="12492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380520" y="4800600"/>
            <a:ext cx="331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sh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dishes</a:t>
            </a: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 t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minutes ago</a:t>
            </a: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4267080" y="48006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going to wash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t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n five minu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WORDS USED FOR PAST TIME AND FUTURE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D919-AE65-4107-98F1-4542C3693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608040" y="1600200"/>
            <a:ext cx="799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went to school ____ Thursd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5046480" y="160020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10"/>
          <p:cNvPicPr/>
          <p:nvPr/>
        </p:nvPicPr>
        <p:blipFill>
          <a:blip r:embed="rId1"/>
          <a:stretch/>
        </p:blipFill>
        <p:spPr>
          <a:xfrm>
            <a:off x="685800" y="2895480"/>
            <a:ext cx="4114800" cy="23799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292" name="AutoShape 8"/>
          <p:cNvSpPr/>
          <p:nvPr/>
        </p:nvSpPr>
        <p:spPr>
          <a:xfrm>
            <a:off x="5867280" y="2971800"/>
            <a:ext cx="2514600" cy="2438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terda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morrow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BC41-5CF5-440C-93A1-5B9122736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609480" y="129528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going to arrive ________ weekend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6174000" y="1295280"/>
            <a:ext cx="11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10"/>
          <p:cNvPicPr/>
          <p:nvPr/>
        </p:nvPicPr>
        <p:blipFill>
          <a:blip r:embed="rId1"/>
          <a:stretch/>
        </p:blipFill>
        <p:spPr>
          <a:xfrm>
            <a:off x="1447920" y="2743200"/>
            <a:ext cx="2933640" cy="33526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298" name="AutoShape 8"/>
          <p:cNvSpPr/>
          <p:nvPr/>
        </p:nvSpPr>
        <p:spPr>
          <a:xfrm>
            <a:off x="5181480" y="2895480"/>
            <a:ext cx="2514600" cy="2438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terda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morrow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1A96-50A1-483D-B2E6-CBE4772CD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2061720" y="1447920"/>
            <a:ext cx="503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going to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y cards 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4576320" y="2057400"/>
            <a:ext cx="229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morro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7" descr="10"/>
          <p:cNvPicPr/>
          <p:nvPr/>
        </p:nvPicPr>
        <p:blipFill>
          <a:blip r:embed="rId1"/>
          <a:stretch/>
        </p:blipFill>
        <p:spPr>
          <a:xfrm>
            <a:off x="4267080" y="3200400"/>
            <a:ext cx="4191120" cy="29811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04" name="AutoShape 8"/>
          <p:cNvSpPr/>
          <p:nvPr/>
        </p:nvSpPr>
        <p:spPr>
          <a:xfrm>
            <a:off x="838080" y="3429000"/>
            <a:ext cx="2514600" cy="2438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terda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morrow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0B38-D8CC-4C6E-94BF-38CD9041B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462240" y="1447920"/>
            <a:ext cx="545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went to see a play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New York 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355200" y="2041560"/>
            <a:ext cx="23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ter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10"/>
          <p:cNvPicPr/>
          <p:nvPr/>
        </p:nvPicPr>
        <p:blipFill>
          <a:blip r:embed="rId1"/>
          <a:stretch/>
        </p:blipFill>
        <p:spPr>
          <a:xfrm>
            <a:off x="6324480" y="2133720"/>
            <a:ext cx="2181240" cy="32763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10" name="AutoShape 8"/>
          <p:cNvSpPr/>
          <p:nvPr/>
        </p:nvSpPr>
        <p:spPr>
          <a:xfrm>
            <a:off x="1371600" y="3429000"/>
            <a:ext cx="2514600" cy="2438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terda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morrow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3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1985-FBCB-45A3-A30A-71D025A5D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926000" y="1295280"/>
            <a:ext cx="5290560" cy="143460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 arrived here a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w months ago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10"/>
          <p:cNvPicPr/>
          <p:nvPr/>
        </p:nvPicPr>
        <p:blipFill>
          <a:blip r:embed="rId1"/>
          <a:stretch/>
        </p:blipFill>
        <p:spPr>
          <a:xfrm>
            <a:off x="3429000" y="3048120"/>
            <a:ext cx="2220840" cy="35812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15" name="Text Box 6"/>
          <p:cNvSpPr/>
          <p:nvPr/>
        </p:nvSpPr>
        <p:spPr>
          <a:xfrm>
            <a:off x="1009800" y="15228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COUPLE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FEW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G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ST)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U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97E2-DD12-49D1-B8C1-E73E4F610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1676520" y="4876920"/>
            <a:ext cx="5790960" cy="7617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77280" y="1585800"/>
            <a:ext cx="69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Ed visited m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year a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80160" y="2652840"/>
            <a:ext cx="762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I am going to be there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i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five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minut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2057400" y="48769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s with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 ago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 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77280" y="3840120"/>
            <a:ext cx="76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She went to the doctor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four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days ag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1009800" y="15228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COUPLE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FEW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G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ST)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U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1C0C-7661-49A0-8F5D-BB395F7EE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"/>
          <p:cNvSpPr/>
          <p:nvPr/>
        </p:nvSpPr>
        <p:spPr>
          <a:xfrm>
            <a:off x="2438280" y="3886200"/>
            <a:ext cx="403884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378360" y="1585800"/>
            <a:ext cx="78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We saw them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coup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 months ag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79080" y="2652840"/>
            <a:ext cx="764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He’s going to go home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couple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month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2590920" y="3886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couple 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1009800" y="15228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COUPLE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FEW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G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ST)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U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B10A-911D-4F80-BAC2-54289D237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85800" y="1371600"/>
            <a:ext cx="7315200" cy="143460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m going to g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wntown tomorrow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10"/>
          <p:cNvPicPr/>
          <p:nvPr/>
        </p:nvPicPr>
        <p:blipFill>
          <a:blip r:embed="rId1"/>
          <a:stretch/>
        </p:blipFill>
        <p:spPr>
          <a:xfrm>
            <a:off x="3352680" y="3200400"/>
            <a:ext cx="1963800" cy="302904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136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 GOING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D162-0091-486A-92F6-A3C322AAE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"/>
          <p:cNvSpPr/>
          <p:nvPr/>
        </p:nvSpPr>
        <p:spPr>
          <a:xfrm>
            <a:off x="2133720" y="3886200"/>
            <a:ext cx="510516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2369880" y="3886200"/>
            <a:ext cx="44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fe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mall numb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77280" y="1585800"/>
            <a:ext cx="68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They visited m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f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weeks ag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378000" y="2652840"/>
            <a:ext cx="87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She’s going to have a bab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i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a few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week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1009800" y="15228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COUPLE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FEW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G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ST)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U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8B81-03E4-4799-982A-6F4E5D19B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378720" y="158580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) Jim and I are going to get married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d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615960" y="2819520"/>
            <a:ext cx="81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finish college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few more 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y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1828800" y="4191120"/>
            <a:ext cx="5410080" cy="14475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905120" y="4572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in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1009800" y="152280"/>
            <a:ext cx="714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COUPLE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 FEW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G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ST)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U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5105520" y="4343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 tim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4876920" y="4572000"/>
            <a:ext cx="2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7"/>
          <p:cNvSpPr/>
          <p:nvPr/>
        </p:nvSpPr>
        <p:spPr>
          <a:xfrm>
            <a:off x="4572000" y="49528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4D86-9402-497B-A090-A40864FF0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905120" y="3657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went swimming  __________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1981080" y="4313160"/>
            <a:ext cx="1067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uple of hou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5946120" y="426708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1"/>
          <p:cNvSpPr/>
          <p:nvPr/>
        </p:nvSpPr>
        <p:spPr>
          <a:xfrm>
            <a:off x="3886200" y="12193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2"/>
          <p:cNvSpPr/>
          <p:nvPr/>
        </p:nvSpPr>
        <p:spPr>
          <a:xfrm>
            <a:off x="2895480" y="2666880"/>
            <a:ext cx="373392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ouple of hou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401B-D95E-425C-9CDD-53FDD19D3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1676520" y="3657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is going to go dancing  __________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2514600" y="4267080"/>
            <a:ext cx="1066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uple of hou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1"/>
          <p:cNvSpPr/>
          <p:nvPr/>
        </p:nvSpPr>
        <p:spPr>
          <a:xfrm>
            <a:off x="3886200" y="12193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1830960" y="425124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4"/>
          <p:cNvSpPr/>
          <p:nvPr/>
        </p:nvSpPr>
        <p:spPr>
          <a:xfrm>
            <a:off x="2895480" y="2666880"/>
            <a:ext cx="373392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ouple of hou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6B63-0CD1-447C-90BF-A454D89D3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1981080" y="36576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vie is going to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rt _____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124080" y="4343400"/>
            <a:ext cx="1067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3"/>
          <p:cNvSpPr/>
          <p:nvPr/>
        </p:nvSpPr>
        <p:spPr>
          <a:xfrm>
            <a:off x="3618000" y="4292640"/>
            <a:ext cx="33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ew minu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4"/>
          <p:cNvSpPr/>
          <p:nvPr/>
        </p:nvSpPr>
        <p:spPr>
          <a:xfrm>
            <a:off x="3886200" y="12193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5"/>
          <p:cNvSpPr/>
          <p:nvPr/>
        </p:nvSpPr>
        <p:spPr>
          <a:xfrm>
            <a:off x="2895480" y="2666880"/>
            <a:ext cx="373392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 few min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8110-57DA-4320-9071-49E86EEC2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35053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saw each other ___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5410080" y="35812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 yea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4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7492320" y="353052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6"/>
          <p:cNvSpPr/>
          <p:nvPr/>
        </p:nvSpPr>
        <p:spPr>
          <a:xfrm>
            <a:off x="3886200" y="12193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o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7"/>
          <p:cNvSpPr/>
          <p:nvPr/>
        </p:nvSpPr>
        <p:spPr>
          <a:xfrm>
            <a:off x="3200400" y="25909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 yea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4666-319B-4A51-B968-15D499A61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1326960" y="1539720"/>
            <a:ext cx="6640920" cy="143460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 are studying English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is morning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10"/>
          <p:cNvPicPr/>
          <p:nvPr/>
        </p:nvPicPr>
        <p:blipFill>
          <a:blip r:embed="rId1"/>
          <a:stretch/>
        </p:blipFill>
        <p:spPr>
          <a:xfrm>
            <a:off x="2362320" y="3270240"/>
            <a:ext cx="4495680" cy="29782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75" name="Text Box 6"/>
          <p:cNvSpPr/>
          <p:nvPr/>
        </p:nvSpPr>
        <p:spPr>
          <a:xfrm>
            <a:off x="1038240" y="15228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DAY, TONIGH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RNING,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NOON, EVENING, WEEK, MONTH,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5A0D-F573-4ED8-93CA-5991B1301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3201480" y="1143000"/>
            <a:ext cx="21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PRES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762120" y="1828800"/>
            <a:ext cx="40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ght now, it’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762120" y="2438280"/>
            <a:ext cx="58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re in our English clas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98280" y="3124080"/>
            <a:ext cx="90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) We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are study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nglish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this morn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3124080" y="1676520"/>
            <a:ext cx="525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10"/>
          <p:cNvPicPr/>
          <p:nvPr/>
        </p:nvPicPr>
        <p:blipFill>
          <a:blip r:embed="rId1"/>
          <a:stretch/>
        </p:blipFill>
        <p:spPr>
          <a:xfrm>
            <a:off x="2514600" y="4114800"/>
            <a:ext cx="3809880" cy="25239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83" name="Text Box 13"/>
          <p:cNvSpPr/>
          <p:nvPr/>
        </p:nvSpPr>
        <p:spPr>
          <a:xfrm>
            <a:off x="1038240" y="15228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DAY, TONIGH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RNING,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NOON, EVENING, WEEK, MONTH,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D498-8EA4-412B-9175-962FE541A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659040" y="106668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P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066320" y="1676520"/>
            <a:ext cx="42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ght now, it’s 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066680" y="2286000"/>
            <a:ext cx="64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e went to the library at 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M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383400" y="289548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) Lee 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w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the library 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this even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3124080" y="1676520"/>
            <a:ext cx="525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3"/>
          <p:cNvPicPr/>
          <p:nvPr/>
        </p:nvPicPr>
        <p:blipFill>
          <a:blip r:embed="rId1"/>
          <a:stretch/>
        </p:blipFill>
        <p:spPr>
          <a:xfrm>
            <a:off x="3403440" y="3733920"/>
            <a:ext cx="1892520" cy="28191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391" name="Text Box 13"/>
          <p:cNvSpPr/>
          <p:nvPr/>
        </p:nvSpPr>
        <p:spPr>
          <a:xfrm>
            <a:off x="1038240" y="15228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DAY, TONIGH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RNING,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NOON, EVENING, WEEK, MONTH,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1E0D-92F2-4F8B-86E1-3E81815BB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3124440" y="11430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990360" y="1828800"/>
            <a:ext cx="41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ght now, it’s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913680" y="2438280"/>
            <a:ext cx="51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lay begins at 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.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309960" y="3124080"/>
            <a:ext cx="738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) I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going to g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the play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thi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even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1038240" y="15228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DAY, TONIGH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RNING,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NOON, EVENING, WEEK, MONTH,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6687-DA92-4CAF-988E-86CF75768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3"/>
          <p:cNvSpPr/>
          <p:nvPr/>
        </p:nvSpPr>
        <p:spPr>
          <a:xfrm>
            <a:off x="1143000" y="3962520"/>
            <a:ext cx="6858000" cy="2286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00960" y="144792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m going to g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town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99880" y="2262240"/>
            <a:ext cx="75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Javier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 going to b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chool tod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01680" y="3078000"/>
            <a:ext cx="74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They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 going t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com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la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676520" y="4038480"/>
            <a:ext cx="60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be going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xpresses fu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2536920" y="4724280"/>
            <a:ext cx="11206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3298680" y="474516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688560" y="5029200"/>
            <a:ext cx="367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go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infini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 GOING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0CBA-9396-4D5B-AA2C-C320A50FC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533520" y="1676520"/>
            <a:ext cx="7924680" cy="41148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4726080" y="1996920"/>
            <a:ext cx="27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 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1447920" y="26668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onigh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afterno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eve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3278520" y="19969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T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916200" y="198108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ENT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4724280" y="2666880"/>
            <a:ext cx="351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wee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weeke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mon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his ye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7"/>
          <p:cNvSpPr/>
          <p:nvPr/>
        </p:nvSpPr>
        <p:spPr>
          <a:xfrm>
            <a:off x="1038240" y="15228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ODAY, TONIGH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ORNING,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FTERNOON, EVENING, WEEK, MONTH,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86F3-0C8F-43BD-B36C-97FDEB99F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0"/>
          <p:cNvSpPr/>
          <p:nvPr/>
        </p:nvSpPr>
        <p:spPr>
          <a:xfrm>
            <a:off x="3581280" y="121932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9"/>
          <p:cNvPicPr/>
          <p:nvPr/>
        </p:nvPicPr>
        <p:blipFill>
          <a:blip r:embed="rId1"/>
          <a:stretch/>
        </p:blipFill>
        <p:spPr>
          <a:xfrm>
            <a:off x="2666880" y="3809880"/>
            <a:ext cx="2667240" cy="24735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409" name="Text Box 4"/>
          <p:cNvSpPr/>
          <p:nvPr/>
        </p:nvSpPr>
        <p:spPr>
          <a:xfrm>
            <a:off x="3657600" y="129528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it m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ndm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228600" y="1600200"/>
            <a:ext cx="2895480" cy="1752480"/>
          </a:xfrm>
          <a:prstGeom prst="wedgeRoundRectCallout">
            <a:avLst>
              <a:gd name="adj1" fmla="val 38814"/>
              <a:gd name="adj2" fmla="val 83513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do earlier this yea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6"/>
          <p:cNvSpPr/>
          <p:nvPr/>
        </p:nvSpPr>
        <p:spPr>
          <a:xfrm>
            <a:off x="6019920" y="2895480"/>
            <a:ext cx="2895480" cy="1447920"/>
          </a:xfrm>
          <a:prstGeom prst="wedgeRoundRectCallout">
            <a:avLst>
              <a:gd name="adj1" fmla="val -78236"/>
              <a:gd name="adj2" fmla="val 58550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6172560" y="2971800"/>
            <a:ext cx="24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visited m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mo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3"/>
          <p:cNvSpPr/>
          <p:nvPr/>
        </p:nvSpPr>
        <p:spPr>
          <a:xfrm>
            <a:off x="6172200" y="29718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1B0A-BAEB-4323-BCC8-55D55BBF7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28600" y="1752480"/>
            <a:ext cx="2971800" cy="2210040"/>
          </a:xfrm>
          <a:prstGeom prst="wedgeRoundRectCallout">
            <a:avLst>
              <a:gd name="adj1" fmla="val 51069"/>
              <a:gd name="adj2" fmla="val 63935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mething you are doing this yea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5791320" y="2514600"/>
            <a:ext cx="3124080" cy="1219320"/>
          </a:xfrm>
          <a:prstGeom prst="wedgeRoundRectCallout">
            <a:avLst>
              <a:gd name="adj1" fmla="val -39990"/>
              <a:gd name="adj2" fmla="val 94532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5943600" y="25909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ta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tar less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9"/>
          <p:cNvSpPr/>
          <p:nvPr/>
        </p:nvSpPr>
        <p:spPr>
          <a:xfrm>
            <a:off x="3581280" y="1219320"/>
            <a:ext cx="25146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733920" y="12952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guita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4" descr="9"/>
          <p:cNvPicPr/>
          <p:nvPr/>
        </p:nvPicPr>
        <p:blipFill>
          <a:blip r:embed="rId1"/>
          <a:stretch/>
        </p:blipFill>
        <p:spPr>
          <a:xfrm>
            <a:off x="3352680" y="3962520"/>
            <a:ext cx="2667240" cy="247320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423" name="Text Box 15"/>
          <p:cNvSpPr/>
          <p:nvPr/>
        </p:nvSpPr>
        <p:spPr>
          <a:xfrm>
            <a:off x="5943600" y="259092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D8CB-D80C-4ABB-BD96-3CA97DB07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228600" y="1447920"/>
            <a:ext cx="3200400" cy="2133360"/>
          </a:xfrm>
          <a:prstGeom prst="wedgeRoundRectCallout">
            <a:avLst>
              <a:gd name="adj1" fmla="val 29958"/>
              <a:gd name="adj2" fmla="val 64435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mething you are going to do this yea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9"/>
          <p:cNvSpPr/>
          <p:nvPr/>
        </p:nvSpPr>
        <p:spPr>
          <a:xfrm>
            <a:off x="5562720" y="2895480"/>
            <a:ext cx="3276360" cy="1752840"/>
          </a:xfrm>
          <a:prstGeom prst="wedgeRoundRectCallout">
            <a:avLst>
              <a:gd name="adj1" fmla="val -61773"/>
              <a:gd name="adj2" fmla="val 44745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5715000" y="2971800"/>
            <a:ext cx="291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e fr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ing sch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5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4"/>
          <p:cNvSpPr/>
          <p:nvPr/>
        </p:nvSpPr>
        <p:spPr>
          <a:xfrm>
            <a:off x="3886200" y="1219320"/>
            <a:ext cx="32004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961440" y="1295280"/>
            <a:ext cx="309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duate from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rsing sch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8" descr="9"/>
          <p:cNvPicPr/>
          <p:nvPr/>
        </p:nvPicPr>
        <p:blipFill>
          <a:blip r:embed="rId1"/>
          <a:stretch/>
        </p:blipFill>
        <p:spPr>
          <a:xfrm>
            <a:off x="2438280" y="3962520"/>
            <a:ext cx="2667240" cy="247320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432" name="Text Box 19"/>
          <p:cNvSpPr/>
          <p:nvPr/>
        </p:nvSpPr>
        <p:spPr>
          <a:xfrm>
            <a:off x="5867280" y="297180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097E-FAB0-4F75-8C4D-F7BF3AA2D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399960" y="2590920"/>
            <a:ext cx="4781520" cy="143460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y will arrive 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0:00 tomorrow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10"/>
          <p:cNvPicPr/>
          <p:nvPr/>
        </p:nvPicPr>
        <p:blipFill>
          <a:blip r:embed="rId1"/>
          <a:stretch/>
        </p:blipFill>
        <p:spPr>
          <a:xfrm>
            <a:off x="5562720" y="1676520"/>
            <a:ext cx="3200400" cy="41907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436" name="Text Box 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9A1D-3558-4799-A763-6AB49D026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9"/>
          <p:cNvSpPr/>
          <p:nvPr/>
        </p:nvSpPr>
        <p:spPr>
          <a:xfrm>
            <a:off x="2590920" y="4419720"/>
            <a:ext cx="3962160" cy="12189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76920" y="2027160"/>
            <a:ext cx="7179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arr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10:00 tomorr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e going to arr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10: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3048840" y="4495680"/>
            <a:ext cx="31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e mea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asicall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619560" y="14619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49D9-0A1D-4960-B4B4-72534B580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336600" y="205740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CORRECT: Jan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se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vie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3505320" y="303228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vi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7"/>
          <p:cNvSpPr/>
          <p:nvPr/>
        </p:nvSpPr>
        <p:spPr>
          <a:xfrm>
            <a:off x="5149800" y="2819520"/>
            <a:ext cx="1327320" cy="1143000"/>
          </a:xfrm>
          <a:prstGeom prst="pie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3473280" y="417528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vi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9"/>
          <p:cNvSpPr/>
          <p:nvPr/>
        </p:nvSpPr>
        <p:spPr>
          <a:xfrm>
            <a:off x="4419720" y="3962520"/>
            <a:ext cx="1295280" cy="1066680"/>
          </a:xfrm>
          <a:prstGeom prst="pie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383680" y="29224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8383680" y="40989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1224360" y="304812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1224360" y="419112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REC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619560" y="14619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C6F7-622C-47B2-84B7-A3C442E91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304920" y="2560680"/>
            <a:ext cx="77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CORRECT: Jan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co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3475080" y="341316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come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7"/>
          <p:cNvSpPr/>
          <p:nvPr/>
        </p:nvSpPr>
        <p:spPr>
          <a:xfrm>
            <a:off x="5303880" y="3200400"/>
            <a:ext cx="1477800" cy="1219320"/>
          </a:xfrm>
          <a:prstGeom prst="pie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7774200" y="3303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1224360" y="342900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19560" y="14619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D2B8-E400-4EFA-8272-FE317C9E8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619560" y="14619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304920" y="2560680"/>
            <a:ext cx="77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CORRECT: Jan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fast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3505320" y="341316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to 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fas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5334120" y="3276720"/>
            <a:ext cx="1143000" cy="1066680"/>
          </a:xfrm>
          <a:prstGeom prst="pie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8"/>
          <p:cNvSpPr/>
          <p:nvPr/>
        </p:nvSpPr>
        <p:spPr>
          <a:xfrm>
            <a:off x="8195040" y="3276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1224360" y="342900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ORREC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EBD8-E1AB-4BDB-B9B2-097B635B1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3"/>
          <p:cNvSpPr/>
          <p:nvPr/>
        </p:nvSpPr>
        <p:spPr>
          <a:xfrm>
            <a:off x="1828800" y="5562720"/>
            <a:ext cx="541008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3672000" y="1886040"/>
            <a:ext cx="4190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I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You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She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He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It’ll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We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They’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61520" y="1233360"/>
            <a:ext cx="30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080080" y="5513400"/>
            <a:ext cx="483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Wi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contracted to 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’</a:t>
            </a:r>
            <a:r>
              <a:rPr b="1" i="1" lang="en-US" sz="3600" spc="-1" strike="noStrike">
                <a:solidFill>
                  <a:srgbClr val="3333ff"/>
                </a:solidFill>
                <a:latin typeface="Arial"/>
              </a:rPr>
              <a:t>l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304920" y="1854360"/>
            <a:ext cx="4190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  I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s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CC09-BC6D-47EE-A8DB-4E2F7100A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1295280" y="3809880"/>
            <a:ext cx="6629400" cy="7621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07440" y="1447920"/>
            <a:ext cx="830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I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’m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not going to g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town tomorro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08160" y="2514600"/>
            <a:ext cx="77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An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n’t going to danc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par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368720" y="3886200"/>
            <a:ext cx="63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GATIVE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 GOING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89A2-F48D-4639-95D2-113359BB4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"/>
          <p:cNvSpPr/>
          <p:nvPr/>
        </p:nvSpPr>
        <p:spPr>
          <a:xfrm>
            <a:off x="687960" y="158112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457200" y="2670120"/>
            <a:ext cx="805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) Amy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will not b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t work tomorrow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h) Amy </a:t>
            </a: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won’t b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t work tomorrow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3750120" y="4708440"/>
            <a:ext cx="15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2586960" y="4740120"/>
            <a:ext cx="10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wil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4264560" y="47242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5124960" y="4740120"/>
            <a:ext cx="9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80"/>
                </a:solidFill>
                <a:latin typeface="Arial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0.15834 0.0044 E">
                                      <p:cBhvr>
                                        <p:cTn id="611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-0.11684 -0.00671 E">
                                      <p:cBhvr>
                                        <p:cTn id="613" dur="2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D295-444C-4253-86E5-2EBF696C6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838080" y="259092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watch the game ton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609480" y="1295280"/>
            <a:ext cx="99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n’t going to watch the game ton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4" descr="10"/>
          <p:cNvPicPr/>
          <p:nvPr/>
        </p:nvPicPr>
        <p:blipFill>
          <a:blip r:embed="rId1"/>
          <a:stretch/>
        </p:blipFill>
        <p:spPr>
          <a:xfrm>
            <a:off x="1828800" y="3809880"/>
            <a:ext cx="5562720" cy="24861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490" name="AutoShape 5"/>
          <p:cNvSpPr/>
          <p:nvPr/>
        </p:nvSpPr>
        <p:spPr>
          <a:xfrm>
            <a:off x="3657600" y="198108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1523880" y="2590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1297440" y="31240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ra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16F2-6BF8-4DDA-8534-29CDB4040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457200" y="41911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___ go to the doctor this afternoo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533520" y="1523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. Brown is sick. He is going to go to the doctor this afternoon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1107360" y="4191120"/>
            <a:ext cx="48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바탕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0"/>
          <p:cNvSpPr/>
          <p:nvPr/>
        </p:nvSpPr>
        <p:spPr>
          <a:xfrm>
            <a:off x="3733920" y="320040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87960" y="49528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ra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7253-764F-4C79-897A-4A5D1EFDE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457200" y="43434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’ll have a picnic tomorr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685800" y="16002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going to have a picnic tomorr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3657600" y="3124080"/>
            <a:ext cx="106668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533520" y="4952880"/>
            <a:ext cx="716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3050280" y="510552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ra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6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BAB5-46AB-4B9E-95C2-2B2FC562A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533520" y="1600200"/>
            <a:ext cx="8305560" cy="131292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ll Tom come home tomorrow?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10"/>
          <p:cNvPicPr/>
          <p:nvPr/>
        </p:nvPicPr>
        <p:blipFill>
          <a:blip r:embed="rId1"/>
          <a:stretch/>
        </p:blipFill>
        <p:spPr>
          <a:xfrm>
            <a:off x="2895480" y="2971800"/>
            <a:ext cx="2568600" cy="31240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511" name="Text Box 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4E99-7C0E-4A01-8889-C88F10626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298080" y="2895480"/>
            <a:ext cx="7820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Rita            go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3571560" y="396252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228600" y="1905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 SUBJEC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524240" y="4618080"/>
            <a:ext cx="270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es, she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4962960" y="4618080"/>
            <a:ext cx="293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, she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on’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0"/>
          <p:cNvSpPr/>
          <p:nvPr/>
        </p:nvSpPr>
        <p:spPr>
          <a:xfrm>
            <a:off x="1523880" y="4267080"/>
            <a:ext cx="655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3429000" y="126828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2190-4D1A-44B4-8DD2-092CE5B5C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"/>
          <p:cNvSpPr/>
          <p:nvPr/>
        </p:nvSpPr>
        <p:spPr>
          <a:xfrm>
            <a:off x="232920" y="2879640"/>
            <a:ext cx="7806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they         go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 later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3571560" y="396252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1371600" y="461808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Yes, they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4810320" y="461808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, they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on’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1523880" y="4267080"/>
            <a:ext cx="655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3429000" y="126828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228600" y="1905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UBJEC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7458-5104-44B8-8E0B-D642E8C42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"/>
          <p:cNvSpPr/>
          <p:nvPr/>
        </p:nvSpPr>
        <p:spPr>
          <a:xfrm>
            <a:off x="232560" y="2879640"/>
            <a:ext cx="8620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When 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they          b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ond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3571560" y="396252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3047400" y="4648320"/>
            <a:ext cx="30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xt weeken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1523880" y="4267080"/>
            <a:ext cx="655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3429000" y="126828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228600" y="1905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ES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)   +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UBJEC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3D16-4CDC-49CC-846E-485A55F29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"/>
          <p:cNvSpPr/>
          <p:nvPr/>
        </p:nvSpPr>
        <p:spPr>
          <a:xfrm>
            <a:off x="232920" y="2879640"/>
            <a:ext cx="8034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What time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we            g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571560" y="396252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3634560" y="464832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7:30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.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1523880" y="4267080"/>
            <a:ext cx="655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3429000" y="126828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2"/>
          <p:cNvSpPr/>
          <p:nvPr/>
        </p:nvSpPr>
        <p:spPr>
          <a:xfrm>
            <a:off x="228600" y="1905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ES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)     +  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UBJEC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D4A7-7C35-4465-AD54-1627216BA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"/>
          <p:cNvSpPr/>
          <p:nvPr/>
        </p:nvSpPr>
        <p:spPr>
          <a:xfrm>
            <a:off x="232560" y="2879640"/>
            <a:ext cx="8576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Where     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she         stu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3571560" y="396252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3352680" y="464832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t colle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1523880" y="4267080"/>
            <a:ext cx="6553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3429000" y="126828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ASKING QUESTIONS WIT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228600" y="1905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UES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M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)   +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UBJECT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VER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348C-90E6-4BD7-9CF3-6E261CE9E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1981080" y="4800600"/>
            <a:ext cx="4800600" cy="1295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3600" y="1219320"/>
            <a:ext cx="71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)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going to g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at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63320" y="2438280"/>
            <a:ext cx="79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I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x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going to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school tomorrow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53960" y="3581280"/>
            <a:ext cx="81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h) What tim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 going to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pla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i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981080" y="4876920"/>
            <a:ext cx="477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subject +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572440" y="175248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they aren’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563080" y="297180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he 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639760" y="4114800"/>
            <a:ext cx="261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FUTURE TIME: US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 GOING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E7C1-4136-4C0A-A511-486E05234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8" descr="9"/>
          <p:cNvPicPr/>
          <p:nvPr/>
        </p:nvPicPr>
        <p:blipFill>
          <a:blip r:embed="rId1"/>
          <a:stretch/>
        </p:blipFill>
        <p:spPr>
          <a:xfrm>
            <a:off x="1447920" y="3886200"/>
            <a:ext cx="2819160" cy="26146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557" name="AutoShape 9"/>
          <p:cNvSpPr/>
          <p:nvPr/>
        </p:nvSpPr>
        <p:spPr>
          <a:xfrm>
            <a:off x="4952880" y="3505320"/>
            <a:ext cx="3429000" cy="1828800"/>
          </a:xfrm>
          <a:prstGeom prst="wedgeRoundRectCallout">
            <a:avLst>
              <a:gd name="adj1" fmla="val -72037"/>
              <a:gd name="adj2" fmla="val 12675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0"/>
          <p:cNvSpPr/>
          <p:nvPr/>
        </p:nvSpPr>
        <p:spPr>
          <a:xfrm>
            <a:off x="685800" y="1447920"/>
            <a:ext cx="5791320" cy="1371600"/>
          </a:xfrm>
          <a:prstGeom prst="wedgeRoundRectCallout">
            <a:avLst>
              <a:gd name="adj1" fmla="val -29685"/>
              <a:gd name="adj2" fmla="val 135879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1"/>
          <p:cNvSpPr/>
          <p:nvPr/>
        </p:nvSpPr>
        <p:spPr>
          <a:xfrm>
            <a:off x="1219320" y="1676520"/>
            <a:ext cx="41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1143000" y="182088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1028160" y="1720800"/>
            <a:ext cx="49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will you gradu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6019920" y="441972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5181840" y="3809880"/>
            <a:ext cx="312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ill graduat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Jun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838080" y="1782720"/>
            <a:ext cx="56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C6EC-31E5-4222-A18B-0C0FD7E99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9"/>
          <p:cNvPicPr/>
          <p:nvPr/>
        </p:nvPicPr>
        <p:blipFill>
          <a:blip r:embed="rId1"/>
          <a:stretch/>
        </p:blipFill>
        <p:spPr>
          <a:xfrm>
            <a:off x="1447920" y="3886200"/>
            <a:ext cx="2819160" cy="26146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568" name="AutoShape 5"/>
          <p:cNvSpPr/>
          <p:nvPr/>
        </p:nvSpPr>
        <p:spPr>
          <a:xfrm>
            <a:off x="4952880" y="3505320"/>
            <a:ext cx="3429000" cy="2209680"/>
          </a:xfrm>
          <a:prstGeom prst="wedgeRoundRectCallout">
            <a:avLst>
              <a:gd name="adj1" fmla="val -72037"/>
              <a:gd name="adj2" fmla="val 1865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533520" y="1447920"/>
            <a:ext cx="7238880" cy="1371600"/>
          </a:xfrm>
          <a:prstGeom prst="wedgeRoundRectCallout">
            <a:avLst>
              <a:gd name="adj1" fmla="val -31643"/>
              <a:gd name="adj2" fmla="val 135879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1219320" y="1676520"/>
            <a:ext cx="419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1143000" y="182088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760680" y="1720800"/>
            <a:ext cx="65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will you live after colle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6019920" y="441972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5245560" y="3809880"/>
            <a:ext cx="302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ill live in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enos Air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 colleg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"/>
          <p:cNvSpPr/>
          <p:nvPr/>
        </p:nvSpPr>
        <p:spPr>
          <a:xfrm>
            <a:off x="571680" y="17827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2D6C-E6DB-4A20-A8AE-511E17E42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8"/>
          <p:cNvSpPr/>
          <p:nvPr/>
        </p:nvSpPr>
        <p:spPr>
          <a:xfrm>
            <a:off x="304920" y="1600200"/>
            <a:ext cx="5486400" cy="1143000"/>
          </a:xfrm>
          <a:prstGeom prst="wedgeRoundRectCallout">
            <a:avLst>
              <a:gd name="adj1" fmla="val -14671"/>
              <a:gd name="adj2" fmla="val 119722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7" descr="10"/>
          <p:cNvPicPr/>
          <p:nvPr/>
        </p:nvPicPr>
        <p:blipFill>
          <a:blip r:embed="rId1"/>
          <a:stretch/>
        </p:blipFill>
        <p:spPr>
          <a:xfrm>
            <a:off x="1143000" y="3581280"/>
            <a:ext cx="3809880" cy="248292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580" name="Text Box 9"/>
          <p:cNvSpPr/>
          <p:nvPr/>
        </p:nvSpPr>
        <p:spPr>
          <a:xfrm>
            <a:off x="990720" y="190512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533520" y="1720800"/>
            <a:ext cx="49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 we go out for lun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1"/>
          <p:cNvSpPr/>
          <p:nvPr/>
        </p:nvSpPr>
        <p:spPr>
          <a:xfrm>
            <a:off x="5562720" y="2971800"/>
            <a:ext cx="3276360" cy="1676520"/>
          </a:xfrm>
          <a:prstGeom prst="wedgeRoundRectCallout">
            <a:avLst>
              <a:gd name="adj1" fmla="val -76939"/>
              <a:gd name="adj2" fmla="val 58523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6553080" y="27432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5639400" y="3200400"/>
            <a:ext cx="33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s, we will go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 for lunch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6"/>
          <p:cNvSpPr/>
          <p:nvPr/>
        </p:nvSpPr>
        <p:spPr>
          <a:xfrm>
            <a:off x="838080" y="2430360"/>
            <a:ext cx="419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380880" y="1782720"/>
            <a:ext cx="54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D541-0309-4987-B120-64EBFE68A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228600" y="1600200"/>
            <a:ext cx="6400800" cy="1143000"/>
          </a:xfrm>
          <a:prstGeom prst="wedgeRoundRectCallout">
            <a:avLst>
              <a:gd name="adj1" fmla="val -18527"/>
              <a:gd name="adj2" fmla="val 119722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7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10"/>
          <p:cNvPicPr/>
          <p:nvPr/>
        </p:nvPicPr>
        <p:blipFill>
          <a:blip r:embed="rId1"/>
          <a:stretch/>
        </p:blipFill>
        <p:spPr>
          <a:xfrm>
            <a:off x="1143000" y="3581280"/>
            <a:ext cx="3809880" cy="248292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591" name="Text Box 5"/>
          <p:cNvSpPr/>
          <p:nvPr/>
        </p:nvSpPr>
        <p:spPr>
          <a:xfrm>
            <a:off x="990720" y="190512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304920" y="1752480"/>
            <a:ext cx="60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ime will we go to lun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7"/>
          <p:cNvSpPr/>
          <p:nvPr/>
        </p:nvSpPr>
        <p:spPr>
          <a:xfrm>
            <a:off x="5562720" y="3124080"/>
            <a:ext cx="3352680" cy="1371600"/>
          </a:xfrm>
          <a:prstGeom prst="wedgeRoundRectCallout">
            <a:avLst>
              <a:gd name="adj1" fmla="val -76324"/>
              <a:gd name="adj2" fmla="val 71527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5773680" y="320040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will go to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unch at 1:30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838080" y="2430360"/>
            <a:ext cx="419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152280" y="1782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34A5-A23B-44F3-93BD-15A94D6FD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287964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1705320" y="1447920"/>
            <a:ext cx="5753880" cy="76428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eat lunch every day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9" descr="C10S66_26499302_customer restaurant"/>
          <p:cNvPicPr/>
          <p:nvPr/>
        </p:nvPicPr>
        <p:blipFill>
          <a:blip r:embed="rId1"/>
          <a:stretch/>
        </p:blipFill>
        <p:spPr>
          <a:xfrm>
            <a:off x="2514600" y="3073320"/>
            <a:ext cx="4038480" cy="26830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4D49-A1FC-4818-9C98-01D1BDFA2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764280" y="1752480"/>
            <a:ext cx="257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da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da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"/>
          <p:cNvSpPr/>
          <p:nvPr/>
        </p:nvSpPr>
        <p:spPr>
          <a:xfrm>
            <a:off x="3734640" y="1720800"/>
            <a:ext cx="236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fas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es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eakfas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2"/>
          <p:cNvSpPr/>
          <p:nvPr/>
        </p:nvSpPr>
        <p:spPr>
          <a:xfrm>
            <a:off x="6479280" y="1720800"/>
            <a:ext cx="203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fas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nc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3"/>
          <p:cNvSpPr/>
          <p:nvPr/>
        </p:nvSpPr>
        <p:spPr>
          <a:xfrm>
            <a:off x="548280" y="2568600"/>
            <a:ext cx="29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PRES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8"/>
          <p:cNvSpPr/>
          <p:nvPr/>
        </p:nvSpPr>
        <p:spPr>
          <a:xfrm>
            <a:off x="152280" y="1676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0"/>
          <p:cNvSpPr/>
          <p:nvPr/>
        </p:nvSpPr>
        <p:spPr>
          <a:xfrm>
            <a:off x="3429000" y="12193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1"/>
          <p:cNvSpPr/>
          <p:nvPr/>
        </p:nvSpPr>
        <p:spPr>
          <a:xfrm>
            <a:off x="6172200" y="12193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2"/>
          <p:cNvSpPr/>
          <p:nvPr/>
        </p:nvSpPr>
        <p:spPr>
          <a:xfrm>
            <a:off x="79236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357048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4"/>
          <p:cNvSpPr/>
          <p:nvPr/>
        </p:nvSpPr>
        <p:spPr>
          <a:xfrm>
            <a:off x="634572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5"/>
          <p:cNvSpPr/>
          <p:nvPr/>
        </p:nvSpPr>
        <p:spPr>
          <a:xfrm>
            <a:off x="6094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8"/>
          <p:cNvSpPr/>
          <p:nvPr/>
        </p:nvSpPr>
        <p:spPr>
          <a:xfrm>
            <a:off x="152280" y="1219320"/>
            <a:ext cx="8683920" cy="52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32" descr="C10S66_26499302_customer restaurant"/>
          <p:cNvPicPr/>
          <p:nvPr/>
        </p:nvPicPr>
        <p:blipFill>
          <a:blip r:embed="rId1"/>
          <a:stretch/>
        </p:blipFill>
        <p:spPr>
          <a:xfrm>
            <a:off x="3276720" y="4343400"/>
            <a:ext cx="3047760" cy="202572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617" name="Line 33"/>
          <p:cNvSpPr/>
          <p:nvPr/>
        </p:nvSpPr>
        <p:spPr>
          <a:xfrm>
            <a:off x="609480" y="41911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5"/>
          <p:cNvSpPr/>
          <p:nvPr/>
        </p:nvSpPr>
        <p:spPr>
          <a:xfrm>
            <a:off x="152280" y="16765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36"/>
          <p:cNvSpPr/>
          <p:nvPr/>
        </p:nvSpPr>
        <p:spPr>
          <a:xfrm>
            <a:off x="3429000" y="121932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37"/>
          <p:cNvSpPr/>
          <p:nvPr/>
        </p:nvSpPr>
        <p:spPr>
          <a:xfrm>
            <a:off x="6094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8"/>
          <p:cNvSpPr/>
          <p:nvPr/>
        </p:nvSpPr>
        <p:spPr>
          <a:xfrm>
            <a:off x="152280" y="1219320"/>
            <a:ext cx="868392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9"/>
          <p:cNvSpPr/>
          <p:nvPr/>
        </p:nvSpPr>
        <p:spPr>
          <a:xfrm>
            <a:off x="609480" y="419112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739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6.93642E-007 L -0.14462 6.93642E-007 E">
                                      <p:cBhvr>
                                        <p:cTn id="742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5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BEBC-AD6F-4C11-8B0C-66ED0B1E3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2"/>
          <p:cNvSpPr/>
          <p:nvPr/>
        </p:nvSpPr>
        <p:spPr>
          <a:xfrm>
            <a:off x="1148760" y="1801800"/>
            <a:ext cx="2277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 e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ch right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n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nc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8"/>
          <p:cNvSpPr/>
          <p:nvPr/>
        </p:nvSpPr>
        <p:spPr>
          <a:xfrm>
            <a:off x="94500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9"/>
          <p:cNvSpPr/>
          <p:nvPr/>
        </p:nvSpPr>
        <p:spPr>
          <a:xfrm>
            <a:off x="373860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20"/>
          <p:cNvSpPr/>
          <p:nvPr/>
        </p:nvSpPr>
        <p:spPr>
          <a:xfrm>
            <a:off x="634572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6327720" y="1787400"/>
            <a:ext cx="2472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n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n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n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688320" y="2743200"/>
            <a:ext cx="239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3740760" y="1787400"/>
            <a:ext cx="2257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’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p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p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p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7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21"/>
          <p:cNvSpPr/>
          <p:nvPr/>
        </p:nvSpPr>
        <p:spPr>
          <a:xfrm>
            <a:off x="96516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22"/>
          <p:cNvSpPr/>
          <p:nvPr/>
        </p:nvSpPr>
        <p:spPr>
          <a:xfrm>
            <a:off x="35812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3"/>
          <p:cNvSpPr/>
          <p:nvPr/>
        </p:nvSpPr>
        <p:spPr>
          <a:xfrm>
            <a:off x="624852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4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763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51445E-007 L -0.13125 7.51445E-007 E">
                                      <p:cBhvr>
                                        <p:cTn id="766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4000"/>
                            </p:stCondLst>
                            <p:childTnLst>
                              <p:par>
                                <p:cTn id="7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FD38-FE40-4B16-B37E-E33BFA814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"/>
          <p:cNvSpPr/>
          <p:nvPr/>
        </p:nvSpPr>
        <p:spPr>
          <a:xfrm>
            <a:off x="613080" y="1752480"/>
            <a:ext cx="266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n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3570480" y="1738440"/>
            <a:ext cx="21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ea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n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6270480" y="1738440"/>
            <a:ext cx="241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ar la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h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3"/>
          <p:cNvSpPr/>
          <p:nvPr/>
        </p:nvSpPr>
        <p:spPr>
          <a:xfrm>
            <a:off x="303480" y="2378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P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14" descr="10"/>
          <p:cNvPicPr/>
          <p:nvPr/>
        </p:nvPicPr>
        <p:blipFill>
          <a:blip r:embed="rId1"/>
          <a:stretch/>
        </p:blipFill>
        <p:spPr>
          <a:xfrm>
            <a:off x="2743200" y="3962520"/>
            <a:ext cx="3581280" cy="2270160"/>
          </a:xfrm>
          <a:prstGeom prst="rect">
            <a:avLst/>
          </a:prstGeom>
          <a:ln w="0">
            <a:noFill/>
          </a:ln>
        </p:spPr>
      </p:pic>
      <p:sp>
        <p:nvSpPr>
          <p:cNvPr id="643" name="Line 18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22"/>
          <p:cNvSpPr/>
          <p:nvPr/>
        </p:nvSpPr>
        <p:spPr>
          <a:xfrm>
            <a:off x="228600" y="388620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23"/>
          <p:cNvSpPr/>
          <p:nvPr/>
        </p:nvSpPr>
        <p:spPr>
          <a:xfrm>
            <a:off x="3352680" y="1219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24"/>
          <p:cNvSpPr/>
          <p:nvPr/>
        </p:nvSpPr>
        <p:spPr>
          <a:xfrm>
            <a:off x="6081840" y="1219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5"/>
          <p:cNvSpPr/>
          <p:nvPr/>
        </p:nvSpPr>
        <p:spPr>
          <a:xfrm>
            <a:off x="79236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6"/>
          <p:cNvSpPr/>
          <p:nvPr/>
        </p:nvSpPr>
        <p:spPr>
          <a:xfrm>
            <a:off x="357048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7"/>
          <p:cNvSpPr/>
          <p:nvPr/>
        </p:nvSpPr>
        <p:spPr>
          <a:xfrm>
            <a:off x="634572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28"/>
          <p:cNvSpPr/>
          <p:nvPr/>
        </p:nvSpPr>
        <p:spPr>
          <a:xfrm>
            <a:off x="609480" y="12193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9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21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000"/>
                            </p:stCondLst>
                            <p:childTnLst>
                              <p:par>
                                <p:cTn id="8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4624E-006 L -0.08316 -4.04624E-006 E">
                                      <p:cBhvr>
                                        <p:cTn id="824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5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4500"/>
                            </p:stCondLst>
                            <p:childTnLst>
                              <p:par>
                                <p:cTn id="8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4634-50F1-447E-B33A-DCF57E6EF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6324120" y="1738440"/>
            <a:ext cx="248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 f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o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up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1"/>
          <p:cNvSpPr/>
          <p:nvPr/>
        </p:nvSpPr>
        <p:spPr>
          <a:xfrm>
            <a:off x="608400" y="275256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GOING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2"/>
          <p:cNvSpPr/>
          <p:nvPr/>
        </p:nvSpPr>
        <p:spPr>
          <a:xfrm>
            <a:off x="644400" y="1752480"/>
            <a:ext cx="2686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m go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unc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go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o 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p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unc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3504240" y="1738440"/>
            <a:ext cx="2596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’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oing to ea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 fo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fas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e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oing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zz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7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8"/>
          <p:cNvSpPr/>
          <p:nvPr/>
        </p:nvSpPr>
        <p:spPr>
          <a:xfrm>
            <a:off x="79236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357048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634572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1"/>
          <p:cNvSpPr/>
          <p:nvPr/>
        </p:nvSpPr>
        <p:spPr>
          <a:xfrm>
            <a:off x="70020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2"/>
          <p:cNvSpPr/>
          <p:nvPr/>
        </p:nvSpPr>
        <p:spPr>
          <a:xfrm>
            <a:off x="33526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3"/>
          <p:cNvSpPr/>
          <p:nvPr/>
        </p:nvSpPr>
        <p:spPr>
          <a:xfrm>
            <a:off x="60958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24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43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46821E-007 L -0.12934 3.46821E-007 E">
                                      <p:cBhvr>
                                        <p:cTn id="846" dur="2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0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400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40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C2F0-6D82-4B5D-A6BC-79654AE15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0"/>
          <p:cNvSpPr/>
          <p:nvPr/>
        </p:nvSpPr>
        <p:spPr>
          <a:xfrm>
            <a:off x="357516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649800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725400" y="1752480"/>
            <a:ext cx="2551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o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nner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6"/>
          <p:cNvSpPr/>
          <p:nvPr/>
        </p:nvSpPr>
        <p:spPr>
          <a:xfrm>
            <a:off x="3581280" y="1738440"/>
            <a:ext cx="2078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on’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nn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6477840" y="1738440"/>
            <a:ext cx="2279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cos fo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nne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3"/>
          <p:cNvSpPr/>
          <p:nvPr/>
        </p:nvSpPr>
        <p:spPr>
          <a:xfrm>
            <a:off x="838800" y="19810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14" descr="10"/>
          <p:cNvPicPr/>
          <p:nvPr/>
        </p:nvPicPr>
        <p:blipFill>
          <a:blip r:embed="rId1"/>
          <a:stretch/>
        </p:blipFill>
        <p:spPr>
          <a:xfrm>
            <a:off x="2590920" y="3505320"/>
            <a:ext cx="4038480" cy="28191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675" name="Text Box 15"/>
          <p:cNvSpPr/>
          <p:nvPr/>
        </p:nvSpPr>
        <p:spPr>
          <a:xfrm>
            <a:off x="56376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8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22"/>
          <p:cNvSpPr/>
          <p:nvPr/>
        </p:nvSpPr>
        <p:spPr>
          <a:xfrm>
            <a:off x="228600" y="33526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23"/>
          <p:cNvSpPr/>
          <p:nvPr/>
        </p:nvSpPr>
        <p:spPr>
          <a:xfrm>
            <a:off x="2971800" y="1219320"/>
            <a:ext cx="0" cy="21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24"/>
          <p:cNvSpPr/>
          <p:nvPr/>
        </p:nvSpPr>
        <p:spPr>
          <a:xfrm>
            <a:off x="6073920" y="1219320"/>
            <a:ext cx="21960" cy="21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5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26"/>
          <p:cNvSpPr/>
          <p:nvPr/>
        </p:nvSpPr>
        <p:spPr>
          <a:xfrm>
            <a:off x="595440" y="1219320"/>
            <a:ext cx="0" cy="21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VERB SUMMARY: PRESENT, PAST, AND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65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89017E-007 L -0.09236 2.89017E-007 E">
                                      <p:cBhvr>
                                        <p:cTn id="868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94E0-DA30-4285-9D5C-64CEFA2BD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0"/>
          <p:cNvSpPr/>
          <p:nvPr/>
        </p:nvSpPr>
        <p:spPr>
          <a:xfrm>
            <a:off x="3894120" y="1219320"/>
            <a:ext cx="2500200" cy="1266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733920" y="129528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o 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10"/>
          <p:cNvPicPr/>
          <p:nvPr/>
        </p:nvPicPr>
        <p:blipFill>
          <a:blip r:embed="rId1"/>
          <a:stretch/>
        </p:blipFill>
        <p:spPr>
          <a:xfrm>
            <a:off x="380880" y="3886200"/>
            <a:ext cx="4114800" cy="26812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167" name="AutoShape 13"/>
          <p:cNvSpPr/>
          <p:nvPr/>
        </p:nvSpPr>
        <p:spPr>
          <a:xfrm>
            <a:off x="457200" y="1600200"/>
            <a:ext cx="3276720" cy="1752480"/>
          </a:xfrm>
          <a:prstGeom prst="wedgeRoundRectCallout">
            <a:avLst>
              <a:gd name="adj1" fmla="val -19912"/>
              <a:gd name="adj2" fmla="val 93208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33520" y="175248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going to go to 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onda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5181480" y="3124080"/>
            <a:ext cx="3657600" cy="2362320"/>
          </a:xfrm>
          <a:prstGeom prst="wedgeRoundRectCallout">
            <a:avLst>
              <a:gd name="adj1" fmla="val -90106"/>
              <a:gd name="adj2" fmla="val 12902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5257800" y="3352680"/>
            <a:ext cx="350532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 am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going to go to work on Mon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5257800" y="3429000"/>
            <a:ext cx="3429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.  ______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4C44-11DE-4174-A74D-32E29343D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"/>
          <p:cNvSpPr/>
          <p:nvPr/>
        </p:nvSpPr>
        <p:spPr>
          <a:xfrm>
            <a:off x="1523880" y="304812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 now Mr. Kim ________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his nephe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5869440" y="3048120"/>
            <a:ext cx="229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play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6"/>
          <p:cNvSpPr/>
          <p:nvPr/>
        </p:nvSpPr>
        <p:spPr>
          <a:xfrm>
            <a:off x="3429000" y="1523880"/>
            <a:ext cx="2133720" cy="99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A1FA-E666-477D-86A9-CE5EDB9C0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152280" y="236232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 to school with Jack every 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152640" y="236232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r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6"/>
          <p:cNvSpPr/>
          <p:nvPr/>
        </p:nvSpPr>
        <p:spPr>
          <a:xfrm>
            <a:off x="3352680" y="1371600"/>
            <a:ext cx="236232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de   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10" descr="10"/>
          <p:cNvPicPr/>
          <p:nvPr/>
        </p:nvPicPr>
        <p:blipFill>
          <a:blip r:embed="rId1"/>
          <a:stretch/>
        </p:blipFill>
        <p:spPr>
          <a:xfrm>
            <a:off x="1752480" y="3581280"/>
            <a:ext cx="5181840" cy="285444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2545-3099-4E7F-87F2-03283E0DA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"/>
          <p:cNvSpPr/>
          <p:nvPr/>
        </p:nvSpPr>
        <p:spPr>
          <a:xfrm>
            <a:off x="1600200" y="20574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 to school with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ck yester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1676520" y="2057400"/>
            <a:ext cx="262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d you r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3"/>
          <p:cNvSpPr/>
          <p:nvPr/>
        </p:nvSpPr>
        <p:spPr>
          <a:xfrm>
            <a:off x="3352680" y="1371600"/>
            <a:ext cx="236232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de   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4" descr="10"/>
          <p:cNvPicPr/>
          <p:nvPr/>
        </p:nvPicPr>
        <p:blipFill>
          <a:blip r:embed="rId1"/>
          <a:stretch/>
        </p:blipFill>
        <p:spPr>
          <a:xfrm>
            <a:off x="1752480" y="3581280"/>
            <a:ext cx="5181840" cy="285444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4E5F-6D73-41AC-BFBC-1FC3448DD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2"/>
          <p:cNvSpPr/>
          <p:nvPr/>
        </p:nvSpPr>
        <p:spPr>
          <a:xfrm>
            <a:off x="838080" y="21337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 to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ool with Jack next Fri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0"/>
          <p:cNvSpPr/>
          <p:nvPr/>
        </p:nvSpPr>
        <p:spPr>
          <a:xfrm>
            <a:off x="933480" y="217800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you going to r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8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18" descr="10"/>
          <p:cNvPicPr/>
          <p:nvPr/>
        </p:nvPicPr>
        <p:blipFill>
          <a:blip r:embed="rId1"/>
          <a:stretch/>
        </p:blipFill>
        <p:spPr>
          <a:xfrm>
            <a:off x="1752480" y="3581280"/>
            <a:ext cx="5181840" cy="285444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05" name="AutoShape 20"/>
          <p:cNvSpPr/>
          <p:nvPr/>
        </p:nvSpPr>
        <p:spPr>
          <a:xfrm>
            <a:off x="3352680" y="1371600"/>
            <a:ext cx="2362320" cy="533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de   yo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1496-889D-4AB8-8B72-C0692C45D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"/>
          <p:cNvSpPr/>
          <p:nvPr/>
        </p:nvSpPr>
        <p:spPr>
          <a:xfrm>
            <a:off x="287964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1861200" y="1447920"/>
            <a:ext cx="5397480" cy="764280"/>
          </a:xfrm>
          <a:prstGeom prst="rect">
            <a:avLst/>
          </a:prstGeom>
          <a:solidFill>
            <a:srgbClr val="8000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m from Australia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5" descr="1"/>
          <p:cNvPicPr/>
          <p:nvPr/>
        </p:nvPicPr>
        <p:blipFill>
          <a:blip r:embed="rId1"/>
          <a:stretch/>
        </p:blipFill>
        <p:spPr>
          <a:xfrm>
            <a:off x="2100240" y="2641680"/>
            <a:ext cx="4952880" cy="330192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10" name="Text Box 7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VERB SUMMARY: FORM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92C3-4ACE-4854-AA0D-D07EE393E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6480360" y="1787400"/>
            <a:ext cx="2356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 plac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 fr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e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fr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entin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1144440" y="1801800"/>
            <a:ext cx="219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ustr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1"/>
          <p:cNvSpPr/>
          <p:nvPr/>
        </p:nvSpPr>
        <p:spPr>
          <a:xfrm>
            <a:off x="3660480" y="1787400"/>
            <a:ext cx="2455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Vietna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ailan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Belgiu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2"/>
          <p:cNvSpPr/>
          <p:nvPr/>
        </p:nvSpPr>
        <p:spPr>
          <a:xfrm>
            <a:off x="307800" y="3057480"/>
            <a:ext cx="28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PRES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79236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5"/>
          <p:cNvSpPr/>
          <p:nvPr/>
        </p:nvSpPr>
        <p:spPr>
          <a:xfrm>
            <a:off x="357048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634572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7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8"/>
          <p:cNvSpPr/>
          <p:nvPr/>
        </p:nvSpPr>
        <p:spPr>
          <a:xfrm>
            <a:off x="8380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9"/>
          <p:cNvSpPr/>
          <p:nvPr/>
        </p:nvSpPr>
        <p:spPr>
          <a:xfrm>
            <a:off x="33526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20"/>
          <p:cNvSpPr/>
          <p:nvPr/>
        </p:nvSpPr>
        <p:spPr>
          <a:xfrm>
            <a:off x="60958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1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VERB SUMMARY: FORM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11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31214E-006 L -0.10539 -2.31214E-006 E">
                                      <p:cBhvr>
                                        <p:cTn id="914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000"/>
                            </p:stCondLst>
                            <p:childTnLst>
                              <p:par>
                                <p:cTn id="9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50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938A-4CAD-45F0-8677-5548F8065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6219000" y="1738440"/>
            <a:ext cx="261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y a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hous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654120" y="1752480"/>
            <a:ext cx="239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choo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1"/>
          <p:cNvSpPr/>
          <p:nvPr/>
        </p:nvSpPr>
        <p:spPr>
          <a:xfrm>
            <a:off x="3276000" y="1738440"/>
            <a:ext cx="2620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as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choo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ren’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par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2"/>
          <p:cNvSpPr/>
          <p:nvPr/>
        </p:nvSpPr>
        <p:spPr>
          <a:xfrm>
            <a:off x="266760" y="2432160"/>
            <a:ext cx="221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P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7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8"/>
          <p:cNvSpPr/>
          <p:nvPr/>
        </p:nvSpPr>
        <p:spPr>
          <a:xfrm>
            <a:off x="64008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358632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0"/>
          <p:cNvSpPr/>
          <p:nvPr/>
        </p:nvSpPr>
        <p:spPr>
          <a:xfrm>
            <a:off x="649800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1"/>
          <p:cNvSpPr/>
          <p:nvPr/>
        </p:nvSpPr>
        <p:spPr>
          <a:xfrm>
            <a:off x="68580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22"/>
          <p:cNvSpPr/>
          <p:nvPr/>
        </p:nvSpPr>
        <p:spPr>
          <a:xfrm>
            <a:off x="31240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3"/>
          <p:cNvSpPr/>
          <p:nvPr/>
        </p:nvSpPr>
        <p:spPr>
          <a:xfrm>
            <a:off x="60958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4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5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VERB SUMMARY: FORM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77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980" dur="2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4000"/>
                            </p:stCondLst>
                            <p:childTnLst>
                              <p:par>
                                <p:cTn id="9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4500"/>
                            </p:stCondLst>
                            <p:childTnLst>
                              <p:par>
                                <p:cTn id="9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002B-3F11-4B13-9A4D-43485C4F1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"/>
          <p:cNvSpPr/>
          <p:nvPr/>
        </p:nvSpPr>
        <p:spPr>
          <a:xfrm>
            <a:off x="6481080" y="1787400"/>
            <a:ext cx="221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go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k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 to 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765360" y="1801800"/>
            <a:ext cx="2273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c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 go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 to 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1"/>
          <p:cNvSpPr/>
          <p:nvPr/>
        </p:nvSpPr>
        <p:spPr>
          <a:xfrm>
            <a:off x="3375000" y="1787400"/>
            <a:ext cx="2806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’m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c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en’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ing to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452880" y="305748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GOING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4"/>
          <p:cNvSpPr/>
          <p:nvPr/>
        </p:nvSpPr>
        <p:spPr>
          <a:xfrm>
            <a:off x="64008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358632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649800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7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8"/>
          <p:cNvSpPr/>
          <p:nvPr/>
        </p:nvSpPr>
        <p:spPr>
          <a:xfrm>
            <a:off x="31240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0"/>
          <p:cNvSpPr/>
          <p:nvPr/>
        </p:nvSpPr>
        <p:spPr>
          <a:xfrm>
            <a:off x="60958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1"/>
          <p:cNvSpPr/>
          <p:nvPr/>
        </p:nvSpPr>
        <p:spPr>
          <a:xfrm>
            <a:off x="68580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2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VERB SUMMARY: FORM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02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83237E-006 L -0.09236 2.83237E-006 E">
                                      <p:cBhvr>
                                        <p:cTn id="1028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42F2-A4EF-41AC-8FF7-3377A399D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"/>
          <p:cNvSpPr/>
          <p:nvPr/>
        </p:nvSpPr>
        <p:spPr>
          <a:xfrm>
            <a:off x="6219000" y="1738440"/>
            <a:ext cx="2235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3"/>
          <p:cNvSpPr/>
          <p:nvPr/>
        </p:nvSpPr>
        <p:spPr>
          <a:xfrm>
            <a:off x="654120" y="1752480"/>
            <a:ext cx="224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lass Frid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4"/>
          <p:cNvSpPr/>
          <p:nvPr/>
        </p:nvSpPr>
        <p:spPr>
          <a:xfrm>
            <a:off x="3277080" y="1738440"/>
            <a:ext cx="2100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o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in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5"/>
          <p:cNvSpPr/>
          <p:nvPr/>
        </p:nvSpPr>
        <p:spPr>
          <a:xfrm>
            <a:off x="911520" y="243216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6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640080" y="123336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8"/>
          <p:cNvSpPr/>
          <p:nvPr/>
        </p:nvSpPr>
        <p:spPr>
          <a:xfrm>
            <a:off x="3586320" y="123336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6498000" y="1233360"/>
            <a:ext cx="20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0"/>
          <p:cNvSpPr/>
          <p:nvPr/>
        </p:nvSpPr>
        <p:spPr>
          <a:xfrm>
            <a:off x="68580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1"/>
          <p:cNvSpPr/>
          <p:nvPr/>
        </p:nvSpPr>
        <p:spPr>
          <a:xfrm>
            <a:off x="31240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2"/>
          <p:cNvSpPr/>
          <p:nvPr/>
        </p:nvSpPr>
        <p:spPr>
          <a:xfrm>
            <a:off x="6095880" y="121932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3"/>
          <p:cNvSpPr/>
          <p:nvPr/>
        </p:nvSpPr>
        <p:spPr>
          <a:xfrm>
            <a:off x="228600" y="1219320"/>
            <a:ext cx="8683560" cy="528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4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VERB SUMMARY: FORM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109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6667 0 E">
                                      <p:cBhvr>
                                        <p:cTn id="1112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8920-725C-4C20-A786-D130C903B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2"/>
          <p:cNvSpPr/>
          <p:nvPr/>
        </p:nvSpPr>
        <p:spPr>
          <a:xfrm>
            <a:off x="304920" y="21337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___ at a baseball game right now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1221840" y="211932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9" descr="10"/>
          <p:cNvPicPr/>
          <p:nvPr/>
        </p:nvPicPr>
        <p:blipFill>
          <a:blip r:embed="rId1"/>
          <a:stretch/>
        </p:blipFill>
        <p:spPr>
          <a:xfrm>
            <a:off x="3352680" y="3124080"/>
            <a:ext cx="2665440" cy="34545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71" name="AutoShape 10"/>
          <p:cNvSpPr/>
          <p:nvPr/>
        </p:nvSpPr>
        <p:spPr>
          <a:xfrm>
            <a:off x="3962520" y="137160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D3DA-1817-4916-B387-C28C09347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457200" y="1371600"/>
            <a:ext cx="3200400" cy="1066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04920" y="1371600"/>
            <a:ext cx="350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ch the ne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10"/>
          <p:cNvPicPr/>
          <p:nvPr/>
        </p:nvPicPr>
        <p:blipFill>
          <a:blip r:embed="rId1"/>
          <a:stretch/>
        </p:blipFill>
        <p:spPr>
          <a:xfrm>
            <a:off x="4191120" y="3809880"/>
            <a:ext cx="4114800" cy="26812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177" name="AutoShape 6"/>
          <p:cNvSpPr/>
          <p:nvPr/>
        </p:nvSpPr>
        <p:spPr>
          <a:xfrm>
            <a:off x="380880" y="3352680"/>
            <a:ext cx="3429000" cy="1752840"/>
          </a:xfrm>
          <a:prstGeom prst="wedgeRoundRectCallout">
            <a:avLst>
              <a:gd name="adj1" fmla="val 68750"/>
              <a:gd name="adj2" fmla="val 29439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533520" y="350532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the news on TV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4343400" y="1143000"/>
            <a:ext cx="4419720" cy="1981080"/>
          </a:xfrm>
          <a:prstGeom prst="wedgeRoundRectCallout">
            <a:avLst>
              <a:gd name="adj1" fmla="val -8189"/>
              <a:gd name="adj2" fmla="val 105768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4572000" y="129528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’m no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not going to watch the news on T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4572000" y="12952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.  ____________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BA9A-2E57-487D-8168-7F573417F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533520" y="21337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_______ at the game last Frid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451160" y="2136600"/>
            <a:ext cx="212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re no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9" descr="10"/>
          <p:cNvPicPr/>
          <p:nvPr/>
        </p:nvPicPr>
        <p:blipFill>
          <a:blip r:embed="rId1"/>
          <a:stretch/>
        </p:blipFill>
        <p:spPr>
          <a:xfrm>
            <a:off x="3276720" y="3048120"/>
            <a:ext cx="2665440" cy="345420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77" name="Text Box 1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3"/>
          <p:cNvSpPr/>
          <p:nvPr/>
        </p:nvSpPr>
        <p:spPr>
          <a:xfrm>
            <a:off x="3581280" y="1371600"/>
            <a:ext cx="243864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   no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CCDD-2192-4C45-8D0C-F8966F986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"/>
          <p:cNvSpPr/>
          <p:nvPr/>
        </p:nvSpPr>
        <p:spPr>
          <a:xfrm>
            <a:off x="747720" y="1905120"/>
            <a:ext cx="8396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ly and Jan ____________ at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ame next Frid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585240" y="20574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 going to b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7" descr="10"/>
          <p:cNvPicPr/>
          <p:nvPr/>
        </p:nvPicPr>
        <p:blipFill>
          <a:blip r:embed="rId1"/>
          <a:stretch/>
        </p:blipFill>
        <p:spPr>
          <a:xfrm>
            <a:off x="3505320" y="3581280"/>
            <a:ext cx="2314440" cy="29973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83" name="Text Box 12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3962520" y="1295280"/>
            <a:ext cx="1066680" cy="6098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1D16-C6B0-4929-AA79-9A23C676B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"/>
          <p:cNvSpPr/>
          <p:nvPr/>
        </p:nvSpPr>
        <p:spPr>
          <a:xfrm>
            <a:off x="671400" y="2057400"/>
            <a:ext cx="8396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 Lily and Jan ___ at the gam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Frida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4574160" y="22096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9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9" descr="10"/>
          <p:cNvPicPr/>
          <p:nvPr/>
        </p:nvPicPr>
        <p:blipFill>
          <a:blip r:embed="rId1"/>
          <a:stretch/>
        </p:blipFill>
        <p:spPr>
          <a:xfrm>
            <a:off x="4952880" y="3429000"/>
            <a:ext cx="2314800" cy="299736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790" name="AutoShape 10"/>
          <p:cNvSpPr/>
          <p:nvPr/>
        </p:nvSpPr>
        <p:spPr>
          <a:xfrm>
            <a:off x="3962520" y="1295280"/>
            <a:ext cx="10666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609480" y="22096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Slide Number Placeholder 2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5954-31EF-42EC-AFD4-7AD62BD45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463680" y="1585800"/>
            <a:ext cx="544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 used under license fro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utterstock, Inc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art.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3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 CRED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0" y="159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4995-6ECF-4BF2-A6A0-AB6685842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685800" y="1295280"/>
            <a:ext cx="3124080" cy="1295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c731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10"/>
          <p:cNvPicPr/>
          <p:nvPr/>
        </p:nvPicPr>
        <p:blipFill>
          <a:blip r:embed="rId1"/>
          <a:stretch/>
        </p:blipFill>
        <p:spPr>
          <a:xfrm>
            <a:off x="4495680" y="3886200"/>
            <a:ext cx="4114800" cy="2681280"/>
          </a:xfrm>
          <a:prstGeom prst="rect">
            <a:avLst/>
          </a:prstGeom>
          <a:ln w="28440">
            <a:solidFill>
              <a:srgbClr val="c73136"/>
            </a:solidFill>
            <a:miter/>
          </a:ln>
        </p:spPr>
      </p:pic>
      <p:sp>
        <p:nvSpPr>
          <p:cNvPr id="186" name="Text Box 3"/>
          <p:cNvSpPr/>
          <p:nvPr/>
        </p:nvSpPr>
        <p:spPr>
          <a:xfrm>
            <a:off x="685800" y="129528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y Engli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33520" y="3352680"/>
            <a:ext cx="3429000" cy="1752840"/>
          </a:xfrm>
          <a:prstGeom prst="wedgeRoundRectCallout">
            <a:avLst>
              <a:gd name="adj1" fmla="val 88564"/>
              <a:gd name="adj2" fmla="val 1629"/>
              <a:gd name="adj3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609480" y="34750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going t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Engli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yea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4800600" y="1447920"/>
            <a:ext cx="3657600" cy="1981080"/>
          </a:xfrm>
          <a:prstGeom prst="wedgeRoundRectCallout">
            <a:avLst>
              <a:gd name="adj1" fmla="val 26217"/>
              <a:gd name="adj2" fmla="val 86537"/>
              <a:gd name="adj3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4952880" y="160020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 am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going to study English this y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038240" y="3049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-1  Let’s Prac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4"/>
          <p:cNvSpPr/>
          <p:nvPr/>
        </p:nvSpPr>
        <p:spPr>
          <a:xfrm>
            <a:off x="2133720" y="3505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4952880" y="160020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.  _________________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11:54:18Z</dcterms:created>
  <dc:creator>Laurette Simmons</dc:creator>
  <dc:description/>
  <dc:language>en-US</dc:language>
  <cp:lastModifiedBy>Morgan Bondelid</cp:lastModifiedBy>
  <dcterms:modified xsi:type="dcterms:W3CDTF">2008-06-13T18:12:55Z</dcterms:modified>
  <cp:revision>275</cp:revision>
  <dc:subject/>
  <dc:title>Chapter 1 Using Be</dc:title>
</cp:coreProperties>
</file>