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8EB5-189D-472B-84B6-13FF26A1A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9D33-A819-4FD3-B1E0-C880FFBD1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74A8-F913-4527-B622-76BEFD5CA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F84E-0277-47A5-BD1B-4C0EDB3F7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7547-7179-4601-BFD7-FD7779639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7DDB-AF24-403B-85CD-6A5432293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4BDC-8E1A-4B4B-8CC5-48CB52343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E05C-D4F9-4F87-9544-0E4C4EC82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2D10-1D1D-465F-A994-16535DD34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BDE1-048D-4D39-A664-13C19F513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C5E3-F2E1-46A5-B609-3141F4CCE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41B5-03C8-4E81-BAC9-4C230A638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29E5-13EF-48D9-8669-4D9D56DA9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9134-EE62-42ED-A4EB-0F3535328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660C-E664-48C1-968F-D599962F0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451C-5505-4391-9244-C42119072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B454-EFA5-41C0-92C4-48FC6BD8C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2473-C44E-4119-BAC3-22C13D897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9C2D-6A0C-4B07-827A-6DE76903C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946D-D45C-4054-8C78-913C8138A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FF1C-912E-49AC-98F8-16ECF2CDF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5785-616D-4201-9102-6DE2D731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8504-C089-43D3-84FA-6037CD145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AC30-305A-49CC-AB14-0C707EC49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33C0-106D-4B47-94FF-952D6684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CFFA-FAC3-4769-AC4F-769AF27F7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809B-13A0-4936-A821-3EC04F811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D80C-6A00-4D4A-87E9-904B736A3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12ED-2D8A-4048-AEA3-CFC56AA6D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9845-073D-4C81-ABD3-36563FD7F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A4C4-77B7-49A9-BC6A-18868E889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055A-4104-4C73-8E3E-CF96DAA93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0738-C3F0-47AD-BDDA-AECF6344B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3E6E-5C06-475F-98A3-A9B0A4FB4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11A3-E52B-49F6-B12C-167849D0E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F5D4-144C-4750-869F-554D63409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1FE1-67A0-4C85-87E8-AB46BACCF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F65A-B91D-4844-8CB8-6AEF34A92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F9ED-C606-4529-B192-EB8D418E8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45B1-CE51-494C-BC77-609EB1BBE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2A24-AC3F-4D15-9304-331F3E827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4EDD-A5F2-44B8-BF3F-89A1729F6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D38E-2B94-4BAD-A3CE-B4300DC5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1948-F8F6-42AE-BA95-B52DE677F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E19A-2420-411E-A808-8EC940CC5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317D-83AE-435B-8D65-5CB8D28B3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AB2C-0640-415F-B616-83E0A82C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013F-746B-4085-B8CA-9144861B8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BA9B-71E3-4CAA-8622-88F5F002B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D6E5-359E-4030-9034-3D10E6C83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463C-AAF9-4269-9A6F-CA351BA60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72D1-3C6E-43A5-B2FB-C172154BE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AEBA-7F9B-4E67-B6E3-E7DA3D652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4A5C-6764-4189-8103-C60BAB937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11A3-F6D1-4CE2-A8E6-33BBCF0B6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7F1A-61FF-4BF0-969C-DECC57A26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0FC8-F305-45FF-A274-8FA494B53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63CF-FB32-41CF-9D7E-58671C8AF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6F71-ADD4-4BCA-8D1D-46C5FF8EE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D637-F0AD-42BA-AECE-39D097573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2892-FB3E-4DB0-9F54-65B481F2D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3DBC-5D0E-4B82-BCE9-B8BE1F1D1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4E2D-1207-4D82-A5FF-23B84CA11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4660-9D78-4F5B-8DC5-0F8C95E4D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B9F3-CE2B-4678-8482-CE0A0FAD8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5287-23C2-4F7F-AEE0-C69093590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2E9E-7304-49ED-9246-D0E98584D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344E-5D89-420A-A43A-5967464F6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AADB-C4A9-4774-8831-AA62BB0BA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F107-FA85-4B31-BF32-A49EBE18D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F531-D782-4FB8-B8E2-2F3C620E2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EB32-6832-4C54-AC47-944B04EC1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BF68-13E6-46BB-B25F-D3CFE941B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FA80-C953-4880-A334-B80009204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B7B9-401E-4441-8FD6-CD85FF187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7867-F42E-43B2-ACFC-8FE6A1EDE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EF8B-113F-4A49-847F-DC336DACF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CAD5-87DE-4EF4-93DD-0F20BD294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9DFA-05F0-46A0-B6EF-DFBE0F2C1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E525-1590-4591-81F7-100BEF5F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89CF-910B-442F-A913-6BA95752A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6E24-F6BA-4233-847B-70B327EF3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01DF-7086-4587-B167-3C1BFCF47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C27B-7391-41A6-84EE-945D60987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0C3E-D37F-495E-8BA5-99FA9C635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21CD-3839-46FC-B89E-3C65019C2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02A8-1A1F-4BAD-BEBE-367FE5662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200A-81F1-4E69-9AD6-CEF5F7E00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AABB-6266-45AB-8F12-8FCF23F28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7AFA-73AD-4093-88E1-7182EBEB16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EAE1-C8FE-496D-AC3A-533BD08FF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733F-A948-4B63-8795-ED696BA0E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D9C5-0A3E-4986-9CFB-5E34B6D21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9BA1-0FA4-4E7B-9A1F-9F58D851A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ACA8-B83E-4B58-90BA-5A48BED8E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8EEA-27FD-43B3-8DC1-5ADF2ACD8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tn_chapter_contents"/>
          <p:cNvPicPr/>
          <p:nvPr/>
        </p:nvPicPr>
        <p:blipFill>
          <a:blip r:embed="rId2"/>
          <a:stretch/>
        </p:blipFill>
        <p:spPr>
          <a:xfrm>
            <a:off x="8001000" y="114480"/>
            <a:ext cx="1000080" cy="342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and_with_swallow_10b"/>
          <p:cNvPicPr/>
          <p:nvPr/>
        </p:nvPicPr>
        <p:blipFill>
          <a:blip r:embed="rId3"/>
          <a:stretch/>
        </p:blipFill>
        <p:spPr>
          <a:xfrm>
            <a:off x="-4680" y="-2700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tn_chapter_contents"/>
          <p:cNvPicPr/>
          <p:nvPr/>
        </p:nvPicPr>
        <p:blipFill>
          <a:blip r:embed="rId4"/>
          <a:stretch/>
        </p:blipFill>
        <p:spPr>
          <a:xfrm>
            <a:off x="7988400" y="127080"/>
            <a:ext cx="1000080" cy="34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009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8954-C150-4F18-8429-2144F06B8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Band_with_swallow_10b"/>
          <p:cNvPicPr/>
          <p:nvPr/>
        </p:nvPicPr>
        <p:blipFill>
          <a:blip r:embed="rId2"/>
          <a:stretch/>
        </p:blipFill>
        <p:spPr>
          <a:xfrm>
            <a:off x="-4680" y="-27000"/>
            <a:ext cx="9153360" cy="107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31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title2-AZAR_BEG_3ED"/>
          <p:cNvPicPr/>
          <p:nvPr/>
        </p:nvPicPr>
        <p:blipFill>
          <a:blip r:embed="rId1"/>
          <a:stretch/>
        </p:blipFill>
        <p:spPr>
          <a:xfrm>
            <a:off x="3024360" y="423720"/>
            <a:ext cx="3047760" cy="2374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746360" y="4038480"/>
            <a:ext cx="564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larendon Condensed"/>
              </a:rPr>
              <a:t>Teacher Resource Dis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larendon Condensed"/>
              </a:rPr>
              <a:t>Slide shows for use wi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larendon Condensed"/>
              </a:rPr>
              <a:t>PowerPoint presentation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logo"/>
          <p:cNvPicPr/>
          <p:nvPr/>
        </p:nvPicPr>
        <p:blipFill>
          <a:blip r:embed="rId2"/>
          <a:stretch/>
        </p:blipFill>
        <p:spPr>
          <a:xfrm>
            <a:off x="990720" y="5181480"/>
            <a:ext cx="790560" cy="933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839680" y="2971800"/>
            <a:ext cx="362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larendon Condensed"/>
              </a:rPr>
              <a:t>Betty Schrampfer Az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larendon Condensed"/>
              </a:rPr>
              <a:t>Stacy A. Ha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227680" y="59436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larendon Condensed"/>
              </a:rPr>
              <a:t>Laurette Poulos Simm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00040" y="6461280"/>
            <a:ext cx="271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07 by Pearson Education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F23E-3C9F-41FB-AE34-CCE9A74AD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09480" y="1523880"/>
            <a:ext cx="8001000" cy="131292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a is leaving at noon tomorr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7"/>
          <p:cNvPicPr/>
          <p:nvPr/>
        </p:nvPicPr>
        <p:blipFill>
          <a:blip r:embed="rId1"/>
          <a:stretch/>
        </p:blipFill>
        <p:spPr>
          <a:xfrm>
            <a:off x="3352680" y="2895480"/>
            <a:ext cx="2286000" cy="342900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97" name="Text Box 6"/>
          <p:cNvSpPr/>
          <p:nvPr/>
        </p:nvSpPr>
        <p:spPr>
          <a:xfrm>
            <a:off x="914400" y="22860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USING THE PRESENT PROGRESSIVE TO EXPRESS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1DF8-02A6-4B8B-86A8-9BD3E077F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"/>
          <p:cNvSpPr/>
          <p:nvPr/>
        </p:nvSpPr>
        <p:spPr>
          <a:xfrm>
            <a:off x="2438280" y="388620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77640" y="163044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Sela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 going to leav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oon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79440" y="269712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Sela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 lea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noon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824560" y="3881520"/>
            <a:ext cx="35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 mean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914400" y="22860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USING THE PRESENT PROGRESSIVE TO EXPRESS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4D3F-390A-4458-B7BF-E84E42B28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438280" y="388620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74760" y="1630440"/>
            <a:ext cx="82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 going 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f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okyo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76560" y="2697120"/>
            <a:ext cx="72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 fl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okyo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824560" y="3881520"/>
            <a:ext cx="35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 mean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914400" y="22860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USING THE PRESENT PROGRESSIVE TO EXPRESS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F06C-004D-4FC5-8069-D4E4F5D8B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438280" y="2057040"/>
            <a:ext cx="1447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e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05160" y="2057040"/>
            <a:ext cx="1600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p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744640" y="1371600"/>
            <a:ext cx="35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Ver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914400" y="22860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USING THE PRESENT PROGRESSIVE TO EXPRESS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793B-9AE9-4801-8FD6-A94A26324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048120" y="2971800"/>
            <a:ext cx="601956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3520" y="1066680"/>
            <a:ext cx="8305560" cy="175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357360" y="1295280"/>
            <a:ext cx="520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fly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hana on Mon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961800" y="495288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sent progress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733920" y="318456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ying t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hana on Mon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5715000" y="37828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9"/>
          <p:cNvPicPr/>
          <p:nvPr/>
        </p:nvPicPr>
        <p:blipFill>
          <a:blip r:embed="rId1"/>
          <a:stretch/>
        </p:blipFill>
        <p:spPr>
          <a:xfrm>
            <a:off x="449280" y="1905120"/>
            <a:ext cx="2674800" cy="37335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23" name="Line 11"/>
          <p:cNvSpPr/>
          <p:nvPr/>
        </p:nvSpPr>
        <p:spPr>
          <a:xfrm>
            <a:off x="3581280" y="4392720"/>
            <a:ext cx="449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3603240" y="3157560"/>
            <a:ext cx="21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7995960" y="38703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86E4-839B-4F79-9434-9857D5387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33520" y="1066680"/>
            <a:ext cx="8305560" cy="175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57200" y="1447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leave at 9:00 tomorr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590200" y="380988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sent progress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533520" y="29718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leaving at 9:00 tomorr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609480" y="3610080"/>
            <a:ext cx="769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8225280" y="3090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FFD8-3CA2-46CF-BC48-D8A1E1871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10"/>
          <p:cNvPicPr/>
          <p:nvPr/>
        </p:nvPicPr>
        <p:blipFill>
          <a:blip r:embed="rId1"/>
          <a:stretch/>
        </p:blipFill>
        <p:spPr>
          <a:xfrm>
            <a:off x="2438280" y="3505320"/>
            <a:ext cx="3733920" cy="30272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37" name="Rectangle 6"/>
          <p:cNvSpPr/>
          <p:nvPr/>
        </p:nvSpPr>
        <p:spPr>
          <a:xfrm>
            <a:off x="762120" y="1219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going to meet her at the bus stop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143000" y="19051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meeting her at the bus st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1219320" y="2514600"/>
            <a:ext cx="65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76982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2513880" y="259092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sent progress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A037-1274-4295-B92D-752D74340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753200" y="1523880"/>
            <a:ext cx="527868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’s going to be 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ice day tomorrow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6"/>
          <p:cNvPicPr/>
          <p:nvPr/>
        </p:nvPicPr>
        <p:blipFill>
          <a:blip r:embed="rId1"/>
          <a:stretch/>
        </p:blipFill>
        <p:spPr>
          <a:xfrm>
            <a:off x="1371600" y="3505320"/>
            <a:ext cx="6095880" cy="25905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C178-C2E4-4B62-A6FE-B765999DC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915120" y="3094200"/>
            <a:ext cx="218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now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yesterda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914400" y="2025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yesterda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tomorr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476000" y="140184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5712120" y="14018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4856400" y="3124080"/>
            <a:ext cx="331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ing to sn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2E5A-48FB-469C-99EB-8C871ED4E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609480" y="4419720"/>
            <a:ext cx="286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n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last nigh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80880" y="202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yesterda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morn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tomorrow mor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231840" y="2590920"/>
            <a:ext cx="806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yesterda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even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tomorrow ev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57320" y="3124080"/>
            <a:ext cx="75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las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nigh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         tomorrow n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1476000" y="140184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2120" y="14018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4664520" y="4419720"/>
            <a:ext cx="366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going to 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tomorro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nigh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0" y="1411200"/>
            <a:ext cx="914400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57200" y="20034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1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Future time: using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be going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2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Using the present progressive to express futur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3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Words used for past time and futur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4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Using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a couple of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a few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with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ago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(past) and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5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Using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today, tonight,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this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morning, afternoon,...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6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Future time: using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w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7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Asking questions with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w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8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Verb summary: present, past, and fu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9   Verb summary: forms of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Chapter_10_ copy"/>
          <p:cNvPicPr/>
          <p:nvPr/>
        </p:nvPicPr>
        <p:blipFill>
          <a:blip r:embed="rId1"/>
          <a:srcRect l="0" t="-1611" r="0" b="0"/>
          <a:stretch/>
        </p:blipFill>
        <p:spPr>
          <a:xfrm>
            <a:off x="1085760" y="73080"/>
            <a:ext cx="356256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47FF-C385-45AA-B2BC-2DB2A9AEC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914400" y="2025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last wee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next wee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1476000" y="140184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5712120" y="14018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532800" y="3094200"/>
            <a:ext cx="334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last week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5203800" y="3124080"/>
            <a:ext cx="300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ing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do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1706-D41A-427A-BEE1-6363CFEB5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2057400" y="1981080"/>
            <a:ext cx="685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month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mon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year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y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weekend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eek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spring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sp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1476000" y="13716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410440" y="13716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465840" y="27003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l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60020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594360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10560" y="4435560"/>
            <a:ext cx="300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nt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last spr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5029200" y="446580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ing to 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</a:t>
            </a: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next spring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4717440" y="2666880"/>
            <a:ext cx="12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n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9A42-BBEC-4E76-BF58-D69ACB252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04920" y="1676520"/>
            <a:ext cx="929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... minutes ag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minute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...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ay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day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...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eeks ago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week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...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th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month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...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year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year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476000" y="12492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5486760" y="12492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380520" y="4800600"/>
            <a:ext cx="331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sh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dishes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t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minutes ago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going to wash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t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n five min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A336-253A-487A-826F-AE1E82319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08040" y="1600200"/>
            <a:ext cx="799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went to school ____ Thurs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5046480" y="160020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10"/>
          <p:cNvPicPr/>
          <p:nvPr/>
        </p:nvPicPr>
        <p:blipFill>
          <a:blip r:embed="rId1"/>
          <a:stretch/>
        </p:blipFill>
        <p:spPr>
          <a:xfrm>
            <a:off x="685800" y="2895480"/>
            <a:ext cx="4114800" cy="23799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92" name="AutoShape 8"/>
          <p:cNvSpPr/>
          <p:nvPr/>
        </p:nvSpPr>
        <p:spPr>
          <a:xfrm>
            <a:off x="5867280" y="2971800"/>
            <a:ext cx="2514600" cy="2438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terd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orrow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86C7-F697-44B0-B104-0910458BE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609480" y="129528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arrive ________ weekend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6174000" y="129528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10"/>
          <p:cNvPicPr/>
          <p:nvPr/>
        </p:nvPicPr>
        <p:blipFill>
          <a:blip r:embed="rId1"/>
          <a:stretch/>
        </p:blipFill>
        <p:spPr>
          <a:xfrm>
            <a:off x="1447920" y="2743200"/>
            <a:ext cx="2933640" cy="33526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98" name="AutoShape 8"/>
          <p:cNvSpPr/>
          <p:nvPr/>
        </p:nvSpPr>
        <p:spPr>
          <a:xfrm>
            <a:off x="5181480" y="2895480"/>
            <a:ext cx="2514600" cy="2438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terd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orrow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4192-4D00-4C83-902A-396784FEC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2061720" y="1447920"/>
            <a:ext cx="503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y cards 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4576320" y="2057400"/>
            <a:ext cx="22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7" descr="10"/>
          <p:cNvPicPr/>
          <p:nvPr/>
        </p:nvPicPr>
        <p:blipFill>
          <a:blip r:embed="rId1"/>
          <a:stretch/>
        </p:blipFill>
        <p:spPr>
          <a:xfrm>
            <a:off x="4267080" y="3200400"/>
            <a:ext cx="4191120" cy="29811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04" name="AutoShape 8"/>
          <p:cNvSpPr/>
          <p:nvPr/>
        </p:nvSpPr>
        <p:spPr>
          <a:xfrm>
            <a:off x="838080" y="3429000"/>
            <a:ext cx="2514600" cy="2438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terd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orrow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8BE0-1781-4E6D-BA27-274E0948E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62240" y="1447920"/>
            <a:ext cx="545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went to see a play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New York 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355200" y="2041560"/>
            <a:ext cx="23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ter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10"/>
          <p:cNvPicPr/>
          <p:nvPr/>
        </p:nvPicPr>
        <p:blipFill>
          <a:blip r:embed="rId1"/>
          <a:stretch/>
        </p:blipFill>
        <p:spPr>
          <a:xfrm>
            <a:off x="6324480" y="2133720"/>
            <a:ext cx="2181240" cy="32763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10" name="AutoShape 8"/>
          <p:cNvSpPr/>
          <p:nvPr/>
        </p:nvSpPr>
        <p:spPr>
          <a:xfrm>
            <a:off x="1371600" y="3429000"/>
            <a:ext cx="2514600" cy="2438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terd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orrow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0B42-C9FD-4042-AE34-409BC4D2E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926000" y="1295280"/>
            <a:ext cx="529056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 arrived here a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w months ago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10"/>
          <p:cNvPicPr/>
          <p:nvPr/>
        </p:nvPicPr>
        <p:blipFill>
          <a:blip r:embed="rId1"/>
          <a:stretch/>
        </p:blipFill>
        <p:spPr>
          <a:xfrm>
            <a:off x="3429000" y="3048120"/>
            <a:ext cx="2220840" cy="3581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15" name="Text Box 6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D762-BDAD-4D04-B994-337DC9722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1676520" y="4876920"/>
            <a:ext cx="5790960" cy="761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77280" y="1585800"/>
            <a:ext cx="69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Ed visited m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year a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80160" y="2652840"/>
            <a:ext cx="76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I am going to be there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five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minut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2057400" y="4876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s with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 ago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 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77280" y="3840120"/>
            <a:ext cx="76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She went to the doctor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four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days ag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5F46-2045-4D64-B5E7-5F243C4A0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"/>
          <p:cNvSpPr/>
          <p:nvPr/>
        </p:nvSpPr>
        <p:spPr>
          <a:xfrm>
            <a:off x="2438280" y="3886200"/>
            <a:ext cx="403884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78360" y="1585800"/>
            <a:ext cx="78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We saw them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cou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 months ag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79080" y="2652840"/>
            <a:ext cx="764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He’s going to go home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couple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month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590920" y="3886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couple 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A2DD-3208-4475-B961-3CA0AD12B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85800" y="1371600"/>
            <a:ext cx="731520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going to g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wntown tomorrow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10"/>
          <p:cNvPicPr/>
          <p:nvPr/>
        </p:nvPicPr>
        <p:blipFill>
          <a:blip r:embed="rId1"/>
          <a:stretch/>
        </p:blipFill>
        <p:spPr>
          <a:xfrm>
            <a:off x="3352680" y="3200400"/>
            <a:ext cx="1963800" cy="30290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36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01E2-3769-4E22-82F5-433B30E02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"/>
          <p:cNvSpPr/>
          <p:nvPr/>
        </p:nvSpPr>
        <p:spPr>
          <a:xfrm>
            <a:off x="2133720" y="3886200"/>
            <a:ext cx="510516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2369880" y="3886200"/>
            <a:ext cx="44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fe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mall numb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77280" y="1585800"/>
            <a:ext cx="68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They visited m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f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weeks ag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78000" y="2652840"/>
            <a:ext cx="87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She’s going to have a bab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 few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week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43EE-E511-4034-8D53-81504BC86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78720" y="158580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 Jim and I are going to get married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15960" y="2819520"/>
            <a:ext cx="81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finish college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few more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y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1828800" y="4191120"/>
            <a:ext cx="5410080" cy="1447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905120" y="4572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in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5105520" y="4343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 tim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876920" y="4572000"/>
            <a:ext cx="2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4572000" y="49528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6C26-3DB0-465B-B0BF-F49ECB567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905120" y="3657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went swimming  __________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1981080" y="4313160"/>
            <a:ext cx="1067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uple of hou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5946120" y="4267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1"/>
          <p:cNvSpPr/>
          <p:nvPr/>
        </p:nvSpPr>
        <p:spPr>
          <a:xfrm>
            <a:off x="3886200" y="12193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2"/>
          <p:cNvSpPr/>
          <p:nvPr/>
        </p:nvSpPr>
        <p:spPr>
          <a:xfrm>
            <a:off x="2895480" y="2666880"/>
            <a:ext cx="373392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ouple of hou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7B50-4BDF-4B3F-948F-9513D3AEE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1676520" y="3657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is going to go dancing  __________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514600" y="42670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uple of hou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1"/>
          <p:cNvSpPr/>
          <p:nvPr/>
        </p:nvSpPr>
        <p:spPr>
          <a:xfrm>
            <a:off x="3886200" y="12193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1830960" y="42512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4"/>
          <p:cNvSpPr/>
          <p:nvPr/>
        </p:nvSpPr>
        <p:spPr>
          <a:xfrm>
            <a:off x="2895480" y="2666880"/>
            <a:ext cx="373392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ouple of hou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7B4B-7881-4104-9137-2E4147AD1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1981080" y="36576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vie is going to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_____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124080" y="4343400"/>
            <a:ext cx="1067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3618000" y="4292640"/>
            <a:ext cx="33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ew minu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4"/>
          <p:cNvSpPr/>
          <p:nvPr/>
        </p:nvSpPr>
        <p:spPr>
          <a:xfrm>
            <a:off x="3886200" y="12193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5"/>
          <p:cNvSpPr/>
          <p:nvPr/>
        </p:nvSpPr>
        <p:spPr>
          <a:xfrm>
            <a:off x="2895480" y="2666880"/>
            <a:ext cx="373392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 few min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7381-BB77-450D-B180-3405AF3B8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35053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saw each other ___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410080" y="3581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 yea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7492320" y="35305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6"/>
          <p:cNvSpPr/>
          <p:nvPr/>
        </p:nvSpPr>
        <p:spPr>
          <a:xfrm>
            <a:off x="3886200" y="12193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7"/>
          <p:cNvSpPr/>
          <p:nvPr/>
        </p:nvSpPr>
        <p:spPr>
          <a:xfrm>
            <a:off x="3200400" y="25909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 yea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A172-EC41-4C4B-98C9-AFEB307BA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1326960" y="1539720"/>
            <a:ext cx="664092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 studying English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s morning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10"/>
          <p:cNvPicPr/>
          <p:nvPr/>
        </p:nvPicPr>
        <p:blipFill>
          <a:blip r:embed="rId1"/>
          <a:stretch/>
        </p:blipFill>
        <p:spPr>
          <a:xfrm>
            <a:off x="2362320" y="3270240"/>
            <a:ext cx="4495680" cy="2978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75" name="Text Box 6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0BE5-4507-4965-B951-24BF1CC40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3201480" y="1143000"/>
            <a:ext cx="21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RES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762120" y="182880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 now, it’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762120" y="2438280"/>
            <a:ext cx="58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e in our English clas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8280" y="3124080"/>
            <a:ext cx="90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) We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are study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glish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this morn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3124080" y="167652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10"/>
          <p:cNvPicPr/>
          <p:nvPr/>
        </p:nvPicPr>
        <p:blipFill>
          <a:blip r:embed="rId1"/>
          <a:stretch/>
        </p:blipFill>
        <p:spPr>
          <a:xfrm>
            <a:off x="2514600" y="4114800"/>
            <a:ext cx="3809880" cy="25239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83" name="Text Box 13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3B77-739E-4914-978A-2A985E6A0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659040" y="106668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066320" y="1676520"/>
            <a:ext cx="42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 now, it’s 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066680" y="2286000"/>
            <a:ext cx="64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e went to the library at 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383400" y="28954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) Lee 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w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the library 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this even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124080" y="167652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3"/>
          <p:cNvPicPr/>
          <p:nvPr/>
        </p:nvPicPr>
        <p:blipFill>
          <a:blip r:embed="rId1"/>
          <a:stretch/>
        </p:blipFill>
        <p:spPr>
          <a:xfrm>
            <a:off x="3403440" y="3733920"/>
            <a:ext cx="1892520" cy="28191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91" name="Text Box 13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D960-3482-4500-AF94-0B2E7F424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3124440" y="114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990360" y="1828800"/>
            <a:ext cx="41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 now, it’s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13680" y="2438280"/>
            <a:ext cx="51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lay begins at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309960" y="3124080"/>
            <a:ext cx="738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I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going to g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the play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thi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even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55D5-1671-477A-8044-584AFAA61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1143000" y="3962520"/>
            <a:ext cx="6858000" cy="2286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00960" y="144792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m going to 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town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99880" y="2262240"/>
            <a:ext cx="75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Javier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 going to b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chool to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01680" y="3078000"/>
            <a:ext cx="74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The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 going 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com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l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676520" y="4038480"/>
            <a:ext cx="60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be going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xpresses 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536920" y="4724280"/>
            <a:ext cx="11206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3298680" y="474516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688560" y="5029200"/>
            <a:ext cx="36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g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infini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C6FA-1DCC-4046-AC6D-2B9C6B709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533520" y="1676520"/>
            <a:ext cx="7924680" cy="41148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4726080" y="1996920"/>
            <a:ext cx="27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 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1447920" y="26668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onigh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afterno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eve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3278520" y="19969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T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916200" y="19810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ENT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4724280" y="2666880"/>
            <a:ext cx="351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wee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weeke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mon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ye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7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09D1-DC59-441F-9FE8-0BEC5AA76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0"/>
          <p:cNvSpPr/>
          <p:nvPr/>
        </p:nvSpPr>
        <p:spPr>
          <a:xfrm>
            <a:off x="3581280" y="121932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9"/>
          <p:cNvPicPr/>
          <p:nvPr/>
        </p:nvPicPr>
        <p:blipFill>
          <a:blip r:embed="rId1"/>
          <a:stretch/>
        </p:blipFill>
        <p:spPr>
          <a:xfrm>
            <a:off x="2666880" y="3809880"/>
            <a:ext cx="2667240" cy="24735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09" name="Text Box 4"/>
          <p:cNvSpPr/>
          <p:nvPr/>
        </p:nvSpPr>
        <p:spPr>
          <a:xfrm>
            <a:off x="3657600" y="129528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 m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ndm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228600" y="1600200"/>
            <a:ext cx="2895480" cy="1752480"/>
          </a:xfrm>
          <a:prstGeom prst="wedgeRoundRectCallout">
            <a:avLst>
              <a:gd name="adj1" fmla="val 38814"/>
              <a:gd name="adj2" fmla="val 83513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do earlier this yea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6"/>
          <p:cNvSpPr/>
          <p:nvPr/>
        </p:nvSpPr>
        <p:spPr>
          <a:xfrm>
            <a:off x="6019920" y="2895480"/>
            <a:ext cx="2895480" cy="1447920"/>
          </a:xfrm>
          <a:prstGeom prst="wedgeRoundRectCallout">
            <a:avLst>
              <a:gd name="adj1" fmla="val -78236"/>
              <a:gd name="adj2" fmla="val 58550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6172560" y="2971800"/>
            <a:ext cx="24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visited m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mo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6172200" y="29718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DFC0-F210-463B-A253-5813482C4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28600" y="1752480"/>
            <a:ext cx="2971800" cy="2210040"/>
          </a:xfrm>
          <a:prstGeom prst="wedgeRoundRectCallout">
            <a:avLst>
              <a:gd name="adj1" fmla="val 51069"/>
              <a:gd name="adj2" fmla="val 6393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mething you are doing this yea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5791320" y="2514600"/>
            <a:ext cx="3124080" cy="1219320"/>
          </a:xfrm>
          <a:prstGeom prst="wedgeRoundRectCallout">
            <a:avLst>
              <a:gd name="adj1" fmla="val -39990"/>
              <a:gd name="adj2" fmla="val 9453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943600" y="25909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ta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tar less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3581280" y="1219320"/>
            <a:ext cx="25146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733920" y="12952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guita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4" descr="9"/>
          <p:cNvPicPr/>
          <p:nvPr/>
        </p:nvPicPr>
        <p:blipFill>
          <a:blip r:embed="rId1"/>
          <a:stretch/>
        </p:blipFill>
        <p:spPr>
          <a:xfrm>
            <a:off x="3352680" y="3962520"/>
            <a:ext cx="2667240" cy="247320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23" name="Text Box 15"/>
          <p:cNvSpPr/>
          <p:nvPr/>
        </p:nvSpPr>
        <p:spPr>
          <a:xfrm>
            <a:off x="5943600" y="259092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869F-C9B5-4F3C-99C5-BCC7803E8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228600" y="1447920"/>
            <a:ext cx="3200400" cy="2133360"/>
          </a:xfrm>
          <a:prstGeom prst="wedgeRoundRectCallout">
            <a:avLst>
              <a:gd name="adj1" fmla="val 29958"/>
              <a:gd name="adj2" fmla="val 6443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mething you are going to do this yea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9"/>
          <p:cNvSpPr/>
          <p:nvPr/>
        </p:nvSpPr>
        <p:spPr>
          <a:xfrm>
            <a:off x="5562720" y="2895480"/>
            <a:ext cx="3276360" cy="1752840"/>
          </a:xfrm>
          <a:prstGeom prst="wedgeRoundRectCallout">
            <a:avLst>
              <a:gd name="adj1" fmla="val -61773"/>
              <a:gd name="adj2" fmla="val 44745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5715000" y="2971800"/>
            <a:ext cx="291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 fr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ing sch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4"/>
          <p:cNvSpPr/>
          <p:nvPr/>
        </p:nvSpPr>
        <p:spPr>
          <a:xfrm>
            <a:off x="3886200" y="1219320"/>
            <a:ext cx="32004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961440" y="1295280"/>
            <a:ext cx="309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duate fro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rsing sch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8" descr="9"/>
          <p:cNvPicPr/>
          <p:nvPr/>
        </p:nvPicPr>
        <p:blipFill>
          <a:blip r:embed="rId1"/>
          <a:stretch/>
        </p:blipFill>
        <p:spPr>
          <a:xfrm>
            <a:off x="2438280" y="3962520"/>
            <a:ext cx="2667240" cy="247320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32" name="Text Box 19"/>
          <p:cNvSpPr/>
          <p:nvPr/>
        </p:nvSpPr>
        <p:spPr>
          <a:xfrm>
            <a:off x="5867280" y="297180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2656-23EA-49D4-92C1-41BA1642B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399960" y="2590920"/>
            <a:ext cx="478152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will arrive 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0:00 tomorrow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10"/>
          <p:cNvPicPr/>
          <p:nvPr/>
        </p:nvPicPr>
        <p:blipFill>
          <a:blip r:embed="rId1"/>
          <a:stretch/>
        </p:blipFill>
        <p:spPr>
          <a:xfrm>
            <a:off x="5562720" y="1676520"/>
            <a:ext cx="3200400" cy="41907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36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D28B-3D12-4276-A778-BDBA6735F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9"/>
          <p:cNvSpPr/>
          <p:nvPr/>
        </p:nvSpPr>
        <p:spPr>
          <a:xfrm>
            <a:off x="2590920" y="4419720"/>
            <a:ext cx="3962160" cy="12189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76920" y="2027160"/>
            <a:ext cx="717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arr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10:00 tomorr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 going to arr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10: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3048840" y="4495680"/>
            <a:ext cx="31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e mea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asicall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619560" y="14619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1D6E-3398-4BBC-8224-D2B2E4E8C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336600" y="205740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CORRECT: Jan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se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vi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3505320" y="303228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vi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5149800" y="2819520"/>
            <a:ext cx="1327320" cy="1143000"/>
          </a:xfrm>
          <a:prstGeom prst="pie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3473280" y="417528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vi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9"/>
          <p:cNvSpPr/>
          <p:nvPr/>
        </p:nvSpPr>
        <p:spPr>
          <a:xfrm>
            <a:off x="4419720" y="3962520"/>
            <a:ext cx="1295280" cy="1066680"/>
          </a:xfrm>
          <a:prstGeom prst="pie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383680" y="29224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8383680" y="40989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1224360" y="304812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224360" y="419112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619560" y="14619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771A-2772-4428-B54F-E69687196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04920" y="2560680"/>
            <a:ext cx="77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CORRECT: Jan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co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3475080" y="341316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come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7"/>
          <p:cNvSpPr/>
          <p:nvPr/>
        </p:nvSpPr>
        <p:spPr>
          <a:xfrm>
            <a:off x="5303880" y="3200400"/>
            <a:ext cx="1477800" cy="1219320"/>
          </a:xfrm>
          <a:prstGeom prst="pie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7774200" y="3303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1224360" y="342900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19560" y="14619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B09C-AC21-4FAC-891F-F5C978E76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619560" y="14619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04920" y="2560680"/>
            <a:ext cx="77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CORRECT: Jan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fast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3505320" y="341316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to 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fas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5334120" y="3276720"/>
            <a:ext cx="1143000" cy="1066680"/>
          </a:xfrm>
          <a:prstGeom prst="pie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8"/>
          <p:cNvSpPr/>
          <p:nvPr/>
        </p:nvSpPr>
        <p:spPr>
          <a:xfrm>
            <a:off x="8195040" y="3276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1224360" y="342900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3275-5A20-4A3C-9219-19CE39ED9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3"/>
          <p:cNvSpPr/>
          <p:nvPr/>
        </p:nvSpPr>
        <p:spPr>
          <a:xfrm>
            <a:off x="1828800" y="5562720"/>
            <a:ext cx="541008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3672000" y="1886040"/>
            <a:ext cx="4190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I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You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She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He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It’ll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We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They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61520" y="1233360"/>
            <a:ext cx="30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080080" y="5513400"/>
            <a:ext cx="483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Wi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contracted to 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304920" y="1854360"/>
            <a:ext cx="4190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  I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9374-C33A-45F8-A38A-1CA95B394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1295280" y="3809880"/>
            <a:ext cx="6629400" cy="762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7440" y="1447920"/>
            <a:ext cx="830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I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’m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not going to 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town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08160" y="2514600"/>
            <a:ext cx="77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An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n’t going to dan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par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68720" y="3886200"/>
            <a:ext cx="63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GATIVE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FFB9-835F-4C1E-BC2E-0B3A5F5CA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687960" y="15811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457200" y="2670120"/>
            <a:ext cx="805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 Amy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will not 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t work tomorrow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h) Amy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won’t 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t work tomorrow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750120" y="4708440"/>
            <a:ext cx="15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2586960" y="4740120"/>
            <a:ext cx="10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wi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4264560" y="47242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5124960" y="4740120"/>
            <a:ext cx="9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0.15834 0.0044 E">
                                      <p:cBhvr>
                                        <p:cTn id="611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11684 -0.00671 E">
                                      <p:cBhvr>
                                        <p:cTn id="613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5D31-91B8-48C4-A541-4C342323F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838080" y="2590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watch the game to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609480" y="1295280"/>
            <a:ext cx="9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n’t going to watch the game to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4" descr="10"/>
          <p:cNvPicPr/>
          <p:nvPr/>
        </p:nvPicPr>
        <p:blipFill>
          <a:blip r:embed="rId1"/>
          <a:stretch/>
        </p:blipFill>
        <p:spPr>
          <a:xfrm>
            <a:off x="1828800" y="3809880"/>
            <a:ext cx="5562720" cy="24861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90" name="AutoShape 5"/>
          <p:cNvSpPr/>
          <p:nvPr/>
        </p:nvSpPr>
        <p:spPr>
          <a:xfrm>
            <a:off x="3657600" y="198108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1523880" y="2590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1297440" y="31240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ra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578D-0FFD-4767-8636-F395163E7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457200" y="41911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___ go to the doctor this afterno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533520" y="1523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. Brown is sick. He is going to go to the doctor this afterno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1107360" y="4191120"/>
            <a:ext cx="4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바탕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0"/>
          <p:cNvSpPr/>
          <p:nvPr/>
        </p:nvSpPr>
        <p:spPr>
          <a:xfrm>
            <a:off x="3733920" y="320040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87960" y="49528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ra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5CD4-5E84-4636-82EE-EBB96DD29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457200" y="43434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’ll have a picnic tomorr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685800" y="16002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have a picnic tomorr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3657600" y="312408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533520" y="4952880"/>
            <a:ext cx="716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3050280" y="51055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ra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BA3C-9753-4A1E-A2EA-201B7A4E4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533520" y="1600200"/>
            <a:ext cx="8305560" cy="131292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ll Tom come home tomorrow?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10"/>
          <p:cNvPicPr/>
          <p:nvPr/>
        </p:nvPicPr>
        <p:blipFill>
          <a:blip r:embed="rId1"/>
          <a:stretch/>
        </p:blipFill>
        <p:spPr>
          <a:xfrm>
            <a:off x="2895480" y="2971800"/>
            <a:ext cx="2568600" cy="31240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11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8A9F-5312-4467-8FFE-DB4B33360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298080" y="2895480"/>
            <a:ext cx="7820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Rita            go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524240" y="4618080"/>
            <a:ext cx="27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es, she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4962960" y="4618080"/>
            <a:ext cx="29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, she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on’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0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6A8E-B19E-4966-BA30-B8FA290EB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"/>
          <p:cNvSpPr/>
          <p:nvPr/>
        </p:nvSpPr>
        <p:spPr>
          <a:xfrm>
            <a:off x="232920" y="2879640"/>
            <a:ext cx="7806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they         go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 later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1371600" y="461808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es, 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4810320" y="461808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, 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on’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5870-4767-4E33-A75E-3F4AAB7D4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232560" y="2879640"/>
            <a:ext cx="8620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When 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they          b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ond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3047400" y="464832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xt weeken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ES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)   +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CE99-267F-4788-B633-94EE9009F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"/>
          <p:cNvSpPr/>
          <p:nvPr/>
        </p:nvSpPr>
        <p:spPr>
          <a:xfrm>
            <a:off x="232920" y="2879640"/>
            <a:ext cx="8034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What time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we            g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3634560" y="464832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7:30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.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ES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)     +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3A71-C8C8-48CB-8931-A011B2A1F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232560" y="2879640"/>
            <a:ext cx="8576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Where 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she         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352680" y="46483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 colle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ES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)   +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75AE-7D30-48BE-A54F-2FCAE5499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1981080" y="4800600"/>
            <a:ext cx="4800600" cy="1295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3600" y="1219320"/>
            <a:ext cx="71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going to 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at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63320" y="2438280"/>
            <a:ext cx="79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going to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school tomorrow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3960" y="3581280"/>
            <a:ext cx="81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 What tim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 going 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pl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i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981080" y="4876920"/>
            <a:ext cx="477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subject +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572440" y="175248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ey aren’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563080" y="297180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he 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639760" y="4114800"/>
            <a:ext cx="26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0516-731E-4EAA-96BA-348E3ED12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8" descr="9"/>
          <p:cNvPicPr/>
          <p:nvPr/>
        </p:nvPicPr>
        <p:blipFill>
          <a:blip r:embed="rId1"/>
          <a:stretch/>
        </p:blipFill>
        <p:spPr>
          <a:xfrm>
            <a:off x="1447920" y="3886200"/>
            <a:ext cx="2819160" cy="26146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57" name="AutoShape 9"/>
          <p:cNvSpPr/>
          <p:nvPr/>
        </p:nvSpPr>
        <p:spPr>
          <a:xfrm>
            <a:off x="4952880" y="3505320"/>
            <a:ext cx="3429000" cy="1828800"/>
          </a:xfrm>
          <a:prstGeom prst="wedgeRoundRectCallout">
            <a:avLst>
              <a:gd name="adj1" fmla="val -72037"/>
              <a:gd name="adj2" fmla="val 1267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0"/>
          <p:cNvSpPr/>
          <p:nvPr/>
        </p:nvSpPr>
        <p:spPr>
          <a:xfrm>
            <a:off x="685800" y="1447920"/>
            <a:ext cx="5791320" cy="1371600"/>
          </a:xfrm>
          <a:prstGeom prst="wedgeRoundRectCallout">
            <a:avLst>
              <a:gd name="adj1" fmla="val -29685"/>
              <a:gd name="adj2" fmla="val 135879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1219320" y="1676520"/>
            <a:ext cx="41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1143000" y="182088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1028160" y="1720800"/>
            <a:ext cx="49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will you gradu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6019920" y="441972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5181840" y="3809880"/>
            <a:ext cx="312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ill graduat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Jun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838080" y="1782720"/>
            <a:ext cx="56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6252-0EEE-408D-A2C0-A093EDCB7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9"/>
          <p:cNvPicPr/>
          <p:nvPr/>
        </p:nvPicPr>
        <p:blipFill>
          <a:blip r:embed="rId1"/>
          <a:stretch/>
        </p:blipFill>
        <p:spPr>
          <a:xfrm>
            <a:off x="1447920" y="3886200"/>
            <a:ext cx="2819160" cy="26146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68" name="AutoShape 5"/>
          <p:cNvSpPr/>
          <p:nvPr/>
        </p:nvSpPr>
        <p:spPr>
          <a:xfrm>
            <a:off x="4952880" y="3505320"/>
            <a:ext cx="3429000" cy="2209680"/>
          </a:xfrm>
          <a:prstGeom prst="wedgeRoundRectCallout">
            <a:avLst>
              <a:gd name="adj1" fmla="val -72037"/>
              <a:gd name="adj2" fmla="val 186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533520" y="1447920"/>
            <a:ext cx="7238880" cy="1371600"/>
          </a:xfrm>
          <a:prstGeom prst="wedgeRoundRectCallout">
            <a:avLst>
              <a:gd name="adj1" fmla="val -31643"/>
              <a:gd name="adj2" fmla="val 135879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1219320" y="1676520"/>
            <a:ext cx="41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1143000" y="182088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760680" y="1720800"/>
            <a:ext cx="65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will you live after colle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6019920" y="441972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5245560" y="3809880"/>
            <a:ext cx="302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ill live in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enos Air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colleg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571680" y="17827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A051-87EC-4C35-B35D-B4455839D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304920" y="1600200"/>
            <a:ext cx="5486400" cy="1143000"/>
          </a:xfrm>
          <a:prstGeom prst="wedgeRoundRectCallout">
            <a:avLst>
              <a:gd name="adj1" fmla="val -14671"/>
              <a:gd name="adj2" fmla="val 11972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10"/>
          <p:cNvPicPr/>
          <p:nvPr/>
        </p:nvPicPr>
        <p:blipFill>
          <a:blip r:embed="rId1"/>
          <a:stretch/>
        </p:blipFill>
        <p:spPr>
          <a:xfrm>
            <a:off x="1143000" y="3581280"/>
            <a:ext cx="3809880" cy="248292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80" name="Text Box 9"/>
          <p:cNvSpPr/>
          <p:nvPr/>
        </p:nvSpPr>
        <p:spPr>
          <a:xfrm>
            <a:off x="990720" y="190512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533520" y="172080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 we go out for lun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1"/>
          <p:cNvSpPr/>
          <p:nvPr/>
        </p:nvSpPr>
        <p:spPr>
          <a:xfrm>
            <a:off x="5562720" y="2971800"/>
            <a:ext cx="3276360" cy="1676520"/>
          </a:xfrm>
          <a:prstGeom prst="wedgeRoundRectCallout">
            <a:avLst>
              <a:gd name="adj1" fmla="val -76939"/>
              <a:gd name="adj2" fmla="val 58523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6553080" y="27432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5639400" y="3200400"/>
            <a:ext cx="33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, we will go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 for lunch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838080" y="2430360"/>
            <a:ext cx="419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380880" y="1782720"/>
            <a:ext cx="54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8AFB-C176-48D7-B75C-8E7D619A8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28600" y="1600200"/>
            <a:ext cx="6400800" cy="1143000"/>
          </a:xfrm>
          <a:prstGeom prst="wedgeRoundRectCallout">
            <a:avLst>
              <a:gd name="adj1" fmla="val -18527"/>
              <a:gd name="adj2" fmla="val 11972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10"/>
          <p:cNvPicPr/>
          <p:nvPr/>
        </p:nvPicPr>
        <p:blipFill>
          <a:blip r:embed="rId1"/>
          <a:stretch/>
        </p:blipFill>
        <p:spPr>
          <a:xfrm>
            <a:off x="1143000" y="3581280"/>
            <a:ext cx="3809880" cy="248292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91" name="Text Box 5"/>
          <p:cNvSpPr/>
          <p:nvPr/>
        </p:nvSpPr>
        <p:spPr>
          <a:xfrm>
            <a:off x="990720" y="190512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04920" y="1752480"/>
            <a:ext cx="60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ime will we go to lun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7"/>
          <p:cNvSpPr/>
          <p:nvPr/>
        </p:nvSpPr>
        <p:spPr>
          <a:xfrm>
            <a:off x="5562720" y="3124080"/>
            <a:ext cx="3352680" cy="1371600"/>
          </a:xfrm>
          <a:prstGeom prst="wedgeRoundRectCallout">
            <a:avLst>
              <a:gd name="adj1" fmla="val -76324"/>
              <a:gd name="adj2" fmla="val 71527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5773680" y="32004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go to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unch at 1:30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838080" y="2430360"/>
            <a:ext cx="419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152280" y="1782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4B71-1622-420E-A0AF-B16AA05B7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287964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1705320" y="1447920"/>
            <a:ext cx="5753880" cy="76428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eat lunch every da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9" descr="C10S66_26499302_customer restaurant"/>
          <p:cNvPicPr/>
          <p:nvPr/>
        </p:nvPicPr>
        <p:blipFill>
          <a:blip r:embed="rId1"/>
          <a:stretch/>
        </p:blipFill>
        <p:spPr>
          <a:xfrm>
            <a:off x="2514600" y="3073320"/>
            <a:ext cx="4038480" cy="26830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9D8B-EC5A-4948-96A2-390E596C9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764280" y="1752480"/>
            <a:ext cx="257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d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d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>
            <a:off x="3734640" y="1720800"/>
            <a:ext cx="236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fa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es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akfa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6479280" y="1720800"/>
            <a:ext cx="203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fas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3"/>
          <p:cNvSpPr/>
          <p:nvPr/>
        </p:nvSpPr>
        <p:spPr>
          <a:xfrm>
            <a:off x="548280" y="2568600"/>
            <a:ext cx="29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PRES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8"/>
          <p:cNvSpPr/>
          <p:nvPr/>
        </p:nvSpPr>
        <p:spPr>
          <a:xfrm>
            <a:off x="15228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0"/>
          <p:cNvSpPr/>
          <p:nvPr/>
        </p:nvSpPr>
        <p:spPr>
          <a:xfrm>
            <a:off x="3429000" y="1219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1"/>
          <p:cNvSpPr/>
          <p:nvPr/>
        </p:nvSpPr>
        <p:spPr>
          <a:xfrm>
            <a:off x="6172200" y="12193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2"/>
          <p:cNvSpPr/>
          <p:nvPr/>
        </p:nvSpPr>
        <p:spPr>
          <a:xfrm>
            <a:off x="7923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357048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4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5"/>
          <p:cNvSpPr/>
          <p:nvPr/>
        </p:nvSpPr>
        <p:spPr>
          <a:xfrm>
            <a:off x="6094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8"/>
          <p:cNvSpPr/>
          <p:nvPr/>
        </p:nvSpPr>
        <p:spPr>
          <a:xfrm>
            <a:off x="152280" y="1219320"/>
            <a:ext cx="8683920" cy="52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32" descr="C10S66_26499302_customer restaurant"/>
          <p:cNvPicPr/>
          <p:nvPr/>
        </p:nvPicPr>
        <p:blipFill>
          <a:blip r:embed="rId1"/>
          <a:stretch/>
        </p:blipFill>
        <p:spPr>
          <a:xfrm>
            <a:off x="3276720" y="4343400"/>
            <a:ext cx="3047760" cy="202572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617" name="Line 33"/>
          <p:cNvSpPr/>
          <p:nvPr/>
        </p:nvSpPr>
        <p:spPr>
          <a:xfrm>
            <a:off x="609480" y="41911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5"/>
          <p:cNvSpPr/>
          <p:nvPr/>
        </p:nvSpPr>
        <p:spPr>
          <a:xfrm>
            <a:off x="152280" y="1676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6"/>
          <p:cNvSpPr/>
          <p:nvPr/>
        </p:nvSpPr>
        <p:spPr>
          <a:xfrm>
            <a:off x="3429000" y="12193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7"/>
          <p:cNvSpPr/>
          <p:nvPr/>
        </p:nvSpPr>
        <p:spPr>
          <a:xfrm>
            <a:off x="6094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8"/>
          <p:cNvSpPr/>
          <p:nvPr/>
        </p:nvSpPr>
        <p:spPr>
          <a:xfrm>
            <a:off x="152280" y="1219320"/>
            <a:ext cx="868392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9"/>
          <p:cNvSpPr/>
          <p:nvPr/>
        </p:nvSpPr>
        <p:spPr>
          <a:xfrm>
            <a:off x="609480" y="41911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739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6.93642E-007 L -0.14462 6.93642E-007 E">
                                      <p:cBhvr>
                                        <p:cTn id="742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981E-D726-45E7-AAE6-FFAF934EF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2"/>
          <p:cNvSpPr/>
          <p:nvPr/>
        </p:nvSpPr>
        <p:spPr>
          <a:xfrm>
            <a:off x="1148760" y="1801800"/>
            <a:ext cx="2277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e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ch righ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8"/>
          <p:cNvSpPr/>
          <p:nvPr/>
        </p:nvSpPr>
        <p:spPr>
          <a:xfrm>
            <a:off x="94500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9"/>
          <p:cNvSpPr/>
          <p:nvPr/>
        </p:nvSpPr>
        <p:spPr>
          <a:xfrm>
            <a:off x="373860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0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6327720" y="1787400"/>
            <a:ext cx="2472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n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n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n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688320" y="2743200"/>
            <a:ext cx="239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3740760" y="1787400"/>
            <a:ext cx="2257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’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1"/>
          <p:cNvSpPr/>
          <p:nvPr/>
        </p:nvSpPr>
        <p:spPr>
          <a:xfrm>
            <a:off x="96516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2"/>
          <p:cNvSpPr/>
          <p:nvPr/>
        </p:nvSpPr>
        <p:spPr>
          <a:xfrm>
            <a:off x="35812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3"/>
          <p:cNvSpPr/>
          <p:nvPr/>
        </p:nvSpPr>
        <p:spPr>
          <a:xfrm>
            <a:off x="624852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4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763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51445E-007 L -0.13125 7.51445E-007 E">
                                      <p:cBhvr>
                                        <p:cTn id="766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40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372B-131C-4E93-8F04-BE6FCF8F6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"/>
          <p:cNvSpPr/>
          <p:nvPr/>
        </p:nvSpPr>
        <p:spPr>
          <a:xfrm>
            <a:off x="613080" y="1752480"/>
            <a:ext cx="266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3570480" y="1738440"/>
            <a:ext cx="21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ea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6270480" y="1738440"/>
            <a:ext cx="241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ar l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3"/>
          <p:cNvSpPr/>
          <p:nvPr/>
        </p:nvSpPr>
        <p:spPr>
          <a:xfrm>
            <a:off x="303480" y="2378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P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4" descr="10"/>
          <p:cNvPicPr/>
          <p:nvPr/>
        </p:nvPicPr>
        <p:blipFill>
          <a:blip r:embed="rId1"/>
          <a:stretch/>
        </p:blipFill>
        <p:spPr>
          <a:xfrm>
            <a:off x="2743200" y="3962520"/>
            <a:ext cx="3581280" cy="2270160"/>
          </a:xfrm>
          <a:prstGeom prst="rect">
            <a:avLst/>
          </a:prstGeom>
          <a:ln w="0">
            <a:noFill/>
          </a:ln>
        </p:spPr>
      </p:pic>
      <p:sp>
        <p:nvSpPr>
          <p:cNvPr id="643" name="Line 18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2"/>
          <p:cNvSpPr/>
          <p:nvPr/>
        </p:nvSpPr>
        <p:spPr>
          <a:xfrm>
            <a:off x="228600" y="388620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3"/>
          <p:cNvSpPr/>
          <p:nvPr/>
        </p:nvSpPr>
        <p:spPr>
          <a:xfrm>
            <a:off x="3352680" y="1219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4"/>
          <p:cNvSpPr/>
          <p:nvPr/>
        </p:nvSpPr>
        <p:spPr>
          <a:xfrm>
            <a:off x="6081840" y="1219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5"/>
          <p:cNvSpPr/>
          <p:nvPr/>
        </p:nvSpPr>
        <p:spPr>
          <a:xfrm>
            <a:off x="7923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6"/>
          <p:cNvSpPr/>
          <p:nvPr/>
        </p:nvSpPr>
        <p:spPr>
          <a:xfrm>
            <a:off x="357048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7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8"/>
          <p:cNvSpPr/>
          <p:nvPr/>
        </p:nvSpPr>
        <p:spPr>
          <a:xfrm>
            <a:off x="609480" y="1219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9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21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000"/>
                            </p:stCondLst>
                            <p:childTnLst>
                              <p:par>
                                <p:cTn id="8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4624E-006 L -0.08316 -4.04624E-006 E">
                                      <p:cBhvr>
                                        <p:cTn id="824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5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0F46-AA56-4EB0-804B-DACDF1EC5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6324120" y="1738440"/>
            <a:ext cx="248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 f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up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1"/>
          <p:cNvSpPr/>
          <p:nvPr/>
        </p:nvSpPr>
        <p:spPr>
          <a:xfrm>
            <a:off x="608400" y="275256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GOING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2"/>
          <p:cNvSpPr/>
          <p:nvPr/>
        </p:nvSpPr>
        <p:spPr>
          <a:xfrm>
            <a:off x="644400" y="1752480"/>
            <a:ext cx="2686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m go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unc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go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p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unc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3504240" y="1738440"/>
            <a:ext cx="2596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’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ing to ea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 f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fas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ing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8"/>
          <p:cNvSpPr/>
          <p:nvPr/>
        </p:nvSpPr>
        <p:spPr>
          <a:xfrm>
            <a:off x="7923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357048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1"/>
          <p:cNvSpPr/>
          <p:nvPr/>
        </p:nvSpPr>
        <p:spPr>
          <a:xfrm>
            <a:off x="70020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2"/>
          <p:cNvSpPr/>
          <p:nvPr/>
        </p:nvSpPr>
        <p:spPr>
          <a:xfrm>
            <a:off x="33526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43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46821E-007 L -0.12934 3.46821E-007 E">
                                      <p:cBhvr>
                                        <p:cTn id="846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0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4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0C89-23A5-42CD-838C-2E7B7988F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357516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649800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725400" y="1752480"/>
            <a:ext cx="2551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o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nner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3581280" y="1738440"/>
            <a:ext cx="2078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nn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477840" y="1738440"/>
            <a:ext cx="227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os f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nn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3"/>
          <p:cNvSpPr/>
          <p:nvPr/>
        </p:nvSpPr>
        <p:spPr>
          <a:xfrm>
            <a:off x="838800" y="1981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14" descr="10"/>
          <p:cNvPicPr/>
          <p:nvPr/>
        </p:nvPicPr>
        <p:blipFill>
          <a:blip r:embed="rId1"/>
          <a:stretch/>
        </p:blipFill>
        <p:spPr>
          <a:xfrm>
            <a:off x="2590920" y="3505320"/>
            <a:ext cx="4038480" cy="28191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675" name="Text Box 15"/>
          <p:cNvSpPr/>
          <p:nvPr/>
        </p:nvSpPr>
        <p:spPr>
          <a:xfrm>
            <a:off x="5637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8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2"/>
          <p:cNvSpPr/>
          <p:nvPr/>
        </p:nvSpPr>
        <p:spPr>
          <a:xfrm>
            <a:off x="228600" y="33526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23"/>
          <p:cNvSpPr/>
          <p:nvPr/>
        </p:nvSpPr>
        <p:spPr>
          <a:xfrm>
            <a:off x="2971800" y="12193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4"/>
          <p:cNvSpPr/>
          <p:nvPr/>
        </p:nvSpPr>
        <p:spPr>
          <a:xfrm>
            <a:off x="6073920" y="1219320"/>
            <a:ext cx="21960" cy="21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5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26"/>
          <p:cNvSpPr/>
          <p:nvPr/>
        </p:nvSpPr>
        <p:spPr>
          <a:xfrm>
            <a:off x="595440" y="12193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65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89017E-007 L -0.09236 2.89017E-007 E">
                                      <p:cBhvr>
                                        <p:cTn id="868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BDC7-87D5-4013-A50C-ABA57B14A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0"/>
          <p:cNvSpPr/>
          <p:nvPr/>
        </p:nvSpPr>
        <p:spPr>
          <a:xfrm>
            <a:off x="3894120" y="1219320"/>
            <a:ext cx="2500200" cy="1266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733920" y="129528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10"/>
          <p:cNvPicPr/>
          <p:nvPr/>
        </p:nvPicPr>
        <p:blipFill>
          <a:blip r:embed="rId1"/>
          <a:stretch/>
        </p:blipFill>
        <p:spPr>
          <a:xfrm>
            <a:off x="380880" y="3886200"/>
            <a:ext cx="4114800" cy="2681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67" name="AutoShape 13"/>
          <p:cNvSpPr/>
          <p:nvPr/>
        </p:nvSpPr>
        <p:spPr>
          <a:xfrm>
            <a:off x="457200" y="1600200"/>
            <a:ext cx="3276720" cy="1752480"/>
          </a:xfrm>
          <a:prstGeom prst="wedgeRoundRectCallout">
            <a:avLst>
              <a:gd name="adj1" fmla="val -19912"/>
              <a:gd name="adj2" fmla="val 93208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33520" y="175248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going to go to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onda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5181480" y="3124080"/>
            <a:ext cx="3657600" cy="2362320"/>
          </a:xfrm>
          <a:prstGeom prst="wedgeRoundRectCallout">
            <a:avLst>
              <a:gd name="adj1" fmla="val -90106"/>
              <a:gd name="adj2" fmla="val 1290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5257800" y="3352680"/>
            <a:ext cx="350532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 a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going to go to work on Mon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5257800" y="3429000"/>
            <a:ext cx="3429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.  _____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DE0A-5FF6-4694-8D46-E89C0144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"/>
          <p:cNvSpPr/>
          <p:nvPr/>
        </p:nvSpPr>
        <p:spPr>
          <a:xfrm>
            <a:off x="1523880" y="304812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now Mr. Kim ________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his nephe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5869440" y="304812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play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6"/>
          <p:cNvSpPr/>
          <p:nvPr/>
        </p:nvSpPr>
        <p:spPr>
          <a:xfrm>
            <a:off x="3429000" y="1523880"/>
            <a:ext cx="213372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25C7-98F2-4AEA-9BCA-8A3F64FF6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152280" y="23623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 to school with Jack every 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152640" y="236232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r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6"/>
          <p:cNvSpPr/>
          <p:nvPr/>
        </p:nvSpPr>
        <p:spPr>
          <a:xfrm>
            <a:off x="3352680" y="137160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e  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10" descr="10"/>
          <p:cNvPicPr/>
          <p:nvPr/>
        </p:nvPicPr>
        <p:blipFill>
          <a:blip r:embed="rId1"/>
          <a:stretch/>
        </p:blipFill>
        <p:spPr>
          <a:xfrm>
            <a:off x="1752480" y="3581280"/>
            <a:ext cx="5181840" cy="28544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329B-8729-4856-9C4A-70ED986CC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"/>
          <p:cNvSpPr/>
          <p:nvPr/>
        </p:nvSpPr>
        <p:spPr>
          <a:xfrm>
            <a:off x="1600200" y="20574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 to school with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ck yester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1676520" y="20574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d you r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3"/>
          <p:cNvSpPr/>
          <p:nvPr/>
        </p:nvSpPr>
        <p:spPr>
          <a:xfrm>
            <a:off x="3352680" y="137160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e  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4" descr="10"/>
          <p:cNvPicPr/>
          <p:nvPr/>
        </p:nvPicPr>
        <p:blipFill>
          <a:blip r:embed="rId1"/>
          <a:stretch/>
        </p:blipFill>
        <p:spPr>
          <a:xfrm>
            <a:off x="1752480" y="3581280"/>
            <a:ext cx="5181840" cy="28544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48D8-26A8-4AE3-AAED-DC598AE27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"/>
          <p:cNvSpPr/>
          <p:nvPr/>
        </p:nvSpPr>
        <p:spPr>
          <a:xfrm>
            <a:off x="838080" y="2133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 to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ool with Jack next Fri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933480" y="217800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you going to r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18" descr="10"/>
          <p:cNvPicPr/>
          <p:nvPr/>
        </p:nvPicPr>
        <p:blipFill>
          <a:blip r:embed="rId1"/>
          <a:stretch/>
        </p:blipFill>
        <p:spPr>
          <a:xfrm>
            <a:off x="1752480" y="3581280"/>
            <a:ext cx="5181840" cy="28544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05" name="AutoShape 20"/>
          <p:cNvSpPr/>
          <p:nvPr/>
        </p:nvSpPr>
        <p:spPr>
          <a:xfrm>
            <a:off x="3352680" y="137160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e  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05F8-EF73-4E5B-843D-867EF2C20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287964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1861200" y="1447920"/>
            <a:ext cx="5397480" cy="76428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from Australia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5" descr="1"/>
          <p:cNvPicPr/>
          <p:nvPr/>
        </p:nvPicPr>
        <p:blipFill>
          <a:blip r:embed="rId1"/>
          <a:stretch/>
        </p:blipFill>
        <p:spPr>
          <a:xfrm>
            <a:off x="2100240" y="2641680"/>
            <a:ext cx="4952880" cy="330192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10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E2F4-9CAF-4E6A-B79C-DA0FD207E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6480360" y="1787400"/>
            <a:ext cx="2356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plac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 fr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e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entin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1144440" y="1801800"/>
            <a:ext cx="219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ustr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1"/>
          <p:cNvSpPr/>
          <p:nvPr/>
        </p:nvSpPr>
        <p:spPr>
          <a:xfrm>
            <a:off x="3660480" y="1787400"/>
            <a:ext cx="245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Vietna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aila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Belgiu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2"/>
          <p:cNvSpPr/>
          <p:nvPr/>
        </p:nvSpPr>
        <p:spPr>
          <a:xfrm>
            <a:off x="307800" y="3057480"/>
            <a:ext cx="28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PRES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7923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357048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8"/>
          <p:cNvSpPr/>
          <p:nvPr/>
        </p:nvSpPr>
        <p:spPr>
          <a:xfrm>
            <a:off x="8380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9"/>
          <p:cNvSpPr/>
          <p:nvPr/>
        </p:nvSpPr>
        <p:spPr>
          <a:xfrm>
            <a:off x="33526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20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1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11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31214E-006 L -0.10539 -2.31214E-006 E">
                                      <p:cBhvr>
                                        <p:cTn id="914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000"/>
                            </p:stCondLst>
                            <p:childTnLst>
                              <p:par>
                                <p:cTn id="9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5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904B-1604-4741-ADFF-66C84779B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6219000" y="1738440"/>
            <a:ext cx="261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a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ho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654120" y="1752480"/>
            <a:ext cx="239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choo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3276000" y="1738440"/>
            <a:ext cx="2620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as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choo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n’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par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2"/>
          <p:cNvSpPr/>
          <p:nvPr/>
        </p:nvSpPr>
        <p:spPr>
          <a:xfrm>
            <a:off x="266760" y="2432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P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8"/>
          <p:cNvSpPr/>
          <p:nvPr/>
        </p:nvSpPr>
        <p:spPr>
          <a:xfrm>
            <a:off x="64008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358632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0"/>
          <p:cNvSpPr/>
          <p:nvPr/>
        </p:nvSpPr>
        <p:spPr>
          <a:xfrm>
            <a:off x="649800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1"/>
          <p:cNvSpPr/>
          <p:nvPr/>
        </p:nvSpPr>
        <p:spPr>
          <a:xfrm>
            <a:off x="68580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2"/>
          <p:cNvSpPr/>
          <p:nvPr/>
        </p:nvSpPr>
        <p:spPr>
          <a:xfrm>
            <a:off x="31240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3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4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77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980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4000"/>
                            </p:stCondLst>
                            <p:childTnLst>
                              <p:par>
                                <p:cTn id="9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4500"/>
                            </p:stCondLst>
                            <p:childTnLst>
                              <p:par>
                                <p:cTn id="9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E6FD-0647-4032-8F20-5AC29B67A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"/>
          <p:cNvSpPr/>
          <p:nvPr/>
        </p:nvSpPr>
        <p:spPr>
          <a:xfrm>
            <a:off x="6481080" y="1787400"/>
            <a:ext cx="221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go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to 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765360" y="1801800"/>
            <a:ext cx="2273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c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go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to 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1"/>
          <p:cNvSpPr/>
          <p:nvPr/>
        </p:nvSpPr>
        <p:spPr>
          <a:xfrm>
            <a:off x="3375000" y="1787400"/>
            <a:ext cx="2806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’m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c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452880" y="305748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GOING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64008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358632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649800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8"/>
          <p:cNvSpPr/>
          <p:nvPr/>
        </p:nvSpPr>
        <p:spPr>
          <a:xfrm>
            <a:off x="31240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0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1"/>
          <p:cNvSpPr/>
          <p:nvPr/>
        </p:nvSpPr>
        <p:spPr>
          <a:xfrm>
            <a:off x="68580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2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2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83237E-006 L -0.09236 2.83237E-006 E">
                                      <p:cBhvr>
                                        <p:cTn id="1028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3CEF-7EDD-4FB1-8748-E31AEB7B0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"/>
          <p:cNvSpPr/>
          <p:nvPr/>
        </p:nvSpPr>
        <p:spPr>
          <a:xfrm>
            <a:off x="6219000" y="1738440"/>
            <a:ext cx="2235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"/>
          <p:cNvSpPr/>
          <p:nvPr/>
        </p:nvSpPr>
        <p:spPr>
          <a:xfrm>
            <a:off x="654120" y="1752480"/>
            <a:ext cx="224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lass Fri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4"/>
          <p:cNvSpPr/>
          <p:nvPr/>
        </p:nvSpPr>
        <p:spPr>
          <a:xfrm>
            <a:off x="3277080" y="1738440"/>
            <a:ext cx="2100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in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911520" y="243216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6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64008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8"/>
          <p:cNvSpPr/>
          <p:nvPr/>
        </p:nvSpPr>
        <p:spPr>
          <a:xfrm>
            <a:off x="358632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649800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0"/>
          <p:cNvSpPr/>
          <p:nvPr/>
        </p:nvSpPr>
        <p:spPr>
          <a:xfrm>
            <a:off x="68580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1"/>
          <p:cNvSpPr/>
          <p:nvPr/>
        </p:nvSpPr>
        <p:spPr>
          <a:xfrm>
            <a:off x="31240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2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3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4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10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112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4480-20A2-4DFB-93AF-DFD381A4B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"/>
          <p:cNvSpPr/>
          <p:nvPr/>
        </p:nvSpPr>
        <p:spPr>
          <a:xfrm>
            <a:off x="304920" y="21337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___ at a baseball game right n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1221840" y="21193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9" descr="10"/>
          <p:cNvPicPr/>
          <p:nvPr/>
        </p:nvPicPr>
        <p:blipFill>
          <a:blip r:embed="rId1"/>
          <a:stretch/>
        </p:blipFill>
        <p:spPr>
          <a:xfrm>
            <a:off x="3352680" y="3124080"/>
            <a:ext cx="2665440" cy="34545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71" name="AutoShape 10"/>
          <p:cNvSpPr/>
          <p:nvPr/>
        </p:nvSpPr>
        <p:spPr>
          <a:xfrm>
            <a:off x="3962520" y="13716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A6D8-DF64-486C-A080-B2F17F591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57200" y="1371600"/>
            <a:ext cx="320040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04920" y="137160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 the n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10"/>
          <p:cNvPicPr/>
          <p:nvPr/>
        </p:nvPicPr>
        <p:blipFill>
          <a:blip r:embed="rId1"/>
          <a:stretch/>
        </p:blipFill>
        <p:spPr>
          <a:xfrm>
            <a:off x="4191120" y="3809880"/>
            <a:ext cx="4114800" cy="2681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77" name="AutoShape 6"/>
          <p:cNvSpPr/>
          <p:nvPr/>
        </p:nvSpPr>
        <p:spPr>
          <a:xfrm>
            <a:off x="380880" y="3352680"/>
            <a:ext cx="3429000" cy="1752840"/>
          </a:xfrm>
          <a:prstGeom prst="wedgeRoundRectCallout">
            <a:avLst>
              <a:gd name="adj1" fmla="val 68750"/>
              <a:gd name="adj2" fmla="val 29439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533520" y="350532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news on TV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4343400" y="1143000"/>
            <a:ext cx="4419720" cy="1981080"/>
          </a:xfrm>
          <a:prstGeom prst="wedgeRoundRectCallout">
            <a:avLst>
              <a:gd name="adj1" fmla="val -8189"/>
              <a:gd name="adj2" fmla="val 105768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572000" y="129528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’m no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not going to watch the news on T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4572000" y="12952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.  ___________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8492-1276-4995-B8AF-CDCFF3D65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533520" y="21337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_______ at the game last Fri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451160" y="2136600"/>
            <a:ext cx="212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e no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9" descr="10"/>
          <p:cNvPicPr/>
          <p:nvPr/>
        </p:nvPicPr>
        <p:blipFill>
          <a:blip r:embed="rId1"/>
          <a:stretch/>
        </p:blipFill>
        <p:spPr>
          <a:xfrm>
            <a:off x="3276720" y="3048120"/>
            <a:ext cx="2665440" cy="345420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77" name="Text Box 1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3"/>
          <p:cNvSpPr/>
          <p:nvPr/>
        </p:nvSpPr>
        <p:spPr>
          <a:xfrm>
            <a:off x="3581280" y="1371600"/>
            <a:ext cx="243864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   no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1500-8EF0-4967-A281-7D73B2A50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"/>
          <p:cNvSpPr/>
          <p:nvPr/>
        </p:nvSpPr>
        <p:spPr>
          <a:xfrm>
            <a:off x="747720" y="1905120"/>
            <a:ext cx="8396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ly and Jan ____________ at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ame next Fri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585240" y="20574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going to b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7" descr="10"/>
          <p:cNvPicPr/>
          <p:nvPr/>
        </p:nvPicPr>
        <p:blipFill>
          <a:blip r:embed="rId1"/>
          <a:stretch/>
        </p:blipFill>
        <p:spPr>
          <a:xfrm>
            <a:off x="3505320" y="3581280"/>
            <a:ext cx="2314440" cy="29973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83" name="Text Box 1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3962520" y="1295280"/>
            <a:ext cx="106668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1044-8966-4B34-A61F-E48D51ED6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"/>
          <p:cNvSpPr/>
          <p:nvPr/>
        </p:nvSpPr>
        <p:spPr>
          <a:xfrm>
            <a:off x="671400" y="2057400"/>
            <a:ext cx="8396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 Lily and Jan ___ at the gam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Frida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4574160" y="22096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9" descr="10"/>
          <p:cNvPicPr/>
          <p:nvPr/>
        </p:nvPicPr>
        <p:blipFill>
          <a:blip r:embed="rId1"/>
          <a:stretch/>
        </p:blipFill>
        <p:spPr>
          <a:xfrm>
            <a:off x="4952880" y="3429000"/>
            <a:ext cx="2314800" cy="29973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90" name="AutoShape 10"/>
          <p:cNvSpPr/>
          <p:nvPr/>
        </p:nvSpPr>
        <p:spPr>
          <a:xfrm>
            <a:off x="3962520" y="129528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609480" y="22096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2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6F77-B554-473A-9F38-D24ACA13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463680" y="1585800"/>
            <a:ext cx="544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 used under license fro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utterstock, Inc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art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 CRED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0" y="15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8616-149C-447F-BFD2-289EF6DB3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685800" y="1295280"/>
            <a:ext cx="3124080" cy="129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10"/>
          <p:cNvPicPr/>
          <p:nvPr/>
        </p:nvPicPr>
        <p:blipFill>
          <a:blip r:embed="rId1"/>
          <a:stretch/>
        </p:blipFill>
        <p:spPr>
          <a:xfrm>
            <a:off x="4495680" y="3886200"/>
            <a:ext cx="4114800" cy="2681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86" name="Text Box 3"/>
          <p:cNvSpPr/>
          <p:nvPr/>
        </p:nvSpPr>
        <p:spPr>
          <a:xfrm>
            <a:off x="685800" y="12952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Engli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33520" y="3352680"/>
            <a:ext cx="3429000" cy="1752840"/>
          </a:xfrm>
          <a:prstGeom prst="wedgeRoundRectCallout">
            <a:avLst>
              <a:gd name="adj1" fmla="val 88564"/>
              <a:gd name="adj2" fmla="val 1629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09480" y="34750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Engli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yea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4800600" y="1447920"/>
            <a:ext cx="3657600" cy="1981080"/>
          </a:xfrm>
          <a:prstGeom prst="wedgeRoundRectCallout">
            <a:avLst>
              <a:gd name="adj1" fmla="val 26217"/>
              <a:gd name="adj2" fmla="val 86537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4952880" y="160020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 a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going to study English this y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4"/>
          <p:cNvSpPr/>
          <p:nvPr/>
        </p:nvSpPr>
        <p:spPr>
          <a:xfrm>
            <a:off x="2133720" y="3505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4952880" y="16002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.  _____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11:54:18Z</dcterms:created>
  <dc:creator>Laurette Simmons</dc:creator>
  <dc:description/>
  <dc:language>en-US</dc:language>
  <cp:lastModifiedBy>Morgan Bondelid</cp:lastModifiedBy>
  <dcterms:modified xsi:type="dcterms:W3CDTF">2008-06-13T18:12:55Z</dcterms:modified>
  <cp:revision>275</cp:revision>
  <dc:subject/>
  <dc:title>Chapter 1 Using Be</dc:title>
</cp:coreProperties>
</file>