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33D0-DD7B-4F27-B57B-E315663B0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0706-8B55-4D70-8835-76EB2E6E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D5C6-D73C-440B-98A5-31364252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DDFF-84C7-4451-AAE4-30900A3D5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F02F-B7E2-46C3-B6BC-EE9248555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2AE0-C453-424E-B3F5-2A1DDD33C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282D-81CD-4CF6-8E40-0B0032C4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6426-1565-4D64-AA5E-7A31EED3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3371-8740-49D8-9987-8AFC5CFD2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AC49-5ACB-4F2B-B8B3-0399DA68C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5D40-7B8D-4E95-9E56-66FB3CB8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0FDB-F7F2-4D32-BD64-49E6DE34C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DF22-0938-4EA9-B87B-EE355A50C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FD85-8AA0-4D6A-8BAB-FE4611F24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DFD9-EE82-410F-9BEA-F1AD1CE1E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5953-3C32-4CE8-9A83-479F39CB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7793-BC6C-4A10-B42A-94982E4C2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6054-8178-435C-871C-7B88A62B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DD95-A824-427B-8F06-FF4B7098C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6CF4-F1F2-4343-8EA5-807E67E6B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D4BE-742F-4D0D-8F6B-89B229A40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5D32-56C1-445E-AA98-DB9FF2AE8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1C64-696D-45D9-BDBD-7FCF92CB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242D-9777-4C0A-9115-80CC6C70D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A36A-99B1-439E-9A17-54B56B322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C57A-186E-4CAF-BA12-0073AE81C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769B-C410-4E9D-AE00-54413F753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572C-8B48-4F19-A999-C87CF8FB5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A3FB-D147-48C3-91CC-6676D808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A3E0-EAE0-4C4E-A550-6EA64365B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0E65-9098-4D5D-A66F-8867ED5AD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328E-FAA0-46A3-B3D1-B7D5CA83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E82C-9059-4957-879B-08D448FE7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A0DC-17C6-4709-8C7E-A33B17CA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1256-359F-477D-BAE9-8D96F4F1F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6A0C-20DF-4115-805C-2569C26E5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9E84-28F0-40DF-A546-4177065F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2CB8-7599-4A1C-86BC-56831CB1A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4A6C-FFC1-4FC2-BE85-CA512A718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44B6-2BF4-43EB-A8D4-F2F46543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614E-723B-455A-95AB-DCC3425C5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B1F9-F172-4477-8D2E-D89C3AAB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C4A2-3D83-420A-B838-5A9FD3439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4BC0-03B5-47C1-BD17-CFFB7BF44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2D65-34CB-4015-A9BF-575075F8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2C90-D888-4E14-8DDD-F2F12874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D818-F1AD-497D-A8FC-1C61AD3F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58D1-B581-49EA-8ED7-C42AF3A7E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192E-AB27-4BE1-A7C7-83ED3BD10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0B46-3E28-4B2E-B4E3-AD29E9A5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38BF-F561-4889-853A-7E9A1170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DECE-8AFD-4FEB-A756-3E175061C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C5C-3062-4364-8052-20168836E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6002-BD56-4D06-85AC-0C51471FF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797E-28DE-4674-8887-850425C89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91A0-8332-4455-B972-CE6663C6E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E67-D42F-4522-8F02-119F4AB46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27A8-7341-443A-B820-A47D6E066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ECEA-A263-45E4-A60B-1814413D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5A2E-2EEB-4C80-9425-6B858C064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8CCE-B397-4954-AD3B-3A5BF918A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0C86-13D8-4001-87D2-C92FEAD4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39A5-3A7B-4C12-80B1-4455E14B9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8459-CB95-40BE-8782-3BEF69F0E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FEB1-6953-4BA7-922D-45BC0877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A14A-2F88-4164-AEF6-C7C31AA6D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F91F-6618-408B-8DD3-8EEB5E35D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0605-903E-4F8B-87C5-6A7F554B2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EFA1-51E7-4918-9275-FF91ADEA3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CAB-7C42-42EB-A85C-6EC14FAEE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0FED-36C9-4A23-AD04-3A1CE5802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F63B-F035-4965-9E54-87590CF4B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BD9B-9A2A-491E-84B8-D0C13CFD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7104-7D58-4DA7-9A49-09771364D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F93C-F674-4D06-BD7D-EA8CA7D2C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862D-C569-42F9-B4F5-FE59DFD91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1CBE-9B1D-40BD-A642-85CEB9A06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5ABF-0850-4CD8-9C59-68EA750D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DD00-8E46-4AA2-BCB0-257D56D6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83B2-AEF9-41EA-826C-119864292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7362-8A75-4F02-821C-7EBB5F7B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4C62-8DFE-43D0-9D00-38A369BF2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D96B-70A5-4FB5-BB44-8634919CA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50F8-B453-462A-B722-0EE6E838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6B92-BDEA-4849-991B-C1143C7A5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03B0-18A0-43CB-8B89-46CC1AC5E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D8AF-5D8C-4BDD-9571-29D9567C3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321A-BE1B-4317-9623-6C627DF21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F4A1-8588-4D64-B787-900119BBD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74DA-8E7B-4DF8-9668-23C13C5584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C944-41C8-4D6E-9DA1-899F1464B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D0D1-CF65-4BBC-A4FB-581F88AC1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E226-14D2-4E9F-B61E-F148A3BF1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B4AE-8822-4C95-812E-35CF4E49D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147E-7FC8-4C2D-A2A6-08A1EDB2D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F9A6-2DB3-40C0-98A1-C0F7D8EF6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tn_chapter_contents"/>
          <p:cNvPicPr/>
          <p:nvPr/>
        </p:nvPicPr>
        <p:blipFill>
          <a:blip r:embed="rId2"/>
          <a:stretch/>
        </p:blipFill>
        <p:spPr>
          <a:xfrm>
            <a:off x="8001000" y="114480"/>
            <a:ext cx="1000080" cy="342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and_with_swallow_10b"/>
          <p:cNvPicPr/>
          <p:nvPr/>
        </p:nvPicPr>
        <p:blipFill>
          <a:blip r:embed="rId3"/>
          <a:stretch/>
        </p:blipFill>
        <p:spPr>
          <a:xfrm>
            <a:off x="-4680" y="-2700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n_chapter_contents"/>
          <p:cNvPicPr/>
          <p:nvPr/>
        </p:nvPicPr>
        <p:blipFill>
          <a:blip r:embed="rId4"/>
          <a:stretch/>
        </p:blipFill>
        <p:spPr>
          <a:xfrm>
            <a:off x="7988400" y="127080"/>
            <a:ext cx="1000080" cy="34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009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E77D-8844-4F9A-8646-4C83C7D25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and_with_swallow_10b"/>
          <p:cNvPicPr/>
          <p:nvPr/>
        </p:nvPicPr>
        <p:blipFill>
          <a:blip r:embed="rId2"/>
          <a:stretch/>
        </p:blipFill>
        <p:spPr>
          <a:xfrm>
            <a:off x="-4680" y="-27000"/>
            <a:ext cx="9153360" cy="107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31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itle2-AZAR_BEG_3ED"/>
          <p:cNvPicPr/>
          <p:nvPr/>
        </p:nvPicPr>
        <p:blipFill>
          <a:blip r:embed="rId1"/>
          <a:stretch/>
        </p:blipFill>
        <p:spPr>
          <a:xfrm>
            <a:off x="3024360" y="423720"/>
            <a:ext cx="3047760" cy="2374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746360" y="4038480"/>
            <a:ext cx="564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larendon Condensed"/>
              </a:rPr>
              <a:t>Teacher Resource Dis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larendon Condensed"/>
              </a:rPr>
              <a:t>Slide shows for use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larendon Condensed"/>
              </a:rPr>
              <a:t>PowerPoint presentation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logo"/>
          <p:cNvPicPr/>
          <p:nvPr/>
        </p:nvPicPr>
        <p:blipFill>
          <a:blip r:embed="rId2"/>
          <a:stretch/>
        </p:blipFill>
        <p:spPr>
          <a:xfrm>
            <a:off x="990720" y="5181480"/>
            <a:ext cx="790560" cy="933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839680" y="2971800"/>
            <a:ext cx="36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arendon Condensed"/>
              </a:rPr>
              <a:t>Betty Schrampfer Az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arendon Condensed"/>
              </a:rPr>
              <a:t>Stacy A. Ha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27680" y="59436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arendon Condensed"/>
              </a:rPr>
              <a:t>Laurette Poulos Simm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00040" y="6461280"/>
            <a:ext cx="271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07 by Pearson Education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D52E-65F1-40EB-A8FC-5A6926BCA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523880"/>
            <a:ext cx="8001000" cy="131292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a is leaving at noon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7"/>
          <p:cNvPicPr/>
          <p:nvPr/>
        </p:nvPicPr>
        <p:blipFill>
          <a:blip r:embed="rId1"/>
          <a:stretch/>
        </p:blipFill>
        <p:spPr>
          <a:xfrm>
            <a:off x="3352680" y="2895480"/>
            <a:ext cx="2286000" cy="34290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97" name="Text Box 6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A044-FB05-4E43-8C81-A31501674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"/>
          <p:cNvSpPr/>
          <p:nvPr/>
        </p:nvSpPr>
        <p:spPr>
          <a:xfrm>
            <a:off x="2438280" y="388620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77640" y="163044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Sela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 going to leav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oo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79440" y="269712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Sela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 lea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noo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824560" y="3881520"/>
            <a:ext cx="35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mean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6A04-A795-4AFC-AF84-BFC1FF78B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438280" y="388620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74760" y="1630440"/>
            <a:ext cx="82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going 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f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okyo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76560" y="2697120"/>
            <a:ext cx="72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f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okyo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824560" y="3881520"/>
            <a:ext cx="35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mean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80EB-DCD9-4130-B333-9BD8A763D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438280" y="2057040"/>
            <a:ext cx="1447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05160" y="2057040"/>
            <a:ext cx="1600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p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744640" y="1371600"/>
            <a:ext cx="35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Ver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0BEC-D729-4FB3-9669-70A430DB3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048120" y="2971800"/>
            <a:ext cx="601956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3520" y="1066680"/>
            <a:ext cx="8305560" cy="175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357360" y="1295280"/>
            <a:ext cx="520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fly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hana on Mon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961800" y="495288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sent progres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733920" y="318456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ing t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hana on Mon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715000" y="37828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9"/>
          <p:cNvPicPr/>
          <p:nvPr/>
        </p:nvPicPr>
        <p:blipFill>
          <a:blip r:embed="rId1"/>
          <a:stretch/>
        </p:blipFill>
        <p:spPr>
          <a:xfrm>
            <a:off x="449280" y="1905120"/>
            <a:ext cx="2674800" cy="3733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23" name="Line 11"/>
          <p:cNvSpPr/>
          <p:nvPr/>
        </p:nvSpPr>
        <p:spPr>
          <a:xfrm>
            <a:off x="3581280" y="4392720"/>
            <a:ext cx="449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603240" y="3157560"/>
            <a:ext cx="21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7995960" y="38703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A46F-2892-45A7-9C69-12A611CA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33520" y="1066680"/>
            <a:ext cx="8305560" cy="175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57200" y="1447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leave at 9:00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590200" y="380988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sent progres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533520" y="29718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leaving at 9:00 tomorr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609480" y="3610080"/>
            <a:ext cx="769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8225280" y="3090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800D-100A-4227-86B2-953AE7CF2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10"/>
          <p:cNvPicPr/>
          <p:nvPr/>
        </p:nvPicPr>
        <p:blipFill>
          <a:blip r:embed="rId1"/>
          <a:stretch/>
        </p:blipFill>
        <p:spPr>
          <a:xfrm>
            <a:off x="2438280" y="3505320"/>
            <a:ext cx="3733920" cy="30272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37" name="Rectangle 6"/>
          <p:cNvSpPr/>
          <p:nvPr/>
        </p:nvSpPr>
        <p:spPr>
          <a:xfrm>
            <a:off x="762120" y="1219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going to meet her at the bus stop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143000" y="1905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meeting her at the bus st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1219320" y="2514600"/>
            <a:ext cx="65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76982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2513880" y="259092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sent progres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5D39-7D96-47BF-BAEE-58783DBB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753200" y="1523880"/>
            <a:ext cx="527868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’s going to be 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ice day tomorrow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6"/>
          <p:cNvPicPr/>
          <p:nvPr/>
        </p:nvPicPr>
        <p:blipFill>
          <a:blip r:embed="rId1"/>
          <a:stretch/>
        </p:blipFill>
        <p:spPr>
          <a:xfrm>
            <a:off x="1371600" y="3505320"/>
            <a:ext cx="6095880" cy="2590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E5FD-100D-412C-970C-B71725D4D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915120" y="3094200"/>
            <a:ext cx="218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now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yesterda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914400" y="2025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yesterda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tomorr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476000" y="140184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712120" y="14018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856400" y="3124080"/>
            <a:ext cx="331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ing to sn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C8AF-4475-4630-8105-06EC06052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609480" y="4419720"/>
            <a:ext cx="286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n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last nigh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80880" y="202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yesterda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morn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tomorrow mor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231840" y="2590920"/>
            <a:ext cx="80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yesterda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even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tomorrow ev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57320" y="3124080"/>
            <a:ext cx="75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las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nigh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         tomorrow n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1476000" y="140184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2120" y="14018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4664520" y="4419720"/>
            <a:ext cx="366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going to 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tomorro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igh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0" y="1411200"/>
            <a:ext cx="914400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7200" y="20034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1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Future time: 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be going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2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Using the present progressive to express futur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3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Words used for past time and futur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4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a couple of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a few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with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ago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(past) and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5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today, tonight,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this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morning, afternoon,...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6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Future time: 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7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Asking questions with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8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Verb summary: present, past, and fu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9   Verb summary: forms of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Chapter_10_ copy"/>
          <p:cNvPicPr/>
          <p:nvPr/>
        </p:nvPicPr>
        <p:blipFill>
          <a:blip r:embed="rId1"/>
          <a:srcRect l="0" t="-1611" r="0" b="0"/>
          <a:stretch/>
        </p:blipFill>
        <p:spPr>
          <a:xfrm>
            <a:off x="1085760" y="73080"/>
            <a:ext cx="356256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6048-3A63-48A1-8616-5B8ED81F6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914400" y="2025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last wee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next wee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1476000" y="140184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5712120" y="14018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532800" y="3094200"/>
            <a:ext cx="334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last week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5203800" y="3124080"/>
            <a:ext cx="300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ing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do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DA8A-6E35-4D54-8E52-17D063087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2057400" y="198108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month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mon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year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y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weekend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eek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spring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sp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1476000" y="13716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410440" y="13716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465840" y="27003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l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60020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594360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10560" y="4435560"/>
            <a:ext cx="300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nt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last spr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5029200" y="446580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next spring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4717440" y="266688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n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5348-5B06-434D-83E6-6DD1F5473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04920" y="1676520"/>
            <a:ext cx="929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... minutes ag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minute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ay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day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eeks ago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week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th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month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yea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year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476000" y="12492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5486760" y="12492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380520" y="4800600"/>
            <a:ext cx="331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dishes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t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minutes ago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going to wash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n five min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5655-87E9-4A66-8509-0C396BFC1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08040" y="1600200"/>
            <a:ext cx="799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ent to school ____ Thurs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5046480" y="16002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10"/>
          <p:cNvPicPr/>
          <p:nvPr/>
        </p:nvPicPr>
        <p:blipFill>
          <a:blip r:embed="rId1"/>
          <a:stretch/>
        </p:blipFill>
        <p:spPr>
          <a:xfrm>
            <a:off x="685800" y="2895480"/>
            <a:ext cx="4114800" cy="23799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92" name="AutoShape 8"/>
          <p:cNvSpPr/>
          <p:nvPr/>
        </p:nvSpPr>
        <p:spPr>
          <a:xfrm>
            <a:off x="5867280" y="2971800"/>
            <a:ext cx="2514600" cy="2438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7B55-EAAA-4253-AB99-3269726CC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609480" y="129528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arrive ________ weekend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6174000" y="129528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10"/>
          <p:cNvPicPr/>
          <p:nvPr/>
        </p:nvPicPr>
        <p:blipFill>
          <a:blip r:embed="rId1"/>
          <a:stretch/>
        </p:blipFill>
        <p:spPr>
          <a:xfrm>
            <a:off x="1447920" y="2743200"/>
            <a:ext cx="2933640" cy="33526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98" name="AutoShape 8"/>
          <p:cNvSpPr/>
          <p:nvPr/>
        </p:nvSpPr>
        <p:spPr>
          <a:xfrm>
            <a:off x="5181480" y="2895480"/>
            <a:ext cx="2514600" cy="2438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92B9-4315-48CD-BBB1-EA52D5B3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2061720" y="1447920"/>
            <a:ext cx="503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y cards 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4576320" y="2057400"/>
            <a:ext cx="22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10"/>
          <p:cNvPicPr/>
          <p:nvPr/>
        </p:nvPicPr>
        <p:blipFill>
          <a:blip r:embed="rId1"/>
          <a:stretch/>
        </p:blipFill>
        <p:spPr>
          <a:xfrm>
            <a:off x="4267080" y="3200400"/>
            <a:ext cx="4191120" cy="2981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04" name="AutoShape 8"/>
          <p:cNvSpPr/>
          <p:nvPr/>
        </p:nvSpPr>
        <p:spPr>
          <a:xfrm>
            <a:off x="838080" y="3429000"/>
            <a:ext cx="2514600" cy="2438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E9CC-1EFF-456E-8B88-4869A4478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62240" y="1447920"/>
            <a:ext cx="545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ent to see a play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New York 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355200" y="2041560"/>
            <a:ext cx="23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ter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10"/>
          <p:cNvPicPr/>
          <p:nvPr/>
        </p:nvPicPr>
        <p:blipFill>
          <a:blip r:embed="rId1"/>
          <a:stretch/>
        </p:blipFill>
        <p:spPr>
          <a:xfrm>
            <a:off x="6324480" y="2133720"/>
            <a:ext cx="2181240" cy="32763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10" name="AutoShape 8"/>
          <p:cNvSpPr/>
          <p:nvPr/>
        </p:nvSpPr>
        <p:spPr>
          <a:xfrm>
            <a:off x="1371600" y="3429000"/>
            <a:ext cx="2514600" cy="2438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6D08-40BB-4C45-8FE5-D9925858A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926000" y="1295280"/>
            <a:ext cx="529056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 arrived here a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w months ago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10"/>
          <p:cNvPicPr/>
          <p:nvPr/>
        </p:nvPicPr>
        <p:blipFill>
          <a:blip r:embed="rId1"/>
          <a:stretch/>
        </p:blipFill>
        <p:spPr>
          <a:xfrm>
            <a:off x="3429000" y="3048120"/>
            <a:ext cx="2220840" cy="35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15" name="Text Box 6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646C-65AB-4A62-81C4-E1FCF043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1676520" y="4876920"/>
            <a:ext cx="5790960" cy="761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77280" y="1585800"/>
            <a:ext cx="69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Ed visited 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year a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80160" y="2652840"/>
            <a:ext cx="76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I am going to be ther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ive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minut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2057400" y="4876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s with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ago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77280" y="3840120"/>
            <a:ext cx="76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She went to the doctor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our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ays ag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6971-56AE-4FD1-A335-E8B1A90D6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"/>
          <p:cNvSpPr/>
          <p:nvPr/>
        </p:nvSpPr>
        <p:spPr>
          <a:xfrm>
            <a:off x="2438280" y="3886200"/>
            <a:ext cx="403884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78360" y="1585800"/>
            <a:ext cx="78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We saw them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cou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 months ag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79080" y="2652840"/>
            <a:ext cx="764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He’s going to go hom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couple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month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590920" y="3886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couple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C2ED-E739-4202-BB60-12C2CDE70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85800" y="1371600"/>
            <a:ext cx="731520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g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wntown tomorrow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10"/>
          <p:cNvPicPr/>
          <p:nvPr/>
        </p:nvPicPr>
        <p:blipFill>
          <a:blip r:embed="rId1"/>
          <a:stretch/>
        </p:blipFill>
        <p:spPr>
          <a:xfrm>
            <a:off x="3352680" y="3200400"/>
            <a:ext cx="1963800" cy="30290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36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79BA-7171-408F-8D17-0A60FEDB9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"/>
          <p:cNvSpPr/>
          <p:nvPr/>
        </p:nvSpPr>
        <p:spPr>
          <a:xfrm>
            <a:off x="2133720" y="3886200"/>
            <a:ext cx="510516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2369880" y="3886200"/>
            <a:ext cx="44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fe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numb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77280" y="1585800"/>
            <a:ext cx="68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They visited 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weeks ag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78000" y="2652840"/>
            <a:ext cx="87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She’s going to have a bab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 few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week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0E16-60A4-49B6-8AAC-A0FE8C20C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78720" y="158580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Jim and I are going to get married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15960" y="2819520"/>
            <a:ext cx="81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finish college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few mor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1828800" y="4191120"/>
            <a:ext cx="5410080" cy="1447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90512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in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105520" y="4343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tim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876920" y="4572000"/>
            <a:ext cx="2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64E4-1B91-4B93-B588-6E6D3C6CC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905120" y="3657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ent swimming  _______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981080" y="4313160"/>
            <a:ext cx="1067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594612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1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/>
          <p:cNvSpPr/>
          <p:nvPr/>
        </p:nvSpPr>
        <p:spPr>
          <a:xfrm>
            <a:off x="2895480" y="2666880"/>
            <a:ext cx="37339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C22D-2D1B-4078-B9F9-BC5C0FB36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1676520" y="3657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is going to go dancing  _______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514600" y="42670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1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1830960" y="42512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4"/>
          <p:cNvSpPr/>
          <p:nvPr/>
        </p:nvSpPr>
        <p:spPr>
          <a:xfrm>
            <a:off x="2895480" y="2666880"/>
            <a:ext cx="37339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0D82-8C09-4C40-8967-3F4004E49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1981080" y="36576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vie is going to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__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124080" y="434340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3618000" y="4292640"/>
            <a:ext cx="33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w minu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4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5"/>
          <p:cNvSpPr/>
          <p:nvPr/>
        </p:nvSpPr>
        <p:spPr>
          <a:xfrm>
            <a:off x="2895480" y="2666880"/>
            <a:ext cx="37339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 few min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175-A9D8-4E9D-813F-D79E22ACF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35053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saw each other 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410080" y="3581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 yea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7492320" y="35305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6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7"/>
          <p:cNvSpPr/>
          <p:nvPr/>
        </p:nvSpPr>
        <p:spPr>
          <a:xfrm>
            <a:off x="3200400" y="25909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 ye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9818-CC5B-4827-96C9-D047C4CCC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1326960" y="1539720"/>
            <a:ext cx="664092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 studying English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morning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10"/>
          <p:cNvPicPr/>
          <p:nvPr/>
        </p:nvPicPr>
        <p:blipFill>
          <a:blip r:embed="rId1"/>
          <a:stretch/>
        </p:blipFill>
        <p:spPr>
          <a:xfrm>
            <a:off x="2362320" y="3270240"/>
            <a:ext cx="4495680" cy="2978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75" name="Text Box 6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C94-F250-4896-8489-517AB6CF0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3201480" y="1143000"/>
            <a:ext cx="21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RES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762120" y="18288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now, it’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762120" y="2438280"/>
            <a:ext cx="58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in our English clas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8280" y="3124080"/>
            <a:ext cx="90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We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are study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glish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this mor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3124080" y="167652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10"/>
          <p:cNvPicPr/>
          <p:nvPr/>
        </p:nvPicPr>
        <p:blipFill>
          <a:blip r:embed="rId1"/>
          <a:stretch/>
        </p:blipFill>
        <p:spPr>
          <a:xfrm>
            <a:off x="2514600" y="4114800"/>
            <a:ext cx="3809880" cy="25239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83" name="Text Box 13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3C24-179E-407B-825B-20BE7FFF5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659040" y="10666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066320" y="1676520"/>
            <a:ext cx="42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now, it’s 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066680" y="2286000"/>
            <a:ext cx="64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went to the library at 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383400" y="28954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Lee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w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the library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this eve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124080" y="167652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3"/>
          <p:cNvPicPr/>
          <p:nvPr/>
        </p:nvPicPr>
        <p:blipFill>
          <a:blip r:embed="rId1"/>
          <a:stretch/>
        </p:blipFill>
        <p:spPr>
          <a:xfrm>
            <a:off x="3403440" y="3733920"/>
            <a:ext cx="1892520" cy="2819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91" name="Text Box 13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D6D9-BF4E-4D63-ACE1-61B2A0644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3124440" y="114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990360" y="1828800"/>
            <a:ext cx="41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now, it’s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13680" y="2438280"/>
            <a:ext cx="51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lay begins at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309960" y="3124080"/>
            <a:ext cx="73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I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going to g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the play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hi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eve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BC50-A076-4D84-A436-D5F508FF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1143000" y="3962520"/>
            <a:ext cx="6858000" cy="2286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00960" y="144792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m 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tow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99880" y="2262240"/>
            <a:ext cx="75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Javier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 going to b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 to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01680" y="3078000"/>
            <a:ext cx="74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The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going 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com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l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76520" y="403848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be going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xpresses 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536920" y="4724280"/>
            <a:ext cx="11206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3298680" y="474516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688560" y="5029200"/>
            <a:ext cx="36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infini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16BA-4461-4E4B-92F5-E081ECC2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533520" y="1676520"/>
            <a:ext cx="7924680" cy="4114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4726080" y="1996920"/>
            <a:ext cx="27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 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1447920" y="26668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onigh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afterno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eve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3278520" y="19969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T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916200" y="19810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ENT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4724280" y="2666880"/>
            <a:ext cx="351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wee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weeke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mon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ye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7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7793-C711-403D-9261-5A506AD29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3581280" y="121932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9"/>
          <p:cNvPicPr/>
          <p:nvPr/>
        </p:nvPicPr>
        <p:blipFill>
          <a:blip r:embed="rId1"/>
          <a:stretch/>
        </p:blipFill>
        <p:spPr>
          <a:xfrm>
            <a:off x="2666880" y="3809880"/>
            <a:ext cx="2667240" cy="2473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09" name="Text Box 4"/>
          <p:cNvSpPr/>
          <p:nvPr/>
        </p:nvSpPr>
        <p:spPr>
          <a:xfrm>
            <a:off x="3657600" y="129528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ndm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228600" y="1600200"/>
            <a:ext cx="2895480" cy="1752480"/>
          </a:xfrm>
          <a:prstGeom prst="wedgeRoundRectCallout">
            <a:avLst>
              <a:gd name="adj1" fmla="val 38814"/>
              <a:gd name="adj2" fmla="val 83513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earlier 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6"/>
          <p:cNvSpPr/>
          <p:nvPr/>
        </p:nvSpPr>
        <p:spPr>
          <a:xfrm>
            <a:off x="6019920" y="2895480"/>
            <a:ext cx="2895480" cy="1447920"/>
          </a:xfrm>
          <a:prstGeom prst="wedgeRoundRectCallout">
            <a:avLst>
              <a:gd name="adj1" fmla="val -78236"/>
              <a:gd name="adj2" fmla="val 58550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6172560" y="2971800"/>
            <a:ext cx="24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visited m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mo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6172200" y="2971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A2A1-46DA-46B3-8DA4-4061B763C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28600" y="1752480"/>
            <a:ext cx="2971800" cy="2210040"/>
          </a:xfrm>
          <a:prstGeom prst="wedgeRoundRectCallout">
            <a:avLst>
              <a:gd name="adj1" fmla="val 51069"/>
              <a:gd name="adj2" fmla="val 6393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mething you are doing 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5791320" y="2514600"/>
            <a:ext cx="3124080" cy="1219320"/>
          </a:xfrm>
          <a:prstGeom prst="wedgeRoundRectCallout">
            <a:avLst>
              <a:gd name="adj1" fmla="val -39990"/>
              <a:gd name="adj2" fmla="val 9453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943600" y="25909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a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tar less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3581280" y="1219320"/>
            <a:ext cx="25146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733920" y="12952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guita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4" descr="9"/>
          <p:cNvPicPr/>
          <p:nvPr/>
        </p:nvPicPr>
        <p:blipFill>
          <a:blip r:embed="rId1"/>
          <a:stretch/>
        </p:blipFill>
        <p:spPr>
          <a:xfrm>
            <a:off x="3352680" y="3962520"/>
            <a:ext cx="2667240" cy="24732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23" name="Text Box 15"/>
          <p:cNvSpPr/>
          <p:nvPr/>
        </p:nvSpPr>
        <p:spPr>
          <a:xfrm>
            <a:off x="5943600" y="259092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C6A1-44D4-4834-B79E-92E9720A4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228600" y="1447920"/>
            <a:ext cx="3200400" cy="2133360"/>
          </a:xfrm>
          <a:prstGeom prst="wedgeRoundRectCallout">
            <a:avLst>
              <a:gd name="adj1" fmla="val 29958"/>
              <a:gd name="adj2" fmla="val 6443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mething you are going to do 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"/>
          <p:cNvSpPr/>
          <p:nvPr/>
        </p:nvSpPr>
        <p:spPr>
          <a:xfrm>
            <a:off x="5562720" y="2895480"/>
            <a:ext cx="3276360" cy="1752840"/>
          </a:xfrm>
          <a:prstGeom prst="wedgeRoundRectCallout">
            <a:avLst>
              <a:gd name="adj1" fmla="val -61773"/>
              <a:gd name="adj2" fmla="val 44745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5715000" y="2971800"/>
            <a:ext cx="291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 fr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sch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4"/>
          <p:cNvSpPr/>
          <p:nvPr/>
        </p:nvSpPr>
        <p:spPr>
          <a:xfrm>
            <a:off x="3886200" y="1219320"/>
            <a:ext cx="32004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961440" y="1295280"/>
            <a:ext cx="309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uate fro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rsing sch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8" descr="9"/>
          <p:cNvPicPr/>
          <p:nvPr/>
        </p:nvPicPr>
        <p:blipFill>
          <a:blip r:embed="rId1"/>
          <a:stretch/>
        </p:blipFill>
        <p:spPr>
          <a:xfrm>
            <a:off x="2438280" y="3962520"/>
            <a:ext cx="2667240" cy="24732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32" name="Text Box 19"/>
          <p:cNvSpPr/>
          <p:nvPr/>
        </p:nvSpPr>
        <p:spPr>
          <a:xfrm>
            <a:off x="5867280" y="29718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965D-D709-4809-A689-DCFF7FB99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99960" y="2590920"/>
            <a:ext cx="478152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will arrive 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:00 tomorrow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10"/>
          <p:cNvPicPr/>
          <p:nvPr/>
        </p:nvPicPr>
        <p:blipFill>
          <a:blip r:embed="rId1"/>
          <a:stretch/>
        </p:blipFill>
        <p:spPr>
          <a:xfrm>
            <a:off x="5562720" y="1676520"/>
            <a:ext cx="3200400" cy="41907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36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19E8-2873-4239-9274-0DCA298DA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9"/>
          <p:cNvSpPr/>
          <p:nvPr/>
        </p:nvSpPr>
        <p:spPr>
          <a:xfrm>
            <a:off x="2590920" y="4419720"/>
            <a:ext cx="3962160" cy="12189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76920" y="2027160"/>
            <a:ext cx="717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arr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10:00 tomorr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going to arr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10: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3048840" y="4495680"/>
            <a:ext cx="31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mea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sicall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1160-6880-478B-BF31-C7AA630F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36600" y="205740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CORRECT: 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s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505320" y="303228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5149800" y="2819520"/>
            <a:ext cx="1327320" cy="114300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3473280" y="417528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/>
          <p:cNvSpPr/>
          <p:nvPr/>
        </p:nvSpPr>
        <p:spPr>
          <a:xfrm>
            <a:off x="4419720" y="3962520"/>
            <a:ext cx="1295280" cy="106668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383680" y="29224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8383680" y="40989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1224360" y="304812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224360" y="419112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799C-8CC6-4ECB-8E3B-F883B5D77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920" y="2560680"/>
            <a:ext cx="77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CORRECT: 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c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3475080" y="341316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come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5303880" y="3200400"/>
            <a:ext cx="1477800" cy="121932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7774200" y="3303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1224360" y="342900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6551-1091-494D-8FC5-796782BF1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2560680"/>
            <a:ext cx="77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CORRECT: 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fas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3505320" y="341316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to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fas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5334120" y="3276720"/>
            <a:ext cx="1143000" cy="106668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8195040" y="3276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1224360" y="342900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83CB-F424-44C9-AFD4-5DE7329F2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3"/>
          <p:cNvSpPr/>
          <p:nvPr/>
        </p:nvSpPr>
        <p:spPr>
          <a:xfrm>
            <a:off x="1828800" y="5562720"/>
            <a:ext cx="541008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3672000" y="1886040"/>
            <a:ext cx="419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I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You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he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He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It’ll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We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They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61520" y="123336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080080" y="5513400"/>
            <a:ext cx="483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Wi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contracted to 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304920" y="1854360"/>
            <a:ext cx="419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  I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ACD1-C2A0-4B3E-A41A-02ED17F71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1295280" y="3809880"/>
            <a:ext cx="6629400" cy="762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7440" y="1447920"/>
            <a:ext cx="83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I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’m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ot 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tow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08160" y="251460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An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n’t going to d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68720" y="3886200"/>
            <a:ext cx="63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ATIV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A9E-607D-4BC7-B26B-8AE66D32D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687960" y="15811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457200" y="2670120"/>
            <a:ext cx="805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 Amy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will not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t work tomorrow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) Amy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won’t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t work tomorrow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750120" y="470844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2586960" y="47401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wi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4264560" y="47242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5124960" y="4740120"/>
            <a:ext cx="9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15834 0.0044 E">
                                      <p:cBhvr>
                                        <p:cTn id="611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11684 -0.00671 E">
                                      <p:cBhvr>
                                        <p:cTn id="61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FE02-5CFC-4F1B-98F9-3BD142F37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838080" y="2590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watch the game to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609480" y="1295280"/>
            <a:ext cx="9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n’t going to watch the game to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10"/>
          <p:cNvPicPr/>
          <p:nvPr/>
        </p:nvPicPr>
        <p:blipFill>
          <a:blip r:embed="rId1"/>
          <a:stretch/>
        </p:blipFill>
        <p:spPr>
          <a:xfrm>
            <a:off x="1828800" y="3809880"/>
            <a:ext cx="5562720" cy="2486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90" name="AutoShape 5"/>
          <p:cNvSpPr/>
          <p:nvPr/>
        </p:nvSpPr>
        <p:spPr>
          <a:xfrm>
            <a:off x="3657600" y="19810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1523880" y="2590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1297440" y="3124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C244-09AD-4161-B049-01746858F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457200" y="41911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___ go to the doctor this afterno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533520" y="1523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. Brown is sick. He is going to go to the doctor this afterno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1107360" y="4191120"/>
            <a:ext cx="4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바탕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0"/>
          <p:cNvSpPr/>
          <p:nvPr/>
        </p:nvSpPr>
        <p:spPr>
          <a:xfrm>
            <a:off x="3733920" y="320040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87960" y="49528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6BCC-1A47-4E6E-9462-89E4FEBCD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457200" y="4343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’ll have a picnic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685800" y="16002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have a picnic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3657600" y="31240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533520" y="4952880"/>
            <a:ext cx="716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3050280" y="51055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AF96-0363-47E8-99D6-1C352D51C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533520" y="1600200"/>
            <a:ext cx="8305560" cy="131292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ll Tom come home tomorrow?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10"/>
          <p:cNvPicPr/>
          <p:nvPr/>
        </p:nvPicPr>
        <p:blipFill>
          <a:blip r:embed="rId1"/>
          <a:stretch/>
        </p:blipFill>
        <p:spPr>
          <a:xfrm>
            <a:off x="2895480" y="2971800"/>
            <a:ext cx="2568600" cy="31240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11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3DC-AF5A-4B06-8FE2-38BCBD901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298080" y="2895480"/>
            <a:ext cx="7820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Rita            go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524240" y="4618080"/>
            <a:ext cx="27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es, she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4962960" y="461808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, she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o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125E-803B-4806-91A9-B055DC5DC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232920" y="2879640"/>
            <a:ext cx="780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they         go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 later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1371600" y="46180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es,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4810320" y="461808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,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o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6FB-341C-41B0-8F90-D5D2858FE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232560" y="2879640"/>
            <a:ext cx="8620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When 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they          b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ond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047400" y="464832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xt weeken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)   +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5D3A-BFF3-4A89-9858-67619AE2A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"/>
          <p:cNvSpPr/>
          <p:nvPr/>
        </p:nvSpPr>
        <p:spPr>
          <a:xfrm>
            <a:off x="232920" y="2879640"/>
            <a:ext cx="8034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What time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we            g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3634560" y="464832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:30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.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)     +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4DEA-C8FB-4138-BF88-644AB5442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232560" y="2879640"/>
            <a:ext cx="8576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Where 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she         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352680" y="46483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 colle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)   +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A703-F91D-4828-9288-6B2140D67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1981080" y="4800600"/>
            <a:ext cx="4800600" cy="129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3600" y="1219320"/>
            <a:ext cx="71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at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63320" y="2438280"/>
            <a:ext cx="79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going to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school tomorrow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3960" y="3581280"/>
            <a:ext cx="81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What tim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going 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p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i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81080" y="4876920"/>
            <a:ext cx="47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subject +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572440" y="17524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y are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563080" y="29718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he 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639760" y="4114800"/>
            <a:ext cx="26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7D0F-5D2C-4322-9DCA-7500A766D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8" descr="9"/>
          <p:cNvPicPr/>
          <p:nvPr/>
        </p:nvPicPr>
        <p:blipFill>
          <a:blip r:embed="rId1"/>
          <a:stretch/>
        </p:blipFill>
        <p:spPr>
          <a:xfrm>
            <a:off x="1447920" y="3886200"/>
            <a:ext cx="2819160" cy="26146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57" name="AutoShape 9"/>
          <p:cNvSpPr/>
          <p:nvPr/>
        </p:nvSpPr>
        <p:spPr>
          <a:xfrm>
            <a:off x="4952880" y="3505320"/>
            <a:ext cx="3429000" cy="1828800"/>
          </a:xfrm>
          <a:prstGeom prst="wedgeRoundRectCallout">
            <a:avLst>
              <a:gd name="adj1" fmla="val -72037"/>
              <a:gd name="adj2" fmla="val 1267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0"/>
          <p:cNvSpPr/>
          <p:nvPr/>
        </p:nvSpPr>
        <p:spPr>
          <a:xfrm>
            <a:off x="685800" y="1447920"/>
            <a:ext cx="5791320" cy="1371600"/>
          </a:xfrm>
          <a:prstGeom prst="wedgeRoundRectCallout">
            <a:avLst>
              <a:gd name="adj1" fmla="val -29685"/>
              <a:gd name="adj2" fmla="val 135879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1219320" y="1676520"/>
            <a:ext cx="41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1143000" y="182088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1028160" y="1720800"/>
            <a:ext cx="49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will you gradu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6019920" y="4419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181840" y="380988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ill graduat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Jun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838080" y="1782720"/>
            <a:ext cx="56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A45D-8D6A-4226-B243-0DFD21197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9"/>
          <p:cNvPicPr/>
          <p:nvPr/>
        </p:nvPicPr>
        <p:blipFill>
          <a:blip r:embed="rId1"/>
          <a:stretch/>
        </p:blipFill>
        <p:spPr>
          <a:xfrm>
            <a:off x="1447920" y="3886200"/>
            <a:ext cx="2819160" cy="26146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68" name="AutoShape 5"/>
          <p:cNvSpPr/>
          <p:nvPr/>
        </p:nvSpPr>
        <p:spPr>
          <a:xfrm>
            <a:off x="4952880" y="3505320"/>
            <a:ext cx="3429000" cy="2209680"/>
          </a:xfrm>
          <a:prstGeom prst="wedgeRoundRectCallout">
            <a:avLst>
              <a:gd name="adj1" fmla="val -72037"/>
              <a:gd name="adj2" fmla="val 186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533520" y="1447920"/>
            <a:ext cx="7238880" cy="1371600"/>
          </a:xfrm>
          <a:prstGeom prst="wedgeRoundRectCallout">
            <a:avLst>
              <a:gd name="adj1" fmla="val -31643"/>
              <a:gd name="adj2" fmla="val 135879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1219320" y="1676520"/>
            <a:ext cx="41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1143000" y="182088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760680" y="1720800"/>
            <a:ext cx="65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will you live after colle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6019920" y="4419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5245560" y="3809880"/>
            <a:ext cx="302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ill live in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enos Air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colleg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571680" y="17827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CFDB-FFF6-48CF-A484-ADF2EF6A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304920" y="1600200"/>
            <a:ext cx="5486400" cy="1143000"/>
          </a:xfrm>
          <a:prstGeom prst="wedgeRoundRectCallout">
            <a:avLst>
              <a:gd name="adj1" fmla="val -14671"/>
              <a:gd name="adj2" fmla="val 11972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10"/>
          <p:cNvPicPr/>
          <p:nvPr/>
        </p:nvPicPr>
        <p:blipFill>
          <a:blip r:embed="rId1"/>
          <a:stretch/>
        </p:blipFill>
        <p:spPr>
          <a:xfrm>
            <a:off x="1143000" y="3581280"/>
            <a:ext cx="3809880" cy="24829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80" name="Text Box 9"/>
          <p:cNvSpPr/>
          <p:nvPr/>
        </p:nvSpPr>
        <p:spPr>
          <a:xfrm>
            <a:off x="990720" y="190512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533520" y="172080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we go out for lun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1"/>
          <p:cNvSpPr/>
          <p:nvPr/>
        </p:nvSpPr>
        <p:spPr>
          <a:xfrm>
            <a:off x="5562720" y="2971800"/>
            <a:ext cx="3276360" cy="1676520"/>
          </a:xfrm>
          <a:prstGeom prst="wedgeRoundRectCallout">
            <a:avLst>
              <a:gd name="adj1" fmla="val -76939"/>
              <a:gd name="adj2" fmla="val 58523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6553080" y="27432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5639400" y="3200400"/>
            <a:ext cx="33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, we will g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 for lunch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838080" y="243036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380880" y="1782720"/>
            <a:ext cx="54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99BE-6F57-4B04-94F7-9707DDAF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28600" y="1600200"/>
            <a:ext cx="6400800" cy="1143000"/>
          </a:xfrm>
          <a:prstGeom prst="wedgeRoundRectCallout">
            <a:avLst>
              <a:gd name="adj1" fmla="val -18527"/>
              <a:gd name="adj2" fmla="val 11972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10"/>
          <p:cNvPicPr/>
          <p:nvPr/>
        </p:nvPicPr>
        <p:blipFill>
          <a:blip r:embed="rId1"/>
          <a:stretch/>
        </p:blipFill>
        <p:spPr>
          <a:xfrm>
            <a:off x="1143000" y="3581280"/>
            <a:ext cx="3809880" cy="24829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91" name="Text Box 5"/>
          <p:cNvSpPr/>
          <p:nvPr/>
        </p:nvSpPr>
        <p:spPr>
          <a:xfrm>
            <a:off x="990720" y="190512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04920" y="1752480"/>
            <a:ext cx="60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ime will we go to lun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5562720" y="3124080"/>
            <a:ext cx="3352680" cy="1371600"/>
          </a:xfrm>
          <a:prstGeom prst="wedgeRoundRectCallout">
            <a:avLst>
              <a:gd name="adj1" fmla="val -76324"/>
              <a:gd name="adj2" fmla="val 71527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5773680" y="32004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go t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nch at 1:30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838080" y="243036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152280" y="1782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1C7F-E744-4285-BE69-5D9793883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287964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1705320" y="1447920"/>
            <a:ext cx="5753880" cy="764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eat lunch every da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9" descr="C10S66_26499302_customer restaurant"/>
          <p:cNvPicPr/>
          <p:nvPr/>
        </p:nvPicPr>
        <p:blipFill>
          <a:blip r:embed="rId1"/>
          <a:stretch/>
        </p:blipFill>
        <p:spPr>
          <a:xfrm>
            <a:off x="2514600" y="3073320"/>
            <a:ext cx="4038480" cy="26830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8A8A-FB97-4B4B-AAC0-AC5857B37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764280" y="1752480"/>
            <a:ext cx="257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>
            <a:off x="3734640" y="1720800"/>
            <a:ext cx="236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fa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e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akfa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6479280" y="1720800"/>
            <a:ext cx="203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fa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548280" y="2568600"/>
            <a:ext cx="29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RES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>
            <a:off x="15228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0"/>
          <p:cNvSpPr/>
          <p:nvPr/>
        </p:nvSpPr>
        <p:spPr>
          <a:xfrm>
            <a:off x="3429000" y="121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1"/>
          <p:cNvSpPr/>
          <p:nvPr/>
        </p:nvSpPr>
        <p:spPr>
          <a:xfrm>
            <a:off x="6172200" y="12193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2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5"/>
          <p:cNvSpPr/>
          <p:nvPr/>
        </p:nvSpPr>
        <p:spPr>
          <a:xfrm>
            <a:off x="6094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8"/>
          <p:cNvSpPr/>
          <p:nvPr/>
        </p:nvSpPr>
        <p:spPr>
          <a:xfrm>
            <a:off x="152280" y="1219320"/>
            <a:ext cx="8683920" cy="52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32" descr="C10S66_26499302_customer restaurant"/>
          <p:cNvPicPr/>
          <p:nvPr/>
        </p:nvPicPr>
        <p:blipFill>
          <a:blip r:embed="rId1"/>
          <a:stretch/>
        </p:blipFill>
        <p:spPr>
          <a:xfrm>
            <a:off x="3276720" y="4343400"/>
            <a:ext cx="3047760" cy="20257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617" name="Line 33"/>
          <p:cNvSpPr/>
          <p:nvPr/>
        </p:nvSpPr>
        <p:spPr>
          <a:xfrm>
            <a:off x="609480" y="41911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152280" y="1676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6"/>
          <p:cNvSpPr/>
          <p:nvPr/>
        </p:nvSpPr>
        <p:spPr>
          <a:xfrm>
            <a:off x="3429000" y="12193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7"/>
          <p:cNvSpPr/>
          <p:nvPr/>
        </p:nvSpPr>
        <p:spPr>
          <a:xfrm>
            <a:off x="6094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8"/>
          <p:cNvSpPr/>
          <p:nvPr/>
        </p:nvSpPr>
        <p:spPr>
          <a:xfrm>
            <a:off x="152280" y="1219320"/>
            <a:ext cx="868392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9"/>
          <p:cNvSpPr/>
          <p:nvPr/>
        </p:nvSpPr>
        <p:spPr>
          <a:xfrm>
            <a:off x="609480" y="41911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739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6.93642E-007 L -0.14462 6.93642E-007 E">
                                      <p:cBhvr>
                                        <p:cTn id="742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27E4-10CC-4E12-ACEC-40AE296C2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2"/>
          <p:cNvSpPr/>
          <p:nvPr/>
        </p:nvSpPr>
        <p:spPr>
          <a:xfrm>
            <a:off x="1148760" y="1801800"/>
            <a:ext cx="2277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ch righ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8"/>
          <p:cNvSpPr/>
          <p:nvPr/>
        </p:nvSpPr>
        <p:spPr>
          <a:xfrm>
            <a:off x="94500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9"/>
          <p:cNvSpPr/>
          <p:nvPr/>
        </p:nvSpPr>
        <p:spPr>
          <a:xfrm>
            <a:off x="373860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6327720" y="1787400"/>
            <a:ext cx="2472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688320" y="2743200"/>
            <a:ext cx="239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3740760" y="1787400"/>
            <a:ext cx="2257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1"/>
          <p:cNvSpPr/>
          <p:nvPr/>
        </p:nvSpPr>
        <p:spPr>
          <a:xfrm>
            <a:off x="96516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2"/>
          <p:cNvSpPr/>
          <p:nvPr/>
        </p:nvSpPr>
        <p:spPr>
          <a:xfrm>
            <a:off x="35812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3"/>
          <p:cNvSpPr/>
          <p:nvPr/>
        </p:nvSpPr>
        <p:spPr>
          <a:xfrm>
            <a:off x="624852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763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51445E-007 L -0.13125 7.51445E-007 E">
                                      <p:cBhvr>
                                        <p:cTn id="766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40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DB3F-F65A-4848-B982-09DC03F4E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613080" y="1752480"/>
            <a:ext cx="266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3570480" y="1738440"/>
            <a:ext cx="21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ea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6270480" y="1738440"/>
            <a:ext cx="241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ar l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303480" y="2378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4" descr="10"/>
          <p:cNvPicPr/>
          <p:nvPr/>
        </p:nvPicPr>
        <p:blipFill>
          <a:blip r:embed="rId1"/>
          <a:stretch/>
        </p:blipFill>
        <p:spPr>
          <a:xfrm>
            <a:off x="2743200" y="3962520"/>
            <a:ext cx="3581280" cy="2270160"/>
          </a:xfrm>
          <a:prstGeom prst="rect">
            <a:avLst/>
          </a:prstGeom>
          <a:ln w="0">
            <a:noFill/>
          </a:ln>
        </p:spPr>
      </p:pic>
      <p:sp>
        <p:nvSpPr>
          <p:cNvPr id="643" name="Line 18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2"/>
          <p:cNvSpPr/>
          <p:nvPr/>
        </p:nvSpPr>
        <p:spPr>
          <a:xfrm>
            <a:off x="228600" y="388620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3"/>
          <p:cNvSpPr/>
          <p:nvPr/>
        </p:nvSpPr>
        <p:spPr>
          <a:xfrm>
            <a:off x="3352680" y="1219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4"/>
          <p:cNvSpPr/>
          <p:nvPr/>
        </p:nvSpPr>
        <p:spPr>
          <a:xfrm>
            <a:off x="6081840" y="1219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5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6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7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8"/>
          <p:cNvSpPr/>
          <p:nvPr/>
        </p:nvSpPr>
        <p:spPr>
          <a:xfrm>
            <a:off x="609480" y="1219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9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21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4624E-006 L -0.08316 -4.04624E-006 E">
                                      <p:cBhvr>
                                        <p:cTn id="824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41E4-5517-4B10-962A-57B212F9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6324120" y="1738440"/>
            <a:ext cx="248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f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up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608400" y="275256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GOING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644400" y="1752480"/>
            <a:ext cx="2686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m go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unc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go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p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un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3504240" y="1738440"/>
            <a:ext cx="2596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to ea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f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fas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8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1"/>
          <p:cNvSpPr/>
          <p:nvPr/>
        </p:nvSpPr>
        <p:spPr>
          <a:xfrm>
            <a:off x="7002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>
            <a:off x="33526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4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46821E-007 L -0.12934 3.46821E-007 E">
                                      <p:cBhvr>
                                        <p:cTn id="846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3B9E-354A-47EE-A2BD-4736A2413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357516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725400" y="1752480"/>
            <a:ext cx="255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nner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3581280" y="1738440"/>
            <a:ext cx="207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nn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477840" y="1738440"/>
            <a:ext cx="227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os f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3"/>
          <p:cNvSpPr/>
          <p:nvPr/>
        </p:nvSpPr>
        <p:spPr>
          <a:xfrm>
            <a:off x="838800" y="1981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4" descr="10"/>
          <p:cNvPicPr/>
          <p:nvPr/>
        </p:nvPicPr>
        <p:blipFill>
          <a:blip r:embed="rId1"/>
          <a:stretch/>
        </p:blipFill>
        <p:spPr>
          <a:xfrm>
            <a:off x="2590920" y="3505320"/>
            <a:ext cx="4038480" cy="2819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675" name="Text Box 15"/>
          <p:cNvSpPr/>
          <p:nvPr/>
        </p:nvSpPr>
        <p:spPr>
          <a:xfrm>
            <a:off x="5637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8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228600" y="33526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3"/>
          <p:cNvSpPr/>
          <p:nvPr/>
        </p:nvSpPr>
        <p:spPr>
          <a:xfrm>
            <a:off x="2971800" y="12193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4"/>
          <p:cNvSpPr/>
          <p:nvPr/>
        </p:nvSpPr>
        <p:spPr>
          <a:xfrm>
            <a:off x="6073920" y="1219320"/>
            <a:ext cx="2196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5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6"/>
          <p:cNvSpPr/>
          <p:nvPr/>
        </p:nvSpPr>
        <p:spPr>
          <a:xfrm>
            <a:off x="595440" y="12193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65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89017E-007 L -0.09236 2.89017E-007 E">
                                      <p:cBhvr>
                                        <p:cTn id="868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F708-793A-400C-9A41-BA9D74C16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>
            <a:off x="3894120" y="1219320"/>
            <a:ext cx="2500200" cy="1266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733920" y="129528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10"/>
          <p:cNvPicPr/>
          <p:nvPr/>
        </p:nvPicPr>
        <p:blipFill>
          <a:blip r:embed="rId1"/>
          <a:stretch/>
        </p:blipFill>
        <p:spPr>
          <a:xfrm>
            <a:off x="380880" y="3886200"/>
            <a:ext cx="4114800" cy="26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67" name="AutoShape 13"/>
          <p:cNvSpPr/>
          <p:nvPr/>
        </p:nvSpPr>
        <p:spPr>
          <a:xfrm>
            <a:off x="457200" y="1600200"/>
            <a:ext cx="3276720" cy="1752480"/>
          </a:xfrm>
          <a:prstGeom prst="wedgeRoundRectCallout">
            <a:avLst>
              <a:gd name="adj1" fmla="val -19912"/>
              <a:gd name="adj2" fmla="val 93208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33520" y="175248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going to go to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on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5181480" y="3124080"/>
            <a:ext cx="3657600" cy="2362320"/>
          </a:xfrm>
          <a:prstGeom prst="wedgeRoundRectCallout">
            <a:avLst>
              <a:gd name="adj1" fmla="val -90106"/>
              <a:gd name="adj2" fmla="val 1290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5257800" y="3352680"/>
            <a:ext cx="35053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 a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going to go to work on Mon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5257800" y="3429000"/>
            <a:ext cx="3429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.  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25FF-53F2-4E0D-8944-2E8E45829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1523880" y="30481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now Mr. Kim ________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his nephe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5869440" y="304812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play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6"/>
          <p:cNvSpPr/>
          <p:nvPr/>
        </p:nvSpPr>
        <p:spPr>
          <a:xfrm>
            <a:off x="3429000" y="1523880"/>
            <a:ext cx="213372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AF82-50AF-4276-9AB3-9475088C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152280" y="23623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 to school with Jack every 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152640" y="236232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6"/>
          <p:cNvSpPr/>
          <p:nvPr/>
        </p:nvSpPr>
        <p:spPr>
          <a:xfrm>
            <a:off x="3352680" y="137160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e  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10" descr="10"/>
          <p:cNvPicPr/>
          <p:nvPr/>
        </p:nvPicPr>
        <p:blipFill>
          <a:blip r:embed="rId1"/>
          <a:stretch/>
        </p:blipFill>
        <p:spPr>
          <a:xfrm>
            <a:off x="1752480" y="3581280"/>
            <a:ext cx="5181840" cy="28544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0F8E-6596-47BE-914E-E1A1021BD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"/>
          <p:cNvSpPr/>
          <p:nvPr/>
        </p:nvSpPr>
        <p:spPr>
          <a:xfrm>
            <a:off x="1600200" y="2057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 to school with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 yester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1676520" y="20574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you r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3"/>
          <p:cNvSpPr/>
          <p:nvPr/>
        </p:nvSpPr>
        <p:spPr>
          <a:xfrm>
            <a:off x="3352680" y="137160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e  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4" descr="10"/>
          <p:cNvPicPr/>
          <p:nvPr/>
        </p:nvPicPr>
        <p:blipFill>
          <a:blip r:embed="rId1"/>
          <a:stretch/>
        </p:blipFill>
        <p:spPr>
          <a:xfrm>
            <a:off x="1752480" y="3581280"/>
            <a:ext cx="5181840" cy="28544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AD3B-EDD7-4C6A-8EE6-3AD0CE2E6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"/>
          <p:cNvSpPr/>
          <p:nvPr/>
        </p:nvSpPr>
        <p:spPr>
          <a:xfrm>
            <a:off x="838080" y="2133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 t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ool with Jack next Fri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933480" y="217800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you going to r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8" descr="10"/>
          <p:cNvPicPr/>
          <p:nvPr/>
        </p:nvPicPr>
        <p:blipFill>
          <a:blip r:embed="rId1"/>
          <a:stretch/>
        </p:blipFill>
        <p:spPr>
          <a:xfrm>
            <a:off x="1752480" y="3581280"/>
            <a:ext cx="5181840" cy="28544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05" name="AutoShape 20"/>
          <p:cNvSpPr/>
          <p:nvPr/>
        </p:nvSpPr>
        <p:spPr>
          <a:xfrm>
            <a:off x="3352680" y="137160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e  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4ECB-D195-404E-B7AC-6F598CA9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287964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1861200" y="1447920"/>
            <a:ext cx="5397480" cy="764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from Australia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5" descr="1"/>
          <p:cNvPicPr/>
          <p:nvPr/>
        </p:nvPicPr>
        <p:blipFill>
          <a:blip r:embed="rId1"/>
          <a:stretch/>
        </p:blipFill>
        <p:spPr>
          <a:xfrm>
            <a:off x="2100240" y="2641680"/>
            <a:ext cx="4952880" cy="33019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10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D27D-B391-4B10-8B48-2F908557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6480360" y="1787400"/>
            <a:ext cx="2356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pla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fr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e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entin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1144440" y="1801800"/>
            <a:ext cx="219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ustr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3660480" y="1787400"/>
            <a:ext cx="245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Vietna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ila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Belgiu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2"/>
          <p:cNvSpPr/>
          <p:nvPr/>
        </p:nvSpPr>
        <p:spPr>
          <a:xfrm>
            <a:off x="307800" y="305748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RES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8"/>
          <p:cNvSpPr/>
          <p:nvPr/>
        </p:nvSpPr>
        <p:spPr>
          <a:xfrm>
            <a:off x="838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9"/>
          <p:cNvSpPr/>
          <p:nvPr/>
        </p:nvSpPr>
        <p:spPr>
          <a:xfrm>
            <a:off x="33526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0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11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31214E-006 L -0.10539 -2.31214E-006 E">
                                      <p:cBhvr>
                                        <p:cTn id="914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000"/>
                            </p:stCondLst>
                            <p:childTnLst>
                              <p:par>
                                <p:cTn id="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8979-898F-4C7C-AC1A-E896B6DFD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6219000" y="1738440"/>
            <a:ext cx="261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a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ho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654120" y="1752480"/>
            <a:ext cx="239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3276000" y="1738440"/>
            <a:ext cx="2620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s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266760" y="2432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8"/>
          <p:cNvSpPr/>
          <p:nvPr/>
        </p:nvSpPr>
        <p:spPr>
          <a:xfrm>
            <a:off x="64008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358632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1"/>
          <p:cNvSpPr/>
          <p:nvPr/>
        </p:nvSpPr>
        <p:spPr>
          <a:xfrm>
            <a:off x="6858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77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980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4000"/>
                            </p:stCondLst>
                            <p:childTnLst>
                              <p:par>
                                <p:cTn id="9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4500"/>
                            </p:stCondLst>
                            <p:childTnLst>
                              <p:par>
                                <p:cTn id="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5A79-079F-4C1A-B54A-CFA46CA85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6481080" y="1787400"/>
            <a:ext cx="221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go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to 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765360" y="1801800"/>
            <a:ext cx="2273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go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to 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1"/>
          <p:cNvSpPr/>
          <p:nvPr/>
        </p:nvSpPr>
        <p:spPr>
          <a:xfrm>
            <a:off x="3375000" y="1787400"/>
            <a:ext cx="2806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m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452880" y="305748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GOING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008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358632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8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0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1"/>
          <p:cNvSpPr/>
          <p:nvPr/>
        </p:nvSpPr>
        <p:spPr>
          <a:xfrm>
            <a:off x="6858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2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2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83237E-006 L -0.09236 2.83237E-006 E">
                                      <p:cBhvr>
                                        <p:cTn id="1028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D77C-60C4-4553-A408-67DDF922C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"/>
          <p:cNvSpPr/>
          <p:nvPr/>
        </p:nvSpPr>
        <p:spPr>
          <a:xfrm>
            <a:off x="6219000" y="1738440"/>
            <a:ext cx="223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"/>
          <p:cNvSpPr/>
          <p:nvPr/>
        </p:nvSpPr>
        <p:spPr>
          <a:xfrm>
            <a:off x="654120" y="1752480"/>
            <a:ext cx="224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lass Fri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3277080" y="1738440"/>
            <a:ext cx="2100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in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911520" y="243216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64008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358632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6858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3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10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112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91C3-F1FE-4863-A162-76E7F0F64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"/>
          <p:cNvSpPr/>
          <p:nvPr/>
        </p:nvSpPr>
        <p:spPr>
          <a:xfrm>
            <a:off x="304920" y="21337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___ at a baseball game right n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1221840" y="21193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9" descr="10"/>
          <p:cNvPicPr/>
          <p:nvPr/>
        </p:nvPicPr>
        <p:blipFill>
          <a:blip r:embed="rId1"/>
          <a:stretch/>
        </p:blipFill>
        <p:spPr>
          <a:xfrm>
            <a:off x="3352680" y="3124080"/>
            <a:ext cx="2665440" cy="3454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71" name="AutoShape 10"/>
          <p:cNvSpPr/>
          <p:nvPr/>
        </p:nvSpPr>
        <p:spPr>
          <a:xfrm>
            <a:off x="3962520" y="13716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3380-71A5-4206-88B1-1C3B8A4FE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200" y="1371600"/>
            <a:ext cx="320040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4920" y="137160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the n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10"/>
          <p:cNvPicPr/>
          <p:nvPr/>
        </p:nvPicPr>
        <p:blipFill>
          <a:blip r:embed="rId1"/>
          <a:stretch/>
        </p:blipFill>
        <p:spPr>
          <a:xfrm>
            <a:off x="4191120" y="3809880"/>
            <a:ext cx="4114800" cy="26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77" name="AutoShape 6"/>
          <p:cNvSpPr/>
          <p:nvPr/>
        </p:nvSpPr>
        <p:spPr>
          <a:xfrm>
            <a:off x="380880" y="3352680"/>
            <a:ext cx="3429000" cy="1752840"/>
          </a:xfrm>
          <a:prstGeom prst="wedgeRoundRectCallout">
            <a:avLst>
              <a:gd name="adj1" fmla="val 68750"/>
              <a:gd name="adj2" fmla="val 29439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33520" y="350532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news on TV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4343400" y="1143000"/>
            <a:ext cx="4419720" cy="1981080"/>
          </a:xfrm>
          <a:prstGeom prst="wedgeRoundRectCallout">
            <a:avLst>
              <a:gd name="adj1" fmla="val -8189"/>
              <a:gd name="adj2" fmla="val 105768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572000" y="129528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’m no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not going to watch the news on T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4572000" y="12952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.  ______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A1D5-D76F-4353-B904-719C246B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533520" y="21337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_______ at the game last Fri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451160" y="2136600"/>
            <a:ext cx="21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 no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9" descr="10"/>
          <p:cNvPicPr/>
          <p:nvPr/>
        </p:nvPicPr>
        <p:blipFill>
          <a:blip r:embed="rId1"/>
          <a:stretch/>
        </p:blipFill>
        <p:spPr>
          <a:xfrm>
            <a:off x="3276720" y="3048120"/>
            <a:ext cx="2665440" cy="34542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77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3"/>
          <p:cNvSpPr/>
          <p:nvPr/>
        </p:nvSpPr>
        <p:spPr>
          <a:xfrm>
            <a:off x="3581280" y="1371600"/>
            <a:ext cx="243864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  no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F633-1818-496D-85F5-FC7C0C408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747720" y="1905120"/>
            <a:ext cx="8396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ly and Jan ____________ a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ame next Fri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585240" y="20574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going to b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7" descr="10"/>
          <p:cNvPicPr/>
          <p:nvPr/>
        </p:nvPicPr>
        <p:blipFill>
          <a:blip r:embed="rId1"/>
          <a:stretch/>
        </p:blipFill>
        <p:spPr>
          <a:xfrm>
            <a:off x="3505320" y="3581280"/>
            <a:ext cx="2314440" cy="29973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83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3962520" y="1295280"/>
            <a:ext cx="106668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8972-139A-4BBF-B457-53EC9F742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"/>
          <p:cNvSpPr/>
          <p:nvPr/>
        </p:nvSpPr>
        <p:spPr>
          <a:xfrm>
            <a:off x="671400" y="2057400"/>
            <a:ext cx="8396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 Lily and Jan ___ at the gam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Frida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4574160" y="22096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9" descr="10"/>
          <p:cNvPicPr/>
          <p:nvPr/>
        </p:nvPicPr>
        <p:blipFill>
          <a:blip r:embed="rId1"/>
          <a:stretch/>
        </p:blipFill>
        <p:spPr>
          <a:xfrm>
            <a:off x="4952880" y="3429000"/>
            <a:ext cx="2314800" cy="29973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90" name="AutoShape 10"/>
          <p:cNvSpPr/>
          <p:nvPr/>
        </p:nvSpPr>
        <p:spPr>
          <a:xfrm>
            <a:off x="3962520" y="12952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609480" y="22096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2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63DF-B7FE-45FA-BAAE-768143ABE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463680" y="1585800"/>
            <a:ext cx="544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used under license fro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tterstock, Inc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art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 CRED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15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05B5-AE50-4DD8-8550-4802C9262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685800" y="1295280"/>
            <a:ext cx="3124080" cy="129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10"/>
          <p:cNvPicPr/>
          <p:nvPr/>
        </p:nvPicPr>
        <p:blipFill>
          <a:blip r:embed="rId1"/>
          <a:stretch/>
        </p:blipFill>
        <p:spPr>
          <a:xfrm>
            <a:off x="4495680" y="3886200"/>
            <a:ext cx="4114800" cy="26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86" name="Text Box 3"/>
          <p:cNvSpPr/>
          <p:nvPr/>
        </p:nvSpPr>
        <p:spPr>
          <a:xfrm>
            <a:off x="685800" y="12952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Engli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33520" y="3352680"/>
            <a:ext cx="3429000" cy="1752840"/>
          </a:xfrm>
          <a:prstGeom prst="wedgeRoundRectCallout">
            <a:avLst>
              <a:gd name="adj1" fmla="val 88564"/>
              <a:gd name="adj2" fmla="val 1629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09480" y="34750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Engli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800600" y="1447920"/>
            <a:ext cx="3657600" cy="1981080"/>
          </a:xfrm>
          <a:prstGeom prst="wedgeRoundRectCallout">
            <a:avLst>
              <a:gd name="adj1" fmla="val 26217"/>
              <a:gd name="adj2" fmla="val 86537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4952880" y="16002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 a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going to study English this y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4"/>
          <p:cNvSpPr/>
          <p:nvPr/>
        </p:nvSpPr>
        <p:spPr>
          <a:xfrm>
            <a:off x="2133720" y="3505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952880" y="16002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.  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11:54:18Z</dcterms:created>
  <dc:creator>Laurette Simmons</dc:creator>
  <dc:description/>
  <dc:language>en-US</dc:language>
  <cp:lastModifiedBy>Morgan Bondelid</cp:lastModifiedBy>
  <dcterms:modified xsi:type="dcterms:W3CDTF">2008-06-13T18:12:55Z</dcterms:modified>
  <cp:revision>275</cp:revision>
  <dc:subject/>
  <dc:title>Chapter 1 Using Be</dc:title>
</cp:coreProperties>
</file>