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ACE1-D8B1-47C8-B1C4-24239FAF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6C62-F97C-45A0-AFFF-05AB0764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F700-EB19-4DD7-8482-EB6CC718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4CFF-2634-4701-BBA2-E94701A4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10F3-1978-42C8-AE83-48455991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2A32-C438-4A84-AD88-114AFE16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93B3-C238-4C9F-AAE3-4D6592F1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B74E-510D-4593-A183-3FF35A37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B66C-4444-48D9-874F-8BA4EADF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3DB4-F3C5-4BE9-B72B-1F58FD82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349F-9939-433B-94D4-21A499C4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957C-25E0-440E-81A5-13C89496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83681F-2D92-4606-A54F-24E378CA3D9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0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9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слова"/>
          <p:cNvPicPr/>
          <p:nvPr/>
        </p:nvPicPr>
        <p:blipFill>
          <a:blip r:embed="rId1"/>
          <a:srcRect l="10896" t="3386" r="9201" b="6781"/>
          <a:stretch/>
        </p:blipFill>
        <p:spPr>
          <a:xfrm>
            <a:off x="357120" y="285840"/>
            <a:ext cx="8302680" cy="50004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642960" y="4857840"/>
            <a:ext cx="828648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9fc0ff"/>
                </a:solidFill>
                <a:latin typeface="Calibri"/>
              </a:rPr>
              <a:t>Контрольные материал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9fc0ff"/>
                </a:solidFill>
                <a:latin typeface="Calibri"/>
              </a:rPr>
              <a:t>по словообразова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9fc0ff"/>
                </a:solidFill>
                <a:latin typeface="Calibri"/>
              </a:rPr>
              <a:t>с отве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226800" y="1857240"/>
            <a:ext cx="2945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si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возмож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224640" y="2428920"/>
            <a:ext cx="2970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соглашатьс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214200" y="3000240"/>
            <a:ext cx="2428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охож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216720" y="3571920"/>
            <a:ext cx="3053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тимистическ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5153040" y="1500120"/>
            <a:ext cx="2499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ззаботны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142920" y="1357200"/>
            <a:ext cx="3500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uma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счеловечны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5228280" y="3214800"/>
            <a:ext cx="3108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popula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опулярны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8"/>
          <p:cNvSpPr/>
          <p:nvPr/>
        </p:nvSpPr>
        <p:spPr>
          <a:xfrm>
            <a:off x="5220360" y="3714840"/>
            <a:ext cx="2316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tas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 вкус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9"/>
          <p:cNvSpPr/>
          <p:nvPr/>
        </p:nvSpPr>
        <p:spPr>
          <a:xfrm>
            <a:off x="5153400" y="2000160"/>
            <a:ext cx="2576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cces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пеш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0"/>
          <p:cNvSpPr/>
          <p:nvPr/>
        </p:nvSpPr>
        <p:spPr>
          <a:xfrm>
            <a:off x="5145840" y="2643120"/>
            <a:ext cx="20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ез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1"/>
          <p:cNvSpPr/>
          <p:nvPr/>
        </p:nvSpPr>
        <p:spPr>
          <a:xfrm>
            <a:off x="1000080" y="214200"/>
            <a:ext cx="74293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авьте  слова , добавляя к основе приставки или  суффиксы в зависимости от значения слова, данного в скоб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2"/>
          <p:cNvSpPr/>
          <p:nvPr/>
        </p:nvSpPr>
        <p:spPr>
          <a:xfrm>
            <a:off x="1643040" y="5119200"/>
            <a:ext cx="692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3"/>
          <p:cNvSpPr/>
          <p:nvPr/>
        </p:nvSpPr>
        <p:spPr>
          <a:xfrm>
            <a:off x="4156920" y="5428800"/>
            <a:ext cx="575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4"/>
          <p:cNvSpPr/>
          <p:nvPr/>
        </p:nvSpPr>
        <p:spPr>
          <a:xfrm>
            <a:off x="5932440" y="4357800"/>
            <a:ext cx="617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5"/>
          <p:cNvSpPr/>
          <p:nvPr/>
        </p:nvSpPr>
        <p:spPr>
          <a:xfrm>
            <a:off x="2786040" y="4643280"/>
            <a:ext cx="713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6"/>
          <p:cNvSpPr/>
          <p:nvPr/>
        </p:nvSpPr>
        <p:spPr>
          <a:xfrm>
            <a:off x="428760" y="4786200"/>
            <a:ext cx="999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7"/>
          <p:cNvSpPr/>
          <p:nvPr/>
        </p:nvSpPr>
        <p:spPr>
          <a:xfrm>
            <a:off x="7575480" y="5286240"/>
            <a:ext cx="714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8"/>
          <p:cNvSpPr/>
          <p:nvPr/>
        </p:nvSpPr>
        <p:spPr>
          <a:xfrm>
            <a:off x="1360800" y="4286160"/>
            <a:ext cx="597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9"/>
          <p:cNvSpPr/>
          <p:nvPr/>
        </p:nvSpPr>
        <p:spPr>
          <a:xfrm>
            <a:off x="5504400" y="5286240"/>
            <a:ext cx="597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0"/>
          <p:cNvSpPr/>
          <p:nvPr/>
        </p:nvSpPr>
        <p:spPr>
          <a:xfrm>
            <a:off x="4572000" y="4500720"/>
            <a:ext cx="999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1"/>
          <p:cNvSpPr/>
          <p:nvPr/>
        </p:nvSpPr>
        <p:spPr>
          <a:xfrm>
            <a:off x="8429400" y="4360320"/>
            <a:ext cx="597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2">
            <a:hlinkClick r:id="rId1" action="ppaction://hlinksldjump"/>
          </p:cNvPr>
          <p:cNvSpPr/>
          <p:nvPr/>
        </p:nvSpPr>
        <p:spPr>
          <a:xfrm>
            <a:off x="5000760" y="6215040"/>
            <a:ext cx="3857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ТВЕТЫ К УПРАЖНЕНИЮ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Алексей\Desktop\ИТ ПЕДАГОГ 2015\otveti-na-voprosi.jpg"/>
          <p:cNvPicPr/>
          <p:nvPr/>
        </p:nvPicPr>
        <p:blipFill>
          <a:blip r:embed="rId2"/>
          <a:stretch/>
        </p:blipFill>
        <p:spPr>
          <a:xfrm>
            <a:off x="6786720" y="4786200"/>
            <a:ext cx="1623600" cy="15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643040" y="500040"/>
            <a:ext cx="6429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ыделите словообразующие эле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285840" y="1124640"/>
            <a:ext cx="8572320" cy="7680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t--- reaction---- reactor----- reactivit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---- scientific----- scientis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y----industrial----- industriou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d---- coldly------ coldnes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k----- darkness------ darke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ppy----- happily------ happiness----- unhapp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----- equally------ unequal----- equalit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----- freedom----- freel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tion---- attentive------- attentivel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----- sunny------ sun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>
            <a:hlinkClick r:id="rId1" action="ppaction://hlinksldjump"/>
          </p:cNvPr>
          <p:cNvSpPr/>
          <p:nvPr/>
        </p:nvSpPr>
        <p:spPr>
          <a:xfrm>
            <a:off x="5429160" y="6215040"/>
            <a:ext cx="3285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ТВЕТЫ К УПРАЖНЕНИЮ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Рисунок 4"/>
          <p:cNvSpPr/>
          <p:nvPr/>
        </p:nvSpPr>
        <p:spPr>
          <a:xfrm>
            <a:off x="357120" y="4500720"/>
            <a:ext cx="1445400" cy="1902240"/>
          </a:xfrm>
          <a:prstGeom prst="flowChartPunchedCard">
            <a:avLst/>
          </a:prstGeom>
          <a:blipFill rotWithShape="0">
            <a:blip r:embed="rId2"/>
            <a:srcRect/>
            <a:stretch/>
          </a:blipFill>
          <a:ln w="0">
            <a:solidFill>
              <a:srgbClr val="c0504d">
                <a:lumMod val="50000"/>
              </a:srgbClr>
            </a:solidFill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hreePt"/>
          </a:scene3d>
          <a:sp3d/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Алексей\Desktop\ИТ ПЕДАГОГ 2015\otveti-na-voprosi.jpg"/>
          <p:cNvPicPr/>
          <p:nvPr/>
        </p:nvPicPr>
        <p:blipFill>
          <a:blip r:embed="rId3"/>
          <a:stretch/>
        </p:blipFill>
        <p:spPr>
          <a:xfrm>
            <a:off x="6864480" y="4500720"/>
            <a:ext cx="1760040" cy="164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785880" y="335880"/>
            <a:ext cx="707184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 – writer /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 – meaning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 – meaning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 – informant /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 – inform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 – informa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ain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ain – expla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ain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ain – explan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de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de – 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de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de – con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de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de – conclus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>
            <a:hlinkClick r:id="rId1" action="ppaction://hlinksldjump"/>
          </p:cNvPr>
          <p:cNvSpPr/>
          <p:nvPr/>
        </p:nvSpPr>
        <p:spPr>
          <a:xfrm>
            <a:off x="5072040" y="6143760"/>
            <a:ext cx="3642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ВЕРНУТЬСЯ К УПРАЖНЕНИЮ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714240" y="474480"/>
            <a:ext cx="61434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 – development / developer / develo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urage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urage – encour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urage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urage – encour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urage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urage – encouraging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lute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lute – pollution / poll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lute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lute – poll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truct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truct – destruction / destroying / de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truct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truct – destr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truct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truct – destru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ent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ent – prevention / preve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>
            <a:hlinkClick r:id="rId1" action="ppaction://hlinksldjump"/>
          </p:cNvPr>
          <p:cNvSpPr/>
          <p:nvPr/>
        </p:nvSpPr>
        <p:spPr>
          <a:xfrm>
            <a:off x="5572080" y="6143760"/>
            <a:ext cx="3285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ВЕРНУТЬСЯ К УПРАЖНЕНИЮ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1143000" y="357120"/>
            <a:ext cx="457164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ent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ent – preventive / prev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ent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ent – preven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erve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erve – conservatory / conservator / conservation / conser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erve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erve – conserv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erve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erve – conserva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 – protection / protector / prote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 – prot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y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y – varying / var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y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y – various / var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>
            <a:hlinkClick r:id="rId1" action="ppaction://hlinksldjump"/>
          </p:cNvPr>
          <p:cNvSpPr/>
          <p:nvPr/>
        </p:nvSpPr>
        <p:spPr>
          <a:xfrm>
            <a:off x="5357880" y="6072120"/>
            <a:ext cx="3357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ВЕРНУТЬСЯ К УПРАЖНЕНИЮ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785880" y="357120"/>
            <a:ext cx="457164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y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y – various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y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y – specifying / spec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y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y – specif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y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y – specific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facture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factory / manufacturer / manufacturing / manufa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facture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facture – manufactu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 – computor / comp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 – computeri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nt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nt – inventor / inventing / inven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nt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nt – inven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>
            <a:hlinkClick r:id="rId1" action="ppaction://hlinksldjump"/>
          </p:cNvPr>
          <p:cNvSpPr/>
          <p:nvPr/>
        </p:nvSpPr>
        <p:spPr>
          <a:xfrm>
            <a:off x="5429160" y="5857920"/>
            <a:ext cx="3214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ВЕРНУТЬСЯ К УПРАЖНЕНИЮ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571320" y="285840"/>
            <a:ext cx="457164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ver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ver – discoverer / discovery / discove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ver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ver – discov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– importer / import / impor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– impor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t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t – constructor / construction / construc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t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t – constru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t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t – constructive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olve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olve – evolving / evol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olve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olve – evol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ticize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ticize – politician / poli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>
            <a:hlinkClick r:id="rId1" action="ppaction://hlinksldjump"/>
          </p:cNvPr>
          <p:cNvSpPr/>
          <p:nvPr/>
        </p:nvSpPr>
        <p:spPr>
          <a:xfrm>
            <a:off x="5500800" y="6215040"/>
            <a:ext cx="3500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ВЕРНУТЬСЯ К УПРАЖНЕНИЮ №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2"/>
          <p:cNvSpPr/>
          <p:nvPr/>
        </p:nvSpPr>
        <p:spPr>
          <a:xfrm>
            <a:off x="714240" y="571320"/>
            <a:ext cx="75006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cia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зыкант)                     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ist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урналист)                   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ma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тальон) 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r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дитель)                            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tionist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министратор)          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a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ктрик)                     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ticia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ит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tist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ый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st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удожник                  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ma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жарный)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                                                     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>
            <a:hlinkClick r:id="rId1" action="ppaction://hlinksldjump"/>
          </p:cNvPr>
          <p:cNvSpPr/>
          <p:nvPr/>
        </p:nvSpPr>
        <p:spPr>
          <a:xfrm>
            <a:off x="4857840" y="6215040"/>
            <a:ext cx="3928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ВЕРНУТЬСЯ К УПРАЖНЕНИЮ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500040" y="571320"/>
            <a:ext cx="821484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cky  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ачный)                              9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tific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 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частливый)                         10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ness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зн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nder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удо)                                   1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thful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див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y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ростной)                         1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(профессиональ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d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адность)                               13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y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лов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endly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ужелюбный)                   14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оровь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gerous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асный)                         15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гат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ади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>
            <a:hlinkClick r:id="rId1" action="ppaction://hlinksldjump"/>
          </p:cNvPr>
          <p:cNvSpPr/>
          <p:nvPr/>
        </p:nvSpPr>
        <p:spPr>
          <a:xfrm>
            <a:off x="4357800" y="6215040"/>
            <a:ext cx="457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ВЕРНУТЬСЯ К УПРАЖНЕНИЮ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357120" y="1357200"/>
            <a:ext cx="842940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igatio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ледование)     5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itatio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глашение)             6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xatio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лабл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суждать)                     7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e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ревновать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ance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ость)               8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ntio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брет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>
            <a:hlinkClick r:id="rId1" action="ppaction://hlinksldjump"/>
          </p:cNvPr>
          <p:cNvSpPr/>
          <p:nvPr/>
        </p:nvSpPr>
        <p:spPr>
          <a:xfrm>
            <a:off x="5286240" y="6072120"/>
            <a:ext cx="3285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ВЕРНУТЬСЯ К УПРАЖНЕНИЮ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1"/>
          <p:cNvSpPr/>
          <p:nvPr/>
        </p:nvSpPr>
        <p:spPr>
          <a:xfrm>
            <a:off x="571320" y="357120"/>
            <a:ext cx="79578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23000"/>
          </a:bodyPr>
          <a:p>
            <a:pPr algn="ctr">
              <a:lnSpc>
                <a:spcPct val="170000"/>
              </a:lnSpc>
              <a:tabLst>
                <a:tab algn="l" pos="0"/>
              </a:tabLst>
            </a:pPr>
            <a:r>
              <a:rPr b="0" lang="ru-RU" sz="6200" spc="-1" strike="noStrike">
                <a:solidFill>
                  <a:srgbClr val="000000"/>
                </a:solidFill>
                <a:latin typeface="Times New Roman"/>
              </a:rPr>
              <a:t>1. От данных глаголов образуйте указанную часть речи (</a:t>
            </a: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noun – </a:t>
            </a:r>
            <a:r>
              <a:rPr b="0" lang="ru-RU" sz="6200" spc="-1" strike="noStrike">
                <a:solidFill>
                  <a:srgbClr val="000000"/>
                </a:solidFill>
                <a:latin typeface="Times New Roman"/>
              </a:rPr>
              <a:t>существительное, </a:t>
            </a: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adjective – </a:t>
            </a:r>
            <a:r>
              <a:rPr b="0" lang="ru-RU" sz="6200" spc="-1" strike="noStrike">
                <a:solidFill>
                  <a:srgbClr val="000000"/>
                </a:solidFill>
                <a:latin typeface="Times New Roman"/>
              </a:rPr>
              <a:t>прилагательное, </a:t>
            </a: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adverb – </a:t>
            </a:r>
            <a:r>
              <a:rPr b="0" lang="ru-RU" sz="6200" spc="-1" strike="noStrike">
                <a:solidFill>
                  <a:srgbClr val="000000"/>
                </a:solidFill>
                <a:latin typeface="Times New Roman"/>
              </a:rPr>
              <a:t>наречие).</a:t>
            </a:r>
            <a:br>
              <a:rPr sz="6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rite – … (noun)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mean – … (adjective)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mean – … (adverb)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inform – … (noun)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inform – … (adjective)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inform – … (adverb)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xplain – … (noun)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xplain – … (adjective)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conclude – … (noun)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conclude – … (adjective)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conclude – … (adverb)</a:t>
            </a:r>
            <a:br>
              <a:rPr sz="44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>
            <a:hlinkClick r:id="rId1" action="ppaction://hlinksldjump"/>
          </p:cNvPr>
          <p:cNvSpPr/>
          <p:nvPr/>
        </p:nvSpPr>
        <p:spPr>
          <a:xfrm>
            <a:off x="4286160" y="6215040"/>
            <a:ext cx="4428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ТВЕТЫ К УПРАЖНЕНИЮ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4" descr="pupil_in_school_clip_art_image_free_20121124_1787994090.gif"/>
          <p:cNvPicPr/>
          <p:nvPr/>
        </p:nvPicPr>
        <p:blipFill>
          <a:blip r:embed="rId2"/>
          <a:stretch/>
        </p:blipFill>
        <p:spPr>
          <a:xfrm>
            <a:off x="0" y="4786200"/>
            <a:ext cx="2160360" cy="1862280"/>
          </a:xfrm>
          <a:prstGeom prst="rect">
            <a:avLst/>
          </a:prstGeom>
          <a:ln w="9525">
            <a:noFill/>
          </a:ln>
        </p:spPr>
      </p:pic>
      <p:pic>
        <p:nvPicPr>
          <p:cNvPr id="46" name="Picture 2" descr="C:\Users\Алексей\Desktop\ИТ ПЕДАГОГ 2015\otveti-na-voprosi.jpg"/>
          <p:cNvPicPr/>
          <p:nvPr/>
        </p:nvPicPr>
        <p:blipFill>
          <a:blip r:embed="rId3"/>
          <a:stretch/>
        </p:blipFill>
        <p:spPr>
          <a:xfrm>
            <a:off x="6286680" y="4143240"/>
            <a:ext cx="2285640" cy="213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441000" y="1928880"/>
            <a:ext cx="2994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возмож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438840" y="2500200"/>
            <a:ext cx="2973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ree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соглашатьс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439560" y="3000240"/>
            <a:ext cx="2241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охож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441720" y="3643200"/>
            <a:ext cx="3117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pe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u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тимистическ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5153760" y="1500120"/>
            <a:ext cx="2649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ззаботны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6"/>
          <p:cNvSpPr/>
          <p:nvPr/>
        </p:nvSpPr>
        <p:spPr>
          <a:xfrm>
            <a:off x="367200" y="1357200"/>
            <a:ext cx="3017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an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счеловечны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7"/>
          <p:cNvSpPr/>
          <p:nvPr/>
        </p:nvSpPr>
        <p:spPr>
          <a:xfrm>
            <a:off x="5227200" y="3071880"/>
            <a:ext cx="3093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pular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опулярны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8"/>
          <p:cNvSpPr/>
          <p:nvPr/>
        </p:nvSpPr>
        <p:spPr>
          <a:xfrm>
            <a:off x="5222520" y="3643200"/>
            <a:ext cx="2217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st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fu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 вкус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9"/>
          <p:cNvSpPr/>
          <p:nvPr/>
        </p:nvSpPr>
        <p:spPr>
          <a:xfrm>
            <a:off x="5153040" y="2000160"/>
            <a:ext cx="2590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ces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u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пеш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0"/>
          <p:cNvSpPr/>
          <p:nvPr/>
        </p:nvSpPr>
        <p:spPr>
          <a:xfrm>
            <a:off x="5297040" y="2571840"/>
            <a:ext cx="2117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fu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ез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2">
            <a:hlinkClick r:id="rId1" action="ppaction://hlinksldjump"/>
          </p:cNvPr>
          <p:cNvSpPr/>
          <p:nvPr/>
        </p:nvSpPr>
        <p:spPr>
          <a:xfrm>
            <a:off x="5000760" y="5929200"/>
            <a:ext cx="3357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ВЕРНУТЬСЯК УПРАЖНЕНИЮ 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1071360" y="285840"/>
            <a:ext cx="67147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t--- rea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 reac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 reacti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---- scienti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c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 scie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y----industr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 industr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d---- cold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 col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k----- dar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 dar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ppy----- happ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 happ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pp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----- equa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y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----- equa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----- fre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 fre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tion---- atte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 attentiv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----- su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 su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>
            <a:hlinkClick r:id="rId1" action="ppaction://hlinksldjump"/>
          </p:cNvPr>
          <p:cNvSpPr/>
          <p:nvPr/>
        </p:nvSpPr>
        <p:spPr>
          <a:xfrm>
            <a:off x="4929120" y="6215040"/>
            <a:ext cx="3642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ВЕРНУТЬСЯ К УПРАЖНЕНИЮ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714240" y="785880"/>
            <a:ext cx="7429320" cy="53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От данных глаголов образуйте указанную часть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courage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courage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courage – … (adver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lute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lute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uct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uct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uct – … (adver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vent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>
            <a:hlinkClick r:id="rId1" action="ppaction://hlinksldjump"/>
          </p:cNvPr>
          <p:cNvSpPr/>
          <p:nvPr/>
        </p:nvSpPr>
        <p:spPr>
          <a:xfrm>
            <a:off x="5715000" y="6215040"/>
            <a:ext cx="2928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ТВЕТЫ К УПРАЖНЕНИЮ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boy_clipart_-_free_people_clipart_20121124_1331479554.gif"/>
          <p:cNvPicPr/>
          <p:nvPr/>
        </p:nvPicPr>
        <p:blipFill>
          <a:blip r:embed="rId2"/>
          <a:stretch/>
        </p:blipFill>
        <p:spPr>
          <a:xfrm>
            <a:off x="214200" y="3643200"/>
            <a:ext cx="2774520" cy="2792160"/>
          </a:xfrm>
          <a:prstGeom prst="rect">
            <a:avLst/>
          </a:prstGeom>
          <a:ln w="9525">
            <a:noFill/>
          </a:ln>
        </p:spPr>
      </p:pic>
      <p:pic>
        <p:nvPicPr>
          <p:cNvPr id="50" name="Picture 2" descr="C:\Users\Алексей\Desktop\ИТ ПЕДАГОГ 2015\otveti-na-voprosi.jpg"/>
          <p:cNvPicPr/>
          <p:nvPr/>
        </p:nvPicPr>
        <p:blipFill>
          <a:blip r:embed="rId3"/>
          <a:stretch/>
        </p:blipFill>
        <p:spPr>
          <a:xfrm>
            <a:off x="6286680" y="4214880"/>
            <a:ext cx="21333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2"/>
          <p:cNvSpPr/>
          <p:nvPr/>
        </p:nvSpPr>
        <p:spPr>
          <a:xfrm>
            <a:off x="857160" y="357120"/>
            <a:ext cx="7357680" cy="60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От данных глаголов образуйте указанную часть речи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ществительное с разным значением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ective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лагательно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erb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ечи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vent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vent – … (adver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erve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erve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erve – … (adver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tect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tect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tect – … (adver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y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y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>
            <a:hlinkClick r:id="rId1" action="ppaction://hlinksldjump"/>
          </p:cNvPr>
          <p:cNvSpPr/>
          <p:nvPr/>
        </p:nvSpPr>
        <p:spPr>
          <a:xfrm>
            <a:off x="6072120" y="6286680"/>
            <a:ext cx="285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ТВЕТЫ К УПРАЖНЕНИЮ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8" descr="cartoon_human_free_image_20121124_2000899342.gif"/>
          <p:cNvPicPr/>
          <p:nvPr/>
        </p:nvPicPr>
        <p:blipFill>
          <a:blip r:embed="rId2"/>
          <a:stretch/>
        </p:blipFill>
        <p:spPr>
          <a:xfrm>
            <a:off x="6782400" y="1357200"/>
            <a:ext cx="2361240" cy="2452320"/>
          </a:xfrm>
          <a:prstGeom prst="rect">
            <a:avLst/>
          </a:prstGeom>
          <a:ln w="9525">
            <a:noFill/>
          </a:ln>
        </p:spPr>
      </p:pic>
      <p:pic>
        <p:nvPicPr>
          <p:cNvPr id="54" name="Picture 2" descr="C:\Users\Алексей\Desktop\ИТ ПЕДАГОГ 2015\otveti-na-voprosi.jpg"/>
          <p:cNvPicPr/>
          <p:nvPr/>
        </p:nvPicPr>
        <p:blipFill>
          <a:blip r:embed="rId3"/>
          <a:stretch/>
        </p:blipFill>
        <p:spPr>
          <a:xfrm>
            <a:off x="6572160" y="4214880"/>
            <a:ext cx="2142720" cy="20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57120" y="285840"/>
            <a:ext cx="7857720" cy="60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От данных глаголов образуйте указанную часть речи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ществительное с разным значением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ective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лагательное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erb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ечи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y – … (adver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ify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ify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ify – … (adver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ufacture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ufacture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ute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ute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nt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nt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>
            <a:hlinkClick r:id="rId1" action="ppaction://hlinksldjump"/>
          </p:cNvPr>
          <p:cNvSpPr/>
          <p:nvPr/>
        </p:nvSpPr>
        <p:spPr>
          <a:xfrm>
            <a:off x="5643720" y="6215040"/>
            <a:ext cx="3214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ТВЕТЫ К УПРАЖНЕНИЮ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5" descr="happy_man_clipart_image_-_people_images_free_download_20121124_1422920118.gif"/>
          <p:cNvPicPr/>
          <p:nvPr/>
        </p:nvPicPr>
        <p:blipFill>
          <a:blip r:embed="rId2"/>
          <a:stretch/>
        </p:blipFill>
        <p:spPr>
          <a:xfrm>
            <a:off x="214200" y="1785960"/>
            <a:ext cx="2311560" cy="2739600"/>
          </a:xfrm>
          <a:prstGeom prst="rect">
            <a:avLst/>
          </a:prstGeom>
          <a:ln w="9525">
            <a:noFill/>
          </a:ln>
        </p:spPr>
      </p:pic>
      <p:pic>
        <p:nvPicPr>
          <p:cNvPr id="58" name="Picture 2" descr="C:\Users\Алексей\Desktop\ИТ ПЕДАГОГ 2015\otveti-na-voprosi.jpg"/>
          <p:cNvPicPr/>
          <p:nvPr/>
        </p:nvPicPr>
        <p:blipFill>
          <a:blip r:embed="rId3"/>
          <a:stretch/>
        </p:blipFill>
        <p:spPr>
          <a:xfrm>
            <a:off x="6429240" y="3929040"/>
            <a:ext cx="2285640" cy="213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642960" y="428760"/>
            <a:ext cx="7929360" cy="60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От данных глаголов образуйте указанную часть речи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ществительное с разным значением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ective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лагательное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erb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ечи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cover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cover – … (adjectiv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truct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truct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truct – … (adver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olve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olve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iticize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>
            <a:hlinkClick r:id="rId1" action="ppaction://hlinksldjump"/>
          </p:cNvPr>
          <p:cNvSpPr/>
          <p:nvPr/>
        </p:nvSpPr>
        <p:spPr>
          <a:xfrm>
            <a:off x="5643720" y="6215040"/>
            <a:ext cx="307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ТВЕТЫ К УПРАЖНЕНИЮ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9" descr="1099927-Happy-Black-Or-Hispanic-Professor-Using-A-Pointer-Stick.jpg"/>
          <p:cNvPicPr/>
          <p:nvPr/>
        </p:nvPicPr>
        <p:blipFill>
          <a:blip r:embed="rId2"/>
          <a:stretch/>
        </p:blipFill>
        <p:spPr>
          <a:xfrm>
            <a:off x="428760" y="3429000"/>
            <a:ext cx="2520720" cy="2950920"/>
          </a:xfrm>
          <a:prstGeom prst="rect">
            <a:avLst/>
          </a:prstGeom>
          <a:ln w="9525">
            <a:noFill/>
          </a:ln>
        </p:spPr>
      </p:pic>
      <p:pic>
        <p:nvPicPr>
          <p:cNvPr id="62" name="Picture 2" descr="C:\Users\Алексей\Desktop\ИТ ПЕДАГОГ 2015\otveti-na-voprosi.jpg"/>
          <p:cNvPicPr/>
          <p:nvPr/>
        </p:nvPicPr>
        <p:blipFill>
          <a:blip r:embed="rId3"/>
          <a:stretch/>
        </p:blipFill>
        <p:spPr>
          <a:xfrm>
            <a:off x="6500880" y="4214880"/>
            <a:ext cx="2065320" cy="19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500040" y="335880"/>
            <a:ext cx="800064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Добавьте один из суффиксов (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, -r, -ian, -ist, -man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словам, чтобы образовалось название профессии. Переведите образовавшиеся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e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иция)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eman 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ицейски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sic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зыка) 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urnal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урнал)                           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t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чта)                                     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ive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дить машину)                 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ption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треча)                     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ctric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лектрический)           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itics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итика)                       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ience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ука )                                                            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t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кусст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e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огон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>
            <a:hlinkClick r:id="rId1" action="ppaction://hlinksldjump"/>
          </p:cNvPr>
          <p:cNvSpPr/>
          <p:nvPr/>
        </p:nvSpPr>
        <p:spPr>
          <a:xfrm>
            <a:off x="5286240" y="6215040"/>
            <a:ext cx="3214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ТВЕТЫ К УПРАЖНЕНИЮ 6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Рисунок 3"/>
          <p:cNvSpPr/>
          <p:nvPr/>
        </p:nvSpPr>
        <p:spPr>
          <a:xfrm>
            <a:off x="4357800" y="2071800"/>
            <a:ext cx="1824120" cy="1800000"/>
          </a:xfrm>
          <a:prstGeom prst="flowChartDisplay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softEdge rad="31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Users\Алексей\Desktop\ИТ ПЕДАГОГ 2015\otveti-na-voprosi.jpg"/>
          <p:cNvPicPr/>
          <p:nvPr/>
        </p:nvPicPr>
        <p:blipFill>
          <a:blip r:embed="rId3"/>
          <a:stretch/>
        </p:blipFill>
        <p:spPr>
          <a:xfrm>
            <a:off x="5786280" y="4143240"/>
            <a:ext cx="2195280" cy="20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Алексей\Desktop\ИТ ПЕДАГОГ 2015\otveti-na-voprosi.jpg"/>
          <p:cNvPicPr/>
          <p:nvPr/>
        </p:nvPicPr>
        <p:blipFill>
          <a:blip r:embed="rId1"/>
          <a:stretch/>
        </p:blipFill>
        <p:spPr>
          <a:xfrm>
            <a:off x="6572160" y="4143240"/>
            <a:ext cx="2204640" cy="20638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"/>
          <p:cNvSpPr/>
          <p:nvPr/>
        </p:nvSpPr>
        <p:spPr>
          <a:xfrm>
            <a:off x="285840" y="214200"/>
            <a:ext cx="885780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Посмотрите на суффиксы существительных и прилагательных. Образуйте недостающие слова в столбцах и переведите образовавшиеся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ществительные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s, -ion, -ation, -ment, -ance, -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лагательные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, -y, -ly, -ful, -ous, -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илагательно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  Существ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ucky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дачный)                                           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uck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дач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         ……                                                     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ppiness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часть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onderful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удесный)                                    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         ……                                                     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ed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кор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reedy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адный)                                            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.         ……                                                     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iend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ру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         ……                                                     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nger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ас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tional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радиционный)                              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         ……                                                     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ience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у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ll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ольной)                                                 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1.       ……                                                     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uth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ав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2.       ……                                                     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fession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фесс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3.       ……                                                     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siness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изне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4.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lthy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доровый)                                        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5.       ……                                                     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alth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огатство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единительная линия 3"/>
          <p:cNvCxnSpPr/>
          <p:nvPr/>
        </p:nvCxnSpPr>
        <p:spPr>
          <a:xfrm>
            <a:off x="3929040" y="2000160"/>
            <a:ext cx="71640" cy="4572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70" name="TextBox 4">
            <a:hlinkClick r:id="rId2" action="ppaction://hlinksldjump"/>
          </p:cNvPr>
          <p:cNvSpPr/>
          <p:nvPr/>
        </p:nvSpPr>
        <p:spPr>
          <a:xfrm>
            <a:off x="5000760" y="6286680"/>
            <a:ext cx="3857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ТВЕТЫ К УПРАЖНЕНИЮ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Алексей\Desktop\ИТ ПЕДАГОГ 2015\otveti-na-voprosi.jpg"/>
          <p:cNvPicPr/>
          <p:nvPr/>
        </p:nvPicPr>
        <p:blipFill>
          <a:blip r:embed="rId1"/>
          <a:stretch/>
        </p:blipFill>
        <p:spPr>
          <a:xfrm>
            <a:off x="6072120" y="4500720"/>
            <a:ext cx="1990440" cy="1863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"/>
          <p:cNvSpPr/>
          <p:nvPr/>
        </p:nvSpPr>
        <p:spPr>
          <a:xfrm>
            <a:off x="785880" y="285840"/>
            <a:ext cx="77864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Вспомните суффиксы существительных и  глаголов. Образуйте недостающие слова в столбцах и переведите образовавшиеся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500040" y="1143000"/>
            <a:ext cx="814356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уществительно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   Гла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stigation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следование)                     1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stigate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следова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……                                                                 2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ite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глаша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cussion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суждение)                                3. 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……                                                                  4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ear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гляде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 ……                                                                5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ganize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ганизова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 ……                                                                 6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x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слаблять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 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etition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ревнование)                         7. 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.……                                                                    8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nt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обрета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Прямая соединительная линия 4"/>
          <p:cNvCxnSpPr/>
          <p:nvPr/>
        </p:nvCxnSpPr>
        <p:spPr>
          <a:xfrm>
            <a:off x="4714560" y="1500120"/>
            <a:ext cx="72000" cy="4572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75" name="TextBox 5">
            <a:hlinkClick r:id="rId2" action="ppaction://hlinksldjump"/>
          </p:cNvPr>
          <p:cNvSpPr/>
          <p:nvPr/>
        </p:nvSpPr>
        <p:spPr>
          <a:xfrm>
            <a:off x="5214960" y="6286680"/>
            <a:ext cx="3428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ТВЕТЫ К УПРАЖНЕНИЮ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Рисунок 6"/>
          <p:cNvSpPr/>
          <p:nvPr/>
        </p:nvSpPr>
        <p:spPr>
          <a:xfrm>
            <a:off x="2500200" y="4786200"/>
            <a:ext cx="1965960" cy="1848960"/>
          </a:xfrm>
          <a:prstGeom prst="snip2DiagRect">
            <a:avLst>
              <a:gd name="adj1" fmla="val 0"/>
              <a:gd name="adj2" fmla="val 16667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softEdge rad="1270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  <Words>845</Words>
  <Paragraphs>241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6T11:34:05Z</dcterms:created>
  <dc:creator>Алексей</dc:creator>
  <dc:description/>
  <dc:language>en-US</dc:language>
  <cp:lastModifiedBy>Алексей</cp:lastModifiedBy>
  <dcterms:modified xsi:type="dcterms:W3CDTF">2015-08-18T15:29:04Z</dcterms:modified>
  <cp:revision>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