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92E-5B29-4CDF-A751-D885CC04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A39-086E-40A9-93F7-11C0A79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F1E-0AEC-4F3E-95F4-306ADBB3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4F1-47DE-46C7-B6DE-55E990F1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F7A-22D6-4D9A-A6C9-232928E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A98-F26E-4018-9803-B70A6FC6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26D-5A95-421A-8BC7-2D456E71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0D0-41D4-4E4B-B025-4537CDB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3D4-F912-4883-9781-9A9CA81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90D-EE1C-4513-B1A6-930CE83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3ED-369F-445F-B2AF-29A1707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746-EDB3-4316-9AEA-F68F36B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0D9ADD-A461-4D86-A672-5169417A899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слова"/>
          <p:cNvPicPr/>
          <p:nvPr/>
        </p:nvPicPr>
        <p:blipFill>
          <a:blip r:embed="rId1"/>
          <a:srcRect l="10896" t="3386" r="9201" b="6781"/>
          <a:stretch/>
        </p:blipFill>
        <p:spPr>
          <a:xfrm>
            <a:off x="357120" y="285840"/>
            <a:ext cx="8302680" cy="5000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642960" y="4857840"/>
            <a:ext cx="8286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Контрольные материа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по словообраз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6800" y="1857240"/>
            <a:ext cx="294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224640" y="2428920"/>
            <a:ext cx="297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14200" y="3000240"/>
            <a:ext cx="2428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16720" y="3571920"/>
            <a:ext cx="305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5153040" y="1500120"/>
            <a:ext cx="2499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42920" y="1357200"/>
            <a:ext cx="3500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228280" y="3214800"/>
            <a:ext cx="310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popul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5220360" y="3714840"/>
            <a:ext cx="231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tas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5153400" y="2000160"/>
            <a:ext cx="2576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145840" y="2643120"/>
            <a:ext cx="20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1000080" y="214200"/>
            <a:ext cx="7429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ьте  слова , добавляя к основе приставки или  суффиксы в зависимости от значения слова, данного в скоб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1643040" y="5119200"/>
            <a:ext cx="692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4156920" y="5428800"/>
            <a:ext cx="57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932440" y="4357800"/>
            <a:ext cx="617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2786040" y="4643280"/>
            <a:ext cx="7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428760" y="478620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7575480" y="5286240"/>
            <a:ext cx="714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1360800" y="428616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504400" y="528624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4572000" y="450072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8429400" y="436032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>
            <a:hlinkClick r:id="rId1" action="ppaction://hlinksldjump"/>
          </p:cNvPr>
          <p:cNvSpPr/>
          <p:nvPr/>
        </p:nvSpPr>
        <p:spPr>
          <a:xfrm>
            <a:off x="5000760" y="621504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лексей\Desktop\ИТ ПЕДАГОГ 2015\otveti-na-voprosi.jpg"/>
          <p:cNvPicPr/>
          <p:nvPr/>
        </p:nvPicPr>
        <p:blipFill>
          <a:blip r:embed="rId2"/>
          <a:stretch/>
        </p:blipFill>
        <p:spPr>
          <a:xfrm>
            <a:off x="6786720" y="4786200"/>
            <a:ext cx="1623600" cy="15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643040" y="500040"/>
            <a:ext cx="642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делите словообразующие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85840" y="1124640"/>
            <a:ext cx="8572320" cy="768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tion---- reactor----- re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ic----- scienti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al----- industriou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y------ coldnes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ness------ darke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ly------ happiness----- unhapp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ly------ unequal----- equal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dom----- fre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ive------- attentiv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ny------ su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>
            <a:hlinkClick r:id="rId1" action="ppaction://hlinksldjump"/>
          </p:cNvPr>
          <p:cNvSpPr/>
          <p:nvPr/>
        </p:nvSpPr>
        <p:spPr>
          <a:xfrm>
            <a:off x="5429160" y="621504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исунок 4"/>
          <p:cNvSpPr/>
          <p:nvPr/>
        </p:nvSpPr>
        <p:spPr>
          <a:xfrm>
            <a:off x="357120" y="4500720"/>
            <a:ext cx="1445400" cy="190224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0">
            <a:solidFill>
              <a:srgbClr val="c0504d">
                <a:lumMod val="50000"/>
              </a:srgbClr>
            </a:solidFill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864480" y="4500720"/>
            <a:ext cx="1760040" cy="164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785880" y="335880"/>
            <a:ext cx="70718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writer /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nt /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>
            <a:hlinkClick r:id="rId1" action="ppaction://hlinksldjump"/>
          </p:cNvPr>
          <p:cNvSpPr/>
          <p:nvPr/>
        </p:nvSpPr>
        <p:spPr>
          <a:xfrm>
            <a:off x="5072040" y="614376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714240" y="474480"/>
            <a:ext cx="6143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development / developer /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ion / poll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on / destroying / de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on / prev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>
            <a:hlinkClick r:id="rId1" action="ppaction://hlinksldjump"/>
          </p:cNvPr>
          <p:cNvSpPr/>
          <p:nvPr/>
        </p:nvSpPr>
        <p:spPr>
          <a:xfrm>
            <a:off x="5572080" y="61437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4300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 / prev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ory / conservator / conservation / con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on / protector / prot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ying /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 / var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>
            <a:hlinkClick r:id="rId1" action="ppaction://hlinksldjump"/>
          </p:cNvPr>
          <p:cNvSpPr/>
          <p:nvPr/>
        </p:nvSpPr>
        <p:spPr>
          <a:xfrm>
            <a:off x="5357880" y="607212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78588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ying / spe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ory / manufacturer / manufacturing / manufa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manufact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or /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er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or / inventing / in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>
            <a:hlinkClick r:id="rId1" action="ppaction://hlinksldjump"/>
          </p:cNvPr>
          <p:cNvSpPr/>
          <p:nvPr/>
        </p:nvSpPr>
        <p:spPr>
          <a:xfrm>
            <a:off x="5429160" y="585792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71320" y="28584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r / discovery / discov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r / import / im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or / construction / construc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ing / ev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politician / poli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>
            <a:hlinkClick r:id="rId1" action="ppaction://hlinksldjump"/>
          </p:cNvPr>
          <p:cNvSpPr/>
          <p:nvPr/>
        </p:nvSpPr>
        <p:spPr>
          <a:xfrm>
            <a:off x="5500800" y="6215040"/>
            <a:ext cx="350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714240" y="571320"/>
            <a:ext cx="75006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ист)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альон) 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итель)          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инистратор)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ик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ый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ожник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й)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                                                   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>
            <a:hlinkClick r:id="rId1" action="ppaction://hlinksldjump"/>
          </p:cNvPr>
          <p:cNvSpPr/>
          <p:nvPr/>
        </p:nvSpPr>
        <p:spPr>
          <a:xfrm>
            <a:off x="4857840" y="6215040"/>
            <a:ext cx="392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00040" y="571320"/>
            <a:ext cx="82148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y 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чный)                              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астливый)                        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ne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d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до)                                   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ful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и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ной)                         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(профессион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дность)                               1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l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елюбный)                   1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ou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асный)                         1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ди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>
            <a:hlinkClick r:id="rId1" action="ppaction://hlinksldjump"/>
          </p:cNvPr>
          <p:cNvSpPr/>
          <p:nvPr/>
        </p:nvSpPr>
        <p:spPr>
          <a:xfrm>
            <a:off x="4357800" y="62150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357120" y="1357200"/>
            <a:ext cx="84294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едование)    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лашение)             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аб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уждать)                     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евнова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ость)               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т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>
            <a:hlinkClick r:id="rId1" action="ppaction://hlinksldjump"/>
          </p:cNvPr>
          <p:cNvSpPr/>
          <p:nvPr/>
        </p:nvSpPr>
        <p:spPr>
          <a:xfrm>
            <a:off x="5286240" y="607212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571320" y="357120"/>
            <a:ext cx="7957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23000"/>
          </a:bodyPr>
          <a:p>
            <a:pPr algn="ctr">
              <a:lnSpc>
                <a:spcPct val="170000"/>
              </a:lnSpc>
              <a:tabLst>
                <a:tab algn="l" pos="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1. От данных глаголов образуйте указанную часть речи (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существи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наречие).</a:t>
            </a:r>
            <a:br>
              <a:rPr sz="6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4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>
            <a:hlinkClick r:id="rId1" action="ppaction://hlinksldjump"/>
          </p:cNvPr>
          <p:cNvSpPr/>
          <p:nvPr/>
        </p:nvSpPr>
        <p:spPr>
          <a:xfrm>
            <a:off x="4286160" y="6215040"/>
            <a:ext cx="44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pupil_in_school_clip_art_image_free_20121124_1787994090.gif"/>
          <p:cNvPicPr/>
          <p:nvPr/>
        </p:nvPicPr>
        <p:blipFill>
          <a:blip r:embed="rId2"/>
          <a:stretch/>
        </p:blipFill>
        <p:spPr>
          <a:xfrm>
            <a:off x="0" y="4786200"/>
            <a:ext cx="2160360" cy="1862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1432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41000" y="1928880"/>
            <a:ext cx="299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38840" y="2500200"/>
            <a:ext cx="29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39560" y="3000240"/>
            <a:ext cx="22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41720" y="3643200"/>
            <a:ext cx="3117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5153760" y="1500120"/>
            <a:ext cx="264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367200" y="1357200"/>
            <a:ext cx="3017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5227200" y="3071880"/>
            <a:ext cx="309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r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222520" y="3643200"/>
            <a:ext cx="221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5153040" y="2000160"/>
            <a:ext cx="25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5297040" y="2571840"/>
            <a:ext cx="211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>
            <a:hlinkClick r:id="rId1" action="ppaction://hlinksldjump"/>
          </p:cNvPr>
          <p:cNvSpPr/>
          <p:nvPr/>
        </p:nvSpPr>
        <p:spPr>
          <a:xfrm>
            <a:off x="5000760" y="592920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К УПРАЖНЕНИЮ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071360" y="285840"/>
            <a:ext cx="671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rea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react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s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col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 atten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>
            <a:hlinkClick r:id="rId1" action="ppaction://hlinksldjump"/>
          </p:cNvPr>
          <p:cNvSpPr/>
          <p:nvPr/>
        </p:nvSpPr>
        <p:spPr>
          <a:xfrm>
            <a:off x="4929120" y="621504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714240" y="785880"/>
            <a:ext cx="74293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От данных глаголов образуйте указанную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>
            <a:hlinkClick r:id="rId1" action="ppaction://hlinksldjump"/>
          </p:cNvPr>
          <p:cNvSpPr/>
          <p:nvPr/>
        </p:nvSpPr>
        <p:spPr>
          <a:xfrm>
            <a:off x="5715000" y="6215040"/>
            <a:ext cx="292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boy_clipart_-_free_people_clipart_20121124_1331479554.gif"/>
          <p:cNvPicPr/>
          <p:nvPr/>
        </p:nvPicPr>
        <p:blipFill>
          <a:blip r:embed="rId2"/>
          <a:stretch/>
        </p:blipFill>
        <p:spPr>
          <a:xfrm>
            <a:off x="214200" y="3643200"/>
            <a:ext cx="2774520" cy="279216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214880"/>
            <a:ext cx="2133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57160" y="357120"/>
            <a:ext cx="735768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>
            <a:hlinkClick r:id="rId1" action="ppaction://hlinksldjump"/>
          </p:cNvPr>
          <p:cNvSpPr/>
          <p:nvPr/>
        </p:nvSpPr>
        <p:spPr>
          <a:xfrm>
            <a:off x="6072120" y="6286680"/>
            <a:ext cx="2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cartoon_human_free_image_20121124_2000899342.gif"/>
          <p:cNvPicPr/>
          <p:nvPr/>
        </p:nvPicPr>
        <p:blipFill>
          <a:blip r:embed="rId2"/>
          <a:stretch/>
        </p:blipFill>
        <p:spPr>
          <a:xfrm>
            <a:off x="6782400" y="1357200"/>
            <a:ext cx="2361240" cy="245232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72160" y="4214880"/>
            <a:ext cx="2142720" cy="20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285840"/>
            <a:ext cx="785772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happy_man_clipart_image_-_people_images_free_download_20121124_1422920118.gif"/>
          <p:cNvPicPr/>
          <p:nvPr/>
        </p:nvPicPr>
        <p:blipFill>
          <a:blip r:embed="rId2"/>
          <a:stretch/>
        </p:blipFill>
        <p:spPr>
          <a:xfrm>
            <a:off x="214200" y="1785960"/>
            <a:ext cx="2311560" cy="273960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429240" y="39290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42960" y="428760"/>
            <a:ext cx="79293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adjec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9" descr="1099927-Happy-Black-Or-Hispanic-Professor-Using-A-Pointer-Stick.jpg"/>
          <p:cNvPicPr/>
          <p:nvPr/>
        </p:nvPicPr>
        <p:blipFill>
          <a:blip r:embed="rId2"/>
          <a:stretch/>
        </p:blipFill>
        <p:spPr>
          <a:xfrm>
            <a:off x="428760" y="3429000"/>
            <a:ext cx="2520720" cy="295092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00880" y="4214880"/>
            <a:ext cx="206532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500040" y="335880"/>
            <a:ext cx="800064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Добавьте один из суффиксов (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, -r, -ian, -ist, -man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словам, чтобы образовалось название профессии.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ия)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man 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ейск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)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rnal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)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а)                                     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ить машину)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p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реча) 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ctr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ический)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s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ика)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ienc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а )                                                      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кус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го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>
            <a:hlinkClick r:id="rId1" action="ppaction://hlinksldjump"/>
          </p:cNvPr>
          <p:cNvSpPr/>
          <p:nvPr/>
        </p:nvSpPr>
        <p:spPr>
          <a:xfrm>
            <a:off x="528624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исунок 3"/>
          <p:cNvSpPr/>
          <p:nvPr/>
        </p:nvSpPr>
        <p:spPr>
          <a:xfrm>
            <a:off x="4357800" y="2071800"/>
            <a:ext cx="1824120" cy="1800000"/>
          </a:xfrm>
          <a:prstGeom prst="flowChartDisplay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95280" cy="20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04640" cy="2063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85840" y="214200"/>
            <a:ext cx="885780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Посмотрите на суффиксы существительных и прилагательных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s, -ion, -ation, -ment, -ance, -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, -y, -ly, -ful, -ous, -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лагатель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 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ный)                                           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pp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асть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nderfu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десный)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d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адный)              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ien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         ……                                                   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nger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ас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tiona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диционный)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ce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ьной)                                                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ession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зн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.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доровый)    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l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гатство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единительная линия 3"/>
          <p:cNvCxnSpPr/>
          <p:nvPr/>
        </p:nvCxnSpPr>
        <p:spPr>
          <a:xfrm>
            <a:off x="3929040" y="2000160"/>
            <a:ext cx="7164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0" name="TextBox 4">
            <a:hlinkClick r:id="rId2" action="ppaction://hlinksldjump"/>
          </p:cNvPr>
          <p:cNvSpPr/>
          <p:nvPr/>
        </p:nvSpPr>
        <p:spPr>
          <a:xfrm>
            <a:off x="5000760" y="628668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072120" y="4500720"/>
            <a:ext cx="1990440" cy="1863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785880" y="285840"/>
            <a:ext cx="7786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Вспомните суффиксы существительных и  глаголов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00040" y="1143000"/>
            <a:ext cx="81435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ществи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   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ние)                     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……                                                                 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i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ение)                                3.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……                                                                  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ear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гляде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 ……                                                                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 ……                                                                 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x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абля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ревнование)                         7. 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……                                                                    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брет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единительная линия 4"/>
          <p:cNvCxnSpPr/>
          <p:nvPr/>
        </p:nvCxnSpPr>
        <p:spPr>
          <a:xfrm>
            <a:off x="4714560" y="1500120"/>
            <a:ext cx="7200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5" name="TextBox 5">
            <a:hlinkClick r:id="rId2" action="ppaction://hlinksldjump"/>
          </p:cNvPr>
          <p:cNvSpPr/>
          <p:nvPr/>
        </p:nvSpPr>
        <p:spPr>
          <a:xfrm>
            <a:off x="5214960" y="628668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исунок 6"/>
          <p:cNvSpPr/>
          <p:nvPr/>
        </p:nvSpPr>
        <p:spPr>
          <a:xfrm>
            <a:off x="2500200" y="4786200"/>
            <a:ext cx="1965960" cy="18489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  <Words>845</Words>
  <Paragraphs>24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11:34:05Z</dcterms:created>
  <dc:creator>Алексей</dc:creator>
  <dc:description/>
  <dc:language>en-US</dc:language>
  <cp:lastModifiedBy>Алексей</cp:lastModifiedBy>
  <dcterms:modified xsi:type="dcterms:W3CDTF">2015-08-18T15:29:04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