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69F-740D-4EC5-9B4D-73130C88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276-90F9-41AB-8312-D7D0209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553-985D-43D9-A5E9-30AEE4FB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F04-A1F8-46FB-AD5D-085FEC6B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64A-3698-4165-9DAF-D9E85AF7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8B4-7AE1-4FD8-BA9E-47D19FA0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3D8-D431-4248-BE0A-25951FA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8E3-AE16-4A89-B0C6-782E4977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CEE-9A1C-4D7A-8371-DC657540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D19-BD90-4490-A4B1-DA09D0C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5E6-26F9-48C7-9D5E-FE5BD296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334-FC8B-43CD-8685-BC87138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69A32C-DCCB-47ED-A5A0-65DBF284C9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9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слова"/>
          <p:cNvPicPr/>
          <p:nvPr/>
        </p:nvPicPr>
        <p:blipFill>
          <a:blip r:embed="rId1"/>
          <a:srcRect l="10896" t="3386" r="9201" b="6781"/>
          <a:stretch/>
        </p:blipFill>
        <p:spPr>
          <a:xfrm>
            <a:off x="357120" y="285840"/>
            <a:ext cx="8302680" cy="5000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642960" y="4857840"/>
            <a:ext cx="828648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Контрольные материа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по словообразов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9fc0ff"/>
                </a:solidFill>
                <a:latin typeface="Calibri"/>
              </a:rPr>
              <a:t>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6800" y="1857240"/>
            <a:ext cx="294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si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озмож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224640" y="2428920"/>
            <a:ext cx="297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глашать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214200" y="3000240"/>
            <a:ext cx="2428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хож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16720" y="3571920"/>
            <a:ext cx="305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5153040" y="1500120"/>
            <a:ext cx="2499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забот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142920" y="1357200"/>
            <a:ext cx="3500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челове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228280" y="3214800"/>
            <a:ext cx="3108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popul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пуляр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5220360" y="3714840"/>
            <a:ext cx="231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tas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вкус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5153400" y="2000160"/>
            <a:ext cx="2576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5145840" y="2643120"/>
            <a:ext cx="206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з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1000080" y="214200"/>
            <a:ext cx="7429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ьте  слова , добавляя к основе приставки или  суффиксы в зависимости от значения слова, данного в скоб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1643040" y="5119200"/>
            <a:ext cx="692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4156920" y="5428800"/>
            <a:ext cx="57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5932440" y="4357800"/>
            <a:ext cx="617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2786040" y="4643280"/>
            <a:ext cx="7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428760" y="4786200"/>
            <a:ext cx="99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7575480" y="5286240"/>
            <a:ext cx="714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1360800" y="428616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504400" y="528624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4572000" y="4500720"/>
            <a:ext cx="999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8429400" y="4360320"/>
            <a:ext cx="597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>
            <a:hlinkClick r:id="rId1" action="ppaction://hlinksldjump"/>
          </p:cNvPr>
          <p:cNvSpPr/>
          <p:nvPr/>
        </p:nvSpPr>
        <p:spPr>
          <a:xfrm>
            <a:off x="5000760" y="6215040"/>
            <a:ext cx="385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лексей\Desktop\ИТ ПЕДАГОГ 2015\otveti-na-voprosi.jpg"/>
          <p:cNvPicPr/>
          <p:nvPr/>
        </p:nvPicPr>
        <p:blipFill>
          <a:blip r:embed="rId2"/>
          <a:stretch/>
        </p:blipFill>
        <p:spPr>
          <a:xfrm>
            <a:off x="6786720" y="4786200"/>
            <a:ext cx="1623600" cy="15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643040" y="500040"/>
            <a:ext cx="642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делите словообразующие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85840" y="1124640"/>
            <a:ext cx="8572320" cy="768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--- reaction---- reactor----- re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---- scientific----- scientis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---industrial----- industriou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--- coldly------ coldnes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----- darkness------ darke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----- happily------ happiness----- unhapp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ly------ unequal----- equal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---- freedom----- fre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---- attentive------- attentiv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----- sunny------ su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>
            <a:hlinkClick r:id="rId1" action="ppaction://hlinksldjump"/>
          </p:cNvPr>
          <p:cNvSpPr/>
          <p:nvPr/>
        </p:nvSpPr>
        <p:spPr>
          <a:xfrm>
            <a:off x="5429160" y="621504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Рисунок 4"/>
          <p:cNvSpPr/>
          <p:nvPr/>
        </p:nvSpPr>
        <p:spPr>
          <a:xfrm>
            <a:off x="357120" y="4500720"/>
            <a:ext cx="1445400" cy="190224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0">
            <a:solidFill>
              <a:srgbClr val="c0504d">
                <a:lumMod val="50000"/>
              </a:srgbClr>
            </a:solidFill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864480" y="4500720"/>
            <a:ext cx="1760040" cy="164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785880" y="335880"/>
            <a:ext cx="70718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 – writer /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meaning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n – meaning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nt /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 – inform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 – explan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de – conclu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>
            <a:hlinkClick r:id="rId1" action="ppaction://hlinksldjump"/>
          </p:cNvPr>
          <p:cNvSpPr/>
          <p:nvPr/>
        </p:nvSpPr>
        <p:spPr>
          <a:xfrm>
            <a:off x="5072040" y="6143760"/>
            <a:ext cx="364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714240" y="474480"/>
            <a:ext cx="61434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 – development / developer /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e – encouraging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pollution / poll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ute – poll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on / destroying / de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 – destru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on / prev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>
            <a:hlinkClick r:id="rId1" action="ppaction://hlinksldjump"/>
          </p:cNvPr>
          <p:cNvSpPr/>
          <p:nvPr/>
        </p:nvSpPr>
        <p:spPr>
          <a:xfrm>
            <a:off x="5572080" y="61437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43000" y="35712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ve / prev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t – preven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ory / conservator / conservation / con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e – conserv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protection / protector / prot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prot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ying /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ious / var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>
            <a:hlinkClick r:id="rId1" action="ppaction://hlinksldjump"/>
          </p:cNvPr>
          <p:cNvSpPr/>
          <p:nvPr/>
        </p:nvSpPr>
        <p:spPr>
          <a:xfrm>
            <a:off x="5357880" y="607212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785880" y="35712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y – var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ying / spe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y – specif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ory / manufacturer / manufacturing / manufa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facture – manufactu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computor /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– computeri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inventor / inventing / in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 – inven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>
            <a:hlinkClick r:id="rId1" action="ppaction://hlinksldjump"/>
          </p:cNvPr>
          <p:cNvSpPr/>
          <p:nvPr/>
        </p:nvSpPr>
        <p:spPr>
          <a:xfrm>
            <a:off x="5429160" y="585792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71320" y="285840"/>
            <a:ext cx="4571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discoverer / discovery / discov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 – discov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importer / import / im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– im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or / construction / construc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… (adverb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 – construc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evolving / ev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… (adje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olve – evol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ize – … (nou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ize – politician / poli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>
            <a:hlinkClick r:id="rId1" action="ppaction://hlinksldjump"/>
          </p:cNvPr>
          <p:cNvSpPr/>
          <p:nvPr/>
        </p:nvSpPr>
        <p:spPr>
          <a:xfrm>
            <a:off x="5500800" y="6215040"/>
            <a:ext cx="3500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714240" y="571320"/>
            <a:ext cx="75006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)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рналист)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m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альон) 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итель)                  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tion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инистратор)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ик)                     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i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ый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s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удожник                 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ma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жарный)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                                                   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>
            <a:hlinkClick r:id="rId1" action="ppaction://hlinksldjump"/>
          </p:cNvPr>
          <p:cNvSpPr/>
          <p:nvPr/>
        </p:nvSpPr>
        <p:spPr>
          <a:xfrm>
            <a:off x="4857840" y="6215040"/>
            <a:ext cx="392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00040" y="571320"/>
            <a:ext cx="82148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ky  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чный)                              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 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астливый)                        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nes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з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der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до)                                   1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ful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и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ной)                         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(профессион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d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дность)                               1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ов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l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желюбный)                   1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оров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ou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асный)                         1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га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ди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>
            <a:hlinkClick r:id="rId1" action="ppaction://hlinksldjump"/>
          </p:cNvPr>
          <p:cNvSpPr/>
          <p:nvPr/>
        </p:nvSpPr>
        <p:spPr>
          <a:xfrm>
            <a:off x="4357800" y="621504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357120" y="1357200"/>
            <a:ext cx="84294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едование)     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it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лашение)             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лаб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уждать)                     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e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ревнова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ость)               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ion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ет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>
            <a:hlinkClick r:id="rId1" action="ppaction://hlinksldjump"/>
          </p:cNvPr>
          <p:cNvSpPr/>
          <p:nvPr/>
        </p:nvSpPr>
        <p:spPr>
          <a:xfrm>
            <a:off x="5286240" y="607212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571320" y="357120"/>
            <a:ext cx="79578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23000"/>
          </a:bodyPr>
          <a:p>
            <a:pPr algn="ctr">
              <a:lnSpc>
                <a:spcPct val="170000"/>
              </a:lnSpc>
              <a:tabLst>
                <a:tab algn="l" pos="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1. От данных глаголов образуйте указанную часть речи (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существительное,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0" lang="ru-RU" sz="6200" spc="-1" strike="noStrike">
                <a:solidFill>
                  <a:srgbClr val="000000"/>
                </a:solidFill>
                <a:latin typeface="Times New Roman"/>
              </a:rPr>
              <a:t>наречие).</a:t>
            </a:r>
            <a:br>
              <a:rPr sz="6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rite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an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an – … (adverb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form – … (adverb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plain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xplain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noun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adjective)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lude – … (adverb)</a:t>
            </a:r>
            <a:br>
              <a:rPr sz="4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>
            <a:hlinkClick r:id="rId1" action="ppaction://hlinksldjump"/>
          </p:cNvPr>
          <p:cNvSpPr/>
          <p:nvPr/>
        </p:nvSpPr>
        <p:spPr>
          <a:xfrm>
            <a:off x="4286160" y="6215040"/>
            <a:ext cx="44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pupil_in_school_clip_art_image_free_20121124_1787994090.gif"/>
          <p:cNvPicPr/>
          <p:nvPr/>
        </p:nvPicPr>
        <p:blipFill>
          <a:blip r:embed="rId2"/>
          <a:stretch/>
        </p:blipFill>
        <p:spPr>
          <a:xfrm>
            <a:off x="0" y="4786200"/>
            <a:ext cx="2160360" cy="186228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286680" y="4143240"/>
            <a:ext cx="2285640" cy="21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41000" y="1928880"/>
            <a:ext cx="2994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озмож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38840" y="2500200"/>
            <a:ext cx="29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соглашать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39560" y="3000240"/>
            <a:ext cx="224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хож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441720" y="3643200"/>
            <a:ext cx="3117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тимистическ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5153760" y="1500120"/>
            <a:ext cx="264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забот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367200" y="1357200"/>
            <a:ext cx="3017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челове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5227200" y="3071880"/>
            <a:ext cx="3093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r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пуляр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5222520" y="3643200"/>
            <a:ext cx="221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 вкус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5153040" y="2000160"/>
            <a:ext cx="25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5297040" y="2571840"/>
            <a:ext cx="211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u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ез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>
            <a:hlinkClick r:id="rId1" action="ppaction://hlinksldjump"/>
          </p:cNvPr>
          <p:cNvSpPr/>
          <p:nvPr/>
        </p:nvSpPr>
        <p:spPr>
          <a:xfrm>
            <a:off x="5000760" y="592920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К УПРАЖНЕНИЮ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1071360" y="285840"/>
            <a:ext cx="671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--- re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reac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reactiv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---- scienti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sci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----industr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industr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--- cold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col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----- dar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dar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----- happ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happ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----- equa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---- fre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 fre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---- atte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 attent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-----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 su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>
            <a:hlinkClick r:id="rId1" action="ppaction://hlinksldjump"/>
          </p:cNvPr>
          <p:cNvSpPr/>
          <p:nvPr/>
        </p:nvSpPr>
        <p:spPr>
          <a:xfrm>
            <a:off x="4929120" y="6215040"/>
            <a:ext cx="364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ВЕРНУТЬСЯ К УПРАЖНЕНИЮ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714240" y="785880"/>
            <a:ext cx="74293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От данных глаголов образуйте указанную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ourage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ut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ut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u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>
            <a:hlinkClick r:id="rId1" action="ppaction://hlinksldjump"/>
          </p:cNvPr>
          <p:cNvSpPr/>
          <p:nvPr/>
        </p:nvSpPr>
        <p:spPr>
          <a:xfrm>
            <a:off x="5715000" y="6215040"/>
            <a:ext cx="292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boy_clipart_-_free_people_clipart_20121124_1331479554.gif"/>
          <p:cNvPicPr/>
          <p:nvPr/>
        </p:nvPicPr>
        <p:blipFill>
          <a:blip r:embed="rId2"/>
          <a:stretch/>
        </p:blipFill>
        <p:spPr>
          <a:xfrm>
            <a:off x="214200" y="3643200"/>
            <a:ext cx="2774520" cy="279216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286680" y="4214880"/>
            <a:ext cx="2133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57160" y="357120"/>
            <a:ext cx="735768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erve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>
            <a:hlinkClick r:id="rId1" action="ppaction://hlinksldjump"/>
          </p:cNvPr>
          <p:cNvSpPr/>
          <p:nvPr/>
        </p:nvSpPr>
        <p:spPr>
          <a:xfrm>
            <a:off x="6072120" y="6286680"/>
            <a:ext cx="28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cartoon_human_free_image_20121124_2000899342.gif"/>
          <p:cNvPicPr/>
          <p:nvPr/>
        </p:nvPicPr>
        <p:blipFill>
          <a:blip r:embed="rId2"/>
          <a:stretch/>
        </p:blipFill>
        <p:spPr>
          <a:xfrm>
            <a:off x="6782400" y="1357200"/>
            <a:ext cx="2361240" cy="2452320"/>
          </a:xfrm>
          <a:prstGeom prst="rect">
            <a:avLst/>
          </a:prstGeom>
          <a:ln w="9525">
            <a:noFill/>
          </a:ln>
        </p:spPr>
      </p:pic>
      <p:pic>
        <p:nvPicPr>
          <p:cNvPr id="54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572160" y="4214880"/>
            <a:ext cx="2142720" cy="20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285840"/>
            <a:ext cx="785772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y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y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>
            <a:hlinkClick r:id="rId1" action="ppaction://hlinksldjump"/>
          </p:cNvPr>
          <p:cNvSpPr/>
          <p:nvPr/>
        </p:nvSpPr>
        <p:spPr>
          <a:xfrm>
            <a:off x="5643720" y="62150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happy_man_clipart_image_-_people_images_free_download_20121124_1422920118.gif"/>
          <p:cNvPicPr/>
          <p:nvPr/>
        </p:nvPicPr>
        <p:blipFill>
          <a:blip r:embed="rId2"/>
          <a:stretch/>
        </p:blipFill>
        <p:spPr>
          <a:xfrm>
            <a:off x="214200" y="1785960"/>
            <a:ext cx="2311560" cy="2739600"/>
          </a:xfrm>
          <a:prstGeom prst="rect">
            <a:avLst/>
          </a:prstGeom>
          <a:ln w="9525">
            <a:noFill/>
          </a:ln>
        </p:spPr>
      </p:pic>
      <p:pic>
        <p:nvPicPr>
          <p:cNvPr id="58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429240" y="3929040"/>
            <a:ext cx="2285640" cy="21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42960" y="428760"/>
            <a:ext cx="792936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От данных глаголов образуйте указанную часть реч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ое с разным значением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ective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ое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erb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еч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ver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ver – … (adjec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 – … (adver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v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ve – … (adj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ize – … (no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>
            <a:hlinkClick r:id="rId1" action="ppaction://hlinksldjump"/>
          </p:cNvPr>
          <p:cNvSpPr/>
          <p:nvPr/>
        </p:nvSpPr>
        <p:spPr>
          <a:xfrm>
            <a:off x="5643720" y="621504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9" descr="1099927-Happy-Black-Or-Hispanic-Professor-Using-A-Pointer-Stick.jpg"/>
          <p:cNvPicPr/>
          <p:nvPr/>
        </p:nvPicPr>
        <p:blipFill>
          <a:blip r:embed="rId2"/>
          <a:stretch/>
        </p:blipFill>
        <p:spPr>
          <a:xfrm>
            <a:off x="428760" y="3429000"/>
            <a:ext cx="2520720" cy="2950920"/>
          </a:xfrm>
          <a:prstGeom prst="rect">
            <a:avLst/>
          </a:prstGeom>
          <a:ln w="9525">
            <a:noFill/>
          </a:ln>
        </p:spPr>
      </p:pic>
      <p:pic>
        <p:nvPicPr>
          <p:cNvPr id="62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6500880" y="4214880"/>
            <a:ext cx="2065320" cy="19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500040" y="335880"/>
            <a:ext cx="800064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Добавьте один из суффиксов (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, -r, -ian, -ist, -man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словам, чтобы образовалось название профессии.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ция)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eman 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цейск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ic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зыка)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urnal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урнал)    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та)                                     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v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ить машину)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p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реча) 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ctric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лектрический)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tics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ика)                   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ience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а )                                                            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кус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го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>
            <a:hlinkClick r:id="rId1" action="ppaction://hlinksldjump"/>
          </p:cNvPr>
          <p:cNvSpPr/>
          <p:nvPr/>
        </p:nvSpPr>
        <p:spPr>
          <a:xfrm>
            <a:off x="5286240" y="62150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Рисунок 3"/>
          <p:cNvSpPr/>
          <p:nvPr/>
        </p:nvSpPr>
        <p:spPr>
          <a:xfrm>
            <a:off x="4357800" y="2071800"/>
            <a:ext cx="1824120" cy="1800000"/>
          </a:xfrm>
          <a:prstGeom prst="flowChartDisplay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Алексей\Desktop\ИТ ПЕДАГОГ 2015\otveti-na-voprosi.jpg"/>
          <p:cNvPicPr/>
          <p:nvPr/>
        </p:nvPicPr>
        <p:blipFill>
          <a:blip r:embed="rId3"/>
          <a:stretch/>
        </p:blipFill>
        <p:spPr>
          <a:xfrm>
            <a:off x="5786280" y="4143240"/>
            <a:ext cx="2195280" cy="20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Алексей\Desktop\ИТ ПЕДАГОГ 2015\otveti-na-voprosi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04640" cy="20638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85840" y="214200"/>
            <a:ext cx="885780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Посмотрите на суффиксы существительных и прилагательных. Образуйте недостающие слова в столбцах и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ительны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s, -ion, -ation, -ment, -ance, -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лагательные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, -y, -ly, -ful, -ous, -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лагатель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  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ck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чный)                                           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ck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ppiness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асть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nderfu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удесный)                                   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d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ор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eed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адный)                                           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iend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у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         ……                                                   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nger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ас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tiona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адиционный)                              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  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ce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l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ьной)                                                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th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ession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3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siness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зне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.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y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доровый)                                        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.       ……                                                     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alth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гатство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единительная линия 3"/>
          <p:cNvCxnSpPr/>
          <p:nvPr/>
        </p:nvCxnSpPr>
        <p:spPr>
          <a:xfrm>
            <a:off x="3929040" y="2000160"/>
            <a:ext cx="71640" cy="4572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0" name="TextBox 4">
            <a:hlinkClick r:id="rId2" action="ppaction://hlinksldjump"/>
          </p:cNvPr>
          <p:cNvSpPr/>
          <p:nvPr/>
        </p:nvSpPr>
        <p:spPr>
          <a:xfrm>
            <a:off x="5000760" y="6286680"/>
            <a:ext cx="385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лексей\Desktop\ИТ ПЕДАГОГ 2015\otveti-na-voprosi.jpg"/>
          <p:cNvPicPr/>
          <p:nvPr/>
        </p:nvPicPr>
        <p:blipFill>
          <a:blip r:embed="rId1"/>
          <a:stretch/>
        </p:blipFill>
        <p:spPr>
          <a:xfrm>
            <a:off x="6072120" y="4500720"/>
            <a:ext cx="1990440" cy="1863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785880" y="285840"/>
            <a:ext cx="7786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Вспомните суффиксы существительных и  глаголов. Образуйте недостающие слова в столбцах и переведите образовавшиеся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00040" y="1143000"/>
            <a:ext cx="81435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уществительно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   Гла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едование)                     1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ед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……                                                                 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ite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лаш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uss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суждение)                                3.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……                                                                  4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ear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гляде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 ……                                                                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e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з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 ……                                                                 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x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лабля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ion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ревнование)                         7. 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……                                                                    8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nt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брет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единительная линия 4"/>
          <p:cNvCxnSpPr/>
          <p:nvPr/>
        </p:nvCxnSpPr>
        <p:spPr>
          <a:xfrm>
            <a:off x="4714560" y="1500120"/>
            <a:ext cx="72000" cy="4572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75" name="TextBox 5">
            <a:hlinkClick r:id="rId2" action="ppaction://hlinksldjump"/>
          </p:cNvPr>
          <p:cNvSpPr/>
          <p:nvPr/>
        </p:nvSpPr>
        <p:spPr>
          <a:xfrm>
            <a:off x="5214960" y="6286680"/>
            <a:ext cx="342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ОТВЕТЫ К УПРАЖНЕНИЮ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исунок 6"/>
          <p:cNvSpPr/>
          <p:nvPr/>
        </p:nvSpPr>
        <p:spPr>
          <a:xfrm>
            <a:off x="2500200" y="4786200"/>
            <a:ext cx="1965960" cy="184896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  <Words>845</Words>
  <Paragraphs>24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11:34:05Z</dcterms:created>
  <dc:creator>Алексей</dc:creator>
  <dc:description/>
  <dc:language>en-US</dc:language>
  <cp:lastModifiedBy>Алексей</cp:lastModifiedBy>
  <dcterms:modified xsi:type="dcterms:W3CDTF">2015-08-18T15:29:04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