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12.wmf" ContentType="image/x-wmf"/>
  <Override PartName="/ppt/media/image7.png" ContentType="image/png"/>
  <Override PartName="/ppt/media/image32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5.png" ContentType="image/png"/>
  <Override PartName="/ppt/media/image35.png" ContentType="image/png"/>
  <Override PartName="/ppt/media/image11.png" ContentType="image/png"/>
  <Override PartName="/ppt/media/image3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3.png" ContentType="image/png"/>
  <Override PartName="/ppt/media/image34.png" ContentType="image/png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C2A42F-7E34-404C-8B37-DE8B96596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6A5A3F-F4C4-409C-8794-A3950A60575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C5F-7222-47D6-9562-2FF3FED0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510-F94B-455E-8194-0D587AF2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65B5-91DE-42E9-8E06-C696557D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E8E9-16AA-4A4C-9CCE-36856DC6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F88C-586A-435D-AC16-0B55F91D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787B-458D-42A3-94C4-F10DCA40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4C7F-C1C8-4F3B-B2B5-9FCB8F36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24F6-C2C2-41A0-A54C-C79777B5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3158-591C-41BD-89E9-A576F465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9049-DF8F-4EF2-97ED-1A527C72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B463-168A-4A36-854B-B6B4DA8C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E96-B17F-498D-996B-1ED57B16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429A-BAD4-4C74-B6D8-8262FA60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90CD-F227-44FE-8803-7427BC5C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ED8B-3A51-4DBF-9D7F-3E3449C1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4830-645D-47AD-9990-E7AFBD6A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5033-B0FF-4AD7-9E51-B6E0486D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B7638-F29E-49E0-98A0-A459EE82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5461D-8E54-4357-8C3B-FA20FC29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45A64-CE34-4BA4-AD54-7BF09CFF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60AE8-222B-42EB-8C2C-42C14255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6FB41-29BC-4DC7-B5DB-22BD8970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A0F-C5A6-405A-A00F-6180EAD0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417A3-D235-4E7D-948B-6017FD25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4C893-73F4-4DB8-8496-77EFAB7A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AC5DB-4178-4E64-B0DF-59D623EA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6A713-E89C-4323-A230-C72D047D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B0050-3F15-4F6A-AD42-DEA722AA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92381-4C36-42A8-9737-6A7B21D4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33E14-FABA-4B75-B145-6DE950CB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9205F-D96D-417B-A1B4-DC732FEA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0EA97-7D84-4233-A282-C2A30387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0089E-9C32-4F2E-8104-4B30B90F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272F-7E44-4F96-84FF-B4FF3292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72C26-9D68-44FB-AD04-F91F08A9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2AAF4-87C2-493C-8916-164622CC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3E805-9F6D-4F0D-98DA-1C949C1E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37C30-1483-41B8-B926-9F3A881B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569B6-7A4B-4C2A-920A-378A807B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5B779-4DB9-4262-8271-CAF9D108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090E8-0110-49D9-9C47-8CB08371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43962-A669-47AA-BA4D-848839F3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57C98-AE8E-4011-8154-11125755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9B4F-CAB0-46C0-BDD0-35FE01D2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B1E9-7D8D-4221-BD57-05C0B9EC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FC1-7F84-4F89-9012-F0CFFC4D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C81-E1A1-46F5-8C42-ED29BA86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42F-2436-4AB7-AC19-B2F2AC54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4B26DA-F25D-4151-990A-B03DBBB7A21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F4CE0E-D0D1-4B6A-A26C-4B27C4CC8A2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240" cy="58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EB1146-2F40-4593-9DCA-DCA855E232D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3EAB98-C10B-4940-B12E-E828BB5924F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476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абораторная работа № 8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691640" y="1989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indent="0" algn="ctr">
              <a:lnSpc>
                <a:spcPct val="100000"/>
              </a:lnSpc>
              <a:spcBef>
                <a:spcPts val="2880"/>
              </a:spcBef>
              <a:buNone/>
              <a:tabLst>
                <a:tab algn="l" pos="0"/>
              </a:tabLst>
            </a:pPr>
            <a:r>
              <a:rPr b="1" lang="ru-RU" sz="14400" spc="-1" strike="noStrike">
                <a:solidFill>
                  <a:srgbClr val="000000"/>
                </a:solidFill>
                <a:latin typeface="Calibri"/>
              </a:rPr>
              <a:t>Двоичные сумматоры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На микрооперации сложения основаны алгоритмы (микропрограммы) выполнения основных арифметических операций в арифметико-логическом устройстве (сложение, вычитание, умножение, деление).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763640" y="514440"/>
            <a:ext cx="5609880" cy="6343200"/>
          </a:xfrm>
          <a:prstGeom prst="rect">
            <a:avLst/>
          </a:prstGeom>
          <a:ln w="9525">
            <a:noFill/>
          </a:ln>
        </p:spPr>
      </p:pic>
      <p:sp>
        <p:nvSpPr>
          <p:cNvPr id="205" name="TextBox 4"/>
          <p:cNvSpPr/>
          <p:nvPr/>
        </p:nvSpPr>
        <p:spPr>
          <a:xfrm>
            <a:off x="826920" y="0"/>
            <a:ext cx="7129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Последовательный накапливающий сумм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3"/>
          <p:cNvSpPr/>
          <p:nvPr/>
        </p:nvSpPr>
        <p:spPr>
          <a:xfrm>
            <a:off x="395640" y="-5400"/>
            <a:ext cx="8424360" cy="696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вое слагаемое загружается в регистр С(1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с внешнего регистр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1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 Второе слагаемое загружается в регистр В(1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с внешнего регистра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1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ожение осуществляется з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ктов. В очередном такте на одноразрядном комбинационном сумматоре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КС) складываются очередные цифры слагаемых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  перенос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, полученный в предыдущем такте при сложении предыдущих младших цифр. Перенос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полученный в текущем такте, запоминается на триггере для использования в следующем такте. По истечени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тактов сумма должна оказаться в регистр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Для записывания в регистр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очередного разряда суммы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подачи следующей цифры первого и второго слагаемых  на ОКС используется микрооперация сдвига (при сдвиге в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ном разряде регистра С оказывается следующая по старшинству цифра первого слагаемого, а освобождающийся старший разряд регистра С доопределяется значением очередной вычисленной цифры суммы). При сложении младших разрядов перенос должен быть равен нулю, поэтому необходимо предусмотреть микрооперацию сброса триггера Р. Если в триггере есть установочные входы, то сигнал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сб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можно подавать на установочный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вход тригге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цесс сложения при помощи последовательного сумматора является не микрооперацией, а микропрограммой (почему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539640" y="188640"/>
            <a:ext cx="820872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Задание 2. На базе ОКСм собрать и наладить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хему последовательного  суммирования трехразрядных двоичных чисел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Предусмотреть ввод слагаемых в последовательном коде с кнопочного регистра  (по входам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фиксацию суммы на трехразрядном сдвиговом регистре (упрощенный вариант схемы, приведенной на предыдущем рисунке). Управляющий сигнал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одать с генератора одиночних импульсов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бедиться в работоспособности схемы на тестовых примерах, реализуя подготовительный такт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три такта суммирования (сдвига)                                                                 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Object 1"/>
          <p:cNvGraphicFramePr/>
          <p:nvPr/>
        </p:nvGraphicFramePr>
        <p:xfrm>
          <a:off x="3420000" y="2349000"/>
          <a:ext cx="1331640" cy="4316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1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0000" y="234900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4716000" y="2709000"/>
          <a:ext cx="3633840" cy="359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000" y="2709000"/>
                    <a:ext cx="3633840" cy="35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3132000" y="1684080"/>
          <a:ext cx="503640" cy="39312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1684080"/>
                    <a:ext cx="503640" cy="39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Picture 8" descr=""/>
          <p:cNvPicPr/>
          <p:nvPr/>
        </p:nvPicPr>
        <p:blipFill>
          <a:blip r:embed="rId7"/>
          <a:stretch/>
        </p:blipFill>
        <p:spPr>
          <a:xfrm>
            <a:off x="2339640" y="3119400"/>
            <a:ext cx="4392000" cy="3645720"/>
          </a:xfrm>
          <a:prstGeom prst="rect">
            <a:avLst/>
          </a:prstGeom>
          <a:ln w="9525">
            <a:noFill/>
          </a:ln>
        </p:spPr>
      </p:pic>
      <p:sp>
        <p:nvSpPr>
          <p:cNvPr id="218" name="TextBox 11"/>
          <p:cNvSpPr/>
          <p:nvPr/>
        </p:nvSpPr>
        <p:spPr>
          <a:xfrm>
            <a:off x="7020360" y="3213000"/>
            <a:ext cx="1728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разряд регистра - стар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2"/>
          <p:cNvSpPr/>
          <p:nvPr/>
        </p:nvSpPr>
        <p:spPr>
          <a:xfrm>
            <a:off x="6588360" y="0"/>
            <a:ext cx="2304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Маке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мма формируется в регистре А(1:3) за 3 т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179640" y="0"/>
            <a:ext cx="5859360" cy="6857640"/>
          </a:xfrm>
          <a:prstGeom prst="rect">
            <a:avLst/>
          </a:prstGeom>
          <a:ln w="9525">
            <a:noFill/>
          </a:ln>
        </p:spPr>
      </p:pic>
      <p:sp>
        <p:nvSpPr>
          <p:cNvPr id="221" name="TextBox 4"/>
          <p:cNvSpPr/>
          <p:nvPr/>
        </p:nvSpPr>
        <p:spPr>
          <a:xfrm>
            <a:off x="6732360" y="1556640"/>
            <a:ext cx="241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с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Сложение без пере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6732360" y="2565000"/>
            <a:ext cx="2199960" cy="4047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2483640" y="332640"/>
            <a:ext cx="410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). Сложение с перено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3060000" y="764640"/>
            <a:ext cx="2808000" cy="516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2808000" cy="5957640"/>
          </a:xfrm>
          <a:prstGeom prst="rect">
            <a:avLst/>
          </a:prstGeom>
          <a:ln w="9525">
            <a:noFill/>
          </a:ln>
        </p:spPr>
      </p:pic>
      <p:sp>
        <p:nvSpPr>
          <p:cNvPr id="226" name="TextBox 5"/>
          <p:cNvSpPr/>
          <p:nvPr/>
        </p:nvSpPr>
        <p:spPr>
          <a:xfrm>
            <a:off x="250920" y="0"/>
            <a:ext cx="889272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3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N-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азрядный параллельный комбинационный сумматор с последовательным перено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4356000" y="404640"/>
            <a:ext cx="4547880" cy="3384360"/>
          </a:xfrm>
          <a:prstGeom prst="rect">
            <a:avLst/>
          </a:prstGeom>
          <a:ln w="9525">
            <a:noFill/>
          </a:ln>
        </p:spPr>
      </p:pic>
      <p:sp>
        <p:nvSpPr>
          <p:cNvPr id="228" name="TextBox 4"/>
          <p:cNvSpPr/>
          <p:nvPr/>
        </p:nvSpPr>
        <p:spPr>
          <a:xfrm>
            <a:off x="3708360" y="4076640"/>
            <a:ext cx="5435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ремя вычисле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рядной су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5"/>
          <p:cNvGraphicFramePr/>
          <p:nvPr/>
        </p:nvGraphicFramePr>
        <p:xfrm>
          <a:off x="3635280" y="4365720"/>
          <a:ext cx="1512360" cy="5173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3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4365720"/>
                    <a:ext cx="15123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Box 6"/>
          <p:cNvSpPr/>
          <p:nvPr/>
        </p:nvSpPr>
        <p:spPr>
          <a:xfrm>
            <a:off x="5076720" y="4365720"/>
            <a:ext cx="4066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</a:rPr>
              <a:t>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задержка сигнала в ОК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3564000" y="4941720"/>
            <a:ext cx="557964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авнительно большая задержка вычисления суммы в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рядном сумматоре вызвана использованием последовательного перен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уменьшения этой задержки используют цепи группового переноса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[1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971640" y="6488280"/>
            <a:ext cx="2304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Старший раз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0" y="19432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0" y="764640"/>
            <a:ext cx="9127800" cy="5047920"/>
          </a:xfrm>
          <a:prstGeom prst="rect">
            <a:avLst/>
          </a:prstGeom>
          <a:ln w="9525">
            <a:noFill/>
          </a:ln>
        </p:spPr>
      </p:pic>
      <p:sp>
        <p:nvSpPr>
          <p:cNvPr id="236" name="TextBox 4"/>
          <p:cNvSpPr/>
          <p:nvPr/>
        </p:nvSpPr>
        <p:spPr>
          <a:xfrm>
            <a:off x="2700360" y="0"/>
            <a:ext cx="6192360" cy="13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труктур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капливающего  сумматор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яду с комбинационным сумматором входит регистр, который является источником одного из операндов. На этом же регистре запоминается сум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539640" y="6021360"/>
            <a:ext cx="8136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а макете можно разместить только двухразрядный сумматор (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 = 2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323640" y="188640"/>
            <a:ext cx="864072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Двухразрядный накапливающий сумматор, включающий два ОКСм не помещается на макете. Что 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Младший разряд двухразрядного комбинационного сумматора реализуем как полусумматор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395640" y="1989000"/>
            <a:ext cx="8352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сумматор – это одноразрядный комбинационный сумматор без входа переноса . Используется в схемах параллельного суммирования для сложения младших разрядов двоичных чисел. Зависимость выходов от входов ПСм описывается таблицей состоя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2"/>
          <p:cNvGraphicFramePr/>
          <p:nvPr/>
        </p:nvGraphicFramePr>
        <p:xfrm>
          <a:off x="1043640" y="3069000"/>
          <a:ext cx="3024000" cy="1703880"/>
        </p:xfrm>
        <a:graphic>
          <a:graphicData uri="http://schemas.openxmlformats.org/presentationml/2006/ole">
            <p:oleObj progId="Visio.Drawing.11" r:id="rId1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3640" y="3069000"/>
                    <a:ext cx="3024000" cy="17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Picture 3" descr=""/>
          <p:cNvPicPr/>
          <p:nvPr/>
        </p:nvPicPr>
        <p:blipFill>
          <a:blip r:embed="rId3"/>
          <a:stretch/>
        </p:blipFill>
        <p:spPr>
          <a:xfrm>
            <a:off x="5004000" y="2925000"/>
            <a:ext cx="1944000" cy="1883880"/>
          </a:xfrm>
          <a:prstGeom prst="rect">
            <a:avLst/>
          </a:prstGeom>
          <a:ln w="9525">
            <a:noFill/>
          </a:ln>
        </p:spPr>
      </p:pic>
      <p:sp>
        <p:nvSpPr>
          <p:cNvPr id="243" name="TextBox 6"/>
          <p:cNvSpPr/>
          <p:nvPr/>
        </p:nvSpPr>
        <p:spPr>
          <a:xfrm>
            <a:off x="251640" y="4869000"/>
            <a:ext cx="8640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 таблице состояний получены следующие функции для выходов полусумматора. Они преобразованы с целью обеспечения возможности размещения схемы на макете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Log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1907640" y="5661360"/>
          <a:ext cx="5778360" cy="99360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7640" y="5661360"/>
                    <a:ext cx="577836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" name="Object 1"/>
          <p:cNvGraphicFramePr/>
          <p:nvPr/>
        </p:nvGraphicFramePr>
        <p:xfrm>
          <a:off x="611640" y="476640"/>
          <a:ext cx="2295000" cy="10807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4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40" y="476640"/>
                    <a:ext cx="2295000" cy="10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1" name="Object 3"/>
          <p:cNvGraphicFramePr/>
          <p:nvPr/>
        </p:nvGraphicFramePr>
        <p:xfrm>
          <a:off x="3708000" y="1068480"/>
          <a:ext cx="4680000" cy="5291280"/>
        </p:xfrm>
        <a:graphic>
          <a:graphicData uri="http://schemas.openxmlformats.org/presentationml/2006/ole">
            <p:oleObj progId="Visio.Drawing.11" r:id="rId3" spid="">
              <p:embed/>
              <p:pic>
                <p:nvPicPr>
                  <p:cNvPr id="2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000" y="1068480"/>
                    <a:ext cx="4680000" cy="52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TextBox 5"/>
          <p:cNvSpPr/>
          <p:nvPr/>
        </p:nvSpPr>
        <p:spPr>
          <a:xfrm>
            <a:off x="539640" y="1917000"/>
            <a:ext cx="2736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полученным функциям построена схема полусумм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323640" y="0"/>
            <a:ext cx="84967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Задание 3. На основе схем ОКСм и ПСм собрать и наладить схему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акапливающего двухразрядного параллельного сумматор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0" y="1700640"/>
            <a:ext cx="413964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хема параллельного двухразрядного накапливающего сумматора изображена на рисунке (нулевой разряд – младший – реализован с помощью полусумматора, первый разряд – старший – реализован с помощью ОКСм, который уже собран на макет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gi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нный операционный элемент выполняет две микроопе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правляющий сигнал        можно подать с кнопки, управляющий сигнал          целесообразно подать с генератора одиночных импуль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7" name="Object 1"/>
          <p:cNvGraphicFramePr/>
          <p:nvPr/>
        </p:nvGraphicFramePr>
        <p:xfrm>
          <a:off x="323640" y="4653000"/>
          <a:ext cx="3057120" cy="7171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5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3640" y="4653000"/>
                    <a:ext cx="3057120" cy="71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2267640" y="5517360"/>
          <a:ext cx="283680" cy="3474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7640" y="5517360"/>
                    <a:ext cx="28368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3" name="Object 5"/>
          <p:cNvGraphicFramePr/>
          <p:nvPr/>
        </p:nvGraphicFramePr>
        <p:xfrm>
          <a:off x="3924000" y="5805360"/>
          <a:ext cx="503640" cy="4356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6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000" y="5805360"/>
                    <a:ext cx="503640" cy="4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Object 7"/>
          <p:cNvGraphicFramePr/>
          <p:nvPr/>
        </p:nvGraphicFramePr>
        <p:xfrm>
          <a:off x="3924000" y="1886400"/>
          <a:ext cx="5219640" cy="4836600"/>
        </p:xfrm>
        <a:graphic>
          <a:graphicData uri="http://schemas.openxmlformats.org/presentationml/2006/ole">
            <p:oleObj progId="Visio.Drawing.11" r:id="rId7" spid="">
              <p:embed/>
              <p:pic>
                <p:nvPicPr>
                  <p:cNvPr id="26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000" y="1886400"/>
                    <a:ext cx="5219640" cy="48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"/>
          <p:cNvSpPr/>
          <p:nvPr/>
        </p:nvSpPr>
        <p:spPr>
          <a:xfrm>
            <a:off x="899640" y="836640"/>
            <a:ext cx="74883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е собирают одноразрядный комбинационный сумматор (описан в разделе 1, схема - **). Он затем используется как составная часть указанных ниже сх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ригады с четными номерами собирают на макете схему трехразрядного последовательного сумматора (описан в разделе 2,  окончательная схема  - ***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ригады с нечетными номерами собирают на макете схему параллельного двухразрядного накапливающего сумматора (описан в разделе 3, окончательная схема - *****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отчете по лабораторной работе приводятся обе вышеперечисленные сх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 защите лабораторной работы проверяется понимание всего изложенного в данной презентации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2627640" y="188640"/>
            <a:ext cx="3744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рианты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0" y="0"/>
            <a:ext cx="2880000" cy="66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3.1.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начала на макете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Logic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оберем и отладим схему двухразрядного параллельного </a:t>
            </a:r>
            <a:r>
              <a:rPr b="1" i="1" lang="ru-RU" sz="1700" spc="-1" strike="noStrike">
                <a:solidFill>
                  <a:srgbClr val="000000"/>
                </a:solidFill>
                <a:latin typeface="Calibri"/>
              </a:rPr>
              <a:t>комбинационного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умматора с последовательным переносом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Первый разряд (старший) у нас уже собран (ОКСм). Добавляем нулевой (младший) разряд (ПСм). Замыкаем перенос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P1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 младшего разряда на старший, меняя при этом глобальную линию 5 на локальную линию 3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роверяем работу младшего разряда (проверяем 4 комбинации на кнопках  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, b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Затем проверяем работу двухразрядного сумматора, подавая двухразрядные коды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a(1:0)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b(1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:0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3060000" y="0"/>
            <a:ext cx="586260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395640" y="908640"/>
            <a:ext cx="2588760" cy="2613240"/>
          </a:xfrm>
          <a:prstGeom prst="rect">
            <a:avLst/>
          </a:prstGeom>
          <a:ln w="9525">
            <a:noFill/>
          </a:ln>
        </p:spPr>
      </p:pic>
      <p:sp>
        <p:nvSpPr>
          <p:cNvPr id="271" name="TextBox 4"/>
          <p:cNvSpPr/>
          <p:nvPr/>
        </p:nvSpPr>
        <p:spPr>
          <a:xfrm>
            <a:off x="0" y="0"/>
            <a:ext cx="3923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сты для младшего разряда (полусумматор, входной перенос равен нул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5364000" y="476640"/>
            <a:ext cx="3314520" cy="6162480"/>
          </a:xfrm>
          <a:prstGeom prst="rect">
            <a:avLst/>
          </a:prstGeom>
          <a:ln w="9525">
            <a:noFill/>
          </a:ln>
        </p:spPr>
      </p:pic>
      <p:sp>
        <p:nvSpPr>
          <p:cNvPr id="273" name="TextBox 6"/>
          <p:cNvSpPr/>
          <p:nvPr/>
        </p:nvSpPr>
        <p:spPr>
          <a:xfrm>
            <a:off x="2051640" y="5661360"/>
            <a:ext cx="331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сты для двухразрядного комбинационного сумм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"/>
          <p:cNvSpPr/>
          <p:nvPr/>
        </p:nvSpPr>
        <p:spPr>
          <a:xfrm>
            <a:off x="395640" y="620640"/>
            <a:ext cx="874800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2. После проверки двухразрядного комбинационного сумматора убираем сигналы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кнопок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ализуем  двухразрядный регистр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(1:0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двух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иггерах на макет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igger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Третий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иггер используем для запоминания выходного переноса предыдущего такта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*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чтобы был виден весь результа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единяя двухразрядный комбинационный сумматор с двухразрядным регистром, получаем двухразрядный параллельный накапливающий сумма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2"/>
          <p:cNvSpPr/>
          <p:nvPr/>
        </p:nvSpPr>
        <p:spPr>
          <a:xfrm>
            <a:off x="6228360" y="188640"/>
            <a:ext cx="2664000" cy="65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ке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* -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ходной перенос, запомненный на тригг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стир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станавлива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0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=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олняем сб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*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=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ылаем в схему одиночные импульсы и наблюдаем смену состояний в регистр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(1:0)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-  сч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 1, 2, 3, 0, 1, 2, 3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1,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лжен происходить сч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 2, 0, 2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179640" y="0"/>
            <a:ext cx="5760360" cy="6822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1"/>
          <p:cNvSpPr/>
          <p:nvPr/>
        </p:nvSpPr>
        <p:spPr>
          <a:xfrm>
            <a:off x="755640" y="476640"/>
            <a:ext cx="792036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троль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Чем отличается комбинационный сумматор от накапливающего, последовательный от параллельн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Какова минимальная задержка сигнала переноса в одноразрядном двоичном суммато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Что такое полусумматор? Как построить полный  одноразрядный сумматор из полусумматор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 Чему равно время суммирования в параллельном двухразрядном комбинационном сумматоре с последовательным перенос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)Как с помощью сумматора выполнить операцию вычит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899640" y="188640"/>
            <a:ext cx="7776360" cy="69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атор – это операционный элемент, предназначенный для выполнения микрооперации сложения чисел. Если операнды и результат сложения представляются в двоичной системе счисления, то сумматор называется двоич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аторы подразделяются на два типа: комбинационные  и накапливающие. Комбинационные сумматоры не содержат запоминающих элементов и реализует микрооперацию сложения в вид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капливающие сумматоры содержат регистр, на котором перед началом микрооперации хранится слагаемое и на момент окончания сложения – сумма. Накапливающие сумматоры реализуют микрооперацию сложения в виде С:=С+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0"/>
          <p:cNvSpPr/>
          <p:nvPr/>
        </p:nvSpPr>
        <p:spPr>
          <a:xfrm>
            <a:off x="323640" y="0"/>
            <a:ext cx="8424720" cy="67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Операционное устройство  может производить арифметические и логические операции в соответствии с заложенной в его основу микропрограммой параллельно, последовательно и параллельно-последовательно. 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Параллельный способ выполнения операции суммирования двух чисел с фиксированной точкой предполагает, что микрооперация сложения, используемая в микропрограмме суммирования, выполняется над всеми разрядами операндов одновременно (параллельно). 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Последовательный способ выполнения операции суммирования означает, что соответствующая микрооперация сложения выполняется последовательно над каждым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-ым разрядом суммируемых чисел, начиная с младшего. Поэтому для осуществления сложения двух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-разрядных чисел на последовательном двоичном сумматоре потребуется 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тактов суммирования (потери времени при этом компенсируются существенной экономией аппаратуры).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Для запоминания переноса в следующий разряд нужен триггер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Компромиссным способом является параллельно-последовательный способ выполнения сложения на двоичном сумматоре. Он предполагает, что микрооперация сложения выполняется над 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разрядами суммируемых чисел (т.е. 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разрядов суммируются параллельно) ,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 m&lt;n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 кратно </a:t>
            </a:r>
            <a:r>
              <a:rPr b="1" lang="en-US" sz="175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750" spc="-1" strike="noStrike">
                <a:solidFill>
                  <a:srgbClr val="000000"/>
                </a:solidFill>
                <a:latin typeface="Calibri"/>
              </a:rPr>
              <a:t>. При этом в микропрограмме сложения должна быть предусмотрена микрооперация сдвига регистра, на который записывается сумма, на  разрядов вправо для того, чтобы освободить место для записи суммы следующих по старшинству  разрядов суммируемых слов. 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467640" y="2061000"/>
            <a:ext cx="2995200" cy="2015640"/>
          </a:xfrm>
          <a:prstGeom prst="rect">
            <a:avLst/>
          </a:prstGeom>
          <a:ln w="9525">
            <a:noFill/>
          </a:ln>
        </p:spPr>
      </p:pic>
      <p:sp>
        <p:nvSpPr>
          <p:cNvPr id="177" name="TextBox 2"/>
          <p:cNvSpPr/>
          <p:nvPr/>
        </p:nvSpPr>
        <p:spPr>
          <a:xfrm>
            <a:off x="467640" y="0"/>
            <a:ext cx="8676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.  Одноразрядный комбинационный сумматор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типовой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ый разряд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ядного комбинационного суммато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1187640" y="908640"/>
            <a:ext cx="172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од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3996000" y="908640"/>
            <a:ext cx="4968360" cy="70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хема, изображенная на рисунке, суммируе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- значения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ых разрядов слов А(1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1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– а такж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 перенос в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ый разряд суммы из младшего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1)-го раз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 значени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го разряда су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-1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 значение переноса в старший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1)-ый разря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10"/>
          <p:cNvGraphicFramePr/>
          <p:nvPr/>
        </p:nvGraphicFramePr>
        <p:xfrm>
          <a:off x="827640" y="5085360"/>
          <a:ext cx="6552720" cy="6807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8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7640" y="5085360"/>
                    <a:ext cx="655272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9"/>
          <p:cNvGraphicFramePr/>
          <p:nvPr/>
        </p:nvGraphicFramePr>
        <p:xfrm>
          <a:off x="755640" y="3789000"/>
          <a:ext cx="7488000" cy="68868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8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3789000"/>
                    <a:ext cx="748800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13"/>
          <p:cNvSpPr/>
          <p:nvPr/>
        </p:nvSpPr>
        <p:spPr>
          <a:xfrm>
            <a:off x="539640" y="43257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" name="Object 14"/>
          <p:cNvGraphicFramePr/>
          <p:nvPr/>
        </p:nvGraphicFramePr>
        <p:xfrm>
          <a:off x="755640" y="4509000"/>
          <a:ext cx="4608000" cy="6012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86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4509000"/>
                    <a:ext cx="4608000" cy="60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Box 7"/>
          <p:cNvSpPr/>
          <p:nvPr/>
        </p:nvSpPr>
        <p:spPr>
          <a:xfrm>
            <a:off x="5508000" y="0"/>
            <a:ext cx="223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ес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7"/>
          <a:stretch/>
        </p:blipFill>
        <p:spPr>
          <a:xfrm>
            <a:off x="3924000" y="476640"/>
            <a:ext cx="4743360" cy="3312000"/>
          </a:xfrm>
          <a:prstGeom prst="rect">
            <a:avLst/>
          </a:prstGeom>
          <a:ln w="9525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8"/>
          <a:stretch/>
        </p:blipFill>
        <p:spPr>
          <a:xfrm>
            <a:off x="395640" y="188640"/>
            <a:ext cx="2995200" cy="2015640"/>
          </a:xfrm>
          <a:prstGeom prst="rect">
            <a:avLst/>
          </a:prstGeom>
          <a:ln w="9525">
            <a:noFill/>
          </a:ln>
        </p:spPr>
      </p:pic>
      <p:sp>
        <p:nvSpPr>
          <p:cNvPr id="190" name="TextBox 9"/>
          <p:cNvSpPr/>
          <p:nvPr/>
        </p:nvSpPr>
        <p:spPr>
          <a:xfrm>
            <a:off x="5508000" y="4509000"/>
            <a:ext cx="32032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Склеивание каждой из конъюнкций с после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0" y="5589360"/>
            <a:ext cx="91436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По полученным функциям можно построить схемы вычисления булевых функций в базисе И, ИЛИ, НЕ. Двухуровневый двоичный (дизъюнкция конъюнкций) одноразрядный комбинационный сумматор будет иметь цену 25 (входов логических элементов) и время задержки 2</a:t>
            </a:r>
            <a:r>
              <a:rPr b="1" i="1" lang="ru-RU" sz="1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 , где </a:t>
            </a:r>
            <a:r>
              <a:rPr b="1" i="1" lang="ru-RU" sz="1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 - задержка на логическом элемен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539640" y="2205000"/>
            <a:ext cx="2952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 таблицы состояний получены следующие функции для определения выходных сигналов ОК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2"/>
          <p:cNvSpPr/>
          <p:nvPr/>
        </p:nvSpPr>
        <p:spPr>
          <a:xfrm>
            <a:off x="323640" y="0"/>
            <a:ext cx="842472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ние 1. Собрать и наладить схему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дноразрядного комбинационного сумматор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ОКСм) на макете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Убедиться в ее работоспособности, подавая с кнопок на входные полюса все возможные комбинации и фиксируя значения сигналов суммы и перено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ля обеспечения возможности размещения схемы одноразрядного сумматора на макете Logic, рекомендуется преобразовать функции ОКСм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3" descr="ЛР8_1.jpg"/>
          <p:cNvPicPr/>
          <p:nvPr/>
        </p:nvPicPr>
        <p:blipFill>
          <a:blip r:embed="rId1"/>
          <a:stretch/>
        </p:blipFill>
        <p:spPr>
          <a:xfrm>
            <a:off x="539640" y="3213000"/>
            <a:ext cx="81385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827640" y="2709000"/>
            <a:ext cx="6935040" cy="3378600"/>
          </a:xfrm>
          <a:prstGeom prst="rect">
            <a:avLst/>
          </a:prstGeom>
          <a:ln w="9525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2483640" y="332640"/>
          <a:ext cx="3254040" cy="62496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3640" y="332640"/>
                    <a:ext cx="3254040" cy="62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0" name="Object 6"/>
          <p:cNvGraphicFramePr/>
          <p:nvPr/>
        </p:nvGraphicFramePr>
        <p:xfrm>
          <a:off x="2483640" y="1268640"/>
          <a:ext cx="3795840" cy="64188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20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3640" y="1268640"/>
                    <a:ext cx="3795840" cy="6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2"/>
          <p:cNvSpPr/>
          <p:nvPr/>
        </p:nvSpPr>
        <p:spPr>
          <a:xfrm>
            <a:off x="6588360" y="260640"/>
            <a:ext cx="2376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е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323640" y="0"/>
            <a:ext cx="585432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  <Words>1244</Words>
  <Paragraphs>122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5T17:03:26Z</dcterms:created>
  <dc:creator>VolTa</dc:creator>
  <dc:description/>
  <dc:language>en-US</dc:language>
  <cp:lastModifiedBy>VolTa</cp:lastModifiedBy>
  <dcterms:modified xsi:type="dcterms:W3CDTF">2019-12-06T20:17:58Z</dcterms:modified>
  <cp:revision>25</cp:revision>
  <dc:subject/>
  <dc:title>Лабораторная работа №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