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2.wmf" ContentType="image/x-wmf"/>
  <Override PartName="/ppt/media/image7.png" ContentType="image/png"/>
  <Override PartName="/ppt/media/image3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3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1990B-367D-46B5-91EE-B8629041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8B87A-69AF-40DF-99DF-27A7B64D213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924-DC18-4AF4-B232-B9B96E18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5AF-DDAB-4726-901D-75960DC0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83F-6C9B-41CB-80E9-DF9FEA66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921-02EA-4F05-BD14-B7E2C30C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6784-5AED-454F-9613-A2071C20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46E-8F35-4624-9AA0-A3EEBEE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C89-C6B3-4E0A-B23D-D73857B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0CC5-965B-45F7-B3EA-EB1DF9C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31D-BE5E-44C6-9D4D-2565018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0DB-F1D7-43A6-8882-014358D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C5D5-0FE9-4235-AF2D-BD72B43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EFC-A68F-4C9D-8A55-44A02249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D342-51C1-4330-8D33-72AB84C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3C57-8138-4B32-B2B8-34E0923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A680-98D0-4356-86D7-1BF380C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5123-3551-4517-888F-27B13638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734-523F-4A20-9D54-7B9F6ED8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5BFA-C0BA-45E1-80D9-186575EE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52B7-E31C-4C04-B21E-7DC2CD0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1996-64D9-41E5-A40D-8250C20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C160-1A2C-490D-BC13-9F40BAE5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53A4-D944-4015-9C6E-07F40F72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964-657C-4960-B773-4E799047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F4A5-1EDE-4016-825E-FD80142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8CF2-3F1F-40FF-A583-FB6E450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E7D8-EDBD-4419-90D0-3AB41F2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F11F-E552-4DF1-9ED6-C59DB46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39F2-2F20-402C-AC00-F4D0B2C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10E8-FB1D-4103-B6E5-DCFD344E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4C78-22A8-49A3-B933-D556EC67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E7AC-DB40-468B-A515-E45C8EFB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5547-8CED-4F08-9114-E33C2BFB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01F0-E68A-4131-A657-0CFC08A2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A20-28A8-4CC0-8879-7B5E4B2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6410-64FE-4DE3-987A-48622DF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9401-DB68-4873-9FE0-C8AE7165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540D-1A75-4A29-9B54-0CCA52C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0C38-BE75-4FD9-B7A6-14CE103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2D5E-39DC-4315-BC52-B253283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3F95-4C68-4A22-964C-63E7B9C4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5592-7280-432E-8A25-B6B3E25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D4F8-300B-4710-A96F-54F54A1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58DB-7C7F-404D-BA1C-4B4F488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5C2-5219-4909-8C2B-AD96A95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D2F-BB24-445E-901C-17C8875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449-00CB-4923-B18B-036D67A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CF7-A7DB-4D60-892C-A8B1B48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1CB-0F32-4335-A7E8-996CF4B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5D8313-AE0E-439D-89ED-CDBA140C7E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DDCA32-04F7-4E71-ACFD-F7D7AEB33F9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6F9370-2004-4695-9A43-562E0BFD2B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7D53AB-8E9A-4552-B986-1BF5281F5FD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абораторная работа № 8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91640" y="198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indent="0" algn="ctr">
              <a:lnSpc>
                <a:spcPct val="100000"/>
              </a:lnSpc>
              <a:spcBef>
                <a:spcPts val="2880"/>
              </a:spcBef>
              <a:buNone/>
              <a:tabLst>
                <a:tab algn="l" pos="0"/>
              </a:tabLst>
            </a:pPr>
            <a:r>
              <a:rPr b="1" lang="ru-RU" sz="14400" spc="-1" strike="noStrike">
                <a:solidFill>
                  <a:srgbClr val="000000"/>
                </a:solidFill>
                <a:latin typeface="Calibri"/>
              </a:rPr>
              <a:t>Двоичные сумматоры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микрооперации сложения основаны алгоритмы (микропрограммы) выполнения основных арифметических операций в арифметико-логическом устройстве (сложение, вычитание, умножение, деление).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763640" y="514440"/>
            <a:ext cx="5609880" cy="6343200"/>
          </a:xfrm>
          <a:prstGeom prst="rect">
            <a:avLst/>
          </a:prstGeom>
          <a:ln w="9525">
            <a:noFill/>
          </a:ln>
        </p:spPr>
      </p:pic>
      <p:sp>
        <p:nvSpPr>
          <p:cNvPr id="205" name="TextBox 4"/>
          <p:cNvSpPr/>
          <p:nvPr/>
        </p:nvSpPr>
        <p:spPr>
          <a:xfrm>
            <a:off x="826920" y="0"/>
            <a:ext cx="7129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следовательный накапливающий сумм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395640" y="-5400"/>
            <a:ext cx="8424360" cy="69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ое слагаемое загружается в регистр С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Второе слагаемое загружается в регистр В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ение осуществляется 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тов. В очередном такте на одноразрядном комбинационном сумматор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С) складываются очередные цифры слагаемых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 пере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полученный в предыдущем такте при сложении предыдущих младших цифр. Перено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олученный в текущем такте, запоминается на триггере для использования в следующем такте. По истечени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тактов сумма должна оказаться в регистр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ля записывания в регистр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чередного разряда суммы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одачи следующей цифры первого и второго слагаемых  на ОКС используется микрооперация сдвига (при сдвиге 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ном разряде регистра С оказывается следующая по старшинству цифра первого слагаемого, а освобождающийся старший разряд регистра С доопределяется значением очередной вычисленной цифры суммы). При сложении младших разрядов перенос должен быть равен нулю, поэтому необходимо предусмотреть микрооперацию сброса триггера Р. Если в триггере есть установочные входы, то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сб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ожно подавать на установочны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вход тригг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 сложения при помощи последовательного сумматора является не микрооперацией, а микропрограммой (почему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39640" y="188640"/>
            <a:ext cx="82087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Задание 2. На базе ОКСм собрать и наладит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хему последовательного  суммирования трехразрядных двоичных чисе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Предусмотреть ввод слагаемых в последовательном коде с кнопочного регистра  (по входам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фиксацию суммы на трехразрядном сдвиговом регистре (упрощенный вариант схемы, приведенной на предыдущем рисунке). Управляющий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дать с генератора одиночних импульсов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бедиться в работоспособности схемы на тестовых примерах, реализуя подготовительный так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ри такта суммирования (сдвига)                                                      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1"/>
          <p:cNvGraphicFramePr/>
          <p:nvPr/>
        </p:nvGraphicFramePr>
        <p:xfrm>
          <a:off x="3420000" y="2349000"/>
          <a:ext cx="1331640" cy="431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0000" y="234900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4716000" y="2709000"/>
          <a:ext cx="3633840" cy="35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0" y="2709000"/>
                    <a:ext cx="36338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3132000" y="1684080"/>
          <a:ext cx="503640" cy="393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1684080"/>
                    <a:ext cx="503640" cy="39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"/>
          <p:cNvPicPr/>
          <p:nvPr/>
        </p:nvPicPr>
        <p:blipFill>
          <a:blip r:embed="rId7"/>
          <a:stretch/>
        </p:blipFill>
        <p:spPr>
          <a:xfrm>
            <a:off x="2339640" y="3119400"/>
            <a:ext cx="4392000" cy="3645720"/>
          </a:xfrm>
          <a:prstGeom prst="rect">
            <a:avLst/>
          </a:prstGeom>
          <a:ln w="9525">
            <a:noFill/>
          </a:ln>
        </p:spPr>
      </p:pic>
      <p:sp>
        <p:nvSpPr>
          <p:cNvPr id="218" name="TextBox 11"/>
          <p:cNvSpPr/>
          <p:nvPr/>
        </p:nvSpPr>
        <p:spPr>
          <a:xfrm>
            <a:off x="7020360" y="3213000"/>
            <a:ext cx="172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разряд регистра -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588360" y="0"/>
            <a:ext cx="230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формируется в регистре А(1:3) за 3 т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859360" cy="6857640"/>
          </a:xfrm>
          <a:prstGeom prst="rect">
            <a:avLst/>
          </a:prstGeom>
          <a:ln w="9525">
            <a:noFill/>
          </a:ln>
        </p:spPr>
      </p:pic>
      <p:sp>
        <p:nvSpPr>
          <p:cNvPr id="221" name="TextBox 4"/>
          <p:cNvSpPr/>
          <p:nvPr/>
        </p:nvSpPr>
        <p:spPr>
          <a:xfrm>
            <a:off x="6732360" y="1556640"/>
            <a:ext cx="241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Сложение без пере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6732360" y="2565000"/>
            <a:ext cx="2199960" cy="4047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3640" y="332640"/>
            <a:ext cx="410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. Сложение с перено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060000" y="764640"/>
            <a:ext cx="2808000" cy="516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08000" cy="595764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5"/>
          <p:cNvSpPr/>
          <p:nvPr/>
        </p:nvSpPr>
        <p:spPr>
          <a:xfrm>
            <a:off x="250920" y="0"/>
            <a:ext cx="8892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азрядный параллельный комбинационный сумматор с последовательным перен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547880" cy="338436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4"/>
          <p:cNvSpPr/>
          <p:nvPr/>
        </p:nvSpPr>
        <p:spPr>
          <a:xfrm>
            <a:off x="3708360" y="4076640"/>
            <a:ext cx="543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вычисле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й су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5"/>
          <p:cNvGraphicFramePr/>
          <p:nvPr/>
        </p:nvGraphicFramePr>
        <p:xfrm>
          <a:off x="3635280" y="4365720"/>
          <a:ext cx="1512360" cy="5173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365720"/>
                    <a:ext cx="15123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Box 6"/>
          <p:cNvSpPr/>
          <p:nvPr/>
        </p:nvSpPr>
        <p:spPr>
          <a:xfrm>
            <a:off x="5076720" y="4365720"/>
            <a:ext cx="4066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</a:rPr>
              <a:t>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задержка сигнала в О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564000" y="4941720"/>
            <a:ext cx="5579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авнительно большая задержка вычисления суммы 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м сумматоре вызвана использованием последовательного перен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уменьшения этой задержки используют цепи группового перенос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971640" y="6488280"/>
            <a:ext cx="230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тарший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764640"/>
            <a:ext cx="9127800" cy="5047920"/>
          </a:xfrm>
          <a:prstGeom prst="rect">
            <a:avLst/>
          </a:prstGeom>
          <a:ln w="9525">
            <a:noFill/>
          </a:ln>
        </p:spPr>
      </p:pic>
      <p:sp>
        <p:nvSpPr>
          <p:cNvPr id="236" name="TextBox 4"/>
          <p:cNvSpPr/>
          <p:nvPr/>
        </p:nvSpPr>
        <p:spPr>
          <a:xfrm>
            <a:off x="2700360" y="0"/>
            <a:ext cx="619236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капливающего  сумма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яду с комбинационным сумматором входит регистр, который является источником одного из операндов. На этом же регистре запоминается су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39640" y="6021360"/>
            <a:ext cx="8136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макете можно разместить только двухразрядный сумматор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 = 2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323640" y="188640"/>
            <a:ext cx="86407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вухразрядный накапливающий сумматор, включающий два ОКСм не помещается на макете. Что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ладший разряд двухразрядного комбинационного сумматора реализуем как полусумма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395640" y="1989000"/>
            <a:ext cx="835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сумматор – это одноразрядный комбинационный сумматор без входа переноса . Используется в схемах параллельного суммирования для сложения младших разрядов двоичных чисел. Зависимость выходов от входов ПСм описывается таблицей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043640" y="3069000"/>
          <a:ext cx="3024000" cy="170388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3640" y="3069000"/>
                    <a:ext cx="3024000" cy="17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5004000" y="2925000"/>
            <a:ext cx="1944000" cy="1883880"/>
          </a:xfrm>
          <a:prstGeom prst="rect">
            <a:avLst/>
          </a:prstGeom>
          <a:ln w="9525">
            <a:noFill/>
          </a:ln>
        </p:spPr>
      </p:pic>
      <p:sp>
        <p:nvSpPr>
          <p:cNvPr id="243" name="TextBox 6"/>
          <p:cNvSpPr/>
          <p:nvPr/>
        </p:nvSpPr>
        <p:spPr>
          <a:xfrm>
            <a:off x="251640" y="486900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таблице состояний получены следующие функции для выходов полусумматора. Они преобразованы с целью обеспечения возможности размещения схемы на макете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907640" y="5661360"/>
          <a:ext cx="5778360" cy="9936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7640" y="5661360"/>
                    <a:ext cx="5778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1"/>
          <p:cNvGraphicFramePr/>
          <p:nvPr/>
        </p:nvGraphicFramePr>
        <p:xfrm>
          <a:off x="611640" y="476640"/>
          <a:ext cx="2295000" cy="1080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40" y="476640"/>
                    <a:ext cx="2295000" cy="10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3708000" y="1068480"/>
          <a:ext cx="4680000" cy="5291280"/>
        </p:xfrm>
        <a:graphic>
          <a:graphicData uri="http://schemas.openxmlformats.org/presentationml/2006/ole">
            <p:oleObj progId="Visio.Drawing.11" r:id="rId3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000" y="1068480"/>
                    <a:ext cx="46800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5"/>
          <p:cNvSpPr/>
          <p:nvPr/>
        </p:nvSpPr>
        <p:spPr>
          <a:xfrm>
            <a:off x="539640" y="1917000"/>
            <a:ext cx="2736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полученным функциям построена схема полусумм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23640" y="0"/>
            <a:ext cx="8496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Задание 3. На основе схем ОКСм и ПСм собрать и наладить схему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капливающего двухразрядного параллельного суммато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0" y="1700640"/>
            <a:ext cx="4139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параллельного двухразрядного накапливающего сумматора изображена на рисунке (нулевой разряд – младший – реализован с помощью полусумматора, первый разряд – старший – реализован с помощью ОКСм, который уже собран на макет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нный операционный элемент выполняет две микрооп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яющий сигнал        можно подать с кнопки, управляющий сигнал          целесообразно подать с генератора одиночных импуль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1"/>
          <p:cNvGraphicFramePr/>
          <p:nvPr/>
        </p:nvGraphicFramePr>
        <p:xfrm>
          <a:off x="323640" y="4653000"/>
          <a:ext cx="3057120" cy="717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40" y="4653000"/>
                    <a:ext cx="3057120" cy="71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2267640" y="5517360"/>
          <a:ext cx="283680" cy="347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7640" y="5517360"/>
                    <a:ext cx="2836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3924000" y="5805360"/>
          <a:ext cx="503640" cy="435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000" y="5805360"/>
                    <a:ext cx="503640" cy="4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Object 7"/>
          <p:cNvGraphicFramePr/>
          <p:nvPr/>
        </p:nvGraphicFramePr>
        <p:xfrm>
          <a:off x="3924000" y="1886400"/>
          <a:ext cx="5219640" cy="483660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000" y="1886400"/>
                    <a:ext cx="5219640" cy="48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899640" y="836640"/>
            <a:ext cx="7488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собирают одноразрядный комбинационный сумматор (описан в разделе 1, схема - **). Он затем используется как составная часть указанных ниже сх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четными номерами собирают на макете схему трехразрядного последовательного сумматора (описан в разделе 2,  окончательная схема  - ***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нечетными номерами собирают на макете схему параллельного двухразрядного накапливающего сумматора (описан в разделе 3, окончательная схема - *****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отчете по лабораторной работе приводятся обе вышеперечисленные сх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защите лабораторной работы проверяется понимание всего изложенного в данной презентации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627640" y="188640"/>
            <a:ext cx="374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анты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0" y="0"/>
            <a:ext cx="2880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.1.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начала на макете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ogic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берем и отладим схему двухразрядного параллельного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комбинационного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умматора с последовательным переносом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Первый разряд (старший) у нас уже собран (ОКСм). Добавляем нулевой (младший) разряд (ПСм). Замыкаем перенос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1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 младшего разряда на старший, меняя при этом глобальную линию 5 на локальную линию 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оверяем работу младшего разряда (проверяем 4 комбинации на кнопках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тем проверяем работу двухразрядного сумматора, подавая двухразрядные коды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b(1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: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060000" y="0"/>
            <a:ext cx="58626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95640" y="908640"/>
            <a:ext cx="2588760" cy="2613240"/>
          </a:xfrm>
          <a:prstGeom prst="rect">
            <a:avLst/>
          </a:prstGeom>
          <a:ln w="9525">
            <a:noFill/>
          </a:ln>
        </p:spPr>
      </p:pic>
      <p:sp>
        <p:nvSpPr>
          <p:cNvPr id="271" name="TextBox 4"/>
          <p:cNvSpPr/>
          <p:nvPr/>
        </p:nvSpPr>
        <p:spPr>
          <a:xfrm>
            <a:off x="0" y="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младшего разряда (полусумматор, входной перенос равен ну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5364000" y="476640"/>
            <a:ext cx="3314520" cy="6162480"/>
          </a:xfrm>
          <a:prstGeom prst="rect">
            <a:avLst/>
          </a:prstGeom>
          <a:ln w="9525">
            <a:noFill/>
          </a:ln>
        </p:spPr>
      </p:pic>
      <p:sp>
        <p:nvSpPr>
          <p:cNvPr id="273" name="TextBox 6"/>
          <p:cNvSpPr/>
          <p:nvPr/>
        </p:nvSpPr>
        <p:spPr>
          <a:xfrm>
            <a:off x="2051640" y="566136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двухразрядного комбинационного сумм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395640" y="620640"/>
            <a:ext cx="8748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2. После проверки двухразрядного комбинационного сумматора убираем сигнал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нопок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лизуем  двухразрядный регист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дву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ах на макет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gger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Трети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 используем для запоминания выходного переноса предыдущего такта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*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бы был виден весь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яя двухразрядный комбинационный сумматор с двухразрядным регистром, получаем двухразрядный параллельный накапливающий сумма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2"/>
          <p:cNvSpPr/>
          <p:nvPr/>
        </p:nvSpPr>
        <p:spPr>
          <a:xfrm>
            <a:off x="6228360" y="188640"/>
            <a:ext cx="266400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ходной перенос, запомненный на тригг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авли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яем сб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ылаем в схему одиночные импульсы и наблюдаем смену состояний в регистр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(1:0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- 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1, 2, 3, 0, 1, 2, 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1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лжен происходить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2, 0, 2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760360" cy="682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755640" y="476640"/>
            <a:ext cx="792036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Чем отличается комбинационный сумматор от накапливающего, последовательный от паралл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Какова минимальная задержка сигнала переноса в одноразрядном двоичном суммат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Что такое полусумматор? Как построить полный  одноразрядный сумматор из полусуммат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Чему равно время суммирования в параллельном двухразрядном комбинационном сумматоре с последовательным перенос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)Как с помощью сумматора выполнить операцию вычи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899640" y="188640"/>
            <a:ext cx="777636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 – это операционный элемент, предназначенный для выполнения микрооперации сложения чисел. Если операнды и результат сложения представляются в двоичной системе счисления, то сумматор называется двои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ы подразделяются на два типа: комбинационные  и накапливающие. Комбинационные сумматоры не содержат запоминающих элементов и реализует микрооперацию сложения в вид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пливающие сумматоры содержат регистр, на котором перед началом микрооперации хранится слагаемое и на момент окончания сложения – сумма. Накапливающие сумматоры реализуют микрооперацию сложения в виде С:=С+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0"/>
          <p:cNvSpPr/>
          <p:nvPr/>
        </p:nvSpPr>
        <p:spPr>
          <a:xfrm>
            <a:off x="323640" y="0"/>
            <a:ext cx="842472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Операционное устройство  может производить арифметические и логические операции в соответствии с заложенной в его основу микропрограммой параллельно, последовательно и параллельно-последовательно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араллельный способ выполнения операции суммирования двух чисел с фиксированной точкой предполагает, что микрооперация сложения, используемая в микропрограмме суммирования, выполняется над всеми разрядами операндов одновременно (параллельно)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оследовательный способ выполнения операции суммирования означает, что соответствующая микрооперация сложения выполняется последовательно над каждым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ым разрядом суммируемых чисел, начиная с младшего. Поэтому для осуществления сложения двух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разрядных чисел на последовательном двоичном сумматоре потребуется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тактов суммирования (потери времени при этом компенсируются существенной экономией аппаратуры).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Для запоминания переноса в следующий разряд нужен триггер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Компромиссным способом является параллельно-последовательный способ выполнения сложения на двоичном сумматоре. Он предполагает, что микрооперация сложения выполняется над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ами суммируемых чисел (т.е.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ов суммируются параллельно) ,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m&lt;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кратно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. При этом в микропрограмме сложения должна быть предусмотрена микрооперация сдвига регистра, на который записывается сумма, на  разрядов вправо для того, чтобы освободить место для записи суммы следующих по старшинству  разрядов суммируемых слов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467640" y="206100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2"/>
          <p:cNvSpPr/>
          <p:nvPr/>
        </p:nvSpPr>
        <p:spPr>
          <a:xfrm>
            <a:off x="467640" y="0"/>
            <a:ext cx="86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  Одноразрядный комбинационный сумматор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типово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ый разряд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ядного комбинационного сумма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187640" y="90864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од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996000" y="908640"/>
            <a:ext cx="4968360" cy="70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, изображенная на рисунке, суммируе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значени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х разрядов слов А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– а так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перенос 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й разряд суммы из младшего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1)-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о разряда 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-1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переноса в старший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)-ый разря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0"/>
          <p:cNvGraphicFramePr/>
          <p:nvPr/>
        </p:nvGraphicFramePr>
        <p:xfrm>
          <a:off x="827640" y="5085360"/>
          <a:ext cx="6552720" cy="680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7640" y="5085360"/>
                    <a:ext cx="65527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9"/>
          <p:cNvGraphicFramePr/>
          <p:nvPr/>
        </p:nvGraphicFramePr>
        <p:xfrm>
          <a:off x="755640" y="3789000"/>
          <a:ext cx="7488000" cy="688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000"/>
                    <a:ext cx="74880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539640" y="43257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755640" y="4509000"/>
          <a:ext cx="4608000" cy="6012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509000"/>
                    <a:ext cx="460800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7"/>
          <p:cNvSpPr/>
          <p:nvPr/>
        </p:nvSpPr>
        <p:spPr>
          <a:xfrm>
            <a:off x="5508000" y="0"/>
            <a:ext cx="223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7"/>
          <a:stretch/>
        </p:blipFill>
        <p:spPr>
          <a:xfrm>
            <a:off x="3924000" y="476640"/>
            <a:ext cx="4743360" cy="331200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8"/>
          <a:stretch/>
        </p:blipFill>
        <p:spPr>
          <a:xfrm>
            <a:off x="395640" y="18864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90" name="TextBox 9"/>
          <p:cNvSpPr/>
          <p:nvPr/>
        </p:nvSpPr>
        <p:spPr>
          <a:xfrm>
            <a:off x="5508000" y="4509000"/>
            <a:ext cx="3203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клеивание каждой из конъюнкций с посл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0" y="5589360"/>
            <a:ext cx="914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о полученным функциям можно построить схемы вычисления булевых функций в базисе И, ИЛИ, НЕ. Двухуровневый двоичный (дизъюнкция конъюнкций) одноразрядный комбинационный сумматор будет иметь цену 25 (входов логических элементов) и время задержки 2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, где 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- задержка на логическом эле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39640" y="2205000"/>
            <a:ext cx="295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таблицы состояний получены следующие функции для определения выходных сигналов О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3640" y="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 1. Собрать и наладить схем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оразрядного комбинационного суммато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ОКСм) на макет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Убедиться в ее работоспособности, подавая с кнопок на входные полюса все возможные комбинации и фиксируя значения сигналов суммы и перен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обеспечения возможности размещения схемы одноразрядного сумматора на макете Logic, рекомендуется преобразовать функции ОКСм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ЛР8_1.jpg"/>
          <p:cNvPicPr/>
          <p:nvPr/>
        </p:nvPicPr>
        <p:blipFill>
          <a:blip r:embed="rId1"/>
          <a:stretch/>
        </p:blipFill>
        <p:spPr>
          <a:xfrm>
            <a:off x="539640" y="3213000"/>
            <a:ext cx="8138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827640" y="2709000"/>
            <a:ext cx="6935040" cy="3378600"/>
          </a:xfrm>
          <a:prstGeom prst="rect">
            <a:avLst/>
          </a:prstGeom>
          <a:ln w="9525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483640" y="332640"/>
          <a:ext cx="3254040" cy="6249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3640" y="332640"/>
                    <a:ext cx="3254040" cy="62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2483640" y="1268640"/>
          <a:ext cx="3795840" cy="64188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3640" y="1268640"/>
                    <a:ext cx="3795840" cy="6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6588360" y="26064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323640" y="0"/>
            <a:ext cx="58543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  <Words>1244</Words>
  <Paragraphs>1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5T17:03:26Z</dcterms:created>
  <dc:creator>VolTa</dc:creator>
  <dc:description/>
  <dc:language>en-US</dc:language>
  <cp:lastModifiedBy>VolTa</cp:lastModifiedBy>
  <dcterms:modified xsi:type="dcterms:W3CDTF">2019-12-06T20:17:58Z</dcterms:modified>
  <cp:revision>25</cp:revision>
  <dc:subject/>
  <dc:title>Лабораторная работа №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