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9B9-E66D-473A-BB23-0C39EE0B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869-F9D3-436E-B025-BFBAE39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A40-972A-40E3-BD43-1A156217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33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33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D72-C55A-43F9-B0BE-ED8E5B60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832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1B6-5D47-4399-9A6C-E1C0623D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33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33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CEA-DAD0-4A62-AD3E-6243B2FC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759-8BB1-4E3F-93E7-C129B6D7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742-37D7-4285-B27B-8F43CC29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832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81B-02A9-441D-B9E4-18FC447A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C8A-BD0F-4C95-9A9C-9C47DE6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C9B-66D5-4A9F-8606-DBF745A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C6B-A3E4-4F7F-98A0-81B96555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47B4B6-FA42-4CB6-83D2-87A7F3172D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4000" indent="-288000">
              <a:buClr>
                <a:srgbClr val="e6e6e6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6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8000" indent="-216000">
              <a:buClr>
                <a:srgbClr val="e6e6e6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60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5" marL="2592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6" marL="3024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040" y="7076880"/>
            <a:ext cx="935532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920" y="7289280"/>
            <a:ext cx="809244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5680" y="662760"/>
            <a:ext cx="8608320" cy="54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eb613d"/>
                </a:solidFill>
                <a:latin typeface="Arial"/>
              </a:rPr>
              <a:t>Циклический алгоритм</a:t>
            </a:r>
            <a:br>
              <a:rPr sz="5400"/>
            </a:b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изация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1" i="1" lang="ru-RU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0880" y="2008080"/>
            <a:ext cx="8772840" cy="48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80000" y="288000"/>
            <a:ext cx="3024000" cy="4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тика и ИКТ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680" y="0"/>
            <a:ext cx="8608320" cy="9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ПРОВЕРКА ДОМАШНЕГО ЗАДАНИЯ 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504000"/>
            <a:ext cx="8772840" cy="64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Записать алгоритм решения домашней задачи</a:t>
            </a:r>
            <a:endParaRPr b="0" lang="ru-RU" sz="28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Карточки с заданием (прочитать блок-схему)</a:t>
            </a:r>
            <a:endParaRPr b="0" lang="ru-RU" sz="28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endParaRPr b="0" lang="ru-RU" sz="28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r>
              <a:rPr b="0" lang="ru-RU" sz="2400" spc="-1" strike="noStrike">
                <a:solidFill>
                  <a:srgbClr val="eb613d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8480" y="1944000"/>
            <a:ext cx="1573200" cy="50652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2880" y="246420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92240" y="2804040"/>
            <a:ext cx="2851200" cy="47268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йти в столовую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08080" y="6002640"/>
            <a:ext cx="2753640" cy="0"/>
          </a:xfrm>
          <a:prstGeom prst="line">
            <a:avLst/>
          </a:prstGeom>
          <a:ln w="36000">
            <a:solidFill>
              <a:srgbClr val="000000"/>
            </a:solidFill>
            <a:custDash>
              <a:ds d="100000" sp="457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4720" y="415836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720" y="329040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08080" y="3689280"/>
            <a:ext cx="2851920" cy="47268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08080" y="4515480"/>
            <a:ext cx="2851920" cy="47268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5680" y="5368680"/>
            <a:ext cx="2851920" cy="46332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08080" y="6192000"/>
            <a:ext cx="2851920" cy="36576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йти из столово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1200" y="6957000"/>
            <a:ext cx="1572480" cy="459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84720" y="498816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4720" y="655776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2000" y="2808000"/>
            <a:ext cx="446400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имер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олодавшийся ученик пришел в столовую, где продаются пирожки. Составим алгоритм, выполняя который ученик сможет уйти сыты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0" y="2016000"/>
            <a:ext cx="18720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40880" y="72000"/>
            <a:ext cx="9051120" cy="6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3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3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4000" y="72000"/>
            <a:ext cx="9288000" cy="70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91400" y="432000"/>
            <a:ext cx="1584000" cy="576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43880" y="138024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йти в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овую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2000" y="237600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2000" y="338400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0000" y="4320000"/>
            <a:ext cx="1851120" cy="720000"/>
          </a:xfrm>
          <a:prstGeom prst="diamond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ден?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0" y="554400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йти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04000" y="6480000"/>
            <a:ext cx="1584000" cy="576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000" y="4680000"/>
            <a:ext cx="0" cy="504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11120" y="4680000"/>
            <a:ext cx="59688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6000" y="5184000"/>
            <a:ext cx="151200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96000" y="518400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6000" y="396000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952000"/>
            <a:ext cx="0" cy="432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96000" y="1956240"/>
            <a:ext cx="0" cy="4197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96000" y="102024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96000" y="612000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96000" y="4680000"/>
            <a:ext cx="86400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96000" y="2160000"/>
            <a:ext cx="20880" cy="252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6000" y="2160000"/>
            <a:ext cx="177912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91120" y="4320000"/>
            <a:ext cx="740880" cy="3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04000" y="4320000"/>
            <a:ext cx="740880" cy="3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88840" y="648000"/>
            <a:ext cx="2808000" cy="1800000"/>
          </a:xfrm>
          <a:prstGeom prst="wedgeRectCallout">
            <a:avLst>
              <a:gd name="adj1" fmla="val -60689"/>
              <a:gd name="adj2" fmla="val 115703"/>
            </a:avLst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цикл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чувство голода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чезло, повторить: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цикл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йти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40880" y="144000"/>
            <a:ext cx="87728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1" lang="ru-RU" sz="2600" spc="-1" strike="noStrike">
                <a:solidFill>
                  <a:srgbClr val="eb613d"/>
                </a:solidFill>
                <a:latin typeface="Vani"/>
              </a:rPr>
              <a:t>Циклическим алгоритмом</a:t>
            </a:r>
            <a:r>
              <a:rPr b="0" lang="ru-RU" sz="2600" spc="-1" strike="noStrike">
                <a:solidFill>
                  <a:srgbClr val="e6e6e6"/>
                </a:solidFill>
                <a:latin typeface="Van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ani"/>
              </a:rPr>
              <a:t>называют такую форму организации действий, при которой одна и та же последовательность действий (тело цикла) совершается несколько раз (или ни разу) до тех пор, пока выполняется некоторое условие.</a:t>
            </a:r>
            <a:endParaRPr b="0" lang="ru-RU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Vani"/>
              </a:rPr>
              <a:t>Существуют три вида циклов: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6000" y="6048000"/>
            <a:ext cx="302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Цикл с предусловием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44000" y="6120000"/>
            <a:ext cx="302400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Цикл с постусловием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984000" y="6078600"/>
            <a:ext cx="302400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Цикл с 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параметром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56000" y="2736000"/>
            <a:ext cx="2562120" cy="3238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04000" y="280800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16000" y="3168000"/>
            <a:ext cx="3666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6880" y="772200"/>
            <a:ext cx="9195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1" lang="ru-RU" sz="2800" spc="-1" strike="noStrike">
                <a:solidFill>
                  <a:srgbClr val="eb613d"/>
                </a:solidFill>
                <a:latin typeface="Vani"/>
              </a:rPr>
              <a:t>Запомнить! </a:t>
            </a:r>
            <a:r>
              <a:rPr b="0" lang="ru-RU" sz="2800" spc="-1" strike="noStrike">
                <a:solidFill>
                  <a:srgbClr val="000000"/>
                </a:solidFill>
                <a:latin typeface="Vani"/>
              </a:rPr>
              <a:t>Если неизвестно количество повторений тела цикла используют циклы с пред- (или пост)- условием. В цикле с постусловием тело цикла выполняется хотябы один раз. В цикле с предусловием тело цикла может и не выполниться ни разу. Если количество повторений известно, используют цикл с параметром.</a:t>
            </a:r>
            <a:endParaRPr b="1" i="1" lang="ru-RU" sz="2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7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РЕАЛИЗАЦИЯ ЦИКЛИЧЕСКОГО АЛГОРИТМА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4000" y="1152000"/>
            <a:ext cx="877284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оста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горитм наполнения ведра водой, пользуясь литровой  кружкой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5080" y="2088000"/>
            <a:ext cx="6802920" cy="49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2000" y="210240"/>
            <a:ext cx="8608320" cy="7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РЕАЛИЗАЦИЯ ЦИКЛИЧЕСКОГО АЛГОРИТМА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576000"/>
            <a:ext cx="877284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грузовике привезли стулья для актового зала. Стулья можно носить по одному или по два сразу. Требуется составить алгоритм переноса стульев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86000" y="3162240"/>
                <a:ext cx="719640" cy="35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00000" y="2016000"/>
            <a:ext cx="65520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ДОМАШНЕЕ ЗАДАНИЕ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1416600"/>
            <a:ext cx="8772840" cy="48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ыучить конспект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еред вами ведро картошки. Вам необходимо ее помыть,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истить, сварить. Составьте на языке блок-схем алгоритм,      по  которому вы будете работать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 корзине имеется некоторое число кубиков. За один раз         можно вынуть два кубика. Составить блок-схему алгоритма       для перебора всех кубиков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0:52:27Z</dcterms:created>
  <dc:creator/>
  <dc:description/>
  <dc:language>en-US</dc:language>
  <cp:lastModifiedBy/>
  <dcterms:modified xsi:type="dcterms:W3CDTF">2017-02-28T19:35:01Z</dcterms:modified>
  <cp:revision>24</cp:revision>
  <dc:subject/>
  <dc:title/>
</cp:coreProperties>
</file>