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405-15F0-4CBA-9C86-D6DB86E4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8772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253400"/>
            <a:ext cx="8772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EFC-5C4A-4DFE-A0F0-BF004EF0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656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25340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6560" y="425340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877-86B0-445D-844E-1DB99B0D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6920" y="196308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3320" y="196308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25340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6920" y="425340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3320" y="425340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9E00-8FAA-4686-9E78-E4CB47D6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1963080"/>
            <a:ext cx="8772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ru-RU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8772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42811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36560" y="1963080"/>
            <a:ext cx="42811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608320" cy="58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ru-RU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36560" y="1963080"/>
            <a:ext cx="42811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25340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1963080"/>
            <a:ext cx="8772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ru-RU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0A74-AC0D-4B5C-9F0A-2CBDA229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42811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656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6560" y="425340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656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253400"/>
            <a:ext cx="8772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8772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253400"/>
            <a:ext cx="8772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656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25340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36560" y="425340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06920" y="196308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73320" y="196308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25340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06920" y="425340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73320" y="4253400"/>
            <a:ext cx="28245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8772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3B1-9FE0-47E1-A185-3681029A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42811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6560" y="1963080"/>
            <a:ext cx="42811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95D-8820-45E0-940A-353F2897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3F40-927F-44C0-AEF3-A5C87054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282240"/>
            <a:ext cx="8608320" cy="585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ru-RU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27C4-373A-4C94-BDCF-0E4C4EC6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560" y="1963080"/>
            <a:ext cx="42811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25340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EDE-8BA5-4138-B092-7A444648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42811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656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6560" y="425340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D379-08F0-4407-A083-E1991449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560" y="1963080"/>
            <a:ext cx="42811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253400"/>
            <a:ext cx="87728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3F20-D0CC-4D32-8128-CF3074AC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000" y="1769040"/>
            <a:ext cx="90716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spcAft>
                <a:spcPts val="1414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Aft>
                <a:spcPts val="1134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Aft>
                <a:spcPts val="567"/>
              </a:spcAft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Aft>
                <a:spcPts val="283"/>
              </a:spcAft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000" y="6887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360" y="6887160"/>
            <a:ext cx="319500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7160"/>
            <a:ext cx="2348280" cy="5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AC2D64-8CF4-473E-A5E7-20764DADDD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fld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0880" y="1963080"/>
            <a:ext cx="877284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-324000">
              <a:buClr>
                <a:srgbClr val="e6e6e6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864000" indent="-288000">
              <a:buClr>
                <a:srgbClr val="e6e6e6"/>
              </a:buClr>
              <a:buSzPct val="75000"/>
              <a:buFont typeface="Symbol" charset="2"/>
              <a:buChar char=""/>
            </a:pPr>
            <a:r>
              <a:rPr b="0" lang="ru-RU" sz="28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ru-RU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6000" indent="-216000">
              <a:buClr>
                <a:srgbClr val="e6e6e6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8000" indent="-216000">
              <a:buClr>
                <a:srgbClr val="e6e6e6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e6e6e6"/>
              </a:solidFill>
              <a:latin typeface="Times New Roman"/>
            </a:endParaRPr>
          </a:p>
          <a:p>
            <a:pPr lvl="4" marL="2160000" indent="-216000">
              <a:buClr>
                <a:srgbClr val="e6e6e6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e6e6e6"/>
              </a:solidFill>
              <a:latin typeface="Times New Roman"/>
            </a:endParaRPr>
          </a:p>
          <a:p>
            <a:pPr lvl="5" marL="2592000" indent="-216000">
              <a:buClr>
                <a:srgbClr val="e6e6e6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e6e6e6"/>
              </a:solidFill>
              <a:latin typeface="Times New Roman"/>
            </a:endParaRPr>
          </a:p>
          <a:p>
            <a:pPr lvl="6" marL="3024000" indent="-216000">
              <a:buClr>
                <a:srgbClr val="e6e6e6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25040" y="7076880"/>
            <a:ext cx="9355320" cy="968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7920" y="7289280"/>
            <a:ext cx="8092440" cy="968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95680" y="662760"/>
            <a:ext cx="8608320" cy="541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eb613d"/>
                </a:solidFill>
                <a:latin typeface="Arial"/>
              </a:rPr>
              <a:t>Циклический алгоритм</a:t>
            </a:r>
            <a:br>
              <a:rPr sz="5400"/>
            </a:br>
            <a:br>
              <a:rPr sz="54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горитмизация</a:t>
            </a: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1" i="1" lang="ru-RU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40880" y="2008080"/>
            <a:ext cx="8772840" cy="48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ru-RU" sz="24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480000" y="288000"/>
            <a:ext cx="3024000" cy="40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нформатика и ИКТ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9680" y="0"/>
            <a:ext cx="8608320" cy="93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i="1" lang="ru-RU" sz="2400" spc="-1" strike="noStrike">
                <a:solidFill>
                  <a:srgbClr val="eb613d"/>
                </a:solidFill>
                <a:latin typeface="Arial"/>
              </a:rPr>
              <a:t>ПРОВЕРКА ДОМАШНЕГО ЗАДАНИЯ </a:t>
            </a: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40880" y="504000"/>
            <a:ext cx="8772840" cy="64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Записать алгоритм решения домашней задачи</a:t>
            </a:r>
            <a:endParaRPr b="0" lang="ru-RU" sz="28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Карточки с заданием (прочитать блок-схему)</a:t>
            </a:r>
            <a:endParaRPr b="0" lang="ru-RU" sz="28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buNone/>
            </a:pPr>
            <a:endParaRPr b="0" lang="ru-RU" sz="28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buNone/>
            </a:pPr>
            <a:endParaRPr b="0" lang="ru-RU" sz="24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ru-RU" sz="24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ru-RU" sz="2400" spc="-1" strike="noStrike">
              <a:solidFill>
                <a:srgbClr val="cccccc"/>
              </a:solidFill>
              <a:latin typeface="Times New Roman"/>
            </a:endParaRPr>
          </a:p>
          <a:p>
            <a:pPr indent="0">
              <a:buNone/>
            </a:pPr>
            <a:endParaRPr b="0" lang="ru-RU" sz="2400" spc="-1" strike="noStrike">
              <a:solidFill>
                <a:srgbClr val="cccccc"/>
              </a:solidFill>
              <a:latin typeface="Times New Roman"/>
            </a:endParaRPr>
          </a:p>
          <a:p>
            <a:pPr indent="0" algn="ctr">
              <a:buNone/>
            </a:pPr>
            <a:r>
              <a:rPr b="0" lang="ru-RU" sz="2400" spc="-1" strike="noStrike">
                <a:solidFill>
                  <a:srgbClr val="eb613d"/>
                </a:solidFill>
                <a:latin typeface="Times New Roman"/>
              </a:rPr>
              <a:t> </a:t>
            </a:r>
            <a:endParaRPr b="0" lang="ru-RU" sz="2400" spc="-1" strike="noStrike">
              <a:solidFill>
                <a:srgbClr val="cccccc"/>
              </a:solidFill>
              <a:latin typeface="Times New Roman"/>
            </a:endParaRPr>
          </a:p>
          <a:p>
            <a:pPr indent="0" algn="ctr">
              <a:buNone/>
            </a:pPr>
            <a:endParaRPr b="0" lang="ru-RU" sz="4000" spc="-1" strike="noStrike">
              <a:solidFill>
                <a:srgbClr val="cccccc"/>
              </a:solidFill>
              <a:latin typeface="Times New Roman"/>
            </a:endParaRPr>
          </a:p>
          <a:p>
            <a:pPr indent="0" algn="ctr">
              <a:buNone/>
            </a:pPr>
            <a:endParaRPr b="0" lang="ru-RU" sz="4000" spc="-1" strike="noStrike">
              <a:solidFill>
                <a:srgbClr val="cccccc"/>
              </a:solidFill>
              <a:latin typeface="Times New Roman"/>
            </a:endParaRPr>
          </a:p>
          <a:p>
            <a:pPr indent="0" algn="ctr">
              <a:buNone/>
            </a:pPr>
            <a:endParaRPr b="0" lang="ru-RU" sz="4000" spc="-1" strike="noStrike">
              <a:solidFill>
                <a:srgbClr val="cccccc"/>
              </a:solidFill>
              <a:latin typeface="Times New Roman"/>
            </a:endParaRPr>
          </a:p>
          <a:p>
            <a:pPr indent="0" algn="ctr">
              <a:buNone/>
            </a:pPr>
            <a:endParaRPr b="0" lang="ru-RU" sz="4000" spc="-1" strike="noStrike">
              <a:solidFill>
                <a:srgbClr val="cccccc"/>
              </a:solidFill>
              <a:latin typeface="Times New Roman"/>
            </a:endParaRPr>
          </a:p>
          <a:p>
            <a:pPr indent="0" algn="ctr">
              <a:buNone/>
            </a:pPr>
            <a:endParaRPr b="0" lang="ru-RU" sz="40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98480" y="1944000"/>
            <a:ext cx="1573200" cy="506520"/>
          </a:xfrm>
          <a:prstGeom prst="roundRect">
            <a:avLst>
              <a:gd name="adj" fmla="val 16667"/>
            </a:avLst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22880" y="2464200"/>
            <a:ext cx="0" cy="398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92240" y="2804040"/>
            <a:ext cx="2851200" cy="47268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txBody>
          <a:bodyPr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йти в столовую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08080" y="6002640"/>
            <a:ext cx="2753640" cy="0"/>
          </a:xfrm>
          <a:prstGeom prst="line">
            <a:avLst/>
          </a:prstGeom>
          <a:ln w="36000">
            <a:solidFill>
              <a:srgbClr val="000000"/>
            </a:solidFill>
            <a:custDash>
              <a:ds d="100000" sp="457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-63000" bIns="-63000" anchor="ctr">
            <a:noAutofit/>
          </a:bodyPr>
          <a:p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84720" y="4158360"/>
            <a:ext cx="0" cy="398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4720" y="3290400"/>
            <a:ext cx="0" cy="398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08080" y="3689280"/>
            <a:ext cx="2851920" cy="47268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txBody>
          <a:bodyPr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ить пирог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08080" y="4515480"/>
            <a:ext cx="2851920" cy="47268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txBody>
          <a:bodyPr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ъесть пирог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5680" y="5368680"/>
            <a:ext cx="2851920" cy="46332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txBody>
          <a:bodyPr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ить пирог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08080" y="6192000"/>
            <a:ext cx="2851920" cy="36576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txBody>
          <a:bodyPr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йти из столовой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81200" y="6957000"/>
            <a:ext cx="1572480" cy="459000"/>
          </a:xfrm>
          <a:prstGeom prst="roundRect">
            <a:avLst>
              <a:gd name="adj" fmla="val 16667"/>
            </a:avLst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884720" y="4988160"/>
            <a:ext cx="0" cy="398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884720" y="6557760"/>
            <a:ext cx="0" cy="39888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32000" y="2808000"/>
            <a:ext cx="4464000" cy="48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им пример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олодавшийся ученик пришел в столовую, где продаются пирожки. Составим алгоритм, выполняя который ученик сможет уйти сытым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0000" y="2016000"/>
            <a:ext cx="187200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1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40880" y="72000"/>
            <a:ext cx="9051120" cy="68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endParaRPr b="0" lang="ru-RU" sz="3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endParaRPr b="0" lang="ru-RU" sz="3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04000" y="72000"/>
            <a:ext cx="9288000" cy="70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иант 2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91400" y="432000"/>
            <a:ext cx="1584000" cy="576000"/>
          </a:xfrm>
          <a:prstGeom prst="roundRect">
            <a:avLst>
              <a:gd name="adj" fmla="val 16667"/>
            </a:avLst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43880" y="1380240"/>
            <a:ext cx="1656000" cy="576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txBody>
          <a:bodyPr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йти в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оловую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32000" y="2376000"/>
            <a:ext cx="1656000" cy="576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txBody>
          <a:bodyPr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ит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ог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32000" y="3384000"/>
            <a:ext cx="1656000" cy="576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txBody>
          <a:bodyPr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ъест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рог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0000" y="4320000"/>
            <a:ext cx="1851120" cy="720000"/>
          </a:xfrm>
          <a:prstGeom prst="diamond">
            <a:avLst/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ден?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2000" y="5544000"/>
            <a:ext cx="1656000" cy="576000"/>
          </a:xfrm>
          <a:prstGeom prst="rect">
            <a:avLst/>
          </a:prstGeom>
          <a:noFill/>
          <a:ln w="36000">
            <a:solidFill>
              <a:srgbClr val="000000"/>
            </a:solidFill>
            <a:round/>
          </a:ln>
        </p:spPr>
        <p:txBody>
          <a:bodyPr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йти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04000" y="6480000"/>
            <a:ext cx="1584000" cy="576000"/>
          </a:xfrm>
          <a:prstGeom prst="roundRect">
            <a:avLst>
              <a:gd name="adj" fmla="val 16667"/>
            </a:avLst>
          </a:pr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pPr algn="ctr"/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8000" y="4680000"/>
            <a:ext cx="0" cy="5040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11120" y="4680000"/>
            <a:ext cx="596880" cy="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-63000" bIns="-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96000" y="5184000"/>
            <a:ext cx="1512000" cy="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-63000" bIns="-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96000" y="5184000"/>
            <a:ext cx="0" cy="3600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96000" y="3960000"/>
            <a:ext cx="0" cy="3600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96000" y="2952000"/>
            <a:ext cx="0" cy="4320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96000" y="1956240"/>
            <a:ext cx="0" cy="41976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96000" y="1020240"/>
            <a:ext cx="0" cy="3600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96000" y="6120000"/>
            <a:ext cx="0" cy="3600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96000" y="4680000"/>
            <a:ext cx="864000" cy="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-63000" bIns="-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096000" y="2160000"/>
            <a:ext cx="20880" cy="252000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63000" bIns="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96000" y="2160000"/>
            <a:ext cx="1779120" cy="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108000" tIns="-63000" bIns="-63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91120" y="4320000"/>
            <a:ext cx="740880" cy="3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904000" y="4320000"/>
            <a:ext cx="740880" cy="3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88840" y="648000"/>
            <a:ext cx="2808000" cy="1800000"/>
          </a:xfrm>
          <a:prstGeom prst="wedgeRectCallout">
            <a:avLst>
              <a:gd name="adj1" fmla="val -60689"/>
              <a:gd name="adj2" fmla="val 115703"/>
            </a:avLst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цикла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 чувство голода 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счезло, повторить: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ить пирог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ъесть пирог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ец цикла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йти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40880" y="144000"/>
            <a:ext cx="877284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1" lang="ru-RU" sz="2600" spc="-1" strike="noStrike">
                <a:solidFill>
                  <a:srgbClr val="eb613d"/>
                </a:solidFill>
                <a:latin typeface="Vani"/>
              </a:rPr>
              <a:t>Циклическим алгоритмом</a:t>
            </a:r>
            <a:r>
              <a:rPr b="0" lang="ru-RU" sz="2600" spc="-1" strike="noStrike">
                <a:solidFill>
                  <a:srgbClr val="e6e6e6"/>
                </a:solidFill>
                <a:latin typeface="Van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Vani"/>
              </a:rPr>
              <a:t>называют такую форму организации действий, при которой одна и та же последовательность действий (тело цикла) совершается несколько раз (или ни разу) до тех пор, пока выполняется некоторое условие.</a:t>
            </a:r>
            <a:endParaRPr b="0" lang="ru-RU" sz="26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Vani"/>
              </a:rPr>
              <a:t>Существуют три вида циклов: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76000" y="6048000"/>
            <a:ext cx="30240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/>
            <a:r>
              <a:rPr b="1" lang="ru-RU" sz="2200" spc="-1" strike="noStrike">
                <a:solidFill>
                  <a:srgbClr val="eb613d"/>
                </a:solidFill>
                <a:latin typeface="Arial"/>
              </a:rPr>
              <a:t>Цикл с предусловием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44000" y="6120000"/>
            <a:ext cx="3024000" cy="7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/>
            <a:r>
              <a:rPr b="1" lang="ru-RU" sz="2200" spc="-1" strike="noStrike">
                <a:solidFill>
                  <a:srgbClr val="eb613d"/>
                </a:solidFill>
                <a:latin typeface="Arial"/>
              </a:rPr>
              <a:t>Цикл с постусловием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984000" y="6078600"/>
            <a:ext cx="3024000" cy="7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algn="ctr"/>
            <a:r>
              <a:rPr b="1" lang="ru-RU" sz="2200" spc="-1" strike="noStrike">
                <a:solidFill>
                  <a:srgbClr val="eb613d"/>
                </a:solidFill>
                <a:latin typeface="Arial"/>
              </a:rPr>
              <a:t>Цикл с 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  <a:p>
            <a:pPr algn="ctr"/>
            <a:r>
              <a:rPr b="1" lang="ru-RU" sz="2200" spc="-1" strike="noStrike">
                <a:solidFill>
                  <a:srgbClr val="eb613d"/>
                </a:solidFill>
                <a:latin typeface="Arial"/>
              </a:rPr>
              <a:t>параметром</a:t>
            </a: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056000" y="2736000"/>
            <a:ext cx="2562120" cy="32385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104000" y="2808000"/>
            <a:ext cx="2305080" cy="3390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16000" y="3168000"/>
            <a:ext cx="36669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6880" y="772200"/>
            <a:ext cx="9195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1" lang="ru-RU" sz="2800" spc="-1" strike="noStrike">
                <a:solidFill>
                  <a:srgbClr val="eb613d"/>
                </a:solidFill>
                <a:latin typeface="Vani"/>
              </a:rPr>
              <a:t>Запомнить! </a:t>
            </a:r>
            <a:r>
              <a:rPr b="0" lang="ru-RU" sz="2800" spc="-1" strike="noStrike">
                <a:solidFill>
                  <a:srgbClr val="000000"/>
                </a:solidFill>
                <a:latin typeface="Vani"/>
              </a:rPr>
              <a:t>Если неизвестно количество повторений тела цикла используют циклы с пред- (или пост)- условием. В цикле с постусловием тело цикла выполняется хотябы один раз. В цикле с предусловием тело цикла может и не выполниться ни разу. Если количество повторений известно, используют цикл с параметром.</a:t>
            </a:r>
            <a:endParaRPr b="1" i="1" lang="ru-RU" sz="28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7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i="1" lang="ru-RU" sz="2400" spc="-1" strike="noStrike">
                <a:solidFill>
                  <a:srgbClr val="eb613d"/>
                </a:solidFill>
                <a:latin typeface="Arial"/>
              </a:rPr>
              <a:t>РЕАЛИЗАЦИЯ ЦИКЛИЧЕСКОГО АЛГОРИТМА.</a:t>
            </a: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64000" y="1152000"/>
            <a:ext cx="8772840" cy="57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Составит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лгоритм наполнения ведра водой, пользуясь литровой  кружкой.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65080" y="2088000"/>
            <a:ext cx="6802920" cy="49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92000" y="210240"/>
            <a:ext cx="8608320" cy="72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i="1" lang="ru-RU" sz="2400" spc="-1" strike="noStrike">
                <a:solidFill>
                  <a:srgbClr val="eb613d"/>
                </a:solidFill>
                <a:latin typeface="Arial"/>
              </a:rPr>
              <a:t>РЕАЛИЗАЦИЯ ЦИКЛИЧЕСКОГО АЛГОРИТМА.</a:t>
            </a: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576000"/>
            <a:ext cx="8772840" cy="63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грузовике привезли стулья для актового зала. Стулья можно носить по одному или по два сразу. Требуется составить алгоритм переноса стульев.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buNone/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286000" y="3162240"/>
                <a:ext cx="719640" cy="35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00000" y="2016000"/>
            <a:ext cx="655200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282240"/>
            <a:ext cx="8608320" cy="126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1" i="1" lang="ru-RU" sz="2400" spc="-1" strike="noStrike">
                <a:solidFill>
                  <a:srgbClr val="eb613d"/>
                </a:solidFill>
                <a:latin typeface="Arial"/>
              </a:rPr>
              <a:t>ДОМАШНЕЕ ЗАДАНИЕ.</a:t>
            </a: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1416600"/>
            <a:ext cx="8772840" cy="48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2000" indent="0"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Выучить конспект.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marL="432000" indent="0"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Перед вами ведро картошки. Вам необходимо ее помыть,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marL="432000" indent="0"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истить, сварить. Составьте на языке блок-схем алгоритм,      по  которому вы будете работать.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marL="432000" indent="0"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В корзине имеется некоторое число кубиков. За один раз         можно вынуть два кубика. Составить блок-схему алгоритма       для перебора всех кубиков.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indent="0"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8T10:52:27Z</dcterms:created>
  <dc:creator/>
  <dc:description/>
  <dc:language>en-US</dc:language>
  <cp:lastModifiedBy/>
  <dcterms:modified xsi:type="dcterms:W3CDTF">2017-02-28T19:35:01Z</dcterms:modified>
  <cp:revision>24</cp:revision>
  <dc:subject/>
  <dc:title/>
</cp:coreProperties>
</file>