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47A-D838-4925-95A1-86F0C851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D7D-EDE3-4872-9B96-A833DF37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6B2-F114-4E11-849F-3F55FFC3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EA4-301D-4019-9082-02CF5718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A68-23B0-4DD8-892B-ACA4F155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57C-9C53-4A01-AE2F-F208E28A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A9DC-83E2-438F-8C7D-87836D8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F63-806D-4569-A21E-98D308EE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4DAD-F5A3-42FB-8988-02D1CB6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06A1-C9EA-4A94-AD6E-0FA470A2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A908-7A8A-458F-917A-246F701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D52-0E5D-48AF-9E5A-0A508EC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0946-81DC-49BB-AA76-D930723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8BB5-CD59-4D03-9725-64B8970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AEE6-DD96-4D4D-B14A-BFF4F91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3060-BB36-4ABE-B023-3A4004DE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9A48-CFE9-49A2-A249-1581A192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1ECC-8D92-4D91-8A26-D5FDC11D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6B28-1B58-45B9-AF12-E5D24C3B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38EC-2B9B-426E-BD00-FD2DA7B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28BC-EED0-441B-8B61-049D0F08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D33E-883B-4E07-82C3-9661227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881-C239-4755-9AF7-DDACA371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7E72-62B7-44E5-80B5-7B9A202C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37A0-F052-49F2-8186-DE649B0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A825-C6AB-4C94-A178-8F76C4A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E7BD-E54B-4DCF-9D65-1BD2B8D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931A-E56F-401B-AFAB-19C742B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F67D-9238-4C4F-97F0-72A18AE8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85F0-9929-4E41-983E-3376D437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AC5-A15F-45B0-8D0A-1261FBD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441-07BE-4254-8B12-C330C9E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AEB-F9D4-46F8-92ED-60D84E3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D6E-D74B-4829-A9DC-69FC49C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465-2CCA-4084-AB83-0585C62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66B-64FD-4919-8F21-81BA5AD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E7891-957C-4BC8-9186-631BB0160A1A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DE915-4411-4C9A-A507-145F75B6E321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30459-802A-4CB1-930B-AEB9E44BE917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/ccc?key=0AseTQG5Xz-TudG43V1BseXJXN0NhWXNVNG9fT1lQNnc&amp;usp=sharing" TargetMode="External"/><Relationship Id="rId2" Type="http://schemas.openxmlformats.org/officeDocument/2006/relationships/hyperlink" Target="https://docs.google.com/spreadsheet/ccc?key=0AseTQG5Xz-TudG43V1BseXJXN0NhWXNVNG9fT1lQNnc&amp;usp=sharing" TargetMode="External"/><Relationship Id="rId3" Type="http://schemas.openxmlformats.org/officeDocument/2006/relationships/hyperlink" Target="https://docs.google.com/spreadsheet/ccc?key=0AseTQG5Xz-TudG43V1BseXJXN0NhWXNVNG9fT1lQNnc&amp;usp=sharing" TargetMode="External"/><Relationship Id="rId4" Type="http://schemas.openxmlformats.org/officeDocument/2006/relationships/hyperlink" Target="https://docs.google.com/spreadsheet/ccc?key=0AseTQG5Xz-TudG43V1BseXJXN0NhWXNVNG9fT1lQNnc&amp;usp=sharing" TargetMode="External"/><Relationship Id="rId5" Type="http://schemas.openxmlformats.org/officeDocument/2006/relationships/hyperlink" Target="https://docs.google.com/spreadsheet/ccc?key=0AseTQG5Xz-TudG43V1BseXJXN0NhWXNVNG9fT1lQNnc&amp;usp=sharing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94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Тетрадь по информатике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23880" y="2149920"/>
            <a:ext cx="9143640" cy="28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1"/>
              </a:rPr>
              <a:t>"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2"/>
              </a:rPr>
              <a:t>Копилк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3"/>
              </a:rPr>
              <a:t>а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4"/>
              </a:rPr>
              <a:t> </a:t>
            </a:r>
            <a:r>
              <a:rPr b="0" lang="ru-RU" sz="6000" spc="-1" strike="noStrike" u="sng">
                <a:solidFill>
                  <a:srgbClr val="cce49d"/>
                </a:solidFill>
                <a:uFillTx/>
                <a:latin typeface="Trebuchet MS"/>
                <a:hlinkClick r:id="rId5"/>
              </a:rPr>
              <a:t>заданий по формированию универсальных учебных действий"</a:t>
            </a:r>
            <a:r>
              <a:rPr b="0" lang="ru-RU" sz="6000" spc="-1" strike="noStrike" u="sng">
                <a:solidFill>
                  <a:srgbClr val="808080"/>
                </a:solidFill>
                <a:uFillTx/>
                <a:latin typeface="Trebuchet MS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имул: Вам нужно поздравить сою двоюродную сестру Анфису с Днем рождения и отправить ей подарок. Но т.к. родственником очень много, вы не помните место проживания и чем занимается.(чтоб подобрать подарок)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560" y="565920"/>
            <a:ext cx="10515240" cy="45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ная формулировка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помните, ч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черей дяди Василия  Ивановича зовут Даша, Анфиса и Лариса. У них разные профессии и они живут в разных городах: одна в Ростове, вторая – в Париже и третья – в Москв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вестно, чт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ша живет не в Париже, а Лариса – не в Ростов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ижанка – не актрис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остове живет певиц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риса – не балер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де  живет Анфиса и какова ее профессия?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22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Open Sans"/>
              </a:rPr>
              <a:t>Инструмент проверки: Табличная модель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лнять таблицу необходимо по условиям задачи ставить 1,0 или +,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чем в столбце и в строке может быть только одна 1, т.к. Девушка может жи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лько в одном городе и иметь одну профессию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8" name="Таблица 3"/>
          <p:cNvGraphicFramePr/>
          <p:nvPr/>
        </p:nvGraphicFramePr>
        <p:xfrm>
          <a:off x="1604160" y="2721600"/>
          <a:ext cx="7484760" cy="2394360"/>
        </p:xfrm>
        <a:graphic>
          <a:graphicData uri="http://schemas.openxmlformats.org/drawingml/2006/table">
            <a:tbl>
              <a:tblPr/>
              <a:tblGrid>
                <a:gridCol w="924840"/>
                <a:gridCol w="1034280"/>
                <a:gridCol w="1144080"/>
                <a:gridCol w="1034280"/>
                <a:gridCol w="1034280"/>
                <a:gridCol w="1265760"/>
                <a:gridCol w="1046520"/>
              </a:tblGrid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ариж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Рост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Москв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евиц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Балерин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кт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Даш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нф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Ла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Таблица 3"/>
          <p:cNvGraphicFramePr/>
          <p:nvPr/>
        </p:nvGraphicFramePr>
        <p:xfrm>
          <a:off x="2079000" y="1704240"/>
          <a:ext cx="8120520" cy="1506600"/>
        </p:xfrm>
        <a:graphic>
          <a:graphicData uri="http://schemas.openxmlformats.org/drawingml/2006/table">
            <a:tbl>
              <a:tblPr/>
              <a:tblGrid>
                <a:gridCol w="1003320"/>
                <a:gridCol w="1122120"/>
                <a:gridCol w="1254240"/>
                <a:gridCol w="1122120"/>
                <a:gridCol w="1122120"/>
                <a:gridCol w="1373040"/>
                <a:gridCol w="1122120"/>
              </a:tblGrid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ариж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Рост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Москв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евиц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Балерин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кт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Даш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Анф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Лариса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Прямоугольник 4"/>
          <p:cNvSpPr/>
          <p:nvPr/>
        </p:nvSpPr>
        <p:spPr>
          <a:xfrm>
            <a:off x="3385440" y="3590280"/>
            <a:ext cx="531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Calibri"/>
              </a:rPr>
              <a:t>Ответ Анфиса балерина и она живет в Пар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3146040" y="430200"/>
            <a:ext cx="6095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Open Sans"/>
              </a:rPr>
              <a:t>Шкала оценивания уровня сформированности </a:t>
            </a:r>
            <a:r>
              <a:rPr b="1" lang="ru-RU" sz="2800" spc="-1" strike="noStrike">
                <a:solidFill>
                  <a:srgbClr val="000000"/>
                </a:solidFill>
                <a:latin typeface="Open Sans"/>
              </a:rPr>
              <a:t>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Таблица 2"/>
          <p:cNvGraphicFramePr/>
          <p:nvPr/>
        </p:nvGraphicFramePr>
        <p:xfrm>
          <a:off x="1828800" y="2596320"/>
          <a:ext cx="7891920" cy="3020400"/>
        </p:xfrm>
        <a:graphic>
          <a:graphicData uri="http://schemas.openxmlformats.org/drawingml/2006/table">
            <a:tbl>
              <a:tblPr/>
              <a:tblGrid>
                <a:gridCol w="4629960"/>
                <a:gridCol w="1007280"/>
                <a:gridCol w="1127160"/>
                <a:gridCol w="1127160"/>
              </a:tblGrid>
              <a:tr h="2293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ризнаки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Количество балл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УУД: самостоятельно анализировать условия достижения цели на основе 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ных учителем условий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.</a:t>
                      </a: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Сделан правильный вывод о действиях, необходимых для решения поставленной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равильно определена последовательность шагов, необходимых для выполнения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авильно переведены одни единицы измерения в друг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олучен верный от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0040" y="1698120"/>
            <a:ext cx="9905760" cy="13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rebuchet MS"/>
              </a:rPr>
              <a:t>Стимул.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Вы сотрудник крупной компании. У вас – подписание контракта, который может сорваться, если вы вовремя не прибудете . 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122560" y="750960"/>
            <a:ext cx="249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7280" y="478800"/>
            <a:ext cx="4582440" cy="292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 u="sng">
                <a:solidFill>
                  <a:schemeClr val="accent1"/>
                </a:solidFill>
                <a:uFillTx/>
                <a:latin typeface="Trebuchet MS"/>
              </a:rPr>
              <a:t>Задачная формулировка:</a:t>
            </a:r>
            <a:br>
              <a:rPr sz="2400"/>
            </a:br>
            <a:r>
              <a:rPr b="1" lang="ru-RU" sz="2000" spc="-1" strike="noStrike">
                <a:solidFill>
                  <a:srgbClr val="00b050"/>
                </a:solidFill>
                <a:latin typeface="Trebuchet MS"/>
              </a:rPr>
              <a:t>Перед вами расписание рейсов. Вы оказались в аэропорту «Октябрь» в полночь (0:00).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Определите самое раннее время, когда он может попасть в аэропорт СОСНОВО.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2" name="Таблица 3"/>
          <p:cNvGraphicFramePr/>
          <p:nvPr/>
        </p:nvGraphicFramePr>
        <p:xfrm>
          <a:off x="5312160" y="902160"/>
          <a:ext cx="5083200" cy="4876200"/>
        </p:xfrm>
        <a:graphic>
          <a:graphicData uri="http://schemas.openxmlformats.org/drawingml/2006/table">
            <a:tbl>
              <a:tblPr/>
              <a:tblGrid>
                <a:gridCol w="1270800"/>
                <a:gridCol w="1270800"/>
                <a:gridCol w="1270800"/>
                <a:gridCol w="1270800"/>
              </a:tblGrid>
              <a:tr h="488160"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Аэропорт вы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Аэропорт при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Время вы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  <a:tc>
                  <a:txBody>
                    <a:bodyPr lIns="63000" rIns="63000" tIns="63000" bIns="63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fff0c2"/>
                          </a:solidFill>
                          <a:latin typeface="Trebuchet MS"/>
                        </a:rPr>
                        <a:t>Время приле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a6852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6: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8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: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: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: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: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: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: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4608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Н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: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: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: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: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: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: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СНО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: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: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2642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РЕ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: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: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775f18"/>
                      </a:solidFill>
                    </a:lnL>
                    <a:lnR w="9360">
                      <a:solidFill>
                        <a:srgbClr val="775f18"/>
                      </a:solidFill>
                    </a:lnR>
                    <a:lnT w="9360">
                      <a:solidFill>
                        <a:srgbClr val="775f18"/>
                      </a:solidFill>
                    </a:lnT>
                    <a:lnB w="9360">
                      <a:solidFill>
                        <a:srgbClr val="775f18"/>
                      </a:solidFill>
                    </a:lnB>
                    <a:solidFill>
                      <a:srgbClr val="fff0c2"/>
                    </a:solidFill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1632960" y="3687120"/>
            <a:ext cx="1338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373b35"/>
                </a:solidFill>
                <a:latin typeface="Arial"/>
                <a:ea typeface="Times New Roman"/>
              </a:rPr>
              <a:t>1)15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373b35"/>
                </a:solidFill>
                <a:latin typeface="Arial"/>
                <a:ea typeface="Times New Roman"/>
              </a:rPr>
              <a:t>2)16: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373b35"/>
                </a:solidFill>
                <a:latin typeface="Arial"/>
                <a:ea typeface="Times New Roman"/>
              </a:rPr>
              <a:t>3)17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440"/>
              </a:lnSpc>
              <a:spcBef>
                <a:spcPts val="241"/>
              </a:spcBef>
              <a:spcAft>
                <a:spcPts val="241"/>
              </a:spcAft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373b35"/>
                </a:solidFill>
                <a:uFillTx/>
                <a:latin typeface="Arial"/>
                <a:ea typeface="Times New Roman"/>
              </a:rPr>
              <a:t>4)17: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651240" y="225720"/>
            <a:ext cx="784656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Open Sans"/>
              </a:rPr>
              <a:t>Инструмент проверки</a:t>
            </a: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: гра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Изобразим данные таблицы в виде графа. Введем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-Октябрь, Б-Берег, К-Красный, С-Сос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Построим граф, показывающий все пути из О в С. Граф начнем с конечного пун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Есть 3-и пу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-й путь: О→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-й путь: О→Б→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-й путь: О→К→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верим по времени кажды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-й путь: О→С (1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17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. Путешественник прибыл в 17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-й путь: О→Б (1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17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. Б→С (1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путешественник не успел на рей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-й путь: О→К (11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1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. К→С (1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путешественник не успел на рей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или время прибытия: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7: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задача A10 ЕГЭ по информатике 2009 граф"/>
          <p:cNvPicPr/>
          <p:nvPr/>
        </p:nvPicPr>
        <p:blipFill>
          <a:blip r:embed="rId1"/>
          <a:srcRect l="0" t="0" r="0" b="17370"/>
          <a:stretch/>
        </p:blipFill>
        <p:spPr>
          <a:xfrm>
            <a:off x="8153280" y="1001520"/>
            <a:ext cx="2786400" cy="1767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ЕГЭ по информатике 2009 задача A10"/>
          <p:cNvPicPr/>
          <p:nvPr/>
        </p:nvPicPr>
        <p:blipFill>
          <a:blip r:embed="rId2"/>
          <a:srcRect l="0" t="0" r="0" b="13635"/>
          <a:stretch/>
        </p:blipFill>
        <p:spPr>
          <a:xfrm>
            <a:off x="8381880" y="3017160"/>
            <a:ext cx="25578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2711160" y="506880"/>
            <a:ext cx="6095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Open Sans"/>
              </a:rPr>
              <a:t>Шкала оценивания уровня сформированности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Таблица 4"/>
          <p:cNvGraphicFramePr/>
          <p:nvPr/>
        </p:nvGraphicFramePr>
        <p:xfrm>
          <a:off x="2076480" y="1926000"/>
          <a:ext cx="7020360" cy="3098160"/>
        </p:xfrm>
        <a:graphic>
          <a:graphicData uri="http://schemas.openxmlformats.org/drawingml/2006/table">
            <a:tbl>
              <a:tblPr/>
              <a:tblGrid>
                <a:gridCol w="3507480"/>
                <a:gridCol w="1170360"/>
                <a:gridCol w="1171080"/>
                <a:gridCol w="1171080"/>
              </a:tblGrid>
              <a:tr h="2350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ризнаки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Количество балл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: самостоятельно анализировать условия достижения цели на основе учета выделенных учителем ориент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н правильный вывод о действиях, необходимых для решения поставленной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   Правильно определена последовательность шагов, необходимых для выполнения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    Получен вер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Стимул: Вы готовите реферат. Вам необходима дополнительная литература. Работаете в компьютерном классе, т.к. Интернет дома не работает. Нашли нужную книгу. Надо сохранить материал, чтобы поработать с ним дома.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742480"/>
            <a:ext cx="10515240" cy="25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ная формулировка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Какую часть лазерного диска объема 700 Мб займет книга, в котором 250 страниц? (На одной странице примерно 40 строк по 50 символов в кажд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20647200">
            <a:off x="135360" y="1022400"/>
            <a:ext cx="6958440" cy="10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Инструмент проверки: Решенная задача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2" name="Таблица 2"/>
          <p:cNvGraphicFramePr/>
          <p:nvPr/>
        </p:nvGraphicFramePr>
        <p:xfrm>
          <a:off x="2102400" y="2298960"/>
          <a:ext cx="6963840" cy="2180160"/>
        </p:xfrm>
        <a:graphic>
          <a:graphicData uri="http://schemas.openxmlformats.org/drawingml/2006/table">
            <a:tbl>
              <a:tblPr/>
              <a:tblGrid>
                <a:gridCol w="4091040"/>
                <a:gridCol w="2872440"/>
              </a:tblGrid>
              <a:tr h="883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емые свед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1 символ = 1 б , 1Мб = 1024 Кб , 1 Кб = 1024 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о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700 М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250 страниц по 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к по 50 симво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ти: 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 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</a:t>
                      </a: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. 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250 * 40 * 50 б = 500000 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. V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700 Мб=700 * 1024 *1024б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734003200 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и </a:t>
                      </a: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 V</a:t>
                      </a:r>
                      <a:r>
                        <a:rPr b="1" lang="ru-RU" sz="115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к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00 б / 734003200 б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15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≈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6812 0,0007 (час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: помест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146040" y="430200"/>
            <a:ext cx="6095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Open Sans"/>
              </a:rPr>
              <a:t>шкала оценивания уровня сформированности </a:t>
            </a:r>
            <a:r>
              <a:rPr b="1" lang="ru-RU" sz="2800" spc="-1" strike="noStrike">
                <a:solidFill>
                  <a:srgbClr val="000000"/>
                </a:solidFill>
                <a:latin typeface="Open Sans"/>
              </a:rPr>
              <a:t>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Таблица 2"/>
          <p:cNvGraphicFramePr/>
          <p:nvPr/>
        </p:nvGraphicFramePr>
        <p:xfrm>
          <a:off x="1828800" y="2596320"/>
          <a:ext cx="7891920" cy="3020400"/>
        </p:xfrm>
        <a:graphic>
          <a:graphicData uri="http://schemas.openxmlformats.org/drawingml/2006/table">
            <a:tbl>
              <a:tblPr/>
              <a:tblGrid>
                <a:gridCol w="4629960"/>
                <a:gridCol w="1007280"/>
                <a:gridCol w="1127160"/>
                <a:gridCol w="1127160"/>
              </a:tblGrid>
              <a:tr h="2293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Признаки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Количество баллов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УУД: самостоятельно анализировать условия достижения цели на основе 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ных учителем условий</a:t>
                      </a:r>
                      <a:r>
                        <a:rPr b="0" lang="ru-RU" sz="1350" spc="-1" strike="noStrike">
                          <a:solidFill>
                            <a:srgbClr val="000000"/>
                          </a:solidFill>
                          <a:latin typeface="Open Sans"/>
                          <a:ea typeface="Calibri"/>
                        </a:rPr>
                        <a:t>.</a:t>
                      </a: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Сделан правильный вывод о действиях, необходимых для решения поставленной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равильно определена последовательность шагов, необходимых для выполнения 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авильно переведены одни единицы измерения в друг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Symbol"/>
                        <a:buChar char=""/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Symbol"/>
                          <a:ea typeface="Times New Roman"/>
                        </a:rPr>
                        <a:t>·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 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Open Sans"/>
                          <a:ea typeface="Times New Roman"/>
                        </a:rPr>
                        <a:t>Получен верный от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050" spc="-1" strike="noStrike">
                          <a:solidFill>
                            <a:srgbClr val="333333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51</TotalTime>
  <Application>LibreOffice/7.4.7.2$Linux_X86_64 LibreOffice_project/40$Build-2</Application>
  <AppVersion>15.0000</AppVersion>
  <Words>429</Words>
  <Paragraphs>1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1:08:54Z</dcterms:created>
  <dc:creator>Пользователь</dc:creator>
  <dc:description/>
  <dc:language>en-US</dc:language>
  <cp:lastModifiedBy>Strix</cp:lastModifiedBy>
  <dcterms:modified xsi:type="dcterms:W3CDTF">2018-04-12T11:35:42Z</dcterms:modified>
  <cp:revision>15</cp:revision>
  <dc:subject/>
  <dc:title>Команда «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