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FDE-B7C5-4F26-BB83-71DF4A6A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713-C6CD-4115-8F7E-D1D96E54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D1E-BD09-47E7-94B1-6411304C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166-58E0-4CA4-A2E1-9B825C2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DDB2-E056-432E-B2F0-3FB97066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266-40E6-4277-8AE4-3060F55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673-54AC-432E-8BF4-6E5B871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99FE-F949-4540-BB82-B5A564F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004-BFEB-4E76-9771-F55EDD3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CBCA-7B0C-4EB2-8165-01558431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1EC-F0D0-406A-997E-523E92F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934-7A2D-4AD0-8FD5-0DADD0F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9AAA-35C1-48D8-A174-1AC25930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D278-D0B3-4356-957D-4669957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968-6168-4A7E-A7B5-09A4170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08F-3BD5-40B9-B549-E4276339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C6A8-3072-4B06-8335-175C4E10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D2A4-6FCF-4BD1-8530-920D21D0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B040-CF1B-4925-9716-982D4AA3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3460-55AE-45D8-9514-D048E2BE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DD4C-3C47-44C6-AB90-D5A2539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B054-F727-4D94-9B38-2511BCB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FC5-0F7C-4CD5-821C-6A480E7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08D9-CCBA-4CA3-9D0A-CBD73A76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475E-C148-43BF-8716-A99C259B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32D2-131C-41F1-85D9-F277DF1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E32B-B155-42C5-857D-6F23215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06E5-CAED-4CDB-9A2D-DB8872BC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1A6C-C983-4ADC-B2C3-B218C81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E5F3-2B48-4D11-A6C1-2DADF888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212-2516-4002-B3C6-4462E5E1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0DE-BF0E-4AB5-8D43-DC13C37F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210-1637-49B8-8298-D5FBBE34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054-135C-47DE-B977-413148F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DB8-B6B6-444A-BBE7-1898FD6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A15-0F1E-4351-8F83-4F0988F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507308-B3BC-448D-BD8E-4D703E0CD28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6D053D-0EF5-40EB-904F-0F73D7D8772E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F64571-4461-458B-8B34-A67C14CDF0B1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/ccc?key=0AseTQG5Xz-TudG43V1BseXJXN0NhWXNVNG9fT1lQNnc&amp;usp=sharing" TargetMode="External"/><Relationship Id="rId2" Type="http://schemas.openxmlformats.org/officeDocument/2006/relationships/hyperlink" Target="https://docs.google.com/spreadsheet/ccc?key=0AseTQG5Xz-TudG43V1BseXJXN0NhWXNVNG9fT1lQNnc&amp;usp=sharing" TargetMode="External"/><Relationship Id="rId3" Type="http://schemas.openxmlformats.org/officeDocument/2006/relationships/hyperlink" Target="https://docs.google.com/spreadsheet/ccc?key=0AseTQG5Xz-TudG43V1BseXJXN0NhWXNVNG9fT1lQNnc&amp;usp=sharing" TargetMode="External"/><Relationship Id="rId4" Type="http://schemas.openxmlformats.org/officeDocument/2006/relationships/hyperlink" Target="https://docs.google.com/spreadsheet/ccc?key=0AseTQG5Xz-TudG43V1BseXJXN0NhWXNVNG9fT1lQNnc&amp;usp=sharing" TargetMode="External"/><Relationship Id="rId5" Type="http://schemas.openxmlformats.org/officeDocument/2006/relationships/hyperlink" Target="https://docs.google.com/spreadsheet/ccc?key=0AseTQG5Xz-TudG43V1BseXJXN0NhWXNVNG9fT1lQNnc&amp;usp=sharing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94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Тетрадь по информатике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23880" y="2149920"/>
            <a:ext cx="9143640" cy="28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1"/>
              </a:rPr>
              <a:t>"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2"/>
              </a:rPr>
              <a:t>Копилк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3"/>
              </a:rPr>
              <a:t>а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4"/>
              </a:rPr>
              <a:t> 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5"/>
              </a:rPr>
              <a:t>заданий по формированию универсальных учебных действий"</a:t>
            </a:r>
            <a:r>
              <a:rPr b="0" lang="ru-RU" sz="6000" spc="-1" strike="noStrike" u="sng">
                <a:solidFill>
                  <a:srgbClr val="808080"/>
                </a:solidFill>
                <a:uFillTx/>
                <a:latin typeface="Trebuchet MS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имул: Вам нужно поздравить сою двоюродную сестру Анфису с Днем рождения и отправить ей подарок. Но т.к. родственником очень много, вы не помните место проживания и чем занимается.(чтоб подобрать подарок)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560" y="565920"/>
            <a:ext cx="10515240" cy="45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ная формулировка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помните, ч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черей дяди Василия  Ивановича зовут Даша, Анфиса и Лариса. У них разные профессии и они живут в разных городах: одна в Ростове, вторая – в Париже и третья – в Москв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вестно, чт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ша живет не в Париже, а Лариса – не в Ростов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ижанка – не актрис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остове живет певиц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риса – не балер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де  живет Анфиса и какова ее профессия?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22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Open Sans"/>
              </a:rPr>
              <a:t>Инструмент проверки: Табличная модель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ять таблицу необходимо по условиям задачи ставить 1,0 или +,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чем в столбце и в строке может быть только одна 1, т.к. Девушка может жи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лько в одном городе и иметь одну профессию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8" name="Таблица 3"/>
          <p:cNvGraphicFramePr/>
          <p:nvPr/>
        </p:nvGraphicFramePr>
        <p:xfrm>
          <a:off x="1604160" y="2721600"/>
          <a:ext cx="7484760" cy="2394360"/>
        </p:xfrm>
        <a:graphic>
          <a:graphicData uri="http://schemas.openxmlformats.org/drawingml/2006/table">
            <a:tbl>
              <a:tblPr/>
              <a:tblGrid>
                <a:gridCol w="924840"/>
                <a:gridCol w="1034280"/>
                <a:gridCol w="1144080"/>
                <a:gridCol w="1034280"/>
                <a:gridCol w="1034280"/>
                <a:gridCol w="1265760"/>
                <a:gridCol w="1046520"/>
              </a:tblGrid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ариж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Рост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Москв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евиц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Балерин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кт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Даш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нф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Ла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Таблица 3"/>
          <p:cNvGraphicFramePr/>
          <p:nvPr/>
        </p:nvGraphicFramePr>
        <p:xfrm>
          <a:off x="2079000" y="1704240"/>
          <a:ext cx="8120520" cy="1506600"/>
        </p:xfrm>
        <a:graphic>
          <a:graphicData uri="http://schemas.openxmlformats.org/drawingml/2006/table">
            <a:tbl>
              <a:tblPr/>
              <a:tblGrid>
                <a:gridCol w="1003320"/>
                <a:gridCol w="1122120"/>
                <a:gridCol w="1254240"/>
                <a:gridCol w="1122120"/>
                <a:gridCol w="1122120"/>
                <a:gridCol w="1373040"/>
                <a:gridCol w="1122120"/>
              </a:tblGrid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ариж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Рост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Москв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евиц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Балерин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кт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Даш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нф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Ла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Прямоугольник 4"/>
          <p:cNvSpPr/>
          <p:nvPr/>
        </p:nvSpPr>
        <p:spPr>
          <a:xfrm>
            <a:off x="3385440" y="3590280"/>
            <a:ext cx="531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Calibri"/>
              </a:rPr>
              <a:t>Ответ Анфиса балерина и она живет в Пар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146040" y="430200"/>
            <a:ext cx="6095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</a:t>
            </a:r>
            <a:r>
              <a:rPr b="1" lang="ru-RU" sz="2800" spc="-1" strike="noStrike">
                <a:solidFill>
                  <a:srgbClr val="000000"/>
                </a:solidFill>
                <a:latin typeface="Open Sans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Таблица 2"/>
          <p:cNvGraphicFramePr/>
          <p:nvPr/>
        </p:nvGraphicFramePr>
        <p:xfrm>
          <a:off x="1828800" y="2596320"/>
          <a:ext cx="7891920" cy="3020400"/>
        </p:xfrm>
        <a:graphic>
          <a:graphicData uri="http://schemas.openxmlformats.org/drawingml/2006/table">
            <a:tbl>
              <a:tblPr/>
              <a:tblGrid>
                <a:gridCol w="4629960"/>
                <a:gridCol w="1007280"/>
                <a:gridCol w="1127160"/>
                <a:gridCol w="1127160"/>
              </a:tblGrid>
              <a:tr h="2293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УУД: самостоятельно анализировать условия достижения цели на основе 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ных учителем условий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.</a:t>
                      </a: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равильно определена последовательность шагов, необходимых для выполнения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вильно переведены одни единицы измерения в друг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олучен верный от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0040" y="1698120"/>
            <a:ext cx="9905760" cy="13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Стимул.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Вы сотрудник крупной компании. У вас – подписание контракта, который может сорваться, если вы вовремя не прибудете .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122560" y="750960"/>
            <a:ext cx="249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7280" y="478800"/>
            <a:ext cx="4582440" cy="292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chemeClr val="accent1"/>
                </a:solidFill>
                <a:uFillTx/>
                <a:latin typeface="Trebuchet MS"/>
              </a:rPr>
              <a:t>Задачная формулировка:</a:t>
            </a:r>
            <a:br>
              <a:rPr sz="2400"/>
            </a:br>
            <a:r>
              <a:rPr b="1" lang="ru-RU" sz="2000" spc="-1" strike="noStrike">
                <a:solidFill>
                  <a:srgbClr val="00b050"/>
                </a:solidFill>
                <a:latin typeface="Trebuchet MS"/>
              </a:rPr>
              <a:t>Перед вами расписание рейсов. Вы оказались в аэропорту «Октябрь» в полночь (0:00).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Определите самое раннее время, когда он может попасть в аэропорт СОСНОВО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2" name="Таблица 3"/>
          <p:cNvGraphicFramePr/>
          <p:nvPr/>
        </p:nvGraphicFramePr>
        <p:xfrm>
          <a:off x="5312160" y="902160"/>
          <a:ext cx="5083200" cy="4876200"/>
        </p:xfrm>
        <a:graphic>
          <a:graphicData uri="http://schemas.openxmlformats.org/drawingml/2006/table">
            <a:tbl>
              <a:tblPr/>
              <a:tblGrid>
                <a:gridCol w="1270800"/>
                <a:gridCol w="1270800"/>
                <a:gridCol w="1270800"/>
                <a:gridCol w="1270800"/>
              </a:tblGrid>
              <a:tr h="488160"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Аэропорт вы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Аэропорт при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Время вы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Время при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6: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8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: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: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1632960" y="3687120"/>
            <a:ext cx="1338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1)15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2)16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3)17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373b35"/>
                </a:solidFill>
                <a:uFillTx/>
                <a:latin typeface="Arial"/>
                <a:ea typeface="Times New Roman"/>
              </a:rPr>
              <a:t>4)17: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51240" y="225720"/>
            <a:ext cx="784656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Open Sans"/>
              </a:rPr>
              <a:t>Инструмент проверки</a:t>
            </a: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: г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Изобразим данные таблицы в виде графа. Введем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-Октябрь, Б-Берег, К-Красный, С-Сос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Построим граф, показывающий все пути из О в С. Граф начнем с конечного пун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Есть 3-и п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-й путь: О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-й путь: О→Б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-й путь: О→К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верим по времени кажды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-й путь: О→С (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Путешественник прибыл в 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-й путь: О→Б (1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Б→С (1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утешественник не успел на рей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-й путь: О→К (11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К→С (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утешественник не успел на рей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или время прибытия: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7: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задача A10 ЕГЭ по информатике 2009 граф"/>
          <p:cNvPicPr/>
          <p:nvPr/>
        </p:nvPicPr>
        <p:blipFill>
          <a:blip r:embed="rId1"/>
          <a:srcRect l="0" t="0" r="0" b="17370"/>
          <a:stretch/>
        </p:blipFill>
        <p:spPr>
          <a:xfrm>
            <a:off x="8153280" y="1001520"/>
            <a:ext cx="2786400" cy="1767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ЕГЭ по информатике 2009 задача A10"/>
          <p:cNvPicPr/>
          <p:nvPr/>
        </p:nvPicPr>
        <p:blipFill>
          <a:blip r:embed="rId2"/>
          <a:srcRect l="0" t="0" r="0" b="13635"/>
          <a:stretch/>
        </p:blipFill>
        <p:spPr>
          <a:xfrm>
            <a:off x="8381880" y="3017160"/>
            <a:ext cx="25578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2711160" y="506880"/>
            <a:ext cx="6095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Таблица 4"/>
          <p:cNvGraphicFramePr/>
          <p:nvPr/>
        </p:nvGraphicFramePr>
        <p:xfrm>
          <a:off x="2076480" y="1926000"/>
          <a:ext cx="7020360" cy="3098160"/>
        </p:xfrm>
        <a:graphic>
          <a:graphicData uri="http://schemas.openxmlformats.org/drawingml/2006/table">
            <a:tbl>
              <a:tblPr/>
              <a:tblGrid>
                <a:gridCol w="3507480"/>
                <a:gridCol w="1170360"/>
                <a:gridCol w="1171080"/>
                <a:gridCol w="1171080"/>
              </a:tblGrid>
              <a:tr h="235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: самостоятельно анализировать условия достижения цели на основе учета выделенных учителем ориент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   Правильно определена последовательность шагов, необходимых для выполнения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    Получен вер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Стимул: Вы готовите реферат. Вам необходима дополнительная литература. Работаете в компьютерном классе, т.к. Интернет дома не работает. Нашли нужную книгу. Надо сохранить материал, чтобы поработать с ним дома.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742480"/>
            <a:ext cx="10515240" cy="25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ная формулировка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Какую часть лазерного диска объема 700 Мб займет книга, в котором 250 страниц? (На одной странице примерно 40 строк по 50 символов в кажд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20647200">
            <a:off x="135360" y="1022400"/>
            <a:ext cx="6958440" cy="10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Инструмент проверки: Решенная задача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2" name="Таблица 2"/>
          <p:cNvGraphicFramePr/>
          <p:nvPr/>
        </p:nvGraphicFramePr>
        <p:xfrm>
          <a:off x="2102400" y="2298960"/>
          <a:ext cx="6963840" cy="2180160"/>
        </p:xfrm>
        <a:graphic>
          <a:graphicData uri="http://schemas.openxmlformats.org/drawingml/2006/table">
            <a:tbl>
              <a:tblPr/>
              <a:tblGrid>
                <a:gridCol w="4091040"/>
                <a:gridCol w="2872440"/>
              </a:tblGrid>
              <a:tr h="883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емые свед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1 символ = 1 б , 1Мб = 1024 Кб , 1 Кб = 1024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о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00 М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250 страниц по 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к по 50 симво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ти: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 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</a:t>
                      </a: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. 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250 * 40 * 50 б = 500000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. 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00 Мб=700 * 1024 *1024б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34003200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 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00 б / 734003200 б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≈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6812 0,0007 (час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: помест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146040" y="430200"/>
            <a:ext cx="6095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</a:t>
            </a:r>
            <a:r>
              <a:rPr b="1" lang="ru-RU" sz="2800" spc="-1" strike="noStrike">
                <a:solidFill>
                  <a:srgbClr val="000000"/>
                </a:solidFill>
                <a:latin typeface="Open Sans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Таблица 2"/>
          <p:cNvGraphicFramePr/>
          <p:nvPr/>
        </p:nvGraphicFramePr>
        <p:xfrm>
          <a:off x="1828800" y="2596320"/>
          <a:ext cx="7891920" cy="3020400"/>
        </p:xfrm>
        <a:graphic>
          <a:graphicData uri="http://schemas.openxmlformats.org/drawingml/2006/table">
            <a:tbl>
              <a:tblPr/>
              <a:tblGrid>
                <a:gridCol w="4629960"/>
                <a:gridCol w="1007280"/>
                <a:gridCol w="1127160"/>
                <a:gridCol w="1127160"/>
              </a:tblGrid>
              <a:tr h="2293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УУД: самостоятельно анализировать условия достижения цели на основе 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ных учителем условий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.</a:t>
                      </a: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равильно определена последовательность шагов, необходимых для выполнения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вильно переведены одни единицы измерения в друг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олучен верный от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51</TotalTime>
  <Application>LibreOffice/7.4.7.2$Linux_X86_64 LibreOffice_project/40$Build-2</Application>
  <AppVersion>15.0000</AppVersion>
  <Words>429</Words>
  <Paragraphs>1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1:08:54Z</dcterms:created>
  <dc:creator>Пользователь</dc:creator>
  <dc:description/>
  <dc:language>en-US</dc:language>
  <cp:lastModifiedBy>Strix</cp:lastModifiedBy>
  <dcterms:modified xsi:type="dcterms:W3CDTF">2018-04-12T11:35:42Z</dcterms:modified>
  <cp:revision>15</cp:revision>
  <dc:subject/>
  <dc:title>Команда «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