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127-C35A-487B-8BAF-009E6A8C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64A-887B-4856-9DDC-8F6AA428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00A-ACE0-4AF5-9F01-70F5D221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50E-5F99-43D4-8B37-CF26409A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ECA-2510-47AF-99AF-0FDB17A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D85-370D-4DD3-A3CE-A7F4D44E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E04-5624-438A-83B2-7E15AB3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031-25E1-4838-B2F4-0C92C225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C19-3F6D-4CF8-95D2-392D390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1CD-0E6C-449C-A5EE-BA24BC4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F43-8422-4724-B64E-7F3FD33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46A-1FB5-45F6-9D9B-E69D97F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085-C79D-4088-8BC7-85BB7D2EA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8000" y="1321200"/>
            <a:ext cx="8821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п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f / p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- скорость вращения электромагни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ного по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ротор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 частота переменного то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 числ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 полюсов генерато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 и частота переменного тока определяется скоростью вращения С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n∙p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0" y="1731960"/>
            <a:ext cx="9144000" cy="4911840"/>
            <a:chOff x="0" y="1731960"/>
            <a:chExt cx="9144000" cy="4911840"/>
          </a:xfrm>
        </p:grpSpPr>
        <p:pic>
          <p:nvPicPr>
            <p:cNvPr id="58" name="Picture 3" descr="ТГ"/>
            <p:cNvPicPr/>
            <p:nvPr/>
          </p:nvPicPr>
          <p:blipFill>
            <a:blip r:embed="rId1"/>
            <a:stretch/>
          </p:blipFill>
          <p:spPr>
            <a:xfrm rot="5400000">
              <a:off x="2722320" y="-420480"/>
              <a:ext cx="3982680" cy="82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0" y="5267520"/>
              <a:ext cx="9144000" cy="13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ис. 1.1. Общий вид синхронного турбогенератор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 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- корпус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сердечник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обмотка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ротор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- контактные кольца и щеточный аппарат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,7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подшипники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возбудитель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85840" y="3476880"/>
            <a:ext cx="4286160" cy="265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2. Сегментный пакет статора турбогенератора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егмент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убец сегмент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инка сег­мента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ксиальный вентиляционный канал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-диальный вентиляционный канал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орк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ста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сегмент"/>
          <p:cNvPicPr/>
          <p:nvPr/>
        </p:nvPicPr>
        <p:blipFill>
          <a:blip r:embed="rId1"/>
          <a:stretch/>
        </p:blipFill>
        <p:spPr>
          <a:xfrm>
            <a:off x="4786200" y="1643040"/>
            <a:ext cx="4071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-716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Ротор"/>
          <p:cNvPicPr/>
          <p:nvPr/>
        </p:nvPicPr>
        <p:blipFill>
          <a:blip r:embed="rId1"/>
          <a:stretch/>
        </p:blipFill>
        <p:spPr>
          <a:xfrm>
            <a:off x="214200" y="1700280"/>
            <a:ext cx="8572680" cy="4228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500040" y="578628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3. Внешний вид ротора турбогенера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Пазы 2"/>
          <p:cNvPicPr/>
          <p:nvPr/>
        </p:nvPicPr>
        <p:blipFill>
          <a:blip r:embed="rId1"/>
          <a:stretch/>
        </p:blipFill>
        <p:spPr>
          <a:xfrm>
            <a:off x="4071960" y="71280"/>
            <a:ext cx="5000760" cy="676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14200" y="1949040"/>
            <a:ext cx="3929040" cy="44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4. Схематический разрез по пазу турбоге-нератора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з статора при косве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статора при непосредст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ном 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ротора при косве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ротора при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м охлажде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2579760" y="0"/>
            <a:ext cx="6564240" cy="6858000"/>
            <a:chOff x="2579760" y="0"/>
            <a:chExt cx="6564240" cy="6858000"/>
          </a:xfrm>
        </p:grpSpPr>
        <p:pic>
          <p:nvPicPr>
            <p:cNvPr id="70" name="Picture 3" descr="ГГ"/>
            <p:cNvPicPr/>
            <p:nvPr/>
          </p:nvPicPr>
          <p:blipFill>
            <a:blip r:embed="rId1"/>
            <a:stretch/>
          </p:blipFill>
          <p:spPr>
            <a:xfrm>
              <a:off x="2579760" y="0"/>
              <a:ext cx="656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"/>
            <p:cNvSpPr/>
            <p:nvPr/>
          </p:nvSpPr>
          <p:spPr>
            <a:xfrm>
              <a:off x="2725560" y="4143240"/>
              <a:ext cx="703440" cy="23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ис.1.5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5643360"/>
            <a:ext cx="290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41860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6" descr="ротор ГГ"/>
          <p:cNvPicPr/>
          <p:nvPr/>
        </p:nvPicPr>
        <p:blipFill>
          <a:blip r:embed="rId1"/>
          <a:stretch/>
        </p:blipFill>
        <p:spPr>
          <a:xfrm>
            <a:off x="5203800" y="0"/>
            <a:ext cx="3940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 flipV="1" rot="10800000">
            <a:off x="214200" y="3124800"/>
            <a:ext cx="4857840" cy="32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6. Ротор гидрогенера-тора со спицевым остов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стов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од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ал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сегмент обод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олюс с катушкой обмотки возбуждения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токопровод, соединяющий обмотку возбуждения с контактными кольцами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ентиляционный 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льный ка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http://www.induction.ru/library/book_002/glava6/img/image029.png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4608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0" y="523080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вид гидрогенератора капсульного типа: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— капсула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,  3 —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татор и  ротор генератора; 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— направляющий аппара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турбины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— ротор турбины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, 8 —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дшипники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—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57200" y="2855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-31680" y="115920"/>
            <a:ext cx="91440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ные компенсатор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машины предназначены для генерирования или потребления реактивной мощности с целью улучшения коэффициента мощности сети и регу-лирования ее напря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бычно выполняют явнополюсными с горизон-тальным расположением вала; они работают при частоте вращения 750-1000 об/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ощности до 25 MB•А синхронные компенсаторы имеют воздушное охлаждение, а при больших мощностях — водород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й компенс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СК"/>
          <p:cNvPicPr/>
          <p:nvPr/>
        </p:nvPicPr>
        <p:blipFill>
          <a:blip r:embed="rId1"/>
          <a:stretch/>
        </p:blipFill>
        <p:spPr>
          <a:xfrm>
            <a:off x="571680" y="928800"/>
            <a:ext cx="8572320" cy="5929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4929120" y="5857920"/>
            <a:ext cx="41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7. Синхронный компенсатор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и КС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0" y="120600"/>
            <a:ext cx="914400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К.П.Д. современных генераторов очень высок и относительные потери составляют всего 1,5-2,5%, но абсолютные потери достаточно велики (до 10 МВт в машине 800 МВт), что приводит к зна-чительному повышению температуры активной стали, меди и изоляции, ухудшению электроизо-ляционных свойств, снижению механической прочности и эластичности матери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се генераторы электростанций выполняются с искусственным охлаждением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бмоток и активной стали. По способу отвода тепла от нагретых обмоток и стали статора и ротора разли­ч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хла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0" y="44280"/>
            <a:ext cx="9144000" cy="62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щения турбо- и гидрогенерат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в определяется возможностями пара и воды  и существенно отличаетс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тношению к гидроагрегатам особен-ностью паровых или газовых турбин является их быстроход­ность, поскольку с повы­шением частоты вра­щения возрастает экономичность рабо­ты, уменьшаются габа-риты и повышается к.п.д., по­этому естест-венно стремление конструкторов учеличить быстроходность турбогене­ратор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8000" y="1268280"/>
          <a:ext cx="8750160" cy="5604120"/>
        </p:xfrm>
        <a:graphic>
          <a:graphicData uri="http://schemas.openxmlformats.org/drawingml/2006/table">
            <a:tbl>
              <a:tblPr/>
              <a:tblGrid>
                <a:gridCol w="2735280"/>
                <a:gridCol w="1284120"/>
                <a:gridCol w="1381320"/>
                <a:gridCol w="1674720"/>
                <a:gridCol w="1674720"/>
              </a:tblGrid>
              <a:tr h="610200">
                <a:tc row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Охлаждаю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Давле-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М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920" rIns="61920" tIns="0" bIns="0" anchor="ctr">
                      <a:noAutofit/>
                    </a:bodyPr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Физические св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в долях показателей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Теплопро-вод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Плот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Тепло-отводящая способ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сь 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97 %) и воздуха (3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rowSpan="4"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форматорное ма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428760" y="54936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внительные теплоотводящие свой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0" y="330120"/>
            <a:ext cx="914400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При косвенном охлаждении (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оно применяется только при газах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) охлаждающий газ не сопри-касается с проводником обмоток, а теплота, выделяемая в них, передается газу через изоляцию, которая таким образом оказывается перегруженной в тепловом отношении и значительно ухудшает теплопереда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При непосредственном охлаждении водород, вода или масло циркулируют по внутрипроводниковым каналам и, соприкасаясь непосредственно с нагретой медью, отводят от нее теплоту при максимальной эффективности теплопереда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2" descr="Разрез ТГ1"/>
          <p:cNvPicPr/>
          <p:nvPr/>
        </p:nvPicPr>
        <p:blipFill>
          <a:blip r:embed="rId1"/>
          <a:stretch/>
        </p:blipFill>
        <p:spPr>
          <a:xfrm>
            <a:off x="169920" y="1143000"/>
            <a:ext cx="8759880" cy="5281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71680" y="6315480"/>
            <a:ext cx="771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8. Замкнутая система косвенного воздушного охла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0" y="4797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  <a:ea typeface="Calibri"/>
              </a:rPr>
              <a:t>Схема водородного охлаж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  <a:ea typeface="Calibri"/>
              </a:rPr>
              <a:t>турбогенератора серии ТВ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942000" y="-214200"/>
            <a:ext cx="125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соображениям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32" descr="Описание: Замкнутые системы вентиляции"/>
          <p:cNvPicPr/>
          <p:nvPr/>
        </p:nvPicPr>
        <p:blipFill>
          <a:blip r:embed="rId1"/>
          <a:stretch/>
        </p:blipFill>
        <p:spPr>
          <a:xfrm>
            <a:off x="185760" y="2160720"/>
            <a:ext cx="8562960" cy="2997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51560" y="247680"/>
            <a:ext cx="8793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Замкнутые системы вентиляци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 машина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 вентилятор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  охлад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196920"/>
            <a:ext cx="9144000" cy="63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Турбогенераторы с непосредственным охлажде-нием делятся на следующие четыре групп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косвенным охлаждением статора и непосред-ственным охлаждением ротора водородом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охлаждением статора и ротора водородом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жидкостным охлаждением статора и непосредственным водородным охлаждением ротор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жидкостным охлаждением статора и рото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0" y="115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К первой группе принадлежат турбогенераторы серии ТВФ мощностью 60, 100, 120 и 200 МВт, предназначенные для соединения с теплофикационными турбин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115920"/>
            <a:ext cx="91440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как следует из выражения 1.1 предел, увеличения скорости вращения ротора ограничивается минимальным числом пар полюс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= 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ринятой в РФ номинальной частотой се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о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 50 Гц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максимальная частота вращения турбогенераторов при такой частоте рав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60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х 5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 = 3000 об/ми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2160" y="44280"/>
            <a:ext cx="8964360" cy="80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 пар полюсов не может быть дробным, и поэтому следующая частота вращения - 1500 об/мин, соответствующа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хполюсному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нению генерато-ра, т.е. у нег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ение СГ с явнополюсным ротором при таких скоростях вращения практически нереально, поэтому для обеспечения нужной механической прочности при столь высокой скорости вращения роторы синхронных генераторов выполняются с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явновыраженными полюса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451512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Рис.4. Явновыраженные и неявновыраженные полюса электромагни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мотка возбуждения выполняется из мед-ного провода прямоугольного с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рис.4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0920" y="115920"/>
            <a:ext cx="8702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08000" y="178920"/>
            <a:ext cx="8891640" cy="66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льная полная мощ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 U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1-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ая активная мощ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=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 U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I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cos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1-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е реактивные мощности турбо-генерато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ормируются ГОСТ, они определяются, ка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ndara"/>
              </a:rPr>
              <a:t>р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sin φ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1-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ndara"/>
              </a:rPr>
              <a:t>р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 φ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5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08000" y="969480"/>
            <a:ext cx="63579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,125; 5,0; 7,5; 15,0; 40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78,75; 125,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88,0; 235,0; 353,0; 588,2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941,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888,9 ; 1111,1;  1333,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72160" y="966600"/>
            <a:ext cx="257184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8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8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5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9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42920" y="544500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Вт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; 4,0; 6,0; 12,0; 32; 63,0; 100,0; 160,0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,0; 300,0; 500,0; 800,0; 1000,0; 1200,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42920" y="4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Т уста­навливает следующий ряд номи-нальных мощностей турбогенераторов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08000" y="-27000"/>
            <a:ext cx="9036000" cy="70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ой мощность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ют полезную мощность, на которую рассчитан синхронный генератор и с которой он может длительно работать при нормальной работе системы охлажд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другие параметры, характеризующие работу машины при номинальной мощнос-ти, также называютс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им отно­сятся напряже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ок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о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пряже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ок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озбужде-ния ротора, реактивная мощность генерато-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ndara"/>
              </a:rPr>
              <a:t>p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эффициент мощност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os φ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.п.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08000" y="33480"/>
            <a:ext cx="8712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м напряжени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рехфазно-го синхронного гене­ратора является линейное напряжение статорной обмотк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значение которого выбирается по шкале, установленной государственным стандарт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15; 6,3; 10,5; (13,8); (15,75); 18,0; 20,0; 21,0; 24,0 кВ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напряжения согласованы с напряже-ниями электри­ческих сет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9:13:55Z</dcterms:created>
  <dc:creator>user</dc:creator>
  <dc:description/>
  <dc:language>en-US</dc:language>
  <cp:lastModifiedBy>Админ</cp:lastModifiedBy>
  <dcterms:modified xsi:type="dcterms:W3CDTF">2018-09-07T18:49:53Z</dcterms:modified>
  <cp:revision>23</cp:revision>
  <dc:subject/>
  <dc:title>Синхронные генераторы</dc:title>
</cp:coreProperties>
</file>