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_rels/drawing3.xml.rels" ContentType="application/vnd.openxmlformats-package.relationships+xml"/>
  <Override PartName="/ppt/diagrams/_rels/data3.xml.rels" ContentType="application/vnd.openxmlformats-package.relationships+xml"/>
  <Override PartName="/ppt/diagrams/data3.xml" ContentType="application/vnd.openxmlformats-officedocument.drawingml.diagramData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OOXDiagramDrawingRels3_2.png" ContentType="image/png"/>
  <Override PartName="/ppt/media/OOXDiagramDrawingRels3_1.svg" ContentType="image/svg"/>
  <Override PartName="/ppt/media/OOXDiagramDataRels3_0.png" ContentType="image/png"/>
  <Override PartName="/ppt/media/image13.png" ContentType="image/png"/>
  <Override PartName="/ppt/media/image20.png" ContentType="image/png"/>
  <Override PartName="/ppt/media/image18.png" ContentType="image/png"/>
  <Override PartName="/ppt/media/OOXDiagramDrawingRels3_0.png" ContentType="image/png"/>
  <Override PartName="/ppt/media/image17.png" ContentType="image/png"/>
  <Override PartName="/ppt/media/OOXDiagramDataRels3_4.png" ContentType="image/png"/>
  <Override PartName="/ppt/media/image32.jpeg" ContentType="image/jpeg"/>
  <Override PartName="/ppt/media/OOXDiagramDataRels3_5.svg" ContentType="image/svg"/>
  <Override PartName="/ppt/media/image16.jpeg" ContentType="image/jpeg"/>
  <Override PartName="/ppt/media/image15.png" ContentType="image/png"/>
  <Override PartName="/ppt/media/OOXDiagramDataRels3_2.png" ContentType="image/png"/>
  <Override PartName="/ppt/media/OOXDiagramDataRels3_3.svg" ContentType="image/svg"/>
  <Override PartName="/ppt/media/image21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.png" ContentType="image/png"/>
  <Override PartName="/ppt/media/OOXDiagramDrawingRels3_3.svg" ContentType="image/svg"/>
  <Override PartName="/ppt/media/image11.png" ContentType="image/png"/>
  <Override PartName="/ppt/media/OOXDiagramDrawingRels3_4.png" ContentType="image/png"/>
  <Override PartName="/ppt/media/OOXDiagramDrawingRels3_5.svg" ContentType="image/svg"/>
  <Override PartName="/ppt/media/image37.jpeg" ContentType="image/jpeg"/>
  <Override PartName="/ppt/media/image30.png" ContentType="image/png"/>
  <Override PartName="/ppt/media/image33.wmf" ContentType="image/x-wmf"/>
  <Override PartName="/ppt/media/image29.jpeg" ContentType="image/jpeg"/>
  <Override PartName="/ppt/media/image35.png" ContentType="image/png"/>
  <Override PartName="/ppt/media/image5.png" ContentType="image/png"/>
  <Override PartName="/ppt/media/image7.png" ContentType="image/png"/>
  <Override PartName="/ppt/media/image26.png" ContentType="image/png"/>
  <Override PartName="/ppt/media/image3.png" ContentType="image/png"/>
  <Override PartName="/ppt/media/image28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12.png" ContentType="image/png"/>
  <Override PartName="/ppt/media/OOXDiagramDataRels3_1.svg" ContentType="image/svg"/>
  <Override PartName="/ppt/media/image27.png" ContentType="image/png"/>
  <Override PartName="/ppt/media/image34.png" ContentType="image/png"/>
  <Override PartName="/ppt/media/image4.png" ContentType="image/png"/>
  <Override PartName="/ppt/media/image19.jpeg" ContentType="image/jpeg"/>
  <Override PartName="/ppt/media/image25.png" ContentType="image/png"/>
  <Override PartName="/ppt/media/image36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diagrams/_rels/data3.xml.rels><?xml version="1.0" encoding="UTF-8"?>
<Relationships xmlns="http://schemas.openxmlformats.org/package/2006/relationships"><Relationship Id="rId1" Type="http://schemas.openxmlformats.org/officeDocument/2006/relationships/image" Target="../media/OOXDiagramDataRels3_0.png"/><Relationship Id="rId2" Type="http://schemas.openxmlformats.org/officeDocument/2006/relationships/image" Target="../media/OOXDiagramDataRels3_1.svg"/><Relationship Id="rId3" Type="http://schemas.openxmlformats.org/officeDocument/2006/relationships/image" Target="../media/OOXDiagramDataRels3_2.png"/><Relationship Id="rId4" Type="http://schemas.openxmlformats.org/officeDocument/2006/relationships/image" Target="../media/OOXDiagramDataRels3_3.svg"/><Relationship Id="rId5" Type="http://schemas.openxmlformats.org/officeDocument/2006/relationships/image" Target="../media/OOXDiagramDataRels3_4.png"/><Relationship Id="rId6" Type="http://schemas.openxmlformats.org/officeDocument/2006/relationships/image" Target="../media/OOXDiagramDataRels3_5.svg"/>
</Relationships>
</file>

<file path=ppt/diagrams/_rels/drawing3.xml.rels><?xml version="1.0" encoding="UTF-8"?>
<Relationships xmlns="http://schemas.openxmlformats.org/package/2006/relationships"><Relationship Id="rId1" Type="http://schemas.openxmlformats.org/officeDocument/2006/relationships/image" Target="../media/OOXDiagramDrawingRels3_0.png"/><Relationship Id="rId2" Type="http://schemas.openxmlformats.org/officeDocument/2006/relationships/image" Target="../media/OOXDiagramDrawingRels3_1.svg"/><Relationship Id="rId3" Type="http://schemas.openxmlformats.org/officeDocument/2006/relationships/image" Target="../media/OOXDiagramDrawingRels3_2.png"/><Relationship Id="rId4" Type="http://schemas.openxmlformats.org/officeDocument/2006/relationships/image" Target="../media/OOXDiagramDrawingRels3_3.svg"/><Relationship Id="rId5" Type="http://schemas.openxmlformats.org/officeDocument/2006/relationships/image" Target="../media/OOXDiagramDrawingRels3_4.png"/><Relationship Id="rId6" Type="http://schemas.openxmlformats.org/officeDocument/2006/relationships/image" Target="../media/OOXDiagramDrawingRels3_5.sv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A33F65B-343F-47D1-864F-F8D86822C178}" type="doc">
      <dgm:prSet loTypeId="urn:microsoft.com/office/officeart/2005/8/layout/hierarchy6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50B7E64F-30DC-40A9-8616-047B96816E56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1</a:t>
          </a:r>
          <a:endParaRPr lang="ru-RU" dirty="0"/>
        </a:p>
      </dgm:t>
    </dgm:pt>
    <dgm:pt modelId="{0546A258-0ABC-4592-AA80-09BF782669DC}" type="parTrans" cxnId="{C7EEEFD7-661C-4BCA-B908-8ECDC15D6B20}">
      <dgm:prSet/>
      <dgm:spPr/>
      <dgm:t>
        <a:bodyPr/>
        <a:lstStyle/>
        <a:p>
          <a:endParaRPr lang="ru-RU"/>
        </a:p>
      </dgm:t>
    </dgm:pt>
    <dgm:pt modelId="{D4C437AF-B66E-4090-9ECE-49D9F604EBD7}" type="sibTrans" cxnId="{C7EEEFD7-661C-4BCA-B908-8ECDC15D6B20}">
      <dgm:prSet/>
      <dgm:spPr/>
      <dgm:t>
        <a:bodyPr/>
        <a:lstStyle/>
        <a:p>
          <a:endParaRPr lang="ru-RU"/>
        </a:p>
      </dgm:t>
    </dgm:pt>
    <dgm:pt modelId="{126F3C30-770A-47D2-8EBA-AEC14998F942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2</a:t>
          </a:r>
          <a:endParaRPr lang="ru-RU" dirty="0"/>
        </a:p>
      </dgm:t>
    </dgm:pt>
    <dgm:pt modelId="{518E5FE8-16BB-41D4-B9A7-0680F7E95E94}" type="parTrans" cxnId="{81E62984-D25B-47F5-B661-385C9E7421CA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BC237786-3C3E-4C08-AF40-A8F626758227}" type="sibTrans" cxnId="{81E62984-D25B-47F5-B661-385C9E7421CA}">
      <dgm:prSet/>
      <dgm:spPr/>
      <dgm:t>
        <a:bodyPr/>
        <a:lstStyle/>
        <a:p>
          <a:endParaRPr lang="ru-RU"/>
        </a:p>
      </dgm:t>
    </dgm:pt>
    <dgm:pt modelId="{12E7684F-3EBC-4716-9C23-03D945545F52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3</a:t>
          </a:r>
          <a:endParaRPr lang="ru-RU" dirty="0"/>
        </a:p>
      </dgm:t>
    </dgm:pt>
    <dgm:pt modelId="{3731FC5F-0773-4AB5-BC1E-E5A501DE1993}" type="parTrans" cxnId="{BCC3F2D2-6707-4866-A9F6-C9C03E7F4487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BFDE502D-EEC1-4C34-B870-C0985C778902}" type="sibTrans" cxnId="{BCC3F2D2-6707-4866-A9F6-C9C03E7F4487}">
      <dgm:prSet/>
      <dgm:spPr/>
      <dgm:t>
        <a:bodyPr/>
        <a:lstStyle/>
        <a:p>
          <a:endParaRPr lang="ru-RU"/>
        </a:p>
      </dgm:t>
    </dgm:pt>
    <dgm:pt modelId="{64CCE1F3-EF43-4E8A-8BBE-C4CAB4EE5139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2</a:t>
          </a:r>
          <a:endParaRPr lang="ru-RU" dirty="0"/>
        </a:p>
      </dgm:t>
    </dgm:pt>
    <dgm:pt modelId="{4B12A5AB-C8EC-4AC2-A31B-A695EB60A104}" type="parTrans" cxnId="{A4B6F66D-21D5-4C7F-9907-AF6815E051FD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4EBFFAF3-F991-4958-B5B0-BE7D7A0E4E14}" type="sibTrans" cxnId="{A4B6F66D-21D5-4C7F-9907-AF6815E051FD}">
      <dgm:prSet/>
      <dgm:spPr/>
      <dgm:t>
        <a:bodyPr/>
        <a:lstStyle/>
        <a:p>
          <a:endParaRPr lang="ru-RU"/>
        </a:p>
      </dgm:t>
    </dgm:pt>
    <dgm:pt modelId="{10109452-8AB3-46B5-B446-5219FAD0F284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r>
            <a:rPr lang="en-US" dirty="0"/>
            <a:t>L3</a:t>
          </a:r>
          <a:endParaRPr lang="ru-RU" dirty="0"/>
        </a:p>
      </dgm:t>
    </dgm:pt>
    <dgm:pt modelId="{97F3311A-CF4D-4CBF-A6DF-914023FAD0EE}" type="parTrans" cxnId="{6F5CE519-C401-4376-8724-551B6D580118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CE7902F9-06AE-402D-928E-109EBCE352A2}" type="sibTrans" cxnId="{6F5CE519-C401-4376-8724-551B6D580118}">
      <dgm:prSet/>
      <dgm:spPr/>
      <dgm:t>
        <a:bodyPr/>
        <a:lstStyle/>
        <a:p>
          <a:endParaRPr lang="ru-RU"/>
        </a:p>
      </dgm:t>
    </dgm:pt>
    <dgm:pt modelId="{1CCF6028-0211-4C9C-9A87-5D249A1C67CB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endParaRPr lang="ru-RU" dirty="0"/>
        </a:p>
      </dgm:t>
    </dgm:pt>
    <dgm:pt modelId="{BA83F7CA-EF27-4A9A-8329-D9347CB8C3D6}" type="parTrans" cxnId="{7735B257-171B-4C4B-98C2-286C4976CA33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7E6F6AF9-BB04-458F-99AA-E2B89CFA41D2}" type="sibTrans" cxnId="{7735B257-171B-4C4B-98C2-286C4976CA33}">
      <dgm:prSet/>
      <dgm:spPr/>
      <dgm:t>
        <a:bodyPr/>
        <a:lstStyle/>
        <a:p>
          <a:endParaRPr lang="ru-RU"/>
        </a:p>
      </dgm:t>
    </dgm:pt>
    <dgm:pt modelId="{EBA20438-A789-4749-8FB1-32DE058A8FE2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endParaRPr lang="ru-RU" dirty="0"/>
        </a:p>
      </dgm:t>
    </dgm:pt>
    <dgm:pt modelId="{E6E26D7A-2A92-414A-937C-F0789E2A305C}" type="parTrans" cxnId="{BAC3C23F-957D-4BAE-AED5-E58E52938EE8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F5E91A75-07EA-4CF6-93A7-B77402AA2871}" type="sibTrans" cxnId="{BAC3C23F-957D-4BAE-AED5-E58E52938EE8}">
      <dgm:prSet/>
      <dgm:spPr/>
      <dgm:t>
        <a:bodyPr/>
        <a:lstStyle/>
        <a:p>
          <a:endParaRPr lang="ru-RU"/>
        </a:p>
      </dgm:t>
    </dgm:pt>
    <dgm:pt modelId="{81BE10BE-E3D0-467D-889B-DFB6ED33CB85}">
      <dgm:prSet phldrT="[Текст]"/>
      <dgm:spPr>
        <a:solidFill>
          <a:schemeClr val="bg2">
            <a:lumMod val="25000"/>
          </a:schemeClr>
        </a:solidFill>
      </dgm:spPr>
      <dgm:t>
        <a:bodyPr/>
        <a:lstStyle/>
        <a:p>
          <a:endParaRPr lang="ru-RU" dirty="0"/>
        </a:p>
      </dgm:t>
    </dgm:pt>
    <dgm:pt modelId="{2A8F21D3-9E32-42EE-AEF9-2DBE56573D69}" type="parTrans" cxnId="{5E6498BB-4C57-4E95-A86B-9549E82B69E6}">
      <dgm:prSet/>
      <dgm:spPr>
        <a:solidFill>
          <a:schemeClr val="bg1">
            <a:lumMod val="65000"/>
          </a:schemeClr>
        </a:solidFill>
        <a:ln w="38100">
          <a:solidFill>
            <a:schemeClr val="bg2">
              <a:lumMod val="25000"/>
            </a:schemeClr>
          </a:solidFill>
        </a:ln>
      </dgm:spPr>
      <dgm:t>
        <a:bodyPr/>
        <a:lstStyle/>
        <a:p>
          <a:endParaRPr lang="ru-RU"/>
        </a:p>
      </dgm:t>
    </dgm:pt>
    <dgm:pt modelId="{2D1C0DC4-E0B0-4FF4-B29C-AADBC87240B1}" type="sibTrans" cxnId="{5E6498BB-4C57-4E95-A86B-9549E82B69E6}">
      <dgm:prSet/>
      <dgm:spPr/>
      <dgm:t>
        <a:bodyPr/>
        <a:lstStyle/>
        <a:p>
          <a:endParaRPr lang="ru-RU"/>
        </a:p>
      </dgm:t>
    </dgm:pt>
    <dgm:pt modelId="{F37FF3E7-002C-4D53-82B1-5D521F2A4043}" type="pres">
      <dgm:prSet presAssocID="{EA33F65B-343F-47D1-864F-F8D86822C178}" presName="mainComposite" presStyleCnt="0">
        <dgm:presLayoutVars>
          <dgm:chPref val="1"/>
          <dgm:dir/>
          <dgm:animOne val="branch"/>
          <dgm:animLvl val="lvl"/>
          <dgm:resizeHandles val="exact"/>
        </dgm:presLayoutVars>
      </dgm:prSet>
      <dgm:spPr/>
    </dgm:pt>
    <dgm:pt modelId="{1344CDA8-7423-4892-A1B1-2A7EC8E3DCD2}" type="pres">
      <dgm:prSet presAssocID="{EA33F65B-343F-47D1-864F-F8D86822C178}" presName="hierFlow" presStyleCnt="0"/>
      <dgm:spPr/>
    </dgm:pt>
    <dgm:pt modelId="{7B9108A9-87F5-408A-96ED-C289D2BE4B15}" type="pres">
      <dgm:prSet presAssocID="{EA33F65B-343F-47D1-864F-F8D86822C178}" presName="hierChild1" presStyleCnt="0">
        <dgm:presLayoutVars>
          <dgm:chPref val="1"/>
          <dgm:animOne val="branch"/>
          <dgm:animLvl val="lvl"/>
        </dgm:presLayoutVars>
      </dgm:prSet>
      <dgm:spPr/>
    </dgm:pt>
    <dgm:pt modelId="{84C77B46-5965-472C-8D8B-F1684DE57DA6}" type="pres">
      <dgm:prSet presAssocID="{50B7E64F-30DC-40A9-8616-047B96816E56}" presName="Name14" presStyleCnt="0"/>
      <dgm:spPr/>
    </dgm:pt>
    <dgm:pt modelId="{FE06460E-9EF1-4190-8B72-1D5C78BDEB1A}" type="pres">
      <dgm:prSet presAssocID="{50B7E64F-30DC-40A9-8616-047B96816E56}" presName="level1Shape" presStyleLbl="node0" presStyleIdx="0" presStyleCnt="1" custScaleX="50027" custScaleY="65517">
        <dgm:presLayoutVars>
          <dgm:chPref val="3"/>
        </dgm:presLayoutVars>
      </dgm:prSet>
      <dgm:spPr/>
    </dgm:pt>
    <dgm:pt modelId="{F94A3EB3-DC89-4789-8FCA-56802F03A31B}" type="pres">
      <dgm:prSet presAssocID="{50B7E64F-30DC-40A9-8616-047B96816E56}" presName="hierChild2" presStyleCnt="0"/>
      <dgm:spPr/>
    </dgm:pt>
    <dgm:pt modelId="{EC70F6A5-BD7B-49ED-9F8F-C85B4E5B99C9}" type="pres">
      <dgm:prSet presAssocID="{518E5FE8-16BB-41D4-B9A7-0680F7E95E94}" presName="Name19" presStyleLbl="parChTrans1D2" presStyleIdx="0" presStyleCnt="3"/>
      <dgm:spPr/>
    </dgm:pt>
    <dgm:pt modelId="{B70D55DB-6EAB-4A3E-97E5-F186CAA11305}" type="pres">
      <dgm:prSet presAssocID="{126F3C30-770A-47D2-8EBA-AEC14998F942}" presName="Name21" presStyleCnt="0"/>
      <dgm:spPr/>
    </dgm:pt>
    <dgm:pt modelId="{BDDD4984-06BE-42F3-8BB0-40499C51FBE4}" type="pres">
      <dgm:prSet presAssocID="{126F3C30-770A-47D2-8EBA-AEC14998F942}" presName="level2Shape" presStyleLbl="node2" presStyleIdx="0" presStyleCnt="3" custScaleX="50027" custScaleY="65517"/>
      <dgm:spPr/>
    </dgm:pt>
    <dgm:pt modelId="{B48C8C1F-C692-417A-AB9B-A15D3B2BAB9A}" type="pres">
      <dgm:prSet presAssocID="{126F3C30-770A-47D2-8EBA-AEC14998F942}" presName="hierChild3" presStyleCnt="0"/>
      <dgm:spPr/>
    </dgm:pt>
    <dgm:pt modelId="{C6FB5F16-8BBC-4DD0-97C7-1ACB7F6EC9B6}" type="pres">
      <dgm:prSet presAssocID="{3731FC5F-0773-4AB5-BC1E-E5A501DE1993}" presName="Name19" presStyleLbl="parChTrans1D3" presStyleIdx="0" presStyleCnt="4"/>
      <dgm:spPr/>
    </dgm:pt>
    <dgm:pt modelId="{DEA49957-9ECE-49BE-8BA3-6F3109D838CF}" type="pres">
      <dgm:prSet presAssocID="{12E7684F-3EBC-4716-9C23-03D945545F52}" presName="Name21" presStyleCnt="0"/>
      <dgm:spPr/>
    </dgm:pt>
    <dgm:pt modelId="{533D0975-0FEA-4C53-B3FE-C9A060D82CCD}" type="pres">
      <dgm:prSet presAssocID="{12E7684F-3EBC-4716-9C23-03D945545F52}" presName="level2Shape" presStyleLbl="node3" presStyleIdx="0" presStyleCnt="4" custScaleX="50027" custScaleY="65517"/>
      <dgm:spPr/>
    </dgm:pt>
    <dgm:pt modelId="{8448D285-D1DA-46D9-BE31-F9AD0D0CFF8F}" type="pres">
      <dgm:prSet presAssocID="{12E7684F-3EBC-4716-9C23-03D945545F52}" presName="hierChild3" presStyleCnt="0"/>
      <dgm:spPr/>
    </dgm:pt>
    <dgm:pt modelId="{DDD98C3B-6D5E-4295-923F-2CB222EAAEF2}" type="pres">
      <dgm:prSet presAssocID="{2A8F21D3-9E32-42EE-AEF9-2DBE56573D69}" presName="Name19" presStyleLbl="parChTrans1D3" presStyleIdx="1" presStyleCnt="4"/>
      <dgm:spPr/>
    </dgm:pt>
    <dgm:pt modelId="{8E1E11D4-6769-42E8-B043-6658D3CC7B69}" type="pres">
      <dgm:prSet presAssocID="{81BE10BE-E3D0-467D-889B-DFB6ED33CB85}" presName="Name21" presStyleCnt="0"/>
      <dgm:spPr/>
    </dgm:pt>
    <dgm:pt modelId="{0A6A2C2C-EF5B-42F0-B583-7EBECA581AAD}" type="pres">
      <dgm:prSet presAssocID="{81BE10BE-E3D0-467D-889B-DFB6ED33CB85}" presName="level2Shape" presStyleLbl="node3" presStyleIdx="1" presStyleCnt="4" custScaleX="50027" custScaleY="65517"/>
      <dgm:spPr/>
    </dgm:pt>
    <dgm:pt modelId="{E15E4EE1-E943-41B1-9A62-6045E873644D}" type="pres">
      <dgm:prSet presAssocID="{81BE10BE-E3D0-467D-889B-DFB6ED33CB85}" presName="hierChild3" presStyleCnt="0"/>
      <dgm:spPr/>
    </dgm:pt>
    <dgm:pt modelId="{5D736F0F-F246-4000-B815-2E8E96761C03}" type="pres">
      <dgm:prSet presAssocID="{E6E26D7A-2A92-414A-937C-F0789E2A305C}" presName="Name19" presStyleLbl="parChTrans1D2" presStyleIdx="1" presStyleCnt="3"/>
      <dgm:spPr/>
    </dgm:pt>
    <dgm:pt modelId="{594FAF13-EB48-47DD-BFB7-B94919605812}" type="pres">
      <dgm:prSet presAssocID="{EBA20438-A789-4749-8FB1-32DE058A8FE2}" presName="Name21" presStyleCnt="0"/>
      <dgm:spPr/>
    </dgm:pt>
    <dgm:pt modelId="{6373253D-0C44-4D1F-92AC-2F0824EFE8AF}" type="pres">
      <dgm:prSet presAssocID="{EBA20438-A789-4749-8FB1-32DE058A8FE2}" presName="level2Shape" presStyleLbl="node2" presStyleIdx="1" presStyleCnt="3" custScaleX="50027" custScaleY="65517"/>
      <dgm:spPr/>
    </dgm:pt>
    <dgm:pt modelId="{DB492DD5-848C-4A57-9792-708CB5B7FF47}" type="pres">
      <dgm:prSet presAssocID="{EBA20438-A789-4749-8FB1-32DE058A8FE2}" presName="hierChild3" presStyleCnt="0"/>
      <dgm:spPr/>
    </dgm:pt>
    <dgm:pt modelId="{1470B4D7-4EDD-4CA4-813C-C7330DBB1DB4}" type="pres">
      <dgm:prSet presAssocID="{4B12A5AB-C8EC-4AC2-A31B-A695EB60A104}" presName="Name19" presStyleLbl="parChTrans1D2" presStyleIdx="2" presStyleCnt="3"/>
      <dgm:spPr/>
    </dgm:pt>
    <dgm:pt modelId="{75262B48-7BE0-4924-A3BE-47A9BE490148}" type="pres">
      <dgm:prSet presAssocID="{64CCE1F3-EF43-4E8A-8BBE-C4CAB4EE5139}" presName="Name21" presStyleCnt="0"/>
      <dgm:spPr/>
    </dgm:pt>
    <dgm:pt modelId="{54A9FCDD-0246-4AF1-BA6A-86E2E0D1C324}" type="pres">
      <dgm:prSet presAssocID="{64CCE1F3-EF43-4E8A-8BBE-C4CAB4EE5139}" presName="level2Shape" presStyleLbl="node2" presStyleIdx="2" presStyleCnt="3" custScaleX="50027" custScaleY="65517"/>
      <dgm:spPr/>
    </dgm:pt>
    <dgm:pt modelId="{F532A663-A38B-40FA-81AD-CFCC5DB72468}" type="pres">
      <dgm:prSet presAssocID="{64CCE1F3-EF43-4E8A-8BBE-C4CAB4EE5139}" presName="hierChild3" presStyleCnt="0"/>
      <dgm:spPr/>
    </dgm:pt>
    <dgm:pt modelId="{FB52B44F-10D8-41C2-8D66-AB4F5AF04A28}" type="pres">
      <dgm:prSet presAssocID="{97F3311A-CF4D-4CBF-A6DF-914023FAD0EE}" presName="Name19" presStyleLbl="parChTrans1D3" presStyleIdx="2" presStyleCnt="4"/>
      <dgm:spPr/>
    </dgm:pt>
    <dgm:pt modelId="{39F28F5B-3FB5-45FE-B006-ABC2A33B4F66}" type="pres">
      <dgm:prSet presAssocID="{10109452-8AB3-46B5-B446-5219FAD0F284}" presName="Name21" presStyleCnt="0"/>
      <dgm:spPr/>
    </dgm:pt>
    <dgm:pt modelId="{E34670EC-61B7-4421-BBEE-6069A7C7D7D5}" type="pres">
      <dgm:prSet presAssocID="{10109452-8AB3-46B5-B446-5219FAD0F284}" presName="level2Shape" presStyleLbl="node3" presStyleIdx="2" presStyleCnt="4" custScaleX="50027" custScaleY="65517"/>
      <dgm:spPr/>
    </dgm:pt>
    <dgm:pt modelId="{E001B547-EE6F-433E-B7FE-A3F1E7C9172F}" type="pres">
      <dgm:prSet presAssocID="{10109452-8AB3-46B5-B446-5219FAD0F284}" presName="hierChild3" presStyleCnt="0"/>
      <dgm:spPr/>
    </dgm:pt>
    <dgm:pt modelId="{949AFDF6-2337-4102-AB5B-7D0FA001D186}" type="pres">
      <dgm:prSet presAssocID="{BA83F7CA-EF27-4A9A-8329-D9347CB8C3D6}" presName="Name19" presStyleLbl="parChTrans1D3" presStyleIdx="3" presStyleCnt="4"/>
      <dgm:spPr/>
    </dgm:pt>
    <dgm:pt modelId="{927C4C1D-C8AF-425F-AE37-0F3FE14A2E25}" type="pres">
      <dgm:prSet presAssocID="{1CCF6028-0211-4C9C-9A87-5D249A1C67CB}" presName="Name21" presStyleCnt="0"/>
      <dgm:spPr/>
    </dgm:pt>
    <dgm:pt modelId="{540B044A-995E-449E-9EC3-CF5C0CD1CE41}" type="pres">
      <dgm:prSet presAssocID="{1CCF6028-0211-4C9C-9A87-5D249A1C67CB}" presName="level2Shape" presStyleLbl="node3" presStyleIdx="3" presStyleCnt="4" custScaleX="50027" custScaleY="65517"/>
      <dgm:spPr/>
    </dgm:pt>
    <dgm:pt modelId="{1DFBE0B0-54D0-43A5-9CEB-958A61C0E386}" type="pres">
      <dgm:prSet presAssocID="{1CCF6028-0211-4C9C-9A87-5D249A1C67CB}" presName="hierChild3" presStyleCnt="0"/>
      <dgm:spPr/>
    </dgm:pt>
    <dgm:pt modelId="{5EA8D59D-DF34-4A72-B696-30148B813A9C}" type="pres">
      <dgm:prSet presAssocID="{EA33F65B-343F-47D1-864F-F8D86822C178}" presName="bgShapesFlow" presStyleCnt="0"/>
      <dgm:spPr/>
    </dgm:pt>
  </dgm:ptLst>
  <dgm:cxnLst>
    <dgm:cxn modelId="{4FE57611-9E6B-4960-B011-D16C3E365436}" type="presOf" srcId="{2A8F21D3-9E32-42EE-AEF9-2DBE56573D69}" destId="{DDD98C3B-6D5E-4295-923F-2CB222EAAEF2}" srcOrd="0" destOrd="0" presId="urn:microsoft.com/office/officeart/2005/8/layout/hierarchy6"/>
    <dgm:cxn modelId="{6F5CE519-C401-4376-8724-551B6D580118}" srcId="{64CCE1F3-EF43-4E8A-8BBE-C4CAB4EE5139}" destId="{10109452-8AB3-46B5-B446-5219FAD0F284}" srcOrd="0" destOrd="0" parTransId="{97F3311A-CF4D-4CBF-A6DF-914023FAD0EE}" sibTransId="{CE7902F9-06AE-402D-928E-109EBCE352A2}"/>
    <dgm:cxn modelId="{91FE991F-D0B2-401B-9EE6-D38EF593D770}" type="presOf" srcId="{81BE10BE-E3D0-467D-889B-DFB6ED33CB85}" destId="{0A6A2C2C-EF5B-42F0-B583-7EBECA581AAD}" srcOrd="0" destOrd="0" presId="urn:microsoft.com/office/officeart/2005/8/layout/hierarchy6"/>
    <dgm:cxn modelId="{BA4B1E3A-5FF3-4FA7-B064-989531F4F6BD}" type="presOf" srcId="{1CCF6028-0211-4C9C-9A87-5D249A1C67CB}" destId="{540B044A-995E-449E-9EC3-CF5C0CD1CE41}" srcOrd="0" destOrd="0" presId="urn:microsoft.com/office/officeart/2005/8/layout/hierarchy6"/>
    <dgm:cxn modelId="{BAC3C23F-957D-4BAE-AED5-E58E52938EE8}" srcId="{50B7E64F-30DC-40A9-8616-047B96816E56}" destId="{EBA20438-A789-4749-8FB1-32DE058A8FE2}" srcOrd="1" destOrd="0" parTransId="{E6E26D7A-2A92-414A-937C-F0789E2A305C}" sibTransId="{F5E91A75-07EA-4CF6-93A7-B77402AA2871}"/>
    <dgm:cxn modelId="{5232EE5D-119F-4EFD-9957-6F9A615A0093}" type="presOf" srcId="{BA83F7CA-EF27-4A9A-8329-D9347CB8C3D6}" destId="{949AFDF6-2337-4102-AB5B-7D0FA001D186}" srcOrd="0" destOrd="0" presId="urn:microsoft.com/office/officeart/2005/8/layout/hierarchy6"/>
    <dgm:cxn modelId="{8EF65F5E-73AF-43C2-B7F4-24B9398D39E7}" type="presOf" srcId="{4B12A5AB-C8EC-4AC2-A31B-A695EB60A104}" destId="{1470B4D7-4EDD-4CA4-813C-C7330DBB1DB4}" srcOrd="0" destOrd="0" presId="urn:microsoft.com/office/officeart/2005/8/layout/hierarchy6"/>
    <dgm:cxn modelId="{A4B6F66D-21D5-4C7F-9907-AF6815E051FD}" srcId="{50B7E64F-30DC-40A9-8616-047B96816E56}" destId="{64CCE1F3-EF43-4E8A-8BBE-C4CAB4EE5139}" srcOrd="2" destOrd="0" parTransId="{4B12A5AB-C8EC-4AC2-A31B-A695EB60A104}" sibTransId="{4EBFFAF3-F991-4958-B5B0-BE7D7A0E4E14}"/>
    <dgm:cxn modelId="{7735B257-171B-4C4B-98C2-286C4976CA33}" srcId="{64CCE1F3-EF43-4E8A-8BBE-C4CAB4EE5139}" destId="{1CCF6028-0211-4C9C-9A87-5D249A1C67CB}" srcOrd="1" destOrd="0" parTransId="{BA83F7CA-EF27-4A9A-8329-D9347CB8C3D6}" sibTransId="{7E6F6AF9-BB04-458F-99AA-E2B89CFA41D2}"/>
    <dgm:cxn modelId="{3EB6C681-FA2B-410C-9AEF-47E43B58CC34}" type="presOf" srcId="{EA33F65B-343F-47D1-864F-F8D86822C178}" destId="{F37FF3E7-002C-4D53-82B1-5D521F2A4043}" srcOrd="0" destOrd="0" presId="urn:microsoft.com/office/officeart/2005/8/layout/hierarchy6"/>
    <dgm:cxn modelId="{91FC8883-0A36-45D7-832A-A73A6E51AA5C}" type="presOf" srcId="{518E5FE8-16BB-41D4-B9A7-0680F7E95E94}" destId="{EC70F6A5-BD7B-49ED-9F8F-C85B4E5B99C9}" srcOrd="0" destOrd="0" presId="urn:microsoft.com/office/officeart/2005/8/layout/hierarchy6"/>
    <dgm:cxn modelId="{81E62984-D25B-47F5-B661-385C9E7421CA}" srcId="{50B7E64F-30DC-40A9-8616-047B96816E56}" destId="{126F3C30-770A-47D2-8EBA-AEC14998F942}" srcOrd="0" destOrd="0" parTransId="{518E5FE8-16BB-41D4-B9A7-0680F7E95E94}" sibTransId="{BC237786-3C3E-4C08-AF40-A8F626758227}"/>
    <dgm:cxn modelId="{7E920E91-2224-4949-885A-C3A3D74092BD}" type="presOf" srcId="{10109452-8AB3-46B5-B446-5219FAD0F284}" destId="{E34670EC-61B7-4421-BBEE-6069A7C7D7D5}" srcOrd="0" destOrd="0" presId="urn:microsoft.com/office/officeart/2005/8/layout/hierarchy6"/>
    <dgm:cxn modelId="{E9C45493-7F45-4151-9A47-DF5EA17447AD}" type="presOf" srcId="{E6E26D7A-2A92-414A-937C-F0789E2A305C}" destId="{5D736F0F-F246-4000-B815-2E8E96761C03}" srcOrd="0" destOrd="0" presId="urn:microsoft.com/office/officeart/2005/8/layout/hierarchy6"/>
    <dgm:cxn modelId="{21FAAD95-17CF-44A9-97E4-7618F8509BD4}" type="presOf" srcId="{EBA20438-A789-4749-8FB1-32DE058A8FE2}" destId="{6373253D-0C44-4D1F-92AC-2F0824EFE8AF}" srcOrd="0" destOrd="0" presId="urn:microsoft.com/office/officeart/2005/8/layout/hierarchy6"/>
    <dgm:cxn modelId="{F8D311A2-246F-40A6-89CE-377C5240F9AB}" type="presOf" srcId="{97F3311A-CF4D-4CBF-A6DF-914023FAD0EE}" destId="{FB52B44F-10D8-41C2-8D66-AB4F5AF04A28}" srcOrd="0" destOrd="0" presId="urn:microsoft.com/office/officeart/2005/8/layout/hierarchy6"/>
    <dgm:cxn modelId="{0EA776A6-6C91-45EF-9EA9-CFE94527EC5B}" type="presOf" srcId="{3731FC5F-0773-4AB5-BC1E-E5A501DE1993}" destId="{C6FB5F16-8BBC-4DD0-97C7-1ACB7F6EC9B6}" srcOrd="0" destOrd="0" presId="urn:microsoft.com/office/officeart/2005/8/layout/hierarchy6"/>
    <dgm:cxn modelId="{7E1A8CB0-B3AC-4C52-98F1-D26634F02F51}" type="presOf" srcId="{50B7E64F-30DC-40A9-8616-047B96816E56}" destId="{FE06460E-9EF1-4190-8B72-1D5C78BDEB1A}" srcOrd="0" destOrd="0" presId="urn:microsoft.com/office/officeart/2005/8/layout/hierarchy6"/>
    <dgm:cxn modelId="{0960EEB7-2916-4171-A541-00072C86D85A}" type="presOf" srcId="{64CCE1F3-EF43-4E8A-8BBE-C4CAB4EE5139}" destId="{54A9FCDD-0246-4AF1-BA6A-86E2E0D1C324}" srcOrd="0" destOrd="0" presId="urn:microsoft.com/office/officeart/2005/8/layout/hierarchy6"/>
    <dgm:cxn modelId="{5E6498BB-4C57-4E95-A86B-9549E82B69E6}" srcId="{126F3C30-770A-47D2-8EBA-AEC14998F942}" destId="{81BE10BE-E3D0-467D-889B-DFB6ED33CB85}" srcOrd="1" destOrd="0" parTransId="{2A8F21D3-9E32-42EE-AEF9-2DBE56573D69}" sibTransId="{2D1C0DC4-E0B0-4FF4-B29C-AADBC87240B1}"/>
    <dgm:cxn modelId="{0FC20EBE-03F8-4657-A56C-87B1BE4D8F96}" type="presOf" srcId="{126F3C30-770A-47D2-8EBA-AEC14998F942}" destId="{BDDD4984-06BE-42F3-8BB0-40499C51FBE4}" srcOrd="0" destOrd="0" presId="urn:microsoft.com/office/officeart/2005/8/layout/hierarchy6"/>
    <dgm:cxn modelId="{BCC3F2D2-6707-4866-A9F6-C9C03E7F4487}" srcId="{126F3C30-770A-47D2-8EBA-AEC14998F942}" destId="{12E7684F-3EBC-4716-9C23-03D945545F52}" srcOrd="0" destOrd="0" parTransId="{3731FC5F-0773-4AB5-BC1E-E5A501DE1993}" sibTransId="{BFDE502D-EEC1-4C34-B870-C0985C778902}"/>
    <dgm:cxn modelId="{C7EEEFD7-661C-4BCA-B908-8ECDC15D6B20}" srcId="{EA33F65B-343F-47D1-864F-F8D86822C178}" destId="{50B7E64F-30DC-40A9-8616-047B96816E56}" srcOrd="0" destOrd="0" parTransId="{0546A258-0ABC-4592-AA80-09BF782669DC}" sibTransId="{D4C437AF-B66E-4090-9ECE-49D9F604EBD7}"/>
    <dgm:cxn modelId="{CE0D79EE-F275-4DFB-8418-8058A4F55050}" type="presOf" srcId="{12E7684F-3EBC-4716-9C23-03D945545F52}" destId="{533D0975-0FEA-4C53-B3FE-C9A060D82CCD}" srcOrd="0" destOrd="0" presId="urn:microsoft.com/office/officeart/2005/8/layout/hierarchy6"/>
    <dgm:cxn modelId="{1B6FD403-CEA1-49C1-892E-13DCA4EDC69D}" type="presParOf" srcId="{F37FF3E7-002C-4D53-82B1-5D521F2A4043}" destId="{1344CDA8-7423-4892-A1B1-2A7EC8E3DCD2}" srcOrd="0" destOrd="0" presId="urn:microsoft.com/office/officeart/2005/8/layout/hierarchy6"/>
    <dgm:cxn modelId="{C8279A0E-A34F-44AD-8401-DBEF1D2CBADA}" type="presParOf" srcId="{1344CDA8-7423-4892-A1B1-2A7EC8E3DCD2}" destId="{7B9108A9-87F5-408A-96ED-C289D2BE4B15}" srcOrd="0" destOrd="0" presId="urn:microsoft.com/office/officeart/2005/8/layout/hierarchy6"/>
    <dgm:cxn modelId="{76C933D1-FAAC-4DB5-A925-D86B0AABE347}" type="presParOf" srcId="{7B9108A9-87F5-408A-96ED-C289D2BE4B15}" destId="{84C77B46-5965-472C-8D8B-F1684DE57DA6}" srcOrd="0" destOrd="0" presId="urn:microsoft.com/office/officeart/2005/8/layout/hierarchy6"/>
    <dgm:cxn modelId="{EC770ABE-8C3A-44AD-BA23-866ABE4A1130}" type="presParOf" srcId="{84C77B46-5965-472C-8D8B-F1684DE57DA6}" destId="{FE06460E-9EF1-4190-8B72-1D5C78BDEB1A}" srcOrd="0" destOrd="0" presId="urn:microsoft.com/office/officeart/2005/8/layout/hierarchy6"/>
    <dgm:cxn modelId="{42F64036-BDBE-4C51-8E1A-BB69674FDA2B}" type="presParOf" srcId="{84C77B46-5965-472C-8D8B-F1684DE57DA6}" destId="{F94A3EB3-DC89-4789-8FCA-56802F03A31B}" srcOrd="1" destOrd="0" presId="urn:microsoft.com/office/officeart/2005/8/layout/hierarchy6"/>
    <dgm:cxn modelId="{842CE4AE-E5E9-4D23-A129-3DBDCD20CB50}" type="presParOf" srcId="{F94A3EB3-DC89-4789-8FCA-56802F03A31B}" destId="{EC70F6A5-BD7B-49ED-9F8F-C85B4E5B99C9}" srcOrd="0" destOrd="0" presId="urn:microsoft.com/office/officeart/2005/8/layout/hierarchy6"/>
    <dgm:cxn modelId="{B15CA90E-90B4-46AB-A994-68A6EAF6CEBA}" type="presParOf" srcId="{F94A3EB3-DC89-4789-8FCA-56802F03A31B}" destId="{B70D55DB-6EAB-4A3E-97E5-F186CAA11305}" srcOrd="1" destOrd="0" presId="urn:microsoft.com/office/officeart/2005/8/layout/hierarchy6"/>
    <dgm:cxn modelId="{753DE3F3-902B-49E1-884F-EE290F2CB698}" type="presParOf" srcId="{B70D55DB-6EAB-4A3E-97E5-F186CAA11305}" destId="{BDDD4984-06BE-42F3-8BB0-40499C51FBE4}" srcOrd="0" destOrd="0" presId="urn:microsoft.com/office/officeart/2005/8/layout/hierarchy6"/>
    <dgm:cxn modelId="{47523BD1-9509-4D01-878E-2EF45435F6F1}" type="presParOf" srcId="{B70D55DB-6EAB-4A3E-97E5-F186CAA11305}" destId="{B48C8C1F-C692-417A-AB9B-A15D3B2BAB9A}" srcOrd="1" destOrd="0" presId="urn:microsoft.com/office/officeart/2005/8/layout/hierarchy6"/>
    <dgm:cxn modelId="{8B54C4B5-085D-4D20-B470-4B9750AA73DC}" type="presParOf" srcId="{B48C8C1F-C692-417A-AB9B-A15D3B2BAB9A}" destId="{C6FB5F16-8BBC-4DD0-97C7-1ACB7F6EC9B6}" srcOrd="0" destOrd="0" presId="urn:microsoft.com/office/officeart/2005/8/layout/hierarchy6"/>
    <dgm:cxn modelId="{7EE33837-A3EA-4036-AAE6-1995BF626C36}" type="presParOf" srcId="{B48C8C1F-C692-417A-AB9B-A15D3B2BAB9A}" destId="{DEA49957-9ECE-49BE-8BA3-6F3109D838CF}" srcOrd="1" destOrd="0" presId="urn:microsoft.com/office/officeart/2005/8/layout/hierarchy6"/>
    <dgm:cxn modelId="{33A954AA-2DC8-40CA-BBC3-50BCC562A5DA}" type="presParOf" srcId="{DEA49957-9ECE-49BE-8BA3-6F3109D838CF}" destId="{533D0975-0FEA-4C53-B3FE-C9A060D82CCD}" srcOrd="0" destOrd="0" presId="urn:microsoft.com/office/officeart/2005/8/layout/hierarchy6"/>
    <dgm:cxn modelId="{AFBC68CA-323B-48F3-BB2E-8EFC40550BA0}" type="presParOf" srcId="{DEA49957-9ECE-49BE-8BA3-6F3109D838CF}" destId="{8448D285-D1DA-46D9-BE31-F9AD0D0CFF8F}" srcOrd="1" destOrd="0" presId="urn:microsoft.com/office/officeart/2005/8/layout/hierarchy6"/>
    <dgm:cxn modelId="{EB2582A1-4A51-4754-8819-581A0A3269A3}" type="presParOf" srcId="{B48C8C1F-C692-417A-AB9B-A15D3B2BAB9A}" destId="{DDD98C3B-6D5E-4295-923F-2CB222EAAEF2}" srcOrd="2" destOrd="0" presId="urn:microsoft.com/office/officeart/2005/8/layout/hierarchy6"/>
    <dgm:cxn modelId="{5DB39319-A773-442F-9CB3-4EFAA35672A0}" type="presParOf" srcId="{B48C8C1F-C692-417A-AB9B-A15D3B2BAB9A}" destId="{8E1E11D4-6769-42E8-B043-6658D3CC7B69}" srcOrd="3" destOrd="0" presId="urn:microsoft.com/office/officeart/2005/8/layout/hierarchy6"/>
    <dgm:cxn modelId="{74796A9B-DCF4-490D-AD58-CCD7A8ECD747}" type="presParOf" srcId="{8E1E11D4-6769-42E8-B043-6658D3CC7B69}" destId="{0A6A2C2C-EF5B-42F0-B583-7EBECA581AAD}" srcOrd="0" destOrd="0" presId="urn:microsoft.com/office/officeart/2005/8/layout/hierarchy6"/>
    <dgm:cxn modelId="{BCA9A660-DDDD-49A0-9798-1891B8675B76}" type="presParOf" srcId="{8E1E11D4-6769-42E8-B043-6658D3CC7B69}" destId="{E15E4EE1-E943-41B1-9A62-6045E873644D}" srcOrd="1" destOrd="0" presId="urn:microsoft.com/office/officeart/2005/8/layout/hierarchy6"/>
    <dgm:cxn modelId="{7D56F676-A60C-43ED-BC02-BE56F7AE89F0}" type="presParOf" srcId="{F94A3EB3-DC89-4789-8FCA-56802F03A31B}" destId="{5D736F0F-F246-4000-B815-2E8E96761C03}" srcOrd="2" destOrd="0" presId="urn:microsoft.com/office/officeart/2005/8/layout/hierarchy6"/>
    <dgm:cxn modelId="{0BFED776-039F-41ED-A2C7-14AB66DB4892}" type="presParOf" srcId="{F94A3EB3-DC89-4789-8FCA-56802F03A31B}" destId="{594FAF13-EB48-47DD-BFB7-B94919605812}" srcOrd="3" destOrd="0" presId="urn:microsoft.com/office/officeart/2005/8/layout/hierarchy6"/>
    <dgm:cxn modelId="{0F606D6A-C414-4408-A78A-C4DCF730492F}" type="presParOf" srcId="{594FAF13-EB48-47DD-BFB7-B94919605812}" destId="{6373253D-0C44-4D1F-92AC-2F0824EFE8AF}" srcOrd="0" destOrd="0" presId="urn:microsoft.com/office/officeart/2005/8/layout/hierarchy6"/>
    <dgm:cxn modelId="{403B6AF8-3955-451E-9100-08D466DBB11D}" type="presParOf" srcId="{594FAF13-EB48-47DD-BFB7-B94919605812}" destId="{DB492DD5-848C-4A57-9792-708CB5B7FF47}" srcOrd="1" destOrd="0" presId="urn:microsoft.com/office/officeart/2005/8/layout/hierarchy6"/>
    <dgm:cxn modelId="{CAC8FCF6-C0BC-4B55-8779-379DA2B39A9E}" type="presParOf" srcId="{F94A3EB3-DC89-4789-8FCA-56802F03A31B}" destId="{1470B4D7-4EDD-4CA4-813C-C7330DBB1DB4}" srcOrd="4" destOrd="0" presId="urn:microsoft.com/office/officeart/2005/8/layout/hierarchy6"/>
    <dgm:cxn modelId="{73FEAA89-BF21-4F8C-8514-6C1D90B2F761}" type="presParOf" srcId="{F94A3EB3-DC89-4789-8FCA-56802F03A31B}" destId="{75262B48-7BE0-4924-A3BE-47A9BE490148}" srcOrd="5" destOrd="0" presId="urn:microsoft.com/office/officeart/2005/8/layout/hierarchy6"/>
    <dgm:cxn modelId="{5FB39DBA-5E86-4367-9B8E-7111C3610436}" type="presParOf" srcId="{75262B48-7BE0-4924-A3BE-47A9BE490148}" destId="{54A9FCDD-0246-4AF1-BA6A-86E2E0D1C324}" srcOrd="0" destOrd="0" presId="urn:microsoft.com/office/officeart/2005/8/layout/hierarchy6"/>
    <dgm:cxn modelId="{CD37E05C-1138-4D0D-B9DE-27B2155D51BB}" type="presParOf" srcId="{75262B48-7BE0-4924-A3BE-47A9BE490148}" destId="{F532A663-A38B-40FA-81AD-CFCC5DB72468}" srcOrd="1" destOrd="0" presId="urn:microsoft.com/office/officeart/2005/8/layout/hierarchy6"/>
    <dgm:cxn modelId="{C5A71907-9CAB-4B49-BD8F-3AD77508A917}" type="presParOf" srcId="{F532A663-A38B-40FA-81AD-CFCC5DB72468}" destId="{FB52B44F-10D8-41C2-8D66-AB4F5AF04A28}" srcOrd="0" destOrd="0" presId="urn:microsoft.com/office/officeart/2005/8/layout/hierarchy6"/>
    <dgm:cxn modelId="{B557E04A-2C1F-4C77-BC8F-64A21D74FE19}" type="presParOf" srcId="{F532A663-A38B-40FA-81AD-CFCC5DB72468}" destId="{39F28F5B-3FB5-45FE-B006-ABC2A33B4F66}" srcOrd="1" destOrd="0" presId="urn:microsoft.com/office/officeart/2005/8/layout/hierarchy6"/>
    <dgm:cxn modelId="{39785018-9F73-4102-BEF1-7F26FC133C3D}" type="presParOf" srcId="{39F28F5B-3FB5-45FE-B006-ABC2A33B4F66}" destId="{E34670EC-61B7-4421-BBEE-6069A7C7D7D5}" srcOrd="0" destOrd="0" presId="urn:microsoft.com/office/officeart/2005/8/layout/hierarchy6"/>
    <dgm:cxn modelId="{4F259C40-ACB1-45DD-8D4E-9560BC0D4862}" type="presParOf" srcId="{39F28F5B-3FB5-45FE-B006-ABC2A33B4F66}" destId="{E001B547-EE6F-433E-B7FE-A3F1E7C9172F}" srcOrd="1" destOrd="0" presId="urn:microsoft.com/office/officeart/2005/8/layout/hierarchy6"/>
    <dgm:cxn modelId="{970CB38B-7A85-4566-B926-B11FA11D3D45}" type="presParOf" srcId="{F532A663-A38B-40FA-81AD-CFCC5DB72468}" destId="{949AFDF6-2337-4102-AB5B-7D0FA001D186}" srcOrd="2" destOrd="0" presId="urn:microsoft.com/office/officeart/2005/8/layout/hierarchy6"/>
    <dgm:cxn modelId="{01198FE8-C99E-4B97-A7A4-187DCB3A5BA2}" type="presParOf" srcId="{F532A663-A38B-40FA-81AD-CFCC5DB72468}" destId="{927C4C1D-C8AF-425F-AE37-0F3FE14A2E25}" srcOrd="3" destOrd="0" presId="urn:microsoft.com/office/officeart/2005/8/layout/hierarchy6"/>
    <dgm:cxn modelId="{8BB94968-0CF5-464B-9297-FBC026E0F67F}" type="presParOf" srcId="{927C4C1D-C8AF-425F-AE37-0F3FE14A2E25}" destId="{540B044A-995E-449E-9EC3-CF5C0CD1CE41}" srcOrd="0" destOrd="0" presId="urn:microsoft.com/office/officeart/2005/8/layout/hierarchy6"/>
    <dgm:cxn modelId="{74A6E083-C85A-4787-98B5-2373FB7BD10C}" type="presParOf" srcId="{927C4C1D-C8AF-425F-AE37-0F3FE14A2E25}" destId="{1DFBE0B0-54D0-43A5-9CEB-958A61C0E386}" srcOrd="1" destOrd="0" presId="urn:microsoft.com/office/officeart/2005/8/layout/hierarchy6"/>
    <dgm:cxn modelId="{A83777D3-DC4A-4121-9216-1BB4A63539EC}" type="presParOf" srcId="{F37FF3E7-002C-4D53-82B1-5D521F2A4043}" destId="{5EA8D59D-DF34-4A72-B696-30148B813A9C}" srcOrd="1" destOrd="0" presId="urn:microsoft.com/office/officeart/2005/8/layout/hierarchy6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3AFA7D1A-B816-4A2C-B624-53409C96990C}" type="doc">
      <dgm:prSet loTypeId="urn:microsoft.com/office/officeart/2009/3/layout/HorizontalOrganizationChart" loCatId="hierarchy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972DA19A-F0DE-4195-88C2-A8497AFFBB49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4">
            <a:lumMod val="40000"/>
            <a:lumOff val="60000"/>
          </a:schemeClr>
        </a:solidFill>
        <a:ln/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1_NA Russia</a:t>
          </a:r>
          <a:endParaRPr lang="ru-RU" sz="1400" dirty="0">
            <a:solidFill>
              <a:schemeClr val="tx1">
                <a:lumMod val="65000"/>
                <a:lumOff val="35000"/>
              </a:schemeClr>
            </a:solidFill>
          </a:endParaRPr>
        </a:p>
      </dgm:t>
    </dgm:pt>
    <dgm:pt modelId="{A36F6D0F-175F-4210-86C8-149F888E2F29}" type="parTrans" cxnId="{4402C45F-CE53-4309-81AC-FF8D605C18C2}">
      <dgm:prSet/>
      <dgm:spPr/>
      <dgm:t>
        <a:bodyPr/>
        <a:lstStyle/>
        <a:p>
          <a:endParaRPr lang="ru-RU"/>
        </a:p>
      </dgm:t>
    </dgm:pt>
    <dgm:pt modelId="{136D3CF0-3710-4424-9229-50AC1C297242}" type="sibTrans" cxnId="{4402C45F-CE53-4309-81AC-FF8D605C18C2}">
      <dgm:prSet/>
      <dgm:spPr/>
      <dgm:t>
        <a:bodyPr/>
        <a:lstStyle/>
        <a:p>
          <a:endParaRPr lang="ru-RU"/>
        </a:p>
      </dgm:t>
    </dgm:pt>
    <dgm:pt modelId="{EA880E04-556C-4124-B3D5-823E47CCAA61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  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</a:t>
          </a:r>
        </a:p>
      </dgm:t>
    </dgm:pt>
    <dgm:pt modelId="{FF2A1DA1-7764-4E8A-A360-3739D97E9671}" type="parTrans" cxnId="{1F0DACC1-43D3-4894-8777-E12AB02E85F8}">
      <dgm:prSet/>
      <dgm:spPr>
        <a:ln>
          <a:solidFill>
            <a:srgbClr val="92D050"/>
          </a:solidFill>
        </a:ln>
      </dgm:spPr>
      <dgm:t>
        <a:bodyPr/>
        <a:lstStyle/>
        <a:p>
          <a:endParaRPr lang="ru-RU"/>
        </a:p>
      </dgm:t>
    </dgm:pt>
    <dgm:pt modelId="{8ACFF5CB-4365-42D3-93FF-DF058CC657BA}" type="sibTrans" cxnId="{1F0DACC1-43D3-4894-8777-E12AB02E85F8}">
      <dgm:prSet/>
      <dgm:spPr/>
      <dgm:t>
        <a:bodyPr/>
        <a:lstStyle/>
        <a:p>
          <a:endParaRPr lang="ru-RU"/>
        </a:p>
      </dgm:t>
    </dgm:pt>
    <dgm:pt modelId="{E7A627DF-6D2B-4778-BD7A-F778BB44CED0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Merch_PO1</a:t>
          </a:r>
        </a:p>
      </dgm:t>
    </dgm:pt>
    <dgm:pt modelId="{5BED418B-1B2E-433C-A624-6C1BA48AE663}" type="parTrans" cxnId="{FA290174-2F69-4E53-AF07-76B1A340E51E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55C9D17A-5D9D-46D8-8C6A-EE1235EE9D24}" type="sibTrans" cxnId="{FA290174-2F69-4E53-AF07-76B1A340E51E}">
      <dgm:prSet/>
      <dgm:spPr/>
      <dgm:t>
        <a:bodyPr/>
        <a:lstStyle/>
        <a:p>
          <a:endParaRPr lang="ru-RU"/>
        </a:p>
      </dgm:t>
    </dgm:pt>
    <dgm:pt modelId="{5ECC2158-CF7A-49C1-9A35-43F935650F5A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 err="1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TSRussia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_</a:t>
          </a:r>
        </a:p>
      </dgm:t>
    </dgm:pt>
    <dgm:pt modelId="{2E8C6C63-37EC-4B88-8BA5-B856AC47FE99}" type="parTrans" cxnId="{F29BA758-9577-4732-BC74-F5BD8188EF06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C90B9B63-EBB3-4A44-ACB1-F1C4BE5F0862}" type="sibTrans" cxnId="{F29BA758-9577-4732-BC74-F5BD8188EF06}">
      <dgm:prSet/>
      <dgm:spPr/>
      <dgm:t>
        <a:bodyPr/>
        <a:lstStyle/>
        <a:p>
          <a:endParaRPr lang="ru-RU"/>
        </a:p>
      </dgm:t>
    </dgm:pt>
    <dgm:pt modelId="{0EFE5C18-65C3-4CB6-B9EE-D8105DC470B0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 WBD</a:t>
          </a:r>
        </a:p>
      </dgm:t>
    </dgm:pt>
    <dgm:pt modelId="{809231D3-BA59-4F84-9324-2C3E370A8D3A}" type="parTrans" cxnId="{9DF533C1-BFDF-4435-BEE9-58F4ED57FD41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F571617C-0E59-4F0A-90AC-CEC4E110450A}" type="sibTrans" cxnId="{9DF533C1-BFDF-4435-BEE9-58F4ED57FD41}">
      <dgm:prSet/>
      <dgm:spPr/>
      <dgm:t>
        <a:bodyPr/>
        <a:lstStyle/>
        <a:p>
          <a:endParaRPr lang="ru-RU"/>
        </a:p>
      </dgm:t>
    </dgm:pt>
    <dgm:pt modelId="{FE8B25AA-CDF0-4CAF-AC8E-90CED9C7CEE8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pt-BR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pt-BR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Special Project</a:t>
          </a:r>
          <a:endParaRPr lang="en-US" sz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0D389D96-1ECE-4650-8CDA-913518FB6DC0}" type="parTrans" cxnId="{81C5FB29-9177-4852-96A2-97041DE46CBA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D15818B5-7258-4A54-83E9-48E28C382AA8}" type="sibTrans" cxnId="{81C5FB29-9177-4852-96A2-97041DE46CBA}">
      <dgm:prSet/>
      <dgm:spPr/>
      <dgm:t>
        <a:bodyPr/>
        <a:lstStyle/>
        <a:p>
          <a:endParaRPr lang="ru-RU"/>
        </a:p>
      </dgm:t>
    </dgm:pt>
    <dgm:pt modelId="{5F4E9734-88E0-4161-84F4-05A129F1149F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DAAD1A22-9D81-45F8-9D88-97836A7AFDDE}" type="parTrans" cxnId="{CC67650A-DDDC-4D3A-95DF-F8F20832F536}">
      <dgm:prSet/>
      <dgm:spPr/>
      <dgm:t>
        <a:bodyPr/>
        <a:lstStyle/>
        <a:p>
          <a:endParaRPr lang="ru-RU"/>
        </a:p>
      </dgm:t>
    </dgm:pt>
    <dgm:pt modelId="{8FD15839-A71F-40DE-B81F-ABB845FA0D09}" type="sibTrans" cxnId="{CC67650A-DDDC-4D3A-95DF-F8F20832F536}">
      <dgm:prSet/>
      <dgm:spPr/>
      <dgm:t>
        <a:bodyPr/>
        <a:lstStyle/>
        <a:p>
          <a:endParaRPr lang="ru-RU"/>
        </a:p>
      </dgm:t>
    </dgm:pt>
    <dgm:pt modelId="{F64EB05D-4FA8-4720-88AC-AB59AB31F4C0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B832B30B-5F50-4CDD-A5F1-336674F057F7}" type="parTrans" cxnId="{937DFC23-22B8-4378-9694-047B4CE5914D}">
      <dgm:prSet/>
      <dgm:spPr/>
      <dgm:t>
        <a:bodyPr/>
        <a:lstStyle/>
        <a:p>
          <a:endParaRPr lang="ru-RU"/>
        </a:p>
      </dgm:t>
    </dgm:pt>
    <dgm:pt modelId="{8F97F416-C202-4B38-B803-F8DDF1C118E4}" type="sibTrans" cxnId="{937DFC23-22B8-4378-9694-047B4CE5914D}">
      <dgm:prSet/>
      <dgm:spPr/>
      <dgm:t>
        <a:bodyPr/>
        <a:lstStyle/>
        <a:p>
          <a:endParaRPr lang="ru-RU"/>
        </a:p>
      </dgm:t>
    </dgm:pt>
    <dgm:pt modelId="{D0F61192-DEA3-4974-8320-A881C61A6D99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B85AAA5E-4511-44F9-A457-05FD2BB0C0A6}" type="parTrans" cxnId="{292CD896-8BD3-43F6-B4EB-1F783780DDE7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73F988D5-8E06-4377-AC24-AEDED74730F7}" type="sibTrans" cxnId="{292CD896-8BD3-43F6-B4EB-1F783780DDE7}">
      <dgm:prSet/>
      <dgm:spPr/>
      <dgm:t>
        <a:bodyPr/>
        <a:lstStyle/>
        <a:p>
          <a:endParaRPr lang="ru-RU"/>
        </a:p>
      </dgm:t>
    </dgm:pt>
    <dgm:pt modelId="{243FCF28-D37A-4E37-A211-D22A0E53DD2C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4597A887-74C8-4BC8-AC40-5CD01000DF75}" type="parTrans" cxnId="{6FF9D2F7-8030-4813-B563-D1F1DB644B56}">
      <dgm:prSet/>
      <dgm:spPr/>
      <dgm:t>
        <a:bodyPr/>
        <a:lstStyle/>
        <a:p>
          <a:endParaRPr lang="ru-RU"/>
        </a:p>
      </dgm:t>
    </dgm:pt>
    <dgm:pt modelId="{6391FCDA-5AD3-44A2-97A2-C93FC6B6F41D}" type="sibTrans" cxnId="{6FF9D2F7-8030-4813-B563-D1F1DB644B56}">
      <dgm:prSet/>
      <dgm:spPr/>
      <dgm:t>
        <a:bodyPr/>
        <a:lstStyle/>
        <a:p>
          <a:endParaRPr lang="ru-RU"/>
        </a:p>
      </dgm:t>
    </dgm:pt>
    <dgm:pt modelId="{A23F5323-85F3-44D6-8FE3-A90EB795BF32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A069FF78-F816-4438-AF4A-D85B709E6F03}" type="parTrans" cxnId="{D69BC19D-AF28-434A-9399-A36C3498B318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D8A522D5-6EBB-4C22-BA35-1CEA37E4634B}" type="sibTrans" cxnId="{D69BC19D-AF28-434A-9399-A36C3498B318}">
      <dgm:prSet/>
      <dgm:spPr/>
      <dgm:t>
        <a:bodyPr/>
        <a:lstStyle/>
        <a:p>
          <a:endParaRPr lang="ru-RU"/>
        </a:p>
      </dgm:t>
    </dgm:pt>
    <dgm:pt modelId="{2C93ED47-EAA7-4302-B890-897D9B4DCDD7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A8262616-3496-412A-BB42-FEE1579E1B96}" type="parTrans" cxnId="{948D43FC-9205-4098-9736-1F4525DCC06C}">
      <dgm:prSet/>
      <dgm:spPr/>
      <dgm:t>
        <a:bodyPr/>
        <a:lstStyle/>
        <a:p>
          <a:endParaRPr lang="ru-RU"/>
        </a:p>
      </dgm:t>
    </dgm:pt>
    <dgm:pt modelId="{31DA285E-92F2-498E-9ECF-7A69179F7114}" type="sibTrans" cxnId="{948D43FC-9205-4098-9736-1F4525DCC06C}">
      <dgm:prSet/>
      <dgm:spPr/>
      <dgm:t>
        <a:bodyPr/>
        <a:lstStyle/>
        <a:p>
          <a:endParaRPr lang="ru-RU"/>
        </a:p>
      </dgm:t>
    </dgm:pt>
    <dgm:pt modelId="{73109676-BF8F-485F-AB93-979C0FB81F32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EBA4B333-B67C-452B-99CF-D59376F3B4D0}" type="parTrans" cxnId="{2DA31114-ADD4-4301-9630-6C6C4771FAA5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E5034395-2F59-416C-8144-E3852B13235D}" type="sibTrans" cxnId="{2DA31114-ADD4-4301-9630-6C6C4771FAA5}">
      <dgm:prSet/>
      <dgm:spPr/>
      <dgm:t>
        <a:bodyPr/>
        <a:lstStyle/>
        <a:p>
          <a:endParaRPr lang="ru-RU"/>
        </a:p>
      </dgm:t>
    </dgm:pt>
    <dgm:pt modelId="{737008D3-9E71-4C81-9CCF-91B2ED50EF9C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92D05C08-80F6-421C-84FB-E635380E94B4}" type="parTrans" cxnId="{9498962B-28B0-4312-8708-081542DA78DB}">
      <dgm:prSet/>
      <dgm:spPr/>
      <dgm:t>
        <a:bodyPr/>
        <a:lstStyle/>
        <a:p>
          <a:endParaRPr lang="ru-RU"/>
        </a:p>
      </dgm:t>
    </dgm:pt>
    <dgm:pt modelId="{496E9198-AEDC-4A50-83E1-A90EC518BA53}" type="sibTrans" cxnId="{9498962B-28B0-4312-8708-081542DA78DB}">
      <dgm:prSet/>
      <dgm:spPr/>
      <dgm:t>
        <a:bodyPr/>
        <a:lstStyle/>
        <a:p>
          <a:endParaRPr lang="ru-RU"/>
        </a:p>
      </dgm:t>
    </dgm:pt>
    <dgm:pt modelId="{53D28322-DD21-4164-97AD-509DB905B45A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EC55D55F-D3C3-429D-A775-CB9894264B0C}" type="parTrans" cxnId="{01FB4E6E-00AD-41CE-85E6-DC43215AAF31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7ECAD7B4-845A-4D7F-9579-651C12CFB1B5}" type="sibTrans" cxnId="{01FB4E6E-00AD-41CE-85E6-DC43215AAF31}">
      <dgm:prSet/>
      <dgm:spPr/>
      <dgm:t>
        <a:bodyPr/>
        <a:lstStyle/>
        <a:p>
          <a:endParaRPr lang="ru-RU"/>
        </a:p>
      </dgm:t>
    </dgm:pt>
    <dgm:pt modelId="{3B1C6DA1-5CCB-4565-AA5E-985ED2980B42}">
      <dgm:prSet phldrT="[Текст]" custT="1">
        <dgm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>
            <a:schemeClr val="lt1"/>
          </a:fontRef>
        </dgm:style>
      </dgm:prSet>
      <dgm:spPr>
        <a:solidFill>
          <a:srgbClr val="6DA6D9"/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gm:t>
    </dgm:pt>
    <dgm:pt modelId="{B09EE93E-ED1D-4968-AB9F-7417C8E9E79D}" type="parTrans" cxnId="{FC5A12CB-4E15-45C6-B717-80D8231EAE9B}">
      <dgm:prSet/>
      <dgm:spPr/>
      <dgm:t>
        <a:bodyPr/>
        <a:lstStyle/>
        <a:p>
          <a:endParaRPr lang="ru-RU"/>
        </a:p>
      </dgm:t>
    </dgm:pt>
    <dgm:pt modelId="{9E5E720D-554E-4930-A1F7-92E847F2F820}" type="sibTrans" cxnId="{FC5A12CB-4E15-45C6-B717-80D8231EAE9B}">
      <dgm:prSet/>
      <dgm:spPr/>
      <dgm:t>
        <a:bodyPr/>
        <a:lstStyle/>
        <a:p>
          <a:endParaRPr lang="ru-RU"/>
        </a:p>
      </dgm:t>
    </dgm:pt>
    <dgm:pt modelId="{AA8445A0-A60E-4506-B220-4C9E803ACF73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180D0599-90B6-4785-8678-DC32E7B7C8B8}" type="parTrans" cxnId="{95D0EE74-7C47-4EF9-AD46-F4989702138A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E033EB05-84BA-46C1-A9E0-B96738262A0E}" type="sibTrans" cxnId="{95D0EE74-7C47-4EF9-AD46-F4989702138A}">
      <dgm:prSet/>
      <dgm:spPr/>
      <dgm:t>
        <a:bodyPr/>
        <a:lstStyle/>
        <a:p>
          <a:endParaRPr lang="ru-RU"/>
        </a:p>
      </dgm:t>
    </dgm:pt>
    <dgm:pt modelId="{48BEF21E-4DD2-4279-B52C-357F0B859E0C}">
      <dgm:prSet phldrT="[Текст]" custT="1">
        <dgm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>
            <a:schemeClr val="lt1"/>
          </a:fontRef>
        </dgm:style>
      </dgm:prSet>
      <dgm:spPr>
        <a:solidFill>
          <a:schemeClr val="accent2">
            <a:lumMod val="40000"/>
            <a:lumOff val="60000"/>
          </a:schemeClr>
        </a:solidFill>
      </dgm:spPr>
      <dgm:t>
        <a:bodyPr/>
        <a:lstStyle/>
        <a:p>
          <a:pPr algn="ctr"/>
          <a:r>
            <a:rPr lang="en-US" sz="14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BB2E277A-A53F-4489-BB55-C804497FC8C9}" type="sibTrans" cxnId="{E097A527-5C92-4FC9-ADBC-E342D2667F7E}">
      <dgm:prSet/>
      <dgm:spPr/>
      <dgm:t>
        <a:bodyPr/>
        <a:lstStyle/>
        <a:p>
          <a:endParaRPr lang="ru-RU"/>
        </a:p>
      </dgm:t>
    </dgm:pt>
    <dgm:pt modelId="{78DBFB36-F71D-41E0-95C8-F13CCA4EB965}" type="parTrans" cxnId="{E097A527-5C92-4FC9-ADBC-E342D2667F7E}">
      <dgm:prSet/>
      <dgm:spPr>
        <a:ln>
          <a:solidFill>
            <a:schemeClr val="accent2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A3785731-109F-4B4F-967A-378649B428B1}">
      <dgm:prSet phldrT="[Текст]" custT="1">
        <dgm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>
            <a:schemeClr val="lt1"/>
          </a:fontRef>
        </dgm:style>
      </dgm:prSet>
      <dgm:spPr>
        <a:solidFill>
          <a:schemeClr val="accent6">
            <a:lumMod val="40000"/>
            <a:lumOff val="60000"/>
          </a:schemeClr>
        </a:solidFill>
      </dgm:spPr>
      <dgm:t>
        <a:bodyPr/>
        <a:lstStyle/>
        <a:p>
          <a:pPr algn="l"/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  </a:t>
          </a:r>
          <a:r>
            <a:rPr lang="en-US" sz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dirty="0" err="1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CWD</a:t>
          </a:r>
          <a:endParaRPr lang="en-US" sz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gm:t>
    </dgm:pt>
    <dgm:pt modelId="{B32472DA-1FB1-49E8-8397-EB3C4D811C42}" type="sibTrans" cxnId="{3C153D37-045E-4190-86AE-4B05109828C0}">
      <dgm:prSet/>
      <dgm:spPr/>
      <dgm:t>
        <a:bodyPr/>
        <a:lstStyle/>
        <a:p>
          <a:endParaRPr lang="ru-RU"/>
        </a:p>
      </dgm:t>
    </dgm:pt>
    <dgm:pt modelId="{D36874EC-EB26-474C-AD1B-92F19360C769}" type="parTrans" cxnId="{3C153D37-045E-4190-86AE-4B05109828C0}">
      <dgm:prSet/>
      <dgm:spPr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640D9B97-E395-4379-9310-B6600B550DE7}" type="pres">
      <dgm:prSet presAssocID="{3AFA7D1A-B816-4A2C-B624-53409C96990C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</dgm:pt>
    <dgm:pt modelId="{DE9EA370-92F0-4D3B-A18B-09E0C2FB9AFF}" type="pres">
      <dgm:prSet presAssocID="{972DA19A-F0DE-4195-88C2-A8497AFFBB49}" presName="hierRoot1" presStyleCnt="0">
        <dgm:presLayoutVars>
          <dgm:hierBranch val="init"/>
        </dgm:presLayoutVars>
      </dgm:prSet>
      <dgm:spPr/>
    </dgm:pt>
    <dgm:pt modelId="{7382F851-352C-435F-8202-0ED08DC21AD4}" type="pres">
      <dgm:prSet presAssocID="{972DA19A-F0DE-4195-88C2-A8497AFFBB49}" presName="rootComposite1" presStyleCnt="0"/>
      <dgm:spPr/>
    </dgm:pt>
    <dgm:pt modelId="{5AC076F3-0DA4-416D-BA96-F1D60B5D7256}" type="pres">
      <dgm:prSet presAssocID="{972DA19A-F0DE-4195-88C2-A8497AFFBB49}" presName="rootText1" presStyleLbl="node0" presStyleIdx="0" presStyleCnt="1" custScaleX="206026" custScaleY="321845" custLinFactX="-59000" custLinFactY="-160917" custLinFactNeighborX="-100000" custLinFactNeighborY="-200000">
        <dgm:presLayoutVars>
          <dgm:chPref val="3"/>
        </dgm:presLayoutVars>
      </dgm:prSet>
      <dgm:spPr>
        <a:prstGeom prst="roundRect">
          <a:avLst/>
        </a:prstGeom>
      </dgm:spPr>
    </dgm:pt>
    <dgm:pt modelId="{8D6F78E5-52B7-4437-8D53-79C1817BFC69}" type="pres">
      <dgm:prSet presAssocID="{972DA19A-F0DE-4195-88C2-A8497AFFBB49}" presName="rootConnector1" presStyleLbl="node1" presStyleIdx="0" presStyleCnt="0"/>
      <dgm:spPr/>
    </dgm:pt>
    <dgm:pt modelId="{F44F94D0-2AED-44A9-86FF-2E46BC2F6F80}" type="pres">
      <dgm:prSet presAssocID="{972DA19A-F0DE-4195-88C2-A8497AFFBB49}" presName="hierChild2" presStyleCnt="0"/>
      <dgm:spPr/>
    </dgm:pt>
    <dgm:pt modelId="{3FBC66CD-236C-4015-B3C5-E964F13EBF51}" type="pres">
      <dgm:prSet presAssocID="{FF2A1DA1-7764-4E8A-A360-3739D97E9671}" presName="Name64" presStyleLbl="parChTrans1D2" presStyleIdx="0" presStyleCnt="6"/>
      <dgm:spPr/>
    </dgm:pt>
    <dgm:pt modelId="{820FF472-3BF3-4B9F-A588-A4B8671FA40E}" type="pres">
      <dgm:prSet presAssocID="{EA880E04-556C-4124-B3D5-823E47CCAA61}" presName="hierRoot2" presStyleCnt="0">
        <dgm:presLayoutVars>
          <dgm:hierBranch val="init"/>
        </dgm:presLayoutVars>
      </dgm:prSet>
      <dgm:spPr/>
    </dgm:pt>
    <dgm:pt modelId="{5FBC4460-B877-409C-9A40-5D6211301AAB}" type="pres">
      <dgm:prSet presAssocID="{EA880E04-556C-4124-B3D5-823E47CCAA61}" presName="rootComposite" presStyleCnt="0"/>
      <dgm:spPr/>
    </dgm:pt>
    <dgm:pt modelId="{BA37A039-8231-408B-88D6-34F135D4720D}" type="pres">
      <dgm:prSet presAssocID="{EA880E04-556C-4124-B3D5-823E47CCAA61}" presName="rootText" presStyleLbl="node2" presStyleIdx="0" presStyleCnt="6" custScaleX="183713" custScaleY="139648" custLinFactNeighborX="-90751" custLinFactNeighborY="-1268">
        <dgm:presLayoutVars>
          <dgm:chPref val="3"/>
        </dgm:presLayoutVars>
      </dgm:prSet>
      <dgm:spPr>
        <a:prstGeom prst="roundRect">
          <a:avLst/>
        </a:prstGeom>
      </dgm:spPr>
    </dgm:pt>
    <dgm:pt modelId="{0348480F-C7C8-4C41-9453-8CC20CD70DDE}" type="pres">
      <dgm:prSet presAssocID="{EA880E04-556C-4124-B3D5-823E47CCAA61}" presName="rootConnector" presStyleLbl="node2" presStyleIdx="0" presStyleCnt="6"/>
      <dgm:spPr/>
    </dgm:pt>
    <dgm:pt modelId="{98270814-67F7-47D8-A667-7429F59FF7DA}" type="pres">
      <dgm:prSet presAssocID="{EA880E04-556C-4124-B3D5-823E47CCAA61}" presName="hierChild4" presStyleCnt="0"/>
      <dgm:spPr/>
    </dgm:pt>
    <dgm:pt modelId="{27B7AC9A-8103-4488-B2C2-94A2C34E7DFC}" type="pres">
      <dgm:prSet presAssocID="{DAAD1A22-9D81-45F8-9D88-97836A7AFDDE}" presName="Name64" presStyleLbl="parChTrans1D3" presStyleIdx="0" presStyleCnt="6"/>
      <dgm:spPr/>
    </dgm:pt>
    <dgm:pt modelId="{5594350B-B9CA-4C1C-91F4-B4C6FC5C8DCD}" type="pres">
      <dgm:prSet presAssocID="{5F4E9734-88E0-4161-84F4-05A129F1149F}" presName="hierRoot2" presStyleCnt="0">
        <dgm:presLayoutVars>
          <dgm:hierBranch val="init"/>
        </dgm:presLayoutVars>
      </dgm:prSet>
      <dgm:spPr/>
    </dgm:pt>
    <dgm:pt modelId="{EDF0CEE3-DA73-4D3A-AB08-9B89E8BAC0F9}" type="pres">
      <dgm:prSet presAssocID="{5F4E9734-88E0-4161-84F4-05A129F1149F}" presName="rootComposite" presStyleCnt="0"/>
      <dgm:spPr/>
    </dgm:pt>
    <dgm:pt modelId="{F7C7A283-8449-4A9F-B070-DD951761FB58}" type="pres">
      <dgm:prSet presAssocID="{5F4E9734-88E0-4161-84F4-05A129F1149F}" presName="rootText" presStyleLbl="node3" presStyleIdx="0" presStyleCnt="6" custScaleX="151330" custScaleY="134854" custLinFactNeighborX="-24000" custLinFactNeighborY="-374">
        <dgm:presLayoutVars>
          <dgm:chPref val="3"/>
        </dgm:presLayoutVars>
      </dgm:prSet>
      <dgm:spPr>
        <a:prstGeom prst="roundRect">
          <a:avLst/>
        </a:prstGeom>
      </dgm:spPr>
    </dgm:pt>
    <dgm:pt modelId="{474F64F9-BFDE-4205-8701-2C047112D000}" type="pres">
      <dgm:prSet presAssocID="{5F4E9734-88E0-4161-84F4-05A129F1149F}" presName="rootConnector" presStyleLbl="node3" presStyleIdx="0" presStyleCnt="6"/>
      <dgm:spPr/>
    </dgm:pt>
    <dgm:pt modelId="{D338AD1A-4DAE-4765-BB50-2927CB530CF5}" type="pres">
      <dgm:prSet presAssocID="{5F4E9734-88E0-4161-84F4-05A129F1149F}" presName="hierChild4" presStyleCnt="0"/>
      <dgm:spPr/>
    </dgm:pt>
    <dgm:pt modelId="{D953026E-CD6F-4A96-BD15-3A89752DC905}" type="pres">
      <dgm:prSet presAssocID="{78DBFB36-F71D-41E0-95C8-F13CCA4EB965}" presName="Name64" presStyleLbl="parChTrans1D4" presStyleIdx="0" presStyleCnt="6"/>
      <dgm:spPr/>
    </dgm:pt>
    <dgm:pt modelId="{E28917A5-3F76-4685-B9C4-FEE5A34384F8}" type="pres">
      <dgm:prSet presAssocID="{48BEF21E-4DD2-4279-B52C-357F0B859E0C}" presName="hierRoot2" presStyleCnt="0">
        <dgm:presLayoutVars>
          <dgm:hierBranch val="init"/>
        </dgm:presLayoutVars>
      </dgm:prSet>
      <dgm:spPr/>
    </dgm:pt>
    <dgm:pt modelId="{BA635B99-15A7-4BBE-AC46-FB3D257D824A}" type="pres">
      <dgm:prSet presAssocID="{48BEF21E-4DD2-4279-B52C-357F0B859E0C}" presName="rootComposite" presStyleCnt="0"/>
      <dgm:spPr/>
    </dgm:pt>
    <dgm:pt modelId="{1DE691EC-C261-492E-8960-D34550A092F2}" type="pres">
      <dgm:prSet presAssocID="{48BEF21E-4DD2-4279-B52C-357F0B859E0C}" presName="rootText" presStyleLbl="node4" presStyleIdx="0" presStyleCnt="6" custScaleX="151330" custScaleY="139648" custLinFactNeighborX="56341" custLinFactNeighborY="142">
        <dgm:presLayoutVars>
          <dgm:chPref val="3"/>
        </dgm:presLayoutVars>
      </dgm:prSet>
      <dgm:spPr>
        <a:prstGeom prst="roundRect">
          <a:avLst/>
        </a:prstGeom>
      </dgm:spPr>
    </dgm:pt>
    <dgm:pt modelId="{1AD8233D-B116-45DA-ADB5-4FD62764A8B5}" type="pres">
      <dgm:prSet presAssocID="{48BEF21E-4DD2-4279-B52C-357F0B859E0C}" presName="rootConnector" presStyleLbl="node4" presStyleIdx="0" presStyleCnt="6"/>
      <dgm:spPr/>
    </dgm:pt>
    <dgm:pt modelId="{B9AF72FF-C3C2-4BC6-99A1-A701D3DCDD76}" type="pres">
      <dgm:prSet presAssocID="{48BEF21E-4DD2-4279-B52C-357F0B859E0C}" presName="hierChild4" presStyleCnt="0"/>
      <dgm:spPr/>
    </dgm:pt>
    <dgm:pt modelId="{CE511AA3-7F55-4B47-B8AA-EE871A91BE1C}" type="pres">
      <dgm:prSet presAssocID="{48BEF21E-4DD2-4279-B52C-357F0B859E0C}" presName="hierChild5" presStyleCnt="0"/>
      <dgm:spPr/>
    </dgm:pt>
    <dgm:pt modelId="{75C2537A-3F99-41D3-B4E4-1CFC06853639}" type="pres">
      <dgm:prSet presAssocID="{5F4E9734-88E0-4161-84F4-05A129F1149F}" presName="hierChild5" presStyleCnt="0"/>
      <dgm:spPr/>
    </dgm:pt>
    <dgm:pt modelId="{5F5031B8-0217-44E1-8BC4-645464382B25}" type="pres">
      <dgm:prSet presAssocID="{EA880E04-556C-4124-B3D5-823E47CCAA61}" presName="hierChild5" presStyleCnt="0"/>
      <dgm:spPr/>
    </dgm:pt>
    <dgm:pt modelId="{F6F8857A-4658-4489-9556-A92D16175513}" type="pres">
      <dgm:prSet presAssocID="{D36874EC-EB26-474C-AD1B-92F19360C769}" presName="Name64" presStyleLbl="parChTrans1D2" presStyleIdx="1" presStyleCnt="6"/>
      <dgm:spPr/>
    </dgm:pt>
    <dgm:pt modelId="{33AE583B-07B7-4558-8166-61BD95DD63B9}" type="pres">
      <dgm:prSet presAssocID="{A3785731-109F-4B4F-967A-378649B428B1}" presName="hierRoot2" presStyleCnt="0">
        <dgm:presLayoutVars>
          <dgm:hierBranch val="init"/>
        </dgm:presLayoutVars>
      </dgm:prSet>
      <dgm:spPr/>
    </dgm:pt>
    <dgm:pt modelId="{59CF85C9-70CC-4AB7-9271-C72E512BBEE2}" type="pres">
      <dgm:prSet presAssocID="{A3785731-109F-4B4F-967A-378649B428B1}" presName="rootComposite" presStyleCnt="0"/>
      <dgm:spPr/>
    </dgm:pt>
    <dgm:pt modelId="{45337472-D653-4CC4-BFE0-9EAB29234A68}" type="pres">
      <dgm:prSet presAssocID="{A3785731-109F-4B4F-967A-378649B428B1}" presName="rootText" presStyleLbl="node2" presStyleIdx="1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537F4A48-0CAE-4861-9378-62271C8B96D0}" type="pres">
      <dgm:prSet presAssocID="{A3785731-109F-4B4F-967A-378649B428B1}" presName="rootConnector" presStyleLbl="node2" presStyleIdx="1" presStyleCnt="6"/>
      <dgm:spPr/>
    </dgm:pt>
    <dgm:pt modelId="{76AA0342-A569-48C4-89A2-F926CB6081E0}" type="pres">
      <dgm:prSet presAssocID="{A3785731-109F-4B4F-967A-378649B428B1}" presName="hierChild4" presStyleCnt="0"/>
      <dgm:spPr/>
    </dgm:pt>
    <dgm:pt modelId="{1222BE1C-9423-4D0D-BA2A-7C1FF61EA18D}" type="pres">
      <dgm:prSet presAssocID="{B832B30B-5F50-4CDD-A5F1-336674F057F7}" presName="Name64" presStyleLbl="parChTrans1D3" presStyleIdx="1" presStyleCnt="6"/>
      <dgm:spPr/>
    </dgm:pt>
    <dgm:pt modelId="{F597C72D-6581-445A-9734-8D4D714548DA}" type="pres">
      <dgm:prSet presAssocID="{F64EB05D-4FA8-4720-88AC-AB59AB31F4C0}" presName="hierRoot2" presStyleCnt="0">
        <dgm:presLayoutVars>
          <dgm:hierBranch val="init"/>
        </dgm:presLayoutVars>
      </dgm:prSet>
      <dgm:spPr/>
    </dgm:pt>
    <dgm:pt modelId="{3F0A09A6-7129-4A39-9991-474D9D8EADFC}" type="pres">
      <dgm:prSet presAssocID="{F64EB05D-4FA8-4720-88AC-AB59AB31F4C0}" presName="rootComposite" presStyleCnt="0"/>
      <dgm:spPr/>
    </dgm:pt>
    <dgm:pt modelId="{A849629A-AA87-48AA-8FA2-45E2C5047F32}" type="pres">
      <dgm:prSet presAssocID="{F64EB05D-4FA8-4720-88AC-AB59AB31F4C0}" presName="rootText" presStyleLbl="node3" presStyleIdx="1" presStyleCnt="6" custScaleX="151330" custScaleY="139648" custLinFactNeighborX="-24000" custLinFactNeighborY="0">
        <dgm:presLayoutVars>
          <dgm:chPref val="3"/>
        </dgm:presLayoutVars>
      </dgm:prSet>
      <dgm:spPr>
        <a:prstGeom prst="roundRect">
          <a:avLst/>
        </a:prstGeom>
      </dgm:spPr>
    </dgm:pt>
    <dgm:pt modelId="{9F106F4D-2A7B-43A5-891C-FA845651D51C}" type="pres">
      <dgm:prSet presAssocID="{F64EB05D-4FA8-4720-88AC-AB59AB31F4C0}" presName="rootConnector" presStyleLbl="node3" presStyleIdx="1" presStyleCnt="6"/>
      <dgm:spPr/>
    </dgm:pt>
    <dgm:pt modelId="{B72E25A5-2A0F-43BA-91F8-84ADF00895BB}" type="pres">
      <dgm:prSet presAssocID="{F64EB05D-4FA8-4720-88AC-AB59AB31F4C0}" presName="hierChild4" presStyleCnt="0"/>
      <dgm:spPr/>
    </dgm:pt>
    <dgm:pt modelId="{C04EE54A-1EB6-4D7B-A4B2-1CDF94FF170F}" type="pres">
      <dgm:prSet presAssocID="{B85AAA5E-4511-44F9-A457-05FD2BB0C0A6}" presName="Name64" presStyleLbl="parChTrans1D4" presStyleIdx="1" presStyleCnt="6"/>
      <dgm:spPr/>
    </dgm:pt>
    <dgm:pt modelId="{A627C725-A8E7-4C1C-8D25-68BF1D434925}" type="pres">
      <dgm:prSet presAssocID="{D0F61192-DEA3-4974-8320-A881C61A6D99}" presName="hierRoot2" presStyleCnt="0">
        <dgm:presLayoutVars>
          <dgm:hierBranch val="init"/>
        </dgm:presLayoutVars>
      </dgm:prSet>
      <dgm:spPr/>
    </dgm:pt>
    <dgm:pt modelId="{22C0C43F-2601-48BB-AA39-91654747E1C5}" type="pres">
      <dgm:prSet presAssocID="{D0F61192-DEA3-4974-8320-A881C61A6D99}" presName="rootComposite" presStyleCnt="0"/>
      <dgm:spPr/>
    </dgm:pt>
    <dgm:pt modelId="{CB9F0E71-81D6-4FA0-940A-B18AFB275E47}" type="pres">
      <dgm:prSet presAssocID="{D0F61192-DEA3-4974-8320-A881C61A6D99}" presName="rootText" presStyleLbl="node4" presStyleIdx="1" presStyleCnt="6" custScaleX="151330" custScaleY="139648" custLinFactNeighborX="56341" custLinFactNeighborY="142">
        <dgm:presLayoutVars>
          <dgm:chPref val="3"/>
        </dgm:presLayoutVars>
      </dgm:prSet>
      <dgm:spPr>
        <a:prstGeom prst="roundRect">
          <a:avLst/>
        </a:prstGeom>
      </dgm:spPr>
    </dgm:pt>
    <dgm:pt modelId="{E5EEBCD5-77C3-4FC2-8BC4-CE4330225C07}" type="pres">
      <dgm:prSet presAssocID="{D0F61192-DEA3-4974-8320-A881C61A6D99}" presName="rootConnector" presStyleLbl="node4" presStyleIdx="1" presStyleCnt="6"/>
      <dgm:spPr/>
    </dgm:pt>
    <dgm:pt modelId="{933CAF8D-1E73-4D92-924E-2351A9143DC0}" type="pres">
      <dgm:prSet presAssocID="{D0F61192-DEA3-4974-8320-A881C61A6D99}" presName="hierChild4" presStyleCnt="0"/>
      <dgm:spPr/>
    </dgm:pt>
    <dgm:pt modelId="{1BC51473-D81E-4F76-A4F0-8CCC4FB9FCE0}" type="pres">
      <dgm:prSet presAssocID="{D0F61192-DEA3-4974-8320-A881C61A6D99}" presName="hierChild5" presStyleCnt="0"/>
      <dgm:spPr/>
    </dgm:pt>
    <dgm:pt modelId="{7845B220-66EA-4311-8EAF-1419C6BA1349}" type="pres">
      <dgm:prSet presAssocID="{F64EB05D-4FA8-4720-88AC-AB59AB31F4C0}" presName="hierChild5" presStyleCnt="0"/>
      <dgm:spPr/>
    </dgm:pt>
    <dgm:pt modelId="{AA11CCB4-D243-4978-8881-D51FB013F679}" type="pres">
      <dgm:prSet presAssocID="{A3785731-109F-4B4F-967A-378649B428B1}" presName="hierChild5" presStyleCnt="0"/>
      <dgm:spPr/>
    </dgm:pt>
    <dgm:pt modelId="{D11F3CF4-9BE3-4001-95F5-F7CCA0F5CE3D}" type="pres">
      <dgm:prSet presAssocID="{5BED418B-1B2E-433C-A624-6C1BA48AE663}" presName="Name64" presStyleLbl="parChTrans1D2" presStyleIdx="2" presStyleCnt="6"/>
      <dgm:spPr/>
    </dgm:pt>
    <dgm:pt modelId="{8985A798-8C94-42D9-A92D-46A72ACA882F}" type="pres">
      <dgm:prSet presAssocID="{E7A627DF-6D2B-4778-BD7A-F778BB44CED0}" presName="hierRoot2" presStyleCnt="0">
        <dgm:presLayoutVars>
          <dgm:hierBranch val="init"/>
        </dgm:presLayoutVars>
      </dgm:prSet>
      <dgm:spPr/>
    </dgm:pt>
    <dgm:pt modelId="{1E523804-B082-405A-982D-0D12DD1061CE}" type="pres">
      <dgm:prSet presAssocID="{E7A627DF-6D2B-4778-BD7A-F778BB44CED0}" presName="rootComposite" presStyleCnt="0"/>
      <dgm:spPr/>
    </dgm:pt>
    <dgm:pt modelId="{D8F07A57-3EEB-49E0-A087-92D4BB62336A}" type="pres">
      <dgm:prSet presAssocID="{E7A627DF-6D2B-4778-BD7A-F778BB44CED0}" presName="rootText" presStyleLbl="node2" presStyleIdx="2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68689893-58CE-4724-BB72-ED0C97775120}" type="pres">
      <dgm:prSet presAssocID="{E7A627DF-6D2B-4778-BD7A-F778BB44CED0}" presName="rootConnector" presStyleLbl="node2" presStyleIdx="2" presStyleCnt="6"/>
      <dgm:spPr/>
    </dgm:pt>
    <dgm:pt modelId="{22915E9E-1F5B-4E87-B1DB-C2E9D56813AF}" type="pres">
      <dgm:prSet presAssocID="{E7A627DF-6D2B-4778-BD7A-F778BB44CED0}" presName="hierChild4" presStyleCnt="0"/>
      <dgm:spPr/>
    </dgm:pt>
    <dgm:pt modelId="{E9E952DE-C054-4BAF-B175-7684D3688AC1}" type="pres">
      <dgm:prSet presAssocID="{4597A887-74C8-4BC8-AC40-5CD01000DF75}" presName="Name64" presStyleLbl="parChTrans1D3" presStyleIdx="2" presStyleCnt="6"/>
      <dgm:spPr/>
    </dgm:pt>
    <dgm:pt modelId="{0A818F5C-F0BD-4B41-8C42-D24A2A3E6AC2}" type="pres">
      <dgm:prSet presAssocID="{243FCF28-D37A-4E37-A211-D22A0E53DD2C}" presName="hierRoot2" presStyleCnt="0">
        <dgm:presLayoutVars>
          <dgm:hierBranch val="init"/>
        </dgm:presLayoutVars>
      </dgm:prSet>
      <dgm:spPr/>
    </dgm:pt>
    <dgm:pt modelId="{0EE3F31A-7D49-49D5-9A99-1E5DEB6127DA}" type="pres">
      <dgm:prSet presAssocID="{243FCF28-D37A-4E37-A211-D22A0E53DD2C}" presName="rootComposite" presStyleCnt="0"/>
      <dgm:spPr/>
    </dgm:pt>
    <dgm:pt modelId="{D511FD58-653D-4C87-B9A3-A642FEB4E49B}" type="pres">
      <dgm:prSet presAssocID="{243FCF28-D37A-4E37-A211-D22A0E53DD2C}" presName="rootText" presStyleLbl="node3" presStyleIdx="2" presStyleCnt="6" custScaleX="151330" custScaleY="139648" custLinFactNeighborX="-24000" custLinFactNeighborY="0">
        <dgm:presLayoutVars>
          <dgm:chPref val="3"/>
        </dgm:presLayoutVars>
      </dgm:prSet>
      <dgm:spPr>
        <a:prstGeom prst="roundRect">
          <a:avLst/>
        </a:prstGeom>
      </dgm:spPr>
    </dgm:pt>
    <dgm:pt modelId="{822A39F2-A824-4FBD-A4EE-F27355A3F597}" type="pres">
      <dgm:prSet presAssocID="{243FCF28-D37A-4E37-A211-D22A0E53DD2C}" presName="rootConnector" presStyleLbl="node3" presStyleIdx="2" presStyleCnt="6"/>
      <dgm:spPr/>
    </dgm:pt>
    <dgm:pt modelId="{D31AF28A-517E-436A-8E2C-79CAB80E7A7B}" type="pres">
      <dgm:prSet presAssocID="{243FCF28-D37A-4E37-A211-D22A0E53DD2C}" presName="hierChild4" presStyleCnt="0"/>
      <dgm:spPr/>
    </dgm:pt>
    <dgm:pt modelId="{03039803-9473-4500-9ED4-54F193A43437}" type="pres">
      <dgm:prSet presAssocID="{A069FF78-F816-4438-AF4A-D85B709E6F03}" presName="Name64" presStyleLbl="parChTrans1D4" presStyleIdx="2" presStyleCnt="6"/>
      <dgm:spPr/>
    </dgm:pt>
    <dgm:pt modelId="{04FA2198-10D8-4405-A69B-CE2C4EA791B2}" type="pres">
      <dgm:prSet presAssocID="{A23F5323-85F3-44D6-8FE3-A90EB795BF32}" presName="hierRoot2" presStyleCnt="0">
        <dgm:presLayoutVars>
          <dgm:hierBranch val="init"/>
        </dgm:presLayoutVars>
      </dgm:prSet>
      <dgm:spPr/>
    </dgm:pt>
    <dgm:pt modelId="{7B74AF2A-BE85-4D41-BF6C-8DB56A1AEE78}" type="pres">
      <dgm:prSet presAssocID="{A23F5323-85F3-44D6-8FE3-A90EB795BF32}" presName="rootComposite" presStyleCnt="0"/>
      <dgm:spPr/>
    </dgm:pt>
    <dgm:pt modelId="{9D535536-A45B-428F-B25E-C6B5E1A0A101}" type="pres">
      <dgm:prSet presAssocID="{A23F5323-85F3-44D6-8FE3-A90EB795BF32}" presName="rootText" presStyleLbl="node4" presStyleIdx="2" presStyleCnt="6" custScaleX="151330" custScaleY="139648" custLinFactNeighborX="56341" custLinFactNeighborY="-2317">
        <dgm:presLayoutVars>
          <dgm:chPref val="3"/>
        </dgm:presLayoutVars>
      </dgm:prSet>
      <dgm:spPr>
        <a:prstGeom prst="roundRect">
          <a:avLst/>
        </a:prstGeom>
      </dgm:spPr>
    </dgm:pt>
    <dgm:pt modelId="{CABB8187-63C6-4220-AADE-48584A734132}" type="pres">
      <dgm:prSet presAssocID="{A23F5323-85F3-44D6-8FE3-A90EB795BF32}" presName="rootConnector" presStyleLbl="node4" presStyleIdx="2" presStyleCnt="6"/>
      <dgm:spPr/>
    </dgm:pt>
    <dgm:pt modelId="{1F476663-70A7-4EE9-86E6-C4226A100765}" type="pres">
      <dgm:prSet presAssocID="{A23F5323-85F3-44D6-8FE3-A90EB795BF32}" presName="hierChild4" presStyleCnt="0"/>
      <dgm:spPr/>
    </dgm:pt>
    <dgm:pt modelId="{68EBE619-3788-42EA-9DDC-92E070581029}" type="pres">
      <dgm:prSet presAssocID="{A23F5323-85F3-44D6-8FE3-A90EB795BF32}" presName="hierChild5" presStyleCnt="0"/>
      <dgm:spPr/>
    </dgm:pt>
    <dgm:pt modelId="{F69C9B90-55DA-4A20-AAB4-14A198E736B9}" type="pres">
      <dgm:prSet presAssocID="{243FCF28-D37A-4E37-A211-D22A0E53DD2C}" presName="hierChild5" presStyleCnt="0"/>
      <dgm:spPr/>
    </dgm:pt>
    <dgm:pt modelId="{4DD9128E-BC4F-49E1-A2AE-D7DAAE6FC797}" type="pres">
      <dgm:prSet presAssocID="{E7A627DF-6D2B-4778-BD7A-F778BB44CED0}" presName="hierChild5" presStyleCnt="0"/>
      <dgm:spPr/>
    </dgm:pt>
    <dgm:pt modelId="{EBBBF7DE-5B06-4C01-8382-BF1F016BC682}" type="pres">
      <dgm:prSet presAssocID="{2E8C6C63-37EC-4B88-8BA5-B856AC47FE99}" presName="Name64" presStyleLbl="parChTrans1D2" presStyleIdx="3" presStyleCnt="6"/>
      <dgm:spPr/>
    </dgm:pt>
    <dgm:pt modelId="{D06CE2DF-79BF-4658-A9B5-49C047C94A31}" type="pres">
      <dgm:prSet presAssocID="{5ECC2158-CF7A-49C1-9A35-43F935650F5A}" presName="hierRoot2" presStyleCnt="0">
        <dgm:presLayoutVars>
          <dgm:hierBranch val="init"/>
        </dgm:presLayoutVars>
      </dgm:prSet>
      <dgm:spPr/>
    </dgm:pt>
    <dgm:pt modelId="{57F8C2B5-F260-4CAF-AE98-8682203F77C8}" type="pres">
      <dgm:prSet presAssocID="{5ECC2158-CF7A-49C1-9A35-43F935650F5A}" presName="rootComposite" presStyleCnt="0"/>
      <dgm:spPr/>
    </dgm:pt>
    <dgm:pt modelId="{43CCD05C-F67F-48E4-8506-7F93C107E68E}" type="pres">
      <dgm:prSet presAssocID="{5ECC2158-CF7A-49C1-9A35-43F935650F5A}" presName="rootText" presStyleLbl="node2" presStyleIdx="3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7E5E29B8-B0D1-4731-9330-43FEA69FA035}" type="pres">
      <dgm:prSet presAssocID="{5ECC2158-CF7A-49C1-9A35-43F935650F5A}" presName="rootConnector" presStyleLbl="node2" presStyleIdx="3" presStyleCnt="6"/>
      <dgm:spPr/>
    </dgm:pt>
    <dgm:pt modelId="{01C28AF9-3901-4BD0-910A-5C4974AF502A}" type="pres">
      <dgm:prSet presAssocID="{5ECC2158-CF7A-49C1-9A35-43F935650F5A}" presName="hierChild4" presStyleCnt="0"/>
      <dgm:spPr/>
    </dgm:pt>
    <dgm:pt modelId="{AAB74B4A-F88A-4390-BBC3-6EA92BEF8EAD}" type="pres">
      <dgm:prSet presAssocID="{A8262616-3496-412A-BB42-FEE1579E1B96}" presName="Name64" presStyleLbl="parChTrans1D3" presStyleIdx="3" presStyleCnt="6"/>
      <dgm:spPr/>
    </dgm:pt>
    <dgm:pt modelId="{D646D528-4AFB-46C7-B752-54D2EAB6ACCD}" type="pres">
      <dgm:prSet presAssocID="{2C93ED47-EAA7-4302-B890-897D9B4DCDD7}" presName="hierRoot2" presStyleCnt="0">
        <dgm:presLayoutVars>
          <dgm:hierBranch val="init"/>
        </dgm:presLayoutVars>
      </dgm:prSet>
      <dgm:spPr/>
    </dgm:pt>
    <dgm:pt modelId="{C193663B-36B1-42C7-BAAE-CF513D220AD3}" type="pres">
      <dgm:prSet presAssocID="{2C93ED47-EAA7-4302-B890-897D9B4DCDD7}" presName="rootComposite" presStyleCnt="0"/>
      <dgm:spPr/>
    </dgm:pt>
    <dgm:pt modelId="{BF2B5FE1-68E9-4F5B-8470-F6BFC9A52262}" type="pres">
      <dgm:prSet presAssocID="{2C93ED47-EAA7-4302-B890-897D9B4DCDD7}" presName="rootText" presStyleLbl="node3" presStyleIdx="3" presStyleCnt="6" custScaleX="151330" custScaleY="139648" custLinFactNeighborX="-24000" custLinFactNeighborY="0">
        <dgm:presLayoutVars>
          <dgm:chPref val="3"/>
        </dgm:presLayoutVars>
      </dgm:prSet>
      <dgm:spPr>
        <a:prstGeom prst="roundRect">
          <a:avLst/>
        </a:prstGeom>
      </dgm:spPr>
    </dgm:pt>
    <dgm:pt modelId="{276F361C-5CE1-4B9C-BB3E-E0DF484A9F01}" type="pres">
      <dgm:prSet presAssocID="{2C93ED47-EAA7-4302-B890-897D9B4DCDD7}" presName="rootConnector" presStyleLbl="node3" presStyleIdx="3" presStyleCnt="6"/>
      <dgm:spPr/>
    </dgm:pt>
    <dgm:pt modelId="{D81088AC-5311-40CA-A904-879A8CDA1B30}" type="pres">
      <dgm:prSet presAssocID="{2C93ED47-EAA7-4302-B890-897D9B4DCDD7}" presName="hierChild4" presStyleCnt="0"/>
      <dgm:spPr/>
    </dgm:pt>
    <dgm:pt modelId="{F35BCDCB-05C0-4D27-A140-143312EC6004}" type="pres">
      <dgm:prSet presAssocID="{EBA4B333-B67C-452B-99CF-D59376F3B4D0}" presName="Name64" presStyleLbl="parChTrans1D4" presStyleIdx="3" presStyleCnt="6"/>
      <dgm:spPr/>
    </dgm:pt>
    <dgm:pt modelId="{8F6CA38A-AD01-4916-BFD0-31185091F851}" type="pres">
      <dgm:prSet presAssocID="{73109676-BF8F-485F-AB93-979C0FB81F32}" presName="hierRoot2" presStyleCnt="0">
        <dgm:presLayoutVars>
          <dgm:hierBranch val="init"/>
        </dgm:presLayoutVars>
      </dgm:prSet>
      <dgm:spPr/>
    </dgm:pt>
    <dgm:pt modelId="{2DAAD68F-E055-469B-A4BB-D2E1CF3DB796}" type="pres">
      <dgm:prSet presAssocID="{73109676-BF8F-485F-AB93-979C0FB81F32}" presName="rootComposite" presStyleCnt="0"/>
      <dgm:spPr/>
    </dgm:pt>
    <dgm:pt modelId="{4FEA24A0-4433-42A9-B45A-3C0BE1A22261}" type="pres">
      <dgm:prSet presAssocID="{73109676-BF8F-485F-AB93-979C0FB81F32}" presName="rootText" presStyleLbl="node4" presStyleIdx="3" presStyleCnt="6" custScaleX="151330" custScaleY="139648" custLinFactNeighborX="56341" custLinFactNeighborY="142">
        <dgm:presLayoutVars>
          <dgm:chPref val="3"/>
        </dgm:presLayoutVars>
      </dgm:prSet>
      <dgm:spPr>
        <a:prstGeom prst="roundRect">
          <a:avLst/>
        </a:prstGeom>
      </dgm:spPr>
    </dgm:pt>
    <dgm:pt modelId="{BE892F8A-78AB-4EF9-ABDF-6280829B1DDF}" type="pres">
      <dgm:prSet presAssocID="{73109676-BF8F-485F-AB93-979C0FB81F32}" presName="rootConnector" presStyleLbl="node4" presStyleIdx="3" presStyleCnt="6"/>
      <dgm:spPr/>
    </dgm:pt>
    <dgm:pt modelId="{F8017F58-F50D-4A5B-A58B-39A0E951F1F1}" type="pres">
      <dgm:prSet presAssocID="{73109676-BF8F-485F-AB93-979C0FB81F32}" presName="hierChild4" presStyleCnt="0"/>
      <dgm:spPr/>
    </dgm:pt>
    <dgm:pt modelId="{806BE10E-9F59-44EE-A260-AF884BF5AB50}" type="pres">
      <dgm:prSet presAssocID="{73109676-BF8F-485F-AB93-979C0FB81F32}" presName="hierChild5" presStyleCnt="0"/>
      <dgm:spPr/>
    </dgm:pt>
    <dgm:pt modelId="{8C6AD9EC-66E7-4881-A6CD-234D5D34C351}" type="pres">
      <dgm:prSet presAssocID="{2C93ED47-EAA7-4302-B890-897D9B4DCDD7}" presName="hierChild5" presStyleCnt="0"/>
      <dgm:spPr/>
    </dgm:pt>
    <dgm:pt modelId="{C71D8C7A-AAD6-4E37-9D89-4C98C586DC3F}" type="pres">
      <dgm:prSet presAssocID="{5ECC2158-CF7A-49C1-9A35-43F935650F5A}" presName="hierChild5" presStyleCnt="0"/>
      <dgm:spPr/>
    </dgm:pt>
    <dgm:pt modelId="{72C157F1-29D9-4FFF-AA3C-D2EFB2504C99}" type="pres">
      <dgm:prSet presAssocID="{809231D3-BA59-4F84-9324-2C3E370A8D3A}" presName="Name64" presStyleLbl="parChTrans1D2" presStyleIdx="4" presStyleCnt="6"/>
      <dgm:spPr/>
    </dgm:pt>
    <dgm:pt modelId="{08FE17B3-DC62-4479-92CF-A2345348A245}" type="pres">
      <dgm:prSet presAssocID="{0EFE5C18-65C3-4CB6-B9EE-D8105DC470B0}" presName="hierRoot2" presStyleCnt="0">
        <dgm:presLayoutVars>
          <dgm:hierBranch val="init"/>
        </dgm:presLayoutVars>
      </dgm:prSet>
      <dgm:spPr/>
    </dgm:pt>
    <dgm:pt modelId="{56CFAE41-3163-427A-A469-A167414AB2F7}" type="pres">
      <dgm:prSet presAssocID="{0EFE5C18-65C3-4CB6-B9EE-D8105DC470B0}" presName="rootComposite" presStyleCnt="0"/>
      <dgm:spPr/>
    </dgm:pt>
    <dgm:pt modelId="{D27C5C7B-A247-4877-A633-7699CAB77B02}" type="pres">
      <dgm:prSet presAssocID="{0EFE5C18-65C3-4CB6-B9EE-D8105DC470B0}" presName="rootText" presStyleLbl="node2" presStyleIdx="4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42E15D77-4CC9-4E0C-B9E0-E5250D372D24}" type="pres">
      <dgm:prSet presAssocID="{0EFE5C18-65C3-4CB6-B9EE-D8105DC470B0}" presName="rootConnector" presStyleLbl="node2" presStyleIdx="4" presStyleCnt="6"/>
      <dgm:spPr/>
    </dgm:pt>
    <dgm:pt modelId="{78276133-75B2-4DED-BB2A-58209DB45C10}" type="pres">
      <dgm:prSet presAssocID="{0EFE5C18-65C3-4CB6-B9EE-D8105DC470B0}" presName="hierChild4" presStyleCnt="0"/>
      <dgm:spPr/>
    </dgm:pt>
    <dgm:pt modelId="{D6412BC0-5ED9-4510-BF5D-FBA05FB09F11}" type="pres">
      <dgm:prSet presAssocID="{92D05C08-80F6-421C-84FB-E635380E94B4}" presName="Name64" presStyleLbl="parChTrans1D3" presStyleIdx="4" presStyleCnt="6"/>
      <dgm:spPr/>
    </dgm:pt>
    <dgm:pt modelId="{2DB42DE2-82B5-4D23-BB7B-7E591A42DF57}" type="pres">
      <dgm:prSet presAssocID="{737008D3-9E71-4C81-9CCF-91B2ED50EF9C}" presName="hierRoot2" presStyleCnt="0">
        <dgm:presLayoutVars>
          <dgm:hierBranch val="init"/>
        </dgm:presLayoutVars>
      </dgm:prSet>
      <dgm:spPr/>
    </dgm:pt>
    <dgm:pt modelId="{A4C5698D-0C25-47C4-9130-5BA4AE4457F9}" type="pres">
      <dgm:prSet presAssocID="{737008D3-9E71-4C81-9CCF-91B2ED50EF9C}" presName="rootComposite" presStyleCnt="0"/>
      <dgm:spPr/>
    </dgm:pt>
    <dgm:pt modelId="{22FCE608-8C3E-4C3E-8A10-DE89BBB9A495}" type="pres">
      <dgm:prSet presAssocID="{737008D3-9E71-4C81-9CCF-91B2ED50EF9C}" presName="rootText" presStyleLbl="node3" presStyleIdx="4" presStyleCnt="6" custScaleX="151330" custScaleY="139648" custLinFactNeighborX="-24000" custLinFactNeighborY="2459">
        <dgm:presLayoutVars>
          <dgm:chPref val="3"/>
        </dgm:presLayoutVars>
      </dgm:prSet>
      <dgm:spPr>
        <a:prstGeom prst="roundRect">
          <a:avLst/>
        </a:prstGeom>
      </dgm:spPr>
    </dgm:pt>
    <dgm:pt modelId="{7393A2F0-7B9D-4E89-A911-6113C8242672}" type="pres">
      <dgm:prSet presAssocID="{737008D3-9E71-4C81-9CCF-91B2ED50EF9C}" presName="rootConnector" presStyleLbl="node3" presStyleIdx="4" presStyleCnt="6"/>
      <dgm:spPr/>
    </dgm:pt>
    <dgm:pt modelId="{EC56B802-21AE-4192-BFA0-6DA2AD838931}" type="pres">
      <dgm:prSet presAssocID="{737008D3-9E71-4C81-9CCF-91B2ED50EF9C}" presName="hierChild4" presStyleCnt="0"/>
      <dgm:spPr/>
    </dgm:pt>
    <dgm:pt modelId="{909CE802-7568-4FF8-9BC0-1FCC6F90B7A4}" type="pres">
      <dgm:prSet presAssocID="{EC55D55F-D3C3-429D-A775-CB9894264B0C}" presName="Name64" presStyleLbl="parChTrans1D4" presStyleIdx="4" presStyleCnt="6"/>
      <dgm:spPr/>
    </dgm:pt>
    <dgm:pt modelId="{CB6E23E5-8920-4D3E-B00A-319042062E40}" type="pres">
      <dgm:prSet presAssocID="{53D28322-DD21-4164-97AD-509DB905B45A}" presName="hierRoot2" presStyleCnt="0">
        <dgm:presLayoutVars>
          <dgm:hierBranch val="init"/>
        </dgm:presLayoutVars>
      </dgm:prSet>
      <dgm:spPr/>
    </dgm:pt>
    <dgm:pt modelId="{90774093-5C79-4426-AB10-3C2C56E6DFBB}" type="pres">
      <dgm:prSet presAssocID="{53D28322-DD21-4164-97AD-509DB905B45A}" presName="rootComposite" presStyleCnt="0"/>
      <dgm:spPr/>
    </dgm:pt>
    <dgm:pt modelId="{05CAE019-0AAB-458A-9F85-A5154DC33DB3}" type="pres">
      <dgm:prSet presAssocID="{53D28322-DD21-4164-97AD-509DB905B45A}" presName="rootText" presStyleLbl="node4" presStyleIdx="4" presStyleCnt="6" custScaleX="151330" custScaleY="139648" custLinFactNeighborX="56341" custLinFactNeighborY="2601">
        <dgm:presLayoutVars>
          <dgm:chPref val="3"/>
        </dgm:presLayoutVars>
      </dgm:prSet>
      <dgm:spPr>
        <a:prstGeom prst="roundRect">
          <a:avLst/>
        </a:prstGeom>
      </dgm:spPr>
    </dgm:pt>
    <dgm:pt modelId="{5A360CF1-F1F2-46BC-934B-08103D483782}" type="pres">
      <dgm:prSet presAssocID="{53D28322-DD21-4164-97AD-509DB905B45A}" presName="rootConnector" presStyleLbl="node4" presStyleIdx="4" presStyleCnt="6"/>
      <dgm:spPr/>
    </dgm:pt>
    <dgm:pt modelId="{159577ED-3EA1-4D4C-A22C-1E3BC0A565C1}" type="pres">
      <dgm:prSet presAssocID="{53D28322-DD21-4164-97AD-509DB905B45A}" presName="hierChild4" presStyleCnt="0"/>
      <dgm:spPr/>
    </dgm:pt>
    <dgm:pt modelId="{AC9BE1B9-E692-451F-B263-0E5489462D5A}" type="pres">
      <dgm:prSet presAssocID="{53D28322-DD21-4164-97AD-509DB905B45A}" presName="hierChild5" presStyleCnt="0"/>
      <dgm:spPr/>
    </dgm:pt>
    <dgm:pt modelId="{1D33D1E2-0A82-4E7C-B5F1-2088DAB77A64}" type="pres">
      <dgm:prSet presAssocID="{737008D3-9E71-4C81-9CCF-91B2ED50EF9C}" presName="hierChild5" presStyleCnt="0"/>
      <dgm:spPr/>
    </dgm:pt>
    <dgm:pt modelId="{CA489BE4-B7FB-4A20-B7EC-B2E377466BF4}" type="pres">
      <dgm:prSet presAssocID="{0EFE5C18-65C3-4CB6-B9EE-D8105DC470B0}" presName="hierChild5" presStyleCnt="0"/>
      <dgm:spPr/>
    </dgm:pt>
    <dgm:pt modelId="{046817C3-4847-4ED4-9D2B-D60925E102C8}" type="pres">
      <dgm:prSet presAssocID="{0D389D96-1ECE-4650-8CDA-913518FB6DC0}" presName="Name64" presStyleLbl="parChTrans1D2" presStyleIdx="5" presStyleCnt="6"/>
      <dgm:spPr/>
    </dgm:pt>
    <dgm:pt modelId="{BAC64C18-87B5-4356-BAA9-4BBDA3F24F51}" type="pres">
      <dgm:prSet presAssocID="{FE8B25AA-CDF0-4CAF-AC8E-90CED9C7CEE8}" presName="hierRoot2" presStyleCnt="0">
        <dgm:presLayoutVars>
          <dgm:hierBranch val="init"/>
        </dgm:presLayoutVars>
      </dgm:prSet>
      <dgm:spPr/>
    </dgm:pt>
    <dgm:pt modelId="{697F002B-3076-4E21-A8A1-46AF18BC5971}" type="pres">
      <dgm:prSet presAssocID="{FE8B25AA-CDF0-4CAF-AC8E-90CED9C7CEE8}" presName="rootComposite" presStyleCnt="0"/>
      <dgm:spPr/>
    </dgm:pt>
    <dgm:pt modelId="{A4960B7B-D2C7-4964-A532-1B77BB5F0C70}" type="pres">
      <dgm:prSet presAssocID="{FE8B25AA-CDF0-4CAF-AC8E-90CED9C7CEE8}" presName="rootText" presStyleLbl="node2" presStyleIdx="5" presStyleCnt="6" custScaleX="183713" custScaleY="139648" custLinFactNeighborX="-90751" custLinFactNeighborY="1191">
        <dgm:presLayoutVars>
          <dgm:chPref val="3"/>
        </dgm:presLayoutVars>
      </dgm:prSet>
      <dgm:spPr>
        <a:prstGeom prst="roundRect">
          <a:avLst/>
        </a:prstGeom>
      </dgm:spPr>
    </dgm:pt>
    <dgm:pt modelId="{791C218F-C256-47D4-B242-0055CBA9EA64}" type="pres">
      <dgm:prSet presAssocID="{FE8B25AA-CDF0-4CAF-AC8E-90CED9C7CEE8}" presName="rootConnector" presStyleLbl="node2" presStyleIdx="5" presStyleCnt="6"/>
      <dgm:spPr/>
    </dgm:pt>
    <dgm:pt modelId="{B054F229-1CD9-4D32-BE3F-68242ACE61C9}" type="pres">
      <dgm:prSet presAssocID="{FE8B25AA-CDF0-4CAF-AC8E-90CED9C7CEE8}" presName="hierChild4" presStyleCnt="0"/>
      <dgm:spPr/>
    </dgm:pt>
    <dgm:pt modelId="{2D92F4F7-486B-4695-B0AF-4F2D554CA079}" type="pres">
      <dgm:prSet presAssocID="{B09EE93E-ED1D-4968-AB9F-7417C8E9E79D}" presName="Name64" presStyleLbl="parChTrans1D3" presStyleIdx="5" presStyleCnt="6"/>
      <dgm:spPr/>
    </dgm:pt>
    <dgm:pt modelId="{1DACF9FB-C722-40D4-87D0-9241CF0BA5B3}" type="pres">
      <dgm:prSet presAssocID="{3B1C6DA1-5CCB-4565-AA5E-985ED2980B42}" presName="hierRoot2" presStyleCnt="0">
        <dgm:presLayoutVars>
          <dgm:hierBranch val="init"/>
        </dgm:presLayoutVars>
      </dgm:prSet>
      <dgm:spPr/>
    </dgm:pt>
    <dgm:pt modelId="{2C644DC3-2089-463A-A93F-950D391E5368}" type="pres">
      <dgm:prSet presAssocID="{3B1C6DA1-5CCB-4565-AA5E-985ED2980B42}" presName="rootComposite" presStyleCnt="0"/>
      <dgm:spPr/>
    </dgm:pt>
    <dgm:pt modelId="{802DF867-18C8-4505-B05C-E0A54EAE97A8}" type="pres">
      <dgm:prSet presAssocID="{3B1C6DA1-5CCB-4565-AA5E-985ED2980B42}" presName="rootText" presStyleLbl="node3" presStyleIdx="5" presStyleCnt="6" custScaleX="151330" custScaleY="139648" custLinFactNeighborX="-24000" custLinFactNeighborY="436">
        <dgm:presLayoutVars>
          <dgm:chPref val="3"/>
        </dgm:presLayoutVars>
      </dgm:prSet>
      <dgm:spPr>
        <a:prstGeom prst="roundRect">
          <a:avLst/>
        </a:prstGeom>
      </dgm:spPr>
    </dgm:pt>
    <dgm:pt modelId="{67BC8C25-5267-4A13-ACC7-FDBA1F6C8AE0}" type="pres">
      <dgm:prSet presAssocID="{3B1C6DA1-5CCB-4565-AA5E-985ED2980B42}" presName="rootConnector" presStyleLbl="node3" presStyleIdx="5" presStyleCnt="6"/>
      <dgm:spPr/>
    </dgm:pt>
    <dgm:pt modelId="{B73D9CBD-B392-486F-8082-99CDCFB82C2B}" type="pres">
      <dgm:prSet presAssocID="{3B1C6DA1-5CCB-4565-AA5E-985ED2980B42}" presName="hierChild4" presStyleCnt="0"/>
      <dgm:spPr/>
    </dgm:pt>
    <dgm:pt modelId="{8AC7B6EA-29E1-40F3-A33F-E8ADA51B339C}" type="pres">
      <dgm:prSet presAssocID="{180D0599-90B6-4785-8678-DC32E7B7C8B8}" presName="Name64" presStyleLbl="parChTrans1D4" presStyleIdx="5" presStyleCnt="6"/>
      <dgm:spPr/>
    </dgm:pt>
    <dgm:pt modelId="{588C5FD5-8AEE-4C11-8488-DC974CC3474C}" type="pres">
      <dgm:prSet presAssocID="{AA8445A0-A60E-4506-B220-4C9E803ACF73}" presName="hierRoot2" presStyleCnt="0">
        <dgm:presLayoutVars>
          <dgm:hierBranch val="init"/>
        </dgm:presLayoutVars>
      </dgm:prSet>
      <dgm:spPr/>
    </dgm:pt>
    <dgm:pt modelId="{64816C3F-DB41-4FD4-BD25-290C5430358F}" type="pres">
      <dgm:prSet presAssocID="{AA8445A0-A60E-4506-B220-4C9E803ACF73}" presName="rootComposite" presStyleCnt="0"/>
      <dgm:spPr/>
    </dgm:pt>
    <dgm:pt modelId="{6222DEDA-79C2-4B1F-895E-8EB55D6D3CA2}" type="pres">
      <dgm:prSet presAssocID="{AA8445A0-A60E-4506-B220-4C9E803ACF73}" presName="rootText" presStyleLbl="node4" presStyleIdx="5" presStyleCnt="6" custScaleX="151330" custScaleY="139648" custLinFactNeighborX="56341" custLinFactNeighborY="142">
        <dgm:presLayoutVars>
          <dgm:chPref val="3"/>
        </dgm:presLayoutVars>
      </dgm:prSet>
      <dgm:spPr>
        <a:prstGeom prst="roundRect">
          <a:avLst/>
        </a:prstGeom>
      </dgm:spPr>
    </dgm:pt>
    <dgm:pt modelId="{A89C24B5-CDDA-4F20-9073-162B6BE8E89A}" type="pres">
      <dgm:prSet presAssocID="{AA8445A0-A60E-4506-B220-4C9E803ACF73}" presName="rootConnector" presStyleLbl="node4" presStyleIdx="5" presStyleCnt="6"/>
      <dgm:spPr/>
    </dgm:pt>
    <dgm:pt modelId="{50D906EC-0A16-496F-AA41-1AD1D38AA79C}" type="pres">
      <dgm:prSet presAssocID="{AA8445A0-A60E-4506-B220-4C9E803ACF73}" presName="hierChild4" presStyleCnt="0"/>
      <dgm:spPr/>
    </dgm:pt>
    <dgm:pt modelId="{5F78DF1E-92B3-45E2-836E-2804C8B91020}" type="pres">
      <dgm:prSet presAssocID="{AA8445A0-A60E-4506-B220-4C9E803ACF73}" presName="hierChild5" presStyleCnt="0"/>
      <dgm:spPr/>
    </dgm:pt>
    <dgm:pt modelId="{BDEA751E-23EE-4DFF-B2A4-B7A4BD1C47FA}" type="pres">
      <dgm:prSet presAssocID="{3B1C6DA1-5CCB-4565-AA5E-985ED2980B42}" presName="hierChild5" presStyleCnt="0"/>
      <dgm:spPr/>
    </dgm:pt>
    <dgm:pt modelId="{D353FB58-E0CF-4B92-A83D-6F0F10D8007E}" type="pres">
      <dgm:prSet presAssocID="{FE8B25AA-CDF0-4CAF-AC8E-90CED9C7CEE8}" presName="hierChild5" presStyleCnt="0"/>
      <dgm:spPr/>
    </dgm:pt>
    <dgm:pt modelId="{182D9666-5F7D-4374-BC3A-74B62E633267}" type="pres">
      <dgm:prSet presAssocID="{972DA19A-F0DE-4195-88C2-A8497AFFBB49}" presName="hierChild3" presStyleCnt="0"/>
      <dgm:spPr/>
    </dgm:pt>
  </dgm:ptLst>
  <dgm:cxnLst>
    <dgm:cxn modelId="{99E4A102-93BE-4490-8338-EDAB0FD2DE2C}" type="presOf" srcId="{F64EB05D-4FA8-4720-88AC-AB59AB31F4C0}" destId="{9F106F4D-2A7B-43A5-891C-FA845651D51C}" srcOrd="1" destOrd="0" presId="urn:microsoft.com/office/officeart/2009/3/layout/HorizontalOrganizationChart"/>
    <dgm:cxn modelId="{ECB87A04-833A-4800-905F-381B6DBDF61C}" type="presOf" srcId="{737008D3-9E71-4C81-9CCF-91B2ED50EF9C}" destId="{7393A2F0-7B9D-4E89-A911-6113C8242672}" srcOrd="1" destOrd="0" presId="urn:microsoft.com/office/officeart/2009/3/layout/HorizontalOrganizationChart"/>
    <dgm:cxn modelId="{CC67650A-DDDC-4D3A-95DF-F8F20832F536}" srcId="{EA880E04-556C-4124-B3D5-823E47CCAA61}" destId="{5F4E9734-88E0-4161-84F4-05A129F1149F}" srcOrd="0" destOrd="0" parTransId="{DAAD1A22-9D81-45F8-9D88-97836A7AFDDE}" sibTransId="{8FD15839-A71F-40DE-B81F-ABB845FA0D09}"/>
    <dgm:cxn modelId="{D1594712-2EC4-4ECA-BC36-2B91B0D8266C}" type="presOf" srcId="{EA880E04-556C-4124-B3D5-823E47CCAA61}" destId="{BA37A039-8231-408B-88D6-34F135D4720D}" srcOrd="0" destOrd="0" presId="urn:microsoft.com/office/officeart/2009/3/layout/HorizontalOrganizationChart"/>
    <dgm:cxn modelId="{2DA31114-ADD4-4301-9630-6C6C4771FAA5}" srcId="{2C93ED47-EAA7-4302-B890-897D9B4DCDD7}" destId="{73109676-BF8F-485F-AB93-979C0FB81F32}" srcOrd="0" destOrd="0" parTransId="{EBA4B333-B67C-452B-99CF-D59376F3B4D0}" sibTransId="{E5034395-2F59-416C-8144-E3852B13235D}"/>
    <dgm:cxn modelId="{254EEB1C-0C55-45E2-B838-7FCC284D46F5}" type="presOf" srcId="{AA8445A0-A60E-4506-B220-4C9E803ACF73}" destId="{6222DEDA-79C2-4B1F-895E-8EB55D6D3CA2}" srcOrd="0" destOrd="0" presId="urn:microsoft.com/office/officeart/2009/3/layout/HorizontalOrganizationChart"/>
    <dgm:cxn modelId="{20FDCB1E-5409-47F9-871F-E2A15E6A1816}" type="presOf" srcId="{5BED418B-1B2E-433C-A624-6C1BA48AE663}" destId="{D11F3CF4-9BE3-4001-95F5-F7CCA0F5CE3D}" srcOrd="0" destOrd="0" presId="urn:microsoft.com/office/officeart/2009/3/layout/HorizontalOrganizationChart"/>
    <dgm:cxn modelId="{71C6E020-0204-4F13-AB95-4BDA76EDAAAC}" type="presOf" srcId="{3AFA7D1A-B816-4A2C-B624-53409C96990C}" destId="{640D9B97-E395-4379-9310-B6600B550DE7}" srcOrd="0" destOrd="0" presId="urn:microsoft.com/office/officeart/2009/3/layout/HorizontalOrganizationChart"/>
    <dgm:cxn modelId="{5D61F820-7631-4E33-AFBB-E29DA011F862}" type="presOf" srcId="{809231D3-BA59-4F84-9324-2C3E370A8D3A}" destId="{72C157F1-29D9-4FFF-AA3C-D2EFB2504C99}" srcOrd="0" destOrd="0" presId="urn:microsoft.com/office/officeart/2009/3/layout/HorizontalOrganizationChart"/>
    <dgm:cxn modelId="{74A55722-114B-4018-93C8-05ABC04C662A}" type="presOf" srcId="{5ECC2158-CF7A-49C1-9A35-43F935650F5A}" destId="{43CCD05C-F67F-48E4-8506-7F93C107E68E}" srcOrd="0" destOrd="0" presId="urn:microsoft.com/office/officeart/2009/3/layout/HorizontalOrganizationChart"/>
    <dgm:cxn modelId="{933D9F23-FA20-4E55-A742-DB44350BAC03}" type="presOf" srcId="{DAAD1A22-9D81-45F8-9D88-97836A7AFDDE}" destId="{27B7AC9A-8103-4488-B2C2-94A2C34E7DFC}" srcOrd="0" destOrd="0" presId="urn:microsoft.com/office/officeart/2009/3/layout/HorizontalOrganizationChart"/>
    <dgm:cxn modelId="{937DFC23-22B8-4378-9694-047B4CE5914D}" srcId="{A3785731-109F-4B4F-967A-378649B428B1}" destId="{F64EB05D-4FA8-4720-88AC-AB59AB31F4C0}" srcOrd="0" destOrd="0" parTransId="{B832B30B-5F50-4CDD-A5F1-336674F057F7}" sibTransId="{8F97F416-C202-4B38-B803-F8DDF1C118E4}"/>
    <dgm:cxn modelId="{8FD61925-E8EF-428B-8636-1709562D4E7A}" type="presOf" srcId="{B09EE93E-ED1D-4968-AB9F-7417C8E9E79D}" destId="{2D92F4F7-486B-4695-B0AF-4F2D554CA079}" srcOrd="0" destOrd="0" presId="urn:microsoft.com/office/officeart/2009/3/layout/HorizontalOrganizationChart"/>
    <dgm:cxn modelId="{35B08C27-80D6-4B56-91FB-7674D63003B6}" type="presOf" srcId="{243FCF28-D37A-4E37-A211-D22A0E53DD2C}" destId="{D511FD58-653D-4C87-B9A3-A642FEB4E49B}" srcOrd="0" destOrd="0" presId="urn:microsoft.com/office/officeart/2009/3/layout/HorizontalOrganizationChart"/>
    <dgm:cxn modelId="{E097A527-5C92-4FC9-ADBC-E342D2667F7E}" srcId="{5F4E9734-88E0-4161-84F4-05A129F1149F}" destId="{48BEF21E-4DD2-4279-B52C-357F0B859E0C}" srcOrd="0" destOrd="0" parTransId="{78DBFB36-F71D-41E0-95C8-F13CCA4EB965}" sibTransId="{BB2E277A-A53F-4489-BB55-C804497FC8C9}"/>
    <dgm:cxn modelId="{81C5FB29-9177-4852-96A2-97041DE46CBA}" srcId="{972DA19A-F0DE-4195-88C2-A8497AFFBB49}" destId="{FE8B25AA-CDF0-4CAF-AC8E-90CED9C7CEE8}" srcOrd="5" destOrd="0" parTransId="{0D389D96-1ECE-4650-8CDA-913518FB6DC0}" sibTransId="{D15818B5-7258-4A54-83E9-48E28C382AA8}"/>
    <dgm:cxn modelId="{9498962B-28B0-4312-8708-081542DA78DB}" srcId="{0EFE5C18-65C3-4CB6-B9EE-D8105DC470B0}" destId="{737008D3-9E71-4C81-9CCF-91B2ED50EF9C}" srcOrd="0" destOrd="0" parTransId="{92D05C08-80F6-421C-84FB-E635380E94B4}" sibTransId="{496E9198-AEDC-4A50-83E1-A90EC518BA53}"/>
    <dgm:cxn modelId="{46FB512C-364D-4F91-8AD9-37D7B8BDC47E}" type="presOf" srcId="{0EFE5C18-65C3-4CB6-B9EE-D8105DC470B0}" destId="{D27C5C7B-A247-4877-A633-7699CAB77B02}" srcOrd="0" destOrd="0" presId="urn:microsoft.com/office/officeart/2009/3/layout/HorizontalOrganizationChart"/>
    <dgm:cxn modelId="{F9B6B12F-22B6-41E0-BB86-1E8C16D2F807}" type="presOf" srcId="{48BEF21E-4DD2-4279-B52C-357F0B859E0C}" destId="{1AD8233D-B116-45DA-ADB5-4FD62764A8B5}" srcOrd="1" destOrd="0" presId="urn:microsoft.com/office/officeart/2009/3/layout/HorizontalOrganizationChart"/>
    <dgm:cxn modelId="{28550C30-9F00-4D63-B2AF-7E0957735DA1}" type="presOf" srcId="{EA880E04-556C-4124-B3D5-823E47CCAA61}" destId="{0348480F-C7C8-4C41-9453-8CC20CD70DDE}" srcOrd="1" destOrd="0" presId="urn:microsoft.com/office/officeart/2009/3/layout/HorizontalOrganizationChart"/>
    <dgm:cxn modelId="{830C8735-8F3D-4B53-A7AC-A92817AD36FC}" type="presOf" srcId="{AA8445A0-A60E-4506-B220-4C9E803ACF73}" destId="{A89C24B5-CDDA-4F20-9073-162B6BE8E89A}" srcOrd="1" destOrd="0" presId="urn:microsoft.com/office/officeart/2009/3/layout/HorizontalOrganizationChart"/>
    <dgm:cxn modelId="{3C153D37-045E-4190-86AE-4B05109828C0}" srcId="{972DA19A-F0DE-4195-88C2-A8497AFFBB49}" destId="{A3785731-109F-4B4F-967A-378649B428B1}" srcOrd="1" destOrd="0" parTransId="{D36874EC-EB26-474C-AD1B-92F19360C769}" sibTransId="{B32472DA-1FB1-49E8-8397-EB3C4D811C42}"/>
    <dgm:cxn modelId="{43DFB63E-3FD6-42C6-B133-6F2F1BD8DFDE}" type="presOf" srcId="{4597A887-74C8-4BC8-AC40-5CD01000DF75}" destId="{E9E952DE-C054-4BAF-B175-7684D3688AC1}" srcOrd="0" destOrd="0" presId="urn:microsoft.com/office/officeart/2009/3/layout/HorizontalOrganizationChart"/>
    <dgm:cxn modelId="{05D1F53E-3055-4D40-A767-6B27F665596F}" type="presOf" srcId="{2E8C6C63-37EC-4B88-8BA5-B856AC47FE99}" destId="{EBBBF7DE-5B06-4C01-8382-BF1F016BC682}" srcOrd="0" destOrd="0" presId="urn:microsoft.com/office/officeart/2009/3/layout/HorizontalOrganizationChart"/>
    <dgm:cxn modelId="{C1374D3F-AF62-43F8-97DB-9BA077408309}" type="presOf" srcId="{48BEF21E-4DD2-4279-B52C-357F0B859E0C}" destId="{1DE691EC-C261-492E-8960-D34550A092F2}" srcOrd="0" destOrd="0" presId="urn:microsoft.com/office/officeart/2009/3/layout/HorizontalOrganizationChart"/>
    <dgm:cxn modelId="{4402C45F-CE53-4309-81AC-FF8D605C18C2}" srcId="{3AFA7D1A-B816-4A2C-B624-53409C96990C}" destId="{972DA19A-F0DE-4195-88C2-A8497AFFBB49}" srcOrd="0" destOrd="0" parTransId="{A36F6D0F-175F-4210-86C8-149F888E2F29}" sibTransId="{136D3CF0-3710-4424-9229-50AC1C297242}"/>
    <dgm:cxn modelId="{A1E94265-C6FF-4093-BE06-55B02654E073}" type="presOf" srcId="{E7A627DF-6D2B-4778-BD7A-F778BB44CED0}" destId="{68689893-58CE-4724-BB72-ED0C97775120}" srcOrd="1" destOrd="0" presId="urn:microsoft.com/office/officeart/2009/3/layout/HorizontalOrganizationChart"/>
    <dgm:cxn modelId="{428DD566-5220-47AA-B482-2CD65C0B4811}" type="presOf" srcId="{A3785731-109F-4B4F-967A-378649B428B1}" destId="{45337472-D653-4CC4-BFE0-9EAB29234A68}" srcOrd="0" destOrd="0" presId="urn:microsoft.com/office/officeart/2009/3/layout/HorizontalOrganizationChart"/>
    <dgm:cxn modelId="{077E9A48-D891-4D4B-BEC8-EB64D50E9F48}" type="presOf" srcId="{FF2A1DA1-7764-4E8A-A360-3739D97E9671}" destId="{3FBC66CD-236C-4015-B3C5-E964F13EBF51}" srcOrd="0" destOrd="0" presId="urn:microsoft.com/office/officeart/2009/3/layout/HorizontalOrganizationChart"/>
    <dgm:cxn modelId="{01FB4E6E-00AD-41CE-85E6-DC43215AAF31}" srcId="{737008D3-9E71-4C81-9CCF-91B2ED50EF9C}" destId="{53D28322-DD21-4164-97AD-509DB905B45A}" srcOrd="0" destOrd="0" parTransId="{EC55D55F-D3C3-429D-A775-CB9894264B0C}" sibTransId="{7ECAD7B4-845A-4D7F-9579-651C12CFB1B5}"/>
    <dgm:cxn modelId="{33FAAE6E-158F-46A5-9829-CA4285049964}" type="presOf" srcId="{2C93ED47-EAA7-4302-B890-897D9B4DCDD7}" destId="{276F361C-5CE1-4B9C-BB3E-E0DF484A9F01}" srcOrd="1" destOrd="0" presId="urn:microsoft.com/office/officeart/2009/3/layout/HorizontalOrganizationChart"/>
    <dgm:cxn modelId="{E3DE8F4F-3EC7-47B5-9820-86FF6F4C01E5}" type="presOf" srcId="{EC55D55F-D3C3-429D-A775-CB9894264B0C}" destId="{909CE802-7568-4FF8-9BC0-1FCC6F90B7A4}" srcOrd="0" destOrd="0" presId="urn:microsoft.com/office/officeart/2009/3/layout/HorizontalOrganizationChart"/>
    <dgm:cxn modelId="{D40C5751-3026-47F6-8E83-CBC6014F9B27}" type="presOf" srcId="{972DA19A-F0DE-4195-88C2-A8497AFFBB49}" destId="{5AC076F3-0DA4-416D-BA96-F1D60B5D7256}" srcOrd="0" destOrd="0" presId="urn:microsoft.com/office/officeart/2009/3/layout/HorizontalOrganizationChart"/>
    <dgm:cxn modelId="{FA290174-2F69-4E53-AF07-76B1A340E51E}" srcId="{972DA19A-F0DE-4195-88C2-A8497AFFBB49}" destId="{E7A627DF-6D2B-4778-BD7A-F778BB44CED0}" srcOrd="2" destOrd="0" parTransId="{5BED418B-1B2E-433C-A624-6C1BA48AE663}" sibTransId="{55C9D17A-5D9D-46D8-8C6A-EE1235EE9D24}"/>
    <dgm:cxn modelId="{95D0EE74-7C47-4EF9-AD46-F4989702138A}" srcId="{3B1C6DA1-5CCB-4565-AA5E-985ED2980B42}" destId="{AA8445A0-A60E-4506-B220-4C9E803ACF73}" srcOrd="0" destOrd="0" parTransId="{180D0599-90B6-4785-8678-DC32E7B7C8B8}" sibTransId="{E033EB05-84BA-46C1-A9E0-B96738262A0E}"/>
    <dgm:cxn modelId="{4CC3ED55-1FC0-4779-9D49-8CC1338D2736}" type="presOf" srcId="{2C93ED47-EAA7-4302-B890-897D9B4DCDD7}" destId="{BF2B5FE1-68E9-4F5B-8470-F6BFC9A52262}" srcOrd="0" destOrd="0" presId="urn:microsoft.com/office/officeart/2009/3/layout/HorizontalOrganizationChart"/>
    <dgm:cxn modelId="{BC7DB556-14EF-491C-80F1-CBC0A374B778}" type="presOf" srcId="{0D389D96-1ECE-4650-8CDA-913518FB6DC0}" destId="{046817C3-4847-4ED4-9D2B-D60925E102C8}" srcOrd="0" destOrd="0" presId="urn:microsoft.com/office/officeart/2009/3/layout/HorizontalOrganizationChart"/>
    <dgm:cxn modelId="{D04E7B57-7456-435B-BA77-86394E9EB245}" type="presOf" srcId="{A069FF78-F816-4438-AF4A-D85B709E6F03}" destId="{03039803-9473-4500-9ED4-54F193A43437}" srcOrd="0" destOrd="0" presId="urn:microsoft.com/office/officeart/2009/3/layout/HorizontalOrganizationChart"/>
    <dgm:cxn modelId="{F29BA758-9577-4732-BC74-F5BD8188EF06}" srcId="{972DA19A-F0DE-4195-88C2-A8497AFFBB49}" destId="{5ECC2158-CF7A-49C1-9A35-43F935650F5A}" srcOrd="3" destOrd="0" parTransId="{2E8C6C63-37EC-4B88-8BA5-B856AC47FE99}" sibTransId="{C90B9B63-EBB3-4A44-ACB1-F1C4BE5F0862}"/>
    <dgm:cxn modelId="{EB146D83-21A7-4D45-B94A-3202146481B9}" type="presOf" srcId="{78DBFB36-F71D-41E0-95C8-F13CCA4EB965}" destId="{D953026E-CD6F-4A96-BD15-3A89752DC905}" srcOrd="0" destOrd="0" presId="urn:microsoft.com/office/officeart/2009/3/layout/HorizontalOrganizationChart"/>
    <dgm:cxn modelId="{B9995483-BF2C-4F90-A68B-56040A30DDFA}" type="presOf" srcId="{53D28322-DD21-4164-97AD-509DB905B45A}" destId="{5A360CF1-F1F2-46BC-934B-08103D483782}" srcOrd="1" destOrd="0" presId="urn:microsoft.com/office/officeart/2009/3/layout/HorizontalOrganizationChart"/>
    <dgm:cxn modelId="{42721B91-7C20-4ADE-87CE-ED8DAD171DE8}" type="presOf" srcId="{53D28322-DD21-4164-97AD-509DB905B45A}" destId="{05CAE019-0AAB-458A-9F85-A5154DC33DB3}" srcOrd="0" destOrd="0" presId="urn:microsoft.com/office/officeart/2009/3/layout/HorizontalOrganizationChart"/>
    <dgm:cxn modelId="{DD3FAA91-2C2C-42C8-93F7-05AD486BA5FF}" type="presOf" srcId="{180D0599-90B6-4785-8678-DC32E7B7C8B8}" destId="{8AC7B6EA-29E1-40F3-A33F-E8ADA51B339C}" srcOrd="0" destOrd="0" presId="urn:microsoft.com/office/officeart/2009/3/layout/HorizontalOrganizationChart"/>
    <dgm:cxn modelId="{55A6A592-E29B-490A-BEE9-16AF9C7621E0}" type="presOf" srcId="{5F4E9734-88E0-4161-84F4-05A129F1149F}" destId="{474F64F9-BFDE-4205-8701-2C047112D000}" srcOrd="1" destOrd="0" presId="urn:microsoft.com/office/officeart/2009/3/layout/HorizontalOrganizationChart"/>
    <dgm:cxn modelId="{0B1F2793-9A77-4EB2-B8F8-A5F69D63F1B0}" type="presOf" srcId="{737008D3-9E71-4C81-9CCF-91B2ED50EF9C}" destId="{22FCE608-8C3E-4C3E-8A10-DE89BBB9A495}" srcOrd="0" destOrd="0" presId="urn:microsoft.com/office/officeart/2009/3/layout/HorizontalOrganizationChart"/>
    <dgm:cxn modelId="{0760C093-98E3-43E0-941E-A965B42477F8}" type="presOf" srcId="{73109676-BF8F-485F-AB93-979C0FB81F32}" destId="{BE892F8A-78AB-4EF9-ABDF-6280829B1DDF}" srcOrd="1" destOrd="0" presId="urn:microsoft.com/office/officeart/2009/3/layout/HorizontalOrganizationChart"/>
    <dgm:cxn modelId="{292CD896-8BD3-43F6-B4EB-1F783780DDE7}" srcId="{F64EB05D-4FA8-4720-88AC-AB59AB31F4C0}" destId="{D0F61192-DEA3-4974-8320-A881C61A6D99}" srcOrd="0" destOrd="0" parTransId="{B85AAA5E-4511-44F9-A457-05FD2BB0C0A6}" sibTransId="{73F988D5-8E06-4377-AC24-AEDED74730F7}"/>
    <dgm:cxn modelId="{D69BC19D-AF28-434A-9399-A36C3498B318}" srcId="{243FCF28-D37A-4E37-A211-D22A0E53DD2C}" destId="{A23F5323-85F3-44D6-8FE3-A90EB795BF32}" srcOrd="0" destOrd="0" parTransId="{A069FF78-F816-4438-AF4A-D85B709E6F03}" sibTransId="{D8A522D5-6EBB-4C22-BA35-1CEA37E4634B}"/>
    <dgm:cxn modelId="{187CCF9D-A9C2-4387-B9B2-63DD72DB385F}" type="presOf" srcId="{B832B30B-5F50-4CDD-A5F1-336674F057F7}" destId="{1222BE1C-9423-4D0D-BA2A-7C1FF61EA18D}" srcOrd="0" destOrd="0" presId="urn:microsoft.com/office/officeart/2009/3/layout/HorizontalOrganizationChart"/>
    <dgm:cxn modelId="{45C4959E-26FF-4A2D-995D-359732E208EE}" type="presOf" srcId="{73109676-BF8F-485F-AB93-979C0FB81F32}" destId="{4FEA24A0-4433-42A9-B45A-3C0BE1A22261}" srcOrd="0" destOrd="0" presId="urn:microsoft.com/office/officeart/2009/3/layout/HorizontalOrganizationChart"/>
    <dgm:cxn modelId="{3104E0A2-2139-4D0B-BF9C-09B83268E567}" type="presOf" srcId="{E7A627DF-6D2B-4778-BD7A-F778BB44CED0}" destId="{D8F07A57-3EEB-49E0-A087-92D4BB62336A}" srcOrd="0" destOrd="0" presId="urn:microsoft.com/office/officeart/2009/3/layout/HorizontalOrganizationChart"/>
    <dgm:cxn modelId="{508211AA-D63A-4E7B-9A89-D0D4C9221F8B}" type="presOf" srcId="{F64EB05D-4FA8-4720-88AC-AB59AB31F4C0}" destId="{A849629A-AA87-48AA-8FA2-45E2C5047F32}" srcOrd="0" destOrd="0" presId="urn:microsoft.com/office/officeart/2009/3/layout/HorizontalOrganizationChart"/>
    <dgm:cxn modelId="{CEC0A4AC-1902-480F-884D-DEA6697BD1B1}" type="presOf" srcId="{D0F61192-DEA3-4974-8320-A881C61A6D99}" destId="{E5EEBCD5-77C3-4FC2-8BC4-CE4330225C07}" srcOrd="1" destOrd="0" presId="urn:microsoft.com/office/officeart/2009/3/layout/HorizontalOrganizationChart"/>
    <dgm:cxn modelId="{AC12D0AC-0660-466C-90F5-C4E757DEF020}" type="presOf" srcId="{972DA19A-F0DE-4195-88C2-A8497AFFBB49}" destId="{8D6F78E5-52B7-4437-8D53-79C1817BFC69}" srcOrd="1" destOrd="0" presId="urn:microsoft.com/office/officeart/2009/3/layout/HorizontalOrganizationChart"/>
    <dgm:cxn modelId="{3700AAB0-4273-49DF-AB0B-039CF9918F12}" type="presOf" srcId="{A23F5323-85F3-44D6-8FE3-A90EB795BF32}" destId="{9D535536-A45B-428F-B25E-C6B5E1A0A101}" srcOrd="0" destOrd="0" presId="urn:microsoft.com/office/officeart/2009/3/layout/HorizontalOrganizationChart"/>
    <dgm:cxn modelId="{9BE88FB3-0B7C-4F3E-A280-4F332D88BF6A}" type="presOf" srcId="{3B1C6DA1-5CCB-4565-AA5E-985ED2980B42}" destId="{67BC8C25-5267-4A13-ACC7-FDBA1F6C8AE0}" srcOrd="1" destOrd="0" presId="urn:microsoft.com/office/officeart/2009/3/layout/HorizontalOrganizationChart"/>
    <dgm:cxn modelId="{E6A548BF-AE86-435C-9B95-FA1AA13F81CB}" type="presOf" srcId="{D36874EC-EB26-474C-AD1B-92F19360C769}" destId="{F6F8857A-4658-4489-9556-A92D16175513}" srcOrd="0" destOrd="0" presId="urn:microsoft.com/office/officeart/2009/3/layout/HorizontalOrganizationChart"/>
    <dgm:cxn modelId="{9DF533C1-BFDF-4435-BEE9-58F4ED57FD41}" srcId="{972DA19A-F0DE-4195-88C2-A8497AFFBB49}" destId="{0EFE5C18-65C3-4CB6-B9EE-D8105DC470B0}" srcOrd="4" destOrd="0" parTransId="{809231D3-BA59-4F84-9324-2C3E370A8D3A}" sibTransId="{F571617C-0E59-4F0A-90AC-CEC4E110450A}"/>
    <dgm:cxn modelId="{1F0DACC1-43D3-4894-8777-E12AB02E85F8}" srcId="{972DA19A-F0DE-4195-88C2-A8497AFFBB49}" destId="{EA880E04-556C-4124-B3D5-823E47CCAA61}" srcOrd="0" destOrd="0" parTransId="{FF2A1DA1-7764-4E8A-A360-3739D97E9671}" sibTransId="{8ACFF5CB-4365-42D3-93FF-DF058CC657BA}"/>
    <dgm:cxn modelId="{2BEFFEC1-5F2D-4A9D-AA3F-8AD348D63B27}" type="presOf" srcId="{5F4E9734-88E0-4161-84F4-05A129F1149F}" destId="{F7C7A283-8449-4A9F-B070-DD951761FB58}" srcOrd="0" destOrd="0" presId="urn:microsoft.com/office/officeart/2009/3/layout/HorizontalOrganizationChart"/>
    <dgm:cxn modelId="{9C72C1C6-1681-4375-AA5B-BE7FD75B92B6}" type="presOf" srcId="{A8262616-3496-412A-BB42-FEE1579E1B96}" destId="{AAB74B4A-F88A-4390-BBC3-6EA92BEF8EAD}" srcOrd="0" destOrd="0" presId="urn:microsoft.com/office/officeart/2009/3/layout/HorizontalOrganizationChart"/>
    <dgm:cxn modelId="{492723C8-F250-4B55-BE0B-A6268AFF616B}" type="presOf" srcId="{92D05C08-80F6-421C-84FB-E635380E94B4}" destId="{D6412BC0-5ED9-4510-BF5D-FBA05FB09F11}" srcOrd="0" destOrd="0" presId="urn:microsoft.com/office/officeart/2009/3/layout/HorizontalOrganizationChart"/>
    <dgm:cxn modelId="{5A0BA2CA-7976-4188-8969-F8371A4BA8AF}" type="presOf" srcId="{B85AAA5E-4511-44F9-A457-05FD2BB0C0A6}" destId="{C04EE54A-1EB6-4D7B-A4B2-1CDF94FF170F}" srcOrd="0" destOrd="0" presId="urn:microsoft.com/office/officeart/2009/3/layout/HorizontalOrganizationChart"/>
    <dgm:cxn modelId="{FC5A12CB-4E15-45C6-B717-80D8231EAE9B}" srcId="{FE8B25AA-CDF0-4CAF-AC8E-90CED9C7CEE8}" destId="{3B1C6DA1-5CCB-4565-AA5E-985ED2980B42}" srcOrd="0" destOrd="0" parTransId="{B09EE93E-ED1D-4968-AB9F-7417C8E9E79D}" sibTransId="{9E5E720D-554E-4930-A1F7-92E847F2F820}"/>
    <dgm:cxn modelId="{7DBF0AD3-801B-4548-AC0A-2A670D3077A1}" type="presOf" srcId="{A23F5323-85F3-44D6-8FE3-A90EB795BF32}" destId="{CABB8187-63C6-4220-AADE-48584A734132}" srcOrd="1" destOrd="0" presId="urn:microsoft.com/office/officeart/2009/3/layout/HorizontalOrganizationChart"/>
    <dgm:cxn modelId="{F5ADF8D3-A917-45FD-B80D-87D29CFB57EB}" type="presOf" srcId="{3B1C6DA1-5CCB-4565-AA5E-985ED2980B42}" destId="{802DF867-18C8-4505-B05C-E0A54EAE97A8}" srcOrd="0" destOrd="0" presId="urn:microsoft.com/office/officeart/2009/3/layout/HorizontalOrganizationChart"/>
    <dgm:cxn modelId="{FC43A5D7-0E6B-450D-89ED-4562EC7C9CB6}" type="presOf" srcId="{FE8B25AA-CDF0-4CAF-AC8E-90CED9C7CEE8}" destId="{791C218F-C256-47D4-B242-0055CBA9EA64}" srcOrd="1" destOrd="0" presId="urn:microsoft.com/office/officeart/2009/3/layout/HorizontalOrganizationChart"/>
    <dgm:cxn modelId="{7523A4DF-2E70-452F-83B4-37699B3A2CF1}" type="presOf" srcId="{EBA4B333-B67C-452B-99CF-D59376F3B4D0}" destId="{F35BCDCB-05C0-4D27-A140-143312EC6004}" srcOrd="0" destOrd="0" presId="urn:microsoft.com/office/officeart/2009/3/layout/HorizontalOrganizationChart"/>
    <dgm:cxn modelId="{AC19BEE4-79F9-49C5-A609-D8CFBAEAC64C}" type="presOf" srcId="{243FCF28-D37A-4E37-A211-D22A0E53DD2C}" destId="{822A39F2-A824-4FBD-A4EE-F27355A3F597}" srcOrd="1" destOrd="0" presId="urn:microsoft.com/office/officeart/2009/3/layout/HorizontalOrganizationChart"/>
    <dgm:cxn modelId="{1619D8E5-428C-436C-B3C9-8769F5460626}" type="presOf" srcId="{D0F61192-DEA3-4974-8320-A881C61A6D99}" destId="{CB9F0E71-81D6-4FA0-940A-B18AFB275E47}" srcOrd="0" destOrd="0" presId="urn:microsoft.com/office/officeart/2009/3/layout/HorizontalOrganizationChart"/>
    <dgm:cxn modelId="{798A09E8-33EF-4636-BC9B-092ABCAAFDB4}" type="presOf" srcId="{5ECC2158-CF7A-49C1-9A35-43F935650F5A}" destId="{7E5E29B8-B0D1-4731-9330-43FEA69FA035}" srcOrd="1" destOrd="0" presId="urn:microsoft.com/office/officeart/2009/3/layout/HorizontalOrganizationChart"/>
    <dgm:cxn modelId="{34E5FBED-65B8-401D-80AC-B2AFA209029A}" type="presOf" srcId="{0EFE5C18-65C3-4CB6-B9EE-D8105DC470B0}" destId="{42E15D77-4CC9-4E0C-B9E0-E5250D372D24}" srcOrd="1" destOrd="0" presId="urn:microsoft.com/office/officeart/2009/3/layout/HorizontalOrganizationChart"/>
    <dgm:cxn modelId="{7112A7F4-F1AD-48BD-8A70-346C0A62FEC7}" type="presOf" srcId="{A3785731-109F-4B4F-967A-378649B428B1}" destId="{537F4A48-0CAE-4861-9378-62271C8B96D0}" srcOrd="1" destOrd="0" presId="urn:microsoft.com/office/officeart/2009/3/layout/HorizontalOrganizationChart"/>
    <dgm:cxn modelId="{C5A596F5-FDF5-4DD0-B365-F350EC69EB75}" type="presOf" srcId="{FE8B25AA-CDF0-4CAF-AC8E-90CED9C7CEE8}" destId="{A4960B7B-D2C7-4964-A532-1B77BB5F0C70}" srcOrd="0" destOrd="0" presId="urn:microsoft.com/office/officeart/2009/3/layout/HorizontalOrganizationChart"/>
    <dgm:cxn modelId="{6FF9D2F7-8030-4813-B563-D1F1DB644B56}" srcId="{E7A627DF-6D2B-4778-BD7A-F778BB44CED0}" destId="{243FCF28-D37A-4E37-A211-D22A0E53DD2C}" srcOrd="0" destOrd="0" parTransId="{4597A887-74C8-4BC8-AC40-5CD01000DF75}" sibTransId="{6391FCDA-5AD3-44A2-97A2-C93FC6B6F41D}"/>
    <dgm:cxn modelId="{948D43FC-9205-4098-9736-1F4525DCC06C}" srcId="{5ECC2158-CF7A-49C1-9A35-43F935650F5A}" destId="{2C93ED47-EAA7-4302-B890-897D9B4DCDD7}" srcOrd="0" destOrd="0" parTransId="{A8262616-3496-412A-BB42-FEE1579E1B96}" sibTransId="{31DA285E-92F2-498E-9ECF-7A69179F7114}"/>
    <dgm:cxn modelId="{5CF4305C-5958-4992-8EE6-0C8E42A23AA8}" type="presParOf" srcId="{640D9B97-E395-4379-9310-B6600B550DE7}" destId="{DE9EA370-92F0-4D3B-A18B-09E0C2FB9AFF}" srcOrd="0" destOrd="0" presId="urn:microsoft.com/office/officeart/2009/3/layout/HorizontalOrganizationChart"/>
    <dgm:cxn modelId="{01FE3408-5DAB-4451-BB74-CECE74C411D4}" type="presParOf" srcId="{DE9EA370-92F0-4D3B-A18B-09E0C2FB9AFF}" destId="{7382F851-352C-435F-8202-0ED08DC21AD4}" srcOrd="0" destOrd="0" presId="urn:microsoft.com/office/officeart/2009/3/layout/HorizontalOrganizationChart"/>
    <dgm:cxn modelId="{B28A29B3-3290-4579-AF94-180DA9EB6B0E}" type="presParOf" srcId="{7382F851-352C-435F-8202-0ED08DC21AD4}" destId="{5AC076F3-0DA4-416D-BA96-F1D60B5D7256}" srcOrd="0" destOrd="0" presId="urn:microsoft.com/office/officeart/2009/3/layout/HorizontalOrganizationChart"/>
    <dgm:cxn modelId="{F52750E5-A460-43BA-9BD4-116C86D07826}" type="presParOf" srcId="{7382F851-352C-435F-8202-0ED08DC21AD4}" destId="{8D6F78E5-52B7-4437-8D53-79C1817BFC69}" srcOrd="1" destOrd="0" presId="urn:microsoft.com/office/officeart/2009/3/layout/HorizontalOrganizationChart"/>
    <dgm:cxn modelId="{0FCD74E5-2ED0-4A29-A0F7-D02DCB6B0296}" type="presParOf" srcId="{DE9EA370-92F0-4D3B-A18B-09E0C2FB9AFF}" destId="{F44F94D0-2AED-44A9-86FF-2E46BC2F6F80}" srcOrd="1" destOrd="0" presId="urn:microsoft.com/office/officeart/2009/3/layout/HorizontalOrganizationChart"/>
    <dgm:cxn modelId="{1DEC67DF-071D-477B-8613-B5F700A07EC1}" type="presParOf" srcId="{F44F94D0-2AED-44A9-86FF-2E46BC2F6F80}" destId="{3FBC66CD-236C-4015-B3C5-E964F13EBF51}" srcOrd="0" destOrd="0" presId="urn:microsoft.com/office/officeart/2009/3/layout/HorizontalOrganizationChart"/>
    <dgm:cxn modelId="{67D09A12-BBD6-4446-AE3F-6461A96FB8FF}" type="presParOf" srcId="{F44F94D0-2AED-44A9-86FF-2E46BC2F6F80}" destId="{820FF472-3BF3-4B9F-A588-A4B8671FA40E}" srcOrd="1" destOrd="0" presId="urn:microsoft.com/office/officeart/2009/3/layout/HorizontalOrganizationChart"/>
    <dgm:cxn modelId="{A4438BEA-8A7A-4E1C-A5AA-DBDCFD483AD4}" type="presParOf" srcId="{820FF472-3BF3-4B9F-A588-A4B8671FA40E}" destId="{5FBC4460-B877-409C-9A40-5D6211301AAB}" srcOrd="0" destOrd="0" presId="urn:microsoft.com/office/officeart/2009/3/layout/HorizontalOrganizationChart"/>
    <dgm:cxn modelId="{4C9096A5-BA79-4386-9140-100BF50BEF14}" type="presParOf" srcId="{5FBC4460-B877-409C-9A40-5D6211301AAB}" destId="{BA37A039-8231-408B-88D6-34F135D4720D}" srcOrd="0" destOrd="0" presId="urn:microsoft.com/office/officeart/2009/3/layout/HorizontalOrganizationChart"/>
    <dgm:cxn modelId="{C65E2CF7-13E0-4840-A23A-7A737BE5F36F}" type="presParOf" srcId="{5FBC4460-B877-409C-9A40-5D6211301AAB}" destId="{0348480F-C7C8-4C41-9453-8CC20CD70DDE}" srcOrd="1" destOrd="0" presId="urn:microsoft.com/office/officeart/2009/3/layout/HorizontalOrganizationChart"/>
    <dgm:cxn modelId="{6DA6F620-15B5-4143-BD35-B1CB3AD513E6}" type="presParOf" srcId="{820FF472-3BF3-4B9F-A588-A4B8671FA40E}" destId="{98270814-67F7-47D8-A667-7429F59FF7DA}" srcOrd="1" destOrd="0" presId="urn:microsoft.com/office/officeart/2009/3/layout/HorizontalOrganizationChart"/>
    <dgm:cxn modelId="{346872CF-C3C9-42B5-BDFC-156B55483D31}" type="presParOf" srcId="{98270814-67F7-47D8-A667-7429F59FF7DA}" destId="{27B7AC9A-8103-4488-B2C2-94A2C34E7DFC}" srcOrd="0" destOrd="0" presId="urn:microsoft.com/office/officeart/2009/3/layout/HorizontalOrganizationChart"/>
    <dgm:cxn modelId="{DBF40591-4397-4D4C-AE62-1566297CFD79}" type="presParOf" srcId="{98270814-67F7-47D8-A667-7429F59FF7DA}" destId="{5594350B-B9CA-4C1C-91F4-B4C6FC5C8DCD}" srcOrd="1" destOrd="0" presId="urn:microsoft.com/office/officeart/2009/3/layout/HorizontalOrganizationChart"/>
    <dgm:cxn modelId="{10324FAD-7EA8-4201-A5BE-928600FD717D}" type="presParOf" srcId="{5594350B-B9CA-4C1C-91F4-B4C6FC5C8DCD}" destId="{EDF0CEE3-DA73-4D3A-AB08-9B89E8BAC0F9}" srcOrd="0" destOrd="0" presId="urn:microsoft.com/office/officeart/2009/3/layout/HorizontalOrganizationChart"/>
    <dgm:cxn modelId="{04F4857C-DDD1-4CA1-B2B6-3A3A4C2C1DBD}" type="presParOf" srcId="{EDF0CEE3-DA73-4D3A-AB08-9B89E8BAC0F9}" destId="{F7C7A283-8449-4A9F-B070-DD951761FB58}" srcOrd="0" destOrd="0" presId="urn:microsoft.com/office/officeart/2009/3/layout/HorizontalOrganizationChart"/>
    <dgm:cxn modelId="{F708D531-8AFC-4F39-A680-9C0746D6B8FE}" type="presParOf" srcId="{EDF0CEE3-DA73-4D3A-AB08-9B89E8BAC0F9}" destId="{474F64F9-BFDE-4205-8701-2C047112D000}" srcOrd="1" destOrd="0" presId="urn:microsoft.com/office/officeart/2009/3/layout/HorizontalOrganizationChart"/>
    <dgm:cxn modelId="{344404A1-F7D5-467F-AB61-EA351D291260}" type="presParOf" srcId="{5594350B-B9CA-4C1C-91F4-B4C6FC5C8DCD}" destId="{D338AD1A-4DAE-4765-BB50-2927CB530CF5}" srcOrd="1" destOrd="0" presId="urn:microsoft.com/office/officeart/2009/3/layout/HorizontalOrganizationChart"/>
    <dgm:cxn modelId="{61DA39FA-2E39-4E26-AEE2-BAC60093E186}" type="presParOf" srcId="{D338AD1A-4DAE-4765-BB50-2927CB530CF5}" destId="{D953026E-CD6F-4A96-BD15-3A89752DC905}" srcOrd="0" destOrd="0" presId="urn:microsoft.com/office/officeart/2009/3/layout/HorizontalOrganizationChart"/>
    <dgm:cxn modelId="{DF075754-B149-43AA-AA10-2274B52C8439}" type="presParOf" srcId="{D338AD1A-4DAE-4765-BB50-2927CB530CF5}" destId="{E28917A5-3F76-4685-B9C4-FEE5A34384F8}" srcOrd="1" destOrd="0" presId="urn:microsoft.com/office/officeart/2009/3/layout/HorizontalOrganizationChart"/>
    <dgm:cxn modelId="{D641AEEF-19B0-4483-9F9E-A4CC0B3B1B30}" type="presParOf" srcId="{E28917A5-3F76-4685-B9C4-FEE5A34384F8}" destId="{BA635B99-15A7-4BBE-AC46-FB3D257D824A}" srcOrd="0" destOrd="0" presId="urn:microsoft.com/office/officeart/2009/3/layout/HorizontalOrganizationChart"/>
    <dgm:cxn modelId="{B32F7A03-F3AA-4397-AC09-2EF251BACA7C}" type="presParOf" srcId="{BA635B99-15A7-4BBE-AC46-FB3D257D824A}" destId="{1DE691EC-C261-492E-8960-D34550A092F2}" srcOrd="0" destOrd="0" presId="urn:microsoft.com/office/officeart/2009/3/layout/HorizontalOrganizationChart"/>
    <dgm:cxn modelId="{73EFDEED-4FC0-4F90-BB01-1A5C07B201A3}" type="presParOf" srcId="{BA635B99-15A7-4BBE-AC46-FB3D257D824A}" destId="{1AD8233D-B116-45DA-ADB5-4FD62764A8B5}" srcOrd="1" destOrd="0" presId="urn:microsoft.com/office/officeart/2009/3/layout/HorizontalOrganizationChart"/>
    <dgm:cxn modelId="{4E09E66A-9145-48E7-90BB-9268540F4DBF}" type="presParOf" srcId="{E28917A5-3F76-4685-B9C4-FEE5A34384F8}" destId="{B9AF72FF-C3C2-4BC6-99A1-A701D3DCDD76}" srcOrd="1" destOrd="0" presId="urn:microsoft.com/office/officeart/2009/3/layout/HorizontalOrganizationChart"/>
    <dgm:cxn modelId="{4998EAF7-169B-4DC6-B8A6-730BFB0316DA}" type="presParOf" srcId="{E28917A5-3F76-4685-B9C4-FEE5A34384F8}" destId="{CE511AA3-7F55-4B47-B8AA-EE871A91BE1C}" srcOrd="2" destOrd="0" presId="urn:microsoft.com/office/officeart/2009/3/layout/HorizontalOrganizationChart"/>
    <dgm:cxn modelId="{F55BC2D8-E1B1-437C-9B88-7C238038EBF1}" type="presParOf" srcId="{5594350B-B9CA-4C1C-91F4-B4C6FC5C8DCD}" destId="{75C2537A-3F99-41D3-B4E4-1CFC06853639}" srcOrd="2" destOrd="0" presId="urn:microsoft.com/office/officeart/2009/3/layout/HorizontalOrganizationChart"/>
    <dgm:cxn modelId="{FF418E2D-0564-4656-89A4-9E3822118320}" type="presParOf" srcId="{820FF472-3BF3-4B9F-A588-A4B8671FA40E}" destId="{5F5031B8-0217-44E1-8BC4-645464382B25}" srcOrd="2" destOrd="0" presId="urn:microsoft.com/office/officeart/2009/3/layout/HorizontalOrganizationChart"/>
    <dgm:cxn modelId="{BAC5F547-CA1E-47F2-8522-0CA7E6FBAD0E}" type="presParOf" srcId="{F44F94D0-2AED-44A9-86FF-2E46BC2F6F80}" destId="{F6F8857A-4658-4489-9556-A92D16175513}" srcOrd="2" destOrd="0" presId="urn:microsoft.com/office/officeart/2009/3/layout/HorizontalOrganizationChart"/>
    <dgm:cxn modelId="{0394C010-1031-41F6-9ACB-EAAF2F39A1CC}" type="presParOf" srcId="{F44F94D0-2AED-44A9-86FF-2E46BC2F6F80}" destId="{33AE583B-07B7-4558-8166-61BD95DD63B9}" srcOrd="3" destOrd="0" presId="urn:microsoft.com/office/officeart/2009/3/layout/HorizontalOrganizationChart"/>
    <dgm:cxn modelId="{EFEEFAA0-E41D-4E93-B084-0628B085E840}" type="presParOf" srcId="{33AE583B-07B7-4558-8166-61BD95DD63B9}" destId="{59CF85C9-70CC-4AB7-9271-C72E512BBEE2}" srcOrd="0" destOrd="0" presId="urn:microsoft.com/office/officeart/2009/3/layout/HorizontalOrganizationChart"/>
    <dgm:cxn modelId="{DBCF1FC9-2451-4A08-ADB6-0132960C9687}" type="presParOf" srcId="{59CF85C9-70CC-4AB7-9271-C72E512BBEE2}" destId="{45337472-D653-4CC4-BFE0-9EAB29234A68}" srcOrd="0" destOrd="0" presId="urn:microsoft.com/office/officeart/2009/3/layout/HorizontalOrganizationChart"/>
    <dgm:cxn modelId="{A3CA0B20-84C4-4841-A0BA-59C4CF761617}" type="presParOf" srcId="{59CF85C9-70CC-4AB7-9271-C72E512BBEE2}" destId="{537F4A48-0CAE-4861-9378-62271C8B96D0}" srcOrd="1" destOrd="0" presId="urn:microsoft.com/office/officeart/2009/3/layout/HorizontalOrganizationChart"/>
    <dgm:cxn modelId="{6D7F784E-9C78-464C-AC04-3ED8FA1CECBE}" type="presParOf" srcId="{33AE583B-07B7-4558-8166-61BD95DD63B9}" destId="{76AA0342-A569-48C4-89A2-F926CB6081E0}" srcOrd="1" destOrd="0" presId="urn:microsoft.com/office/officeart/2009/3/layout/HorizontalOrganizationChart"/>
    <dgm:cxn modelId="{254EA065-C0D2-4386-B304-9A861DE02ED9}" type="presParOf" srcId="{76AA0342-A569-48C4-89A2-F926CB6081E0}" destId="{1222BE1C-9423-4D0D-BA2A-7C1FF61EA18D}" srcOrd="0" destOrd="0" presId="urn:microsoft.com/office/officeart/2009/3/layout/HorizontalOrganizationChart"/>
    <dgm:cxn modelId="{BA44CBA7-2E13-4404-BCCC-F4BA2F2A964E}" type="presParOf" srcId="{76AA0342-A569-48C4-89A2-F926CB6081E0}" destId="{F597C72D-6581-445A-9734-8D4D714548DA}" srcOrd="1" destOrd="0" presId="urn:microsoft.com/office/officeart/2009/3/layout/HorizontalOrganizationChart"/>
    <dgm:cxn modelId="{728F6B5B-3397-497D-B472-FA450531FF6B}" type="presParOf" srcId="{F597C72D-6581-445A-9734-8D4D714548DA}" destId="{3F0A09A6-7129-4A39-9991-474D9D8EADFC}" srcOrd="0" destOrd="0" presId="urn:microsoft.com/office/officeart/2009/3/layout/HorizontalOrganizationChart"/>
    <dgm:cxn modelId="{47B19DAF-B91A-454B-9D46-9C4AAC833A64}" type="presParOf" srcId="{3F0A09A6-7129-4A39-9991-474D9D8EADFC}" destId="{A849629A-AA87-48AA-8FA2-45E2C5047F32}" srcOrd="0" destOrd="0" presId="urn:microsoft.com/office/officeart/2009/3/layout/HorizontalOrganizationChart"/>
    <dgm:cxn modelId="{66340482-7DB7-4888-8CFF-DB00B6ABE559}" type="presParOf" srcId="{3F0A09A6-7129-4A39-9991-474D9D8EADFC}" destId="{9F106F4D-2A7B-43A5-891C-FA845651D51C}" srcOrd="1" destOrd="0" presId="urn:microsoft.com/office/officeart/2009/3/layout/HorizontalOrganizationChart"/>
    <dgm:cxn modelId="{0859CFBD-D696-40BA-955B-D0128E0C837B}" type="presParOf" srcId="{F597C72D-6581-445A-9734-8D4D714548DA}" destId="{B72E25A5-2A0F-43BA-91F8-84ADF00895BB}" srcOrd="1" destOrd="0" presId="urn:microsoft.com/office/officeart/2009/3/layout/HorizontalOrganizationChart"/>
    <dgm:cxn modelId="{93C991B4-9129-490A-810F-ED9840C1A141}" type="presParOf" srcId="{B72E25A5-2A0F-43BA-91F8-84ADF00895BB}" destId="{C04EE54A-1EB6-4D7B-A4B2-1CDF94FF170F}" srcOrd="0" destOrd="0" presId="urn:microsoft.com/office/officeart/2009/3/layout/HorizontalOrganizationChart"/>
    <dgm:cxn modelId="{5392C154-4075-4B0F-90D4-D21F53226441}" type="presParOf" srcId="{B72E25A5-2A0F-43BA-91F8-84ADF00895BB}" destId="{A627C725-A8E7-4C1C-8D25-68BF1D434925}" srcOrd="1" destOrd="0" presId="urn:microsoft.com/office/officeart/2009/3/layout/HorizontalOrganizationChart"/>
    <dgm:cxn modelId="{1C9C35EB-E6E0-4BFF-AA88-5CD7C04C94D1}" type="presParOf" srcId="{A627C725-A8E7-4C1C-8D25-68BF1D434925}" destId="{22C0C43F-2601-48BB-AA39-91654747E1C5}" srcOrd="0" destOrd="0" presId="urn:microsoft.com/office/officeart/2009/3/layout/HorizontalOrganizationChart"/>
    <dgm:cxn modelId="{C8459194-EB6F-4459-A436-C2710F2B696B}" type="presParOf" srcId="{22C0C43F-2601-48BB-AA39-91654747E1C5}" destId="{CB9F0E71-81D6-4FA0-940A-B18AFB275E47}" srcOrd="0" destOrd="0" presId="urn:microsoft.com/office/officeart/2009/3/layout/HorizontalOrganizationChart"/>
    <dgm:cxn modelId="{95FAD2A7-F9F5-42F8-A0FE-A17BD9833D60}" type="presParOf" srcId="{22C0C43F-2601-48BB-AA39-91654747E1C5}" destId="{E5EEBCD5-77C3-4FC2-8BC4-CE4330225C07}" srcOrd="1" destOrd="0" presId="urn:microsoft.com/office/officeart/2009/3/layout/HorizontalOrganizationChart"/>
    <dgm:cxn modelId="{6D9E22AF-39CE-485F-A217-7DE61D237048}" type="presParOf" srcId="{A627C725-A8E7-4C1C-8D25-68BF1D434925}" destId="{933CAF8D-1E73-4D92-924E-2351A9143DC0}" srcOrd="1" destOrd="0" presId="urn:microsoft.com/office/officeart/2009/3/layout/HorizontalOrganizationChart"/>
    <dgm:cxn modelId="{2FF32A36-E325-4813-A147-00728125E067}" type="presParOf" srcId="{A627C725-A8E7-4C1C-8D25-68BF1D434925}" destId="{1BC51473-D81E-4F76-A4F0-8CCC4FB9FCE0}" srcOrd="2" destOrd="0" presId="urn:microsoft.com/office/officeart/2009/3/layout/HorizontalOrganizationChart"/>
    <dgm:cxn modelId="{CB8E2FA8-5253-4AC1-B727-5FC1C566D511}" type="presParOf" srcId="{F597C72D-6581-445A-9734-8D4D714548DA}" destId="{7845B220-66EA-4311-8EAF-1419C6BA1349}" srcOrd="2" destOrd="0" presId="urn:microsoft.com/office/officeart/2009/3/layout/HorizontalOrganizationChart"/>
    <dgm:cxn modelId="{01B6ED50-53E5-4E86-B0D4-66282A5D2CA6}" type="presParOf" srcId="{33AE583B-07B7-4558-8166-61BD95DD63B9}" destId="{AA11CCB4-D243-4978-8881-D51FB013F679}" srcOrd="2" destOrd="0" presId="urn:microsoft.com/office/officeart/2009/3/layout/HorizontalOrganizationChart"/>
    <dgm:cxn modelId="{C5A6538A-BECB-4A61-8B28-18E3CFC2FF87}" type="presParOf" srcId="{F44F94D0-2AED-44A9-86FF-2E46BC2F6F80}" destId="{D11F3CF4-9BE3-4001-95F5-F7CCA0F5CE3D}" srcOrd="4" destOrd="0" presId="urn:microsoft.com/office/officeart/2009/3/layout/HorizontalOrganizationChart"/>
    <dgm:cxn modelId="{79C344BF-24AF-47C8-96BB-2A7AFC8B9D84}" type="presParOf" srcId="{F44F94D0-2AED-44A9-86FF-2E46BC2F6F80}" destId="{8985A798-8C94-42D9-A92D-46A72ACA882F}" srcOrd="5" destOrd="0" presId="urn:microsoft.com/office/officeart/2009/3/layout/HorizontalOrganizationChart"/>
    <dgm:cxn modelId="{99FF43E6-4E1B-4B93-811A-C2227FCDDE5E}" type="presParOf" srcId="{8985A798-8C94-42D9-A92D-46A72ACA882F}" destId="{1E523804-B082-405A-982D-0D12DD1061CE}" srcOrd="0" destOrd="0" presId="urn:microsoft.com/office/officeart/2009/3/layout/HorizontalOrganizationChart"/>
    <dgm:cxn modelId="{C42F889B-6870-470C-B8C6-0ACE45346999}" type="presParOf" srcId="{1E523804-B082-405A-982D-0D12DD1061CE}" destId="{D8F07A57-3EEB-49E0-A087-92D4BB62336A}" srcOrd="0" destOrd="0" presId="urn:microsoft.com/office/officeart/2009/3/layout/HorizontalOrganizationChart"/>
    <dgm:cxn modelId="{844C1F72-C627-43B6-8CF7-FDAFB718BE72}" type="presParOf" srcId="{1E523804-B082-405A-982D-0D12DD1061CE}" destId="{68689893-58CE-4724-BB72-ED0C97775120}" srcOrd="1" destOrd="0" presId="urn:microsoft.com/office/officeart/2009/3/layout/HorizontalOrganizationChart"/>
    <dgm:cxn modelId="{1BB32D9A-B5F6-45B4-B1B3-62489373E07A}" type="presParOf" srcId="{8985A798-8C94-42D9-A92D-46A72ACA882F}" destId="{22915E9E-1F5B-4E87-B1DB-C2E9D56813AF}" srcOrd="1" destOrd="0" presId="urn:microsoft.com/office/officeart/2009/3/layout/HorizontalOrganizationChart"/>
    <dgm:cxn modelId="{60247097-E810-4379-A1A8-747710F82AB1}" type="presParOf" srcId="{22915E9E-1F5B-4E87-B1DB-C2E9D56813AF}" destId="{E9E952DE-C054-4BAF-B175-7684D3688AC1}" srcOrd="0" destOrd="0" presId="urn:microsoft.com/office/officeart/2009/3/layout/HorizontalOrganizationChart"/>
    <dgm:cxn modelId="{3F22C7EC-7D34-4776-BAB8-7DA790CB7DA8}" type="presParOf" srcId="{22915E9E-1F5B-4E87-B1DB-C2E9D56813AF}" destId="{0A818F5C-F0BD-4B41-8C42-D24A2A3E6AC2}" srcOrd="1" destOrd="0" presId="urn:microsoft.com/office/officeart/2009/3/layout/HorizontalOrganizationChart"/>
    <dgm:cxn modelId="{DEC9C324-3ACF-4A46-A197-BED5FE4B2C9A}" type="presParOf" srcId="{0A818F5C-F0BD-4B41-8C42-D24A2A3E6AC2}" destId="{0EE3F31A-7D49-49D5-9A99-1E5DEB6127DA}" srcOrd="0" destOrd="0" presId="urn:microsoft.com/office/officeart/2009/3/layout/HorizontalOrganizationChart"/>
    <dgm:cxn modelId="{D55ACADF-E25B-4C86-BBAF-701FB0FEE601}" type="presParOf" srcId="{0EE3F31A-7D49-49D5-9A99-1E5DEB6127DA}" destId="{D511FD58-653D-4C87-B9A3-A642FEB4E49B}" srcOrd="0" destOrd="0" presId="urn:microsoft.com/office/officeart/2009/3/layout/HorizontalOrganizationChart"/>
    <dgm:cxn modelId="{B04BBBDE-1B09-4157-9CB0-CF0EF62538B8}" type="presParOf" srcId="{0EE3F31A-7D49-49D5-9A99-1E5DEB6127DA}" destId="{822A39F2-A824-4FBD-A4EE-F27355A3F597}" srcOrd="1" destOrd="0" presId="urn:microsoft.com/office/officeart/2009/3/layout/HorizontalOrganizationChart"/>
    <dgm:cxn modelId="{923C173B-5223-443E-AD4D-A17C10251F83}" type="presParOf" srcId="{0A818F5C-F0BD-4B41-8C42-D24A2A3E6AC2}" destId="{D31AF28A-517E-436A-8E2C-79CAB80E7A7B}" srcOrd="1" destOrd="0" presId="urn:microsoft.com/office/officeart/2009/3/layout/HorizontalOrganizationChart"/>
    <dgm:cxn modelId="{68D906A3-993F-4C14-8BCF-D1F81D62861B}" type="presParOf" srcId="{D31AF28A-517E-436A-8E2C-79CAB80E7A7B}" destId="{03039803-9473-4500-9ED4-54F193A43437}" srcOrd="0" destOrd="0" presId="urn:microsoft.com/office/officeart/2009/3/layout/HorizontalOrganizationChart"/>
    <dgm:cxn modelId="{609F23E0-6B1F-4EE2-B25B-D1CADCBCF129}" type="presParOf" srcId="{D31AF28A-517E-436A-8E2C-79CAB80E7A7B}" destId="{04FA2198-10D8-4405-A69B-CE2C4EA791B2}" srcOrd="1" destOrd="0" presId="urn:microsoft.com/office/officeart/2009/3/layout/HorizontalOrganizationChart"/>
    <dgm:cxn modelId="{8CD3538B-C089-4806-93B3-A9273DCFDC80}" type="presParOf" srcId="{04FA2198-10D8-4405-A69B-CE2C4EA791B2}" destId="{7B74AF2A-BE85-4D41-BF6C-8DB56A1AEE78}" srcOrd="0" destOrd="0" presId="urn:microsoft.com/office/officeart/2009/3/layout/HorizontalOrganizationChart"/>
    <dgm:cxn modelId="{C0349073-C488-4932-982B-CF7CCB568BD7}" type="presParOf" srcId="{7B74AF2A-BE85-4D41-BF6C-8DB56A1AEE78}" destId="{9D535536-A45B-428F-B25E-C6B5E1A0A101}" srcOrd="0" destOrd="0" presId="urn:microsoft.com/office/officeart/2009/3/layout/HorizontalOrganizationChart"/>
    <dgm:cxn modelId="{21E33060-D4F7-4A84-B1DE-FA6DCBDB1DFE}" type="presParOf" srcId="{7B74AF2A-BE85-4D41-BF6C-8DB56A1AEE78}" destId="{CABB8187-63C6-4220-AADE-48584A734132}" srcOrd="1" destOrd="0" presId="urn:microsoft.com/office/officeart/2009/3/layout/HorizontalOrganizationChart"/>
    <dgm:cxn modelId="{D07B4162-C3E0-4C5D-9B7B-C69D22414DC9}" type="presParOf" srcId="{04FA2198-10D8-4405-A69B-CE2C4EA791B2}" destId="{1F476663-70A7-4EE9-86E6-C4226A100765}" srcOrd="1" destOrd="0" presId="urn:microsoft.com/office/officeart/2009/3/layout/HorizontalOrganizationChart"/>
    <dgm:cxn modelId="{EAAEC59A-1B39-4888-96A3-95BF415391BC}" type="presParOf" srcId="{04FA2198-10D8-4405-A69B-CE2C4EA791B2}" destId="{68EBE619-3788-42EA-9DDC-92E070581029}" srcOrd="2" destOrd="0" presId="urn:microsoft.com/office/officeart/2009/3/layout/HorizontalOrganizationChart"/>
    <dgm:cxn modelId="{2E0D7C34-C0B9-444C-BB3D-D08F234077B9}" type="presParOf" srcId="{0A818F5C-F0BD-4B41-8C42-D24A2A3E6AC2}" destId="{F69C9B90-55DA-4A20-AAB4-14A198E736B9}" srcOrd="2" destOrd="0" presId="urn:microsoft.com/office/officeart/2009/3/layout/HorizontalOrganizationChart"/>
    <dgm:cxn modelId="{11750A34-48D6-4A91-AC8A-EAE816CE36C9}" type="presParOf" srcId="{8985A798-8C94-42D9-A92D-46A72ACA882F}" destId="{4DD9128E-BC4F-49E1-A2AE-D7DAAE6FC797}" srcOrd="2" destOrd="0" presId="urn:microsoft.com/office/officeart/2009/3/layout/HorizontalOrganizationChart"/>
    <dgm:cxn modelId="{3BB15B89-1420-4907-837D-59E7D5653084}" type="presParOf" srcId="{F44F94D0-2AED-44A9-86FF-2E46BC2F6F80}" destId="{EBBBF7DE-5B06-4C01-8382-BF1F016BC682}" srcOrd="6" destOrd="0" presId="urn:microsoft.com/office/officeart/2009/3/layout/HorizontalOrganizationChart"/>
    <dgm:cxn modelId="{E808CC3E-5EAE-4645-AFC3-086F61604C0D}" type="presParOf" srcId="{F44F94D0-2AED-44A9-86FF-2E46BC2F6F80}" destId="{D06CE2DF-79BF-4658-A9B5-49C047C94A31}" srcOrd="7" destOrd="0" presId="urn:microsoft.com/office/officeart/2009/3/layout/HorizontalOrganizationChart"/>
    <dgm:cxn modelId="{7D103A11-EB5A-4FB1-81FC-CB1B6DCBA451}" type="presParOf" srcId="{D06CE2DF-79BF-4658-A9B5-49C047C94A31}" destId="{57F8C2B5-F260-4CAF-AE98-8682203F77C8}" srcOrd="0" destOrd="0" presId="urn:microsoft.com/office/officeart/2009/3/layout/HorizontalOrganizationChart"/>
    <dgm:cxn modelId="{04DF81AD-6734-467B-BCAC-E5A1A3708801}" type="presParOf" srcId="{57F8C2B5-F260-4CAF-AE98-8682203F77C8}" destId="{43CCD05C-F67F-48E4-8506-7F93C107E68E}" srcOrd="0" destOrd="0" presId="urn:microsoft.com/office/officeart/2009/3/layout/HorizontalOrganizationChart"/>
    <dgm:cxn modelId="{8A0095A0-476D-4CEF-923F-71F2FBD30C10}" type="presParOf" srcId="{57F8C2B5-F260-4CAF-AE98-8682203F77C8}" destId="{7E5E29B8-B0D1-4731-9330-43FEA69FA035}" srcOrd="1" destOrd="0" presId="urn:microsoft.com/office/officeart/2009/3/layout/HorizontalOrganizationChart"/>
    <dgm:cxn modelId="{58B0ED80-AF22-42C2-9C7B-DBF057BFDB48}" type="presParOf" srcId="{D06CE2DF-79BF-4658-A9B5-49C047C94A31}" destId="{01C28AF9-3901-4BD0-910A-5C4974AF502A}" srcOrd="1" destOrd="0" presId="urn:microsoft.com/office/officeart/2009/3/layout/HorizontalOrganizationChart"/>
    <dgm:cxn modelId="{C2B391E5-9001-4734-B773-8C7727E2C534}" type="presParOf" srcId="{01C28AF9-3901-4BD0-910A-5C4974AF502A}" destId="{AAB74B4A-F88A-4390-BBC3-6EA92BEF8EAD}" srcOrd="0" destOrd="0" presId="urn:microsoft.com/office/officeart/2009/3/layout/HorizontalOrganizationChart"/>
    <dgm:cxn modelId="{F0CE92D5-0520-4240-B3AC-B35CCA9DAC56}" type="presParOf" srcId="{01C28AF9-3901-4BD0-910A-5C4974AF502A}" destId="{D646D528-4AFB-46C7-B752-54D2EAB6ACCD}" srcOrd="1" destOrd="0" presId="urn:microsoft.com/office/officeart/2009/3/layout/HorizontalOrganizationChart"/>
    <dgm:cxn modelId="{37E91BC4-E7E3-4660-8994-7710D98B6AEC}" type="presParOf" srcId="{D646D528-4AFB-46C7-B752-54D2EAB6ACCD}" destId="{C193663B-36B1-42C7-BAAE-CF513D220AD3}" srcOrd="0" destOrd="0" presId="urn:microsoft.com/office/officeart/2009/3/layout/HorizontalOrganizationChart"/>
    <dgm:cxn modelId="{9B8B5312-ED7B-402A-9A8D-89DFEA0250AD}" type="presParOf" srcId="{C193663B-36B1-42C7-BAAE-CF513D220AD3}" destId="{BF2B5FE1-68E9-4F5B-8470-F6BFC9A52262}" srcOrd="0" destOrd="0" presId="urn:microsoft.com/office/officeart/2009/3/layout/HorizontalOrganizationChart"/>
    <dgm:cxn modelId="{55C18FBB-06FC-4359-80D3-D67095240808}" type="presParOf" srcId="{C193663B-36B1-42C7-BAAE-CF513D220AD3}" destId="{276F361C-5CE1-4B9C-BB3E-E0DF484A9F01}" srcOrd="1" destOrd="0" presId="urn:microsoft.com/office/officeart/2009/3/layout/HorizontalOrganizationChart"/>
    <dgm:cxn modelId="{EFBC7701-2BC0-470C-814C-CCC94395D7A9}" type="presParOf" srcId="{D646D528-4AFB-46C7-B752-54D2EAB6ACCD}" destId="{D81088AC-5311-40CA-A904-879A8CDA1B30}" srcOrd="1" destOrd="0" presId="urn:microsoft.com/office/officeart/2009/3/layout/HorizontalOrganizationChart"/>
    <dgm:cxn modelId="{5D7D1A94-1E21-4B9D-81FE-F681C9893A87}" type="presParOf" srcId="{D81088AC-5311-40CA-A904-879A8CDA1B30}" destId="{F35BCDCB-05C0-4D27-A140-143312EC6004}" srcOrd="0" destOrd="0" presId="urn:microsoft.com/office/officeart/2009/3/layout/HorizontalOrganizationChart"/>
    <dgm:cxn modelId="{197EC54D-DDB6-4EA5-88A9-67C8991B8D93}" type="presParOf" srcId="{D81088AC-5311-40CA-A904-879A8CDA1B30}" destId="{8F6CA38A-AD01-4916-BFD0-31185091F851}" srcOrd="1" destOrd="0" presId="urn:microsoft.com/office/officeart/2009/3/layout/HorizontalOrganizationChart"/>
    <dgm:cxn modelId="{66D15CAD-6412-41EF-86F4-4144FDB50751}" type="presParOf" srcId="{8F6CA38A-AD01-4916-BFD0-31185091F851}" destId="{2DAAD68F-E055-469B-A4BB-D2E1CF3DB796}" srcOrd="0" destOrd="0" presId="urn:microsoft.com/office/officeart/2009/3/layout/HorizontalOrganizationChart"/>
    <dgm:cxn modelId="{B91AE6AB-B7C8-4A68-9017-A870AE30CED5}" type="presParOf" srcId="{2DAAD68F-E055-469B-A4BB-D2E1CF3DB796}" destId="{4FEA24A0-4433-42A9-B45A-3C0BE1A22261}" srcOrd="0" destOrd="0" presId="urn:microsoft.com/office/officeart/2009/3/layout/HorizontalOrganizationChart"/>
    <dgm:cxn modelId="{0B821CB9-493C-4A2E-900B-23CC5FCD3366}" type="presParOf" srcId="{2DAAD68F-E055-469B-A4BB-D2E1CF3DB796}" destId="{BE892F8A-78AB-4EF9-ABDF-6280829B1DDF}" srcOrd="1" destOrd="0" presId="urn:microsoft.com/office/officeart/2009/3/layout/HorizontalOrganizationChart"/>
    <dgm:cxn modelId="{E693F827-C6CF-46F8-A10B-78B6C2E807B2}" type="presParOf" srcId="{8F6CA38A-AD01-4916-BFD0-31185091F851}" destId="{F8017F58-F50D-4A5B-A58B-39A0E951F1F1}" srcOrd="1" destOrd="0" presId="urn:microsoft.com/office/officeart/2009/3/layout/HorizontalOrganizationChart"/>
    <dgm:cxn modelId="{A167B85E-9D7D-4F1F-A121-88D42D8581CD}" type="presParOf" srcId="{8F6CA38A-AD01-4916-BFD0-31185091F851}" destId="{806BE10E-9F59-44EE-A260-AF884BF5AB50}" srcOrd="2" destOrd="0" presId="urn:microsoft.com/office/officeart/2009/3/layout/HorizontalOrganizationChart"/>
    <dgm:cxn modelId="{5D568D14-F2CD-49E3-8ED2-CC3E38C88616}" type="presParOf" srcId="{D646D528-4AFB-46C7-B752-54D2EAB6ACCD}" destId="{8C6AD9EC-66E7-4881-A6CD-234D5D34C351}" srcOrd="2" destOrd="0" presId="urn:microsoft.com/office/officeart/2009/3/layout/HorizontalOrganizationChart"/>
    <dgm:cxn modelId="{82F39971-7592-48EB-807B-30CA9721D656}" type="presParOf" srcId="{D06CE2DF-79BF-4658-A9B5-49C047C94A31}" destId="{C71D8C7A-AAD6-4E37-9D89-4C98C586DC3F}" srcOrd="2" destOrd="0" presId="urn:microsoft.com/office/officeart/2009/3/layout/HorizontalOrganizationChart"/>
    <dgm:cxn modelId="{75868BE2-2915-4358-BC16-255A4404A811}" type="presParOf" srcId="{F44F94D0-2AED-44A9-86FF-2E46BC2F6F80}" destId="{72C157F1-29D9-4FFF-AA3C-D2EFB2504C99}" srcOrd="8" destOrd="0" presId="urn:microsoft.com/office/officeart/2009/3/layout/HorizontalOrganizationChart"/>
    <dgm:cxn modelId="{321DC61E-9F1A-446C-8A78-3F23CED58D67}" type="presParOf" srcId="{F44F94D0-2AED-44A9-86FF-2E46BC2F6F80}" destId="{08FE17B3-DC62-4479-92CF-A2345348A245}" srcOrd="9" destOrd="0" presId="urn:microsoft.com/office/officeart/2009/3/layout/HorizontalOrganizationChart"/>
    <dgm:cxn modelId="{A0ED2B4A-3E7A-4167-9B94-FD9C8C2631F7}" type="presParOf" srcId="{08FE17B3-DC62-4479-92CF-A2345348A245}" destId="{56CFAE41-3163-427A-A469-A167414AB2F7}" srcOrd="0" destOrd="0" presId="urn:microsoft.com/office/officeart/2009/3/layout/HorizontalOrganizationChart"/>
    <dgm:cxn modelId="{4FD803D8-D283-4BF4-B1F6-D98038601446}" type="presParOf" srcId="{56CFAE41-3163-427A-A469-A167414AB2F7}" destId="{D27C5C7B-A247-4877-A633-7699CAB77B02}" srcOrd="0" destOrd="0" presId="urn:microsoft.com/office/officeart/2009/3/layout/HorizontalOrganizationChart"/>
    <dgm:cxn modelId="{FE194947-6334-4692-BCC7-C63CC8FBD342}" type="presParOf" srcId="{56CFAE41-3163-427A-A469-A167414AB2F7}" destId="{42E15D77-4CC9-4E0C-B9E0-E5250D372D24}" srcOrd="1" destOrd="0" presId="urn:microsoft.com/office/officeart/2009/3/layout/HorizontalOrganizationChart"/>
    <dgm:cxn modelId="{51E2AB0A-9CB8-4FE7-8CAE-C51FF7E391C1}" type="presParOf" srcId="{08FE17B3-DC62-4479-92CF-A2345348A245}" destId="{78276133-75B2-4DED-BB2A-58209DB45C10}" srcOrd="1" destOrd="0" presId="urn:microsoft.com/office/officeart/2009/3/layout/HorizontalOrganizationChart"/>
    <dgm:cxn modelId="{74724174-7015-44DA-8DF2-78A4AFBB7C89}" type="presParOf" srcId="{78276133-75B2-4DED-BB2A-58209DB45C10}" destId="{D6412BC0-5ED9-4510-BF5D-FBA05FB09F11}" srcOrd="0" destOrd="0" presId="urn:microsoft.com/office/officeart/2009/3/layout/HorizontalOrganizationChart"/>
    <dgm:cxn modelId="{DA0BFFC1-CCBF-45C1-9F7A-5B7DF2D7F37C}" type="presParOf" srcId="{78276133-75B2-4DED-BB2A-58209DB45C10}" destId="{2DB42DE2-82B5-4D23-BB7B-7E591A42DF57}" srcOrd="1" destOrd="0" presId="urn:microsoft.com/office/officeart/2009/3/layout/HorizontalOrganizationChart"/>
    <dgm:cxn modelId="{39455A0E-6933-4725-BDA5-06059FBC72FF}" type="presParOf" srcId="{2DB42DE2-82B5-4D23-BB7B-7E591A42DF57}" destId="{A4C5698D-0C25-47C4-9130-5BA4AE4457F9}" srcOrd="0" destOrd="0" presId="urn:microsoft.com/office/officeart/2009/3/layout/HorizontalOrganizationChart"/>
    <dgm:cxn modelId="{52A74499-BD73-4E93-885A-C569E7748AE6}" type="presParOf" srcId="{A4C5698D-0C25-47C4-9130-5BA4AE4457F9}" destId="{22FCE608-8C3E-4C3E-8A10-DE89BBB9A495}" srcOrd="0" destOrd="0" presId="urn:microsoft.com/office/officeart/2009/3/layout/HorizontalOrganizationChart"/>
    <dgm:cxn modelId="{91A80C0D-33A6-4F23-A760-6DE95CEA702C}" type="presParOf" srcId="{A4C5698D-0C25-47C4-9130-5BA4AE4457F9}" destId="{7393A2F0-7B9D-4E89-A911-6113C8242672}" srcOrd="1" destOrd="0" presId="urn:microsoft.com/office/officeart/2009/3/layout/HorizontalOrganizationChart"/>
    <dgm:cxn modelId="{102EB650-1675-4126-A5DD-C0D6847F4829}" type="presParOf" srcId="{2DB42DE2-82B5-4D23-BB7B-7E591A42DF57}" destId="{EC56B802-21AE-4192-BFA0-6DA2AD838931}" srcOrd="1" destOrd="0" presId="urn:microsoft.com/office/officeart/2009/3/layout/HorizontalOrganizationChart"/>
    <dgm:cxn modelId="{1AEC3709-D5D0-48B1-B807-0207D478553E}" type="presParOf" srcId="{EC56B802-21AE-4192-BFA0-6DA2AD838931}" destId="{909CE802-7568-4FF8-9BC0-1FCC6F90B7A4}" srcOrd="0" destOrd="0" presId="urn:microsoft.com/office/officeart/2009/3/layout/HorizontalOrganizationChart"/>
    <dgm:cxn modelId="{1221A72B-6729-4244-ABE9-A4C61ABF936B}" type="presParOf" srcId="{EC56B802-21AE-4192-BFA0-6DA2AD838931}" destId="{CB6E23E5-8920-4D3E-B00A-319042062E40}" srcOrd="1" destOrd="0" presId="urn:microsoft.com/office/officeart/2009/3/layout/HorizontalOrganizationChart"/>
    <dgm:cxn modelId="{3FA4C853-1BF7-458D-9E27-1753EB551D69}" type="presParOf" srcId="{CB6E23E5-8920-4D3E-B00A-319042062E40}" destId="{90774093-5C79-4426-AB10-3C2C56E6DFBB}" srcOrd="0" destOrd="0" presId="urn:microsoft.com/office/officeart/2009/3/layout/HorizontalOrganizationChart"/>
    <dgm:cxn modelId="{D26973F0-C584-4240-ABF8-59DCCE586B7B}" type="presParOf" srcId="{90774093-5C79-4426-AB10-3C2C56E6DFBB}" destId="{05CAE019-0AAB-458A-9F85-A5154DC33DB3}" srcOrd="0" destOrd="0" presId="urn:microsoft.com/office/officeart/2009/3/layout/HorizontalOrganizationChart"/>
    <dgm:cxn modelId="{206C0EDE-12A9-4A9E-B525-6BEC22D6E2B7}" type="presParOf" srcId="{90774093-5C79-4426-AB10-3C2C56E6DFBB}" destId="{5A360CF1-F1F2-46BC-934B-08103D483782}" srcOrd="1" destOrd="0" presId="urn:microsoft.com/office/officeart/2009/3/layout/HorizontalOrganizationChart"/>
    <dgm:cxn modelId="{A920F97F-A6AD-4503-A782-CD2997AA31CC}" type="presParOf" srcId="{CB6E23E5-8920-4D3E-B00A-319042062E40}" destId="{159577ED-3EA1-4D4C-A22C-1E3BC0A565C1}" srcOrd="1" destOrd="0" presId="urn:microsoft.com/office/officeart/2009/3/layout/HorizontalOrganizationChart"/>
    <dgm:cxn modelId="{D5F7D49F-3C22-4547-B8BC-71D5F92E4082}" type="presParOf" srcId="{CB6E23E5-8920-4D3E-B00A-319042062E40}" destId="{AC9BE1B9-E692-451F-B263-0E5489462D5A}" srcOrd="2" destOrd="0" presId="urn:microsoft.com/office/officeart/2009/3/layout/HorizontalOrganizationChart"/>
    <dgm:cxn modelId="{A8526CEB-6F52-4B5F-832F-1162B0B895C5}" type="presParOf" srcId="{2DB42DE2-82B5-4D23-BB7B-7E591A42DF57}" destId="{1D33D1E2-0A82-4E7C-B5F1-2088DAB77A64}" srcOrd="2" destOrd="0" presId="urn:microsoft.com/office/officeart/2009/3/layout/HorizontalOrganizationChart"/>
    <dgm:cxn modelId="{A284DA80-76F0-4222-962C-280E90AD7033}" type="presParOf" srcId="{08FE17B3-DC62-4479-92CF-A2345348A245}" destId="{CA489BE4-B7FB-4A20-B7EC-B2E377466BF4}" srcOrd="2" destOrd="0" presId="urn:microsoft.com/office/officeart/2009/3/layout/HorizontalOrganizationChart"/>
    <dgm:cxn modelId="{F91E1A30-121D-4633-8C46-A36E28435608}" type="presParOf" srcId="{F44F94D0-2AED-44A9-86FF-2E46BC2F6F80}" destId="{046817C3-4847-4ED4-9D2B-D60925E102C8}" srcOrd="10" destOrd="0" presId="urn:microsoft.com/office/officeart/2009/3/layout/HorizontalOrganizationChart"/>
    <dgm:cxn modelId="{CD183839-1A84-43BF-A659-711832C31CAB}" type="presParOf" srcId="{F44F94D0-2AED-44A9-86FF-2E46BC2F6F80}" destId="{BAC64C18-87B5-4356-BAA9-4BBDA3F24F51}" srcOrd="11" destOrd="0" presId="urn:microsoft.com/office/officeart/2009/3/layout/HorizontalOrganizationChart"/>
    <dgm:cxn modelId="{6B7BAA16-E856-4325-9969-A0B9E53C9266}" type="presParOf" srcId="{BAC64C18-87B5-4356-BAA9-4BBDA3F24F51}" destId="{697F002B-3076-4E21-A8A1-46AF18BC5971}" srcOrd="0" destOrd="0" presId="urn:microsoft.com/office/officeart/2009/3/layout/HorizontalOrganizationChart"/>
    <dgm:cxn modelId="{57506FF8-85A8-4EFC-BC03-75E14F0D95F2}" type="presParOf" srcId="{697F002B-3076-4E21-A8A1-46AF18BC5971}" destId="{A4960B7B-D2C7-4964-A532-1B77BB5F0C70}" srcOrd="0" destOrd="0" presId="urn:microsoft.com/office/officeart/2009/3/layout/HorizontalOrganizationChart"/>
    <dgm:cxn modelId="{43948996-D0AD-42E7-A7F2-468BBAD22BAE}" type="presParOf" srcId="{697F002B-3076-4E21-A8A1-46AF18BC5971}" destId="{791C218F-C256-47D4-B242-0055CBA9EA64}" srcOrd="1" destOrd="0" presId="urn:microsoft.com/office/officeart/2009/3/layout/HorizontalOrganizationChart"/>
    <dgm:cxn modelId="{96E5011E-5B91-45B2-958F-987A214BDD77}" type="presParOf" srcId="{BAC64C18-87B5-4356-BAA9-4BBDA3F24F51}" destId="{B054F229-1CD9-4D32-BE3F-68242ACE61C9}" srcOrd="1" destOrd="0" presId="urn:microsoft.com/office/officeart/2009/3/layout/HorizontalOrganizationChart"/>
    <dgm:cxn modelId="{9F33B8D5-3E5D-4FEB-994C-770B5CF230B8}" type="presParOf" srcId="{B054F229-1CD9-4D32-BE3F-68242ACE61C9}" destId="{2D92F4F7-486B-4695-B0AF-4F2D554CA079}" srcOrd="0" destOrd="0" presId="urn:microsoft.com/office/officeart/2009/3/layout/HorizontalOrganizationChart"/>
    <dgm:cxn modelId="{81370CD8-8257-4B43-B1D3-55279D125C18}" type="presParOf" srcId="{B054F229-1CD9-4D32-BE3F-68242ACE61C9}" destId="{1DACF9FB-C722-40D4-87D0-9241CF0BA5B3}" srcOrd="1" destOrd="0" presId="urn:microsoft.com/office/officeart/2009/3/layout/HorizontalOrganizationChart"/>
    <dgm:cxn modelId="{0BF5E7B8-9817-48CE-A35B-24315DC0E59C}" type="presParOf" srcId="{1DACF9FB-C722-40D4-87D0-9241CF0BA5B3}" destId="{2C644DC3-2089-463A-A93F-950D391E5368}" srcOrd="0" destOrd="0" presId="urn:microsoft.com/office/officeart/2009/3/layout/HorizontalOrganizationChart"/>
    <dgm:cxn modelId="{300275AE-A18F-4FC9-82BA-FB49FF71C6CF}" type="presParOf" srcId="{2C644DC3-2089-463A-A93F-950D391E5368}" destId="{802DF867-18C8-4505-B05C-E0A54EAE97A8}" srcOrd="0" destOrd="0" presId="urn:microsoft.com/office/officeart/2009/3/layout/HorizontalOrganizationChart"/>
    <dgm:cxn modelId="{1A53A696-69F3-485F-9BF6-F388D6022C31}" type="presParOf" srcId="{2C644DC3-2089-463A-A93F-950D391E5368}" destId="{67BC8C25-5267-4A13-ACC7-FDBA1F6C8AE0}" srcOrd="1" destOrd="0" presId="urn:microsoft.com/office/officeart/2009/3/layout/HorizontalOrganizationChart"/>
    <dgm:cxn modelId="{C8B217E7-1AEA-4250-82FA-26BF151AC165}" type="presParOf" srcId="{1DACF9FB-C722-40D4-87D0-9241CF0BA5B3}" destId="{B73D9CBD-B392-486F-8082-99CDCFB82C2B}" srcOrd="1" destOrd="0" presId="urn:microsoft.com/office/officeart/2009/3/layout/HorizontalOrganizationChart"/>
    <dgm:cxn modelId="{AA9E6019-924D-41F2-B3A0-C60DDAE72350}" type="presParOf" srcId="{B73D9CBD-B392-486F-8082-99CDCFB82C2B}" destId="{8AC7B6EA-29E1-40F3-A33F-E8ADA51B339C}" srcOrd="0" destOrd="0" presId="urn:microsoft.com/office/officeart/2009/3/layout/HorizontalOrganizationChart"/>
    <dgm:cxn modelId="{E3E5559A-5382-4F42-A108-1B69ECEA691E}" type="presParOf" srcId="{B73D9CBD-B392-486F-8082-99CDCFB82C2B}" destId="{588C5FD5-8AEE-4C11-8488-DC974CC3474C}" srcOrd="1" destOrd="0" presId="urn:microsoft.com/office/officeart/2009/3/layout/HorizontalOrganizationChart"/>
    <dgm:cxn modelId="{8E3FBCE7-53FB-41EF-A5E4-21B40AF1D3BC}" type="presParOf" srcId="{588C5FD5-8AEE-4C11-8488-DC974CC3474C}" destId="{64816C3F-DB41-4FD4-BD25-290C5430358F}" srcOrd="0" destOrd="0" presId="urn:microsoft.com/office/officeart/2009/3/layout/HorizontalOrganizationChart"/>
    <dgm:cxn modelId="{7EA97736-62F9-48DA-84B5-14A162D036D4}" type="presParOf" srcId="{64816C3F-DB41-4FD4-BD25-290C5430358F}" destId="{6222DEDA-79C2-4B1F-895E-8EB55D6D3CA2}" srcOrd="0" destOrd="0" presId="urn:microsoft.com/office/officeart/2009/3/layout/HorizontalOrganizationChart"/>
    <dgm:cxn modelId="{78BB26AC-0284-4015-B799-9A0B891AF3B2}" type="presParOf" srcId="{64816C3F-DB41-4FD4-BD25-290C5430358F}" destId="{A89C24B5-CDDA-4F20-9073-162B6BE8E89A}" srcOrd="1" destOrd="0" presId="urn:microsoft.com/office/officeart/2009/3/layout/HorizontalOrganizationChart"/>
    <dgm:cxn modelId="{9215A0E3-9042-41C7-986A-317934E56A5D}" type="presParOf" srcId="{588C5FD5-8AEE-4C11-8488-DC974CC3474C}" destId="{50D906EC-0A16-496F-AA41-1AD1D38AA79C}" srcOrd="1" destOrd="0" presId="urn:microsoft.com/office/officeart/2009/3/layout/HorizontalOrganizationChart"/>
    <dgm:cxn modelId="{4564B690-4A2C-4A1B-ABE2-E4827511DFF0}" type="presParOf" srcId="{588C5FD5-8AEE-4C11-8488-DC974CC3474C}" destId="{5F78DF1E-92B3-45E2-836E-2804C8B91020}" srcOrd="2" destOrd="0" presId="urn:microsoft.com/office/officeart/2009/3/layout/HorizontalOrganizationChart"/>
    <dgm:cxn modelId="{F3E3F4EA-8E74-4FA8-87D2-2B53F98E425F}" type="presParOf" srcId="{1DACF9FB-C722-40D4-87D0-9241CF0BA5B3}" destId="{BDEA751E-23EE-4DFF-B2A4-B7A4BD1C47FA}" srcOrd="2" destOrd="0" presId="urn:microsoft.com/office/officeart/2009/3/layout/HorizontalOrganizationChart"/>
    <dgm:cxn modelId="{E98738FD-BED1-4494-B8FA-1CD99F30BB63}" type="presParOf" srcId="{BAC64C18-87B5-4356-BAA9-4BBDA3F24F51}" destId="{D353FB58-E0CF-4B92-A83D-6F0F10D8007E}" srcOrd="2" destOrd="0" presId="urn:microsoft.com/office/officeart/2009/3/layout/HorizontalOrganizationChart"/>
    <dgm:cxn modelId="{5B89858B-4C26-4362-A1E4-CDC6B4C4D635}" type="presParOf" srcId="{DE9EA370-92F0-4D3B-A18B-09E0C2FB9AFF}" destId="{182D9666-5F7D-4374-BC3A-74B62E633267}" srcOrd="2" destOrd="0" presId="urn:microsoft.com/office/officeart/2009/3/layout/HorizontalOrganizationChar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84FAB482-6AC6-455B-9355-4C3BAAFBA9FD}" type="doc">
      <dgm:prSet loTypeId="urn:microsoft.com/office/officeart/2005/8/layout/vList3" loCatId="list" qsTypeId="urn:microsoft.com/office/officeart/2005/8/quickstyle/simple1" qsCatId="simple" csTypeId="urn:microsoft.com/office/officeart/2005/8/colors/accent1_2" csCatId="accent1" phldr="1"/>
      <dgm:spPr/>
    </dgm:pt>
    <dgm:pt modelId="{484BA8FB-6D69-4540-9AB3-8D5202FC4629}">
      <dgm:prSet phldrT="[Текст]"/>
      <dgm:spPr>
        <a:solidFill>
          <a:schemeClr val="accent6">
            <a:lumMod val="60000"/>
            <a:lumOff val="40000"/>
          </a:schemeClr>
        </a:solidFill>
        <a:ln>
          <a:noFill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gm:spPr>
      <dgm:t>
        <a:bodyPr/>
        <a:lstStyle/>
        <a:p>
          <a:r>
            <a:rPr lang="en-US" b="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0001</a:t>
          </a:r>
          <a:endParaRPr lang="ru-RU" b="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gm:t>
    </dgm:pt>
    <dgm:pt modelId="{B4D661D1-5D45-4EAE-8A3D-FCC2EA92A50E}" type="parTrans" cxnId="{E74973F1-FDE5-4C60-B06F-4D14DDBFB032}">
      <dgm:prSet/>
      <dgm:spPr/>
      <dgm:t>
        <a:bodyPr/>
        <a:lstStyle/>
        <a:p>
          <a:endParaRPr lang="ru-RU"/>
        </a:p>
      </dgm:t>
    </dgm:pt>
    <dgm:pt modelId="{D04FF24D-1C15-498B-8F51-6B5DDC184060}" type="sibTrans" cxnId="{E74973F1-FDE5-4C60-B06F-4D14DDBFB032}">
      <dgm:prSet/>
      <dgm:spPr/>
      <dgm:t>
        <a:bodyPr/>
        <a:lstStyle/>
        <a:p>
          <a:endParaRPr lang="ru-RU"/>
        </a:p>
      </dgm:t>
    </dgm:pt>
    <dgm:pt modelId="{C9BCE7BF-FEC3-4583-BB85-E88238EF02BE}">
      <dgm:prSet phldrT="[Текст]"/>
      <dgm:spPr>
        <a:solidFill>
          <a:schemeClr val="accent6">
            <a:lumMod val="60000"/>
            <a:lumOff val="40000"/>
          </a:schemeClr>
        </a:solidFill>
        <a:ln>
          <a:noFill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gm:spPr>
      <dgm:t>
        <a:bodyPr/>
        <a:lstStyle/>
        <a:p>
          <a:r>
            <a:rPr lang="en-US" b="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EKTA</a:t>
          </a:r>
          <a:endParaRPr lang="ru-RU" b="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gm:t>
    </dgm:pt>
    <dgm:pt modelId="{DDF47B05-1798-46F9-819A-2020A523235B}" type="parTrans" cxnId="{AF8C8DF0-99E4-41DC-981E-83AFB6E98B98}">
      <dgm:prSet/>
      <dgm:spPr/>
      <dgm:t>
        <a:bodyPr/>
        <a:lstStyle/>
        <a:p>
          <a:endParaRPr lang="ru-RU"/>
        </a:p>
      </dgm:t>
    </dgm:pt>
    <dgm:pt modelId="{5452332D-6B8F-42DC-9ABD-09D799540EFC}" type="sibTrans" cxnId="{AF8C8DF0-99E4-41DC-981E-83AFB6E98B98}">
      <dgm:prSet/>
      <dgm:spPr/>
      <dgm:t>
        <a:bodyPr/>
        <a:lstStyle/>
        <a:p>
          <a:endParaRPr lang="ru-RU"/>
        </a:p>
      </dgm:t>
    </dgm:pt>
    <dgm:pt modelId="{484A1C65-A7C9-461D-89A1-E3EDF4793C64}">
      <dgm:prSet phldrT="[Текст]"/>
      <dgm:spPr>
        <a:solidFill>
          <a:schemeClr val="accent6">
            <a:lumMod val="60000"/>
            <a:lumOff val="40000"/>
          </a:schemeClr>
        </a:solidFill>
        <a:ln>
          <a:noFill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gm:spPr>
      <dgm:t>
        <a:bodyPr/>
        <a:lstStyle/>
        <a:p>
          <a:r>
            <a:rPr lang="en-US" b="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001A</a:t>
          </a:r>
          <a:endParaRPr lang="ru-RU" b="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gm:t>
    </dgm:pt>
    <dgm:pt modelId="{7A0565D3-965D-4C03-9BB1-69E2022D155B}" type="parTrans" cxnId="{04F360B4-7C6A-4808-9D32-14A77B48186B}">
      <dgm:prSet/>
      <dgm:spPr/>
      <dgm:t>
        <a:bodyPr/>
        <a:lstStyle/>
        <a:p>
          <a:endParaRPr lang="ru-RU"/>
        </a:p>
      </dgm:t>
    </dgm:pt>
    <dgm:pt modelId="{C235216B-8B1B-4107-B783-3A6FC4094244}" type="sibTrans" cxnId="{04F360B4-7C6A-4808-9D32-14A77B48186B}">
      <dgm:prSet/>
      <dgm:spPr/>
      <dgm:t>
        <a:bodyPr/>
        <a:lstStyle/>
        <a:p>
          <a:endParaRPr lang="ru-RU"/>
        </a:p>
      </dgm:t>
    </dgm:pt>
    <dgm:pt modelId="{A69CCB6A-09A9-49FD-80B0-D07687E753C9}" type="pres">
      <dgm:prSet presAssocID="{84FAB482-6AC6-455B-9355-4C3BAAFBA9FD}" presName="linearFlow" presStyleCnt="0">
        <dgm:presLayoutVars>
          <dgm:dir/>
          <dgm:resizeHandles val="exact"/>
        </dgm:presLayoutVars>
      </dgm:prSet>
      <dgm:spPr/>
    </dgm:pt>
    <dgm:pt modelId="{9692910A-8631-486D-A827-FBF2835E8992}" type="pres">
      <dgm:prSet presAssocID="{484BA8FB-6D69-4540-9AB3-8D5202FC4629}" presName="composite" presStyleCnt="0"/>
      <dgm:spPr/>
    </dgm:pt>
    <dgm:pt modelId="{EC436FE1-908C-4E98-8E08-CF2703D8C0C5}" type="pres">
      <dgm:prSet presAssocID="{484BA8FB-6D69-4540-9AB3-8D5202FC4629}" presName="imgShp" presStyleLbl="fgImgPlace1" presStyleIdx="0" presStyleCnt="3"/>
      <dgm:spPr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2"/>
              </a:ext>
            </a:extLst>
          </a:blip>
          <a:srcRect/>
          <a:stretch>
            <a:fillRect/>
          </a:stretch>
        </a:blipFill>
      </dgm:spPr>
      <dgm:extLst>
        <a:ext uri="{E40237B7-FDA0-4F09-8148-C483321AD2D9}">
          <dgm14:cNvPr xmlns:dgm14="http://schemas.microsoft.com/office/drawing/2010/diagram" id="0" name="" descr="Автомобиль"/>
        </a:ext>
      </dgm:extLst>
    </dgm:pt>
    <dgm:pt modelId="{2A0783EA-92A2-45F5-A091-07600E75A652}" type="pres">
      <dgm:prSet presAssocID="{484BA8FB-6D69-4540-9AB3-8D5202FC4629}" presName="txShp" presStyleLbl="node1" presStyleIdx="0" presStyleCnt="3">
        <dgm:presLayoutVars>
          <dgm:bulletEnabled val="1"/>
        </dgm:presLayoutVars>
      </dgm:prSet>
      <dgm:spPr/>
    </dgm:pt>
    <dgm:pt modelId="{F7EB60D4-E1EF-429E-B3BB-B3D25AAA399E}" type="pres">
      <dgm:prSet presAssocID="{D04FF24D-1C15-498B-8F51-6B5DDC184060}" presName="spacing" presStyleCnt="0"/>
      <dgm:spPr/>
    </dgm:pt>
    <dgm:pt modelId="{232453DE-02D8-48C7-8521-BE3267EB4F48}" type="pres">
      <dgm:prSet presAssocID="{C9BCE7BF-FEC3-4583-BB85-E88238EF02BE}" presName="composite" presStyleCnt="0"/>
      <dgm:spPr/>
    </dgm:pt>
    <dgm:pt modelId="{146D68BF-1B6A-4622-994B-CDC123014B76}" type="pres">
      <dgm:prSet presAssocID="{C9BCE7BF-FEC3-4583-BB85-E88238EF02BE}" presName="imgShp" presStyleLbl="fgImgPlace1" presStyleIdx="1" presStyleCnt="3"/>
      <dgm:spPr>
        <a:blipFill>
          <a:blip xmlns:r="http://schemas.openxmlformats.org/officeDocument/2006/relationships" r:embed="rId3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4"/>
              </a:ext>
            </a:extLst>
          </a:blip>
          <a:srcRect/>
          <a:stretch>
            <a:fillRect/>
          </a:stretch>
        </a:blipFill>
      </dgm:spPr>
      <dgm:extLst>
        <a:ext uri="{E40237B7-FDA0-4F09-8148-C483321AD2D9}">
          <dgm14:cNvPr xmlns:dgm14="http://schemas.microsoft.com/office/drawing/2010/diagram" id="0" name="" descr="Центр обработки вызовов"/>
        </a:ext>
      </dgm:extLst>
    </dgm:pt>
    <dgm:pt modelId="{17BCACEE-599C-4BDE-AA56-BBE773E7E511}" type="pres">
      <dgm:prSet presAssocID="{C9BCE7BF-FEC3-4583-BB85-E88238EF02BE}" presName="txShp" presStyleLbl="node1" presStyleIdx="1" presStyleCnt="3">
        <dgm:presLayoutVars>
          <dgm:bulletEnabled val="1"/>
        </dgm:presLayoutVars>
      </dgm:prSet>
      <dgm:spPr/>
    </dgm:pt>
    <dgm:pt modelId="{0D39C3AA-BDC7-48D5-A879-29AAF5B3A63D}" type="pres">
      <dgm:prSet presAssocID="{5452332D-6B8F-42DC-9ABD-09D799540EFC}" presName="spacing" presStyleCnt="0"/>
      <dgm:spPr/>
    </dgm:pt>
    <dgm:pt modelId="{FF836381-551D-4E78-9EDC-890658313D49}" type="pres">
      <dgm:prSet presAssocID="{484A1C65-A7C9-461D-89A1-E3EDF4793C64}" presName="composite" presStyleCnt="0"/>
      <dgm:spPr/>
    </dgm:pt>
    <dgm:pt modelId="{7F69CB86-AB66-4300-B2A0-B1E38568323B}" type="pres">
      <dgm:prSet presAssocID="{484A1C65-A7C9-461D-89A1-E3EDF4793C64}" presName="imgShp" presStyleLbl="fgImgPlace1" presStyleIdx="2" presStyleCnt="3"/>
      <dgm:spPr>
        <a:blipFill>
          <a:blip xmlns:r="http://schemas.openxmlformats.org/officeDocument/2006/relationships" r:embed="rId5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6"/>
              </a:ext>
            </a:extLst>
          </a:blip>
          <a:srcRect/>
          <a:stretch>
            <a:fillRect/>
          </a:stretch>
        </a:blipFill>
      </dgm:spPr>
      <dgm:extLst>
        <a:ext uri="{E40237B7-FDA0-4F09-8148-C483321AD2D9}">
          <dgm14:cNvPr xmlns:dgm14="http://schemas.microsoft.com/office/drawing/2010/diagram" id="0" name="" descr="Значок сотрудника"/>
        </a:ext>
      </dgm:extLst>
    </dgm:pt>
    <dgm:pt modelId="{31F446A5-476F-4011-992F-3B01B225039C}" type="pres">
      <dgm:prSet presAssocID="{484A1C65-A7C9-461D-89A1-E3EDF4793C64}" presName="txShp" presStyleLbl="node1" presStyleIdx="2" presStyleCnt="3">
        <dgm:presLayoutVars>
          <dgm:bulletEnabled val="1"/>
        </dgm:presLayoutVars>
      </dgm:prSet>
      <dgm:spPr/>
    </dgm:pt>
  </dgm:ptLst>
  <dgm:cxnLst>
    <dgm:cxn modelId="{02D53C0B-05C6-4D28-A6B1-A9B061B4AC68}" type="presOf" srcId="{484A1C65-A7C9-461D-89A1-E3EDF4793C64}" destId="{31F446A5-476F-4011-992F-3B01B225039C}" srcOrd="0" destOrd="0" presId="urn:microsoft.com/office/officeart/2005/8/layout/vList3"/>
    <dgm:cxn modelId="{FAC4A874-E860-4C83-8A28-D2B44C73BF77}" type="presOf" srcId="{484BA8FB-6D69-4540-9AB3-8D5202FC4629}" destId="{2A0783EA-92A2-45F5-A091-07600E75A652}" srcOrd="0" destOrd="0" presId="urn:microsoft.com/office/officeart/2005/8/layout/vList3"/>
    <dgm:cxn modelId="{F9A31488-232C-4B0E-B9ED-FD1FCA93C704}" type="presOf" srcId="{C9BCE7BF-FEC3-4583-BB85-E88238EF02BE}" destId="{17BCACEE-599C-4BDE-AA56-BBE773E7E511}" srcOrd="0" destOrd="0" presId="urn:microsoft.com/office/officeart/2005/8/layout/vList3"/>
    <dgm:cxn modelId="{C46FFD8A-7129-474B-9464-6C9CCEA73E30}" type="presOf" srcId="{84FAB482-6AC6-455B-9355-4C3BAAFBA9FD}" destId="{A69CCB6A-09A9-49FD-80B0-D07687E753C9}" srcOrd="0" destOrd="0" presId="urn:microsoft.com/office/officeart/2005/8/layout/vList3"/>
    <dgm:cxn modelId="{04F360B4-7C6A-4808-9D32-14A77B48186B}" srcId="{84FAB482-6AC6-455B-9355-4C3BAAFBA9FD}" destId="{484A1C65-A7C9-461D-89A1-E3EDF4793C64}" srcOrd="2" destOrd="0" parTransId="{7A0565D3-965D-4C03-9BB1-69E2022D155B}" sibTransId="{C235216B-8B1B-4107-B783-3A6FC4094244}"/>
    <dgm:cxn modelId="{AF8C8DF0-99E4-41DC-981E-83AFB6E98B98}" srcId="{84FAB482-6AC6-455B-9355-4C3BAAFBA9FD}" destId="{C9BCE7BF-FEC3-4583-BB85-E88238EF02BE}" srcOrd="1" destOrd="0" parTransId="{DDF47B05-1798-46F9-819A-2020A523235B}" sibTransId="{5452332D-6B8F-42DC-9ABD-09D799540EFC}"/>
    <dgm:cxn modelId="{E74973F1-FDE5-4C60-B06F-4D14DDBFB032}" srcId="{84FAB482-6AC6-455B-9355-4C3BAAFBA9FD}" destId="{484BA8FB-6D69-4540-9AB3-8D5202FC4629}" srcOrd="0" destOrd="0" parTransId="{B4D661D1-5D45-4EAE-8A3D-FCC2EA92A50E}" sibTransId="{D04FF24D-1C15-498B-8F51-6B5DDC184060}"/>
    <dgm:cxn modelId="{E0F28AE6-E100-4D56-AAD1-CC0830373D66}" type="presParOf" srcId="{A69CCB6A-09A9-49FD-80B0-D07687E753C9}" destId="{9692910A-8631-486D-A827-FBF2835E8992}" srcOrd="0" destOrd="0" presId="urn:microsoft.com/office/officeart/2005/8/layout/vList3"/>
    <dgm:cxn modelId="{1E921B82-7F87-4787-8444-09558EB4EE11}" type="presParOf" srcId="{9692910A-8631-486D-A827-FBF2835E8992}" destId="{EC436FE1-908C-4E98-8E08-CF2703D8C0C5}" srcOrd="0" destOrd="0" presId="urn:microsoft.com/office/officeart/2005/8/layout/vList3"/>
    <dgm:cxn modelId="{C253F919-A02C-405D-A1A2-5660CC474670}" type="presParOf" srcId="{9692910A-8631-486D-A827-FBF2835E8992}" destId="{2A0783EA-92A2-45F5-A091-07600E75A652}" srcOrd="1" destOrd="0" presId="urn:microsoft.com/office/officeart/2005/8/layout/vList3"/>
    <dgm:cxn modelId="{B0D6943C-FB00-4E9D-A2A5-EB75A589E17B}" type="presParOf" srcId="{A69CCB6A-09A9-49FD-80B0-D07687E753C9}" destId="{F7EB60D4-E1EF-429E-B3BB-B3D25AAA399E}" srcOrd="1" destOrd="0" presId="urn:microsoft.com/office/officeart/2005/8/layout/vList3"/>
    <dgm:cxn modelId="{0300185E-2443-4655-A0D7-E0AB7D76F6AE}" type="presParOf" srcId="{A69CCB6A-09A9-49FD-80B0-D07687E753C9}" destId="{232453DE-02D8-48C7-8521-BE3267EB4F48}" srcOrd="2" destOrd="0" presId="urn:microsoft.com/office/officeart/2005/8/layout/vList3"/>
    <dgm:cxn modelId="{61F6D4A7-D763-45B5-B1E6-9BC0BE8334AD}" type="presParOf" srcId="{232453DE-02D8-48C7-8521-BE3267EB4F48}" destId="{146D68BF-1B6A-4622-994B-CDC123014B76}" srcOrd="0" destOrd="0" presId="urn:microsoft.com/office/officeart/2005/8/layout/vList3"/>
    <dgm:cxn modelId="{6CA44EDD-01E2-41CD-82C8-EBC8753BE9A2}" type="presParOf" srcId="{232453DE-02D8-48C7-8521-BE3267EB4F48}" destId="{17BCACEE-599C-4BDE-AA56-BBE773E7E511}" srcOrd="1" destOrd="0" presId="urn:microsoft.com/office/officeart/2005/8/layout/vList3"/>
    <dgm:cxn modelId="{EAF103F3-97F9-41D4-B741-7BFE02922DE8}" type="presParOf" srcId="{A69CCB6A-09A9-49FD-80B0-D07687E753C9}" destId="{0D39C3AA-BDC7-48D5-A879-29AAF5B3A63D}" srcOrd="3" destOrd="0" presId="urn:microsoft.com/office/officeart/2005/8/layout/vList3"/>
    <dgm:cxn modelId="{092A46F5-129F-407E-A4DD-C74E599B065F}" type="presParOf" srcId="{A69CCB6A-09A9-49FD-80B0-D07687E753C9}" destId="{FF836381-551D-4E78-9EDC-890658313D49}" srcOrd="4" destOrd="0" presId="urn:microsoft.com/office/officeart/2005/8/layout/vList3"/>
    <dgm:cxn modelId="{EF6C3AD6-BA2B-486B-814C-2BC95B2F4F3B}" type="presParOf" srcId="{FF836381-551D-4E78-9EDC-890658313D49}" destId="{7F69CB86-AB66-4300-B2A0-B1E38568323B}" srcOrd="0" destOrd="0" presId="urn:microsoft.com/office/officeart/2005/8/layout/vList3"/>
    <dgm:cxn modelId="{0006860D-4BA4-4FA1-985B-34CAD0832124}" type="presParOf" srcId="{FF836381-551D-4E78-9EDC-890658313D49}" destId="{31F446A5-476F-4011-992F-3B01B225039C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E06460E-9EF1-4190-8B72-1D5C78BDEB1A}">
      <dsp:nvSpPr>
        <dsp:cNvPr id="0" name=""/>
        <dsp:cNvSpPr/>
      </dsp:nvSpPr>
      <dsp:spPr>
        <a:xfrm>
          <a:off x="1732983" y="33432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1</a:t>
          </a:r>
          <a:endParaRPr lang="ru-RU" sz="2300" kern="1200" dirty="0"/>
        </a:p>
      </dsp:txBody>
      <dsp:txXfrm>
        <a:off x="1748276" y="349619"/>
        <a:ext cx="567447" cy="491550"/>
      </dsp:txXfrm>
    </dsp:sp>
    <dsp:sp modelId="{EC70F6A5-BD7B-49ED-9F8F-C85B4E5B99C9}">
      <dsp:nvSpPr>
        <dsp:cNvPr id="0" name=""/>
        <dsp:cNvSpPr/>
      </dsp:nvSpPr>
      <dsp:spPr>
        <a:xfrm>
          <a:off x="1075340" y="856462"/>
          <a:ext cx="956659" cy="318778"/>
        </a:xfrm>
        <a:custGeom>
          <a:avLst/>
          <a:gdLst/>
          <a:ahLst/>
          <a:cxnLst/>
          <a:rect l="0" t="0" r="0" b="0"/>
          <a:pathLst>
            <a:path>
              <a:moveTo>
                <a:pt x="956659" y="0"/>
              </a:moveTo>
              <a:lnTo>
                <a:pt x="956659" y="159389"/>
              </a:lnTo>
              <a:lnTo>
                <a:pt x="0" y="159389"/>
              </a:lnTo>
              <a:lnTo>
                <a:pt x="0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DDD4984-06BE-42F3-8BB0-40499C51FBE4}">
      <dsp:nvSpPr>
        <dsp:cNvPr id="0" name=""/>
        <dsp:cNvSpPr/>
      </dsp:nvSpPr>
      <dsp:spPr>
        <a:xfrm>
          <a:off x="776323" y="1175241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2</a:t>
          </a:r>
          <a:endParaRPr lang="ru-RU" sz="2300" kern="1200" dirty="0"/>
        </a:p>
      </dsp:txBody>
      <dsp:txXfrm>
        <a:off x="791616" y="1190534"/>
        <a:ext cx="567447" cy="491550"/>
      </dsp:txXfrm>
    </dsp:sp>
    <dsp:sp modelId="{C6FB5F16-8BBC-4DD0-97C7-1ACB7F6EC9B6}">
      <dsp:nvSpPr>
        <dsp:cNvPr id="0" name=""/>
        <dsp:cNvSpPr/>
      </dsp:nvSpPr>
      <dsp:spPr>
        <a:xfrm>
          <a:off x="597010" y="1697377"/>
          <a:ext cx="478329" cy="318778"/>
        </a:xfrm>
        <a:custGeom>
          <a:avLst/>
          <a:gdLst/>
          <a:ahLst/>
          <a:cxnLst/>
          <a:rect l="0" t="0" r="0" b="0"/>
          <a:pathLst>
            <a:path>
              <a:moveTo>
                <a:pt x="478329" y="0"/>
              </a:moveTo>
              <a:lnTo>
                <a:pt x="478329" y="159389"/>
              </a:lnTo>
              <a:lnTo>
                <a:pt x="0" y="159389"/>
              </a:lnTo>
              <a:lnTo>
                <a:pt x="0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33D0975-0FEA-4C53-B3FE-C9A060D82CCD}">
      <dsp:nvSpPr>
        <dsp:cNvPr id="0" name=""/>
        <dsp:cNvSpPr/>
      </dsp:nvSpPr>
      <dsp:spPr>
        <a:xfrm>
          <a:off x="297993" y="201615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3</a:t>
          </a:r>
          <a:endParaRPr lang="ru-RU" sz="2300" kern="1200" dirty="0"/>
        </a:p>
      </dsp:txBody>
      <dsp:txXfrm>
        <a:off x="313286" y="2031449"/>
        <a:ext cx="567447" cy="491550"/>
      </dsp:txXfrm>
    </dsp:sp>
    <dsp:sp modelId="{DDD98C3B-6D5E-4295-923F-2CB222EAAEF2}">
      <dsp:nvSpPr>
        <dsp:cNvPr id="0" name=""/>
        <dsp:cNvSpPr/>
      </dsp:nvSpPr>
      <dsp:spPr>
        <a:xfrm>
          <a:off x="1075340" y="1697377"/>
          <a:ext cx="478329" cy="31877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59389"/>
              </a:lnTo>
              <a:lnTo>
                <a:pt x="478329" y="159389"/>
              </a:lnTo>
              <a:lnTo>
                <a:pt x="478329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A6A2C2C-EF5B-42F0-B583-7EBECA581AAD}">
      <dsp:nvSpPr>
        <dsp:cNvPr id="0" name=""/>
        <dsp:cNvSpPr/>
      </dsp:nvSpPr>
      <dsp:spPr>
        <a:xfrm>
          <a:off x="1254653" y="201615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2300" kern="1200" dirty="0"/>
        </a:p>
      </dsp:txBody>
      <dsp:txXfrm>
        <a:off x="1269946" y="2031449"/>
        <a:ext cx="567447" cy="491550"/>
      </dsp:txXfrm>
    </dsp:sp>
    <dsp:sp modelId="{5D736F0F-F246-4000-B815-2E8E96761C03}">
      <dsp:nvSpPr>
        <dsp:cNvPr id="0" name=""/>
        <dsp:cNvSpPr/>
      </dsp:nvSpPr>
      <dsp:spPr>
        <a:xfrm>
          <a:off x="1986279" y="856462"/>
          <a:ext cx="91440" cy="318778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373253D-0C44-4D1F-92AC-2F0824EFE8AF}">
      <dsp:nvSpPr>
        <dsp:cNvPr id="0" name=""/>
        <dsp:cNvSpPr/>
      </dsp:nvSpPr>
      <dsp:spPr>
        <a:xfrm>
          <a:off x="1732983" y="1175241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2300" kern="1200" dirty="0"/>
        </a:p>
      </dsp:txBody>
      <dsp:txXfrm>
        <a:off x="1748276" y="1190534"/>
        <a:ext cx="567447" cy="491550"/>
      </dsp:txXfrm>
    </dsp:sp>
    <dsp:sp modelId="{1470B4D7-4EDD-4CA4-813C-C7330DBB1DB4}">
      <dsp:nvSpPr>
        <dsp:cNvPr id="0" name=""/>
        <dsp:cNvSpPr/>
      </dsp:nvSpPr>
      <dsp:spPr>
        <a:xfrm>
          <a:off x="2032000" y="856462"/>
          <a:ext cx="956659" cy="31877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59389"/>
              </a:lnTo>
              <a:lnTo>
                <a:pt x="956659" y="159389"/>
              </a:lnTo>
              <a:lnTo>
                <a:pt x="956659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4A9FCDD-0246-4AF1-BA6A-86E2E0D1C324}">
      <dsp:nvSpPr>
        <dsp:cNvPr id="0" name=""/>
        <dsp:cNvSpPr/>
      </dsp:nvSpPr>
      <dsp:spPr>
        <a:xfrm>
          <a:off x="2689643" y="1175241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2</a:t>
          </a:r>
          <a:endParaRPr lang="ru-RU" sz="2300" kern="1200" dirty="0"/>
        </a:p>
      </dsp:txBody>
      <dsp:txXfrm>
        <a:off x="2704936" y="1190534"/>
        <a:ext cx="567447" cy="491550"/>
      </dsp:txXfrm>
    </dsp:sp>
    <dsp:sp modelId="{FB52B44F-10D8-41C2-8D66-AB4F5AF04A28}">
      <dsp:nvSpPr>
        <dsp:cNvPr id="0" name=""/>
        <dsp:cNvSpPr/>
      </dsp:nvSpPr>
      <dsp:spPr>
        <a:xfrm>
          <a:off x="2510329" y="1697377"/>
          <a:ext cx="478329" cy="318778"/>
        </a:xfrm>
        <a:custGeom>
          <a:avLst/>
          <a:gdLst/>
          <a:ahLst/>
          <a:cxnLst/>
          <a:rect l="0" t="0" r="0" b="0"/>
          <a:pathLst>
            <a:path>
              <a:moveTo>
                <a:pt x="478329" y="0"/>
              </a:moveTo>
              <a:lnTo>
                <a:pt x="478329" y="159389"/>
              </a:lnTo>
              <a:lnTo>
                <a:pt x="0" y="159389"/>
              </a:lnTo>
              <a:lnTo>
                <a:pt x="0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34670EC-61B7-4421-BBEE-6069A7C7D7D5}">
      <dsp:nvSpPr>
        <dsp:cNvPr id="0" name=""/>
        <dsp:cNvSpPr/>
      </dsp:nvSpPr>
      <dsp:spPr>
        <a:xfrm>
          <a:off x="2211313" y="201615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2300" kern="1200" dirty="0"/>
            <a:t>L3</a:t>
          </a:r>
          <a:endParaRPr lang="ru-RU" sz="2300" kern="1200" dirty="0"/>
        </a:p>
      </dsp:txBody>
      <dsp:txXfrm>
        <a:off x="2226606" y="2031449"/>
        <a:ext cx="567447" cy="491550"/>
      </dsp:txXfrm>
    </dsp:sp>
    <dsp:sp modelId="{949AFDF6-2337-4102-AB5B-7D0FA001D186}">
      <dsp:nvSpPr>
        <dsp:cNvPr id="0" name=""/>
        <dsp:cNvSpPr/>
      </dsp:nvSpPr>
      <dsp:spPr>
        <a:xfrm>
          <a:off x="2988659" y="1697377"/>
          <a:ext cx="478329" cy="31877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59389"/>
              </a:lnTo>
              <a:lnTo>
                <a:pt x="478329" y="159389"/>
              </a:lnTo>
              <a:lnTo>
                <a:pt x="478329" y="318778"/>
              </a:lnTo>
            </a:path>
          </a:pathLst>
        </a:custGeom>
        <a:noFill/>
        <a:ln w="38100" cap="flat" cmpd="sng" algn="ctr">
          <a:solidFill>
            <a:schemeClr val="bg2">
              <a:lumMod val="25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40B044A-995E-449E-9EC3-CF5C0CD1CE41}">
      <dsp:nvSpPr>
        <dsp:cNvPr id="0" name=""/>
        <dsp:cNvSpPr/>
      </dsp:nvSpPr>
      <dsp:spPr>
        <a:xfrm>
          <a:off x="3167972" y="2016156"/>
          <a:ext cx="598033" cy="522136"/>
        </a:xfrm>
        <a:prstGeom prst="roundRect">
          <a:avLst>
            <a:gd name="adj" fmla="val 10000"/>
          </a:avLst>
        </a:prstGeom>
        <a:solidFill>
          <a:schemeClr val="bg2">
            <a:lumMod val="2500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marL="0" lvl="0" indent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ru-RU" sz="2300" kern="1200" dirty="0"/>
        </a:p>
      </dsp:txBody>
      <dsp:txXfrm>
        <a:off x="3183265" y="2031449"/>
        <a:ext cx="567447" cy="49155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AC7B6EA-29E1-40F3-A33F-E8ADA51B339C}">
      <dsp:nvSpPr>
        <dsp:cNvPr id="0" name=""/>
        <dsp:cNvSpPr/>
      </dsp:nvSpPr>
      <dsp:spPr>
        <a:xfrm>
          <a:off x="8612161" y="3306330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6732"/>
              </a:moveTo>
              <a:lnTo>
                <a:pt x="1019841" y="46732"/>
              </a:lnTo>
              <a:lnTo>
                <a:pt x="1019841" y="45720"/>
              </a:lnTo>
              <a:lnTo>
                <a:pt x="1132729" y="45720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D92F4F7-486B-4695-B0AF-4F2D554CA079}">
      <dsp:nvSpPr>
        <dsp:cNvPr id="0" name=""/>
        <dsp:cNvSpPr/>
      </dsp:nvSpPr>
      <dsp:spPr>
        <a:xfrm>
          <a:off x="5924512" y="3307342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1"/>
              </a:moveTo>
              <a:lnTo>
                <a:pt x="866426" y="45721"/>
              </a:lnTo>
              <a:lnTo>
                <a:pt x="866426" y="45720"/>
              </a:lnTo>
              <a:lnTo>
                <a:pt x="979314" y="45720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46817C3-4847-4ED4-9D2B-D60925E102C8}">
      <dsp:nvSpPr>
        <dsp:cNvPr id="0" name=""/>
        <dsp:cNvSpPr/>
      </dsp:nvSpPr>
      <dsp:spPr>
        <a:xfrm>
          <a:off x="2854388" y="554069"/>
          <a:ext cx="996225" cy="2798994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2798994"/>
              </a:lnTo>
              <a:lnTo>
                <a:pt x="996225" y="2798994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09CE802-7568-4FF8-9BC0-1FCC6F90B7A4}">
      <dsp:nvSpPr>
        <dsp:cNvPr id="0" name=""/>
        <dsp:cNvSpPr/>
      </dsp:nvSpPr>
      <dsp:spPr>
        <a:xfrm>
          <a:off x="8612161" y="2692378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1019841" y="45720"/>
              </a:lnTo>
              <a:lnTo>
                <a:pt x="1019841" y="46208"/>
              </a:lnTo>
              <a:lnTo>
                <a:pt x="1132729" y="46208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6412BC0-5ED9-4510-BF5D-FBA05FB09F11}">
      <dsp:nvSpPr>
        <dsp:cNvPr id="0" name=""/>
        <dsp:cNvSpPr/>
      </dsp:nvSpPr>
      <dsp:spPr>
        <a:xfrm>
          <a:off x="5924512" y="2688012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866426" y="45720"/>
              </a:lnTo>
              <a:lnTo>
                <a:pt x="866426" y="50085"/>
              </a:lnTo>
              <a:lnTo>
                <a:pt x="979314" y="50085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72C157F1-29D9-4FFF-AA3C-D2EFB2504C99}">
      <dsp:nvSpPr>
        <dsp:cNvPr id="0" name=""/>
        <dsp:cNvSpPr/>
      </dsp:nvSpPr>
      <dsp:spPr>
        <a:xfrm>
          <a:off x="2854388" y="554069"/>
          <a:ext cx="996225" cy="217966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2179662"/>
              </a:lnTo>
              <a:lnTo>
                <a:pt x="996225" y="2179662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35BCDCB-05C0-4D27-A140-143312EC6004}">
      <dsp:nvSpPr>
        <dsp:cNvPr id="0" name=""/>
        <dsp:cNvSpPr/>
      </dsp:nvSpPr>
      <dsp:spPr>
        <a:xfrm>
          <a:off x="8612161" y="2061981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1019841" y="45720"/>
              </a:lnTo>
              <a:lnTo>
                <a:pt x="1019841" y="46208"/>
              </a:lnTo>
              <a:lnTo>
                <a:pt x="1132729" y="46208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AB74B4A-F88A-4390-BBC3-6EA92BEF8EAD}">
      <dsp:nvSpPr>
        <dsp:cNvPr id="0" name=""/>
        <dsp:cNvSpPr/>
      </dsp:nvSpPr>
      <dsp:spPr>
        <a:xfrm>
          <a:off x="5924512" y="2061981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9820"/>
              </a:moveTo>
              <a:lnTo>
                <a:pt x="866426" y="49820"/>
              </a:lnTo>
              <a:lnTo>
                <a:pt x="866426" y="45720"/>
              </a:lnTo>
              <a:lnTo>
                <a:pt x="979314" y="45720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BBBF7DE-5B06-4C01-8382-BF1F016BC682}">
      <dsp:nvSpPr>
        <dsp:cNvPr id="0" name=""/>
        <dsp:cNvSpPr/>
      </dsp:nvSpPr>
      <dsp:spPr>
        <a:xfrm>
          <a:off x="2854388" y="554069"/>
          <a:ext cx="996225" cy="155773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1557732"/>
              </a:lnTo>
              <a:lnTo>
                <a:pt x="996225" y="1557732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3039803-9473-4500-9ED4-54F193A43437}">
      <dsp:nvSpPr>
        <dsp:cNvPr id="0" name=""/>
        <dsp:cNvSpPr/>
      </dsp:nvSpPr>
      <dsp:spPr>
        <a:xfrm>
          <a:off x="8612161" y="1432074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53697"/>
              </a:moveTo>
              <a:lnTo>
                <a:pt x="1019841" y="53697"/>
              </a:lnTo>
              <a:lnTo>
                <a:pt x="1019841" y="45720"/>
              </a:lnTo>
              <a:lnTo>
                <a:pt x="1132729" y="45720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9E952DE-C054-4BAF-B175-7684D3688AC1}">
      <dsp:nvSpPr>
        <dsp:cNvPr id="0" name=""/>
        <dsp:cNvSpPr/>
      </dsp:nvSpPr>
      <dsp:spPr>
        <a:xfrm>
          <a:off x="5924512" y="1440052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9820"/>
              </a:moveTo>
              <a:lnTo>
                <a:pt x="866426" y="49820"/>
              </a:lnTo>
              <a:lnTo>
                <a:pt x="866426" y="45720"/>
              </a:lnTo>
              <a:lnTo>
                <a:pt x="979314" y="45720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11F3CF4-9BE3-4001-95F5-F7CCA0F5CE3D}">
      <dsp:nvSpPr>
        <dsp:cNvPr id="0" name=""/>
        <dsp:cNvSpPr/>
      </dsp:nvSpPr>
      <dsp:spPr>
        <a:xfrm>
          <a:off x="2854388" y="554069"/>
          <a:ext cx="996225" cy="93580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935803"/>
              </a:lnTo>
              <a:lnTo>
                <a:pt x="996225" y="935803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04EE54A-1EB6-4D7B-A4B2-1CDF94FF170F}">
      <dsp:nvSpPr>
        <dsp:cNvPr id="0" name=""/>
        <dsp:cNvSpPr/>
      </dsp:nvSpPr>
      <dsp:spPr>
        <a:xfrm>
          <a:off x="8612161" y="818122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1019841" y="45720"/>
              </a:lnTo>
              <a:lnTo>
                <a:pt x="1019841" y="46208"/>
              </a:lnTo>
              <a:lnTo>
                <a:pt x="1132729" y="46208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222BE1C-9423-4D0D-BA2A-7C1FF61EA18D}">
      <dsp:nvSpPr>
        <dsp:cNvPr id="0" name=""/>
        <dsp:cNvSpPr/>
      </dsp:nvSpPr>
      <dsp:spPr>
        <a:xfrm>
          <a:off x="5924512" y="818122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9820"/>
              </a:moveTo>
              <a:lnTo>
                <a:pt x="866426" y="49820"/>
              </a:lnTo>
              <a:lnTo>
                <a:pt x="866426" y="45720"/>
              </a:lnTo>
              <a:lnTo>
                <a:pt x="979314" y="45720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6F8857A-4658-4489-9556-A92D16175513}">
      <dsp:nvSpPr>
        <dsp:cNvPr id="0" name=""/>
        <dsp:cNvSpPr/>
      </dsp:nvSpPr>
      <dsp:spPr>
        <a:xfrm>
          <a:off x="2854388" y="554069"/>
          <a:ext cx="996225" cy="31387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883337" y="0"/>
              </a:lnTo>
              <a:lnTo>
                <a:pt x="883337" y="313873"/>
              </a:lnTo>
              <a:lnTo>
                <a:pt x="996225" y="313873"/>
              </a:lnTo>
            </a:path>
          </a:pathLst>
        </a:custGeom>
        <a:noFill/>
        <a:ln w="12700" cap="flat" cmpd="sng" algn="ctr">
          <a:solidFill>
            <a:schemeClr val="accent6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953026E-CD6F-4A96-BD15-3A89752DC905}">
      <dsp:nvSpPr>
        <dsp:cNvPr id="0" name=""/>
        <dsp:cNvSpPr/>
      </dsp:nvSpPr>
      <dsp:spPr>
        <a:xfrm>
          <a:off x="8612161" y="194904"/>
          <a:ext cx="1132729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1019841" y="45720"/>
              </a:lnTo>
              <a:lnTo>
                <a:pt x="1019841" y="47496"/>
              </a:lnTo>
              <a:lnTo>
                <a:pt x="1132729" y="47496"/>
              </a:lnTo>
            </a:path>
          </a:pathLst>
        </a:custGeom>
        <a:noFill/>
        <a:ln w="12700" cap="flat" cmpd="sng" algn="ctr">
          <a:solidFill>
            <a:schemeClr val="accent2">
              <a:lumMod val="60000"/>
              <a:lumOff val="4000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7B7AC9A-8103-4488-B2C2-94A2C34E7DFC}">
      <dsp:nvSpPr>
        <dsp:cNvPr id="0" name=""/>
        <dsp:cNvSpPr/>
      </dsp:nvSpPr>
      <dsp:spPr>
        <a:xfrm>
          <a:off x="5924512" y="194689"/>
          <a:ext cx="97931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866426" y="45720"/>
              </a:lnTo>
              <a:lnTo>
                <a:pt x="866426" y="45934"/>
              </a:lnTo>
              <a:lnTo>
                <a:pt x="979314" y="45934"/>
              </a:lnTo>
            </a:path>
          </a:pathLst>
        </a:custGeom>
        <a:noFill/>
        <a:ln w="127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FBC66CD-236C-4015-B3C5-E964F13EBF51}">
      <dsp:nvSpPr>
        <dsp:cNvPr id="0" name=""/>
        <dsp:cNvSpPr/>
      </dsp:nvSpPr>
      <dsp:spPr>
        <a:xfrm>
          <a:off x="2854388" y="240409"/>
          <a:ext cx="996225" cy="313659"/>
        </a:xfrm>
        <a:custGeom>
          <a:avLst/>
          <a:gdLst/>
          <a:ahLst/>
          <a:cxnLst/>
          <a:rect l="0" t="0" r="0" b="0"/>
          <a:pathLst>
            <a:path>
              <a:moveTo>
                <a:pt x="0" y="313659"/>
              </a:moveTo>
              <a:lnTo>
                <a:pt x="883337" y="313659"/>
              </a:lnTo>
              <a:lnTo>
                <a:pt x="883337" y="0"/>
              </a:lnTo>
              <a:lnTo>
                <a:pt x="996225" y="0"/>
              </a:lnTo>
            </a:path>
          </a:pathLst>
        </a:custGeom>
        <a:noFill/>
        <a:ln w="12700" cap="flat" cmpd="sng" algn="ctr">
          <a:solidFill>
            <a:srgbClr val="92D050"/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5AC076F3-0DA4-416D-BA96-F1D60B5D7256}">
      <dsp:nvSpPr>
        <dsp:cNvPr id="0" name=""/>
        <dsp:cNvSpPr/>
      </dsp:nvSpPr>
      <dsp:spPr>
        <a:xfrm>
          <a:off x="528602" y="0"/>
          <a:ext cx="2325786" cy="1108139"/>
        </a:xfrm>
        <a:prstGeom prst="roundRect">
          <a:avLst/>
        </a:prstGeom>
        <a:solidFill>
          <a:schemeClr val="accent4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1_NA Russia</a:t>
          </a:r>
          <a:endParaRPr lang="ru-RU" sz="1400" kern="1200" dirty="0">
            <a:solidFill>
              <a:schemeClr val="tx1">
                <a:lumMod val="65000"/>
                <a:lumOff val="35000"/>
              </a:schemeClr>
            </a:solidFill>
          </a:endParaRPr>
        </a:p>
      </dsp:txBody>
      <dsp:txXfrm>
        <a:off x="582697" y="54095"/>
        <a:ext cx="2217596" cy="999949"/>
      </dsp:txXfrm>
    </dsp:sp>
    <dsp:sp modelId="{BA37A039-8231-408B-88D6-34F135D4720D}">
      <dsp:nvSpPr>
        <dsp:cNvPr id="0" name=""/>
        <dsp:cNvSpPr/>
      </dsp:nvSpPr>
      <dsp:spPr>
        <a:xfrm>
          <a:off x="3850613" y="0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  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</a:t>
          </a:r>
        </a:p>
      </dsp:txBody>
      <dsp:txXfrm>
        <a:off x="3874085" y="23472"/>
        <a:ext cx="2026955" cy="433875"/>
      </dsp:txXfrm>
    </dsp:sp>
    <dsp:sp modelId="{F7C7A283-8449-4A9F-B070-DD951761FB58}">
      <dsp:nvSpPr>
        <dsp:cNvPr id="0" name=""/>
        <dsp:cNvSpPr/>
      </dsp:nvSpPr>
      <dsp:spPr>
        <a:xfrm>
          <a:off x="6903827" y="8468"/>
          <a:ext cx="1708334" cy="464313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6493" y="31134"/>
        <a:ext cx="1663002" cy="418981"/>
      </dsp:txXfrm>
    </dsp:sp>
    <dsp:sp modelId="{1DE691EC-C261-492E-8960-D34550A092F2}">
      <dsp:nvSpPr>
        <dsp:cNvPr id="0" name=""/>
        <dsp:cNvSpPr/>
      </dsp:nvSpPr>
      <dsp:spPr>
        <a:xfrm>
          <a:off x="9744890" y="1991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25463"/>
        <a:ext cx="1661390" cy="433875"/>
      </dsp:txXfrm>
    </dsp:sp>
    <dsp:sp modelId="{45337472-D653-4CC4-BFE0-9EAB29234A68}">
      <dsp:nvSpPr>
        <dsp:cNvPr id="0" name=""/>
        <dsp:cNvSpPr/>
      </dsp:nvSpPr>
      <dsp:spPr>
        <a:xfrm>
          <a:off x="3850613" y="627533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  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 err="1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CWD</a:t>
          </a:r>
          <a:endParaRPr lang="en-US" sz="12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3874085" y="651005"/>
        <a:ext cx="2026955" cy="433875"/>
      </dsp:txXfrm>
    </dsp:sp>
    <dsp:sp modelId="{A849629A-AA87-48AA-8FA2-45E2C5047F32}">
      <dsp:nvSpPr>
        <dsp:cNvPr id="0" name=""/>
        <dsp:cNvSpPr/>
      </dsp:nvSpPr>
      <dsp:spPr>
        <a:xfrm>
          <a:off x="6903827" y="623432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646904"/>
        <a:ext cx="1661390" cy="433875"/>
      </dsp:txXfrm>
    </dsp:sp>
    <dsp:sp modelId="{CB9F0E71-81D6-4FA0-940A-B18AFB275E47}">
      <dsp:nvSpPr>
        <dsp:cNvPr id="0" name=""/>
        <dsp:cNvSpPr/>
      </dsp:nvSpPr>
      <dsp:spPr>
        <a:xfrm>
          <a:off x="9744890" y="623921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647393"/>
        <a:ext cx="1661390" cy="433875"/>
      </dsp:txXfrm>
    </dsp:sp>
    <dsp:sp modelId="{D8F07A57-3EEB-49E0-A087-92D4BB62336A}">
      <dsp:nvSpPr>
        <dsp:cNvPr id="0" name=""/>
        <dsp:cNvSpPr/>
      </dsp:nvSpPr>
      <dsp:spPr>
        <a:xfrm>
          <a:off x="3850613" y="1249462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Merch_PO1</a:t>
          </a:r>
        </a:p>
      </dsp:txBody>
      <dsp:txXfrm>
        <a:off x="3874085" y="1272934"/>
        <a:ext cx="2026955" cy="433875"/>
      </dsp:txXfrm>
    </dsp:sp>
    <dsp:sp modelId="{D511FD58-653D-4C87-B9A3-A642FEB4E49B}">
      <dsp:nvSpPr>
        <dsp:cNvPr id="0" name=""/>
        <dsp:cNvSpPr/>
      </dsp:nvSpPr>
      <dsp:spPr>
        <a:xfrm>
          <a:off x="6903827" y="1245362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1268834"/>
        <a:ext cx="1661390" cy="433875"/>
      </dsp:txXfrm>
    </dsp:sp>
    <dsp:sp modelId="{9D535536-A45B-428F-B25E-C6B5E1A0A101}">
      <dsp:nvSpPr>
        <dsp:cNvPr id="0" name=""/>
        <dsp:cNvSpPr/>
      </dsp:nvSpPr>
      <dsp:spPr>
        <a:xfrm>
          <a:off x="9744890" y="1237384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1260856"/>
        <a:ext cx="1661390" cy="433875"/>
      </dsp:txXfrm>
    </dsp:sp>
    <dsp:sp modelId="{43CCD05C-F67F-48E4-8506-7F93C107E68E}">
      <dsp:nvSpPr>
        <dsp:cNvPr id="0" name=""/>
        <dsp:cNvSpPr/>
      </dsp:nvSpPr>
      <dsp:spPr>
        <a:xfrm>
          <a:off x="3850613" y="1871392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 err="1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TSRussia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_</a:t>
          </a:r>
        </a:p>
      </dsp:txBody>
      <dsp:txXfrm>
        <a:off x="3874085" y="1894864"/>
        <a:ext cx="2026955" cy="433875"/>
      </dsp:txXfrm>
    </dsp:sp>
    <dsp:sp modelId="{BF2B5FE1-68E9-4F5B-8470-F6BFC9A52262}">
      <dsp:nvSpPr>
        <dsp:cNvPr id="0" name=""/>
        <dsp:cNvSpPr/>
      </dsp:nvSpPr>
      <dsp:spPr>
        <a:xfrm>
          <a:off x="6903827" y="1867291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1890763"/>
        <a:ext cx="1661390" cy="433875"/>
      </dsp:txXfrm>
    </dsp:sp>
    <dsp:sp modelId="{4FEA24A0-4433-42A9-B45A-3C0BE1A22261}">
      <dsp:nvSpPr>
        <dsp:cNvPr id="0" name=""/>
        <dsp:cNvSpPr/>
      </dsp:nvSpPr>
      <dsp:spPr>
        <a:xfrm>
          <a:off x="9744890" y="1867780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1891252"/>
        <a:ext cx="1661390" cy="433875"/>
      </dsp:txXfrm>
    </dsp:sp>
    <dsp:sp modelId="{D27C5C7B-A247-4877-A633-7699CAB77B02}">
      <dsp:nvSpPr>
        <dsp:cNvPr id="0" name=""/>
        <dsp:cNvSpPr/>
      </dsp:nvSpPr>
      <dsp:spPr>
        <a:xfrm>
          <a:off x="3850613" y="2493322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en-US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 WBD</a:t>
          </a:r>
        </a:p>
      </dsp:txBody>
      <dsp:txXfrm>
        <a:off x="3874085" y="2516794"/>
        <a:ext cx="2026955" cy="433875"/>
      </dsp:txXfrm>
    </dsp:sp>
    <dsp:sp modelId="{22FCE608-8C3E-4C3E-8A10-DE89BBB9A495}">
      <dsp:nvSpPr>
        <dsp:cNvPr id="0" name=""/>
        <dsp:cNvSpPr/>
      </dsp:nvSpPr>
      <dsp:spPr>
        <a:xfrm>
          <a:off x="6903827" y="2497688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2521160"/>
        <a:ext cx="1661390" cy="433875"/>
      </dsp:txXfrm>
    </dsp:sp>
    <dsp:sp modelId="{05CAE019-0AAB-458A-9F85-A5154DC33DB3}">
      <dsp:nvSpPr>
        <dsp:cNvPr id="0" name=""/>
        <dsp:cNvSpPr/>
      </dsp:nvSpPr>
      <dsp:spPr>
        <a:xfrm>
          <a:off x="9744890" y="2498177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2521649"/>
        <a:ext cx="1661390" cy="433875"/>
      </dsp:txXfrm>
    </dsp:sp>
    <dsp:sp modelId="{A4960B7B-D2C7-4964-A532-1B77BB5F0C70}">
      <dsp:nvSpPr>
        <dsp:cNvPr id="0" name=""/>
        <dsp:cNvSpPr/>
      </dsp:nvSpPr>
      <dsp:spPr>
        <a:xfrm>
          <a:off x="3850613" y="3112654"/>
          <a:ext cx="2073899" cy="480819"/>
        </a:xfrm>
        <a:prstGeom prst="roundRect">
          <a:avLst/>
        </a:prstGeom>
        <a:solidFill>
          <a:schemeClr val="accent6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6"/>
        </a:fillRef>
        <a:effectRef idx="1">
          <a:schemeClr val="accent6"/>
        </a:effectRef>
        <a:fontRef idx="minor">
          <a:schemeClr val="lt1"/>
        </a:fontRef>
      </dsp:style>
      <dsp:txBody>
        <a:bodyPr spcFirstLastPara="0" vert="horz" wrap="square" lIns="7620" tIns="7620" rIns="7620" bIns="7620" numCol="1" spcCol="1270" anchor="ctr" anchorCtr="0">
          <a:noAutofit/>
        </a:bodyPr>
        <a:lstStyle/>
        <a:p>
          <a:pPr marL="0" lvl="0" indent="0" algn="l" defTabSz="5334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pt-BR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L2_NA</a:t>
          </a:r>
          <a:r>
            <a:rPr lang="ru-RU" sz="1200" kern="1200" dirty="0">
              <a:solidFill>
                <a:schemeClr val="tx1">
                  <a:lumMod val="65000"/>
                  <a:lumOff val="35000"/>
                </a:schemeClr>
              </a:solidFill>
            </a:rPr>
            <a:t>_</a:t>
          </a:r>
          <a:r>
            <a:rPr lang="pt-BR" sz="12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ssia_Special Project</a:t>
          </a:r>
          <a:endParaRPr lang="en-US" sz="12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3874085" y="3136126"/>
        <a:ext cx="2026955" cy="433875"/>
      </dsp:txXfrm>
    </dsp:sp>
    <dsp:sp modelId="{802DF867-18C8-4505-B05C-E0A54EAE97A8}">
      <dsp:nvSpPr>
        <dsp:cNvPr id="0" name=""/>
        <dsp:cNvSpPr/>
      </dsp:nvSpPr>
      <dsp:spPr>
        <a:xfrm>
          <a:off x="6903827" y="3112652"/>
          <a:ext cx="1708334" cy="480819"/>
        </a:xfrm>
        <a:prstGeom prst="roundRect">
          <a:avLst/>
        </a:prstGeom>
        <a:solidFill>
          <a:srgbClr val="6DA6D9"/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1"/>
        </a:fillRef>
        <a:effectRef idx="1">
          <a:schemeClr val="accent1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75000"/>
                  <a:lumOff val="25000"/>
                </a:schemeClr>
              </a:solidFill>
              <a:latin typeface="Arial Rounded MT Bold" panose="020F0704030504030204" pitchFamily="34" charset="0"/>
            </a:rPr>
            <a:t>L3…L7</a:t>
          </a:r>
        </a:p>
      </dsp:txBody>
      <dsp:txXfrm>
        <a:off x="6927299" y="3136124"/>
        <a:ext cx="1661390" cy="433875"/>
      </dsp:txXfrm>
    </dsp:sp>
    <dsp:sp modelId="{6222DEDA-79C2-4B1F-895E-8EB55D6D3CA2}">
      <dsp:nvSpPr>
        <dsp:cNvPr id="0" name=""/>
        <dsp:cNvSpPr/>
      </dsp:nvSpPr>
      <dsp:spPr>
        <a:xfrm>
          <a:off x="9744890" y="3111640"/>
          <a:ext cx="1708334" cy="480819"/>
        </a:xfrm>
        <a:prstGeom prst="roundRect">
          <a:avLst/>
        </a:prstGeom>
        <a:solidFill>
          <a:schemeClr val="accent2">
            <a:lumMod val="40000"/>
            <a:lumOff val="60000"/>
          </a:schemeClr>
        </a:solidFill>
        <a:ln w="19050" cap="flat" cmpd="sng" algn="ctr">
          <a:solidFill>
            <a:schemeClr val="lt1"/>
          </a:solidFill>
          <a:prstDash val="solid"/>
          <a:miter lim="800000"/>
        </a:ln>
        <a:effectLst/>
        <a:scene3d>
          <a:camera prst="orthographicFront"/>
          <a:lightRig rig="flat" dir="t"/>
        </a:scene3d>
        <a:sp3d/>
      </dsp:spPr>
      <dsp:style>
        <a:lnRef idx="3">
          <a:schemeClr val="lt1"/>
        </a:lnRef>
        <a:fillRef idx="1">
          <a:schemeClr val="accent2"/>
        </a:fillRef>
        <a:effectRef idx="1">
          <a:schemeClr val="accent2"/>
        </a:effectRef>
        <a:fontRef idx="minor">
          <a:schemeClr val="lt1"/>
        </a:fontRef>
      </dsp:style>
      <dsp:txBody>
        <a:bodyPr spcFirstLastPara="0" vert="horz" wrap="square" lIns="8890" tIns="8890" rIns="8890" bIns="8890" numCol="1" spcCol="1270" anchor="ctr" anchorCtr="0">
          <a:noAutofit/>
        </a:bodyPr>
        <a:lstStyle/>
        <a:p>
          <a:pPr marL="0" lvl="0" indent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1400" kern="1200" dirty="0">
              <a:solidFill>
                <a:schemeClr val="tx1">
                  <a:lumMod val="65000"/>
                  <a:lumOff val="35000"/>
                </a:schemeClr>
              </a:solidFill>
              <a:latin typeface="Arial Rounded MT Bold" panose="020F0704030504030204" pitchFamily="34" charset="0"/>
            </a:rPr>
            <a:t>RU…. (</a:t>
          </a:r>
          <a:r>
            <a:rPr lang="ru-RU" sz="1400" kern="1200" dirty="0">
              <a:solidFill>
                <a:schemeClr val="tx1">
                  <a:lumMod val="65000"/>
                  <a:lumOff val="35000"/>
                </a:schemeClr>
              </a:solidFill>
            </a:rPr>
            <a:t>Маршрут)</a:t>
          </a:r>
          <a:endParaRPr lang="en-US" sz="1400" kern="1200" dirty="0">
            <a:solidFill>
              <a:schemeClr val="tx1">
                <a:lumMod val="65000"/>
                <a:lumOff val="35000"/>
              </a:schemeClr>
            </a:solidFill>
            <a:latin typeface="Arial Rounded MT Bold" panose="020F0704030504030204" pitchFamily="34" charset="0"/>
          </a:endParaRPr>
        </a:p>
      </dsp:txBody>
      <dsp:txXfrm>
        <a:off x="9768362" y="3135112"/>
        <a:ext cx="1661390" cy="433875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A0783EA-92A2-45F5-A091-07600E75A652}">
      <dsp:nvSpPr>
        <dsp:cNvPr id="0" name=""/>
        <dsp:cNvSpPr/>
      </dsp:nvSpPr>
      <dsp:spPr>
        <a:xfrm rot="10800000">
          <a:off x="1251708" y="1607"/>
          <a:ext cx="3992731" cy="984081"/>
        </a:xfrm>
        <a:prstGeom prst="homePlate">
          <a:avLst/>
        </a:prstGeom>
        <a:solidFill>
          <a:schemeClr val="accent6">
            <a:lumMod val="60000"/>
            <a:lumOff val="40000"/>
          </a:schemeClr>
        </a:solidFill>
        <a:ln w="12700" cap="flat" cmpd="sng" algn="ctr">
          <a:noFill/>
          <a:prstDash val="solid"/>
          <a:miter lim="800000"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3953" tIns="171450" rIns="320040" bIns="171450" numCol="1" spcCol="1270" anchor="ctr" anchorCtr="0">
          <a:noAutofit/>
        </a:bodyPr>
        <a:lstStyle/>
        <a:p>
          <a:pPr marL="0" lvl="0" indent="0" algn="ctr" defTabSz="2000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4500" b="0" kern="120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0001</a:t>
          </a:r>
          <a:endParaRPr lang="ru-RU" sz="4500" b="0" kern="120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sp:txBody>
      <dsp:txXfrm rot="10800000">
        <a:off x="1497728" y="1607"/>
        <a:ext cx="3746711" cy="984081"/>
      </dsp:txXfrm>
    </dsp:sp>
    <dsp:sp modelId="{EC436FE1-908C-4E98-8E08-CF2703D8C0C5}">
      <dsp:nvSpPr>
        <dsp:cNvPr id="0" name=""/>
        <dsp:cNvSpPr/>
      </dsp:nvSpPr>
      <dsp:spPr>
        <a:xfrm>
          <a:off x="759667" y="1607"/>
          <a:ext cx="984081" cy="984081"/>
        </a:xfrm>
        <a:prstGeom prst="ellipse">
          <a:avLst/>
        </a:prstGeom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2"/>
              </a:ext>
            </a:extLst>
          </a:blip>
          <a:srcRect/>
          <a:stretch>
            <a:fillRect/>
          </a:stretch>
        </a:blip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7BCACEE-599C-4BDE-AA56-BBE773E7E511}">
      <dsp:nvSpPr>
        <dsp:cNvPr id="0" name=""/>
        <dsp:cNvSpPr/>
      </dsp:nvSpPr>
      <dsp:spPr>
        <a:xfrm rot="10800000">
          <a:off x="1251708" y="1279444"/>
          <a:ext cx="3992731" cy="984081"/>
        </a:xfrm>
        <a:prstGeom prst="homePlate">
          <a:avLst/>
        </a:prstGeom>
        <a:solidFill>
          <a:schemeClr val="accent6">
            <a:lumMod val="60000"/>
            <a:lumOff val="40000"/>
          </a:schemeClr>
        </a:solidFill>
        <a:ln w="12700" cap="flat" cmpd="sng" algn="ctr">
          <a:noFill/>
          <a:prstDash val="solid"/>
          <a:miter lim="800000"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3953" tIns="171450" rIns="320040" bIns="171450" numCol="1" spcCol="1270" anchor="ctr" anchorCtr="0">
          <a:noAutofit/>
        </a:bodyPr>
        <a:lstStyle/>
        <a:p>
          <a:pPr marL="0" lvl="0" indent="0" algn="ctr" defTabSz="2000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4500" b="0" kern="120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EKTA</a:t>
          </a:r>
          <a:endParaRPr lang="ru-RU" sz="4500" b="0" kern="120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sp:txBody>
      <dsp:txXfrm rot="10800000">
        <a:off x="1497728" y="1279444"/>
        <a:ext cx="3746711" cy="984081"/>
      </dsp:txXfrm>
    </dsp:sp>
    <dsp:sp modelId="{146D68BF-1B6A-4622-994B-CDC123014B76}">
      <dsp:nvSpPr>
        <dsp:cNvPr id="0" name=""/>
        <dsp:cNvSpPr/>
      </dsp:nvSpPr>
      <dsp:spPr>
        <a:xfrm>
          <a:off x="759667" y="1279444"/>
          <a:ext cx="984081" cy="984081"/>
        </a:xfrm>
        <a:prstGeom prst="ellipse">
          <a:avLst/>
        </a:prstGeom>
        <a:blipFill>
          <a:blip xmlns:r="http://schemas.openxmlformats.org/officeDocument/2006/relationships" r:embed="rId3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4"/>
              </a:ext>
            </a:extLst>
          </a:blip>
          <a:srcRect/>
          <a:stretch>
            <a:fillRect/>
          </a:stretch>
        </a:blip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1F446A5-476F-4011-992F-3B01B225039C}">
      <dsp:nvSpPr>
        <dsp:cNvPr id="0" name=""/>
        <dsp:cNvSpPr/>
      </dsp:nvSpPr>
      <dsp:spPr>
        <a:xfrm rot="10800000">
          <a:off x="1251708" y="2557281"/>
          <a:ext cx="3992731" cy="984081"/>
        </a:xfrm>
        <a:prstGeom prst="homePlate">
          <a:avLst/>
        </a:prstGeom>
        <a:solidFill>
          <a:schemeClr val="accent6">
            <a:lumMod val="60000"/>
            <a:lumOff val="40000"/>
          </a:schemeClr>
        </a:solidFill>
        <a:ln w="12700" cap="flat" cmpd="sng" algn="ctr">
          <a:noFill/>
          <a:prstDash val="solid"/>
          <a:miter lim="800000"/>
        </a:ln>
        <a:effectLst>
          <a:outerShdw blurRad="50800" dist="38100" dir="2700000" algn="tl" rotWithShape="0">
            <a:prstClr val="black">
              <a:alpha val="40000"/>
            </a:prstClr>
          </a:outerShdw>
        </a:effectLst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33953" tIns="171450" rIns="320040" bIns="171450" numCol="1" spcCol="1270" anchor="ctr" anchorCtr="0">
          <a:noAutofit/>
        </a:bodyPr>
        <a:lstStyle/>
        <a:p>
          <a:pPr marL="0" lvl="0" indent="0" algn="ctr" defTabSz="2000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en-US" sz="4500" b="0" kern="1200" cap="none" spc="0" dirty="0">
              <a:ln w="0"/>
              <a:solidFill>
                <a:schemeClr val="tx1"/>
              </a:solidFill>
              <a:effectLst>
                <a:outerShdw blurRad="38100" dist="19050" dir="2700000" algn="tl" rotWithShape="0">
                  <a:schemeClr val="dk1">
                    <a:alpha val="40000"/>
                  </a:schemeClr>
                </a:outerShdw>
              </a:effectLst>
            </a:rPr>
            <a:t>RU001A</a:t>
          </a:r>
          <a:endParaRPr lang="ru-RU" sz="4500" b="0" kern="1200" cap="none" spc="0" dirty="0">
            <a:ln w="0"/>
            <a:solidFill>
              <a:schemeClr val="tx1"/>
            </a:solidFill>
            <a:effectLst>
              <a:outerShdw blurRad="38100" dist="19050" dir="2700000" algn="tl" rotWithShape="0">
                <a:schemeClr val="dk1">
                  <a:alpha val="40000"/>
                </a:schemeClr>
              </a:outerShdw>
            </a:effectLst>
          </a:endParaRPr>
        </a:p>
      </dsp:txBody>
      <dsp:txXfrm rot="10800000">
        <a:off x="1497728" y="2557281"/>
        <a:ext cx="3746711" cy="984081"/>
      </dsp:txXfrm>
    </dsp:sp>
    <dsp:sp modelId="{7F69CB86-AB66-4300-B2A0-B1E38568323B}">
      <dsp:nvSpPr>
        <dsp:cNvPr id="0" name=""/>
        <dsp:cNvSpPr/>
      </dsp:nvSpPr>
      <dsp:spPr>
        <a:xfrm>
          <a:off x="759667" y="2557281"/>
          <a:ext cx="984081" cy="984081"/>
        </a:xfrm>
        <a:prstGeom prst="ellipse">
          <a:avLst/>
        </a:prstGeom>
        <a:blipFill>
          <a:blip xmlns:r="http://schemas.openxmlformats.org/officeDocument/2006/relationships" r:embed="rId5">
            <a:extLst>
              <a:ext uri="{28A0092B-C50C-407E-A947-70E740481C1C}">
                <a14:useLocalDpi xmlns:a14="http://schemas.microsoft.com/office/drawing/2010/main" val="0"/>
              </a:ext>
              <a:ext uri="{96DAC541-7B7A-43D3-8B79-37D633B846F1}">
                <asvg:svgBlip xmlns:asvg="http://schemas.microsoft.com/office/drawing/2016/SVG/main" r:embed="rId6"/>
              </a:ext>
            </a:extLst>
          </a:blip>
          <a:srcRect/>
          <a:stretch>
            <a:fillRect/>
          </a:stretch>
        </a:blip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6">
  <dgm:title val=""/>
  <dgm:desc val=""/>
  <dgm:catLst>
    <dgm:cat type="hierarchy" pri="3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5">
          <dgm:prSet phldr="1"/>
        </dgm:pt>
        <dgm:pt modelId="6">
          <dgm:prSet phldr="1"/>
        </dgm:pt>
      </dgm:ptLst>
      <dgm:cxnLst>
        <dgm:cxn modelId="7" srcId="0" destId="1" srcOrd="0" destOrd="0"/>
        <dgm:cxn modelId="8" srcId="1" destId="2" srcOrd="0" destOrd="0"/>
        <dgm:cxn modelId="9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10" srcId="0" destId="4" srcOrd="1" destOrd="0"/>
        <dgm:cxn modelId="11" srcId="0" destId="5" srcOrd="2" destOrd="0"/>
        <dgm:cxn modelId="12" srcId="0" destId="6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2"/>
        <dgm:pt modelId="3"/>
      </dgm:ptLst>
      <dgm:cxnLst>
        <dgm:cxn modelId="4" srcId="0" destId="1" srcOrd="0" destOrd="0"/>
        <dgm:cxn modelId="13" srcId="1" destId="11" srcOrd="0" destOrd="0"/>
        <dgm:cxn modelId="14" srcId="1" destId="12" srcOrd="1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  <dgm:pt modelId="4"/>
        <dgm:pt modelId="5"/>
        <dgm:pt modelId="6"/>
        <dgm:pt modelId="7"/>
      </dgm:ptLst>
      <dgm:cxnLst>
        <dgm:cxn modelId="8" srcId="0" destId="1" srcOrd="0" destOrd="0"/>
        <dgm:cxn modelId="9" srcId="1" destId="2" srcOrd="0" destOrd="0"/>
        <dgm:cxn modelId="10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  <dgm:cxn modelId="11" srcId="0" destId="4" srcOrd="1" destOrd="0"/>
        <dgm:cxn modelId="12" srcId="0" destId="5" srcOrd="2" destOrd="0"/>
        <dgm:cxn modelId="13" srcId="0" destId="6" srcOrd="3" destOrd="0"/>
        <dgm:cxn modelId="14" srcId="0" destId="7" srcOrd="4" destOrd="0"/>
      </dgm:cxnLst>
      <dgm:bg/>
      <dgm:whole/>
    </dgm:dataModel>
  </dgm:clrData>
  <dgm:layoutNode name="mainComposite">
    <dgm:varLst>
      <dgm:chPref val="1"/>
      <dgm:dir/>
      <dgm:animOne val="branch"/>
      <dgm:animLvl val="lvl"/>
      <dgm:resizeHandles val="exact"/>
    </dgm:varLst>
    <dgm:alg type="composite">
      <dgm:param type="vertAlign" val="mid"/>
      <dgm:param type="horzAlign" val="ctr"/>
    </dgm:alg>
    <dgm:shape xmlns:r="http://schemas.openxmlformats.org/officeDocument/2006/relationships" r:blip="">
      <dgm:adjLst/>
    </dgm:shape>
    <dgm:presOf/>
    <dgm:choose name="Name0">
      <dgm:if name="Name1" axis="ch" ptType="node" func="cnt" op="gte" val="2">
        <dgm:choose name="Name2">
          <dgm:if name="Name3" func="var" arg="dir" op="equ" val="norm">
            <dgm:constrLst>
              <dgm:constr type="l" for="ch" forName="hierFlow" refType="w" fact="0.3"/>
              <dgm:constr type="t" for="ch" forName="hierFlow"/>
              <dgm:constr type="r" for="ch" forName="hierFlow" refType="w" fact="0.98"/>
              <dgm:constr type="b" for="ch" forName="hierFlow" refType="h" fact="0.98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w" for="des" forName="level1Shape" refType="w"/>
              <dgm:constr type="h" for="des" forName="level1Shape" refType="w" refFor="des" refForName="level1Shape" fact="0.66667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h" refFor="des" refForName="level1Shape" op="equ" fact="0.4"/>
              <dgm:constr type="sibSp" for="des" forName="hierChild1" refType="w" refFor="des" refForName="level1Shape" op="equ" fact="0.3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h" refFor="des" refForName="level1Shape" op="equ"/>
              <dgm:constr type="userB" for="des" refType="sp" refFor="des" op="equ"/>
              <dgm:constr type="h" for="des" forName="firstBuf" refType="h" refFor="des" refForName="level1Shape" fact="0.1"/>
            </dgm:constrLst>
          </dgm:if>
          <dgm:else name="Name4">
            <dgm:constrLst>
              <dgm:constr type="l" for="ch" forName="hierFlow" refType="w" fact="0.02"/>
              <dgm:constr type="t" for="ch" forName="hierFlow"/>
              <dgm:constr type="r" for="ch" forName="hierFlow" refType="w" fact="0.7"/>
              <dgm:constr type="b" for="ch" forName="hierFlow" refType="h" fact="0.98"/>
              <dgm:constr type="l" for="ch" forName="bgShapesFlow"/>
              <dgm:constr type="t" for="ch" forName="bgShapesFlow"/>
              <dgm:constr type="r" for="ch" forName="bgShapesFlow" refType="w"/>
              <dgm:constr type="b" for="ch" forName="bgShapesFlow" refType="h"/>
              <dgm:constr type="w" for="des" forName="level1Shape" refType="w"/>
              <dgm:constr type="h" for="des" forName="level1Shape" refType="w" refFor="des" refForName="level1Shape" fact="0.66667"/>
              <dgm:constr type="w" for="des" forName="level2Shape" refType="w" refFor="des" refForName="level1Shape" op="equ"/>
              <dgm:constr type="h" for="des" forName="level2Shape" refType="h" refFor="des" refForName="level1Shape" op="equ"/>
              <dgm:constr type="sp" for="des" refType="h" refFor="des" refForName="level1Shape" op="equ" fact="0.4"/>
              <dgm:constr type="sibSp" for="des" forName="hierChild1" refType="w" refFor="des" refForName="level1Shape" op="equ" fact="0.3"/>
              <dgm:constr type="sibSp" for="des" forName="hierChild2" refType="sibSp" refFor="des" refForName="hierChild1" op="equ"/>
              <dgm:constr type="sibSp" for="des" forName="hierChild3" refType="sibSp" refFor="des" refForName="hierChild1" op="equ"/>
              <dgm:constr type="userA" for="des" refType="h" refFor="des" refForName="level1Shape" op="equ"/>
              <dgm:constr type="userB" for="des" refType="sp" refFor="des" op="equ"/>
              <dgm:constr type="h" for="des" forName="firstBuf" refType="h" refFor="des" refForName="level1Shape" fact="0.1"/>
            </dgm:constrLst>
          </dgm:else>
        </dgm:choose>
      </dgm:if>
      <dgm:else name="Name5">
        <dgm:constrLst>
          <dgm:constr type="l" for="ch" forName="hierFlow"/>
          <dgm:constr type="t" for="ch" forName="hierFlow"/>
          <dgm:constr type="r" for="ch" forName="hierFlow" refType="w"/>
          <dgm:constr type="b" for="ch" forName="hierFlow" refType="h"/>
          <dgm:constr type="l" for="ch" forName="bgShapesFlow"/>
          <dgm:constr type="t" for="ch" forName="bgShapesFlow"/>
          <dgm:constr type="r" for="ch" forName="bgShapesFlow" refType="w"/>
          <dgm:constr type="b" for="ch" forName="bgShapesFlow" refType="h"/>
          <dgm:constr type="w" for="des" forName="level1Shape" refType="w"/>
          <dgm:constr type="h" for="des" forName="level1Shape" refType="w" refFor="des" refForName="level1Shape" fact="0.66667"/>
          <dgm:constr type="w" for="des" forName="level2Shape" refType="w" refFor="des" refForName="level1Shape" op="equ"/>
          <dgm:constr type="h" for="des" forName="level2Shape" refType="h" refFor="des" refForName="level1Shape" op="equ"/>
          <dgm:constr type="sp" for="des" refType="h" refFor="des" refForName="level1Shape" op="equ" fact="0.4"/>
          <dgm:constr type="sibSp" for="des" forName="hierChild1" refType="w" refFor="des" refForName="level1Shape" op="equ" fact="0.3"/>
          <dgm:constr type="sibSp" for="des" forName="hierChild2" refType="sibSp" refFor="des" refForName="hierChild1" op="equ"/>
          <dgm:constr type="sibSp" for="des" forName="hierChild3" refType="sibSp" refFor="des" refForName="hierChild1" op="equ"/>
          <dgm:constr type="userA" for="des" refType="h" refFor="des" refForName="level1Shape" op="equ"/>
          <dgm:constr type="userB" for="des" refType="sp" refFor="des" op="equ"/>
          <dgm:constr type="h" for="des" forName="firstBuf" refType="h" refFor="des" refForName="level1Shape" fact="0.1"/>
        </dgm:constrLst>
      </dgm:else>
    </dgm:choose>
    <dgm:ruleLst/>
    <dgm:layoutNode name="hierFlow">
      <dgm:alg type="lin">
        <dgm:param type="linDir" val="fromT"/>
        <dgm:param type="nodeVertAlign" val="t"/>
        <dgm:param type="vertAlign" val="t"/>
        <dgm:param type="nodeHorzAlign" val="ctr"/>
        <dgm:param type="fallback" val="2D"/>
      </dgm:alg>
      <dgm:shape xmlns:r="http://schemas.openxmlformats.org/officeDocument/2006/relationships" r:blip="">
        <dgm:adjLst/>
      </dgm:shape>
      <dgm:presOf/>
      <dgm:constrLst/>
      <dgm:ruleLst/>
      <dgm:choose name="Name6">
        <dgm:if name="Name7" axis="ch" ptType="node" func="cnt" op="gte" val="2">
          <dgm:layoutNode name="firstBuf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if>
        <dgm:else name="Name8"/>
      </dgm:choose>
      <dgm:layoutNode name="hierChild1">
        <dgm:varLst>
          <dgm:chPref val="1"/>
          <dgm:animOne val="branch"/>
          <dgm:animLvl val="lvl"/>
        </dgm:varLst>
        <dgm:choose name="Name9">
          <dgm:if name="Name10" func="var" arg="dir" op="equ" val="norm">
            <dgm:alg type="hierChild">
              <dgm:param type="linDir" val="fromL"/>
              <dgm:param type="vertAlign" val="t"/>
            </dgm:alg>
          </dgm:if>
          <dgm:else name="Name11">
            <dgm:alg type="hierChild">
              <dgm:param type="linDir" val="fromR"/>
              <dgm:param type="vertAlign" val="t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primFontSz" for="des" ptType="node" op="equ"/>
        </dgm:constrLst>
        <dgm:ruleLst/>
        <dgm:forEach name="Name12" axis="ch" cnt="3">
          <dgm:forEach name="Name13" axis="self" ptType="node">
            <dgm:layoutNode name="Name14">
              <dgm:alg type="hierRoot"/>
              <dgm:shape xmlns:r="http://schemas.openxmlformats.org/officeDocument/2006/relationships" r:blip="">
                <dgm:adjLst/>
              </dgm:shape>
              <dgm:presOf/>
              <dgm:constrLst/>
              <dgm:ruleLst/>
              <dgm:layoutNode name="level1Shape" styleLbl="node0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primFontSz" val="65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layoutNode name="hierChild2">
                <dgm:choose name="Name15">
                  <dgm:if name="Name16" func="var" arg="dir" op="equ" val="norm">
                    <dgm:alg type="hierChild">
                      <dgm:param type="linDir" val="fromL"/>
                    </dgm:alg>
                  </dgm:if>
                  <dgm:else name="Name17">
                    <dgm:alg type="hierChild">
                      <dgm:param type="linDir" val="fromR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  <dgm:forEach name="repeat" axis="ch">
                  <dgm:forEach name="Name18" axis="self" ptType="parTrans" cnt="1">
                    <dgm:layoutNode name="Name19">
                      <dgm:alg type="conn">
                        <dgm:param type="dim" val="1D"/>
                        <dgm:param type="endSty" val="noArr"/>
                        <dgm:param type="connRout" val="bend"/>
                        <dgm:param type="begPts" val="bCtr"/>
                        <dgm:param type="endPts" val="tCtr"/>
                      </dgm:alg>
                      <dgm:shape xmlns:r="http://schemas.openxmlformats.org/officeDocument/2006/relationships" type="conn" r:blip="">
                        <dgm:adjLst/>
                      </dgm:shape>
                      <dgm:presOf axis="self"/>
                      <dgm:constrLst>
                        <dgm:constr type="w" val="1"/>
                        <dgm:constr type="h" val="1"/>
                        <dgm:constr type="begPad"/>
                        <dgm:constr type="endPad"/>
                      </dgm:constrLst>
                      <dgm:ruleLst/>
                    </dgm:layoutNode>
                  </dgm:forEach>
                  <dgm:forEach name="Name20" axis="self" ptType="node">
                    <dgm:layoutNode name="Name21">
                      <dgm:alg type="hierRoot"/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/>
                      <dgm:layoutNode name="level2Shape">
                        <dgm:alg type="tx"/>
                        <dgm:shape xmlns:r="http://schemas.openxmlformats.org/officeDocument/2006/relationships" type="roundRect" r:blip="">
                          <dgm:adjLst>
                            <dgm:adj idx="1" val="0.1"/>
                          </dgm:adjLst>
                        </dgm:shape>
                        <dgm:presOf axis="self"/>
                        <dgm:constrLst>
                          <dgm:constr type="primFontSz" val="65"/>
                          <dgm:constr type="tMarg" refType="primFontSz" fact="0.3"/>
                          <dgm:constr type="bMarg" refType="primFontSz" fact="0.3"/>
                          <dgm:constr type="lMarg" refType="primFontSz" fact="0.3"/>
                          <dgm:constr type="rMarg" refType="primFontSz" fact="0.3"/>
                        </dgm:constrLst>
                        <dgm:ruleLst>
                          <dgm:rule type="primFontSz" val="5" fact="NaN" max="NaN"/>
                        </dgm:ruleLst>
                      </dgm:layoutNode>
                      <dgm:layoutNode name="hierChild3">
                        <dgm:choose name="Name22">
                          <dgm:if name="Name23" func="var" arg="dir" op="equ" val="norm">
                            <dgm:alg type="hierChild">
                              <dgm:param type="linDir" val="fromL"/>
                            </dgm:alg>
                          </dgm:if>
                          <dgm:else name="Name24">
                            <dgm:alg type="hierChild">
                              <dgm:param type="linDir" val="fromR"/>
                            </dgm:alg>
                          </dgm:else>
                        </dgm:choose>
                        <dgm:shape xmlns:r="http://schemas.openxmlformats.org/officeDocument/2006/relationships" r:blip="">
                          <dgm:adjLst/>
                        </dgm:shape>
                        <dgm:presOf/>
                        <dgm:constrLst/>
                        <dgm:ruleLst/>
                        <dgm:forEach name="Name25" ref="repeat"/>
                      </dgm:layoutNode>
                    </dgm:layoutNode>
                  </dgm:forEach>
                </dgm:forEach>
              </dgm:layoutNode>
            </dgm:layoutNode>
          </dgm:forEach>
        </dgm:forEach>
      </dgm:layoutNode>
    </dgm:layoutNode>
    <dgm:layoutNode name="bgShapesFlow">
      <dgm:alg type="lin">
        <dgm:param type="linDir" val="fromT"/>
        <dgm:param type="nodeVertAlign" val="t"/>
        <dgm:param type="vertAlign" val="t"/>
        <dgm:param type="nodeHorzAlign" val="ctr"/>
      </dgm:alg>
      <dgm:shape xmlns:r="http://schemas.openxmlformats.org/officeDocument/2006/relationships" r:blip="">
        <dgm:adjLst/>
      </dgm:shape>
      <dgm:presOf/>
      <dgm:constrLst>
        <dgm:constr type="userB"/>
        <dgm:constr type="w" for="ch" forName="rectComp" refType="w"/>
        <dgm:constr type="h" for="ch" forName="rectComp" refType="h"/>
        <dgm:constr type="w" for="des" forName="bgRect" refType="w"/>
        <dgm:constr type="primFontSz" for="des" forName="bgRectTx" op="equ"/>
      </dgm:constrLst>
      <dgm:ruleLst/>
      <dgm:forEach name="Name26" axis="ch" ptType="node" st="2">
        <dgm:layoutNode name="rectComp">
          <dgm:alg type="composite">
            <dgm:param type="vertAlign" val="t"/>
            <dgm:param type="horzAlign" val="ctr"/>
          </dgm:alg>
          <dgm:shape xmlns:r="http://schemas.openxmlformats.org/officeDocument/2006/relationships" r:blip="">
            <dgm:adjLst/>
          </dgm:shape>
          <dgm:presOf/>
          <dgm:choose name="Name27">
            <dgm:if name="Name28" func="var" arg="dir" op="equ" val="norm">
              <dgm:constrLst>
                <dgm:constr type="userA"/>
                <dgm:constr type="l" for="ch" forName="bgRect"/>
                <dgm:constr type="t" for="ch" forName="bgRect"/>
                <dgm:constr type="h" for="ch" forName="bgRect" refType="userA" fact="1.2"/>
                <dgm:constr type="l" for="ch" forName="bgRectTx"/>
                <dgm:constr type="t" for="ch" forName="bgRectTx"/>
                <dgm:constr type="w" for="ch" forName="bgRectTx" refType="w" refFor="ch" refForName="bgRect" fact="0.3"/>
                <dgm:constr type="h" for="ch" forName="bgRectTx" refType="h" refFor="ch" refForName="bgRect" op="equ"/>
              </dgm:constrLst>
            </dgm:if>
            <dgm:else name="Name29">
              <dgm:constrLst>
                <dgm:constr type="userA"/>
                <dgm:constr type="l" for="ch" forName="bgRect"/>
                <dgm:constr type="t" for="ch" forName="bgRect"/>
                <dgm:constr type="h" for="ch" forName="bgRect" refType="userA" fact="1.2"/>
                <dgm:constr type="r" for="ch" forName="bgRectTx" refType="w"/>
                <dgm:constr type="t" for="ch" forName="bgRectTx"/>
                <dgm:constr type="w" for="ch" forName="bgRectTx" refType="w" refFor="ch" refForName="bgRect" fact="0.3"/>
                <dgm:constr type="h" for="ch" forName="bgRectTx" refType="h" refFor="ch" refForName="bgRect" op="equ"/>
              </dgm:constrLst>
            </dgm:else>
          </dgm:choose>
          <dgm:ruleLst/>
          <dgm:layoutNode name="bgRect" styleLbl="bgShp">
            <dgm:alg type="sp"/>
            <dgm:shape xmlns:r="http://schemas.openxmlformats.org/officeDocument/2006/relationships" type="roundRect" r:blip="" zOrderOff="-999">
              <dgm:adjLst>
                <dgm:adj idx="1" val="0.1"/>
              </dgm:adjLst>
            </dgm:shape>
            <dgm:presOf axis="desOrSelf" ptType="node"/>
            <dgm:constrLst/>
            <dgm:ruleLst/>
          </dgm:layoutNode>
          <dgm:layoutNode name="bgRectTx" styleLbl="bgShp">
            <dgm:varLst>
              <dgm:bulletEnabled val="1"/>
            </dgm:varLst>
            <dgm:alg type="tx"/>
            <dgm:presOf axis="desOrSelf" ptType="node"/>
            <dgm:shape xmlns:r="http://schemas.openxmlformats.org/officeDocument/2006/relationships" type="rect" r:blip="" zOrderOff="-999" hideGeom="1">
              <dgm:adjLst/>
            </dgm:shape>
            <dgm:constrLst>
              <dgm:constr type="primFontSz" val="65"/>
            </dgm:constrLst>
            <dgm:ruleLst>
              <dgm:rule type="primFontSz" val="5" fact="NaN" max="NaN"/>
            </dgm:ruleLst>
          </dgm:layoutNode>
        </dgm:layoutNode>
        <dgm:choose name="Name30">
          <dgm:if name="Name31" axis="self" ptType="node" func="revPos" op="gte" val="2">
            <dgm:layoutNode name="spComp">
              <dgm:alg type="composite">
                <dgm:param type="vertAlign" val="t"/>
                <dgm:param type="horzAlign" val="ctr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userA"/>
                <dgm:constr type="userB"/>
                <dgm:constr type="l" for="ch" forName="vSp"/>
                <dgm:constr type="t" for="ch" forName="vSp"/>
                <dgm:constr type="h" for="ch" forName="vSp" refType="userB"/>
                <dgm:constr type="hOff" for="ch" forName="vSp" refType="userA" fact="-0.2"/>
              </dgm:constrLst>
              <dgm:ruleLst/>
              <dgm:layoutNode name="vSp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if>
          <dgm:else name="Name32"/>
        </dgm:choose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9/3/layout/HorizontalOrganizationChart">
  <dgm:title val=""/>
  <dgm:desc val=""/>
  <dgm:catLst>
    <dgm:cat type="hierarchy" pri="43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T"/>
          <dgm:param type="chAlign" val="l"/>
        </dgm:alg>
      </dgm:if>
      <dgm:else name="Name2">
        <dgm:alg type="hierChild">
          <dgm:param type="linDir" val="fromT"/>
          <dgm:param type="ch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305"/>
      <dgm:constr type="w" for="des" forName="rootComposite" refType="w" fact="10"/>
      <dgm:constr type="h" for="des" forName="rootComposite" refType="w" refFor="des" refForName="rootComposite1" fact="0.305"/>
      <dgm:constr type="w" for="des" forName="rootComposite3" refType="w" fact="10"/>
      <dgm:constr type="h" for="des" forName="rootComposite3" refType="w" refFor="des" refForName="rootComposite1" fact="0.305"/>
      <dgm:constr type="primFontSz" for="des" ptType="node" op="equ"/>
      <dgm:constr type="sp" for="des" op="equ"/>
      <dgm:constr type="sp" for="des" forName="hierRoot1" refType="w" refFor="des" refForName="rootComposite1" fact="0.2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125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125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func="var" arg="dir" op="equ" val="norm">
                  <dgm:alg type="hierRoot">
                    <dgm:param type="hierAlign" val="lT"/>
                  </dgm:alg>
                  <dgm:constrLst>
                    <dgm:constr type="alignOff" val="0.75"/>
                  </dgm:constrLst>
                </dgm:if>
                <dgm:else name="Name9">
                  <dgm:alg type="hierRoot">
                    <dgm:param type="hierAlign" val="rT"/>
                  </dgm:alg>
                  <dgm:constrLst>
                    <dgm:constr type="alignOff" val="0.75"/>
                  </dgm:constrLst>
                </dgm:else>
              </dgm:choose>
            </dgm:if>
            <dgm:if name="Name10" func="var" arg="hierBranch" op="equ" val="r">
              <dgm:choose name="Name11">
                <dgm:if name="Name12" func="var" arg="dir" op="equ" val="norm">
                  <dgm:alg type="hierRoot">
                    <dgm:param type="hierAlign" val="lB"/>
                  </dgm:alg>
                  <dgm:constrLst>
                    <dgm:constr type="alignOff" val="0.75"/>
                  </dgm:constrLst>
                </dgm:if>
                <dgm:else name="Name13">
                  <dgm:alg type="hierRoot">
                    <dgm:param type="hierAlign" val="rB"/>
                  </dgm:alg>
                  <dgm:constrLst>
                    <dgm:constr type="alignOff" val="0.75"/>
                  </dgm:constrLst>
                </dgm:else>
              </dgm:choose>
            </dgm:if>
            <dgm:if name="Name14" func="var" arg="hierBranch" op="equ" val="hang">
              <dgm:choose name="Name15">
                <dgm:if name="Name16" func="var" arg="dir" op="equ" val="norm">
                  <dgm:alg type="hierRoot">
                    <dgm:param type="hierAlign" val="lCtrCh"/>
                  </dgm:alg>
                  <dgm:constrLst>
                    <dgm:constr type="alignOff" val="0.65"/>
                  </dgm:constrLst>
                </dgm:if>
                <dgm:else name="Name17">
                  <dgm:alg type="hierRoot">
                    <dgm:param type="hierAlign" val="rCtrCh"/>
                  </dgm:alg>
                  <dgm:constrLst>
                    <dgm:constr type="alignOff" val="0.65"/>
                  </dgm:constrLst>
                </dgm:else>
              </dgm:choose>
            </dgm:if>
            <dgm:else name="Name18">
              <dgm:choose name="Name19">
                <dgm:if name="Name20" func="var" arg="dir" op="equ" val="norm">
                  <dgm:alg type="hierRoot">
                    <dgm:param type="hierAlign" val="lCtrCh"/>
                  </dgm:alg>
                  <dgm:constrLst>
                    <dgm:constr type="alignOff"/>
                    <dgm:constr type="bendDist" for="des" ptType="parTrans" refType="sp" fact="0.5"/>
                  </dgm:constrLst>
                </dgm:if>
                <dgm:else name="Name21">
                  <dgm:alg type="hierRoot">
                    <dgm:param type="hierAlign" val="rCtrCh"/>
                  </dgm:alg>
                  <dgm:constrLst>
                    <dgm:constr type="alignOff"/>
                    <dgm:constr type="bendDist" for="des" ptType="parTrans" refType="sp" fact="0.5"/>
                  </dgm:constrLst>
                </dgm:else>
              </dgm:choose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22">
              <dgm:if name="Name23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24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25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6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7">
              <dgm:if name="Name28" func="var" arg="hierBranch" op="equ" val="l">
                <dgm:choose name="Name29">
                  <dgm:if name="Name30" func="var" arg="dir" op="equ" val="norm">
                    <dgm:alg type="hierChild">
                      <dgm:param type="chAlign" val="t"/>
                      <dgm:param type="linDir" val="fromL"/>
                    </dgm:alg>
                  </dgm:if>
                  <dgm:else name="Name31">
                    <dgm:alg type="hierChild">
                      <dgm:param type="chAlign" val="t"/>
                      <dgm:param type="linDir" val="fromR"/>
                    </dgm:alg>
                  </dgm:else>
                </dgm:choose>
              </dgm:if>
              <dgm:if name="Name32" func="var" arg="hierBranch" op="equ" val="r">
                <dgm:choose name="Name33">
                  <dgm:if name="Name34" func="var" arg="dir" op="equ" val="norm">
                    <dgm:alg type="hierChild">
                      <dgm:param type="chAlign" val="b"/>
                      <dgm:param type="linDir" val="fromL"/>
                    </dgm:alg>
                  </dgm:if>
                  <dgm:else name="Name35">
                    <dgm:alg type="hierChild">
                      <dgm:param type="chAlign" val="b"/>
                      <dgm:param type="linDir" val="fromR"/>
                    </dgm:alg>
                  </dgm:else>
                </dgm:choose>
              </dgm:if>
              <dgm:if name="Name36" func="var" arg="hierBranch" op="equ" val="hang">
                <dgm:choose name="Name37">
                  <dgm:if name="Name38" func="var" arg="dir" op="equ" val="norm">
                    <dgm:alg type="hierChild">
                      <dgm:param type="chAlign" val="l"/>
                      <dgm:param type="linDir" val="fromT"/>
                      <dgm:param type="secChAlign" val="t"/>
                      <dgm:param type="secLinDir" val="fromL"/>
                    </dgm:alg>
                  </dgm:if>
                  <dgm:else name="Name39">
                    <dgm:alg type="hierChild">
                      <dgm:param type="chAlign" val="r"/>
                      <dgm:param type="linDir" val="fromT"/>
                      <dgm:param type="secChAlign" val="t"/>
                      <dgm:param type="secLinDir" val="fromR"/>
                    </dgm:alg>
                  </dgm:else>
                </dgm:choose>
              </dgm:if>
              <dgm:else name="Name40">
                <dgm:choose name="Name41">
                  <dgm:if name="Name42" func="var" arg="dir" op="equ" val="norm">
                    <dgm:alg type="hierChild">
                      <dgm:param type="linDir" val="fromT"/>
                      <dgm:param type="chAlign" val="l"/>
                    </dgm:alg>
                  </dgm:if>
                  <dgm:else name="Name43">
                    <dgm:alg type="hierChild">
                      <dgm:param type="linDir" val="fromT"/>
                      <dgm:param type="chAlign" val="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44" axis="precedSib" ptType="parTrans" st="-1" cnt="1">
                <dgm:choose name="Name45">
                  <dgm:if name="Name46" func="var" arg="hierBranch" op="equ" val="hang">
                    <dgm:layoutNode name="Name47">
                      <dgm:choose name="Name48">
                        <dgm:if name="Name49" func="var" arg="dir" op="equ" val="norm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R"/>
                            <dgm:param type="endPts" val="bCtr tCtr"/>
                          </dgm:alg>
                        </dgm:if>
                        <dgm:else name="Name50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L"/>
                            <dgm:param type="endPts" val="bCtr tCtr"/>
                          </dgm:alg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51" func="var" arg="hierBranch" op="equ" val="l">
                    <dgm:layoutNode name="Name52">
                      <dgm:choose name="Name53">
                        <dgm:if name="Name54" func="var" arg="dir" op="equ" val="norm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R"/>
                            <dgm:param type="endPts" val="tCtr"/>
                          </dgm:alg>
                        </dgm:if>
                        <dgm:else name="Name55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L"/>
                            <dgm:param type="endPts" val="tCtr"/>
                          </dgm:alg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56" func="var" arg="hierBranch" op="equ" val="r">
                    <dgm:layoutNode name="Name57">
                      <dgm:choose name="Name58">
                        <dgm:if name="Name59" func="var" arg="dir" op="equ" val="norm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R"/>
                            <dgm:param type="endPts" val="bCtr"/>
                          </dgm:alg>
                        </dgm:if>
                        <dgm:else name="Name60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L"/>
                            <dgm:param type="endPts" val="bCtr"/>
                          </dgm:alg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61">
                    <dgm:choose name="Name62">
                      <dgm:if name="Name63" func="var" arg="dir" op="equ" val="norm">
                        <dgm:layoutNode name="Name64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R"/>
                            <dgm:param type="endPts" val="midL"/>
                            <dgm:param type="bendPt" val="end"/>
                          </dgm:alg>
                          <dgm:shape xmlns:r="http://schemas.openxmlformats.org/officeDocument/2006/relationships" type="conn" r:blip="" zOrderOff="-99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if>
                      <dgm:else name="Name65">
                        <dgm:layoutNode name="Name66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midL"/>
                            <dgm:param type="endPts" val="midR"/>
                            <dgm:param type="bendPt" val="end"/>
                          </dgm:alg>
                          <dgm:shape xmlns:r="http://schemas.openxmlformats.org/officeDocument/2006/relationships" type="conn" r:blip="" zOrderOff="-99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else>
                    </dgm:choos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7">
                  <dgm:if name="Name68" func="var" arg="hierBranch" op="equ" val="l">
                    <dgm:choose name="Name69">
                      <dgm:if name="Name70" func="var" arg="dir" op="equ" val="norm">
                        <dgm:alg type="hierRoot">
                          <dgm:param type="hierAlign" val="lT"/>
                        </dgm:alg>
                        <dgm:constrLst>
                          <dgm:constr type="alignOff" val="0.75"/>
                        </dgm:constrLst>
                      </dgm:if>
                      <dgm:else name="Name71">
                        <dgm:alg type="hierRoot">
                          <dgm:param type="hierAlign" val="rT"/>
                        </dgm:alg>
                        <dgm:constrLst>
                          <dgm:constr type="alignOff" val="0.75"/>
                        </dgm:constrLst>
                      </dgm:else>
                    </dgm:choose>
                  </dgm:if>
                  <dgm:if name="Name72" func="var" arg="hierBranch" op="equ" val="r">
                    <dgm:choose name="Name73">
                      <dgm:if name="Name74" func="var" arg="dir" op="equ" val="norm">
                        <dgm:alg type="hierRoot">
                          <dgm:param type="hierAlign" val="lB"/>
                        </dgm:alg>
                        <dgm:constrLst>
                          <dgm:constr type="alignOff" val="0.75"/>
                        </dgm:constrLst>
                      </dgm:if>
                      <dgm:else name="Name75">
                        <dgm:alg type="hierRoot">
                          <dgm:param type="hierAlign" val="rB"/>
                        </dgm:alg>
                        <dgm:constrLst>
                          <dgm:constr type="alignOff" val="0.75"/>
                        </dgm:constrLst>
                      </dgm:else>
                    </dgm:choose>
                  </dgm:if>
                  <dgm:if name="Name76" func="var" arg="hierBranch" op="equ" val="hang">
                    <dgm:choose name="Name77">
                      <dgm:if name="Name78" func="var" arg="dir" op="equ" val="norm">
                        <dgm:alg type="hierRoot">
                          <dgm:param type="hierAlign" val="lCtrCh"/>
                        </dgm:alg>
                        <dgm:constrLst>
                          <dgm:constr type="alignOff" val="0.65"/>
                        </dgm:constrLst>
                      </dgm:if>
                      <dgm:else name="Name79">
                        <dgm:alg type="hierRoot">
                          <dgm:param type="hierAlign" val="rCtrCh"/>
                        </dgm:alg>
                        <dgm:constrLst>
                          <dgm:constr type="alignOff" val="0.65"/>
                        </dgm:constrLst>
                      </dgm:else>
                    </dgm:choose>
                  </dgm:if>
                  <dgm:else name="Name80">
                    <dgm:choose name="Name81">
                      <dgm:if name="Name82" func="var" arg="dir" op="equ" val="norm">
                        <dgm:alg type="hierRoot">
                          <dgm:param type="hierAlign" val="lCtrCh"/>
                        </dgm:alg>
                        <dgm:constrLst>
                          <dgm:constr type="alignOff"/>
                          <dgm:constr type="bendDist" for="des" ptType="parTrans" refType="sp" fact="0.5"/>
                        </dgm:constrLst>
                      </dgm:if>
                      <dgm:else name="Name83">
                        <dgm:alg type="hierRoot">
                          <dgm:param type="hierAlign" val="rCtrCh"/>
                        </dgm:alg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84">
                    <dgm:if name="Name85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6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7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8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9">
                    <dgm:if name="Name90" func="var" arg="hierBranch" op="equ" val="l">
                      <dgm:choose name="Name91">
                        <dgm:if name="Name92" func="var" arg="dir" op="equ" val="norm">
                          <dgm:alg type="hierChild">
                            <dgm:param type="chAlign" val="t"/>
                            <dgm:param type="linDir" val="fromL"/>
                          </dgm:alg>
                        </dgm:if>
                        <dgm:else name="Name93">
                          <dgm:alg type="hierChild">
                            <dgm:param type="chAlign" val="t"/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r">
                      <dgm:choose name="Name95">
                        <dgm:if name="Name96" func="var" arg="dir" op="equ" val="norm">
                          <dgm:alg type="hierChild">
                            <dgm:param type="chAlign" val="b"/>
                            <dgm:param type="linDir" val="fromL"/>
                          </dgm:alg>
                        </dgm:if>
                        <dgm:else name="Name97">
                          <dgm:alg type="hierChild">
                            <dgm:param type="chAlign" val="b"/>
                            <dgm:param type="linDir" val="fromR"/>
                          </dgm:alg>
                        </dgm:else>
                      </dgm:choose>
                    </dgm:if>
                    <dgm:if name="Name98" func="var" arg="hierBranch" op="equ" val="hang">
                      <dgm:choose name="Name99">
                        <dgm:if name="Name100" func="var" arg="dir" op="equ" val="norm">
                          <dgm:alg type="hierChild">
                            <dgm:param type="chAlign" val="l"/>
                            <dgm:param type="linDir" val="fromT"/>
                            <dgm:param type="secChAlign" val="t"/>
                            <dgm:param type="secLinDir" val="fromL"/>
                          </dgm:alg>
                        </dgm:if>
                        <dgm:else name="Name101">
                          <dgm:alg type="hierChild">
                            <dgm:param type="chAlign" val="r"/>
                            <dgm:param type="linDir" val="fromT"/>
                            <dgm:param type="secChAlign" val="t"/>
                            <dgm:param type="secLinDir" val="fromR"/>
                          </dgm:alg>
                        </dgm:else>
                      </dgm:choose>
                    </dgm:if>
                    <dgm:else name="Name102">
                      <dgm:choose name="Name103">
                        <dgm:if name="Name104" func="var" arg="dir" op="equ" val="norm">
                          <dgm:alg type="hierChild">
                            <dgm:param type="linDir" val="fromT"/>
                            <dgm:param type="chAlign" val="l"/>
                          </dgm:alg>
                        </dgm:if>
                        <dgm:else name="Name105">
                          <dgm:alg type="hierChild">
                            <dgm:param type="linDir" val="fromT"/>
                            <dgm:param type="ch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a"/>
                </dgm:layoutNode>
                <dgm:layoutNode name="hierChild5">
                  <dgm:choose name="Name107">
                    <dgm:if name="Name108" func="var" arg="dir" op="equ" val="norm">
                      <dgm:alg type="hierChild">
                        <dgm:param type="chAlign" val="l"/>
                        <dgm:param type="linDir" val="fromT"/>
                        <dgm:param type="secChAlign" val="t"/>
                        <dgm:param type="secLinDir" val="fromL"/>
                      </dgm:alg>
                    </dgm:if>
                    <dgm:else name="Name109">
                      <dgm:alg type="hierChild">
                        <dgm:param type="chAlign" val="r"/>
                        <dgm:param type="linDir" val="fromT"/>
                        <dgm:param type="secChAlign" val="t"/>
                        <dgm:param type="sec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10" ref="rep2b"/>
                </dgm:layoutNode>
              </dgm:layoutNode>
            </dgm:forEach>
          </dgm:layoutNode>
          <dgm:layoutNode name="hierChild3">
            <dgm:choose name="Name111">
              <dgm:if name="Name112" func="var" arg="dir" op="equ" val="norm">
                <dgm:alg type="hierChild">
                  <dgm:param type="chAlign" val="l"/>
                  <dgm:param type="linDir" val="fromT"/>
                  <dgm:param type="secChAlign" val="t"/>
                  <dgm:param type="secLinDir" val="fromL"/>
                </dgm:alg>
              </dgm:if>
              <dgm:else name="Name113">
                <dgm:alg type="hierChild">
                  <dgm:param type="chAlign" val="r"/>
                  <dgm:param type="linDir" val="fromT"/>
                  <dgm:param type="secChAlign" val="t"/>
                  <dgm:param type="sec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4" axis="precedSib" ptType="parTrans" st="-1" cnt="1">
                <dgm:layoutNode name="Name115">
                  <dgm:choose name="Name116">
                    <dgm:if name="Name117" func="var" arg="dir" op="equ" val="norm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midR"/>
                        <dgm:param type="endPts" val="bCtr tCtr"/>
                      </dgm:alg>
                    </dgm:if>
                    <dgm:else name="Name11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midL"/>
                        <dgm:param type="endPts" val="bCtr tCtr"/>
                      </dgm:alg>
                    </dgm:else>
                  </dgm:choose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9">
                  <dgm:if name="Name120" func="var" arg="hierBranch" op="equ" val="l">
                    <dgm:choose name="Name121">
                      <dgm:if name="Name122" func="var" arg="dir" op="equ" val="norm">
                        <dgm:alg type="hierRoot">
                          <dgm:param type="hierAlign" val="lT"/>
                        </dgm:alg>
                        <dgm:constrLst>
                          <dgm:constr type="alignOff" val="0.75"/>
                        </dgm:constrLst>
                      </dgm:if>
                      <dgm:else name="Name123">
                        <dgm:alg type="hierRoot">
                          <dgm:param type="hierAlign" val="rT"/>
                        </dgm:alg>
                        <dgm:constrLst>
                          <dgm:constr type="alignOff" val="0.75"/>
                        </dgm:constrLst>
                      </dgm:else>
                    </dgm:choose>
                  </dgm:if>
                  <dgm:if name="Name124" func="var" arg="hierBranch" op="equ" val="r">
                    <dgm:choose name="Name125">
                      <dgm:if name="Name126" func="var" arg="dir" op="equ" val="norm">
                        <dgm:alg type="hierRoot">
                          <dgm:param type="hierAlign" val="lB"/>
                        </dgm:alg>
                        <dgm:constrLst>
                          <dgm:constr type="alignOff" val="0.75"/>
                        </dgm:constrLst>
                      </dgm:if>
                      <dgm:else name="Name127">
                        <dgm:alg type="hierRoot">
                          <dgm:param type="hierAlign" val="rB"/>
                        </dgm:alg>
                        <dgm:constrLst>
                          <dgm:constr type="alignOff" val="0.75"/>
                        </dgm:constrLst>
                      </dgm:else>
                    </dgm:choose>
                  </dgm:if>
                  <dgm:if name="Name128" func="var" arg="hierBranch" op="equ" val="hang">
                    <dgm:choose name="Name129">
                      <dgm:if name="Name130" func="var" arg="dir" op="equ" val="norm">
                        <dgm:alg type="hierRoot">
                          <dgm:param type="hierAlign" val="lCtrCh"/>
                        </dgm:alg>
                        <dgm:constrLst>
                          <dgm:constr type="alignOff" val="0.65"/>
                        </dgm:constrLst>
                      </dgm:if>
                      <dgm:else name="Name131">
                        <dgm:alg type="hierRoot">
                          <dgm:param type="hierAlign" val="rCtrCh"/>
                        </dgm:alg>
                        <dgm:constrLst>
                          <dgm:constr type="alignOff" val="0.65"/>
                        </dgm:constrLst>
                      </dgm:else>
                    </dgm:choose>
                  </dgm:if>
                  <dgm:else name="Name132">
                    <dgm:choose name="Name133">
                      <dgm:if name="Name134" func="var" arg="dir" op="equ" val="norm">
                        <dgm:alg type="hierRoot">
                          <dgm:param type="hierAlign" val="lCtrCh"/>
                        </dgm:alg>
                        <dgm:constrLst>
                          <dgm:constr type="alignOff"/>
                          <dgm:constr type="bendDist" for="des" ptType="parTrans" refType="sp" fact="0.5"/>
                        </dgm:constrLst>
                      </dgm:if>
                      <dgm:else name="Name135">
                        <dgm:alg type="hierRoot">
                          <dgm:param type="hierAlign" val="rCtrCh"/>
                        </dgm:alg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36">
                    <dgm:if name="Name137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38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39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40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41">
                    <dgm:if name="Name142" func="var" arg="hierBranch" op="equ" val="l">
                      <dgm:choose name="Name143">
                        <dgm:if name="Name144" func="var" arg="dir" op="equ" val="norm">
                          <dgm:alg type="hierChild">
                            <dgm:param type="chAlign" val="t"/>
                            <dgm:param type="linDir" val="fromL"/>
                          </dgm:alg>
                        </dgm:if>
                        <dgm:else name="Name145">
                          <dgm:alg type="hierChild">
                            <dgm:param type="chAlign" val="t"/>
                            <dgm:param type="linDir" val="fromR"/>
                          </dgm:alg>
                        </dgm:else>
                      </dgm:choose>
                    </dgm:if>
                    <dgm:if name="Name146" func="var" arg="hierBranch" op="equ" val="r">
                      <dgm:choose name="Name147">
                        <dgm:if name="Name148" func="var" arg="dir" op="equ" val="norm">
                          <dgm:alg type="hierChild">
                            <dgm:param type="chAlign" val="b"/>
                            <dgm:param type="linDir" val="fromL"/>
                          </dgm:alg>
                        </dgm:if>
                        <dgm:else name="Name149">
                          <dgm:alg type="hierChild">
                            <dgm:param type="chAlign" val="b"/>
                            <dgm:param type="linDir" val="fromR"/>
                          </dgm:alg>
                        </dgm:else>
                      </dgm:choose>
                    </dgm:if>
                    <dgm:if name="Name150" func="var" arg="hierBranch" op="equ" val="hang">
                      <dgm:choose name="Name151">
                        <dgm:if name="Name152" func="var" arg="dir" op="equ" val="norm">
                          <dgm:alg type="hierChild">
                            <dgm:param type="chAlign" val="l"/>
                            <dgm:param type="linDir" val="fromT"/>
                            <dgm:param type="secChAlign" val="t"/>
                            <dgm:param type="secLinDir" val="fromL"/>
                          </dgm:alg>
                        </dgm:if>
                        <dgm:else name="Name153">
                          <dgm:alg type="hierChild">
                            <dgm:param type="chAlign" val="r"/>
                            <dgm:param type="linDir" val="fromT"/>
                            <dgm:param type="secChAlign" val="t"/>
                            <dgm:param type="secLinDir" val="fromR"/>
                          </dgm:alg>
                        </dgm:else>
                      </dgm:choose>
                    </dgm:if>
                    <dgm:else name="Name154">
                      <dgm:choose name="Name155">
                        <dgm:if name="Name156" func="var" arg="dir" op="equ" val="norm">
                          <dgm:alg type="hierChild">
                            <dgm:param type="linDir" val="fromT"/>
                            <dgm:param type="chAlign" val="l"/>
                          </dgm:alg>
                        </dgm:if>
                        <dgm:else name="Name157">
                          <dgm:alg type="hierChild">
                            <dgm:param type="linDir" val="fromT"/>
                            <dgm:param type="ch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58" ref="rep2a"/>
                </dgm:layoutNode>
                <dgm:layoutNode name="hierChild7">
                  <dgm:choose name="Name159">
                    <dgm:if name="Name160" func="var" arg="dir" op="equ" val="norm">
                      <dgm:alg type="hierChild">
                        <dgm:param type="chAlign" val="l"/>
                        <dgm:param type="linDir" val="fromT"/>
                        <dgm:param type="secChAlign" val="t"/>
                        <dgm:param type="secLinDir" val="fromL"/>
                      </dgm:alg>
                    </dgm:if>
                    <dgm:else name="Name161">
                      <dgm:alg type="hierChild">
                        <dgm:param type="chAlign" val="r"/>
                        <dgm:param type="linDir" val="fromT"/>
                        <dgm:param type="secChAlign" val="t"/>
                        <dgm:param type="sec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62" ref="rep2b"/>
                </dgm:layoutNode>
              </dgm:layoutNode>
            </dgm:forEach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87EF9A-60C0-4D6D-B032-8E133993B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2084EA-F635-4AAA-9B4D-F1122B4EB46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4FBB8E-525D-418D-86FC-F4E1AE5777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A815ED-5DED-48B3-BE88-7011C3B613B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E91773-60E4-4775-912C-F3D98E61DD4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38080" y="992880"/>
            <a:ext cx="10515240" cy="35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9344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4916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808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39344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794916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992880"/>
            <a:ext cx="10515240" cy="35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9344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94916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9344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794916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8080" y="992880"/>
            <a:ext cx="10515240" cy="35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9344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49160" y="198612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39344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7949160" y="4030200"/>
            <a:ext cx="338580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992880"/>
            <a:ext cx="10515240" cy="35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39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200" y="403020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986120"/>
            <a:ext cx="513108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30200"/>
            <a:ext cx="10515240" cy="186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16640" y="3636000"/>
            <a:ext cx="772884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499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HERE TO INSERT A QUOTATION OF YOUR CHOICE.”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ADLIN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ADLIN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ADLINE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38080" y="1986120"/>
            <a:ext cx="10515240" cy="39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diagramData" Target="../diagrams/data3.xml"/><Relationship Id="rId4" Type="http://schemas.openxmlformats.org/officeDocument/2006/relationships/diagramLayout" Target="../diagrams/layout3.xml"/><Relationship Id="rId5" Type="http://schemas.openxmlformats.org/officeDocument/2006/relationships/diagramQuickStyle" Target="../diagrams/quickStyle3.xml"/><Relationship Id="rId6" Type="http://schemas.openxmlformats.org/officeDocument/2006/relationships/diagramColors" Target="../diagrams/colors3.xml"/><Relationship Id="rId7" Type="http://schemas.microsoft.com/office/2007/relationships/diagramDrawing" Target="../diagrams/drawing3.xml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hyperlink" Target="mailto:vrnrtshier@pepsico.com" TargetMode="External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A picture containing toy, LEGO, indoor, wall&#10;&#10;Description generated with very high confidence"/>
          <p:cNvPicPr/>
          <p:nvPr/>
        </p:nvPicPr>
        <p:blipFill>
          <a:blip r:embed="rId1"/>
          <a:stretch/>
        </p:blipFill>
        <p:spPr>
          <a:xfrm>
            <a:off x="338040" y="3560040"/>
            <a:ext cx="2856960" cy="2856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 flipH="1">
            <a:off x="2230560" y="-138240"/>
            <a:ext cx="10429560" cy="3248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2109600" y="440640"/>
            <a:ext cx="9442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S-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ерарх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и атрибуты маршру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3"/>
          <a:stretch/>
        </p:blipFill>
        <p:spPr>
          <a:xfrm flipH="1">
            <a:off x="4633560" y="3094560"/>
            <a:ext cx="7911000" cy="2182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5456160" y="3560040"/>
            <a:ext cx="609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тдел по эффективности маршрутов и качеству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s://static5.depositphotos.com/1018414/451/i/950/depositphotos_4519252-stock-photo-alphabet-letters-poured-in-a.jpg"/>
          <p:cNvPicPr/>
          <p:nvPr/>
        </p:nvPicPr>
        <p:blipFill>
          <a:blip r:embed="rId1"/>
          <a:stretch/>
        </p:blipFill>
        <p:spPr>
          <a:xfrm>
            <a:off x="0" y="2034000"/>
            <a:ext cx="3237480" cy="3237480"/>
          </a:xfrm>
          <a:prstGeom prst="rect">
            <a:avLst/>
          </a:prstGeom>
          <a:ln w="0">
            <a:noFill/>
          </a:ln>
        </p:spPr>
      </p:pic>
      <p:sp>
        <p:nvSpPr>
          <p:cNvPr id="265" name="Стрелка: штриховая вправо 3"/>
          <p:cNvSpPr/>
          <p:nvPr/>
        </p:nvSpPr>
        <p:spPr>
          <a:xfrm>
            <a:off x="3430800" y="2178720"/>
            <a:ext cx="3806640" cy="29480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од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и настройка маршру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12" descr="Инструменты"/>
          <p:cNvPicPr/>
          <p:nvPr/>
        </p:nvPicPr>
        <p:blipFill>
          <a:blip r:embed="rId2"/>
          <a:stretch/>
        </p:blipFill>
        <p:spPr>
          <a:xfrm>
            <a:off x="5560920" y="3195720"/>
            <a:ext cx="914040" cy="91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466343779"/>
              </p:ext>
            </p:extLst>
          </p:nvPr>
        </p:nvGraphicFramePr>
        <p:xfrm>
          <a:off x="6528960" y="1884960"/>
          <a:ext cx="6003720" cy="3542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sp>
        <p:nvSpPr>
          <p:cNvPr id="267" name="Прямоугольник 21"/>
          <p:cNvSpPr/>
          <p:nvPr/>
        </p:nvSpPr>
        <p:spPr>
          <a:xfrm>
            <a:off x="0" y="31320"/>
            <a:ext cx="9899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дировка и настройка маршр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6"/>
          <p:cNvSpPr/>
          <p:nvPr/>
        </p:nvSpPr>
        <p:spPr>
          <a:xfrm>
            <a:off x="29880" y="0"/>
            <a:ext cx="757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дировка маршрутов в системе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8"/>
          <p:cNvSpPr/>
          <p:nvPr/>
        </p:nvSpPr>
        <p:spPr>
          <a:xfrm>
            <a:off x="144720" y="781920"/>
            <a:ext cx="11877480" cy="645840"/>
          </a:xfrm>
          <a:prstGeom prst="rect">
            <a:avLst/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дировка маршрутов в систем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трелка: вниз 46"/>
          <p:cNvSpPr/>
          <p:nvPr/>
        </p:nvSpPr>
        <p:spPr>
          <a:xfrm>
            <a:off x="10610280" y="1481760"/>
            <a:ext cx="464760" cy="18662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71" name="Прямоугольник 33"/>
          <p:cNvSpPr/>
          <p:nvPr/>
        </p:nvSpPr>
        <p:spPr>
          <a:xfrm>
            <a:off x="144720" y="3406320"/>
            <a:ext cx="2408760" cy="755640"/>
          </a:xfrm>
          <a:prstGeom prst="rect">
            <a:avLst/>
          </a:prstGeom>
          <a:solidFill>
            <a:schemeClr val="accent1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шрут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SD_P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50"/>
          <p:cNvSpPr/>
          <p:nvPr/>
        </p:nvSpPr>
        <p:spPr>
          <a:xfrm>
            <a:off x="3264840" y="3406320"/>
            <a:ext cx="2408760" cy="755640"/>
          </a:xfrm>
          <a:prstGeom prst="rect">
            <a:avLst/>
          </a:prstGeom>
          <a:solidFill>
            <a:schemeClr val="accent4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шруты дистрибьютор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P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45"/>
          <p:cNvSpPr/>
          <p:nvPr/>
        </p:nvSpPr>
        <p:spPr>
          <a:xfrm>
            <a:off x="6385320" y="3406320"/>
            <a:ext cx="2408760" cy="755640"/>
          </a:xfrm>
          <a:prstGeom prst="rect">
            <a:avLst/>
          </a:prstGeom>
          <a:solidFill>
            <a:schemeClr val="accent5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шруты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51"/>
          <p:cNvSpPr/>
          <p:nvPr/>
        </p:nvSpPr>
        <p:spPr>
          <a:xfrm>
            <a:off x="9585360" y="3406320"/>
            <a:ext cx="2408760" cy="755640"/>
          </a:xfrm>
          <a:prstGeom prst="rect">
            <a:avLst/>
          </a:prstGeom>
          <a:solidFill>
            <a:schemeClr val="accent6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шруты Мерчандайзер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P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трелка: вниз 46"/>
          <p:cNvSpPr/>
          <p:nvPr/>
        </p:nvSpPr>
        <p:spPr>
          <a:xfrm>
            <a:off x="1116720" y="1481760"/>
            <a:ext cx="464760" cy="188280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76" name="Стрелка: вниз 46"/>
          <p:cNvSpPr/>
          <p:nvPr/>
        </p:nvSpPr>
        <p:spPr>
          <a:xfrm>
            <a:off x="4236840" y="1481760"/>
            <a:ext cx="464760" cy="18662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77" name="Стрелка: вниз 46"/>
          <p:cNvSpPr/>
          <p:nvPr/>
        </p:nvSpPr>
        <p:spPr>
          <a:xfrm>
            <a:off x="7350480" y="1481760"/>
            <a:ext cx="464760" cy="188712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>
              <a:lumMod val="40000"/>
              <a:lumOff val="60000"/>
              <a:alpha val="50000"/>
            </a:schemeClr>
          </a:solidFill>
          <a:ln w="0">
            <a:solidFill>
              <a:srgbClr val="e7e6e6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78" name="Picture 18" descr="A picture containing toy&#10;&#10;Description generated with high confidence"/>
          <p:cNvPicPr/>
          <p:nvPr/>
        </p:nvPicPr>
        <p:blipFill>
          <a:blip r:embed="rId1"/>
          <a:stretch/>
        </p:blipFill>
        <p:spPr>
          <a:xfrm>
            <a:off x="10027080" y="422028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  <p:pic>
        <p:nvPicPr>
          <p:cNvPr id="279" name="Picture 22" descr=""/>
          <p:cNvPicPr/>
          <p:nvPr/>
        </p:nvPicPr>
        <p:blipFill>
          <a:blip r:embed="rId2"/>
          <a:stretch/>
        </p:blipFill>
        <p:spPr>
          <a:xfrm>
            <a:off x="6702480" y="422136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  <p:pic>
        <p:nvPicPr>
          <p:cNvPr id="280" name="Picture 28" descr=""/>
          <p:cNvPicPr/>
          <p:nvPr/>
        </p:nvPicPr>
        <p:blipFill>
          <a:blip r:embed="rId3"/>
          <a:stretch/>
        </p:blipFill>
        <p:spPr>
          <a:xfrm>
            <a:off x="3582000" y="422136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  <p:pic>
        <p:nvPicPr>
          <p:cNvPr id="281" name="Picture 30" descr=""/>
          <p:cNvPicPr/>
          <p:nvPr/>
        </p:nvPicPr>
        <p:blipFill>
          <a:blip r:embed="rId4"/>
          <a:stretch/>
        </p:blipFill>
        <p:spPr>
          <a:xfrm>
            <a:off x="461880" y="4220280"/>
            <a:ext cx="1693080" cy="169020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: скругленные углы 1"/>
          <p:cNvSpPr/>
          <p:nvPr/>
        </p:nvSpPr>
        <p:spPr>
          <a:xfrm>
            <a:off x="1726200" y="790920"/>
            <a:ext cx="7967880" cy="13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noFill/>
          </a:ln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83" name="Прямоугольник: скругленные углы 13"/>
          <p:cNvSpPr/>
          <p:nvPr/>
        </p:nvSpPr>
        <p:spPr>
          <a:xfrm>
            <a:off x="7097760" y="905760"/>
            <a:ext cx="1210680" cy="2731680"/>
          </a:xfrm>
          <a:prstGeom prst="roundRect">
            <a:avLst>
              <a:gd name="adj" fmla="val 15612"/>
            </a:avLst>
          </a:prstGeom>
          <a:solidFill>
            <a:srgbClr val="fb4c2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фичный, согласно инстр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: скругленные углы 14"/>
          <p:cNvSpPr/>
          <p:nvPr/>
        </p:nvSpPr>
        <p:spPr>
          <a:xfrm>
            <a:off x="4478400" y="905760"/>
            <a:ext cx="2510280" cy="2728440"/>
          </a:xfrm>
          <a:prstGeom prst="roundRect">
            <a:avLst>
              <a:gd name="adj" fmla="val 7350"/>
            </a:avLst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е латинские буквы  - код локации (DSD) 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i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приме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трах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: скругленные углы 12"/>
          <p:cNvSpPr/>
          <p:nvPr/>
        </p:nvSpPr>
        <p:spPr>
          <a:xfrm>
            <a:off x="1854000" y="905760"/>
            <a:ext cx="2502360" cy="2728440"/>
          </a:xfrm>
          <a:prstGeom prst="roundRect">
            <a:avLst>
              <a:gd name="adj" fmla="val 9791"/>
            </a:avLst>
          </a:prstGeom>
          <a:solidFill>
            <a:schemeClr val="accent5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U - код России в глобальной базе маршрутов 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: скругленные углы 3"/>
          <p:cNvSpPr/>
          <p:nvPr/>
        </p:nvSpPr>
        <p:spPr>
          <a:xfrm>
            <a:off x="447840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: скругленные углы 7"/>
          <p:cNvSpPr/>
          <p:nvPr/>
        </p:nvSpPr>
        <p:spPr>
          <a:xfrm>
            <a:off x="185400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: скругленные углы 8"/>
          <p:cNvSpPr/>
          <p:nvPr/>
        </p:nvSpPr>
        <p:spPr>
          <a:xfrm>
            <a:off x="316872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: скругленные углы 9"/>
          <p:cNvSpPr/>
          <p:nvPr/>
        </p:nvSpPr>
        <p:spPr>
          <a:xfrm>
            <a:off x="578808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: скругленные углы 16"/>
          <p:cNvSpPr/>
          <p:nvPr/>
        </p:nvSpPr>
        <p:spPr>
          <a:xfrm>
            <a:off x="8407800" y="905760"/>
            <a:ext cx="1187640" cy="2728440"/>
          </a:xfrm>
          <a:prstGeom prst="roundRect">
            <a:avLst>
              <a:gd name="adj" fmla="val 14245"/>
            </a:avLst>
          </a:prstGeom>
          <a:solidFill>
            <a:srgbClr val="ffcf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фичный, согласно инстр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: скругленные углы 10"/>
          <p:cNvSpPr/>
          <p:nvPr/>
        </p:nvSpPr>
        <p:spPr>
          <a:xfrm>
            <a:off x="709776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: скругленные углы 11"/>
          <p:cNvSpPr/>
          <p:nvPr/>
        </p:nvSpPr>
        <p:spPr>
          <a:xfrm>
            <a:off x="8407800" y="905760"/>
            <a:ext cx="1187640" cy="1079640"/>
          </a:xfrm>
          <a:prstGeom prst="roundRect">
            <a:avLst>
              <a:gd name="adj" fmla="val 16667"/>
            </a:avLst>
          </a:prstGeom>
          <a:solidFill>
            <a:srgbClr val="ffcf37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7"/>
          <p:cNvSpPr/>
          <p:nvPr/>
        </p:nvSpPr>
        <p:spPr>
          <a:xfrm>
            <a:off x="1854000" y="4363200"/>
            <a:ext cx="6828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дентификации маршру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ell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у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ответствующий префик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зв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шрута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Таблица 4"/>
          <p:cNvGraphicFramePr/>
          <p:nvPr/>
        </p:nvGraphicFramePr>
        <p:xfrm>
          <a:off x="1959480" y="5009400"/>
          <a:ext cx="7635960" cy="1764360"/>
        </p:xfrm>
        <a:graphic>
          <a:graphicData uri="http://schemas.openxmlformats.org/drawingml/2006/table">
            <a:tbl>
              <a:tblPr/>
              <a:tblGrid>
                <a:gridCol w="1651320"/>
                <a:gridCol w="2845800"/>
                <a:gridCol w="3138840"/>
              </a:tblGrid>
              <a:tr h="64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D </a:t>
                      </a: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маршрута (</a:t>
                      </a: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ZR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Название маршрута (</a:t>
                      </a:r>
                      <a:r>
                        <a:rPr b="1" lang="en-US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ZR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Принадлежность маршру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6"/>
                    </a:solidFill>
                  </a:tcPr>
                </a:tc>
              </a:tr>
              <a:tr h="37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UCH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UCH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Маршрут предпрод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  <a:tr h="37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UCH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WD_RUCH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Маршрут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W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37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RUCH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S_RUCH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Маршрут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4e2cf"/>
                    </a:solidFill>
                  </a:tcPr>
                </a:tc>
              </a:tr>
            </a:tbl>
          </a:graphicData>
        </a:graphic>
      </p:graphicFrame>
      <p:sp>
        <p:nvSpPr>
          <p:cNvPr id="295" name="Прямоугольник 15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1 D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8" descr=""/>
          <p:cNvPicPr/>
          <p:nvPr/>
        </p:nvPicPr>
        <p:blipFill>
          <a:blip r:embed="rId1"/>
          <a:stretch/>
        </p:blipFill>
        <p:spPr>
          <a:xfrm>
            <a:off x="10338120" y="5009400"/>
            <a:ext cx="1693080" cy="169020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: скругленные углы 34"/>
          <p:cNvSpPr/>
          <p:nvPr/>
        </p:nvSpPr>
        <p:spPr>
          <a:xfrm>
            <a:off x="135360" y="2193480"/>
            <a:ext cx="3027600" cy="627120"/>
          </a:xfrm>
          <a:prstGeom prst="roundRect">
            <a:avLst>
              <a:gd name="adj" fmla="val 6449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аршруты КАМ/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KAM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: скругленные углы 40"/>
          <p:cNvSpPr/>
          <p:nvPr/>
        </p:nvSpPr>
        <p:spPr>
          <a:xfrm>
            <a:off x="135360" y="3692520"/>
            <a:ext cx="3027600" cy="627120"/>
          </a:xfrm>
          <a:prstGeom prst="roundRect">
            <a:avLst>
              <a:gd name="adj" fmla="val 6449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аршруты Дистрибьют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: скругленные углы 48"/>
          <p:cNvSpPr/>
          <p:nvPr/>
        </p:nvSpPr>
        <p:spPr>
          <a:xfrm>
            <a:off x="135360" y="5184720"/>
            <a:ext cx="3027600" cy="631440"/>
          </a:xfrm>
          <a:prstGeom prst="roundRect">
            <a:avLst>
              <a:gd name="adj" fmla="val 6449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лужебные Маршру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: скругленные углы 19"/>
          <p:cNvSpPr/>
          <p:nvPr/>
        </p:nvSpPr>
        <p:spPr>
          <a:xfrm>
            <a:off x="135360" y="704880"/>
            <a:ext cx="3027600" cy="616680"/>
          </a:xfrm>
          <a:prstGeom prst="roundRect">
            <a:avLst>
              <a:gd name="adj" fmla="val 6449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аршруты ТП (Предпродаж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: скругленные углы 13"/>
          <p:cNvSpPr/>
          <p:nvPr/>
        </p:nvSpPr>
        <p:spPr>
          <a:xfrm>
            <a:off x="182520" y="1591200"/>
            <a:ext cx="49424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chemeClr val="dk1"/>
                </a:solidFill>
                <a:latin typeface="Calibri"/>
              </a:rPr>
              <a:t>Символ маршрута (</a:t>
            </a:r>
            <a:r>
              <a:rPr b="0" lang="en-US" sz="1500" spc="-1" strike="noStrike">
                <a:solidFill>
                  <a:schemeClr val="dk1"/>
                </a:solidFill>
                <a:latin typeface="Calibri"/>
              </a:rPr>
              <a:t>A…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: скругленные углы 12"/>
          <p:cNvSpPr/>
          <p:nvPr/>
        </p:nvSpPr>
        <p:spPr>
          <a:xfrm>
            <a:off x="177840" y="1041480"/>
            <a:ext cx="4946400" cy="467640"/>
          </a:xfrm>
          <a:prstGeom prst="roundRect">
            <a:avLst>
              <a:gd name="adj" fmla="val 16667"/>
            </a:avLst>
          </a:prstGeom>
          <a:solidFill>
            <a:srgbClr val="fda5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имвол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SM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…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: скругленные углы 10"/>
          <p:cNvSpPr/>
          <p:nvPr/>
        </p:nvSpPr>
        <p:spPr>
          <a:xfrm>
            <a:off x="177840" y="1041480"/>
            <a:ext cx="1079640" cy="467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: скругленные углы 11"/>
          <p:cNvSpPr/>
          <p:nvPr/>
        </p:nvSpPr>
        <p:spPr>
          <a:xfrm>
            <a:off x="182520" y="1591200"/>
            <a:ext cx="10796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6961320" y="1107360"/>
            <a:ext cx="5047920" cy="804600"/>
          </a:xfrm>
          <a:prstGeom prst="roundRect">
            <a:avLst>
              <a:gd name="adj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Calibri"/>
              </a:rPr>
              <a:t>RU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1" lang="en-US" sz="18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, где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"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" -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ренбург, "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" - TSM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,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"</a:t>
            </a:r>
            <a:r>
              <a:rPr b="1" lang="en-US" sz="18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"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ретий по счету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аршрут предпрода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: скругленные углы 24"/>
          <p:cNvSpPr/>
          <p:nvPr/>
        </p:nvSpPr>
        <p:spPr>
          <a:xfrm>
            <a:off x="182520" y="3085200"/>
            <a:ext cx="49424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chemeClr val="dk1"/>
                </a:solidFill>
                <a:latin typeface="Calibri"/>
              </a:rPr>
              <a:t>Символ маршрута (</a:t>
            </a:r>
            <a:r>
              <a:rPr b="0" lang="en-US" sz="1500" spc="-1" strike="noStrike">
                <a:solidFill>
                  <a:schemeClr val="dk1"/>
                </a:solidFill>
                <a:latin typeface="Calibri"/>
              </a:rPr>
              <a:t>1…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: скругленные углы 25"/>
          <p:cNvSpPr/>
          <p:nvPr/>
        </p:nvSpPr>
        <p:spPr>
          <a:xfrm>
            <a:off x="177840" y="2535840"/>
            <a:ext cx="4946400" cy="467640"/>
          </a:xfrm>
          <a:prstGeom prst="roundRect">
            <a:avLst>
              <a:gd name="adj" fmla="val 16667"/>
            </a:avLst>
          </a:prstGeom>
          <a:solidFill>
            <a:srgbClr val="fda5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имвол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SM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…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Z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: скругленные углы 26"/>
          <p:cNvSpPr/>
          <p:nvPr/>
        </p:nvSpPr>
        <p:spPr>
          <a:xfrm>
            <a:off x="177840" y="2535840"/>
            <a:ext cx="1079640" cy="467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: скругленные углы 27"/>
          <p:cNvSpPr/>
          <p:nvPr/>
        </p:nvSpPr>
        <p:spPr>
          <a:xfrm>
            <a:off x="182520" y="3085200"/>
            <a:ext cx="10796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: скругленные углы 30"/>
          <p:cNvSpPr/>
          <p:nvPr/>
        </p:nvSpPr>
        <p:spPr>
          <a:xfrm>
            <a:off x="182520" y="4579560"/>
            <a:ext cx="49424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chemeClr val="dk1"/>
                </a:solidFill>
                <a:latin typeface="Calibri"/>
              </a:rPr>
              <a:t>Буква, по справочнику, обозначающая город  отгруз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: скругленные углы 31"/>
          <p:cNvSpPr/>
          <p:nvPr/>
        </p:nvSpPr>
        <p:spPr>
          <a:xfrm>
            <a:off x="177840" y="4030200"/>
            <a:ext cx="4946400" cy="467640"/>
          </a:xfrm>
          <a:prstGeom prst="roundRect">
            <a:avLst>
              <a:gd name="adj" fmla="val 16667"/>
            </a:avLst>
          </a:prstGeom>
          <a:solidFill>
            <a:srgbClr val="fda5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ифра дистрибьютора по справочнику (прямые отгрузки, отгрузки NKA клиентам и т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: скругленные углы 32"/>
          <p:cNvSpPr/>
          <p:nvPr/>
        </p:nvSpPr>
        <p:spPr>
          <a:xfrm>
            <a:off x="177840" y="4030200"/>
            <a:ext cx="1079640" cy="467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: скругленные углы 33"/>
          <p:cNvSpPr/>
          <p:nvPr/>
        </p:nvSpPr>
        <p:spPr>
          <a:xfrm>
            <a:off x="182520" y="4579560"/>
            <a:ext cx="10796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: скругленные углы 36"/>
          <p:cNvSpPr/>
          <p:nvPr/>
        </p:nvSpPr>
        <p:spPr>
          <a:xfrm>
            <a:off x="182520" y="6073560"/>
            <a:ext cx="49424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Цифра по справочнику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обозначающая маршр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: скругленные углы 37"/>
          <p:cNvSpPr/>
          <p:nvPr/>
        </p:nvSpPr>
        <p:spPr>
          <a:xfrm>
            <a:off x="177840" y="5524200"/>
            <a:ext cx="4946400" cy="467640"/>
          </a:xfrm>
          <a:prstGeom prst="roundRect">
            <a:avLst>
              <a:gd name="adj" fmla="val 16667"/>
            </a:avLst>
          </a:prstGeom>
          <a:solidFill>
            <a:srgbClr val="fda5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1080000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Цифра по справочнику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обозначающая маршр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: скругленные углы 38"/>
          <p:cNvSpPr/>
          <p:nvPr/>
        </p:nvSpPr>
        <p:spPr>
          <a:xfrm>
            <a:off x="177840" y="5524200"/>
            <a:ext cx="1079640" cy="467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: скругленные углы 39"/>
          <p:cNvSpPr/>
          <p:nvPr/>
        </p:nvSpPr>
        <p:spPr>
          <a:xfrm>
            <a:off x="182520" y="6073560"/>
            <a:ext cx="1079640" cy="46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имвол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"/>
          <p:cNvSpPr/>
          <p:nvPr/>
        </p:nvSpPr>
        <p:spPr>
          <a:xfrm>
            <a:off x="6961320" y="2642040"/>
            <a:ext cx="5047920" cy="804600"/>
          </a:xfrm>
          <a:prstGeom prst="roundRect">
            <a:avLst>
              <a:gd name="adj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RU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EK</a:t>
            </a:r>
            <a:r>
              <a:rPr b="1" lang="en-US" sz="1800" spc="-1" strike="noStrike">
                <a:solidFill>
                  <a:srgbClr val="8497b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Екатеринбург (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EK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аршрут Кама в городе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6961320" y="4030200"/>
            <a:ext cx="5047920" cy="1017000"/>
          </a:xfrm>
          <a:prstGeom prst="roundRect">
            <a:avLst>
              <a:gd name="adj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RU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44546a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Отгружаемый из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DSD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Новосибирска (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аршрут дистрибьютора в г. Барнаул (</a:t>
            </a:r>
            <a:r>
              <a:rPr b="1" lang="en-US" sz="1800" spc="-1" strike="noStrike">
                <a:solidFill>
                  <a:srgbClr val="ed7d31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)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6961320" y="5524920"/>
            <a:ext cx="5047920" cy="1017000"/>
          </a:xfrm>
          <a:prstGeom prst="roundRect">
            <a:avLst>
              <a:gd name="adj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Arial"/>
              </a:rPr>
              <a:t>RU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AS</a:t>
            </a:r>
            <a:r>
              <a:rPr b="1" lang="en-US" sz="1600" spc="-1" strike="noStrike">
                <a:solidFill>
                  <a:schemeClr val="accent1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chemeClr val="dk1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chemeClr val="dk1"/>
                </a:solidFill>
                <a:latin typeface="Arial"/>
              </a:rPr>
              <a:t>Астрахань, маршрут летних сезонных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Arial"/>
              </a:rPr>
              <a:t>RU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AS</a:t>
            </a:r>
            <a:r>
              <a:rPr b="1" lang="en-US" sz="1600" spc="-1" strike="noStrike">
                <a:solidFill>
                  <a:schemeClr val="accent1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chemeClr val="accent2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chemeClr val="dk1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chemeClr val="dk1"/>
                </a:solidFill>
                <a:latin typeface="Arial"/>
              </a:rPr>
              <a:t>Астрахань, маршрут зимних сезонных кли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: вправо 1"/>
          <p:cNvSpPr/>
          <p:nvPr/>
        </p:nvSpPr>
        <p:spPr>
          <a:xfrm>
            <a:off x="5274000" y="1107360"/>
            <a:ext cx="1602360" cy="804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трелка: вправо 45"/>
          <p:cNvSpPr/>
          <p:nvPr/>
        </p:nvSpPr>
        <p:spPr>
          <a:xfrm>
            <a:off x="5274000" y="2642040"/>
            <a:ext cx="1602360" cy="804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: вправо 46"/>
          <p:cNvSpPr/>
          <p:nvPr/>
        </p:nvSpPr>
        <p:spPr>
          <a:xfrm>
            <a:off x="5274000" y="4136400"/>
            <a:ext cx="1602360" cy="804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: вправо 47"/>
          <p:cNvSpPr/>
          <p:nvPr/>
        </p:nvSpPr>
        <p:spPr>
          <a:xfrm>
            <a:off x="5274000" y="5630400"/>
            <a:ext cx="1602360" cy="804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49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1 D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: скругленные углы 11"/>
          <p:cNvSpPr/>
          <p:nvPr/>
        </p:nvSpPr>
        <p:spPr>
          <a:xfrm>
            <a:off x="1614240" y="774360"/>
            <a:ext cx="8136000" cy="133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noFill/>
          </a:ln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327" name="Прямоугольник: скругленные углы 3"/>
          <p:cNvSpPr/>
          <p:nvPr/>
        </p:nvSpPr>
        <p:spPr>
          <a:xfrm>
            <a:off x="4409280" y="896400"/>
            <a:ext cx="5208480" cy="2620800"/>
          </a:xfrm>
          <a:prstGeom prst="roundRect">
            <a:avLst>
              <a:gd name="adj" fmla="val 7350"/>
            </a:avLst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0" bIns="45000" anchor="b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ковый номер маршрута в диапаз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1…499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: скругленные углы 4"/>
          <p:cNvSpPr/>
          <p:nvPr/>
        </p:nvSpPr>
        <p:spPr>
          <a:xfrm>
            <a:off x="1748160" y="896400"/>
            <a:ext cx="2556360" cy="2620800"/>
          </a:xfrm>
          <a:prstGeom prst="roundRect">
            <a:avLst>
              <a:gd name="adj" fmla="val 9791"/>
            </a:avLst>
          </a:prstGeom>
          <a:solidFill>
            <a:schemeClr val="accent5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U - код России в глобальной базе маршрутов 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: скругленные углы 5"/>
          <p:cNvSpPr/>
          <p:nvPr/>
        </p:nvSpPr>
        <p:spPr>
          <a:xfrm>
            <a:off x="440928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: скругленные углы 6"/>
          <p:cNvSpPr/>
          <p:nvPr/>
        </p:nvSpPr>
        <p:spPr>
          <a:xfrm>
            <a:off x="174816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: скругленные углы 7"/>
          <p:cNvSpPr/>
          <p:nvPr/>
        </p:nvSpPr>
        <p:spPr>
          <a:xfrm>
            <a:off x="308088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: скругленные углы 8"/>
          <p:cNvSpPr/>
          <p:nvPr/>
        </p:nvSpPr>
        <p:spPr>
          <a:xfrm>
            <a:off x="573732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: скругленные углы 9"/>
          <p:cNvSpPr/>
          <p:nvPr/>
        </p:nvSpPr>
        <p:spPr>
          <a:xfrm>
            <a:off x="706572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: скругленные углы 10"/>
          <p:cNvSpPr/>
          <p:nvPr/>
        </p:nvSpPr>
        <p:spPr>
          <a:xfrm>
            <a:off x="8394120" y="89640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2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1 Dist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1"/>
          <a:stretch/>
        </p:blipFill>
        <p:spPr>
          <a:xfrm>
            <a:off x="10309680" y="497700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: скругленные углы 174"/>
          <p:cNvSpPr/>
          <p:nvPr/>
        </p:nvSpPr>
        <p:spPr>
          <a:xfrm>
            <a:off x="1786320" y="4934160"/>
            <a:ext cx="5759640" cy="46764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шрут общего прай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: скругленные углы 173"/>
          <p:cNvSpPr/>
          <p:nvPr/>
        </p:nvSpPr>
        <p:spPr>
          <a:xfrm>
            <a:off x="1760040" y="4385880"/>
            <a:ext cx="5759640" cy="46764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зонный марш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: скругленные углы 171"/>
          <p:cNvSpPr/>
          <p:nvPr/>
        </p:nvSpPr>
        <p:spPr>
          <a:xfrm>
            <a:off x="4277880" y="830520"/>
            <a:ext cx="3582720" cy="105120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шруты пред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06040" y="1298160"/>
            <a:ext cx="467640" cy="4676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P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Заголовок 1"/>
          <p:cNvSpPr/>
          <p:nvPr/>
        </p:nvSpPr>
        <p:spPr>
          <a:xfrm>
            <a:off x="4893480" y="1298160"/>
            <a:ext cx="971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Заголовок 1"/>
          <p:cNvSpPr/>
          <p:nvPr/>
        </p:nvSpPr>
        <p:spPr>
          <a:xfrm>
            <a:off x="5885280" y="129816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Заголовок 1"/>
          <p:cNvSpPr/>
          <p:nvPr/>
        </p:nvSpPr>
        <p:spPr>
          <a:xfrm>
            <a:off x="6396120" y="129816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Заголовок 1"/>
          <p:cNvSpPr/>
          <p:nvPr/>
        </p:nvSpPr>
        <p:spPr>
          <a:xfrm>
            <a:off x="6904800" y="1298160"/>
            <a:ext cx="82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единительная линия 15"/>
          <p:cNvCxnSpPr>
            <a:stCxn id="344" idx="2"/>
            <a:endCxn id="346" idx="0"/>
          </p:cNvCxnSpPr>
          <p:nvPr/>
        </p:nvCxnSpPr>
        <p:spPr>
          <a:xfrm>
            <a:off x="7318440" y="1765800"/>
            <a:ext cx="2531520" cy="4680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47" name="Прямая соединительная линия 17"/>
          <p:cNvCxnSpPr>
            <a:stCxn id="343" idx="2"/>
            <a:endCxn id="348" idx="0"/>
          </p:cNvCxnSpPr>
          <p:nvPr/>
        </p:nvCxnSpPr>
        <p:spPr>
          <a:xfrm>
            <a:off x="6630120" y="1765800"/>
            <a:ext cx="1624680" cy="4716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49" name="Прямая соединительная линия 19"/>
          <p:cNvCxnSpPr>
            <a:stCxn id="342" idx="2"/>
            <a:endCxn id="350" idx="0"/>
          </p:cNvCxnSpPr>
          <p:nvPr/>
        </p:nvCxnSpPr>
        <p:spPr>
          <a:xfrm>
            <a:off x="6118920" y="1765800"/>
            <a:ext cx="540360" cy="472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51" name="Прямая соединительная линия 21"/>
          <p:cNvCxnSpPr>
            <a:stCxn id="341" idx="2"/>
            <a:endCxn id="352" idx="0"/>
          </p:cNvCxnSpPr>
          <p:nvPr/>
        </p:nvCxnSpPr>
        <p:spPr>
          <a:xfrm flipH="1">
            <a:off x="4383000" y="1765800"/>
            <a:ext cx="996840" cy="472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53" name="Прямая соединительная линия 23"/>
          <p:cNvCxnSpPr>
            <a:stCxn id="340" idx="2"/>
            <a:endCxn id="354" idx="0"/>
          </p:cNvCxnSpPr>
          <p:nvPr/>
        </p:nvCxnSpPr>
        <p:spPr>
          <a:xfrm flipH="1">
            <a:off x="1998000" y="1765800"/>
            <a:ext cx="2642040" cy="472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346" name="Заголовок 1"/>
          <p:cNvSpPr/>
          <p:nvPr/>
        </p:nvSpPr>
        <p:spPr>
          <a:xfrm>
            <a:off x="9075960" y="2233800"/>
            <a:ext cx="1547640" cy="65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Порядковый номер (01…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Заголовок 1"/>
          <p:cNvSpPr/>
          <p:nvPr/>
        </p:nvSpPr>
        <p:spPr>
          <a:xfrm>
            <a:off x="7480440" y="2237400"/>
            <a:ext cx="1547640" cy="65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Символ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TSM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(А…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Z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Заголовок 1"/>
          <p:cNvSpPr/>
          <p:nvPr/>
        </p:nvSpPr>
        <p:spPr>
          <a:xfrm>
            <a:off x="5885280" y="2238120"/>
            <a:ext cx="1547640" cy="65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Буква гор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T – Tambov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2928240" y="2238120"/>
            <a:ext cx="2909160" cy="194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 u="sng">
                <a:solidFill>
                  <a:schemeClr val="dk1"/>
                </a:solidFill>
                <a:uFillTx/>
                <a:latin typeface="Arial"/>
              </a:rPr>
              <a:t>Тип маршру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CR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Combined Reg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MT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Modern Tr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NA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National Key Accou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LT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Local Key Accou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TC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Traditional Tr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S1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TOP Traditional Tr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WS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Wholesal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(Food Serv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Заголовок 1"/>
          <p:cNvSpPr/>
          <p:nvPr/>
        </p:nvSpPr>
        <p:spPr>
          <a:xfrm>
            <a:off x="1098000" y="2238120"/>
            <a:ext cx="1800360" cy="139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Бизнес Тип маршру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pl-PL" sz="1400" spc="-1" strike="noStrike">
                <a:solidFill>
                  <a:schemeClr val="dk1"/>
                </a:solidFill>
                <a:latin typeface="Arial"/>
              </a:rPr>
              <a:t>P -PO1,PO1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pl-PL" sz="1400" spc="-1" strike="noStrike">
                <a:solidFill>
                  <a:schemeClr val="dk1"/>
                </a:solidFill>
                <a:latin typeface="Arial"/>
              </a:rPr>
              <a:t>B - Bever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pl-PL" sz="1400" spc="-1" strike="noStrike">
                <a:solidFill>
                  <a:schemeClr val="dk1"/>
                </a:solidFill>
                <a:latin typeface="Arial"/>
              </a:rPr>
              <a:t>S - Sn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1"/>
          <p:cNvSpPr/>
          <p:nvPr/>
        </p:nvSpPr>
        <p:spPr>
          <a:xfrm>
            <a:off x="1760040" y="4385880"/>
            <a:ext cx="82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Заголовок 1"/>
          <p:cNvSpPr/>
          <p:nvPr/>
        </p:nvSpPr>
        <p:spPr>
          <a:xfrm>
            <a:off x="2616840" y="438588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Заголовок 1"/>
          <p:cNvSpPr/>
          <p:nvPr/>
        </p:nvSpPr>
        <p:spPr>
          <a:xfrm>
            <a:off x="3122280" y="4385880"/>
            <a:ext cx="118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1760040" y="4934160"/>
            <a:ext cx="82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Заголовок 1"/>
          <p:cNvSpPr/>
          <p:nvPr/>
        </p:nvSpPr>
        <p:spPr>
          <a:xfrm>
            <a:off x="2616840" y="493416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Заголовок 1"/>
          <p:cNvSpPr/>
          <p:nvPr/>
        </p:nvSpPr>
        <p:spPr>
          <a:xfrm>
            <a:off x="3122280" y="4934160"/>
            <a:ext cx="755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chemeClr val="dk1"/>
                </a:solidFill>
                <a:latin typeface="Arial"/>
              </a:rPr>
              <a:t>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блачко с текстом: прямоугольное со скругленными углами 176"/>
          <p:cNvSpPr/>
          <p:nvPr/>
        </p:nvSpPr>
        <p:spPr>
          <a:xfrm flipH="1">
            <a:off x="8681760" y="4385880"/>
            <a:ext cx="3411720" cy="2185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Наименование маршруто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PO1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 на дистрибьюторских территория отображается в системе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 изменяется силами отдела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RO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3"/>
          <p:cNvSpPr/>
          <p:nvPr/>
        </p:nvSpPr>
        <p:spPr>
          <a:xfrm>
            <a:off x="0" y="8640"/>
            <a:ext cx="9638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наименования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O1 DIST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Прямая соединительная линия 28"/>
          <p:cNvCxnSpPr>
            <a:stCxn id="358" idx="2"/>
            <a:endCxn id="364" idx="0"/>
          </p:cNvCxnSpPr>
          <p:nvPr/>
        </p:nvCxnSpPr>
        <p:spPr>
          <a:xfrm flipH="1">
            <a:off x="1118160" y="5402160"/>
            <a:ext cx="1055880" cy="481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364" name="Заголовок 1"/>
          <p:cNvSpPr/>
          <p:nvPr/>
        </p:nvSpPr>
        <p:spPr>
          <a:xfrm>
            <a:off x="264240" y="5883120"/>
            <a:ext cx="1708200" cy="89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Код дистрибьютора в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iSales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Заголовок 1"/>
          <p:cNvSpPr/>
          <p:nvPr/>
        </p:nvSpPr>
        <p:spPr>
          <a:xfrm>
            <a:off x="2041200" y="5883120"/>
            <a:ext cx="1468440" cy="65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Раздел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Заголовок 1"/>
          <p:cNvSpPr/>
          <p:nvPr/>
        </p:nvSpPr>
        <p:spPr>
          <a:xfrm>
            <a:off x="3575880" y="5883120"/>
            <a:ext cx="1468440" cy="65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Обозначение маршру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Прямая соединительная линия 37"/>
          <p:cNvCxnSpPr>
            <a:stCxn id="359" idx="2"/>
            <a:endCxn id="365" idx="0"/>
          </p:cNvCxnSpPr>
          <p:nvPr/>
        </p:nvCxnSpPr>
        <p:spPr>
          <a:xfrm flipH="1">
            <a:off x="2775240" y="5402160"/>
            <a:ext cx="75960" cy="481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68" name="Прямая соединительная линия 39"/>
          <p:cNvCxnSpPr>
            <a:stCxn id="360" idx="2"/>
            <a:endCxn id="366" idx="0"/>
          </p:cNvCxnSpPr>
          <p:nvPr/>
        </p:nvCxnSpPr>
        <p:spPr>
          <a:xfrm>
            <a:off x="3500280" y="5402160"/>
            <a:ext cx="810360" cy="481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Прямоугольник: скругленные углы 13"/>
          <p:cNvSpPr/>
          <p:nvPr/>
        </p:nvSpPr>
        <p:spPr>
          <a:xfrm>
            <a:off x="1521000" y="797400"/>
            <a:ext cx="8173080" cy="126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noFill/>
          </a:ln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370" name="Прямоугольник: скругленные углы 3"/>
          <p:cNvSpPr/>
          <p:nvPr/>
        </p:nvSpPr>
        <p:spPr>
          <a:xfrm>
            <a:off x="4262040" y="888840"/>
            <a:ext cx="3974040" cy="2539800"/>
          </a:xfrm>
          <a:prstGeom prst="roundRect">
            <a:avLst>
              <a:gd name="adj" fmla="val 7350"/>
            </a:avLst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рядковый номер от 000 до 99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: скругленные углы 4"/>
          <p:cNvSpPr/>
          <p:nvPr/>
        </p:nvSpPr>
        <p:spPr>
          <a:xfrm>
            <a:off x="1598760" y="888840"/>
            <a:ext cx="2556360" cy="2539800"/>
          </a:xfrm>
          <a:prstGeom prst="roundRect">
            <a:avLst>
              <a:gd name="adj" fmla="val 9791"/>
            </a:avLst>
          </a:prstGeom>
          <a:solidFill>
            <a:schemeClr val="accent5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RU - код России в глобальной базе маршрутов P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s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: скругленные углы 5"/>
          <p:cNvSpPr/>
          <p:nvPr/>
        </p:nvSpPr>
        <p:spPr>
          <a:xfrm>
            <a:off x="426204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: скругленные углы 6"/>
          <p:cNvSpPr/>
          <p:nvPr/>
        </p:nvSpPr>
        <p:spPr>
          <a:xfrm>
            <a:off x="159876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: скругленные углы 7"/>
          <p:cNvSpPr/>
          <p:nvPr/>
        </p:nvSpPr>
        <p:spPr>
          <a:xfrm>
            <a:off x="293148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: скругленные углы 8"/>
          <p:cNvSpPr/>
          <p:nvPr/>
        </p:nvSpPr>
        <p:spPr>
          <a:xfrm>
            <a:off x="563904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: скругленные углы 9"/>
          <p:cNvSpPr/>
          <p:nvPr/>
        </p:nvSpPr>
        <p:spPr>
          <a:xfrm>
            <a:off x="8385840" y="888840"/>
            <a:ext cx="1227960" cy="2539800"/>
          </a:xfrm>
          <a:prstGeom prst="roundRect">
            <a:avLst>
              <a:gd name="adj" fmla="val 7350"/>
            </a:avLst>
          </a:prstGeom>
          <a:solidFill>
            <a:srgbClr val="fb4c2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фичный, согласно инстр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: скругленные углы 10"/>
          <p:cNvSpPr/>
          <p:nvPr/>
        </p:nvSpPr>
        <p:spPr>
          <a:xfrm>
            <a:off x="839016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fc5e3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: скругленные углы 11"/>
          <p:cNvSpPr/>
          <p:nvPr/>
        </p:nvSpPr>
        <p:spPr>
          <a:xfrm>
            <a:off x="7012440" y="88884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: скругленные углы 12"/>
          <p:cNvSpPr/>
          <p:nvPr/>
        </p:nvSpPr>
        <p:spPr>
          <a:xfrm>
            <a:off x="1206720" y="4196160"/>
            <a:ext cx="8918640" cy="1585440"/>
          </a:xfrm>
          <a:prstGeom prst="roundRect">
            <a:avLst>
              <a:gd name="adj" fmla="val 16667"/>
            </a:avLst>
          </a:prstGeom>
          <a:solidFill>
            <a:srgbClr val="f2f8ee"/>
          </a:solidFill>
          <a:ln>
            <a:solidFill>
              <a:srgbClr val="70ad47">
                <a:lumMod val="75000"/>
              </a:srgbClr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chemeClr val="dk1"/>
                </a:solidFill>
                <a:latin typeface="Calibri"/>
              </a:rPr>
              <a:t>Инструк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Для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PO1</a:t>
            </a:r>
            <a:r>
              <a:rPr b="0" lang="en-US" sz="2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используют буквы с начала латинского алфавита: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A, B, C, 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Для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Dairy</a:t>
            </a:r>
            <a:r>
              <a:rPr b="0" lang="en-US" sz="2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используют буквы с конца латинского алфавита: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Z, Y, X, W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Для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SPO1</a:t>
            </a:r>
            <a:r>
              <a:rPr b="0" lang="en-US" sz="2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chemeClr val="dk1"/>
                </a:solidFill>
                <a:latin typeface="Calibri"/>
              </a:rPr>
              <a:t>используют буквы только: </a:t>
            </a:r>
            <a:r>
              <a:rPr b="1" lang="en-US" sz="2200" spc="-1" strike="noStrike">
                <a:solidFill>
                  <a:schemeClr val="dk1"/>
                </a:solidFill>
                <a:latin typeface="Calibri"/>
              </a:rPr>
              <a:t>S, P, O</a:t>
            </a:r>
            <a:r>
              <a:rPr b="0" lang="en-US" sz="22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4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Me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A picture containing toy&#10;&#10;Description generated with high confidence"/>
          <p:cNvPicPr/>
          <p:nvPr/>
        </p:nvPicPr>
        <p:blipFill>
          <a:blip r:embed="rId1"/>
          <a:stretch/>
        </p:blipFill>
        <p:spPr>
          <a:xfrm>
            <a:off x="10344240" y="494964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: скругленные углы 11"/>
          <p:cNvSpPr/>
          <p:nvPr/>
        </p:nvSpPr>
        <p:spPr>
          <a:xfrm>
            <a:off x="1651680" y="755640"/>
            <a:ext cx="8042760" cy="126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d9d9d"/>
              </a:gs>
              <a:gs pos="100000">
                <a:srgbClr val="909090"/>
              </a:gs>
            </a:gsLst>
            <a:lin ang="5400000"/>
          </a:gradFill>
          <a:ln>
            <a:noFill/>
          </a:ln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383" name="Прямоугольник: скругленные углы 3"/>
          <p:cNvSpPr/>
          <p:nvPr/>
        </p:nvSpPr>
        <p:spPr>
          <a:xfrm>
            <a:off x="4413600" y="849960"/>
            <a:ext cx="5222160" cy="2578680"/>
          </a:xfrm>
          <a:prstGeom prst="roundRect">
            <a:avLst>
              <a:gd name="adj" fmla="val 7350"/>
            </a:avLst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ковый номер маршрута в диапазо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0…999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: скругленные углы 4"/>
          <p:cNvSpPr/>
          <p:nvPr/>
        </p:nvSpPr>
        <p:spPr>
          <a:xfrm>
            <a:off x="1748160" y="849960"/>
            <a:ext cx="2556360" cy="2578680"/>
          </a:xfrm>
          <a:prstGeom prst="roundRect">
            <a:avLst>
              <a:gd name="adj" fmla="val 9791"/>
            </a:avLst>
          </a:prstGeom>
          <a:solidFill>
            <a:schemeClr val="accent5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U - код России в глобальной базе маршрутов 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: скругленные углы 5"/>
          <p:cNvSpPr/>
          <p:nvPr/>
        </p:nvSpPr>
        <p:spPr>
          <a:xfrm>
            <a:off x="441360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: скругленные углы 6"/>
          <p:cNvSpPr/>
          <p:nvPr/>
        </p:nvSpPr>
        <p:spPr>
          <a:xfrm>
            <a:off x="174816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: скругленные углы 7"/>
          <p:cNvSpPr/>
          <p:nvPr/>
        </p:nvSpPr>
        <p:spPr>
          <a:xfrm>
            <a:off x="308088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3e89ce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: скругленные углы 8"/>
          <p:cNvSpPr/>
          <p:nvPr/>
        </p:nvSpPr>
        <p:spPr>
          <a:xfrm>
            <a:off x="574632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: скругленные углы 9"/>
          <p:cNvSpPr/>
          <p:nvPr/>
        </p:nvSpPr>
        <p:spPr>
          <a:xfrm>
            <a:off x="707904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: скругленные углы 10"/>
          <p:cNvSpPr/>
          <p:nvPr/>
        </p:nvSpPr>
        <p:spPr>
          <a:xfrm>
            <a:off x="8412120" y="849960"/>
            <a:ext cx="1223640" cy="1079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noFill/>
          </a:ln>
          <a:effectLst>
            <a:outerShdw algn="ctr" blurRad="108000" dir="5400000" dist="12600">
              <a:srgbClr val="000000"/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2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кодировки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3" descr=""/>
          <p:cNvPicPr/>
          <p:nvPr/>
        </p:nvPicPr>
        <p:blipFill>
          <a:blip r:embed="rId1"/>
          <a:stretch/>
        </p:blipFill>
        <p:spPr>
          <a:xfrm>
            <a:off x="10322640" y="4977000"/>
            <a:ext cx="1693080" cy="1693080"/>
          </a:xfrm>
          <a:prstGeom prst="rect">
            <a:avLst/>
          </a:prstGeom>
          <a:ln w="0">
            <a:solidFill>
              <a:srgbClr val="e7e6e6">
                <a:lumMod val="50000"/>
              </a:srgbClr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: скругленные углы 3"/>
          <p:cNvSpPr/>
          <p:nvPr/>
        </p:nvSpPr>
        <p:spPr>
          <a:xfrm>
            <a:off x="3074760" y="718560"/>
            <a:ext cx="5537520" cy="105120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шрут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Заголовок 1"/>
          <p:cNvSpPr/>
          <p:nvPr/>
        </p:nvSpPr>
        <p:spPr>
          <a:xfrm>
            <a:off x="3202560" y="118620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ru-RU" sz="4000" spc="-1" strike="noStrike">
                <a:solidFill>
                  <a:schemeClr val="dk1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Заголовок 1"/>
          <p:cNvSpPr/>
          <p:nvPr/>
        </p:nvSpPr>
        <p:spPr>
          <a:xfrm>
            <a:off x="3690360" y="1186200"/>
            <a:ext cx="1079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N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Заголовок 1"/>
          <p:cNvSpPr/>
          <p:nvPr/>
        </p:nvSpPr>
        <p:spPr>
          <a:xfrm>
            <a:off x="4798800" y="1185480"/>
            <a:ext cx="935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Заголовок 1"/>
          <p:cNvSpPr/>
          <p:nvPr/>
        </p:nvSpPr>
        <p:spPr>
          <a:xfrm>
            <a:off x="5761800" y="118548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Заголовок 1"/>
          <p:cNvSpPr/>
          <p:nvPr/>
        </p:nvSpPr>
        <p:spPr>
          <a:xfrm>
            <a:off x="7020360" y="1185480"/>
            <a:ext cx="1331640" cy="467640"/>
          </a:xfrm>
          <a:prstGeom prst="roundRect">
            <a:avLst>
              <a:gd name="adj" fmla="val 16667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DS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единительная линия 9"/>
          <p:cNvCxnSpPr/>
          <p:nvPr/>
        </p:nvCxnSpPr>
        <p:spPr>
          <a:xfrm>
            <a:off x="6660720" y="1631520"/>
            <a:ext cx="637920" cy="3560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400" name="Прямая соединительная линия 10"/>
          <p:cNvCxnSpPr>
            <a:stCxn id="397" idx="2"/>
          </p:cNvCxnSpPr>
          <p:nvPr/>
        </p:nvCxnSpPr>
        <p:spPr>
          <a:xfrm>
            <a:off x="5995440" y="1653120"/>
            <a:ext cx="169200" cy="3222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401" name="Прямая соединительная линия 11"/>
          <p:cNvCxnSpPr>
            <a:stCxn id="396" idx="2"/>
          </p:cNvCxnSpPr>
          <p:nvPr/>
        </p:nvCxnSpPr>
        <p:spPr>
          <a:xfrm flipH="1">
            <a:off x="5014080" y="1653120"/>
            <a:ext cx="253080" cy="3250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402" name="Прямая соединительная линия 12"/>
          <p:cNvCxnSpPr>
            <a:stCxn id="395" idx="2"/>
          </p:cNvCxnSpPr>
          <p:nvPr/>
        </p:nvCxnSpPr>
        <p:spPr>
          <a:xfrm flipH="1">
            <a:off x="3613680" y="1653840"/>
            <a:ext cx="616680" cy="324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403" name="Прямая соединительная линия 13"/>
          <p:cNvCxnSpPr>
            <a:stCxn id="394" idx="2"/>
          </p:cNvCxnSpPr>
          <p:nvPr/>
        </p:nvCxnSpPr>
        <p:spPr>
          <a:xfrm flipH="1">
            <a:off x="2385720" y="1653840"/>
            <a:ext cx="1050840" cy="324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404" name="Заголовок 1"/>
          <p:cNvSpPr/>
          <p:nvPr/>
        </p:nvSpPr>
        <p:spPr>
          <a:xfrm>
            <a:off x="7029360" y="1987560"/>
            <a:ext cx="1535400" cy="6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Буква для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CR 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или Мерч 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A-Z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Заголовок 1"/>
          <p:cNvSpPr/>
          <p:nvPr/>
        </p:nvSpPr>
        <p:spPr>
          <a:xfrm>
            <a:off x="5734800" y="1975320"/>
            <a:ext cx="1237680" cy="62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e"/>
              </a:gs>
              <a:gs pos="100000">
                <a:srgbClr val="ffd590"/>
              </a:gs>
            </a:gsLst>
            <a:lin ang="5400000"/>
          </a:gradFill>
          <a:ln>
            <a:solidFill>
              <a:srgbClr val="ffc000"/>
            </a:solidFill>
          </a:ln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Буква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TSM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(А…</a:t>
            </a:r>
            <a:r>
              <a:rPr b="0" lang="en-US" sz="1400" spc="-1" strike="noStrike">
                <a:solidFill>
                  <a:schemeClr val="dk1"/>
                </a:solidFill>
                <a:latin typeface="Arial"/>
              </a:rPr>
              <a:t>Z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Заголовок 1"/>
          <p:cNvSpPr/>
          <p:nvPr/>
        </p:nvSpPr>
        <p:spPr>
          <a:xfrm>
            <a:off x="3938760" y="1975320"/>
            <a:ext cx="1739160" cy="62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Код дивизио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chemeClr val="dk1"/>
                </a:solidFill>
                <a:latin typeface="Arial"/>
              </a:rPr>
              <a:t>SP – </a:t>
            </a:r>
            <a:r>
              <a:rPr b="0" lang="ru-RU" sz="1100" spc="-1" strike="noStrike">
                <a:solidFill>
                  <a:schemeClr val="dk1"/>
                </a:solidFill>
                <a:latin typeface="Arial"/>
              </a:rPr>
              <a:t>Санкт-Петербур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2259360" y="1975320"/>
            <a:ext cx="1627200" cy="62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Код регио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100" spc="-1" strike="noStrike">
                <a:solidFill>
                  <a:schemeClr val="dk1"/>
                </a:solidFill>
                <a:latin typeface="Arial"/>
              </a:rPr>
              <a:t>NW</a:t>
            </a:r>
            <a:r>
              <a:rPr b="0" lang="ru-RU" sz="1100" spc="-1" strike="noStrike">
                <a:solidFill>
                  <a:schemeClr val="dk1"/>
                </a:solidFill>
                <a:latin typeface="Arial"/>
              </a:rPr>
              <a:t> – Северо-запа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Заголовок 1"/>
          <p:cNvSpPr/>
          <p:nvPr/>
        </p:nvSpPr>
        <p:spPr>
          <a:xfrm>
            <a:off x="47160" y="1975320"/>
            <a:ext cx="2155680" cy="1074240"/>
          </a:xfrm>
          <a:prstGeom prst="roundRect">
            <a:avLst>
              <a:gd name="adj" fmla="val 11878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маршру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R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- CR T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- Merc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5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Заголовок 1"/>
          <p:cNvSpPr/>
          <p:nvPr/>
        </p:nvSpPr>
        <p:spPr>
          <a:xfrm>
            <a:off x="6259680" y="1185480"/>
            <a:ext cx="467640" cy="46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a2c1e4"/>
              </a:gs>
            </a:gsLst>
            <a:lin ang="5400000"/>
          </a:gra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Заголовок 1"/>
          <p:cNvSpPr/>
          <p:nvPr/>
        </p:nvSpPr>
        <p:spPr>
          <a:xfrm>
            <a:off x="8621640" y="1975320"/>
            <a:ext cx="3420000" cy="1251720"/>
          </a:xfrm>
          <a:prstGeom prst="roundRect">
            <a:avLst>
              <a:gd name="adj" fmla="val 6329"/>
            </a:avLst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Обозначение для поля «имя» в </a:t>
            </a: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SFIS</a:t>
            </a:r>
            <a:r>
              <a:rPr b="1" lang="ru-RU" sz="1400" spc="-1" strike="noStrike">
                <a:solidFill>
                  <a:schemeClr val="dk1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DSD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- Штатный сотрудник ВБ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EST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- Сотрудник в штате дистрибьютора (компенсация ЭТ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400" spc="-1" strike="noStrike">
                <a:solidFill>
                  <a:schemeClr val="dk1"/>
                </a:solidFill>
                <a:latin typeface="Arial"/>
              </a:rPr>
              <a:t>AGE</a:t>
            </a:r>
            <a:r>
              <a:rPr b="0" lang="ru-RU" sz="1400" spc="-1" strike="noStrike">
                <a:solidFill>
                  <a:schemeClr val="dk1"/>
                </a:solidFill>
                <a:latin typeface="Arial"/>
              </a:rPr>
              <a:t> - Сотрудник в штате агент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Прямая соединительная линия 38"/>
          <p:cNvCxnSpPr/>
          <p:nvPr/>
        </p:nvCxnSpPr>
        <p:spPr>
          <a:xfrm>
            <a:off x="8335080" y="1627200"/>
            <a:ext cx="672480" cy="3481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sp>
        <p:nvSpPr>
          <p:cNvPr id="412" name="Прямоугольник 21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нцип наименования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: скругленные углы 173"/>
          <p:cNvSpPr/>
          <p:nvPr/>
        </p:nvSpPr>
        <p:spPr>
          <a:xfrm>
            <a:off x="102600" y="3309840"/>
            <a:ext cx="11994120" cy="75780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. маршрут для закрепления клиентов без покрытия + клиенты, покрываемые только маршрутам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чандайзеров (начало на 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Tech_GRTU_1TD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Заголовок 1"/>
          <p:cNvSpPr/>
          <p:nvPr/>
        </p:nvSpPr>
        <p:spPr>
          <a:xfrm>
            <a:off x="102600" y="3309840"/>
            <a:ext cx="1165680" cy="75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Tech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: скругленные углы 173"/>
          <p:cNvSpPr/>
          <p:nvPr/>
        </p:nvSpPr>
        <p:spPr>
          <a:xfrm>
            <a:off x="82800" y="4134600"/>
            <a:ext cx="11994120" cy="50760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. маршрут для закрепления клиентов стоящих на маршрутах MERCH+ агент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Tech_2VOPE_2T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Заголовок 1"/>
          <p:cNvSpPr/>
          <p:nvPr/>
        </p:nvSpPr>
        <p:spPr>
          <a:xfrm>
            <a:off x="114480" y="4115520"/>
            <a:ext cx="1165680" cy="52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Tech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: скругленные углы 173"/>
          <p:cNvSpPr/>
          <p:nvPr/>
        </p:nvSpPr>
        <p:spPr>
          <a:xfrm>
            <a:off x="102600" y="4710600"/>
            <a:ext cx="11994120" cy="5266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. маршрут для закрепления клиентов стоящих на маршрутах совмещенного мерчандайзинга агент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Tech_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VOPE_2T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Заголовок 1"/>
          <p:cNvSpPr/>
          <p:nvPr/>
        </p:nvSpPr>
        <p:spPr>
          <a:xfrm>
            <a:off x="114480" y="4717440"/>
            <a:ext cx="1165680" cy="5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ca4"/>
              </a:gs>
              <a:gs pos="100000">
                <a:srgbClr val="f4b196"/>
              </a:gs>
            </a:gsLst>
            <a:lin ang="5400000"/>
          </a:gradFill>
          <a:ln>
            <a:solidFill>
              <a:srgbClr val="ed7d31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Tech_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: скругленные углы 173"/>
          <p:cNvSpPr/>
          <p:nvPr/>
        </p:nvSpPr>
        <p:spPr>
          <a:xfrm>
            <a:off x="114480" y="5334840"/>
            <a:ext cx="4924080" cy="5194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руты общего прай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CP_URSA_STAROVERO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Заголовок 1"/>
          <p:cNvSpPr/>
          <p:nvPr/>
        </p:nvSpPr>
        <p:spPr>
          <a:xfrm>
            <a:off x="129600" y="5334840"/>
            <a:ext cx="1165680" cy="5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CP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: скругленные углы 173"/>
          <p:cNvSpPr/>
          <p:nvPr/>
        </p:nvSpPr>
        <p:spPr>
          <a:xfrm>
            <a:off x="6661080" y="5337000"/>
            <a:ext cx="5448960" cy="5176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рут с точками Р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DC_VOLGOGRAD_R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Заголовок 1"/>
          <p:cNvSpPr/>
          <p:nvPr/>
        </p:nvSpPr>
        <p:spPr>
          <a:xfrm>
            <a:off x="6661080" y="5343840"/>
            <a:ext cx="1165680" cy="51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DC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: скругленные углы 173"/>
          <p:cNvSpPr/>
          <p:nvPr/>
        </p:nvSpPr>
        <p:spPr>
          <a:xfrm>
            <a:off x="114480" y="5967720"/>
            <a:ext cx="4924080" cy="5194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ичные отгрузки дистрибьютор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DISTR_KALUGA_R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Заголовок 1"/>
          <p:cNvSpPr/>
          <p:nvPr/>
        </p:nvSpPr>
        <p:spPr>
          <a:xfrm>
            <a:off x="129600" y="5976000"/>
            <a:ext cx="1165680" cy="51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DIS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: скругленные углы 173"/>
          <p:cNvSpPr/>
          <p:nvPr/>
        </p:nvSpPr>
        <p:spPr>
          <a:xfrm>
            <a:off x="6661080" y="5976000"/>
            <a:ext cx="5448960" cy="519480"/>
          </a:xfrm>
          <a:prstGeom prst="roundRect">
            <a:avLst>
              <a:gd name="adj" fmla="val 16667"/>
            </a:avLst>
          </a:prstGeom>
          <a:solidFill>
            <a:schemeClr val="accent3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рут с закрытыми/неактивными клиен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Пример: 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CLOSE_CHEBOK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Заголовок 1"/>
          <p:cNvSpPr/>
          <p:nvPr/>
        </p:nvSpPr>
        <p:spPr>
          <a:xfrm>
            <a:off x="6661080" y="5954040"/>
            <a:ext cx="1165680" cy="5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5d4a7"/>
              </a:gs>
              <a:gs pos="100000">
                <a:srgbClr val="a9cd99"/>
              </a:gs>
            </a:gsLst>
            <a:lin ang="5400000"/>
          </a:gradFill>
          <a:ln>
            <a:solidFill>
              <a:srgbClr val="70ad47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CLOSE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: скругленные углы 4"/>
          <p:cNvSpPr/>
          <p:nvPr/>
        </p:nvSpPr>
        <p:spPr>
          <a:xfrm>
            <a:off x="2158920" y="5423400"/>
            <a:ext cx="1988640" cy="1038240"/>
          </a:xfrm>
          <a:prstGeom prst="roundRect">
            <a:avLst>
              <a:gd name="adj" fmla="val 16667"/>
            </a:avLst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IS (W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: скругленные углы 6"/>
          <p:cNvSpPr/>
          <p:nvPr/>
        </p:nvSpPr>
        <p:spPr>
          <a:xfrm>
            <a:off x="2158920" y="964080"/>
            <a:ext cx="1988640" cy="10382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les 2.0 (WBD/PO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: скругленные углы 7"/>
          <p:cNvSpPr/>
          <p:nvPr/>
        </p:nvSpPr>
        <p:spPr>
          <a:xfrm>
            <a:off x="6499080" y="964080"/>
            <a:ext cx="1654920" cy="5497560"/>
          </a:xfrm>
          <a:prstGeom prst="roundRect">
            <a:avLst>
              <a:gd name="adj" fmla="val 16667"/>
            </a:avLst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bIns="1080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рарх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: скругленные углы 8"/>
          <p:cNvSpPr/>
          <p:nvPr/>
        </p:nvSpPr>
        <p:spPr>
          <a:xfrm>
            <a:off x="9569160" y="2975040"/>
            <a:ext cx="2288880" cy="1351800"/>
          </a:xfrm>
          <a:prstGeom prst="roundRect">
            <a:avLst>
              <a:gd name="adj" fmla="val 16667"/>
            </a:avLst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Рисунок 9" descr="Гистограмма"/>
          <p:cNvPicPr/>
          <p:nvPr/>
        </p:nvPicPr>
        <p:blipFill>
          <a:blip r:embed="rId1"/>
          <a:stretch/>
        </p:blipFill>
        <p:spPr>
          <a:xfrm>
            <a:off x="9694800" y="3429000"/>
            <a:ext cx="914040" cy="9140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0" descr="Тенденция к повышению"/>
          <p:cNvPicPr/>
          <p:nvPr/>
        </p:nvPicPr>
        <p:blipFill>
          <a:blip r:embed="rId2"/>
          <a:stretch/>
        </p:blipFill>
        <p:spPr>
          <a:xfrm>
            <a:off x="10776600" y="3429000"/>
            <a:ext cx="914040" cy="914040"/>
          </a:xfrm>
          <a:prstGeom prst="rect">
            <a:avLst/>
          </a:prstGeom>
          <a:ln w="0">
            <a:noFill/>
          </a:ln>
        </p:spPr>
      </p:pic>
      <p:sp>
        <p:nvSpPr>
          <p:cNvPr id="433" name="Стрелка: вправо 13"/>
          <p:cNvSpPr/>
          <p:nvPr/>
        </p:nvSpPr>
        <p:spPr>
          <a:xfrm>
            <a:off x="4147920" y="1126800"/>
            <a:ext cx="2350800" cy="71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2">
              <a:lumMod val="7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трелка: вправо 15"/>
          <p:cNvSpPr/>
          <p:nvPr/>
        </p:nvSpPr>
        <p:spPr>
          <a:xfrm>
            <a:off x="4147920" y="5537520"/>
            <a:ext cx="2350800" cy="71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2">
              <a:lumMod val="7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пп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трелка: вправо 17"/>
          <p:cNvSpPr/>
          <p:nvPr/>
        </p:nvSpPr>
        <p:spPr>
          <a:xfrm>
            <a:off x="8154720" y="3356280"/>
            <a:ext cx="1372320" cy="71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2">
              <a:lumMod val="7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19" descr="Иерархия"/>
          <p:cNvPicPr/>
          <p:nvPr/>
        </p:nvPicPr>
        <p:blipFill>
          <a:blip r:embed="rId3"/>
          <a:stretch/>
        </p:blipFill>
        <p:spPr>
          <a:xfrm>
            <a:off x="6869880" y="3470400"/>
            <a:ext cx="914040" cy="91404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1"/>
          <p:cNvSpPr/>
          <p:nvPr/>
        </p:nvSpPr>
        <p:spPr>
          <a:xfrm>
            <a:off x="75960" y="45360"/>
            <a:ext cx="10122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вязь различных учетных систем компании PepsiCo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Иерарх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8"/>
          <p:cNvSpPr/>
          <p:nvPr/>
        </p:nvSpPr>
        <p:spPr>
          <a:xfrm>
            <a:off x="0" y="15840"/>
            <a:ext cx="9339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ерархия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PepsiCo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в системе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4" descr=""/>
          <p:cNvPicPr/>
          <p:nvPr/>
        </p:nvPicPr>
        <p:blipFill>
          <a:blip r:embed="rId1"/>
          <a:stretch/>
        </p:blipFill>
        <p:spPr>
          <a:xfrm>
            <a:off x="-906480" y="2611080"/>
            <a:ext cx="3621600" cy="36216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5"/>
          <p:cNvSpPr/>
          <p:nvPr/>
        </p:nvSpPr>
        <p:spPr>
          <a:xfrm>
            <a:off x="4433040" y="803880"/>
            <a:ext cx="5977440" cy="1416960"/>
          </a:xfrm>
          <a:prstGeom prst="roundRect">
            <a:avLst>
              <a:gd name="adj" fmla="val 16667"/>
            </a:avLst>
          </a:prstGeom>
          <a:solidFill>
            <a:srgbClr val="b3d0eb"/>
          </a:solidFill>
          <a:ln w="19050">
            <a:solidFill>
              <a:srgbClr val="5b9bd5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chemeClr val="dk1"/>
                </a:solidFill>
                <a:latin typeface="Calibri"/>
              </a:rPr>
              <a:t>S-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иерархия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–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это организационная структура службы продаж, состоящая из уровней управления с учетом их соподчинённости и организация их в структуру типа «дерев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: Rounded Corners 30"/>
          <p:cNvSpPr/>
          <p:nvPr/>
        </p:nvSpPr>
        <p:spPr>
          <a:xfrm>
            <a:off x="4306320" y="4924080"/>
            <a:ext cx="6098760" cy="1430280"/>
          </a:xfrm>
          <a:prstGeom prst="roundRect">
            <a:avLst>
              <a:gd name="adj" fmla="val 16667"/>
            </a:avLst>
          </a:prstGeom>
          <a:solidFill>
            <a:srgbClr val="b3d0eb"/>
          </a:solidFill>
          <a:ln w="19050">
            <a:solidFill>
              <a:srgbClr val="5b9bd5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chemeClr val="dk1"/>
                </a:solidFill>
                <a:latin typeface="Calibri"/>
              </a:rPr>
              <a:t>S-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иерархия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используется для формирования прогнозов и отчётов, на основании которых принимаются управленческие решения и производится конт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75273045"/>
              </p:ext>
            </p:extLst>
          </p:nvPr>
        </p:nvGraphicFramePr>
        <p:xfrm>
          <a:off x="5299200" y="2113560"/>
          <a:ext cx="4063680" cy="28720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68" name="Пузырек для мыслей: облако 1"/>
          <p:cNvSpPr/>
          <p:nvPr/>
        </p:nvSpPr>
        <p:spPr>
          <a:xfrm>
            <a:off x="1670040" y="1648800"/>
            <a:ext cx="2162520" cy="1429920"/>
          </a:xfrm>
          <a:prstGeom prst="cloudCallout">
            <a:avLst>
              <a:gd name="adj1" fmla="val -60523"/>
              <a:gd name="adj2" fmla="val 57281"/>
            </a:avLst>
          </a:prstGeom>
          <a:solidFill>
            <a:srgbClr val="eaf2fa"/>
          </a:solidFill>
          <a:ln>
            <a:solidFill>
              <a:srgbClr val="5b9bd5">
                <a:lumMod val="75000"/>
              </a:srgbClr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ерархи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узырек для мыслей: облако 2"/>
          <p:cNvSpPr/>
          <p:nvPr/>
        </p:nvSpPr>
        <p:spPr>
          <a:xfrm>
            <a:off x="2115720" y="3429000"/>
            <a:ext cx="2135880" cy="1429920"/>
          </a:xfrm>
          <a:prstGeom prst="cloudCallout">
            <a:avLst>
              <a:gd name="adj1" fmla="val -66146"/>
              <a:gd name="adj2" fmla="val -48527"/>
            </a:avLst>
          </a:prstGeom>
          <a:solidFill>
            <a:srgbClr val="eaf2fa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чем нуж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ерархи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: скругленные углы 3"/>
          <p:cNvSpPr/>
          <p:nvPr/>
        </p:nvSpPr>
        <p:spPr>
          <a:xfrm>
            <a:off x="101160" y="883800"/>
            <a:ext cx="11403360" cy="2649240"/>
          </a:xfrm>
          <a:prstGeom prst="roundRect">
            <a:avLst>
              <a:gd name="adj" fmla="val 5813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Arial"/>
              </a:rPr>
              <a:t>Связь систем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1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iSale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истемы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вязаны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технически между собой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, за счет синхронизации систем, используются атрибуты 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ерархия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аршруто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Визит планы 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огут бы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Только с клиентам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iSales 2.0 (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тип визит плана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ZPS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, покрытие маршрута 3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P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 клиентам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+iSales 2.0 (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тип визит плана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ZPX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, покрытие маршрута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Mix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вязь систем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Sales 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6" descr="A picture containing clipart&#10;&#10;Description generated with very high confidence"/>
          <p:cNvPicPr/>
          <p:nvPr/>
        </p:nvPicPr>
        <p:blipFill>
          <a:blip r:embed="rId1"/>
          <a:stretch/>
        </p:blipFill>
        <p:spPr>
          <a:xfrm>
            <a:off x="9357840" y="6462360"/>
            <a:ext cx="568440" cy="302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A picture containing accessory, businesscard&#10;&#10;Description generated with high confidence"/>
          <p:cNvPicPr/>
          <p:nvPr/>
        </p:nvPicPr>
        <p:blipFill>
          <a:blip r:embed="rId2"/>
          <a:stretch/>
        </p:blipFill>
        <p:spPr>
          <a:xfrm>
            <a:off x="9969120" y="6373080"/>
            <a:ext cx="1070280" cy="4845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0"/>
          <p:cNvSpPr/>
          <p:nvPr/>
        </p:nvSpPr>
        <p:spPr>
          <a:xfrm>
            <a:off x="10962720" y="6395760"/>
            <a:ext cx="122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e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"/>
          <p:cNvPicPr/>
          <p:nvPr/>
        </p:nvPicPr>
        <p:blipFill>
          <a:blip r:embed="rId3"/>
          <a:stretch/>
        </p:blipFill>
        <p:spPr>
          <a:xfrm>
            <a:off x="9969120" y="5547240"/>
            <a:ext cx="94176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: скругленные углы 1"/>
          <p:cNvSpPr/>
          <p:nvPr/>
        </p:nvSpPr>
        <p:spPr>
          <a:xfrm>
            <a:off x="207720" y="1155960"/>
            <a:ext cx="11776320" cy="2921760"/>
          </a:xfrm>
          <a:prstGeom prst="roundRect">
            <a:avLst>
              <a:gd name="adj" fmla="val 5173"/>
            </a:avLst>
          </a:prstGeom>
          <a:solidFill>
            <a:srgbClr val="eaf4e4"/>
          </a:solidFill>
          <a:ln w="19050">
            <a:solidFill>
              <a:srgbClr val="70ad47">
                <a:lumMod val="75000"/>
              </a:srgbClr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Arial"/>
              </a:rPr>
              <a:t>Связь систем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1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</a:rPr>
              <a:t>SF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Системы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ежду собой технически не связаны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Для связи маршрутов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используют маппинг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Для маппинга каждому маршруту в системе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прописывается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ERP Code (ROUTE ID SA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Один маршрут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может быть примаплен как к одному, так и к нескольким маршрутам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Ответственный исполнитель на стороне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FIS – DMO SFIS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, на стороне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SAP –</a:t>
            </a:r>
            <a:r>
              <a:rPr b="0" lang="ru-RU" sz="1800" spc="-1" strike="noStrike">
                <a:solidFill>
                  <a:schemeClr val="dk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</a:rPr>
              <a:t>Ro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4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вязь систем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11039760" y="6280200"/>
            <a:ext cx="1141560" cy="484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A picture containing clipart&#10;&#10;Description generated with very high confidence"/>
          <p:cNvPicPr/>
          <p:nvPr/>
        </p:nvPicPr>
        <p:blipFill>
          <a:blip r:embed="rId2"/>
          <a:stretch/>
        </p:blipFill>
        <p:spPr>
          <a:xfrm>
            <a:off x="9357840" y="6462360"/>
            <a:ext cx="568440" cy="302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A picture containing accessory, businesscard&#10;&#10;Description generated with high confidence"/>
          <p:cNvPicPr/>
          <p:nvPr/>
        </p:nvPicPr>
        <p:blipFill>
          <a:blip r:embed="rId3"/>
          <a:stretch/>
        </p:blipFill>
        <p:spPr>
          <a:xfrm>
            <a:off x="9969120" y="6373080"/>
            <a:ext cx="1070280" cy="484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9969120" y="5547240"/>
            <a:ext cx="94176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Таблица 3"/>
          <p:cNvGraphicFramePr/>
          <p:nvPr/>
        </p:nvGraphicFramePr>
        <p:xfrm>
          <a:off x="415080" y="2488320"/>
          <a:ext cx="7557480" cy="2370960"/>
        </p:xfrm>
        <a:graphic>
          <a:graphicData uri="http://schemas.openxmlformats.org/drawingml/2006/table">
            <a:tbl>
              <a:tblPr/>
              <a:tblGrid>
                <a:gridCol w="2573640"/>
                <a:gridCol w="4983840"/>
              </a:tblGrid>
              <a:tr h="2660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ытие маршру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тично влияет на функционал работы системы iSales 2.0  по поддержке маршрутов 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4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DSD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шрут содержит только клиентов, отгружаемых от PCH или WBD (прям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Mix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шрут содержит клиентов, отгружаемых как от PCH/WBD, так и от Дистрибьютора (прямые+вторич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_3PD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шрут содержит только клиентов, отгружаемых от Дистрибьютора (вторич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1" name="Таблица 8"/>
          <p:cNvGraphicFramePr/>
          <p:nvPr/>
        </p:nvGraphicFramePr>
        <p:xfrm>
          <a:off x="415080" y="925560"/>
          <a:ext cx="7557480" cy="1310760"/>
        </p:xfrm>
        <a:graphic>
          <a:graphicData uri="http://schemas.openxmlformats.org/drawingml/2006/table">
            <a:tbl>
              <a:tblPr/>
              <a:tblGrid>
                <a:gridCol w="2573640"/>
                <a:gridCol w="4983840"/>
              </a:tblGrid>
              <a:tr h="2620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ытовая 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маршрут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siCo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ом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«Опол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Прямоугольник 6"/>
          <p:cNvSpPr/>
          <p:nvPr/>
        </p:nvSpPr>
        <p:spPr>
          <a:xfrm>
            <a:off x="0" y="31320"/>
            <a:ext cx="93596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лассификация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s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Таблица 4"/>
          <p:cNvGraphicFramePr/>
          <p:nvPr/>
        </p:nvGraphicFramePr>
        <p:xfrm>
          <a:off x="415080" y="5060880"/>
          <a:ext cx="7557480" cy="1507320"/>
        </p:xfrm>
        <a:graphic>
          <a:graphicData uri="http://schemas.openxmlformats.org/drawingml/2006/table">
            <a:tbl>
              <a:tblPr/>
              <a:tblGrid>
                <a:gridCol w="2573640"/>
                <a:gridCol w="4983840"/>
              </a:tblGrid>
              <a:tr h="23040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Назначенного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0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о оформления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Шта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сотрудник находится в штате компании Pep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Сотрудник Дистрибью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сотрудник находится в штате дистрибью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_Сотрудник Аген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сотрудник находится в штате стороннего аген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4" name="Объект 5" descr=""/>
          <p:cNvPicPr/>
          <p:nvPr/>
        </p:nvPicPr>
        <p:blipFill>
          <a:blip r:embed="rId1"/>
          <a:srcRect l="0" t="22916" r="0" b="9603"/>
          <a:stretch/>
        </p:blipFill>
        <p:spPr>
          <a:xfrm>
            <a:off x="8084880" y="684720"/>
            <a:ext cx="4106880" cy="292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5" name="Object 1"/>
          <p:cNvGraphicFramePr/>
          <p:nvPr/>
        </p:nvGraphicFramePr>
        <p:xfrm>
          <a:off x="5781240" y="2003760"/>
          <a:ext cx="4968000" cy="433800"/>
        </p:xfrm>
        <a:graphic>
          <a:graphicData uri="http://schemas.openxmlformats.org/presentationml/2006/ole">
            <p:oleObj progId="Package" r:id="rId2" spid="">
              <p:embed/>
              <p:pic>
                <p:nvPicPr>
                  <p:cNvPr id="45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81240" y="2003760"/>
                    <a:ext cx="4968000" cy="4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Таблица 3"/>
          <p:cNvGraphicFramePr/>
          <p:nvPr/>
        </p:nvGraphicFramePr>
        <p:xfrm>
          <a:off x="383760" y="1649520"/>
          <a:ext cx="7623000" cy="3558600"/>
        </p:xfrm>
        <a:graphic>
          <a:graphicData uri="http://schemas.openxmlformats.org/drawingml/2006/table">
            <a:tbl>
              <a:tblPr/>
              <a:tblGrid>
                <a:gridCol w="7623360"/>
              </a:tblGrid>
              <a:tr h="313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рибуты маршрутов мерчендайз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ы для аналитической отчетности по мерчендайзерам + требуется заполнение  для GTM Role «MC»-Me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280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Режим Обслуживания мерчендайзе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044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Визитный – мерчендайзер посещает несколько разных ТТ в ден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Стационарный – мерчендайзер целый день находится в одной Т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Тип Сервиса мерчендайзе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044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Выделенный – мерчендайзер выкладывает только продукцию компании Peps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Совместный – мерчендайзер выкладывает продукцию компании PepsiCo и ещё продукцию других комп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ип Рабочего Графика мерчендайзер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044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_Ночной – мерчендайзер работает ночь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17136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_Дневной – мерчендайзер работает дн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Прямоугольник 2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трибуты маршрутов мерчендайз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бъект 23"/>
          <p:cNvSpPr/>
          <p:nvPr/>
        </p:nvSpPr>
        <p:spPr>
          <a:xfrm>
            <a:off x="8033040" y="677160"/>
            <a:ext cx="4158720" cy="2961720"/>
          </a:xfrm>
          <a:custGeom>
            <a:avLst/>
            <a:gdLst>
              <a:gd name="textAreaLeft" fmla="*/ 0 w 4158720"/>
              <a:gd name="textAreaRight" fmla="*/ 4159080 w 4158720"/>
              <a:gd name="textAreaTop" fmla="*/ 0 h 2961720"/>
              <a:gd name="textAreaBottom" fmla="*/ 2962080 h 2961720"/>
            </a:gdLst>
            <a:ahLst/>
            <a:rect l="textAreaLeft" t="textAreaTop" r="textAreaRight" b="textAreaBottom"/>
            <a:pathLst>
              <a:path w="5699887" h="4059244">
                <a:moveTo>
                  <a:pt x="0" y="0"/>
                </a:moveTo>
                <a:lnTo>
                  <a:pt x="5699887" y="0"/>
                </a:lnTo>
                <a:lnTo>
                  <a:pt x="5699887" y="3944096"/>
                </a:lnTo>
                <a:lnTo>
                  <a:pt x="5525775" y="3980429"/>
                </a:lnTo>
                <a:cubicBezTo>
                  <a:pt x="5246154" y="4032190"/>
                  <a:pt x="4957865" y="4059244"/>
                  <a:pt x="4663256" y="4059244"/>
                </a:cubicBezTo>
                <a:cubicBezTo>
                  <a:pt x="2306390" y="4059244"/>
                  <a:pt x="353936" y="2327747"/>
                  <a:pt x="8566" y="6742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0888920" y="1153800"/>
            <a:ext cx="1302840" cy="376200"/>
          </a:xfrm>
          <a:prstGeom prst="rect">
            <a:avLst/>
          </a:prstGeom>
          <a:solidFill>
            <a:schemeClr val="accent4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461" name="Рисунок 16" descr=""/>
          <p:cNvPicPr/>
          <p:nvPr/>
        </p:nvPicPr>
        <p:blipFill>
          <a:blip r:embed="rId2"/>
          <a:stretch/>
        </p:blipFill>
        <p:spPr>
          <a:xfrm>
            <a:off x="9714600" y="4488120"/>
            <a:ext cx="2477160" cy="25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992880"/>
            <a:ext cx="1051524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трибуты маршрутов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Таблица 5"/>
          <p:cNvGraphicFramePr/>
          <p:nvPr/>
        </p:nvGraphicFramePr>
        <p:xfrm>
          <a:off x="340920" y="992880"/>
          <a:ext cx="7743600" cy="4223160"/>
        </p:xfrm>
        <a:graphic>
          <a:graphicData uri="http://schemas.openxmlformats.org/drawingml/2006/table">
            <a:tbl>
              <a:tblPr/>
              <a:tblGrid>
                <a:gridCol w="327240"/>
                <a:gridCol w="1605600"/>
                <a:gridCol w="5810400"/>
              </a:tblGrid>
              <a:tr h="32724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маршрут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отражает наполняемость  маршрута с точки зрения типа кли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разного кан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ditional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традиционной торгов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 Attack 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ТОП клиентами традиционной торгов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 T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современной торгов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Key Ac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локальными ключевыми кл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Key Ac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национальными ключевыми кл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lesa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оптовой торгов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быстрого питания и одиночные бары, рестораны, клубы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rvice GasS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, расположенными на заправочных стан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-se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точками, которые работают либо только в зимний, либо только в летни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prem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сетевыми клиентами баров, ресторанов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bu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дистрибью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 с клиентами эк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Прямоугольник 4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трибуты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s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Объект 5" descr=""/>
          <p:cNvPicPr/>
          <p:nvPr/>
        </p:nvPicPr>
        <p:blipFill>
          <a:blip r:embed="rId1"/>
          <a:srcRect l="0" t="22916" r="0" b="9603"/>
          <a:stretch/>
        </p:blipFill>
        <p:spPr>
          <a:xfrm>
            <a:off x="8084880" y="684720"/>
            <a:ext cx="4106880" cy="29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Таблица 3"/>
          <p:cNvGraphicFramePr/>
          <p:nvPr/>
        </p:nvGraphicFramePr>
        <p:xfrm>
          <a:off x="304920" y="1371600"/>
          <a:ext cx="7604280" cy="3048120"/>
        </p:xfrm>
        <a:graphic>
          <a:graphicData uri="http://schemas.openxmlformats.org/drawingml/2006/table">
            <a:tbl>
              <a:tblPr/>
              <a:tblGrid>
                <a:gridCol w="647280"/>
                <a:gridCol w="2978640"/>
                <a:gridCol w="3978000"/>
              </a:tblGrid>
              <a:tr h="577080"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siness Type (Бизнес Тип маршрут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него зависит настройка  продаваемой продукции на маршру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 E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е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ver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D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 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ское 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H маршруты продаж, кроме FS и некоторы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verages &amp; Ju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итки и с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1 &amp; Dairy Food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H F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 некоторы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шруты 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Прямоугольник 2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трибуты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s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Рисунок 18" descr=""/>
          <p:cNvPicPr/>
          <p:nvPr/>
        </p:nvPicPr>
        <p:blipFill>
          <a:blip r:embed="rId1"/>
          <a:stretch/>
        </p:blipFill>
        <p:spPr>
          <a:xfrm>
            <a:off x="8975880" y="2626200"/>
            <a:ext cx="2739240" cy="423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оугольник 5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трибуты маршрутов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ps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Таблица 1"/>
          <p:cNvGraphicFramePr/>
          <p:nvPr/>
        </p:nvGraphicFramePr>
        <p:xfrm>
          <a:off x="525600" y="692640"/>
          <a:ext cx="11140560" cy="5538960"/>
        </p:xfrm>
        <a:graphic>
          <a:graphicData uri="http://schemas.openxmlformats.org/drawingml/2006/table">
            <a:tbl>
              <a:tblPr/>
              <a:tblGrid>
                <a:gridCol w="679680"/>
                <a:gridCol w="2274840"/>
                <a:gridCol w="5626440"/>
                <a:gridCol w="2559240"/>
              </a:tblGrid>
              <a:tr h="3430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M Роль –  отображает кто  обслуживает  маршру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ает/Не прод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й предста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&amp;C 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й представитель проекта Face&amp;Call (всегда в паре с F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&amp;C TS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тор колл-центра проекта Face&amp;Call (всегда в паре с F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1 Non Exclusive distribu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с продажей продукции не только производства компании Peps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имен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D Develo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ель по развитию кл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чендайз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ch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чендайзер со взятием зака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e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чейдайзинг и влияние на заказ только по точкам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ст по развитию территории и поиску новых кли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ер по работе с ключевыми кл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ер по развитию ключевых национальных кл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й представитель по РЦ клиент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ст по развитию ключевых кл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S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тор сетевых FS клиентов (не проект F&amp;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ель с продажей продукции клиентам при визи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ый менеджер по продаж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SM/T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альный менеджер по продажам/Менеджер по развитию продаж территор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родающая 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6"/>
          <p:cNvSpPr/>
          <p:nvPr/>
        </p:nvSpPr>
        <p:spPr>
          <a:xfrm>
            <a:off x="894240" y="941760"/>
            <a:ext cx="104032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Aft>
                <a:spcPts val="10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LRUO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DROUT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закция для просмотра атрибутов по маршрутам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0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рархия по заданным маршру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0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10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VDH2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Display customer hierarch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транзакция для просмот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ерархи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psiC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3"/>
          <p:cNvSpPr/>
          <p:nvPr/>
        </p:nvSpPr>
        <p:spPr>
          <a:xfrm>
            <a:off x="0" y="8640"/>
            <a:ext cx="935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"/>
          <p:cNvPicPr/>
          <p:nvPr/>
        </p:nvPicPr>
        <p:blipFill>
          <a:blip r:embed="rId1"/>
          <a:stretch/>
        </p:blipFill>
        <p:spPr>
          <a:xfrm flipH="1">
            <a:off x="9194040" y="3429000"/>
            <a:ext cx="2478960" cy="320940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9" descr="Лупа"/>
          <p:cNvPicPr/>
          <p:nvPr/>
        </p:nvPicPr>
        <p:blipFill>
          <a:blip r:embed="rId2"/>
          <a:stretch/>
        </p:blipFill>
        <p:spPr>
          <a:xfrm>
            <a:off x="83880" y="916560"/>
            <a:ext cx="914040" cy="91404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1"/>
          <p:cNvSpPr/>
          <p:nvPr/>
        </p:nvSpPr>
        <p:spPr>
          <a:xfrm>
            <a:off x="3524040" y="3686040"/>
            <a:ext cx="6095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ий почтовый ящ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PA - ESSA S-Hierarchy RUS {PI} </a:t>
            </a:r>
            <a:r>
              <a:rPr b="0" lang="pt-BR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vrnrtshier@pepsi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0" y="8640"/>
            <a:ext cx="913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ерархия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PepsiCo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в системе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: Rounded Corners 3"/>
          <p:cNvSpPr/>
          <p:nvPr/>
        </p:nvSpPr>
        <p:spPr>
          <a:xfrm>
            <a:off x="321120" y="959400"/>
            <a:ext cx="5774400" cy="1705680"/>
          </a:xfrm>
          <a:prstGeom prst="roundRect">
            <a:avLst>
              <a:gd name="adj" fmla="val 10104"/>
            </a:avLst>
          </a:prstGeom>
          <a:solidFill>
            <a:schemeClr val="accent1">
              <a:lumMod val="20000"/>
              <a:lumOff val="80000"/>
            </a:schemeClr>
          </a:solidFill>
          <a:ln w="19050">
            <a:solidFill>
              <a:srgbClr val="5b9bd5">
                <a:lumMod val="75000"/>
              </a:srgbClr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ерархи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PepsiC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в систем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P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меет 8 уров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оссия в глобальной баз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p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3…L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Наполнение согласн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Маршр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657986339"/>
              </p:ext>
            </p:extLst>
          </p:nvPr>
        </p:nvGraphicFramePr>
        <p:xfrm>
          <a:off x="-78840" y="3012840"/>
          <a:ext cx="13140360" cy="3593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72" name="Picture 18" descr="A close up of a sign&#10;&#10;Description generated with high confidence"/>
          <p:cNvPicPr/>
          <p:nvPr/>
        </p:nvPicPr>
        <p:blipFill>
          <a:blip r:embed="rId6"/>
          <a:stretch/>
        </p:blipFill>
        <p:spPr>
          <a:xfrm flipH="1">
            <a:off x="531360" y="4622760"/>
            <a:ext cx="2010960" cy="1879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A drawing of a face&#10;&#10;Description generated with high confidence"/>
          <p:cNvPicPr/>
          <p:nvPr/>
        </p:nvPicPr>
        <p:blipFill>
          <a:blip r:embed="rId7"/>
          <a:stretch/>
        </p:blipFill>
        <p:spPr>
          <a:xfrm>
            <a:off x="7036560" y="1812600"/>
            <a:ext cx="1151280" cy="1199880"/>
          </a:xfrm>
          <a:prstGeom prst="rect">
            <a:avLst/>
          </a:prstGeom>
          <a:ln w="0">
            <a:noFill/>
          </a:ln>
        </p:spPr>
      </p:pic>
      <p:sp>
        <p:nvSpPr>
          <p:cNvPr id="174" name="Облачко с текстом: прямоугольное со скругленными углами 1"/>
          <p:cNvSpPr/>
          <p:nvPr/>
        </p:nvSpPr>
        <p:spPr>
          <a:xfrm flipH="1">
            <a:off x="9613440" y="1109160"/>
            <a:ext cx="2256120" cy="1303200"/>
          </a:xfrm>
          <a:prstGeom prst="wedgeRoundRectCallout">
            <a:avLst>
              <a:gd name="adj1" fmla="val -8842"/>
              <a:gd name="adj2" fmla="val 76101"/>
              <a:gd name="adj3" fmla="val 16667"/>
            </a:avLst>
          </a:prstGeom>
          <a:solidFill>
            <a:srgbClr val="e7f0f9"/>
          </a:solidFill>
          <a:ln w="38100">
            <a:solidFill>
              <a:srgbClr val="4472c4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де посмотре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VDH2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Display custo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ierarc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: скругленные углы 26"/>
          <p:cNvSpPr/>
          <p:nvPr/>
        </p:nvSpPr>
        <p:spPr>
          <a:xfrm>
            <a:off x="57600" y="857160"/>
            <a:ext cx="10002600" cy="4682880"/>
          </a:xfrm>
          <a:prstGeom prst="roundRect">
            <a:avLst>
              <a:gd name="adj" fmla="val 3319"/>
            </a:avLst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8880" y="0"/>
            <a:ext cx="813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мер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ерархии проекта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eSell PO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-99720" y="857160"/>
            <a:ext cx="564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 транзакции VDH2N – Display customer hierarch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 flipH="1">
            <a:off x="10114560" y="4967640"/>
            <a:ext cx="2019600" cy="16448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"/>
          <p:cNvPicPr/>
          <p:nvPr/>
        </p:nvPicPr>
        <p:blipFill>
          <a:blip r:embed="rId2"/>
          <a:stretch/>
        </p:blipFill>
        <p:spPr>
          <a:xfrm>
            <a:off x="196920" y="1226520"/>
            <a:ext cx="4590720" cy="412884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7"/>
          <p:cNvSpPr/>
          <p:nvPr/>
        </p:nvSpPr>
        <p:spPr>
          <a:xfrm>
            <a:off x="5035680" y="1317600"/>
            <a:ext cx="474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Россия в глобальной баз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p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8"/>
          <p:cNvSpPr/>
          <p:nvPr/>
        </p:nvSpPr>
        <p:spPr>
          <a:xfrm>
            <a:off x="4969080" y="1536840"/>
            <a:ext cx="367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l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psiC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9"/>
          <p:cNvSpPr/>
          <p:nvPr/>
        </p:nvSpPr>
        <p:spPr>
          <a:xfrm>
            <a:off x="4973400" y="2110680"/>
            <a:ext cx="426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рорегион (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SD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авая фигурная скобка 10"/>
          <p:cNvSpPr/>
          <p:nvPr/>
        </p:nvSpPr>
        <p:spPr>
          <a:xfrm>
            <a:off x="4787640" y="1819440"/>
            <a:ext cx="143640" cy="951480"/>
          </a:xfrm>
          <a:prstGeom prst="rightBrace">
            <a:avLst>
              <a:gd name="adj1" fmla="val 8333"/>
              <a:gd name="adj2" fmla="val 50000"/>
            </a:avLst>
          </a:prstGeom>
          <a:noFill/>
          <a:ln w="190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1"/>
          <p:cNvSpPr/>
          <p:nvPr/>
        </p:nvSpPr>
        <p:spPr>
          <a:xfrm>
            <a:off x="4968360" y="2700360"/>
            <a:ext cx="363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разделение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2"/>
          <p:cNvSpPr/>
          <p:nvPr/>
        </p:nvSpPr>
        <p:spPr>
          <a:xfrm>
            <a:off x="4969440" y="3533760"/>
            <a:ext cx="3662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гион (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SM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авая фигурная скобка 13"/>
          <p:cNvSpPr/>
          <p:nvPr/>
        </p:nvSpPr>
        <p:spPr>
          <a:xfrm>
            <a:off x="4787640" y="3069720"/>
            <a:ext cx="143640" cy="1307880"/>
          </a:xfrm>
          <a:prstGeom prst="rightBrace">
            <a:avLst>
              <a:gd name="adj1" fmla="val 8333"/>
              <a:gd name="adj2" fmla="val 50000"/>
            </a:avLst>
          </a:prstGeom>
          <a:noFill/>
          <a:ln w="190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4"/>
          <p:cNvSpPr/>
          <p:nvPr/>
        </p:nvSpPr>
        <p:spPr>
          <a:xfrm>
            <a:off x="4963320" y="4367160"/>
            <a:ext cx="2619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Город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авая фигурная скобка 16"/>
          <p:cNvSpPr/>
          <p:nvPr/>
        </p:nvSpPr>
        <p:spPr>
          <a:xfrm>
            <a:off x="4787640" y="4377960"/>
            <a:ext cx="143640" cy="369000"/>
          </a:xfrm>
          <a:prstGeom prst="rightBrace">
            <a:avLst>
              <a:gd name="adj1" fmla="val 8333"/>
              <a:gd name="adj2" fmla="val 50000"/>
            </a:avLst>
          </a:prstGeom>
          <a:noFill/>
          <a:ln w="190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4975920" y="4659840"/>
            <a:ext cx="476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маршрутов (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S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"/>
          <p:cNvSpPr/>
          <p:nvPr/>
        </p:nvSpPr>
        <p:spPr>
          <a:xfrm>
            <a:off x="4961160" y="5013360"/>
            <a:ext cx="242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Маршр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авая фигурная скобка 21"/>
          <p:cNvSpPr/>
          <p:nvPr/>
        </p:nvSpPr>
        <p:spPr>
          <a:xfrm>
            <a:off x="4787640" y="4967640"/>
            <a:ext cx="143640" cy="369000"/>
          </a:xfrm>
          <a:prstGeom prst="rightBrace">
            <a:avLst>
              <a:gd name="adj1" fmla="val 8333"/>
              <a:gd name="adj2" fmla="val 50000"/>
            </a:avLst>
          </a:prstGeom>
          <a:noFill/>
          <a:ln w="1905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единительная линия 22"/>
          <p:cNvCxnSpPr/>
          <p:nvPr/>
        </p:nvCxnSpPr>
        <p:spPr>
          <a:xfrm flipH="1">
            <a:off x="4775760" y="1508760"/>
            <a:ext cx="25236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cxnSp>
        <p:nvCxnSpPr>
          <p:cNvPr id="193" name="Прямая соединительная линия 27"/>
          <p:cNvCxnSpPr/>
          <p:nvPr/>
        </p:nvCxnSpPr>
        <p:spPr>
          <a:xfrm flipH="1">
            <a:off x="4775760" y="1721520"/>
            <a:ext cx="25236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cxnSp>
        <p:nvCxnSpPr>
          <p:cNvPr id="194" name="Прямая соединительная линия 28"/>
          <p:cNvCxnSpPr/>
          <p:nvPr/>
        </p:nvCxnSpPr>
        <p:spPr>
          <a:xfrm flipH="1">
            <a:off x="4775760" y="2885400"/>
            <a:ext cx="25236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  <p:cxnSp>
        <p:nvCxnSpPr>
          <p:cNvPr id="195" name="Прямая соединительная линия 29"/>
          <p:cNvCxnSpPr/>
          <p:nvPr/>
        </p:nvCxnSpPr>
        <p:spPr>
          <a:xfrm flipH="1">
            <a:off x="4775760" y="4863600"/>
            <a:ext cx="252360" cy="360"/>
          </a:xfrm>
          <a:prstGeom prst="straightConnector1">
            <a:avLst/>
          </a:prstGeom>
          <a:ln w="19050">
            <a:solidFill>
              <a:srgbClr val="00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: скругленные углы 6"/>
          <p:cNvSpPr/>
          <p:nvPr/>
        </p:nvSpPr>
        <p:spPr>
          <a:xfrm>
            <a:off x="1982160" y="2570400"/>
            <a:ext cx="7934040" cy="2197440"/>
          </a:xfrm>
          <a:prstGeom prst="roundRect">
            <a:avLst>
              <a:gd name="adj" fmla="val 7509"/>
            </a:avLst>
          </a:prstGeom>
          <a:solidFill>
            <a:schemeClr val="accent2">
              <a:lumMod val="60000"/>
              <a:lumOff val="40000"/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62626"/>
                </a:solidFill>
                <a:latin typeface="Calibri"/>
              </a:rPr>
              <a:t>Общие технические уз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: скругленные углы 7"/>
          <p:cNvSpPr/>
          <p:nvPr/>
        </p:nvSpPr>
        <p:spPr>
          <a:xfrm>
            <a:off x="1982160" y="4945320"/>
            <a:ext cx="7934040" cy="1425960"/>
          </a:xfrm>
          <a:prstGeom prst="roundRect">
            <a:avLst>
              <a:gd name="adj" fmla="val 7509"/>
            </a:avLst>
          </a:prstGeom>
          <a:solidFill>
            <a:schemeClr val="accent6">
              <a:lumMod val="60000"/>
              <a:lumOff val="40000"/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Технические узлы </a:t>
            </a:r>
            <a:r>
              <a:rPr b="1" lang="en-US" sz="1800" spc="-1" strike="noStrike">
                <a:solidFill>
                  <a:srgbClr val="262626"/>
                </a:solidFill>
                <a:latin typeface="Calibri"/>
              </a:rPr>
              <a:t>Dis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: скругленные углы 5"/>
          <p:cNvSpPr/>
          <p:nvPr/>
        </p:nvSpPr>
        <p:spPr>
          <a:xfrm>
            <a:off x="1982160" y="952920"/>
            <a:ext cx="7934040" cy="1425960"/>
          </a:xfrm>
          <a:prstGeom prst="roundRect">
            <a:avLst>
              <a:gd name="adj" fmla="val 7509"/>
            </a:avLst>
          </a:prstGeom>
          <a:solidFill>
            <a:schemeClr val="accent1">
              <a:lumMod val="60000"/>
              <a:lumOff val="40000"/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62626"/>
                </a:solidFill>
                <a:latin typeface="Calibri"/>
              </a:rPr>
              <a:t>Узлы </a:t>
            </a: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8"/>
          <p:cNvGrpSpPr/>
          <p:nvPr/>
        </p:nvGrpSpPr>
        <p:grpSpPr>
          <a:xfrm>
            <a:off x="3129480" y="954360"/>
            <a:ext cx="6787080" cy="615960"/>
            <a:chOff x="3129480" y="954360"/>
            <a:chExt cx="6787080" cy="615960"/>
          </a:xfrm>
        </p:grpSpPr>
        <p:sp>
          <p:nvSpPr>
            <p:cNvPr id="200" name="Стрелка: пятиугольник 34"/>
            <p:cNvSpPr/>
            <p:nvPr/>
          </p:nvSpPr>
          <p:spPr>
            <a:xfrm rot="10800000">
              <a:off x="3129480" y="95400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5b9bd5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Стрелка: пятиугольник 4"/>
            <p:cNvSpPr/>
            <p:nvPr/>
          </p:nvSpPr>
          <p:spPr>
            <a:xfrm>
              <a:off x="3322800" y="95436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лы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 DS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Овал 9"/>
          <p:cNvSpPr/>
          <p:nvPr/>
        </p:nvSpPr>
        <p:spPr>
          <a:xfrm>
            <a:off x="2820960" y="954360"/>
            <a:ext cx="615960" cy="61596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10"/>
          <p:cNvGrpSpPr/>
          <p:nvPr/>
        </p:nvGrpSpPr>
        <p:grpSpPr>
          <a:xfrm>
            <a:off x="3129480" y="1754280"/>
            <a:ext cx="6787080" cy="616320"/>
            <a:chOff x="3129480" y="1754280"/>
            <a:chExt cx="6787080" cy="616320"/>
          </a:xfrm>
        </p:grpSpPr>
        <p:sp>
          <p:nvSpPr>
            <p:cNvPr id="204" name="Стрелка: пятиугольник 32"/>
            <p:cNvSpPr/>
            <p:nvPr/>
          </p:nvSpPr>
          <p:spPr>
            <a:xfrm rot="10800000">
              <a:off x="3129480" y="175428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5b9bd5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Стрелка: пятиугольник 7"/>
            <p:cNvSpPr/>
            <p:nvPr/>
          </p:nvSpPr>
          <p:spPr>
            <a:xfrm>
              <a:off x="3322800" y="175428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лы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 </a:t>
              </a: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дистрибьюто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Овал 11"/>
          <p:cNvSpPr/>
          <p:nvPr/>
        </p:nvSpPr>
        <p:spPr>
          <a:xfrm>
            <a:off x="2820960" y="1754280"/>
            <a:ext cx="615960" cy="61596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12"/>
          <p:cNvGrpSpPr/>
          <p:nvPr/>
        </p:nvGrpSpPr>
        <p:grpSpPr>
          <a:xfrm>
            <a:off x="3129480" y="2554560"/>
            <a:ext cx="6787080" cy="616320"/>
            <a:chOff x="3129480" y="2554560"/>
            <a:chExt cx="6787080" cy="616320"/>
          </a:xfrm>
        </p:grpSpPr>
        <p:sp>
          <p:nvSpPr>
            <p:cNvPr id="208" name="Стрелка: пятиугольник 30"/>
            <p:cNvSpPr/>
            <p:nvPr/>
          </p:nvSpPr>
          <p:spPr>
            <a:xfrm rot="10800000">
              <a:off x="3129480" y="255456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Стрелка: пятиугольник 10"/>
            <p:cNvSpPr/>
            <p:nvPr/>
          </p:nvSpPr>
          <p:spPr>
            <a:xfrm>
              <a:off x="3322800" y="255456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Технический узел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-R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Овал 13"/>
          <p:cNvSpPr/>
          <p:nvPr/>
        </p:nvSpPr>
        <p:spPr>
          <a:xfrm>
            <a:off x="2820960" y="2554560"/>
            <a:ext cx="615960" cy="615960"/>
          </a:xfrm>
          <a:prstGeom prst="ellipse">
            <a:avLst/>
          </a:prstGeom>
          <a:blipFill rotWithShape="0">
            <a:blip r:embed="rId3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Группа 14"/>
          <p:cNvGrpSpPr/>
          <p:nvPr/>
        </p:nvGrpSpPr>
        <p:grpSpPr>
          <a:xfrm>
            <a:off x="3129480" y="3354840"/>
            <a:ext cx="6787080" cy="616320"/>
            <a:chOff x="3129480" y="3354840"/>
            <a:chExt cx="6787080" cy="616320"/>
          </a:xfrm>
        </p:grpSpPr>
        <p:sp>
          <p:nvSpPr>
            <p:cNvPr id="212" name="Стрелка: пятиугольник 28"/>
            <p:cNvSpPr/>
            <p:nvPr/>
          </p:nvSpPr>
          <p:spPr>
            <a:xfrm rot="10800000">
              <a:off x="3129480" y="335484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Стрелка: пятиугольник 13"/>
            <p:cNvSpPr/>
            <p:nvPr/>
          </p:nvSpPr>
          <p:spPr>
            <a:xfrm>
              <a:off x="3322800" y="335484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Сезонный узел/Резервный (для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WB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Овал 15"/>
          <p:cNvSpPr/>
          <p:nvPr/>
        </p:nvSpPr>
        <p:spPr>
          <a:xfrm>
            <a:off x="2820960" y="3354840"/>
            <a:ext cx="615960" cy="615960"/>
          </a:xfrm>
          <a:prstGeom prst="ellipse">
            <a:avLst/>
          </a:prstGeom>
          <a:blipFill rotWithShape="0">
            <a:blip r:embed="rId4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16"/>
          <p:cNvGrpSpPr/>
          <p:nvPr/>
        </p:nvGrpSpPr>
        <p:grpSpPr>
          <a:xfrm>
            <a:off x="3129480" y="4155120"/>
            <a:ext cx="6787080" cy="615960"/>
            <a:chOff x="3129480" y="4155120"/>
            <a:chExt cx="6787080" cy="615960"/>
          </a:xfrm>
        </p:grpSpPr>
        <p:sp>
          <p:nvSpPr>
            <p:cNvPr id="216" name="Стрелка: пятиугольник 26"/>
            <p:cNvSpPr/>
            <p:nvPr/>
          </p:nvSpPr>
          <p:spPr>
            <a:xfrm rot="10800000">
              <a:off x="3129480" y="415476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Стрелка: пятиугольник 16"/>
            <p:cNvSpPr/>
            <p:nvPr/>
          </p:nvSpPr>
          <p:spPr>
            <a:xfrm>
              <a:off x="3322800" y="415512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ел истории прода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Овал 17"/>
          <p:cNvSpPr/>
          <p:nvPr/>
        </p:nvSpPr>
        <p:spPr>
          <a:xfrm>
            <a:off x="2820960" y="4155120"/>
            <a:ext cx="615960" cy="615960"/>
          </a:xfrm>
          <a:prstGeom prst="ellipse">
            <a:avLst/>
          </a:prstGeom>
          <a:blipFill rotWithShape="0">
            <a:blip r:embed="rId5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Группа 18"/>
          <p:cNvGrpSpPr/>
          <p:nvPr/>
        </p:nvGrpSpPr>
        <p:grpSpPr>
          <a:xfrm>
            <a:off x="3129480" y="5350320"/>
            <a:ext cx="6787080" cy="616320"/>
            <a:chOff x="3129480" y="5350320"/>
            <a:chExt cx="6787080" cy="616320"/>
          </a:xfrm>
        </p:grpSpPr>
        <p:sp>
          <p:nvSpPr>
            <p:cNvPr id="220" name="Стрелка: пятиугольник 24"/>
            <p:cNvSpPr/>
            <p:nvPr/>
          </p:nvSpPr>
          <p:spPr>
            <a:xfrm rot="10800000">
              <a:off x="3129480" y="5350320"/>
              <a:ext cx="6787080" cy="615960"/>
            </a:xfrm>
            <a:prstGeom prst="homePlate">
              <a:avLst>
                <a:gd name="adj" fmla="val 50000"/>
              </a:avLst>
            </a:prstGeom>
            <a:solidFill>
              <a:srgbClr val="91c46e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Стрелка: пятиугольник 19"/>
            <p:cNvSpPr/>
            <p:nvPr/>
          </p:nvSpPr>
          <p:spPr>
            <a:xfrm>
              <a:off x="3322800" y="5350320"/>
              <a:ext cx="65937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ел общего прай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Овал 19"/>
          <p:cNvSpPr/>
          <p:nvPr/>
        </p:nvSpPr>
        <p:spPr>
          <a:xfrm>
            <a:off x="2820960" y="5350320"/>
            <a:ext cx="615960" cy="615960"/>
          </a:xfrm>
          <a:prstGeom prst="ellipse">
            <a:avLst/>
          </a:prstGeom>
          <a:blipFill rotWithShape="0">
            <a:blip r:embed="rId6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лассификация уровней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7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проекта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PreSell PO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: скругленные углы 7"/>
          <p:cNvSpPr/>
          <p:nvPr/>
        </p:nvSpPr>
        <p:spPr>
          <a:xfrm>
            <a:off x="625320" y="1245600"/>
            <a:ext cx="10565280" cy="2449080"/>
          </a:xfrm>
          <a:prstGeom prst="roundRect">
            <a:avLst>
              <a:gd name="adj" fmla="val 6043"/>
            </a:avLst>
          </a:prstGeom>
          <a:solidFill>
            <a:srgbClr val="e7f0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ел, к которому привязаны только рабочие маршруты (с активными ВП), находящиеся в зоне ответственности одного из TSM DS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«TSM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квенный код локации DS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квенный код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TSMV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Группа 3"/>
          <p:cNvGrpSpPr/>
          <p:nvPr/>
        </p:nvGrpSpPr>
        <p:grpSpPr>
          <a:xfrm>
            <a:off x="691200" y="937440"/>
            <a:ext cx="10499400" cy="616320"/>
            <a:chOff x="691200" y="937440"/>
            <a:chExt cx="10499400" cy="616320"/>
          </a:xfrm>
        </p:grpSpPr>
        <p:sp>
          <p:nvSpPr>
            <p:cNvPr id="226" name="Стрелка: пятиугольник 5"/>
            <p:cNvSpPr/>
            <p:nvPr/>
          </p:nvSpPr>
          <p:spPr>
            <a:xfrm rot="10800000">
              <a:off x="691200" y="937440"/>
              <a:ext cx="10499400" cy="615960"/>
            </a:xfrm>
            <a:prstGeom prst="homePlate">
              <a:avLst>
                <a:gd name="adj" fmla="val 50000"/>
              </a:avLst>
            </a:prstGeom>
            <a:solidFill>
              <a:srgbClr val="5b9bd5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трелка: пятиугольник 4"/>
            <p:cNvSpPr/>
            <p:nvPr/>
          </p:nvSpPr>
          <p:spPr>
            <a:xfrm>
              <a:off x="990000" y="937440"/>
              <a:ext cx="102002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лы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 DS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Овал 4"/>
          <p:cNvSpPr/>
          <p:nvPr/>
        </p:nvSpPr>
        <p:spPr>
          <a:xfrm>
            <a:off x="382680" y="937440"/>
            <a:ext cx="615960" cy="61596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: скругленные углы 8"/>
          <p:cNvSpPr/>
          <p:nvPr/>
        </p:nvSpPr>
        <p:spPr>
          <a:xfrm>
            <a:off x="625320" y="4225320"/>
            <a:ext cx="10565280" cy="2427120"/>
          </a:xfrm>
          <a:prstGeom prst="roundRect">
            <a:avLst>
              <a:gd name="adj" fmla="val 6043"/>
            </a:avLst>
          </a:prstGeom>
          <a:solidFill>
            <a:srgbClr val="e7f0f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ел, к которому привязаны только рабочие маршруты (с активными ВП), находящиеся в зоне ответственности одного из TSM Дистрибью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«TSM»_City_«PO1+»_Номер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TSM_VOLGOGRAD_PO1+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Группа 9"/>
          <p:cNvGrpSpPr/>
          <p:nvPr/>
        </p:nvGrpSpPr>
        <p:grpSpPr>
          <a:xfrm>
            <a:off x="691200" y="3917160"/>
            <a:ext cx="10499400" cy="616320"/>
            <a:chOff x="691200" y="3917160"/>
            <a:chExt cx="10499400" cy="616320"/>
          </a:xfrm>
        </p:grpSpPr>
        <p:sp>
          <p:nvSpPr>
            <p:cNvPr id="231" name="Стрелка: пятиугольник 10"/>
            <p:cNvSpPr/>
            <p:nvPr/>
          </p:nvSpPr>
          <p:spPr>
            <a:xfrm rot="10800000">
              <a:off x="691200" y="3917160"/>
              <a:ext cx="10499400" cy="615960"/>
            </a:xfrm>
            <a:prstGeom prst="homePlate">
              <a:avLst>
                <a:gd name="adj" fmla="val 50000"/>
              </a:avLst>
            </a:prstGeom>
            <a:solidFill>
              <a:srgbClr val="5b9bd5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Стрелка: пятиугольник 4"/>
            <p:cNvSpPr/>
            <p:nvPr/>
          </p:nvSpPr>
          <p:spPr>
            <a:xfrm>
              <a:off x="990000" y="3917160"/>
              <a:ext cx="102002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лы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 </a:t>
              </a: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дистрибьюто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Овал 12"/>
          <p:cNvSpPr/>
          <p:nvPr/>
        </p:nvSpPr>
        <p:spPr>
          <a:xfrm>
            <a:off x="382680" y="3917160"/>
            <a:ext cx="615960" cy="61596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3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Узлы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: скругленные углы 24"/>
          <p:cNvSpPr/>
          <p:nvPr/>
        </p:nvSpPr>
        <p:spPr>
          <a:xfrm>
            <a:off x="308160" y="5103720"/>
            <a:ext cx="11297160" cy="1646640"/>
          </a:xfrm>
          <a:prstGeom prst="roundRect">
            <a:avLst>
              <a:gd name="adj" fmla="val 4769"/>
            </a:avLst>
          </a:prstGeom>
          <a:solidFill>
            <a:srgbClr val="fdf0e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ический узел для истории продаж, на котором стоят только маршруты с кодировкой RUXX.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«TSM_PSD_HISTORY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: скругленные углы 23"/>
          <p:cNvSpPr/>
          <p:nvPr/>
        </p:nvSpPr>
        <p:spPr>
          <a:xfrm>
            <a:off x="308160" y="3032280"/>
            <a:ext cx="11297160" cy="1646640"/>
          </a:xfrm>
          <a:prstGeom prst="roundRect">
            <a:avLst>
              <a:gd name="adj" fmla="val 4769"/>
            </a:avLst>
          </a:prstGeom>
          <a:solidFill>
            <a:srgbClr val="fdf0e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ический узел, на котором находятся: Сезонные маршруты DSD (РО1) и дистрибьюторов + свободные маршруты (без активных В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Сity_SEASON, д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D Name = City_RES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MSK_SEASON, OMSK_RES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: скругленные углы 7"/>
          <p:cNvSpPr/>
          <p:nvPr/>
        </p:nvSpPr>
        <p:spPr>
          <a:xfrm>
            <a:off x="384480" y="1002960"/>
            <a:ext cx="11297160" cy="1646640"/>
          </a:xfrm>
          <a:prstGeom prst="roundRect">
            <a:avLst>
              <a:gd name="adj" fmla="val 4769"/>
            </a:avLst>
          </a:prstGeom>
          <a:solidFill>
            <a:srgbClr val="fdf0e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узлу привязаны только рабочие маршруты (с активными ВП), продажи с которых идут напрямую на R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ame =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City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ровень L6), для MSK и SPB - Name = Слой (Уровень L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VOLGOGRAD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MSK и SPB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SC_F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B_LO_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3"/>
          <p:cNvGrpSpPr/>
          <p:nvPr/>
        </p:nvGrpSpPr>
        <p:grpSpPr>
          <a:xfrm>
            <a:off x="384840" y="694800"/>
            <a:ext cx="11297160" cy="616320"/>
            <a:chOff x="384840" y="694800"/>
            <a:chExt cx="11297160" cy="616320"/>
          </a:xfrm>
        </p:grpSpPr>
        <p:sp>
          <p:nvSpPr>
            <p:cNvPr id="239" name="Стрелка: пятиугольник 5"/>
            <p:cNvSpPr/>
            <p:nvPr/>
          </p:nvSpPr>
          <p:spPr>
            <a:xfrm rot="10800000">
              <a:off x="384840" y="694800"/>
              <a:ext cx="1129716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Стрелка: пятиугольник 4"/>
            <p:cNvSpPr/>
            <p:nvPr/>
          </p:nvSpPr>
          <p:spPr>
            <a:xfrm>
              <a:off x="706320" y="694800"/>
              <a:ext cx="109749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Технический узел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TSM-R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Овал 4"/>
          <p:cNvSpPr/>
          <p:nvPr/>
        </p:nvSpPr>
        <p:spPr>
          <a:xfrm>
            <a:off x="76320" y="694800"/>
            <a:ext cx="615960" cy="61596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Группа 13"/>
          <p:cNvGrpSpPr/>
          <p:nvPr/>
        </p:nvGrpSpPr>
        <p:grpSpPr>
          <a:xfrm>
            <a:off x="308520" y="2724120"/>
            <a:ext cx="11297160" cy="616320"/>
            <a:chOff x="308520" y="2724120"/>
            <a:chExt cx="11297160" cy="616320"/>
          </a:xfrm>
        </p:grpSpPr>
        <p:sp>
          <p:nvSpPr>
            <p:cNvPr id="243" name="Стрелка: пятиугольник 14"/>
            <p:cNvSpPr/>
            <p:nvPr/>
          </p:nvSpPr>
          <p:spPr>
            <a:xfrm rot="10800000">
              <a:off x="308520" y="2724120"/>
              <a:ext cx="1129716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Стрелка: пятиугольник 4"/>
            <p:cNvSpPr/>
            <p:nvPr/>
          </p:nvSpPr>
          <p:spPr>
            <a:xfrm>
              <a:off x="630000" y="2724120"/>
              <a:ext cx="109749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Сезонный узел/ Резервный (для </a:t>
              </a:r>
              <a:r>
                <a:rPr b="1" lang="en-US" sz="2800" spc="-1" strike="noStrike">
                  <a:solidFill>
                    <a:srgbClr val="404040"/>
                  </a:solidFill>
                  <a:latin typeface="Calibri"/>
                </a:rPr>
                <a:t>WB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Овал 16"/>
          <p:cNvSpPr/>
          <p:nvPr/>
        </p:nvSpPr>
        <p:spPr>
          <a:xfrm>
            <a:off x="0" y="2724120"/>
            <a:ext cx="615960" cy="61596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Группа 18"/>
          <p:cNvGrpSpPr/>
          <p:nvPr/>
        </p:nvGrpSpPr>
        <p:grpSpPr>
          <a:xfrm>
            <a:off x="308520" y="4795560"/>
            <a:ext cx="11297160" cy="616320"/>
            <a:chOff x="308520" y="4795560"/>
            <a:chExt cx="11297160" cy="616320"/>
          </a:xfrm>
        </p:grpSpPr>
        <p:sp>
          <p:nvSpPr>
            <p:cNvPr id="247" name="Стрелка: пятиугольник 19"/>
            <p:cNvSpPr/>
            <p:nvPr/>
          </p:nvSpPr>
          <p:spPr>
            <a:xfrm rot="10800000">
              <a:off x="308520" y="4795560"/>
              <a:ext cx="11297160" cy="615960"/>
            </a:xfrm>
            <a:prstGeom prst="homePlate">
              <a:avLst>
                <a:gd name="adj" fmla="val 50000"/>
              </a:avLst>
            </a:prstGeom>
            <a:solidFill>
              <a:srgbClr val="f19b61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Стрелка: пятиугольник 4"/>
            <p:cNvSpPr/>
            <p:nvPr/>
          </p:nvSpPr>
          <p:spPr>
            <a:xfrm>
              <a:off x="630000" y="4795560"/>
              <a:ext cx="1097496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ел истории прода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Овал 21"/>
          <p:cNvSpPr/>
          <p:nvPr/>
        </p:nvSpPr>
        <p:spPr>
          <a:xfrm>
            <a:off x="0" y="4795560"/>
            <a:ext cx="615960" cy="615960"/>
          </a:xfrm>
          <a:prstGeom prst="ellipse">
            <a:avLst/>
          </a:prstGeom>
          <a:blipFill rotWithShape="0">
            <a:blip r:embed="rId3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5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бщие технические уз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: скругленные углы 13"/>
          <p:cNvSpPr/>
          <p:nvPr/>
        </p:nvSpPr>
        <p:spPr>
          <a:xfrm>
            <a:off x="608400" y="1320120"/>
            <a:ext cx="8724600" cy="2262240"/>
          </a:xfrm>
          <a:prstGeom prst="roundRect">
            <a:avLst>
              <a:gd name="adj" fmla="val 7509"/>
            </a:avLst>
          </a:prstGeom>
          <a:solidFill>
            <a:srgbClr val="d6e9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исание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ический узел на территории дистрибьютора, к которому привязаны маршруты общего прай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 наименования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=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S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City_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N_PRIC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SM_VOLGOGRAD_COMMON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3"/>
          <p:cNvGrpSpPr/>
          <p:nvPr/>
        </p:nvGrpSpPr>
        <p:grpSpPr>
          <a:xfrm>
            <a:off x="608760" y="1012320"/>
            <a:ext cx="8724600" cy="615960"/>
            <a:chOff x="608760" y="1012320"/>
            <a:chExt cx="8724600" cy="615960"/>
          </a:xfrm>
        </p:grpSpPr>
        <p:sp>
          <p:nvSpPr>
            <p:cNvPr id="253" name="Стрелка: пятиугольник 5"/>
            <p:cNvSpPr/>
            <p:nvPr/>
          </p:nvSpPr>
          <p:spPr>
            <a:xfrm rot="10800000">
              <a:off x="608760" y="1011960"/>
              <a:ext cx="8724600" cy="615960"/>
            </a:xfrm>
            <a:prstGeom prst="homePlate">
              <a:avLst>
                <a:gd name="adj" fmla="val 50000"/>
              </a:avLst>
            </a:prstGeom>
            <a:solidFill>
              <a:srgbClr val="91c46e"/>
            </a:solidFill>
            <a:ln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Стрелка: пятиугольник 4"/>
            <p:cNvSpPr/>
            <p:nvPr/>
          </p:nvSpPr>
          <p:spPr>
            <a:xfrm>
              <a:off x="857160" y="1012320"/>
              <a:ext cx="84762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271800" rIns="199080" tIns="106560" bIns="106560" anchor="ctr">
              <a:noAutofit/>
            </a:bodyPr>
            <a:p>
              <a:pPr>
                <a:lnSpc>
                  <a:spcPct val="9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ru-RU" sz="2800" spc="-1" strike="noStrike">
                  <a:solidFill>
                    <a:srgbClr val="404040"/>
                  </a:solidFill>
                  <a:latin typeface="Calibri"/>
                </a:rPr>
                <a:t>Узел общего прай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Овал 4"/>
          <p:cNvSpPr/>
          <p:nvPr/>
        </p:nvSpPr>
        <p:spPr>
          <a:xfrm>
            <a:off x="300240" y="1012320"/>
            <a:ext cx="615960" cy="61596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Технические узлы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Dist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9425880" y="4296960"/>
            <a:ext cx="27658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: скругленные углы 7"/>
          <p:cNvSpPr/>
          <p:nvPr/>
        </p:nvSpPr>
        <p:spPr>
          <a:xfrm>
            <a:off x="378000" y="1613160"/>
            <a:ext cx="8835840" cy="3605760"/>
          </a:xfrm>
          <a:prstGeom prst="roundRect">
            <a:avLst>
              <a:gd name="adj" fmla="val 5283"/>
            </a:avLst>
          </a:prstGeom>
          <a:solidFill>
            <a:schemeClr val="accent1">
              <a:alpha val="50000"/>
            </a:schemeClr>
          </a:solidFill>
          <a:ln w="0">
            <a:solidFill>
              <a:srgbClr val="5b9bd5">
                <a:lumMod val="75000"/>
              </a:srgbClr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821160" y="1613160"/>
            <a:ext cx="431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 транзакции VDH2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2" descr=""/>
          <p:cNvPicPr/>
          <p:nvPr/>
        </p:nvPicPr>
        <p:blipFill>
          <a:blip r:embed="rId1"/>
          <a:stretch/>
        </p:blipFill>
        <p:spPr>
          <a:xfrm>
            <a:off x="682560" y="2144880"/>
            <a:ext cx="3935520" cy="2883600"/>
          </a:xfrm>
          <a:prstGeom prst="rect">
            <a:avLst/>
          </a:prstGeom>
          <a:ln w="0">
            <a:solidFill>
              <a:srgbClr val="5b9bd5">
                <a:lumMod val="75000"/>
              </a:srgbClr>
            </a:solidFill>
          </a:ln>
        </p:spPr>
      </p:pic>
      <p:sp>
        <p:nvSpPr>
          <p:cNvPr id="261" name="TextBox 5"/>
          <p:cNvSpPr/>
          <p:nvPr/>
        </p:nvSpPr>
        <p:spPr>
          <a:xfrm>
            <a:off x="4618440" y="2383920"/>
            <a:ext cx="452412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 DSD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 DSD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истории продаж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общего прай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 Distr. 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«1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 Distr.</a:t>
            </a: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«2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Технический узел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TSM-RS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Сезонный узе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0" y="45000"/>
            <a:ext cx="9591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мер Уровней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L7 S-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ерархии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9" descr=""/>
          <p:cNvPicPr/>
          <p:nvPr/>
        </p:nvPicPr>
        <p:blipFill>
          <a:blip r:embed="rId2"/>
          <a:stretch/>
        </p:blipFill>
        <p:spPr>
          <a:xfrm>
            <a:off x="8750520" y="689400"/>
            <a:ext cx="356220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SharedWithUsers xmlns="9fd941dd-f197-4241-8c30-a052fbfc5987">
      <UserInfo>
        <DisplayName>Sermagambetov, Marat {PI}</DisplayName>
        <AccountId>198</AccountId>
        <AccountType/>
      </UserInfo>
    </SharedWithUsers>
  </documentManagement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39D65F2BBBA6B84DA4B2E08162DF45C9" ma:contentTypeVersion="4" ma:contentTypeDescription="Create a new document." ma:contentTypeScope="" ma:versionID="9b52689eea8437a956116b29e351afdc">
  <xsd:schema xmlns:xsd="http://www.w3.org/2001/XMLSchema" xmlns:xs="http://www.w3.org/2001/XMLSchema" xmlns:p="http://schemas.microsoft.com/office/2006/metadata/properties" xmlns:ns2="2c7ad82d-3f55-4ea7-a6be-be2c6bdac019" xmlns:ns3="9fd941dd-f197-4241-8c30-a052fbfc5987" targetNamespace="http://schemas.microsoft.com/office/2006/metadata/properties" ma:root="true" ma:fieldsID="c841a3fe19fd223b3b2622cd75244606" ns2:_="" ns3:_="">
    <xsd:import namespace="2c7ad82d-3f55-4ea7-a6be-be2c6bdac019"/>
    <xsd:import namespace="9fd941dd-f197-4241-8c30-a052fbfc5987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3:SharedWithUsers" minOccurs="0"/>
                <xsd:element ref="ns3:SharedWithDetails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2c7ad82d-3f55-4ea7-a6be-be2c6bdac019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9fd941dd-f197-4241-8c30-a052fbfc5987" elementFormDefault="qualified">
    <xsd:import namespace="http://schemas.microsoft.com/office/2006/documentManagement/types"/>
    <xsd:import namespace="http://schemas.microsoft.com/office/infopath/2007/PartnerControls"/>
    <xsd:element name="SharedWithUsers" ma:index="10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1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2C2C65F0-4900-4955-A920-97927D2B68E8}">
  <ds:schemaRefs>
    <ds:schemaRef ds:uri="http://purl.org/dc/dcmitype/"/>
    <ds:schemaRef ds:uri="http://schemas.microsoft.com/office/infopath/2007/PartnerControls"/>
    <ds:schemaRef ds:uri="2c7ad82d-3f55-4ea7-a6be-be2c6bdac019"/>
    <ds:schemaRef ds:uri="http://schemas.microsoft.com/office/2006/metadata/properties"/>
    <ds:schemaRef ds:uri="9fd941dd-f197-4241-8c30-a052fbfc5987"/>
    <ds:schemaRef ds:uri="http://purl.org/dc/terms/"/>
    <ds:schemaRef ds:uri="http://schemas.microsoft.com/office/2006/documentManagement/types"/>
    <ds:schemaRef ds:uri="http://schemas.openxmlformats.org/package/2006/metadata/core-properties"/>
    <ds:schemaRef ds:uri="http://purl.org/dc/elements/1.1/"/>
    <ds:schemaRef ds:uri="http://www.w3.org/XML/1998/namespace"/>
  </ds:schemaRefs>
</ds:datastoreItem>
</file>

<file path=customXml/itemProps2.xml><?xml version="1.0" encoding="utf-8"?>
<ds:datastoreItem xmlns:ds="http://schemas.openxmlformats.org/officeDocument/2006/customXml" ds:itemID="{2673913D-2B5A-494F-85D4-E961533BE068}">
  <ds:schemaRefs>
    <ds:schemaRef ds:uri="2c7ad82d-3f55-4ea7-a6be-be2c6bdac019"/>
    <ds:schemaRef ds:uri="9fd941dd-f197-4241-8c30-a052fbfc5987"/>
    <ds:schemaRef ds:uri="http://purl.org/dc/elements/1.1/"/>
    <ds:schemaRef ds:uri="http://purl.org/dc/terms/"/>
    <ds:schemaRef ds:uri="http://schemas.microsoft.com/internal/obd"/>
    <ds:schemaRef ds:uri="http://schemas.microsoft.com/office/2006/documentManagement/types"/>
    <ds:schemaRef ds:uri="http://schemas.microsoft.com/office/2006/metadata/contentType"/>
    <ds:schemaRef ds:uri="http://schemas.microsoft.com/office/2006/metadata/properties"/>
    <ds:schemaRef ds:uri="http://schemas.microsoft.com/office/2006/metadata/properties/metaAttributes"/>
    <ds:schemaRef ds:uri="http://schemas.microsoft.com/office/infopath/2007/PartnerControls"/>
    <ds:schemaRef ds:uri="http://schemas.openxmlformats.org/package/2006/metadata/core-properties"/>
    <ds:schemaRef ds:uri="http://www.w3.org/2001/XMLSchema"/>
  </ds:schemaRefs>
</ds:datastoreItem>
</file>

<file path=customXml/itemProps3.xml><?xml version="1.0" encoding="utf-8"?>
<ds:datastoreItem xmlns:ds="http://schemas.openxmlformats.org/officeDocument/2006/customXml" ds:itemID="{6725B295-58C4-4127-B410-5FBCE8190AF7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  <Words>2400</Words>
  <Paragraphs>5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robkin, Aleksey {PEP}</dc:creator>
  <dc:description/>
  <dc:language>en-US</dc:language>
  <cp:lastModifiedBy>Zuek, Olga {PEP}</cp:lastModifiedBy>
  <dcterms:modified xsi:type="dcterms:W3CDTF">2019-11-21T12:00:49Z</dcterms:modified>
  <cp:revision>3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9D65F2BBBA6B84DA4B2E08162DF45C9</vt:lpwstr>
  </property>
  <property fmtid="{D5CDD505-2E9C-101B-9397-08002B2CF9AE}" pid="3" name="Notes">
    <vt:r8>4</vt:r8>
  </property>
  <property fmtid="{D5CDD505-2E9C-101B-9397-08002B2CF9AE}" pid="4" name="PresentationFormat">
    <vt:lpwstr>Широкоэкранный</vt:lpwstr>
  </property>
  <property fmtid="{D5CDD505-2E9C-101B-9397-08002B2CF9AE}" pid="5" name="Slides">
    <vt:r8>27</vt:r8>
  </property>
</Properties>
</file>