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7.emf" ContentType="image/x-emf"/>
  <Override PartName="/ppt/media/image6.jpeg" ContentType="image/jpeg"/>
  <Override PartName="/ppt/media/image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0708-0BD8-48F1-BADD-D8CCF731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015-16C7-4BB0-96A8-FE6E4AB0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C6EA-FADC-4D49-80D2-DA770011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AE0-4D12-428D-AB19-5EF630D5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8EC-75C7-40C0-8A38-7CA8057C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C94-1735-464B-926F-C0598A8C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000-D4E6-49BC-AFBF-B277C4A6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4C73-70D9-4CC5-A487-73F78737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522-9F08-4AED-9F39-F30F8286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98F-8173-43F9-8615-4FABE7C1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7BF-5ECD-4D18-8EBC-15FC8253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417"/>
              </a:spcAft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42D-4EB6-48C5-B769-0E3363D6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 правки текста заголовка щелкните мышью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правки структуры щелкните мышью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тор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ти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твёрты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яты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ст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дьм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7" marL="3456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сьмой уровень структур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8" marL="3888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вятый уровень структуры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558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79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00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9" marL="4320000" indent="-216000">
              <a:spcBef>
                <a:spcPts val="400"/>
              </a:spcBef>
              <a:spcAft>
                <a:spcPts val="1417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</a:pPr>
            <a:fld id="{790A6FC2-A28B-4B05-BC27-5AD9A9E3AEBA}" type="datetime">
              <a:rPr b="0" lang="ru-RU" sz="1800" spc="-1" strike="noStrike">
                <a:solidFill>
                  <a:srgbClr val="000000"/>
                </a:solidFill>
                <a:latin typeface="Calibri"/>
              </a:rPr>
              <a:t>28.7.26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</a:pPr>
            <a:fld id="{ABF3EA33-36A1-4ABC-AF71-36A695F8F8E3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e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0000" y="-72000"/>
            <a:ext cx="82292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окружающему миру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Экологическая обстановка в нашем кра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38"/>
              </a:spcBef>
              <a:spcAft>
                <a:spcPts val="1417"/>
              </a:spcAft>
              <a:buNone/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роект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: изучить и рассказать об экологических проблемах в Удмуртской Республики и в нашем городе, а так же определить наиболее очевидные пути их решен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38"/>
              </a:spcBef>
              <a:spcAft>
                <a:spcPts val="1417"/>
              </a:spcAft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3"/>
          <p:cNvSpPr/>
          <p:nvPr/>
        </p:nvSpPr>
        <p:spPr>
          <a:xfrm>
            <a:off x="357120" y="214200"/>
            <a:ext cx="857232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288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атмосферного воздуха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288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специфике и количеству выбросов в разных районах и городах различно. Наибольшее число промышленных предприятий, дающих около 90 процентов всех региональных выбросов, в Ижевск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00" y="1801080"/>
            <a:ext cx="9000000" cy="424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744000" y="6204960"/>
            <a:ext cx="3240000" cy="34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тейный завод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ологические проблемы нашего гор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504000" y="1659240"/>
            <a:ext cx="822924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Промышленное загрязнение воздуха и водоемов</a:t>
            </a:r>
            <a:endParaRPr b="0" lang="ru-RU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1"/>
          <p:cNvSpPr/>
          <p:nvPr/>
        </p:nvSpPr>
        <p:spPr>
          <a:xfrm>
            <a:off x="785880" y="4357800"/>
            <a:ext cx="35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5072040" y="4357800"/>
            <a:ext cx="35002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3"/>
          <p:cNvSpPr/>
          <p:nvPr/>
        </p:nvSpPr>
        <p:spPr>
          <a:xfrm>
            <a:off x="2571840" y="6143760"/>
            <a:ext cx="4428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" y="3096000"/>
            <a:ext cx="4015440" cy="3519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080000" y="2448000"/>
            <a:ext cx="2697120" cy="5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ханический завод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92000" y="2301480"/>
            <a:ext cx="4680000" cy="41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Уменьшение бытовых и производственных отходов. 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чистка сточных вод. Современные очистные сооружения позволяют очищать ее до природного состояния.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ереход к чистым источникам энергии. Это означает постепенный отказ от атомной энергии, двигателей и печей, работающих на угле и нефтепродуктах. Использование природного газа, ветровой, солнечной энергии и гидроэлектростанций обеспечивает чистоту атмосферы. Использование биотоплива позволяет значительно снизить концентрацию вредных веществ в выхлопных газах.</a:t>
            </a:r>
            <a:endParaRPr b="0" lang="ru-RU" sz="15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285840" y="428760"/>
            <a:ext cx="8143560" cy="18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/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грязнение земель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algn="just"/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ями тяжелых металлов подвержено около 300 тысяч гектаров. Большой ущерб окружающей среде наносит не правильное, в больших количествах использование минеральных удобрений и химических средств защиты растений от вредителей и болезней, что вызывает серьезные нарушения в круговороте веществ в природе.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16000" y="2232000"/>
            <a:ext cx="8380080" cy="42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ологические проблемы нашего город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</a:rPr>
              <a:t>Загрязнение бытовыми отходами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57200" y="2214720"/>
            <a:ext cx="6643440" cy="44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улучшить экологическую обстановку в город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4214520" cy="2475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214800" y="3429000"/>
            <a:ext cx="5708520" cy="3214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896000" y="2164680"/>
            <a:ext cx="3884040" cy="8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борка мусора, высаживание новых деревьев и других растени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лучшайте экологическую обстановку нашего края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Object 1"/>
          <p:cNvGraphicFramePr/>
          <p:nvPr/>
        </p:nvGraphicFramePr>
        <p:xfrm>
          <a:off x="1152000" y="1600200"/>
          <a:ext cx="7534440" cy="21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000" y="1600200"/>
                    <a:ext cx="7534440" cy="21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04000" y="1728000"/>
            <a:ext cx="7278120" cy="36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ина Беляева</cp:lastModifiedBy>
  <dcterms:modified xsi:type="dcterms:W3CDTF">2018-12-23T20:26:19Z</dcterms:modified>
  <cp:revision>6</cp:revision>
  <dc:subject/>
  <dc:title/>
</cp:coreProperties>
</file>