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7.emf" ContentType="image/x-emf"/>
  <Override PartName="/ppt/media/image6.jpeg" ContentType="image/jpe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8344-99D4-4819-8575-277B2F09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272-0FCD-45FB-8407-DF8EBA3E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EB47-43BD-4C2F-A516-EB84D010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361E-3317-440B-BF78-C687B906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AC6-AA6F-420B-A975-C9E54EC7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968-2B7D-4FFA-9D06-8E1BA9DC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3D77-DD16-4BF5-ABC0-4351D9D7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BED-0B48-4CEF-A4D9-BB40FDDB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282-21F5-4F79-B416-48F51DA5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76D4-D10C-4344-9805-AF942C6D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D067-D05F-4EBE-904A-D2867990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FB4F-D250-4AC3-BDF9-1D0F036D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ля правки текста заголовка щелкните мышью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Aft>
                <a:spcPts val="1134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ой уровень структур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тий уровень структур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Aft>
                <a:spcPts val="567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твёртый уровень структур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ятый уровень структур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естой уровень структур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дьмой уровень структур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7" marL="3456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ьмой уровень структур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8" marL="3888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9" marL="4320000" indent="-216000">
              <a:spcBef>
                <a:spcPts val="558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9" marL="4320000" indent="-216000">
              <a:spcBef>
                <a:spcPts val="479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9" marL="4320000" indent="-216000">
              <a:spcBef>
                <a:spcPts val="400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9" marL="4320000" indent="-216000">
              <a:spcBef>
                <a:spcPts val="400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</a:pPr>
            <a:fld id="{4C133A08-F7C1-40B6-8FA9-6735D3FD9365}" type="datetime">
              <a:rPr b="0" lang="ru-RU" sz="1800" spc="-1" strike="noStrike">
                <a:solidFill>
                  <a:srgbClr val="000000"/>
                </a:solidFill>
                <a:latin typeface="Calibri"/>
              </a:rPr>
              <a:t>30.7.26</a:t>
            </a:fld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</a:pPr>
            <a:fld id="{10D6CF73-503E-42CF-B8DD-ED4CC409F46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e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60000" y="-72000"/>
            <a:ext cx="82292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spcBef>
                <a:spcPts val="638"/>
              </a:spcBef>
              <a:spcAft>
                <a:spcPts val="1417"/>
              </a:spcAft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38"/>
              </a:spcBef>
              <a:spcAft>
                <a:spcPts val="1417"/>
              </a:spcAft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окружающему миру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38"/>
              </a:spcBef>
              <a:spcAft>
                <a:spcPts val="1417"/>
              </a:spcAft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Экологическая обстановка в нашем крае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38"/>
              </a:spcBef>
              <a:spcAft>
                <a:spcPts val="1417"/>
              </a:spcAft>
              <a:buNone/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роект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: изучить и рассказать об экологических проблемах в Удмуртской Республики и в нашем городе, а так же определить наиболее очевидные пути их решен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38"/>
              </a:spcBef>
              <a:spcAft>
                <a:spcPts val="1417"/>
              </a:spcAft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3"/>
          <p:cNvSpPr/>
          <p:nvPr/>
        </p:nvSpPr>
        <p:spPr>
          <a:xfrm>
            <a:off x="357120" y="214200"/>
            <a:ext cx="857232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288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грязнение атмосферного воздуха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88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специфике и количеству выбросов в разных районах и городах различно. Наибольшее число промышленных предприятий, дающих около 90 процентов всех региональных выбросов, в Ижевске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2000" y="1801080"/>
            <a:ext cx="9000000" cy="4246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744000" y="6204960"/>
            <a:ext cx="3240000" cy="3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йный завод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кологические проблемы нашего гор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504000" y="1659240"/>
            <a:ext cx="822924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ромышленное загрязнение воздуха и водоемов</a:t>
            </a:r>
            <a:endParaRPr b="0" lang="ru-RU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785880" y="4357800"/>
            <a:ext cx="3500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072040" y="4357800"/>
            <a:ext cx="3500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2571840" y="6143760"/>
            <a:ext cx="4428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3200" y="3096000"/>
            <a:ext cx="4015440" cy="3519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080000" y="2448000"/>
            <a:ext cx="2697120" cy="5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ханический завод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92000" y="2301480"/>
            <a:ext cx="4680000" cy="41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меньшение бытовых и производственных отходов. </a:t>
            </a:r>
            <a:endParaRPr b="0" lang="ru-RU" sz="15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чистка сточных вод. Современные очистные сооружения позволяют очищать ее до природного состояния.</a:t>
            </a:r>
            <a:endParaRPr b="0" lang="ru-RU" sz="15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ход к чистым источникам энергии. Это означает постепенный отказ от атомной энергии, двигателей и печей, работающих на угле и нефтепродуктах. Использование природного газа, ветровой, солнечной энергии и гидроэлектростанций обеспечивает чистоту атмосферы. Использование биотоплива позволяет значительно снизить концентрацию вредных веществ в выхлопных газах.</a:t>
            </a:r>
            <a:endParaRPr b="0" lang="ru-RU" sz="1500" spc="-1" strike="noStrike">
              <a:solidFill>
                <a:srgbClr val="000000"/>
              </a:solidFill>
              <a:latin typeface="Arial"/>
            </a:endParaRPr>
          </a:p>
          <a:p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285840" y="428760"/>
            <a:ext cx="814356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/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грязнение земель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algn="just"/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ями тяжелых металлов подвержено около 300 тысяч гектаров. Большой ущерб окружающей среде наносит не правильное, в больших количествах использование минеральных удобрений и химических средств защиты растений от вредителей и болезней, что вызывает серьезные нарушения в круговороте веществ в природе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16000" y="2232000"/>
            <a:ext cx="838008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кологические проблемы нашего гор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Загрязнение бытовыми отходами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357200" y="2214720"/>
            <a:ext cx="664344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улучшить экологическую обстановку в город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4214520" cy="2475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3214800" y="3429000"/>
            <a:ext cx="5708520" cy="3214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896000" y="2164680"/>
            <a:ext cx="3884040" cy="8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борка мусора, высаживание новых деревьев и других растений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учшайте экологическую обстановку нашего края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Object 1"/>
          <p:cNvGraphicFramePr/>
          <p:nvPr/>
        </p:nvGraphicFramePr>
        <p:xfrm>
          <a:off x="1152000" y="1600200"/>
          <a:ext cx="7534440" cy="21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000" y="1600200"/>
                    <a:ext cx="7534440" cy="21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04000" y="1728000"/>
            <a:ext cx="7278120" cy="36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ина Беляева</cp:lastModifiedBy>
  <dcterms:modified xsi:type="dcterms:W3CDTF">2018-12-23T20:26:19Z</dcterms:modified>
  <cp:revision>6</cp:revision>
  <dc:subject/>
  <dc:title/>
</cp:coreProperties>
</file>