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858-6B32-4B17-9011-02BE5603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12E-4951-47EC-BA10-41433D52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784-F871-491E-8ABB-0ACE03C5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7A7-ABC7-41A0-AD43-8009B0F5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981E-C568-47DE-9549-CA897E8D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D35B-BC81-4421-916C-137D7EE0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948D-24C5-4D81-A54F-4C690E9D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1D00-9E1D-4074-B95A-2AA64C7C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5C05-5177-4F0F-82D6-712E26E9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B121-B6E3-49D0-853A-1A24F560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3E2E-1A5A-4182-999C-AF22963D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ECE-0AF5-493B-BF97-14A47842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9FB2-7438-432F-93E8-8C72FF00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7BC9-D470-4292-9F68-52CED7D3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00E3-D18E-44A1-95DB-2CD20449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FC11-BB49-4D2C-A379-64316E7F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FFDD-50AA-4E2F-9D68-0B0F5D0E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4AD-C30D-4B81-AD38-300F55AE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C35-6208-4E39-ADED-2DE45D0B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23B-B806-443A-95D4-044742C7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DFA-A7D6-4743-B0B5-AAF11602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35C-947F-49BC-A5A8-7DAA9CF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203-FDA4-4492-B529-902E52FC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7C1-3107-45A2-990E-5FD78210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7A3FE2-E845-49F2-AE46-D561DBF8405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A6F19B-B778-4742-8557-6BC80A61121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520" cy="6368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оярское государствен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реднего профессионального образов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«Красноярский медицинский техникум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ассмотрено на                                                                                            Утверждено:                          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заседании ЦМК                                                                                           Зам.директора п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«___»____2009г                                                                                            учебной работ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Протокол №___                                                                                            Шарайкиной Е.Ю.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Председатель ЦМК                                                                                       «___»_____2009г         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Презентац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теоретического занятия по дисциплин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Гигиена и экология человека                                  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Тема: «Гигиена труда медицинского персонала в ЛПУ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Приготовил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преподавател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дисциплины    Гигие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и экология человек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Панова Н.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Г.Красноярск 2009г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icture 2"/>
          <p:cNvSpPr/>
          <p:nvPr/>
        </p:nvSpPr>
        <p:spPr>
          <a:xfrm>
            <a:off x="500040" y="4214880"/>
            <a:ext cx="2999880" cy="228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68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 обеспечения  безопасности  условий  труда  мед.  работников  разработаны  предельно-  допустимые  уровни ( ПДУ)  лазерного  излучения.  Контроль  за  лазерным  излучением  осуществляется  с  помощью  приборов  «  Измеритель 1», и « ДЛ-2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ры  защит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охранение  гла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охранение кож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отвращение  загрязнения  помещения  продуктами  взаимодействия  лазерного  луч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упреждение  контакта  вредных  примесей  в  воздухе  с  кожей,  слизистыми  глаз,  дыхательных  путей  и  ЖК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щита  количеством  активности  источни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щита  времен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щита  расстоянием (  увеличив  расстояние  в  два  раза  ,  доза  уменьшается  в  4 раза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56000"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лективные  средства  защиты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равильная  планировка  лазерной  операционн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ветопоглащающая  окраска  стен,  пола,  потол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тсутствие  блестящих  предме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ашторивание  око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ринудительная  вентиляц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аземление  лазер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дивидуальные  средства  защит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ащитные  оч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ерчатки  из  светопоглащающего  материа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лотно  прилегающая  маска.(3-4 слоя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  за  состоянием  здоровья  работающи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ериодические  медицинские  осмотры:  гематолог  и  др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дин  раз  в  три  месяца  и  один  раз  в  год – углубленные  исследования  всеми  специалист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Documents and Settings\qwerty\Рабочий стол\со сканера!!!\iраб хир.jpg"/>
          <p:cNvPicPr/>
          <p:nvPr/>
        </p:nvPicPr>
        <p:blipFill>
          <a:blip r:embed="rId1"/>
          <a:stretch/>
        </p:blipFill>
        <p:spPr>
          <a:xfrm>
            <a:off x="5357880" y="1571760"/>
            <a:ext cx="3071520" cy="23569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  <a:scene3d>
            <a:camera prst="orthographicFront"/>
            <a:lightRig dir="t" rig="threePt"/>
          </a:scene3d>
          <a:sp3d>
            <a:bevelT prst="softRound" w="1524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14200" y="285840"/>
            <a:ext cx="8786520" cy="6124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сок  литературы  для  преподавателе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а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Матвеева Н.А. Гигиена  и экология  человека,  2005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Румянцева  Г.И.  Гигиена,- М. : ГЭОТАР Медицина, 2000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Пивоваров Ю.П.  Гигиена и экология человека. Курс лекций. – М.: ВУНМЦ, 2001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Дополнительная  литература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-Одум Ю « Экология»,1986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 « Экология  человека», -М.: ГОУ МЗ РФ, 2001г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, -Пивоваров Ю.П. Экология человека. Учебник. М.:  ГОУ ВУНМЦ МЗ РФ, 2001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 Список литературы для студентов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а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Пивоваров Ю.П. Руководство к лабораторным занятиям по гигиене и основам экологии человека. 3-у изд., допол.  и испр.-М.: ГОУ ВУНМЦ МЗ РФ, 2001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.М.Лакшин, В.А.Катаева Общая гигиена с основами экологии человека: Учебник для студентов стоматологических факультетов медицинских вузов.-М.:Медицина, 2004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, Пивоваров Ю.П., Янушанец О.И. Экология человека. Учебник. М.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КАР, 2002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полнительна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-Одум Ю « Экология»,1986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 « Экология  человека», -М.: ГОУ МЗ РФ, 2001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511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chemeClr val="accent2"/>
                </a:solidFill>
                <a:latin typeface="Calibri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зовательна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формировать  понятие  у  студентов  о  труде  медицинских  работников  в         лечебно-профилактических  учрежде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я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юща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ть понимание о взаимосвязи условий труда в ЛПУ и здоровьем медицинских работник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ательна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ывать ответственное отношение к своему здоровью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154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удент  должен  знать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гигиенические  проблемы  охраны  труда  медицинских  работников  в  ЛПУ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вредные  производственные  факторы  у  медицинских  работников  различных  специ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мероприятия  по  профилактике  действия  вредных  и  опасных  факторов  труда  на  здоровье  медработников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1.Характеристика  труда  медицинских  работник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2.Виды  вредных  профессиональных  фактор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3.Источники  ионизирующего  излуч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4.Обеспечение  безопасных  условий  труда  медицинским  работника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5.Контроль  за  состоянием  здоровья  работающи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68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нятие  « медицинский  работник»  включает  в  себя  представителей   разнообразных  категорий  работников  здравоохране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руководителей  МУ,  заведующих  отделениями,  врачей  всех  специальностей,  медицинских  сестер,  лаборантов,  младший  персона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  медицинских  работников  относится  к  числу  сложных  и  ответственных  вид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и.  Он  характеризуется  значительной  интеллектуальной  нагрузкой,  требует  больших  физических  усилий,  выносливости,  внимания  и  высокой  работоспособности,  поэтому  все  это  утяжеляет  труд  мед.работника  и  неблагоприятно  действует  на  его  здоровье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 вредных  профессиональных  фактор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гр.- факторы,  обусловленные  неправильным  устройством  помещений,  рабочих  кабинетов  и  т. д.( скученность  людей  нарушает  микроклимат,  ведет  к  перегреванию  организма;  недостаток  освещения  приводит  к  нарушению  зрения;  необходима  правильная  цветоотдача  лампы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гр.- факторы,  обусловленные  нерациональной  конструкцией  оборудования,  инструментария,  несовершенство  врачебных  материалов( плохая  организация  рабочего  места,  ведение  документации    приводит  к  лишним  затратам  време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гр.-фактор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обусловленные  особенностями  лечебного  процесса ( загрязнение  воздушной  среды  лекарственными  веществами,  лекарственной  пыли, аллерген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очетанные  неблагоприятные  микроклиматические  услов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озможность  травматизации  в  связи  с  контингентом  боль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травматизация  в  связи  с  транспорт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контакт  с  патогенной  инфекци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ереходы  во  время  работ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работа  в  неудобной  позе  во  время  операци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пределение  степени   нетрудоспособности,  особенно  у  конфликтных  больных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ложность  контактов  с  больными  и  их  родственник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консультативная,  учебно-педагогическая 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участковая  рабо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ночные  дежурства,  экстренные  операции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25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чники  ионизирующего  излу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-Лазерное  излучение  - лазер – это  квантовый  генератор  электромагнитного  излучения,  отрицательно  действует  на  зрение,  вызывая  кератит,  катаракты…;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кожу – ожоги  до  обугливания;   на  внутренние  органы – нарушение  физиолог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рентгеновское  излучение  от  электронной  аппаратур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электромагнитные  поля – ВЧ.  УВЧ.  СВЧ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шум  и  вибрац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изменение  микроклима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 медицине  ионизирующее  излучение  и  радиоактивные  вещества  исполдьзуются  широко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с  целью  диагностики ( рентгеноскопия,  рентгенография,  флюрография,  компьютерная  томография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с  целью  лечения ( радиоаппликационная  терапия,  внутриполостная  и  внутритканевая  радиотерапия).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с  научно-исследовательскими  целями (метод  радиоактивных  меток…)</a:t>
            </a:r>
            <a:br>
              <a:rPr sz="2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011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организм  человека  ионизирующее  излучение  действует  в  вид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озникновения  острой  и  хронической  лучевой  болез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лучевые  повреждения  ткан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генетические  наруш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лейкозы  и  опухо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терратогенное  воздействие  на  плод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пансеризация  сотрудник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дицинское  обследование  лиц,  поступающих  на  работ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иодическое  обследование  сотрудников ( радиологических  отделений 2 раза  в  год,  рентгеновских  кабинетов – 1  раз  в  год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89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панова Н.А.</cp:lastModifiedBy>
  <dcterms:modified xsi:type="dcterms:W3CDTF">2001-01-01T01:49:22Z</dcterms:modified>
  <cp:revision>16</cp:revision>
  <dc:subject/>
  <dc:title>Презентация  теоретического занятия по дисциплине  Гигиена и эколог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