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E7D-FA66-4601-BC01-ED94FFDB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604-D4BB-44D2-BE65-145A19662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F2FF-18AA-44DB-986C-6FA476AC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13E-505F-4451-AEBD-3DA8DE4B9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9626-E2D7-4F5E-963D-8B2436F2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D4A8-23FE-42D9-9749-4DC6D767C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101E8-A673-4458-8FA6-04434AD7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99C1-2BB5-4363-8A68-A06DFD3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D85B1-C09E-4210-86ED-696974D9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33493-059C-4892-97AD-B83791C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D9CC-3EF8-4069-9E04-0EE0BB81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A59D-DD32-4431-88AE-4258C50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0B52-14C7-409F-A442-FA34CDA2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C061D-AAA0-4379-861D-DA13114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B8E-0AA5-4F9C-ABEE-6D223ED5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9708E-A5AA-419B-922F-2911B65C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16BE-022D-4331-AE97-2D986EF7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2FFB-5149-4C98-9008-A760CF9C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C90-F6F9-45DF-B5D8-2EC2F178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52E3-1128-49EB-950B-E128A54D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396-FC56-456A-AB21-B3D837ED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DDD-0314-4207-9BC8-FB867A341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5B0E-CD2B-40FE-A3FF-3CFB3211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15A-D8AB-4F6C-89FB-9377047B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FA9F8E-8B36-43E8-97B3-89DC2C04C95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E75059-50FE-4A0D-83A1-54B77EF84B4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52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оярское государствен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редн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Красноярский медицинский техникум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ссмотрено на                                                                                            Утверждено:        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заседании ЦМК                                                                                           Зам.директора п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___»____2009г                                                                                            учебной рабо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отокол №___                                                                                            Шарайкиной Е.Ю.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Председатель ЦМК                                                                                       «___»_____2009г      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езент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теоретического занятия по дисциплин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Гигиена и экология человека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Тема: «Гигиена труда медицинского персонала в ЛПУ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Приготовил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преподавател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дисциплины    Гигие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и экология челове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Панова Н.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Г.Красноярск 2009г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icture 2"/>
          <p:cNvSpPr/>
          <p:nvPr/>
        </p:nvSpPr>
        <p:spPr>
          <a:xfrm>
            <a:off x="500040" y="4214880"/>
            <a:ext cx="2999880" cy="228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обеспечения  безопасности  условий  труда  мед.  работников  разработаны  предельно-  допустимые  уровни ( ПДУ)  лазерного  излучения.  Контроль  за  лазерным  излучением  осуществляется  с  помощью  приборов  «  Измеритель 1», и « ДЛ-2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ы  защи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 гл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кож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твращение  загрязнения  помещения  продуктами  взаимодействия  лазерного  луч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упреждение  контакта  вредных  примесей  в  воздухе  с  кожей,  слизистыми  глаз,  дыхательных  путей  и  Ж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количеством  активности  источ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времен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расстоянием (  увеличив  расстояние  в  два  раза  ,  доза  уменьшается  в  4 раз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лективные  средства  защи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авильная  планировка  лазерной  операцион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ветопоглащающая  окраска  стен,  пола,  потол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тсутствие  блестящих  предме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шторивание  ок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инудительная  вентиля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земление  лазе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е  средства  защи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щитные  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чатки  из  светопоглащающего  матери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лотно  прилегающая  маска.(3-4 сло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 за  состоянием  здоровья  работающи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иодические  медицинские  осмотры:  гематолог  и  др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дин  раз  в  три  месяца  и  один  раз  в  год – углубленные  исследования  всеми  специалист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Documents and Settings\qwerty\Рабочий стол\со сканера!!!\iраб хир.jpg"/>
          <p:cNvPicPr/>
          <p:nvPr/>
        </p:nvPicPr>
        <p:blipFill>
          <a:blip r:embed="rId1"/>
          <a:stretch/>
        </p:blipFill>
        <p:spPr>
          <a:xfrm>
            <a:off x="5357880" y="1571760"/>
            <a:ext cx="3071520" cy="23569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  <a:scene3d>
            <a:camera prst="orthographicFront"/>
            <a:lightRig dir="t" rig="threePt"/>
          </a:scene3d>
          <a:sp3d>
            <a:bevelT prst="softRound" w="1524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14200" y="285840"/>
            <a:ext cx="8786520" cy="612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сок  литературы  для  преподавател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Матвеева Н.А. Гигиена  и экология  человека,  2005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Румянцева  Г.И.  Гигиена,- М. : ГЭОТАР Медицина, 2000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 Гигиена и экология человека. Курс лекций. – М.: ВУНМЦ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Дополнительная  литература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-Пивоваров Ю.П. Экология человека. Учебник. М.:  ГОУ ВУНМЦ МЗ РФ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Список литературы для студентов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Руководство к лабораторным занятиям по гигиене и основам экологии человека. 3-у изд., допол.  и испр.-М.: ГОУ ВУНМЦ МЗ РФ, 2001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.М.Лакшин, В.А.Катаева Общая гигиена с основами экологии человека: Учебник для студентов стоматологических факультетов медицинских вузов.-М.:Медицина, 2004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Пивоваров Ю.П., Янушанец О.И. Экология человека. Учебник. М.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КАР, 2002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итель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511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chemeClr val="accent2"/>
                </a:solidFill>
                <a:latin typeface="Calibri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ировать  понятие  у  студентов  о  труде  медицинских  работников  в         лечебно-профилактических  учрежде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я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понимание о взаимосвязи условий труда в ЛПУ и здоровьем медицинских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ывать ответственное отношение к своему здоров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54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удент  должен  знать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игиенические  проблемы  охраны  труда  медицинских  работников  в  ЛП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вредные  производственные  факторы  у  медицинских  работников  различных  специ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мероприятия  по  профилактике  действия  вредных  и  опасных  факторов  труда  на  здоровье  медработников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1.Характеристика  труда  медицинских 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2.Виды  вредных  профессиональных  фактор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3.Источники  ионизирующего  излуч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4.Обеспечение  безопасных  условий  труда  медицинским  работник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5.Контроль  за  состоянием  здоровья  работающи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нятие  « медицинский  работник»  включает  в  себя  представителей   разнообразных  категорий  работников  здравоохране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уководителей  МУ,  заведующих  отделениями,  врачей  всех  специальностей,  медицинских  сестер,  лаборантов,  младший  персон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 медицинских  работников  относится  к  числу  сложных  и  ответственных  вид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и.  Он  характеризуется  значительной  интеллектуальной  нагрузкой,  требует  больших  физических  усилий,  выносливости,  внимания  и  высокой  работоспособности,  поэтому  все  это  утяжеляет  труд  мед.работника  и  неблагоприятно  действует  на  его  здоровь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 вредных  профессиональных  факто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гр.- факторы,  обусловленные  неправильным  устройством  помещений,  рабочих  кабинетов  и  т. д.( скученность  людей  нарушает  микроклимат,  ведет  к  перегреванию  организма;  недостаток  освещения  приводит  к  нарушению  зрения;  необходима  правильная  цветоотдача  лампы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гр.- факторы,  обусловленные  нерациональной  конструкцией  оборудования,  инструментария,  несовершенство  врачебных  материалов( плохая  организация  рабочего  места,  ведение  документации    приводит  к  лишним  затратам  време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гр.-фактор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обусловленные  особенностями  лечебного  процесса ( загрязнение  воздушной  среды  лекарственными  веществами,  лекарственной  пыли, аллерге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очетанные  неблагоприятные  микроклиматические  услов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можность  травматизации  в  связи  с  контингентом  бо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равматизация  в  связи  с  транспорт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такт  с  патогенной  инфекци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еходы  во  время  рабо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абота  в  неудобной  позе  во  время  операц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пределение  степени   нетрудоспособности,  особенно  у  конфликтных  больных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ложность  контактов  с  больными  и  их  родственник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сультативная,  учебно-педагогическая 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участковая 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очные  дежурства,  экстренные  операции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2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 ионизирующего  излу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-Лазерное  излучение  - лазер – это  квантовый  генератор  электромагнитного  излучения,  отрицательно  действует  на  зрение,  вызывая  кератит,  катаракты…;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кожу – ожоги  до  обугливания;   на  внутренние  органы – нарушение  физиолог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ентгеновское  излучение  от  электронной  аппаратур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электромагнитные  поля – ВЧ.  УВЧ.  СВЧ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шум  и  вибра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изменение  микроклима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 медицине  ионизирующее  излучение  и  радиоактивные  вещества  исполдьзуются  широ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с  целью  диагностики ( рентгеноскопия,  рентгенография,  флюрография,  компьютерная  томографи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  целью  лечения ( радиоаппликационная  терапия,  внутриполостная  и  внутритканевая  радиотерапия)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с  научно-исследовательскими  целями (метод  радиоактивных  меток…)</a:t>
            </a:r>
            <a:br>
              <a:rPr sz="2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организм  человека  ионизирующее  излучение  действует  в  вид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никновения  острой  и  хронической  лучевой  болез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учевые  повреждения  ткан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генетические  нару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ейкозы  и  опухо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ерратогенное  воздействие  на  пло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пансеризация  сотрудни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дицинское  обследование  лиц,  поступающих  на  работ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одическое  обследование  сотрудников ( радиологических  отделений 2 раза  в  год,  рентгеновских  кабинетов – 1  раз  в  год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8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панова Н.А.</cp:lastModifiedBy>
  <dcterms:modified xsi:type="dcterms:W3CDTF">2001-01-01T01:49:22Z</dcterms:modified>
  <cp:revision>16</cp:revision>
  <dc:subject/>
  <dc:title>Презентация  теоретического занятия по дисциплине  Гигиена и эколог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