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9099-F437-4E5E-914E-B6C654912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69EE-AF4D-42FD-A61E-8CFD0815D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B0B3-2258-4B78-AEB6-11EDC80A4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7A3D-33B6-4D5F-A4A8-79C4AE497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3A80F-09FA-4F8E-AA61-0D5C030F3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89C8E-85A0-4D97-A972-C6CBABF1B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50DFA-9F2E-444C-89C8-901C81BF7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A5058-FAA9-438E-80A9-51AD2765A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45C8F-82E6-46B5-A9EB-2FC0097D1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08BEA-959E-4CF4-A92A-F86C83E9F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E0B85-CF8B-4FA8-978E-56F335AC4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87A0-199B-4FD9-A483-C74D7BBEA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FAE02-F6B1-421E-85E2-7665C1B3F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B7AA4-B83A-4792-9B22-DA40954D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8F837-0EC2-4425-A801-1327B9F2C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88259-26B9-485D-B0D8-F2C10EABA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4099A-EF36-41C5-AD8C-D59A31AB2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B187-E55E-4581-A4E1-286F040BF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D526-2E47-406A-A696-06CE9BE15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5AC4C-E4BC-4D50-8C8D-618700A04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280E-F6BA-4CD5-A3FF-95EA96BFC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D753-CA77-40CC-B38C-BDBF0D0CF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5E638-78D6-4A7F-B881-8AB0987DD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739E-5BF7-4C26-B8FC-2191106EA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8ACD0AF-6B9B-4D34-98A6-84D66C570CCA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087481D-959A-42FC-9FBF-BC06285CA160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42920" y="274680"/>
            <a:ext cx="8786520" cy="63687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ctr">
            <a:normAutofit fontScale="89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Красноярское государственное образовательное учреждение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Среднего профессионального образования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«Красноярский медицинский техникум»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Рассмотрено на                                                                                            Утверждено:                                                                           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заседании ЦМК                                                                                           Зам.директора по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«___»____2009г                                                                                            учебной работе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Протокол №___                                                                                            Шарайкиной Е.Ю.                     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Председатель ЦМК                                                                                       «___»_____2009г          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Презентация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теоретического занятия по дисциплине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Гигиена и экология человека                                                                                        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Тема: «Гигиена труда медицинского персонала в ЛПУ»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Приготовила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16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преподаватель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дисциплины    Гигиена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и экология человека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Панова Н.А.</a:t>
            </a: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         Г.Красноярск 2009г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icture 2"/>
          <p:cNvSpPr/>
          <p:nvPr/>
        </p:nvSpPr>
        <p:spPr>
          <a:xfrm>
            <a:off x="500040" y="4214880"/>
            <a:ext cx="2999880" cy="22856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  <a:effectLst>
            <a:softEdge rad="112680"/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687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ctr">
            <a:normAutofit fontScale="95000"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ля  обеспечения  безопасности  условий  труда  мед.  работников  разработаны  предельно-  допустимые  уровни ( ПДУ)  лазерного  излучения.  Контроль  за  лазерным  излучением  осуществляется  с  помощью  приборов  «  Измеритель 1», и « ДЛ-2»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ры  защиты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предохранение  глаз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предохранение кожи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предотвращение  загрязнения  помещения  продуктами  взаимодействия  лазерного  луча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предупреждение  контакта  вредных  примесей  в  воздухе  с  кожей,  слизистыми  глаз,  дыхательных  путей  и  ЖКТ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защита  количеством  активности  источника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защита  временем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-защита  расстоянием (  увеличив  расстояние  в  два  раза  ,  доза  уменьшается  в  4 раза)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2971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ctr">
            <a:normAutofit fontScale="56000"/>
          </a:bodyPr>
          <a:p>
            <a:pPr indent="0">
              <a:lnSpc>
                <a:spcPct val="100000"/>
              </a:lnSpc>
              <a:buNone/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ллективные  средства  защиты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правильная  планировка  лазерной  операционной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светопоглащающая  окраска  стен,  пола,  потолк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отсутствие  блестящих  предметов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зашторивание  окон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принудительная  вентиляция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заземление  лазеров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ндивидуальные  средства  защиты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защитные  очки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перчатки  из  светопоглащающего  материал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плотно  прилегающая  маска.(3-4 слоя)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Контроль  за  состоянием  здоровья  работающих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периодические  медицинские  осмотры:  гематолог  и  др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один  раз  в  три  месяца  и  один  раз  в  год – углубленные  исследования  всеми  специалистами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400"/>
            </a:b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2" descr="C:\Documents and Settings\qwerty\Рабочий стол\со сканера!!!\iраб хир.jpg"/>
          <p:cNvPicPr/>
          <p:nvPr/>
        </p:nvPicPr>
        <p:blipFill>
          <a:blip r:embed="rId1"/>
          <a:stretch/>
        </p:blipFill>
        <p:spPr>
          <a:xfrm>
            <a:off x="5357880" y="1571760"/>
            <a:ext cx="3071520" cy="235692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  <a:scene3d>
            <a:camera prst="orthographicFront"/>
            <a:lightRig dir="t" rig="threePt"/>
          </a:scene3d>
          <a:sp3d>
            <a:bevelT prst="softRound" w="152400" h="50800"/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1"/>
          <p:cNvSpPr/>
          <p:nvPr/>
        </p:nvSpPr>
        <p:spPr>
          <a:xfrm>
            <a:off x="214200" y="285840"/>
            <a:ext cx="8786520" cy="61246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писок  литературы  для  преподавателей: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сновная: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Матвеева Н.А. Гигиена  и экология  человека,  2005г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Румянцева  Г.И.  Гигиена,- М. : ГЭОТАР Медицина, 2000г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Пивоваров Ю.П.  Гигиена и экология человека. Курс лекций. – М.: ВУНМЦ, 2001г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 Дополнительная  литература: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 -Одум Ю « Экология»,1986г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Алексеев С.В. « Экология  человека», -М.: ГОУ МЗ РФ, 2001г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Алексеев С.В., -Пивоваров Ю.П. Экология человека. Учебник. М.:  ГОУ ВУНМЦ МЗ РФ, 2001г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  Список литературы для студентов: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сновная: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Пивоваров Ю.П. Руководство к лабораторным занятиям по гигиене и основам экологии человека. 3-у изд., допол.  и испр.-М.: ГОУ ВУНМЦ МЗ РФ, 2001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А.М.Лакшин, В.А.Катаева Общая гигиена с основами экологии человека: Учебник для студентов стоматологических факультетов медицинских вузов.-М.:Медицина, 2004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Алексеев С.В., Пивоваров Ю.П., Янушанец О.И. Экология человека. Учебник. М.: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ИКАР, 2002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Дополнительная: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-Одум Ю « Экология»,1986г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-Алексеев С.В. « Экология  человека», -М.: ГОУ МЗ РФ, 2001г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55116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49" strike="noStrike">
                <a:solidFill>
                  <a:schemeClr val="accent2"/>
                </a:solidFill>
                <a:latin typeface="Calibri"/>
              </a:rPr>
              <a:t>Спасибо за внимание!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2971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Цели: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Образовательная: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формировать  понятие  у  студентов  о  труде  медицинских  работников  в         лечебно-профилактических  учрежден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ях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азвивающая: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Развивать понимание о взаимосвязи условий труда в ЛПУ и здоровьем медицинских работников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оспитательная: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оспитывать ответственное отношение к своему здоровью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1545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тудент  должен  знать: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гигиенические  проблемы  охраны  труда  медицинских  работников  в  ЛПУ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вредные  производственные  факторы  у  медицинских  работников  различных  специальностей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-мероприятия  по  профилактике  действия  вредных  и  опасных  факторов  труда  на  здоровье  медработников.</a:t>
            </a:r>
            <a:br>
              <a:rPr sz="2800"/>
            </a:b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2971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ctr">
            <a:normAutofit fontScale="98000"/>
          </a:bodyPr>
          <a:p>
            <a:pPr indent="0">
              <a:lnSpc>
                <a:spcPct val="100000"/>
              </a:lnSpc>
              <a:buNone/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ЛАН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 1.Характеристика  труда  медицинских  работников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 2.Виды  вредных  профессиональных  факторов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 3.Источники  ионизирующего  излучения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 4.Обеспечение  безопасных  условий  труда  медицинским  работникам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                 5.Контроль  за  состоянием  здоровья  работающих.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   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3687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нятие  « медицинский  работник»  включает  в  себя  представителей   разнообразных  категорий  работников  здравоохранения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руководителей  МУ,  заведующих  отделениями,  врачей  всех  специальностей,  медицинских  сестер,  лаборантов,  младший  персонал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руд  медицинских  работников  относится  к  числу  сложных  и  ответственных  видов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еятельности.  Он  характеризуется  значительной  интеллектуальной  нагрузкой,  требует  больших  физических  усилий,  выносливости,  внимания  и  высокой  работоспособности,  поэтому  все  это  утяжеляет  труд  мед.работника  и  неблагоприятно  действует  на  его  здоровье.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4200" y="274680"/>
            <a:ext cx="8715240" cy="62971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иды  вредных  профессиональных  факторов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гр.- факторы,  обусловленные  неправильным  устройством  помещений,  рабочих  кабинетов  и  т. д.( скученность  людей  нарушает  микроклимат,  ведет  к  перегреванию  организма;  недостаток  освещения  приводит  к  нарушению  зрения;  необходима  правильная  цветоотдача  лампы)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гр.- факторы,  обусловленные  нерациональной  конструкцией  оборудования,  инструментария,  несовершенство  врачебных  материалов( плохая  организация  рабочего  места,  ведение  документации    приводит  к  лишним  затратам  времени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3гр.-факторы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 обусловленные  особенностями  лечебного  процесса ( загрязнение  воздушной  среды  лекарственными  веществами,  лекарственной  пыли, аллергенов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29712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сочетанные  неблагоприятные  микроклиматические  условия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возможность  травматизации  в  связи  с  контингентом  больных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травматизация  в  связи  с  транспортом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контакт  с  патогенной  инфекцией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переходы  во  время  работы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работа  в  неудобной  позе  во  время  операций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определение  степени   нетрудоспособности,  особенно  у  конфликтных  больных   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сложность  контактов  с  больными  и  их  родственниками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консультативная,  учебно-педагогическая  деятельность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участковая  работа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ночные  дежурства,  экстренные  операции.</a:t>
            </a:r>
            <a:br>
              <a:rPr sz="2400"/>
            </a:b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2258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ctr">
            <a:normAutofit fontScale="94000"/>
          </a:bodyPr>
          <a:p>
            <a:pPr indent="0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Источники  ионизирующего  излучения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-Лазерное  излучение  - лазер – это  квантовый  генератор  электромагнитного  излучения,  отрицательно  действует  на  зрение,  вызывая  кератит,  катаракты…;  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  кожу – ожоги  до  обугливания;   на  внутренние  органы – нарушение  физиологии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рентгеновское  излучение  от  электронной  аппаратуры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электромагнитные  поля – ВЧ.  УВЧ.  СВЧ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шум  и  вибрация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изменение  микроклимат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 медицине  ионизирующее  излучение  и  радиоактивные  вещества  исполдьзуются  широко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1.с  целью  диагностики ( рентгеноскопия,  рентгенография,  флюрография,  компьютерная  томография)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2.с  целью  лечения ( радиоаппликационная  терапия,  внутриполостная  и  внутритканевая  радиотерапия).</a:t>
            </a:r>
            <a:br>
              <a:rPr sz="24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3.с  научно-исследовательскими  целями (метод  радиоактивных  меток…)</a:t>
            </a:r>
            <a:br>
              <a:rPr sz="2400"/>
            </a:b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601164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  организм  человека  ионизирующее  излучение  действует  в  виде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возникновения  острой  и  хронической  лучевой  болезни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лучевые  повреждения  тканей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генетические  нарушения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лейкозы  и  опухоли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-терратогенное  воздействие  на  плод 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испансеризация  сотрудников: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едицинское  обследование  лиц,  поступающих  на  работу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ериодическое  обследование  сотрудников ( радиологических  отделений 2 раза  в  год,  рентгеновских  кабинетов – 1  раз  в  год)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  <Words>89</Words>
  <Paragraphs>1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qпанова Н.А.</cp:lastModifiedBy>
  <dcterms:modified xsi:type="dcterms:W3CDTF">2001-01-01T01:49:22Z</dcterms:modified>
  <cp:revision>16</cp:revision>
  <dc:subject/>
  <dc:title>Презентация  теоретического занятия по дисциплине  Гигиена и экология человек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3</vt:r8>
  </property>
</Properties>
</file>