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400" spc="-1" strike="noStrike" u="sng">
                <a:solidFill>
                  <a:srgbClr val="595959"/>
                </a:solidFill>
                <a:uFillTx/>
                <a:latin typeface="Franklin Gothic Book"/>
              </a:defRPr>
            </a:pPr>
            <a:r>
              <a:rPr b="1" lang="ru-RU" sz="2400" spc="-1" strike="noStrike" u="sng">
                <a:solidFill>
                  <a:srgbClr val="595959"/>
                </a:solidFill>
                <a:uFillTx/>
                <a:latin typeface="Franklin Gothic Book"/>
              </a:rPr>
              <a:t>Рост спроса на дизайнерскую одежду</a:t>
            </a:r>
          </a:p>
        </c:rich>
      </c:tx>
      <c:layout>
        <c:manualLayout>
          <c:xMode val="edge"/>
          <c:yMode val="edge"/>
          <c:x val="0.17827121332276"/>
          <c:y val="0.039812168231931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0892413428495903"/>
          <c:y val="0.17115829590309"/>
          <c:w val="0.910705789056305"/>
          <c:h val="0.68306791887845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Ряд 1</c:v>
                </c:pt>
              </c:strCache>
            </c:strRef>
          </c:tx>
          <c:spPr>
            <a:solidFill>
              <a:srgbClr val="8c8d86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Franklin Gothic Book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2015</c:v>
                </c:pt>
                <c:pt idx="1">
                  <c:v>2016</c:v>
                </c:pt>
                <c:pt idx="2">
                  <c:v>2017</c:v>
                </c:pt>
                <c:pt idx="3">
                  <c:v>2018</c:v>
                </c:pt>
                <c:pt idx="4">
                  <c:v>2019</c:v>
                </c:pt>
                <c:pt idx="5">
                  <c:v>2020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14</c:v>
                </c:pt>
                <c:pt idx="1">
                  <c:v>18</c:v>
                </c:pt>
                <c:pt idx="2">
                  <c:v>22</c:v>
                </c:pt>
                <c:pt idx="3">
                  <c:v>35</c:v>
                </c:pt>
                <c:pt idx="4">
                  <c:v>54</c:v>
                </c:pt>
                <c:pt idx="5">
                  <c:v>5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Ряд 2</c:v>
                </c:pt>
              </c:strCache>
            </c:strRef>
          </c:tx>
          <c:spPr>
            <a:solidFill>
              <a:srgbClr val="e6c069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Franklin Gothic Book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2015</c:v>
                </c:pt>
                <c:pt idx="1">
                  <c:v>2016</c:v>
                </c:pt>
                <c:pt idx="2">
                  <c:v>2017</c:v>
                </c:pt>
                <c:pt idx="3">
                  <c:v>2018</c:v>
                </c:pt>
                <c:pt idx="4">
                  <c:v>2019</c:v>
                </c:pt>
                <c:pt idx="5">
                  <c:v>2020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Ряд 3</c:v>
                </c:pt>
              </c:strCache>
            </c:strRef>
          </c:tx>
          <c:spPr>
            <a:solidFill>
              <a:srgbClr val="897b6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Franklin Gothic Book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2015</c:v>
                </c:pt>
                <c:pt idx="1">
                  <c:v>2016</c:v>
                </c:pt>
                <c:pt idx="2">
                  <c:v>2017</c:v>
                </c:pt>
                <c:pt idx="3">
                  <c:v>2018</c:v>
                </c:pt>
                <c:pt idx="4">
                  <c:v>2019</c:v>
                </c:pt>
                <c:pt idx="5">
                  <c:v>2020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6"/>
              </c:numCache>
            </c:numRef>
          </c:val>
        </c:ser>
        <c:gapWidth val="219"/>
        <c:overlap val="-27"/>
        <c:axId val="50729078"/>
        <c:axId val="22385326"/>
      </c:barChart>
      <c:catAx>
        <c:axId val="50729078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Franklin Gothic Book"/>
              </a:defRPr>
            </a:pPr>
          </a:p>
        </c:txPr>
        <c:crossAx val="22385326"/>
        <c:crosses val="autoZero"/>
        <c:auto val="1"/>
        <c:lblAlgn val="ctr"/>
        <c:lblOffset val="100"/>
        <c:noMultiLvlLbl val="0"/>
      </c:catAx>
      <c:valAx>
        <c:axId val="22385326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Franklin Gothic Book"/>
              </a:defRPr>
            </a:pPr>
          </a:p>
        </c:txPr>
        <c:crossAx val="50729078"/>
        <c:crosses val="autoZero"/>
        <c:crossBetween val="between"/>
      </c:valAx>
      <c:spPr>
        <a:solidFill>
          <a:srgbClr val="f0d9a5"/>
        </a:solidFill>
        <a:ln w="0">
          <a:solidFill>
            <a:srgbClr val="191b0e"/>
          </a:solidFill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30D0-CE4F-4BB9-B5E3-C26E966A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A74E-7F5B-4E75-AA3F-6645786D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A20-709F-48E3-BF06-6B2AE7FB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C39-AA82-4C66-A54E-4380E932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D5FF-77DD-4755-885E-D117CFEB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81C2-334B-470D-87B5-45B6F3E1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62F6-4C10-43B0-A9AB-2F94F473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1891-9AD5-46B7-9B18-A75C5AB0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A451-8450-4F3B-8380-A1F37DF4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084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6600-EEFA-49F2-9182-A215FE4C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F5F9-C06F-4BEC-85D5-D95A9C34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C2DD-0422-4D82-9298-EDE8C33F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5E8F-AD60-4007-885C-F3F3D85A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5DA1-B7F4-41C3-B6D7-047349CF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03CE-6626-4371-BE7D-C74E6149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90CC-57FE-44F7-8DBB-E51A994A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5EE8-0482-4BF7-B339-2B69375D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C4E33-5B14-45CC-A82D-7B464B64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32363-6ED6-4C40-94EB-8DA7278F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8740A-337C-4DB7-A446-FD9C3B71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399BA-4B9E-4E69-9F16-EA1ACFA6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10AEF-E0E2-4855-9FA1-89133BF0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AE3-ACD0-4DE7-AB3A-4394E6C6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084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DB2C5-F584-4F92-996B-9239EF82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F80F7-BABE-4EC0-850F-46C8EF10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728C6-5040-402C-9D22-0D75D4E2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D9DD9-FF3A-4B8E-B2F7-26C3E930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DDA39-C643-4F62-AE52-10ADACB6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50202-4EF8-4F1B-A2D7-65357A3B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555F6-8C76-4931-92E7-DBF25606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52525-F1F7-414D-BFDB-FE4E4E64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C0618-FE97-4DF2-8522-63AC5416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BEA69-9AEF-424F-AA8E-A5187FE4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127-50F0-4874-939F-BC42E5CA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31E9D-603C-4054-8E37-897FACEE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221DC-B192-4E78-BBB3-1C815D32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084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70191-7AE9-4330-91BB-A9FB206C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1603F-C165-4515-A5C3-700F71B7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8C62B-0F35-446F-A2EF-5D8894E6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64D02-458D-4A4B-8658-8E89510C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3912F-02A6-4FAB-B95B-F90802B9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70030-ECFE-4040-8816-EE291014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90FBB-ADE0-4FC1-A510-6EAF8EEC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C6F54-20A8-4548-94AE-8DD27EFF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A798-638B-4367-BB15-BF329BB9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002B0-76E3-466B-B1C5-311701DC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95456-AE2C-40BC-85E1-64E7A9CF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6CA00-F92E-417C-A72E-05AF6ECB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DB6EA-8DE2-47D0-9EAA-1D6DA382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084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F8961-6C8B-41B1-9DE0-6E5A9187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4A136-D75D-4F95-8403-E90AFB55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1A77B-9E20-4E6F-9077-2A72BA68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78343-2DC1-4640-BF33-F1B7DDE2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2BA68-F3B9-418E-AE3F-C08179CE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17CCD-2B6D-41BB-BDF7-FBDB19BC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084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2C36-AA5F-47CE-888A-8565A9E6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1A1D3-2291-48A9-B6F1-110A4FC2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F5683-797B-42A9-B44F-732F77B8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924F0-0776-4C1F-B75A-A09EABEE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CFCDB-7305-413E-839D-06AD343B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7E15C-B449-4F68-9187-AC7BEE99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52681-2C68-4266-BDB0-2B2DDEC6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084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D834E-BBCA-4EDA-8961-4309EE5C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F7812-793D-498C-ABF2-56BC9D38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DDD2E-74BD-47B1-83A6-B5E0D854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7DF3F-615E-42FB-A504-13E8D5EF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56B-3141-4EE2-BD14-343A2E27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FB888-0ECC-4B2A-AB01-43988694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A8C65-75D0-4207-BD31-860CFB54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B8EC1-B17C-4FA4-8A1E-87084062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E47-1104-4A84-BBAC-2DEC9F17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9BC-CB09-4A94-9107-8E67C338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47808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15200" y="1788480"/>
            <a:ext cx="8361000" cy="209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</a:pPr>
            <a:r>
              <a:rPr b="0" lang="ru-RU" sz="7200" spc="-1" strike="noStrike" cap="all">
                <a:solidFill>
                  <a:srgbClr val="191b0e"/>
                </a:solidFill>
                <a:latin typeface="Franklin Gothic Book"/>
              </a:rPr>
              <a:t>Образец заголовка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2760" y="6453360"/>
            <a:ext cx="160776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584080" y="6453360"/>
            <a:ext cx="70228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9830520" y="6453360"/>
            <a:ext cx="15958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3F2A9F-C883-415E-9881-3318CF371942}" type="slidenum"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752760" y="744120"/>
            <a:ext cx="10673640" cy="5349600"/>
            <a:chOff x="752760" y="744120"/>
            <a:chExt cx="10673640" cy="5349600"/>
          </a:xfrm>
        </p:grpSpPr>
        <p:sp>
          <p:nvSpPr>
            <p:cNvPr id="6" name="Freeform 6"/>
            <p:cNvSpPr/>
            <p:nvPr/>
          </p:nvSpPr>
          <p:spPr>
            <a:xfrm>
              <a:off x="8151840" y="1685520"/>
              <a:ext cx="3274560" cy="4408200"/>
            </a:xfrm>
            <a:custGeom>
              <a:avLst/>
              <a:gdLst>
                <a:gd name="textAreaLeft" fmla="*/ 0 w 3274560"/>
                <a:gd name="textAreaRight" fmla="*/ 3274920 w 3274560"/>
                <a:gd name="textAreaTop" fmla="*/ 0 h 4408200"/>
                <a:gd name="textAreaBottom" fmla="*/ 4408560 h 44082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6"/>
            <p:cNvSpPr/>
            <p:nvPr/>
          </p:nvSpPr>
          <p:spPr>
            <a:xfrm flipH="1" flipV="1">
              <a:off x="752400" y="743760"/>
              <a:ext cx="3275280" cy="4408200"/>
            </a:xfrm>
            <a:custGeom>
              <a:avLst/>
              <a:gdLst>
                <a:gd name="textAreaLeft" fmla="*/ 360 w 3275280"/>
                <a:gd name="textAreaRight" fmla="*/ 3276000 w 3275280"/>
                <a:gd name="textAreaTop" fmla="*/ -360 h 4408200"/>
                <a:gd name="textAreaBottom" fmla="*/ 4408200 h 4408200"/>
              </a:gdLst>
              <a:ahLst/>
              <a:rect l="textAreaLeft" t="textAreaTop" r="textAreaRight" b="textAreaBottom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4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864000" indent="-324000">
              <a:lnSpc>
                <a:spcPct val="94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296000" indent="-288000">
              <a:lnSpc>
                <a:spcPct val="94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US" sz="18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i="1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728000" indent="-216000">
              <a:lnSpc>
                <a:spcPct val="94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160000" indent="-216000">
              <a:lnSpc>
                <a:spcPct val="94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592000" indent="-216000">
              <a:lnSpc>
                <a:spcPct val="94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3024000" indent="-216000">
              <a:lnSpc>
                <a:spcPct val="94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47808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0" lang="ru-RU" sz="4400" spc="-1" strike="noStrike">
                <a:solidFill>
                  <a:srgbClr val="191b0e"/>
                </a:solidFill>
                <a:latin typeface="Franklin Gothic Book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44474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Образец текста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Второй уровень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800" spc="-1" strike="noStrike">
                <a:solidFill>
                  <a:srgbClr val="191b0e"/>
                </a:solidFill>
                <a:latin typeface="Franklin Gothic Book"/>
              </a:rPr>
              <a:t>Третий уровень</a:t>
            </a:r>
            <a:endParaRPr b="0" i="1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1800" spc="-1" strike="noStrike">
                <a:solidFill>
                  <a:srgbClr val="191b0e"/>
                </a:solidFill>
                <a:latin typeface="Franklin Gothic Book"/>
              </a:rPr>
              <a:t>Четвертый уровень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600" spc="-1" strike="noStrike">
                <a:solidFill>
                  <a:srgbClr val="191b0e"/>
                </a:solidFill>
                <a:latin typeface="Franklin Gothic Book"/>
              </a:rPr>
              <a:t>Пятый уровень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525360" y="2286000"/>
            <a:ext cx="44474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Образец текста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Второй уровень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800" spc="-1" strike="noStrike">
                <a:solidFill>
                  <a:srgbClr val="191b0e"/>
                </a:solidFill>
                <a:latin typeface="Franklin Gothic Book"/>
              </a:rPr>
              <a:t>Третий уровень</a:t>
            </a:r>
            <a:endParaRPr b="0" i="1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1800" spc="-1" strike="noStrike">
                <a:solidFill>
                  <a:srgbClr val="191b0e"/>
                </a:solidFill>
                <a:latin typeface="Franklin Gothic Book"/>
              </a:rPr>
              <a:t>Четвертый уровень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600" spc="-1" strike="noStrike">
                <a:solidFill>
                  <a:srgbClr val="191b0e"/>
                </a:solidFill>
                <a:latin typeface="Franklin Gothic Book"/>
              </a:rPr>
              <a:t>Пятый уровень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1390680" y="6453360"/>
            <a:ext cx="120420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2893680" y="6453360"/>
            <a:ext cx="628056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9472680" y="6453360"/>
            <a:ext cx="15958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F793BE-6674-4A4E-9709-CB7533D23EB8}" type="slidenum"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 hidden="1"/>
          <p:cNvSpPr/>
          <p:nvPr/>
        </p:nvSpPr>
        <p:spPr>
          <a:xfrm>
            <a:off x="47808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360"/>
            <a:ext cx="5303160" cy="685728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960" y="685800"/>
            <a:ext cx="3855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4000"/>
              </a:lnSpc>
              <a:buNone/>
            </a:pPr>
            <a:r>
              <a:rPr b="0" lang="ru-RU" sz="4800" spc="-1" strike="noStrike">
                <a:solidFill>
                  <a:srgbClr val="191b0e"/>
                </a:solidFill>
                <a:latin typeface="Franklin Gothic Book"/>
              </a:rPr>
              <a:t>Образец заголовка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532120" y="0"/>
            <a:ext cx="6659640" cy="68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ставка рисунка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723960" y="2855880"/>
            <a:ext cx="3855240" cy="30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Aft>
                <a:spcPts val="1500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191b0e"/>
                </a:solidFill>
                <a:latin typeface="Franklin Gothic Book"/>
              </a:rPr>
              <a:t>Образец текста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723960" y="6453360"/>
            <a:ext cx="120420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2206080" y="6453360"/>
            <a:ext cx="23734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9883080" y="6453360"/>
            <a:ext cx="15958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6768E8-8185-424C-9151-2D67F2DC6B03}" type="slidenum"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530352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47808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0" lang="ru-RU" sz="4400" spc="-1" strike="noStrike">
                <a:solidFill>
                  <a:srgbClr val="191b0e"/>
                </a:solidFill>
                <a:latin typeface="Franklin Gothic Book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08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Образец текста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Второй уровень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800" spc="-1" strike="noStrike">
                <a:solidFill>
                  <a:srgbClr val="191b0e"/>
                </a:solidFill>
                <a:latin typeface="Franklin Gothic Book"/>
              </a:rPr>
              <a:t>Третий уровень</a:t>
            </a:r>
            <a:endParaRPr b="0" i="1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1800" spc="-1" strike="noStrike">
                <a:solidFill>
                  <a:srgbClr val="191b0e"/>
                </a:solidFill>
                <a:latin typeface="Franklin Gothic Book"/>
              </a:rPr>
              <a:t>Четвертый уровень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600" spc="-1" strike="noStrike">
                <a:solidFill>
                  <a:srgbClr val="191b0e"/>
                </a:solidFill>
                <a:latin typeface="Franklin Gothic Book"/>
              </a:rPr>
              <a:t>Пятый уровень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390680" y="6453360"/>
            <a:ext cx="120420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893680" y="6453360"/>
            <a:ext cx="628056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472680" y="6453360"/>
            <a:ext cx="15958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B28810-58E8-42A9-A195-6A200B756E2A}" type="slidenum"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 hidden="1"/>
          <p:cNvSpPr/>
          <p:nvPr/>
        </p:nvSpPr>
        <p:spPr>
          <a:xfrm>
            <a:off x="47808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0" y="360"/>
            <a:ext cx="5303160" cy="685728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23960" y="685800"/>
            <a:ext cx="3855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4000"/>
              </a:lnSpc>
              <a:buNone/>
            </a:pPr>
            <a:r>
              <a:rPr b="0" lang="ru-RU" sz="4800" spc="-1" strike="noStrike">
                <a:solidFill>
                  <a:srgbClr val="191b0e"/>
                </a:solidFill>
                <a:latin typeface="Franklin Gothic Book"/>
              </a:rPr>
              <a:t>Образец заголовка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256080" y="685800"/>
            <a:ext cx="52117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Образец текста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Второй уровень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800" spc="-1" strike="noStrike">
                <a:solidFill>
                  <a:srgbClr val="191b0e"/>
                </a:solidFill>
                <a:latin typeface="Franklin Gothic Book"/>
              </a:rPr>
              <a:t>Третий уровень</a:t>
            </a:r>
            <a:endParaRPr b="0" i="1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1800" spc="-1" strike="noStrike">
                <a:solidFill>
                  <a:srgbClr val="191b0e"/>
                </a:solidFill>
                <a:latin typeface="Franklin Gothic Book"/>
              </a:rPr>
              <a:t>Четвертый уровень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600" spc="-1" strike="noStrike">
                <a:solidFill>
                  <a:srgbClr val="191b0e"/>
                </a:solidFill>
                <a:latin typeface="Franklin Gothic Book"/>
              </a:rPr>
              <a:t>Пятый уровень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body"/>
          </p:nvPr>
        </p:nvSpPr>
        <p:spPr>
          <a:xfrm>
            <a:off x="723960" y="2856240"/>
            <a:ext cx="3855240" cy="301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Aft>
                <a:spcPts val="1500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191b0e"/>
                </a:solidFill>
                <a:latin typeface="Franklin Gothic Book"/>
              </a:rPr>
              <a:t>Образец текста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dt" idx="13"/>
          </p:nvPr>
        </p:nvSpPr>
        <p:spPr>
          <a:xfrm>
            <a:off x="723960" y="6453360"/>
            <a:ext cx="120420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2206080" y="6453360"/>
            <a:ext cx="23734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9883080" y="6453360"/>
            <a:ext cx="15958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474EF4-37BE-4D6A-AEFC-59F520D4FB0F}" type="slidenum"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30352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8"/>
          <p:cNvSpPr/>
          <p:nvPr/>
        </p:nvSpPr>
        <p:spPr>
          <a:xfrm>
            <a:off x="47808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0" lang="ru-RU" sz="4400" spc="-1" strike="noStrike">
                <a:solidFill>
                  <a:srgbClr val="191b0e"/>
                </a:solidFill>
                <a:latin typeface="Franklin Gothic Book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390680" y="6453360"/>
            <a:ext cx="120420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17"/>
          </p:nvPr>
        </p:nvSpPr>
        <p:spPr>
          <a:xfrm>
            <a:off x="2893680" y="6453360"/>
            <a:ext cx="628056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8"/>
          </p:nvPr>
        </p:nvSpPr>
        <p:spPr>
          <a:xfrm>
            <a:off x="9472680" y="6453360"/>
            <a:ext cx="15958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7A70A9-2F99-4D95-BDE9-B41BB698A5D1}" type="slidenum"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4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864000" indent="-324000">
              <a:lnSpc>
                <a:spcPct val="94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296000" indent="-288000">
              <a:lnSpc>
                <a:spcPct val="94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US" sz="18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i="1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728000" indent="-216000">
              <a:lnSpc>
                <a:spcPct val="94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160000" indent="-216000">
              <a:lnSpc>
                <a:spcPct val="94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592000" indent="-216000">
              <a:lnSpc>
                <a:spcPct val="94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3024000" indent="-216000">
              <a:lnSpc>
                <a:spcPct val="94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523880" y="4341240"/>
            <a:ext cx="914364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2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191b0e"/>
                </a:solidFill>
                <a:latin typeface="Franklin Gothic Book"/>
              </a:rPr>
              <a:t>Проектная работа выполнена</a:t>
            </a:r>
            <a:r>
              <a:rPr b="0" lang="en-US" sz="1400" spc="-1" strike="noStrike">
                <a:solidFill>
                  <a:srgbClr val="191b0e"/>
                </a:solidFill>
                <a:latin typeface="Franklin Gothic Book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191b0e"/>
                </a:solidFill>
                <a:latin typeface="Franklin Gothic Book"/>
              </a:rPr>
              <a:t>Герзанич Ксенией, Желудевой Елизавет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191b0e"/>
                </a:solidFill>
                <a:latin typeface="Franklin Gothic Book"/>
              </a:rPr>
              <a:t>Грибовой Еленой, Земсковой Ангели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430000" y="1472400"/>
            <a:ext cx="7529040" cy="266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8320" y="208080"/>
            <a:ext cx="5090760" cy="115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0">
              <a:lnSpc>
                <a:spcPct val="84000"/>
              </a:lnSpc>
              <a:buNone/>
            </a:pPr>
            <a:r>
              <a:rPr b="1" lang="ru-RU" sz="7200" spc="-1" strike="noStrike" u="sng">
                <a:solidFill>
                  <a:srgbClr val="191b0e"/>
                </a:solidFill>
                <a:uFillTx/>
                <a:latin typeface="Arial Black"/>
              </a:rPr>
              <a:t>Название и логотип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7880" y="2415600"/>
            <a:ext cx="3931920" cy="115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indent="0">
              <a:lnSpc>
                <a:spcPct val="113000"/>
              </a:lnSpc>
              <a:spcAft>
                <a:spcPts val="1500"/>
              </a:spcAft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191b0e"/>
                </a:solidFill>
                <a:latin typeface="Franklin Gothic Book"/>
              </a:rPr>
              <a:t>Запуск бренда начинается с создания оригинального названия и подбора внешнего вида модели.</a:t>
            </a:r>
            <a:endParaRPr b="0" lang="en-US" sz="380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113000"/>
              </a:lnSpc>
              <a:spcAft>
                <a:spcPts val="1500"/>
              </a:spcAft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73080" y="4386240"/>
            <a:ext cx="6739200" cy="23864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2"/>
          <a:stretch/>
        </p:blipFill>
        <p:spPr>
          <a:xfrm>
            <a:off x="4974840" y="207000"/>
            <a:ext cx="3331440" cy="40557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"/>
          <p:cNvPicPr/>
          <p:nvPr/>
        </p:nvPicPr>
        <p:blipFill>
          <a:blip r:embed="rId3"/>
          <a:stretch/>
        </p:blipFill>
        <p:spPr>
          <a:xfrm>
            <a:off x="9234000" y="355320"/>
            <a:ext cx="2551320" cy="4536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"/>
          <p:cNvPicPr/>
          <p:nvPr/>
        </p:nvPicPr>
        <p:blipFill>
          <a:blip r:embed="rId4"/>
          <a:stretch/>
        </p:blipFill>
        <p:spPr>
          <a:xfrm>
            <a:off x="7276320" y="3429000"/>
            <a:ext cx="1998360" cy="31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3520" y="669960"/>
            <a:ext cx="8591760" cy="132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Arial Black"/>
              </a:rPr>
              <a:t>КЛИЕНТСКИЙ СЕГМЕНТ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TextBox 5"/>
          <p:cNvSpPr/>
          <p:nvPr/>
        </p:nvSpPr>
        <p:spPr>
          <a:xfrm>
            <a:off x="1112040" y="1815480"/>
            <a:ext cx="402804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Нашим клиентским сегментом является молодёжь от 14 до 30 лет. Так как мы направлены на молодё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8343360" y="1349280"/>
            <a:ext cx="3518640" cy="35128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4381200" y="3429000"/>
            <a:ext cx="383148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 rot="16200000">
            <a:off x="-1785960" y="2144520"/>
            <a:ext cx="5335200" cy="109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9000"/>
              </a:lnSpc>
              <a:buNone/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 Black"/>
              </a:rPr>
              <a:t>БИЗНЕС-МОДЕЛ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02" name="Таблица 2"/>
          <p:cNvGraphicFramePr/>
          <p:nvPr/>
        </p:nvGraphicFramePr>
        <p:xfrm>
          <a:off x="1153440" y="21960"/>
          <a:ext cx="10606320" cy="7671600"/>
        </p:xfrm>
        <a:graphic>
          <a:graphicData uri="http://schemas.openxmlformats.org/drawingml/2006/table">
            <a:tbl>
              <a:tblPr/>
              <a:tblGrid>
                <a:gridCol w="2624760"/>
                <a:gridCol w="1758960"/>
                <a:gridCol w="2090520"/>
                <a:gridCol w="2487600"/>
                <a:gridCol w="1643760"/>
              </a:tblGrid>
              <a:tr h="3600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6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ПУНКТ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ПУНКТ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ПУНКТ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ПУНКТ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984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КЛЮЧЕ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ПАРТН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ОСТАВЩ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ТРАНСПОРТ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КОМПА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</a:tr>
              <a:tr h="9356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КЛЮЧЕ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ВИ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ОЗН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ТОРГОВ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ОДЕЖД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               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6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6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54288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КЛЮЧЕ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РЕСУР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МАТЕР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ИНТЕЛЛЕКТУ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ЧЕЛОВЕ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6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ФИНАНС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</a:tr>
              <a:tr h="9356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ПРЕДСТАВЛ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Ц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КАЧЕСТВ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ОДЕЖДА П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ДОСТУПНОЙ ЦЕ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УНИК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ДИЗАЙ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ВОЗМОЖНОСТЬ НАПЕЧАТАТЬ СВОЙ ДИЗАЙН НА НАШЕЙ ВЕ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4608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ВЗАИМО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С КЛИЕН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ГРУППЫ В СОЦ. СЕТ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СМС-РАССЫЛ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</a:tr>
              <a:tr h="6300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КАНАЛ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СБЫ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СООБ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ВКОНТАК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INSTA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ЗНАКОМ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(ПУБЛИЧНЫЕ ЛИЧ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6984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КЛИ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ОДРОСТ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(11-1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ЛЮДИ,КОТОРЫЕ СЛЕДЯТ ЗА МОДОЙ И ТРЕНД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ОДИТЕЛИ МОЛОДОГО И СРЕДНЕГО ВОЗРА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</a:tr>
              <a:tr h="6984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ИЗДЕРЖ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ЗАКУПКА ТОВА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ЗАРП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КОМА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НАЛОГ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СБ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6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ЕЧАТЬ ПРИ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7275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ПОТО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ДО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ВЫРУЧКА ОТ ОНЛАЙН-ПРОДА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6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6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6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9000"/>
              </a:lnSpc>
              <a:buNone/>
            </a:pPr>
            <a:r>
              <a:rPr b="1" lang="ru-RU" sz="9600" spc="-1" strike="noStrike" u="sng">
                <a:solidFill>
                  <a:srgbClr val="191b0e"/>
                </a:solidFill>
                <a:uFillTx/>
                <a:latin typeface="Arial Black"/>
              </a:rPr>
              <a:t>итоги</a:t>
            </a:r>
            <a:endParaRPr b="0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1371600" y="2454840"/>
            <a:ext cx="835272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Мы выполнили все наши 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-</a:t>
            </a:r>
            <a:r>
              <a:rPr b="0" lang="ru-RU" sz="2400" spc="-1" strike="noStrike">
                <a:solidFill>
                  <a:srgbClr val="595959"/>
                </a:solidFill>
                <a:latin typeface="Franklin Gothic Book"/>
              </a:rPr>
              <a:t>нашли поставщика футбо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-</a:t>
            </a:r>
            <a:r>
              <a:rPr b="0" lang="ru-RU" sz="2400" spc="-1" strike="noStrike">
                <a:solidFill>
                  <a:srgbClr val="595959"/>
                </a:solidFill>
                <a:latin typeface="Franklin Gothic Book"/>
              </a:rPr>
              <a:t>нашли фабрику по производству одежды (с собственными принт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-</a:t>
            </a:r>
            <a:r>
              <a:rPr b="0" lang="ru-RU" sz="2400" spc="-1" strike="noStrike">
                <a:solidFill>
                  <a:srgbClr val="595959"/>
                </a:solidFill>
                <a:latin typeface="Franklin Gothic Book"/>
              </a:rPr>
              <a:t>создали в векторной графике свои принты и логот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-</a:t>
            </a:r>
            <a:r>
              <a:rPr b="0" lang="ru-RU" sz="2400" spc="-1" strike="noStrike">
                <a:solidFill>
                  <a:srgbClr val="595959"/>
                </a:solidFill>
                <a:latin typeface="Franklin Gothic Book"/>
              </a:rPr>
              <a:t>разработали бизнес-мод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-</a:t>
            </a:r>
            <a:r>
              <a:rPr b="0" lang="ru-RU" sz="2400" spc="-1" strike="noStrike">
                <a:solidFill>
                  <a:srgbClr val="595959"/>
                </a:solidFill>
                <a:latin typeface="Franklin Gothic Book"/>
              </a:rPr>
              <a:t>создали тов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-</a:t>
            </a:r>
            <a:r>
              <a:rPr b="0" lang="ru-RU" sz="2400" spc="-1" strike="noStrike">
                <a:solidFill>
                  <a:srgbClr val="595959"/>
                </a:solidFill>
                <a:latin typeface="Franklin Gothic Book"/>
              </a:rPr>
              <a:t>нашли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96440" y="1155240"/>
            <a:ext cx="1011168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0" lang="ru-RU" sz="9600" spc="-1" strike="noStrike">
                <a:solidFill>
                  <a:srgbClr val="191b0e"/>
                </a:solidFill>
                <a:latin typeface="MS Gothic"/>
                <a:ea typeface="MS Gothic"/>
              </a:rPr>
              <a:t>Спасибо за внимание</a:t>
            </a:r>
            <a:endParaRPr b="0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88960" y="42912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Arial Black"/>
              </a:rPr>
              <a:t>Актуальность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61080" y="1754640"/>
            <a:ext cx="44474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Идея открытия магазина одежды очень привлекательна для представителей малого бизнеса. Одежда- один из наиболее популярных товаров массового потребления на данный момент. Неудивительно, что во многих ТЦ преобладают именно магазины с одеждой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Дизайнеры и другие инфлюенсеры ориентируются на молодежь, стараясь реализовать их спрос(особое виденье на одежду).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66" name="Объект 11" descr=""/>
          <p:cNvPicPr/>
          <p:nvPr/>
        </p:nvPicPr>
        <p:blipFill>
          <a:blip r:embed="rId1"/>
          <a:stretch/>
        </p:blipFill>
        <p:spPr>
          <a:xfrm>
            <a:off x="6095880" y="1680480"/>
            <a:ext cx="566424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23960" y="685800"/>
            <a:ext cx="3855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4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Arial Black"/>
              </a:rPr>
              <a:t>Проблема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26320" y="2114640"/>
            <a:ext cx="3855240" cy="30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13000"/>
              </a:lnSpc>
              <a:spcAft>
                <a:spcPts val="15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Franklin Gothic Book"/>
              </a:rPr>
              <a:t>К сожалению, в данной индустрии очень большая конкуренция. В связи с этим нужно знать и уметь ориентироваться на свою аудиторию, соответствуя их ожиданиям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  <p:graphicFrame>
        <p:nvGraphicFramePr>
          <p:cNvPr id="269" name="Диаграмма 9"/>
          <p:cNvGraphicFramePr/>
          <p:nvPr/>
        </p:nvGraphicFramePr>
        <p:xfrm>
          <a:off x="5321520" y="685800"/>
          <a:ext cx="6809040" cy="5289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Arial Black"/>
              </a:rPr>
              <a:t>Цель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54640" y="2068200"/>
            <a:ext cx="4169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800" spc="-1" strike="noStrike">
                <a:solidFill>
                  <a:srgbClr val="191b0e"/>
                </a:solidFill>
                <a:latin typeface="Franklin Gothic Book"/>
              </a:rPr>
              <a:t>Создать свой уникальный бренд одежды, который удовлетворил бы спрос молодежной аудитории.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4827240" y="2171880"/>
            <a:ext cx="2888280" cy="3851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8177040" y="591480"/>
            <a:ext cx="35697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23960" y="685800"/>
            <a:ext cx="3855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4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Arial Black"/>
              </a:rPr>
              <a:t>Задачи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Объект 5" descr=""/>
          <p:cNvPicPr/>
          <p:nvPr/>
        </p:nvPicPr>
        <p:blipFill>
          <a:blip r:embed="rId1"/>
          <a:stretch/>
        </p:blipFill>
        <p:spPr>
          <a:xfrm>
            <a:off x="5641920" y="1589760"/>
            <a:ext cx="6442920" cy="33937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22000" y="1764720"/>
            <a:ext cx="4259160" cy="38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13000"/>
              </a:lnSpc>
              <a:spcAft>
                <a:spcPts val="1500"/>
              </a:spcAft>
              <a:buClr>
                <a:srgbClr val="191b0e"/>
              </a:buClr>
              <a:buFont typeface="Franklin Gothic Book"/>
              <a:buAutoNum type="arabicPeriod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Найти поставщика футболок, свитшотов и тд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43080" indent="-343080">
              <a:lnSpc>
                <a:spcPct val="113000"/>
              </a:lnSpc>
              <a:spcAft>
                <a:spcPts val="1500"/>
              </a:spcAft>
              <a:buClr>
                <a:srgbClr val="191b0e"/>
              </a:buClr>
              <a:buFont typeface="Franklin Gothic Book"/>
              <a:buAutoNum type="arabicPeriod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Найти, где печатать принт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43080" indent="-343080">
              <a:lnSpc>
                <a:spcPct val="113000"/>
              </a:lnSpc>
              <a:spcAft>
                <a:spcPts val="1500"/>
              </a:spcAft>
              <a:buClr>
                <a:srgbClr val="191b0e"/>
              </a:buClr>
              <a:buFont typeface="Franklin Gothic Book"/>
              <a:buAutoNum type="arabicPeriod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Создать принт в векторной графике для дальнейшей печати(способ печати: логотип-цифровая печать</a:t>
            </a: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;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принт- шелкография)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43080" indent="-343080">
              <a:lnSpc>
                <a:spcPct val="113000"/>
              </a:lnSpc>
              <a:spcAft>
                <a:spcPts val="1500"/>
              </a:spcAft>
              <a:buClr>
                <a:srgbClr val="191b0e"/>
              </a:buClr>
              <a:buFont typeface="Franklin Gothic Book"/>
              <a:buAutoNum type="arabicPeriod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Разработать бизнес модель для более глубокого анализирования аудитории и для проработки мелких деталей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7" name="Прямоугольник 6"/>
          <p:cNvSpPr/>
          <p:nvPr/>
        </p:nvSpPr>
        <p:spPr>
          <a:xfrm>
            <a:off x="9600120" y="2443680"/>
            <a:ext cx="1207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Old English Text MT"/>
              </a:rPr>
              <a:t>Killc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Arial Black"/>
              </a:rPr>
              <a:t>Гипотезы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000" y="1653480"/>
            <a:ext cx="7516800" cy="40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При выполнении последнего пункта из задач, мы систематизировали наши вопросы в виде гипотез, которые раскрывали в процессе изучения дела и отвечали на свои вопросы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1. Коммерческий успех не зависит от возраста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2. Любимое дело может принести достойный доход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3. Продукция, ориентированная на определенную аудиторию, будет более прибыльной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8786160" y="3574080"/>
            <a:ext cx="3369600" cy="25264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2"/>
          <a:stretch/>
        </p:blipFill>
        <p:spPr>
          <a:xfrm>
            <a:off x="8487360" y="331200"/>
            <a:ext cx="3526920" cy="2644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"/>
          <p:cNvPicPr/>
          <p:nvPr/>
        </p:nvPicPr>
        <p:blipFill>
          <a:blip r:embed="rId3"/>
          <a:stretch/>
        </p:blipFill>
        <p:spPr>
          <a:xfrm>
            <a:off x="4658400" y="4649760"/>
            <a:ext cx="302724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402280" y="575280"/>
            <a:ext cx="7770960" cy="58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Franklin Gothic Book"/>
              </a:rPr>
              <a:t>Содержание интервью с владельцем магазина одежды для молодежи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08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Интервьюер</a:t>
            </a:r>
            <a:r>
              <a:rPr b="0" lang="en-US" sz="2000" spc="-1" strike="noStrike">
                <a:solidFill>
                  <a:schemeClr val="accent5"/>
                </a:solidFill>
                <a:latin typeface="Franklin Gothic Book"/>
              </a:rPr>
              <a:t>:</a:t>
            </a: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Когда Вы заинтересовались бизнесом, связанным с одеждой</a:t>
            </a: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Владелец: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В сентябре 2018 г занялся перепродажей одежды для молодежи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И: 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То есть изначально Вы уже знали для кого производите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В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: Да, для футбольных фанатов и юных любителей спорта. Свитшоты, различные футболки с их тематикой. Сначала продавал со своей страницы в ВК, после создал свою группу в этой же соц. Сети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И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:Сколько составлял ваш стартовый капитал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В: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10 тыс. рублей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И: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Сколько понадобилось времени, чтобы набрать аудиторию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В: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За первые 2 месяца мне удалось достигнуть отметки в 3 тыс подписчков, после делал рекламу и к Новому Году их кол-во составило 15 тыс., а сейчас их 105 тысяч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И: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Сколько товара удалось продать за время существования магазина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В: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За 2 года работы более 15-20 тысяч заказов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9894960" y="1323720"/>
            <a:ext cx="1850400" cy="17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Arial Black"/>
              </a:rPr>
              <a:t>Подтверждение гипотиз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0840" y="1742400"/>
            <a:ext cx="648684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В результате проведенного интервью мы подтверждаем наши гипотезы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1. Действительно, коммерческий успех не зависит от возраста (герою интервью на данный момент 16 лет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2. Занятие любимым делом может принести вам достойную прибыль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3. Вероятность коммерческого успеха будет более высокой при ориентировании на определенный клиентский сегмент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4039560" y="4686480"/>
            <a:ext cx="3263760" cy="19198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"/>
          <p:cNvPicPr/>
          <p:nvPr/>
        </p:nvPicPr>
        <p:blipFill>
          <a:blip r:embed="rId2"/>
          <a:stretch/>
        </p:blipFill>
        <p:spPr>
          <a:xfrm>
            <a:off x="7858800" y="2014200"/>
            <a:ext cx="3952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Уголки">
  <a:themeElements>
    <a:clrScheme name="Уголки">
      <a:dk1>
        <a:srgbClr val="000000"/>
      </a:dk1>
      <a:lt1>
        <a:srgbClr val="ffffff"/>
      </a:lt1>
      <a:dk2>
        <a:srgbClr val="191b0e"/>
      </a:dk2>
      <a:lt2>
        <a:srgbClr val="efede3"/>
      </a:lt2>
      <a:accent1>
        <a:srgbClr val="8c8d86"/>
      </a:accent1>
      <a:accent2>
        <a:srgbClr val="e6c069"/>
      </a:accent2>
      <a:accent3>
        <a:srgbClr val="897b61"/>
      </a:accent3>
      <a:accent4>
        <a:srgbClr val="8dab8e"/>
      </a:accent4>
      <a:accent5>
        <a:srgbClr val="77a2bb"/>
      </a:accent5>
      <a:accent6>
        <a:srgbClr val="e28394"/>
      </a:accent6>
      <a:hlink>
        <a:srgbClr val="77a2bb"/>
      </a:hlink>
      <a:folHlink>
        <a:srgbClr val="957a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Уголки">
  <a:themeElements>
    <a:clrScheme name="Уголки">
      <a:dk1>
        <a:srgbClr val="000000"/>
      </a:dk1>
      <a:lt1>
        <a:srgbClr val="ffffff"/>
      </a:lt1>
      <a:dk2>
        <a:srgbClr val="191b0e"/>
      </a:dk2>
      <a:lt2>
        <a:srgbClr val="efede3"/>
      </a:lt2>
      <a:accent1>
        <a:srgbClr val="8c8d86"/>
      </a:accent1>
      <a:accent2>
        <a:srgbClr val="e6c069"/>
      </a:accent2>
      <a:accent3>
        <a:srgbClr val="897b61"/>
      </a:accent3>
      <a:accent4>
        <a:srgbClr val="8dab8e"/>
      </a:accent4>
      <a:accent5>
        <a:srgbClr val="77a2bb"/>
      </a:accent5>
      <a:accent6>
        <a:srgbClr val="e28394"/>
      </a:accent6>
      <a:hlink>
        <a:srgbClr val="77a2bb"/>
      </a:hlink>
      <a:folHlink>
        <a:srgbClr val="957a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Уголки">
  <a:themeElements>
    <a:clrScheme name="Уголки">
      <a:dk1>
        <a:srgbClr val="000000"/>
      </a:dk1>
      <a:lt1>
        <a:srgbClr val="ffffff"/>
      </a:lt1>
      <a:dk2>
        <a:srgbClr val="191b0e"/>
      </a:dk2>
      <a:lt2>
        <a:srgbClr val="efede3"/>
      </a:lt2>
      <a:accent1>
        <a:srgbClr val="8c8d86"/>
      </a:accent1>
      <a:accent2>
        <a:srgbClr val="e6c069"/>
      </a:accent2>
      <a:accent3>
        <a:srgbClr val="897b61"/>
      </a:accent3>
      <a:accent4>
        <a:srgbClr val="8dab8e"/>
      </a:accent4>
      <a:accent5>
        <a:srgbClr val="77a2bb"/>
      </a:accent5>
      <a:accent6>
        <a:srgbClr val="e28394"/>
      </a:accent6>
      <a:hlink>
        <a:srgbClr val="77a2bb"/>
      </a:hlink>
      <a:folHlink>
        <a:srgbClr val="957a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Уголки">
  <a:themeElements>
    <a:clrScheme name="Уголки">
      <a:dk1>
        <a:srgbClr val="000000"/>
      </a:dk1>
      <a:lt1>
        <a:srgbClr val="ffffff"/>
      </a:lt1>
      <a:dk2>
        <a:srgbClr val="191b0e"/>
      </a:dk2>
      <a:lt2>
        <a:srgbClr val="efede3"/>
      </a:lt2>
      <a:accent1>
        <a:srgbClr val="8c8d86"/>
      </a:accent1>
      <a:accent2>
        <a:srgbClr val="e6c069"/>
      </a:accent2>
      <a:accent3>
        <a:srgbClr val="897b61"/>
      </a:accent3>
      <a:accent4>
        <a:srgbClr val="8dab8e"/>
      </a:accent4>
      <a:accent5>
        <a:srgbClr val="77a2bb"/>
      </a:accent5>
      <a:accent6>
        <a:srgbClr val="e28394"/>
      </a:accent6>
      <a:hlink>
        <a:srgbClr val="77a2bb"/>
      </a:hlink>
      <a:folHlink>
        <a:srgbClr val="957a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Уголки">
  <a:themeElements>
    <a:clrScheme name="Уголки">
      <a:dk1>
        <a:srgbClr val="000000"/>
      </a:dk1>
      <a:lt1>
        <a:srgbClr val="ffffff"/>
      </a:lt1>
      <a:dk2>
        <a:srgbClr val="191b0e"/>
      </a:dk2>
      <a:lt2>
        <a:srgbClr val="efede3"/>
      </a:lt2>
      <a:accent1>
        <a:srgbClr val="8c8d86"/>
      </a:accent1>
      <a:accent2>
        <a:srgbClr val="e6c069"/>
      </a:accent2>
      <a:accent3>
        <a:srgbClr val="897b61"/>
      </a:accent3>
      <a:accent4>
        <a:srgbClr val="8dab8e"/>
      </a:accent4>
      <a:accent5>
        <a:srgbClr val="77a2bb"/>
      </a:accent5>
      <a:accent6>
        <a:srgbClr val="e28394"/>
      </a:accent6>
      <a:hlink>
        <a:srgbClr val="77a2bb"/>
      </a:hlink>
      <a:folHlink>
        <a:srgbClr val="957a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Уголки">
  <a:themeElements>
    <a:clrScheme name="Уголки">
      <a:dk1>
        <a:srgbClr val="000000"/>
      </a:dk1>
      <a:lt1>
        <a:srgbClr val="ffffff"/>
      </a:lt1>
      <a:dk2>
        <a:srgbClr val="191b0e"/>
      </a:dk2>
      <a:lt2>
        <a:srgbClr val="efede3"/>
      </a:lt2>
      <a:accent1>
        <a:srgbClr val="8c8d86"/>
      </a:accent1>
      <a:accent2>
        <a:srgbClr val="e6c069"/>
      </a:accent2>
      <a:accent3>
        <a:srgbClr val="897b61"/>
      </a:accent3>
      <a:accent4>
        <a:srgbClr val="8dab8e"/>
      </a:accent4>
      <a:accent5>
        <a:srgbClr val="77a2bb"/>
      </a:accent5>
      <a:accent6>
        <a:srgbClr val="e28394"/>
      </a:accent6>
      <a:hlink>
        <a:srgbClr val="77a2bb"/>
      </a:hlink>
      <a:folHlink>
        <a:srgbClr val="957a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10001105[[fn=Урожай]]</Template>
  <TotalTime>198</TotalTime>
  <Application>LibreOffice/7.4.7.2$Linux_X86_64 LibreOffice_project/40$Build-2</Application>
  <AppVersion>15.0000</AppVersion>
  <Words>658</Words>
  <Paragraphs>1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0T05:57:07Z</dcterms:created>
  <dc:creator>Ирина Герзанич</dc:creator>
  <dc:description/>
  <dc:language>en-US</dc:language>
  <cp:lastModifiedBy>Ирина Герзанич</cp:lastModifiedBy>
  <dcterms:modified xsi:type="dcterms:W3CDTF">2020-03-20T10:36:58Z</dcterms:modified>
  <cp:revision>16</cp:revision>
  <dc:subject/>
  <dc:title>Killcro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4</vt:r8>
  </property>
</Properties>
</file>