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2400" spc="-1" strike="noStrike" u="sng">
                <a:solidFill>
                  <a:srgbClr val="595959"/>
                </a:solidFill>
                <a:uFillTx/>
                <a:latin typeface="Franklin Gothic Book"/>
              </a:defRPr>
            </a:pPr>
            <a:r>
              <a:rPr b="1" lang="ru-RU" sz="2400" spc="-1" strike="noStrike" u="sng">
                <a:solidFill>
                  <a:srgbClr val="595959"/>
                </a:solidFill>
                <a:uFillTx/>
                <a:latin typeface="Franklin Gothic Book"/>
              </a:rPr>
              <a:t>Рост спроса на дизайнерскую одежду</a:t>
            </a:r>
          </a:p>
        </c:rich>
      </c:tx>
      <c:layout>
        <c:manualLayout>
          <c:xMode val="edge"/>
          <c:yMode val="edge"/>
          <c:x val="0.17827121332276"/>
          <c:y val="0.0398121682319314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0892413428495903"/>
          <c:y val="0.17115829590309"/>
          <c:w val="0.910705789056305"/>
          <c:h val="0.68306791887845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Ряд 1</c:v>
                </c:pt>
              </c:strCache>
            </c:strRef>
          </c:tx>
          <c:spPr>
            <a:solidFill>
              <a:srgbClr val="8c8d86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Franklin Gothic Book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2015</c:v>
                </c:pt>
                <c:pt idx="1">
                  <c:v>2016</c:v>
                </c:pt>
                <c:pt idx="2">
                  <c:v>2017</c:v>
                </c:pt>
                <c:pt idx="3">
                  <c:v>2018</c:v>
                </c:pt>
                <c:pt idx="4">
                  <c:v>2019</c:v>
                </c:pt>
                <c:pt idx="5">
                  <c:v>2020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14</c:v>
                </c:pt>
                <c:pt idx="1">
                  <c:v>18</c:v>
                </c:pt>
                <c:pt idx="2">
                  <c:v>22</c:v>
                </c:pt>
                <c:pt idx="3">
                  <c:v>35</c:v>
                </c:pt>
                <c:pt idx="4">
                  <c:v>54</c:v>
                </c:pt>
                <c:pt idx="5">
                  <c:v>56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Ряд 2</c:v>
                </c:pt>
              </c:strCache>
            </c:strRef>
          </c:tx>
          <c:spPr>
            <a:solidFill>
              <a:srgbClr val="e6c069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Franklin Gothic Book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2015</c:v>
                </c:pt>
                <c:pt idx="1">
                  <c:v>2016</c:v>
                </c:pt>
                <c:pt idx="2">
                  <c:v>2017</c:v>
                </c:pt>
                <c:pt idx="3">
                  <c:v>2018</c:v>
                </c:pt>
                <c:pt idx="4">
                  <c:v>2019</c:v>
                </c:pt>
                <c:pt idx="5">
                  <c:v>2020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6"/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Ряд 3</c:v>
                </c:pt>
              </c:strCache>
            </c:strRef>
          </c:tx>
          <c:spPr>
            <a:solidFill>
              <a:srgbClr val="897b61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Franklin Gothic Book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2015</c:v>
                </c:pt>
                <c:pt idx="1">
                  <c:v>2016</c:v>
                </c:pt>
                <c:pt idx="2">
                  <c:v>2017</c:v>
                </c:pt>
                <c:pt idx="3">
                  <c:v>2018</c:v>
                </c:pt>
                <c:pt idx="4">
                  <c:v>2019</c:v>
                </c:pt>
                <c:pt idx="5">
                  <c:v>2020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6"/>
              </c:numCache>
            </c:numRef>
          </c:val>
        </c:ser>
        <c:gapWidth val="219"/>
        <c:overlap val="-27"/>
        <c:axId val="6234955"/>
        <c:axId val="75295712"/>
      </c:barChart>
      <c:catAx>
        <c:axId val="6234955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d9d9d9"/>
            </a:solidFill>
            <a:round/>
          </a:ln>
        </c:spPr>
        <c:txPr>
          <a:bodyPr/>
          <a:lstStyle/>
          <a:p>
            <a:pPr>
              <a:defRPr b="0" sz="1197" spc="-1" strike="noStrike">
                <a:solidFill>
                  <a:srgbClr val="595959"/>
                </a:solidFill>
                <a:latin typeface="Franklin Gothic Book"/>
              </a:defRPr>
            </a:pPr>
          </a:p>
        </c:txPr>
        <c:crossAx val="75295712"/>
        <c:crosses val="autoZero"/>
        <c:auto val="1"/>
        <c:lblAlgn val="ctr"/>
        <c:lblOffset val="100"/>
        <c:noMultiLvlLbl val="0"/>
      </c:catAx>
      <c:valAx>
        <c:axId val="75295712"/>
        <c:scaling>
          <c:orientation val="minMax"/>
        </c:scaling>
        <c:delete val="0"/>
        <c:axPos val="l"/>
        <c:majorGridlines>
          <c:spPr>
            <a:ln w="9360">
              <a:solidFill>
                <a:srgbClr val="d9d9d9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6480">
            <a:noFill/>
          </a:ln>
        </c:spPr>
        <c:txPr>
          <a:bodyPr/>
          <a:lstStyle/>
          <a:p>
            <a:pPr>
              <a:defRPr b="0" sz="1197" spc="-1" strike="noStrike">
                <a:solidFill>
                  <a:srgbClr val="595959"/>
                </a:solidFill>
                <a:latin typeface="Franklin Gothic Book"/>
              </a:defRPr>
            </a:pPr>
          </a:p>
        </c:txPr>
        <c:crossAx val="6234955"/>
        <c:crosses val="autoZero"/>
        <c:crossBetween val="between"/>
      </c:valAx>
      <c:spPr>
        <a:solidFill>
          <a:srgbClr val="f0d9a5"/>
        </a:solidFill>
        <a:ln w="0">
          <a:solidFill>
            <a:srgbClr val="191b0e"/>
          </a:solidFill>
        </a:ln>
      </c:spPr>
    </c:plotArea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328A-772C-4FB9-AE60-8F7B022E3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DE5B-FCF5-4141-AF11-FBCD2B5E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A582-CEC9-4112-B379-A7A08738D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90A1-4CB3-4730-BE73-66A2ABAA8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9730-E899-4775-8D32-1D38CA7E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1198-384A-44BF-9C3D-25626EB4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442F-0CB6-41EE-BCE1-FFF30F21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D6C5-AB7C-4545-AD57-FAD40A4E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59A9-1AAF-44D8-8854-6571D639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084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5BBE-4C5C-452C-8ECD-357BAA5A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A578-D72C-456F-B88E-CFB97222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382E-9859-49EC-80B1-734CEBE3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BE37-798E-48BA-9661-51FBF5D7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0936-40D6-46B3-8D65-E924E1F4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6753-A9D2-459C-8E7F-BA13590E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A444-06FF-4C51-99E0-73A35666B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58BB-C16E-47E3-B4F6-1BF7E6061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EE7D3-1B7A-4F5F-A005-C96AC8D7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8A276-45DB-428A-A5D4-863B7E20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A4ADF-DB1C-4EFB-8B45-C84158F3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2557C-CF22-490A-87B8-C117384B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A2C96-B37C-471C-AEBD-B5135D41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81B0-4817-4EEA-8B23-AB5C9951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084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9154F-C268-4C91-A66F-CFD72624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495ED-DE44-4767-A0C5-CB843E1F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8ECF4-BB26-4744-9400-C67D7A4A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43CA6-5488-4CBA-8032-517421EA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10D9B-D79C-4B6E-AD29-6FEF9F8E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2E40A-B80B-4DA6-BDF7-2B10B91E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CBB0D-1CE9-4946-81FC-FBC6F3CA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97FCF-BF1C-473A-9FEE-639E0894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40C97-A27C-48CD-A5F8-168BFAB7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D83D7-42BE-46C5-9052-5510163C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8F03-3B55-460C-9812-8500E2B7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4BDB0-C0FF-4085-BC75-D3EAB0F0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5840D-B1BD-445E-AB0C-32F32158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084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CB7B6-4308-4ADF-9B12-F721E898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E3080-8DC7-4089-9BFF-5D2E7146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1AA17-B1AF-4007-9BE9-D08876D1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F5026-E4DB-4E0D-91A5-837AF3E1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9735F-55FC-4658-A7AC-F72EAAE5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2AD16-67E5-4CE9-A29E-F864D281C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A0315-E301-4A3C-A16D-9BAAADEAA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CD12A-5B81-427D-AB07-ED73F892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6B11-093E-4064-8474-137BD464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E06D5-06A5-403B-94DB-F49ED7F3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4FE83-D6AC-4924-AF15-3191057C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DC995-77D8-47AC-853A-A1F10648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27510-4B72-43DD-B060-9E48F8A1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084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DE127-46F7-4953-B004-51C67418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964AB-9ECC-404E-959F-1135A5F1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132B5-4BEC-4AAC-AA59-432BC082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8A230-7B17-4598-85FE-2888CDC4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00EF7-78FC-4451-8E7A-8CF2C2CC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DAB47-F837-4D41-AFA4-0680781B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084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3CFF-1A3C-4A06-869B-0D923632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99964-64F4-45B3-9466-79BE940DD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3D423-8A2A-4BFE-927C-9CF0B003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21F1B-BA60-4FDC-B605-B1E3269B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46D2C-068F-40C3-BDC1-D72A7009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6BDCC-B1FC-4FF5-A1C2-678AFD55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88989-644D-4B61-95CD-CA26332E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084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1DD15-0F58-4110-897B-96AC4326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C8DFC-E68D-4ADD-B33A-392B6C2E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67F69-C9FE-4FCD-A2B8-5828B89E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ECC87-3827-41B7-AE60-1F0B00EA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54BA-9361-4563-A2A4-58D5339A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61D93-658B-4290-9C84-CB5AA226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B6A62-CC11-438E-A447-E2A67BD3D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3680A-E354-47A0-BD52-FDA089CD5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3629-8E74-4DE0-8D81-76247070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47AA-BDE4-4F01-836D-33C80127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 hidden="1"/>
          <p:cNvSpPr/>
          <p:nvPr/>
        </p:nvSpPr>
        <p:spPr>
          <a:xfrm>
            <a:off x="478080" y="360"/>
            <a:ext cx="2282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15200" y="1788480"/>
            <a:ext cx="8361000" cy="209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</a:pPr>
            <a:r>
              <a:rPr b="0" lang="ru-RU" sz="7200" spc="-1" strike="noStrike" cap="all">
                <a:solidFill>
                  <a:srgbClr val="191b0e"/>
                </a:solidFill>
                <a:latin typeface="Franklin Gothic Book"/>
              </a:rPr>
              <a:t>Образец заголовка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2760" y="6453360"/>
            <a:ext cx="160776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584080" y="6453360"/>
            <a:ext cx="702288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9830520" y="6453360"/>
            <a:ext cx="159588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D46EE4-42D6-4728-A464-56C4AB7CEE02}" type="slidenum">
              <a:rPr b="0" lang="ru-RU" sz="12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752760" y="744120"/>
            <a:ext cx="10673640" cy="5349600"/>
            <a:chOff x="752760" y="744120"/>
            <a:chExt cx="10673640" cy="5349600"/>
          </a:xfrm>
        </p:grpSpPr>
        <p:sp>
          <p:nvSpPr>
            <p:cNvPr id="6" name="Freeform 6"/>
            <p:cNvSpPr/>
            <p:nvPr/>
          </p:nvSpPr>
          <p:spPr>
            <a:xfrm>
              <a:off x="8151840" y="1685520"/>
              <a:ext cx="3274560" cy="4408200"/>
            </a:xfrm>
            <a:custGeom>
              <a:avLst/>
              <a:gdLst>
                <a:gd name="textAreaLeft" fmla="*/ 0 w 3274560"/>
                <a:gd name="textAreaRight" fmla="*/ 3274920 w 3274560"/>
                <a:gd name="textAreaTop" fmla="*/ 0 h 4408200"/>
                <a:gd name="textAreaBottom" fmla="*/ 4408560 h 4408200"/>
              </a:gdLst>
              <a:ahLst/>
              <a:rect l="textAreaLeft" t="textAreaTop" r="textAreaRight" b="textAreaBottom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126"/>
                  </a:lnTo>
                  <a:lnTo>
                    <a:pt x="8761" y="912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6"/>
            <p:cNvSpPr/>
            <p:nvPr/>
          </p:nvSpPr>
          <p:spPr>
            <a:xfrm flipH="1" flipV="1">
              <a:off x="752400" y="743760"/>
              <a:ext cx="3275280" cy="4408200"/>
            </a:xfrm>
            <a:custGeom>
              <a:avLst/>
              <a:gdLst>
                <a:gd name="textAreaLeft" fmla="*/ 360 w 3275280"/>
                <a:gd name="textAreaRight" fmla="*/ 3276000 w 3275280"/>
                <a:gd name="textAreaTop" fmla="*/ -360 h 4408200"/>
                <a:gd name="textAreaBottom" fmla="*/ 4408200 h 4408200"/>
              </a:gdLst>
              <a:ahLst/>
              <a:rect l="textAreaLeft" t="textAreaTop" r="textAreaRight" b="textAreaBottom"/>
              <a:pathLst>
                <a:path w="10002" h="10000">
                  <a:moveTo>
                    <a:pt x="8763" y="0"/>
                  </a:moveTo>
                  <a:lnTo>
                    <a:pt x="10002" y="0"/>
                  </a:lnTo>
                  <a:lnTo>
                    <a:pt x="10002" y="10000"/>
                  </a:lnTo>
                  <a:lnTo>
                    <a:pt x="2" y="10000"/>
                  </a:lnTo>
                  <a:cubicBezTo>
                    <a:pt x="-2" y="9698"/>
                    <a:pt x="4" y="9427"/>
                    <a:pt x="0" y="9125"/>
                  </a:cubicBezTo>
                  <a:lnTo>
                    <a:pt x="8763" y="9128"/>
                  </a:lnTo>
                  <a:lnTo>
                    <a:pt x="8763" y="0"/>
                  </a:ln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4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864000" indent="-324000">
              <a:lnSpc>
                <a:spcPct val="94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296000" indent="-288000">
              <a:lnSpc>
                <a:spcPct val="94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i="1" lang="en-US" sz="18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i="1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728000" indent="-216000">
              <a:lnSpc>
                <a:spcPct val="94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160000" indent="-216000">
              <a:lnSpc>
                <a:spcPct val="94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592000" indent="-216000">
              <a:lnSpc>
                <a:spcPct val="94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3024000" indent="-216000">
              <a:lnSpc>
                <a:spcPct val="94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478080" y="360"/>
            <a:ext cx="2282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</a:pPr>
            <a:r>
              <a:rPr b="0" lang="ru-RU" sz="4400" spc="-1" strike="noStrike">
                <a:solidFill>
                  <a:srgbClr val="191b0e"/>
                </a:solidFill>
                <a:latin typeface="Franklin Gothic Book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4447440" cy="35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Образец текста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</a:pPr>
            <a:r>
              <a:rPr b="0" i="1" lang="ru-RU" sz="2000" spc="-1" strike="noStrike">
                <a:solidFill>
                  <a:srgbClr val="191b0e"/>
                </a:solidFill>
                <a:latin typeface="Franklin Gothic Book"/>
              </a:rPr>
              <a:t>Второй уровень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1800" spc="-1" strike="noStrike">
                <a:solidFill>
                  <a:srgbClr val="191b0e"/>
                </a:solidFill>
                <a:latin typeface="Franklin Gothic Book"/>
              </a:rPr>
              <a:t>Третий уровень</a:t>
            </a:r>
            <a:endParaRPr b="0" i="1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</a:pPr>
            <a:r>
              <a:rPr b="0" i="1" lang="ru-RU" sz="1800" spc="-1" strike="noStrike">
                <a:solidFill>
                  <a:srgbClr val="191b0e"/>
                </a:solidFill>
                <a:latin typeface="Franklin Gothic Book"/>
              </a:rPr>
              <a:t>Четвертый уровень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1600" spc="-1" strike="noStrike">
                <a:solidFill>
                  <a:srgbClr val="191b0e"/>
                </a:solidFill>
                <a:latin typeface="Franklin Gothic Book"/>
              </a:rPr>
              <a:t>Пятый уровень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6525360" y="2286000"/>
            <a:ext cx="4447440" cy="35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Образец текста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</a:pPr>
            <a:r>
              <a:rPr b="0" i="1" lang="ru-RU" sz="2000" spc="-1" strike="noStrike">
                <a:solidFill>
                  <a:srgbClr val="191b0e"/>
                </a:solidFill>
                <a:latin typeface="Franklin Gothic Book"/>
              </a:rPr>
              <a:t>Второй уровень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1800" spc="-1" strike="noStrike">
                <a:solidFill>
                  <a:srgbClr val="191b0e"/>
                </a:solidFill>
                <a:latin typeface="Franklin Gothic Book"/>
              </a:rPr>
              <a:t>Третий уровень</a:t>
            </a:r>
            <a:endParaRPr b="0" i="1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</a:pPr>
            <a:r>
              <a:rPr b="0" i="1" lang="ru-RU" sz="1800" spc="-1" strike="noStrike">
                <a:solidFill>
                  <a:srgbClr val="191b0e"/>
                </a:solidFill>
                <a:latin typeface="Franklin Gothic Book"/>
              </a:rPr>
              <a:t>Четвертый уровень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1600" spc="-1" strike="noStrike">
                <a:solidFill>
                  <a:srgbClr val="191b0e"/>
                </a:solidFill>
                <a:latin typeface="Franklin Gothic Book"/>
              </a:rPr>
              <a:t>Пятый уровень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1390680" y="6453360"/>
            <a:ext cx="120420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2893680" y="6453360"/>
            <a:ext cx="628056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9472680" y="6453360"/>
            <a:ext cx="159588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55370B-B5C3-42BA-8AB7-858FE82B83C7}" type="slidenum">
              <a:rPr b="0" lang="ru-RU" sz="12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8" hidden="1"/>
          <p:cNvSpPr/>
          <p:nvPr/>
        </p:nvSpPr>
        <p:spPr>
          <a:xfrm>
            <a:off x="478080" y="360"/>
            <a:ext cx="2282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360"/>
            <a:ext cx="5303160" cy="685728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3960" y="685800"/>
            <a:ext cx="385524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4000"/>
              </a:lnSpc>
              <a:buNone/>
            </a:pPr>
            <a:r>
              <a:rPr b="0" lang="ru-RU" sz="4800" spc="-1" strike="noStrike">
                <a:solidFill>
                  <a:srgbClr val="191b0e"/>
                </a:solidFill>
                <a:latin typeface="Franklin Gothic Book"/>
              </a:rPr>
              <a:t>Образец заголовка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532120" y="0"/>
            <a:ext cx="6659640" cy="68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Вставка рисунка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723960" y="2855880"/>
            <a:ext cx="3855240" cy="30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Aft>
                <a:spcPts val="1500"/>
              </a:spcAft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191b0e"/>
                </a:solidFill>
                <a:latin typeface="Franklin Gothic Book"/>
              </a:rPr>
              <a:t>Образец текста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723960" y="6453360"/>
            <a:ext cx="120420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2206080" y="6453360"/>
            <a:ext cx="237348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9883080" y="6453360"/>
            <a:ext cx="159588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A859B4-9E6E-4400-B0E9-15A3BB6283FB}" type="slidenum">
              <a:rPr b="0" lang="ru-RU" sz="12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5303520" y="360"/>
            <a:ext cx="2282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478080" y="360"/>
            <a:ext cx="2282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</a:pPr>
            <a:r>
              <a:rPr b="0" lang="ru-RU" sz="4400" spc="-1" strike="noStrike">
                <a:solidFill>
                  <a:srgbClr val="191b0e"/>
                </a:solidFill>
                <a:latin typeface="Franklin Gothic Book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0840" cy="35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Образец текста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</a:pPr>
            <a:r>
              <a:rPr b="0" i="1" lang="ru-RU" sz="2000" spc="-1" strike="noStrike">
                <a:solidFill>
                  <a:srgbClr val="191b0e"/>
                </a:solidFill>
                <a:latin typeface="Franklin Gothic Book"/>
              </a:rPr>
              <a:t>Второй уровень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1800" spc="-1" strike="noStrike">
                <a:solidFill>
                  <a:srgbClr val="191b0e"/>
                </a:solidFill>
                <a:latin typeface="Franklin Gothic Book"/>
              </a:rPr>
              <a:t>Третий уровень</a:t>
            </a:r>
            <a:endParaRPr b="0" i="1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</a:pPr>
            <a:r>
              <a:rPr b="0" i="1" lang="ru-RU" sz="1800" spc="-1" strike="noStrike">
                <a:solidFill>
                  <a:srgbClr val="191b0e"/>
                </a:solidFill>
                <a:latin typeface="Franklin Gothic Book"/>
              </a:rPr>
              <a:t>Четвертый уровень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1600" spc="-1" strike="noStrike">
                <a:solidFill>
                  <a:srgbClr val="191b0e"/>
                </a:solidFill>
                <a:latin typeface="Franklin Gothic Book"/>
              </a:rPr>
              <a:t>Пятый уровень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390680" y="6453360"/>
            <a:ext cx="120420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893680" y="6453360"/>
            <a:ext cx="628056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9472680" y="6453360"/>
            <a:ext cx="159588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BA3D57-EBE2-4965-985E-D8FAFC599FCB}" type="slidenum">
              <a:rPr b="0" lang="ru-RU" sz="12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 hidden="1"/>
          <p:cNvSpPr/>
          <p:nvPr/>
        </p:nvSpPr>
        <p:spPr>
          <a:xfrm>
            <a:off x="478080" y="360"/>
            <a:ext cx="2282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0" y="360"/>
            <a:ext cx="5303160" cy="685728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23960" y="685800"/>
            <a:ext cx="385524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4000"/>
              </a:lnSpc>
              <a:buNone/>
            </a:pPr>
            <a:r>
              <a:rPr b="0" lang="ru-RU" sz="4800" spc="-1" strike="noStrike">
                <a:solidFill>
                  <a:srgbClr val="191b0e"/>
                </a:solidFill>
                <a:latin typeface="Franklin Gothic Book"/>
              </a:rPr>
              <a:t>Образец заголовка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256080" y="685800"/>
            <a:ext cx="521172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Образец текста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</a:pPr>
            <a:r>
              <a:rPr b="0" i="1" lang="ru-RU" sz="2000" spc="-1" strike="noStrike">
                <a:solidFill>
                  <a:srgbClr val="191b0e"/>
                </a:solidFill>
                <a:latin typeface="Franklin Gothic Book"/>
              </a:rPr>
              <a:t>Второй уровень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1800" spc="-1" strike="noStrike">
                <a:solidFill>
                  <a:srgbClr val="191b0e"/>
                </a:solidFill>
                <a:latin typeface="Franklin Gothic Book"/>
              </a:rPr>
              <a:t>Третий уровень</a:t>
            </a:r>
            <a:endParaRPr b="0" i="1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</a:pPr>
            <a:r>
              <a:rPr b="0" i="1" lang="ru-RU" sz="1800" spc="-1" strike="noStrike">
                <a:solidFill>
                  <a:srgbClr val="191b0e"/>
                </a:solidFill>
                <a:latin typeface="Franklin Gothic Book"/>
              </a:rPr>
              <a:t>Четвертый уровень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1600" spc="-1" strike="noStrike">
                <a:solidFill>
                  <a:srgbClr val="191b0e"/>
                </a:solidFill>
                <a:latin typeface="Franklin Gothic Book"/>
              </a:rPr>
              <a:t>Пятый уровень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body"/>
          </p:nvPr>
        </p:nvSpPr>
        <p:spPr>
          <a:xfrm>
            <a:off x="723960" y="2856240"/>
            <a:ext cx="3855240" cy="301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Aft>
                <a:spcPts val="1500"/>
              </a:spcAft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191b0e"/>
                </a:solidFill>
                <a:latin typeface="Franklin Gothic Book"/>
              </a:rPr>
              <a:t>Образец текста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dt" idx="13"/>
          </p:nvPr>
        </p:nvSpPr>
        <p:spPr>
          <a:xfrm>
            <a:off x="723960" y="6453360"/>
            <a:ext cx="120420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2206080" y="6453360"/>
            <a:ext cx="237348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9883080" y="6453360"/>
            <a:ext cx="159588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8DDE00-F4C2-44C0-B1D7-F99025D371B6}" type="slidenum">
              <a:rPr b="0" lang="ru-RU" sz="12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5303520" y="360"/>
            <a:ext cx="2282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8"/>
          <p:cNvSpPr/>
          <p:nvPr/>
        </p:nvSpPr>
        <p:spPr>
          <a:xfrm>
            <a:off x="478080" y="360"/>
            <a:ext cx="2282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</a:pPr>
            <a:r>
              <a:rPr b="0" lang="ru-RU" sz="4400" spc="-1" strike="noStrike">
                <a:solidFill>
                  <a:srgbClr val="191b0e"/>
                </a:solidFill>
                <a:latin typeface="Franklin Gothic Book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1390680" y="6453360"/>
            <a:ext cx="120420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17"/>
          </p:nvPr>
        </p:nvSpPr>
        <p:spPr>
          <a:xfrm>
            <a:off x="2893680" y="6453360"/>
            <a:ext cx="628056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8"/>
          </p:nvPr>
        </p:nvSpPr>
        <p:spPr>
          <a:xfrm>
            <a:off x="9472680" y="6453360"/>
            <a:ext cx="159588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F0AE83-7332-41C5-931A-AC810CC0838C}" type="slidenum">
              <a:rPr b="0" lang="ru-RU" sz="12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4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864000" indent="-324000">
              <a:lnSpc>
                <a:spcPct val="94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296000" indent="-288000">
              <a:lnSpc>
                <a:spcPct val="94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i="1" lang="en-US" sz="18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i="1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728000" indent="-216000">
              <a:lnSpc>
                <a:spcPct val="94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160000" indent="-216000">
              <a:lnSpc>
                <a:spcPct val="94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592000" indent="-216000">
              <a:lnSpc>
                <a:spcPct val="94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3024000" indent="-216000">
              <a:lnSpc>
                <a:spcPct val="94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523880" y="4341240"/>
            <a:ext cx="9143640" cy="9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2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191b0e"/>
                </a:solidFill>
                <a:latin typeface="Franklin Gothic Book"/>
              </a:rPr>
              <a:t>Проектная работа выполнена</a:t>
            </a:r>
            <a:r>
              <a:rPr b="0" lang="en-US" sz="1400" spc="-1" strike="noStrike">
                <a:solidFill>
                  <a:srgbClr val="191b0e"/>
                </a:solidFill>
                <a:latin typeface="Franklin Gothic Book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2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191b0e"/>
                </a:solidFill>
                <a:latin typeface="Franklin Gothic Book"/>
              </a:rPr>
              <a:t>Герзанич Ксенией, Желудевой Елизавет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2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191b0e"/>
                </a:solidFill>
                <a:latin typeface="Franklin Gothic Book"/>
              </a:rPr>
              <a:t>Грибовой Еленой, Земсковой Ангелин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2430000" y="1472400"/>
            <a:ext cx="7529040" cy="266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8320" y="208080"/>
            <a:ext cx="5090760" cy="115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indent="0">
              <a:lnSpc>
                <a:spcPct val="84000"/>
              </a:lnSpc>
              <a:buNone/>
            </a:pPr>
            <a:r>
              <a:rPr b="1" lang="ru-RU" sz="7200" spc="-1" strike="noStrike" u="sng">
                <a:solidFill>
                  <a:srgbClr val="191b0e"/>
                </a:solidFill>
                <a:uFillTx/>
                <a:latin typeface="Arial Black"/>
              </a:rPr>
              <a:t>Название и логотип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7880" y="2415600"/>
            <a:ext cx="3931920" cy="115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indent="0">
              <a:lnSpc>
                <a:spcPct val="113000"/>
              </a:lnSpc>
              <a:spcAft>
                <a:spcPts val="1500"/>
              </a:spcAft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191b0e"/>
                </a:solidFill>
                <a:latin typeface="Franklin Gothic Book"/>
              </a:rPr>
              <a:t>Запуск бренда начинается с создания оригинального названия и подбора внешнего вида модели.</a:t>
            </a:r>
            <a:endParaRPr b="0" lang="en-US" sz="3800" spc="-1" strike="noStrike">
              <a:solidFill>
                <a:srgbClr val="191b0e"/>
              </a:solidFill>
              <a:latin typeface="Franklin Gothic Book"/>
            </a:endParaRPr>
          </a:p>
          <a:p>
            <a:pPr indent="0">
              <a:lnSpc>
                <a:spcPct val="113000"/>
              </a:lnSpc>
              <a:spcAft>
                <a:spcPts val="1500"/>
              </a:spcAft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293" name="Picture 4" descr=""/>
          <p:cNvPicPr/>
          <p:nvPr/>
        </p:nvPicPr>
        <p:blipFill>
          <a:blip r:embed="rId1"/>
          <a:stretch/>
        </p:blipFill>
        <p:spPr>
          <a:xfrm>
            <a:off x="73080" y="4386240"/>
            <a:ext cx="6739200" cy="23864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" descr=""/>
          <p:cNvPicPr/>
          <p:nvPr/>
        </p:nvPicPr>
        <p:blipFill>
          <a:blip r:embed="rId2"/>
          <a:stretch/>
        </p:blipFill>
        <p:spPr>
          <a:xfrm>
            <a:off x="4974840" y="207000"/>
            <a:ext cx="3331440" cy="40557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8" descr=""/>
          <p:cNvPicPr/>
          <p:nvPr/>
        </p:nvPicPr>
        <p:blipFill>
          <a:blip r:embed="rId3"/>
          <a:stretch/>
        </p:blipFill>
        <p:spPr>
          <a:xfrm>
            <a:off x="9234000" y="355320"/>
            <a:ext cx="2551320" cy="4536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"/>
          <p:cNvPicPr/>
          <p:nvPr/>
        </p:nvPicPr>
        <p:blipFill>
          <a:blip r:embed="rId4"/>
          <a:stretch/>
        </p:blipFill>
        <p:spPr>
          <a:xfrm>
            <a:off x="7276320" y="3429000"/>
            <a:ext cx="1998360" cy="31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3520" y="669960"/>
            <a:ext cx="8591760" cy="132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</a:pPr>
            <a:r>
              <a:rPr b="1" lang="ru-RU" sz="4400" spc="-1" strike="noStrike" u="sng">
                <a:solidFill>
                  <a:srgbClr val="191b0e"/>
                </a:solidFill>
                <a:uFillTx/>
                <a:latin typeface="Arial Black"/>
              </a:rPr>
              <a:t>КЛИЕНТСКИЙ СЕГМЕНТ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TextBox 5"/>
          <p:cNvSpPr/>
          <p:nvPr/>
        </p:nvSpPr>
        <p:spPr>
          <a:xfrm>
            <a:off x="1112040" y="1815480"/>
            <a:ext cx="402804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Нашим клиентским сегментом является молодёжь от 14 до 30 лет. Так как мы направлены на молодёж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4" descr=""/>
          <p:cNvPicPr/>
          <p:nvPr/>
        </p:nvPicPr>
        <p:blipFill>
          <a:blip r:embed="rId1"/>
          <a:stretch/>
        </p:blipFill>
        <p:spPr>
          <a:xfrm>
            <a:off x="8343360" y="1349280"/>
            <a:ext cx="3518640" cy="35128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6" descr=""/>
          <p:cNvPicPr/>
          <p:nvPr/>
        </p:nvPicPr>
        <p:blipFill>
          <a:blip r:embed="rId2"/>
          <a:stretch/>
        </p:blipFill>
        <p:spPr>
          <a:xfrm>
            <a:off x="4381200" y="3429000"/>
            <a:ext cx="3831480" cy="33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 rot="16200000">
            <a:off x="-1785960" y="2144520"/>
            <a:ext cx="5335200" cy="109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9000"/>
              </a:lnSpc>
              <a:buNone/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 Black"/>
              </a:rPr>
              <a:t>БИЗНЕС-МОДЕЛЬ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02" name="Таблица 2"/>
          <p:cNvGraphicFramePr/>
          <p:nvPr/>
        </p:nvGraphicFramePr>
        <p:xfrm>
          <a:off x="1153440" y="21960"/>
          <a:ext cx="10606320" cy="7671600"/>
        </p:xfrm>
        <a:graphic>
          <a:graphicData uri="http://schemas.openxmlformats.org/drawingml/2006/table">
            <a:tbl>
              <a:tblPr/>
              <a:tblGrid>
                <a:gridCol w="2624760"/>
                <a:gridCol w="1758960"/>
                <a:gridCol w="2090520"/>
                <a:gridCol w="2487600"/>
                <a:gridCol w="1643760"/>
              </a:tblGrid>
              <a:tr h="36000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600" spc="-1" strike="noStrike">
                          <a:solidFill>
                            <a:schemeClr val="lt1"/>
                          </a:solidFill>
                          <a:latin typeface="Franklin Gothic Book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Franklin Gothic Book"/>
                        </a:rPr>
                        <a:t>ПУНКТ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Franklin Gothic Book"/>
                        </a:rPr>
                        <a:t>ПУНКТ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Franklin Gothic Book"/>
                        </a:rPr>
                        <a:t>ПУНКТ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Franklin Gothic Book"/>
                        </a:rPr>
                        <a:t>ПУНКТ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9840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КЛЮЧЕ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ПАРТН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ПОСТАВЩ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ТРАНСПОРТН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КОМПА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1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1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</a:tr>
              <a:tr h="93564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КЛЮЧЕВ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ВИ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РОЗН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ТОРГОВ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ОДЕЖД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                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6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1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6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1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54288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КЛЮЧЕВ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РЕСУР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МАТЕРИ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ИНТЕЛЛЕКТУ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ЧЕЛОВЕ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6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ФИНАНС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</a:tr>
              <a:tr h="93564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ПРЕДСТАВЛЕ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Ц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КАЧЕСТВЕ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ОДЕЖДА П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ДОСТУПНОЙ ЦЕ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УНИКАЛЬ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ДИЗАЙ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ВОЗМОЖНОСТЬ НАПЕЧАТАТЬ СВОЙ ДИЗАЙН НА НАШЕЙ ВЕЩ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1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46080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ВЗАИМО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С КЛИЕН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ГРУППЫ В СОЦ. СЕТ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СМС-РАССЫЛ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1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</a:tr>
              <a:tr h="63000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КАНАЛ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СБЫ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СООБ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ВКОНТАК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INSTA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ЗНАКОМ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(ПУБЛИЧНЫЕ ЛИЧ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1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69840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КЛИЕ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ПОДРОСТ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(11-1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ЛЮДИ,КОТОРЫЕ СЛЕДЯТ ЗА МОДОЙ И ТРЕНД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РОДИТЕЛИ МОЛОДОГО И СРЕДНЕГО ВОЗРА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1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</a:tr>
              <a:tr h="69840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ИЗДЕРЖ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ЗАКУПКА ТОВА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ЗАРПЛ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КОМАН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НАЛОГ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СБ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6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ПЕЧАТЬ ПРИ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72756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ПОТО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ПО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ДО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ВЫРУЧКА ОТ ОНЛАЙН-ПРОДА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6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1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6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1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6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1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9000"/>
              </a:lnSpc>
              <a:buNone/>
            </a:pPr>
            <a:r>
              <a:rPr b="1" lang="ru-RU" sz="9600" spc="-1" strike="noStrike" u="sng">
                <a:solidFill>
                  <a:srgbClr val="191b0e"/>
                </a:solidFill>
                <a:uFillTx/>
                <a:latin typeface="Arial Black"/>
              </a:rPr>
              <a:t>итоги</a:t>
            </a:r>
            <a:endParaRPr b="0" lang="en-US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TextBox 2"/>
          <p:cNvSpPr/>
          <p:nvPr/>
        </p:nvSpPr>
        <p:spPr>
          <a:xfrm>
            <a:off x="1371600" y="2454840"/>
            <a:ext cx="8352720" cy="31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Franklin Gothic Book"/>
              </a:rPr>
              <a:t>Мы выполнили все наши 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6">
                    <a:lumMod val="50000"/>
                  </a:schemeClr>
                </a:solidFill>
                <a:latin typeface="Franklin Gothic Book"/>
              </a:rPr>
              <a:t>-</a:t>
            </a:r>
            <a:r>
              <a:rPr b="0" lang="ru-RU" sz="2400" spc="-1" strike="noStrike">
                <a:solidFill>
                  <a:srgbClr val="595959"/>
                </a:solidFill>
                <a:latin typeface="Franklin Gothic Book"/>
              </a:rPr>
              <a:t>нашли поставщика футбо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6">
                    <a:lumMod val="50000"/>
                  </a:schemeClr>
                </a:solidFill>
                <a:latin typeface="Franklin Gothic Book"/>
              </a:rPr>
              <a:t>-</a:t>
            </a:r>
            <a:r>
              <a:rPr b="0" lang="ru-RU" sz="2400" spc="-1" strike="noStrike">
                <a:solidFill>
                  <a:srgbClr val="595959"/>
                </a:solidFill>
                <a:latin typeface="Franklin Gothic Book"/>
              </a:rPr>
              <a:t>нашли фабрику по производству одежды (с собственными принт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6">
                    <a:lumMod val="50000"/>
                  </a:schemeClr>
                </a:solidFill>
                <a:latin typeface="Franklin Gothic Book"/>
              </a:rPr>
              <a:t>-</a:t>
            </a:r>
            <a:r>
              <a:rPr b="0" lang="ru-RU" sz="2400" spc="-1" strike="noStrike">
                <a:solidFill>
                  <a:srgbClr val="595959"/>
                </a:solidFill>
                <a:latin typeface="Franklin Gothic Book"/>
              </a:rPr>
              <a:t>создали в векторной графике свои принты и логоти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6">
                    <a:lumMod val="50000"/>
                  </a:schemeClr>
                </a:solidFill>
                <a:latin typeface="Franklin Gothic Book"/>
              </a:rPr>
              <a:t>-</a:t>
            </a:r>
            <a:r>
              <a:rPr b="0" lang="ru-RU" sz="2400" spc="-1" strike="noStrike">
                <a:solidFill>
                  <a:srgbClr val="595959"/>
                </a:solidFill>
                <a:latin typeface="Franklin Gothic Book"/>
              </a:rPr>
              <a:t>разработали бизнес-мод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6">
                    <a:lumMod val="50000"/>
                  </a:schemeClr>
                </a:solidFill>
                <a:latin typeface="Franklin Gothic Book"/>
              </a:rPr>
              <a:t>-</a:t>
            </a:r>
            <a:r>
              <a:rPr b="0" lang="ru-RU" sz="2400" spc="-1" strike="noStrike">
                <a:solidFill>
                  <a:srgbClr val="595959"/>
                </a:solidFill>
                <a:latin typeface="Franklin Gothic Book"/>
              </a:rPr>
              <a:t>создали това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6">
                    <a:lumMod val="50000"/>
                  </a:schemeClr>
                </a:solidFill>
                <a:latin typeface="Franklin Gothic Book"/>
              </a:rPr>
              <a:t>-</a:t>
            </a:r>
            <a:r>
              <a:rPr b="0" lang="ru-RU" sz="2400" spc="-1" strike="noStrike">
                <a:solidFill>
                  <a:srgbClr val="595959"/>
                </a:solidFill>
                <a:latin typeface="Franklin Gothic Book"/>
              </a:rPr>
              <a:t>нашли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96440" y="1155240"/>
            <a:ext cx="1011168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</a:pPr>
            <a:r>
              <a:rPr b="0" lang="ru-RU" sz="9600" spc="-1" strike="noStrike">
                <a:solidFill>
                  <a:srgbClr val="191b0e"/>
                </a:solidFill>
                <a:latin typeface="MS Gothic"/>
                <a:ea typeface="MS Gothic"/>
              </a:rPr>
              <a:t>Спасибо за внимание</a:t>
            </a:r>
            <a:endParaRPr b="0" lang="en-US" sz="9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88960" y="42912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</a:pPr>
            <a:r>
              <a:rPr b="1" lang="ru-RU" sz="4400" spc="-1" strike="noStrike" u="sng">
                <a:solidFill>
                  <a:srgbClr val="191b0e"/>
                </a:solidFill>
                <a:uFillTx/>
                <a:latin typeface="Arial Black"/>
              </a:rPr>
              <a:t>Актуальность.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61080" y="1754640"/>
            <a:ext cx="4447440" cy="35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Идея открытия магазина одежды очень привлекательна для представителей малого бизнеса. Одежда- один из наиболее популярных товаров массового потребления на данный момент. Неудивительно, что во многих ТЦ преобладают именно магазины с одеждой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Дизайнеры и другие инфлюенсеры ориентируются на молодежь, стараясь реализовать их спрос(особое виденье на одежду).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266" name="Объект 11" descr=""/>
          <p:cNvPicPr/>
          <p:nvPr/>
        </p:nvPicPr>
        <p:blipFill>
          <a:blip r:embed="rId1"/>
          <a:stretch/>
        </p:blipFill>
        <p:spPr>
          <a:xfrm>
            <a:off x="6095880" y="1680480"/>
            <a:ext cx="566424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23960" y="685800"/>
            <a:ext cx="385524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4000"/>
              </a:lnSpc>
              <a:buNone/>
            </a:pPr>
            <a:r>
              <a:rPr b="1" lang="ru-RU" sz="4400" spc="-1" strike="noStrike" u="sng">
                <a:solidFill>
                  <a:srgbClr val="191b0e"/>
                </a:solidFill>
                <a:uFillTx/>
                <a:latin typeface="Arial Black"/>
              </a:rPr>
              <a:t>Проблема.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26320" y="2114640"/>
            <a:ext cx="3855240" cy="30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113000"/>
              </a:lnSpc>
              <a:spcAft>
                <a:spcPts val="1500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191b0e"/>
                </a:solidFill>
                <a:latin typeface="Franklin Gothic Book"/>
              </a:rPr>
              <a:t>К сожалению, в данной индустрии очень большая конкуренция. В связи с этим нужно знать и уметь ориентироваться на свою аудиторию, соответствуя их ожиданиям.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</p:txBody>
      </p:sp>
      <p:graphicFrame>
        <p:nvGraphicFramePr>
          <p:cNvPr id="269" name="Диаграмма 9"/>
          <p:cNvGraphicFramePr/>
          <p:nvPr/>
        </p:nvGraphicFramePr>
        <p:xfrm>
          <a:off x="5321520" y="685800"/>
          <a:ext cx="6809040" cy="52894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</a:pPr>
            <a:r>
              <a:rPr b="1" lang="ru-RU" sz="4400" spc="-1" strike="noStrike" u="sng">
                <a:solidFill>
                  <a:srgbClr val="191b0e"/>
                </a:solidFill>
                <a:uFillTx/>
                <a:latin typeface="Arial Black"/>
              </a:rPr>
              <a:t>Цель.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54640" y="2068200"/>
            <a:ext cx="41698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800" spc="-1" strike="noStrike">
                <a:solidFill>
                  <a:srgbClr val="191b0e"/>
                </a:solidFill>
                <a:latin typeface="Franklin Gothic Book"/>
              </a:rPr>
              <a:t>Создать свой уникальный бренд одежды, который удовлетворил бы спрос молодежной аудитории.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4827240" y="2171880"/>
            <a:ext cx="2888280" cy="3851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"/>
          <p:cNvPicPr/>
          <p:nvPr/>
        </p:nvPicPr>
        <p:blipFill>
          <a:blip r:embed="rId2"/>
          <a:stretch/>
        </p:blipFill>
        <p:spPr>
          <a:xfrm>
            <a:off x="8177040" y="591480"/>
            <a:ext cx="356976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23960" y="685800"/>
            <a:ext cx="385524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4000"/>
              </a:lnSpc>
              <a:buNone/>
            </a:pPr>
            <a:r>
              <a:rPr b="1" lang="ru-RU" sz="4400" spc="-1" strike="noStrike" u="sng">
                <a:solidFill>
                  <a:srgbClr val="191b0e"/>
                </a:solidFill>
                <a:uFillTx/>
                <a:latin typeface="Arial Black"/>
              </a:rPr>
              <a:t>Задачи.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5" name="Объект 5" descr=""/>
          <p:cNvPicPr/>
          <p:nvPr/>
        </p:nvPicPr>
        <p:blipFill>
          <a:blip r:embed="rId1"/>
          <a:stretch/>
        </p:blipFill>
        <p:spPr>
          <a:xfrm>
            <a:off x="5641920" y="1589760"/>
            <a:ext cx="6442920" cy="339372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22000" y="1764720"/>
            <a:ext cx="4259160" cy="38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13000"/>
              </a:lnSpc>
              <a:spcAft>
                <a:spcPts val="1500"/>
              </a:spcAft>
              <a:buClr>
                <a:srgbClr val="191b0e"/>
              </a:buClr>
              <a:buFont typeface="Franklin Gothic Book"/>
              <a:buAutoNum type="arabicPeriod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Найти поставщика футболок, свитшотов и тд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43080" indent="-343080">
              <a:lnSpc>
                <a:spcPct val="113000"/>
              </a:lnSpc>
              <a:spcAft>
                <a:spcPts val="1500"/>
              </a:spcAft>
              <a:buClr>
                <a:srgbClr val="191b0e"/>
              </a:buClr>
              <a:buFont typeface="Franklin Gothic Book"/>
              <a:buAutoNum type="arabicPeriod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Найти, где печатать принт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43080" indent="-343080">
              <a:lnSpc>
                <a:spcPct val="113000"/>
              </a:lnSpc>
              <a:spcAft>
                <a:spcPts val="1500"/>
              </a:spcAft>
              <a:buClr>
                <a:srgbClr val="191b0e"/>
              </a:buClr>
              <a:buFont typeface="Franklin Gothic Book"/>
              <a:buAutoNum type="arabicPeriod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Создать принт в векторной графике для дальнейшей печати(способ печати: логотип-цифровая печать</a:t>
            </a: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; </a:t>
            </a: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принт- шелкография)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43080" indent="-343080">
              <a:lnSpc>
                <a:spcPct val="113000"/>
              </a:lnSpc>
              <a:spcAft>
                <a:spcPts val="1500"/>
              </a:spcAft>
              <a:buClr>
                <a:srgbClr val="191b0e"/>
              </a:buClr>
              <a:buFont typeface="Franklin Gothic Book"/>
              <a:buAutoNum type="arabicPeriod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Разработать бизнес модель для более глубокого анализирования аудитории и для проработки мелких деталей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77" name="Прямоугольник 6"/>
          <p:cNvSpPr/>
          <p:nvPr/>
        </p:nvSpPr>
        <p:spPr>
          <a:xfrm>
            <a:off x="9600120" y="2443680"/>
            <a:ext cx="1207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Old English Text MT"/>
              </a:rPr>
              <a:t>Killcr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</a:pPr>
            <a:r>
              <a:rPr b="1" lang="ru-RU" sz="4400" spc="-1" strike="noStrike" u="sng">
                <a:solidFill>
                  <a:srgbClr val="191b0e"/>
                </a:solidFill>
                <a:uFillTx/>
                <a:latin typeface="Arial Black"/>
              </a:rPr>
              <a:t>Гипотезы.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69000" y="1653480"/>
            <a:ext cx="7516800" cy="40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При выполнении последнего пункта из задач, мы систематизировали наши вопросы в виде гипотез, которые раскрывали в процессе изучения дела и отвечали на свои вопросы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1. Коммерческий успех не зависит от возраста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2. Любимое дело может принести достойный доход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3. Продукция, ориентированная на определенную аудиторию, будет более прибыльной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8786160" y="3574080"/>
            <a:ext cx="3369600" cy="25264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"/>
          <p:cNvPicPr/>
          <p:nvPr/>
        </p:nvPicPr>
        <p:blipFill>
          <a:blip r:embed="rId2"/>
          <a:stretch/>
        </p:blipFill>
        <p:spPr>
          <a:xfrm>
            <a:off x="8487360" y="331200"/>
            <a:ext cx="3526920" cy="2644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"/>
          <p:cNvPicPr/>
          <p:nvPr/>
        </p:nvPicPr>
        <p:blipFill>
          <a:blip r:embed="rId3"/>
          <a:stretch/>
        </p:blipFill>
        <p:spPr>
          <a:xfrm>
            <a:off x="4658400" y="4649760"/>
            <a:ext cx="302724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2402280" y="575280"/>
            <a:ext cx="7770960" cy="58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</a:pPr>
            <a:r>
              <a:rPr b="1" lang="ru-RU" sz="4400" spc="-1" strike="noStrike" u="sng">
                <a:solidFill>
                  <a:srgbClr val="191b0e"/>
                </a:solidFill>
                <a:uFillTx/>
                <a:latin typeface="Franklin Gothic Book"/>
              </a:rPr>
              <a:t>Содержание интервью с владельцем магазина одежды для молодежи.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0840" cy="35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89520" indent="-3895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7a2bb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chemeClr val="accent5"/>
                </a:solidFill>
                <a:latin typeface="Franklin Gothic Book"/>
              </a:rPr>
              <a:t>Интервьюер</a:t>
            </a:r>
            <a:r>
              <a:rPr b="0" lang="en-US" sz="2000" spc="-1" strike="noStrike">
                <a:solidFill>
                  <a:schemeClr val="accent5"/>
                </a:solidFill>
                <a:latin typeface="Franklin Gothic Book"/>
              </a:rPr>
              <a:t>:</a:t>
            </a:r>
            <a:r>
              <a:rPr b="0" lang="ru-RU" sz="2000" spc="-1" strike="noStrike">
                <a:solidFill>
                  <a:schemeClr val="accent5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Когда Вы заинтересовались бизнесом, связанным с одеждой</a:t>
            </a: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?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9520" indent="-3895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7a2bb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chemeClr val="accent5"/>
                </a:solidFill>
                <a:latin typeface="Franklin Gothic Book"/>
              </a:rPr>
              <a:t>Владелец: </a:t>
            </a: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В сентябре 2018 г занялся перепродажей одежды для молодежи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9520" indent="-3895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7a2bb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chemeClr val="accent5"/>
                </a:solidFill>
                <a:latin typeface="Franklin Gothic Book"/>
              </a:rPr>
              <a:t>И:  </a:t>
            </a: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То есть изначально Вы уже знали для кого производите?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9520" indent="-3895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7a2bb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chemeClr val="accent5"/>
                </a:solidFill>
                <a:latin typeface="Franklin Gothic Book"/>
              </a:rPr>
              <a:t>В</a:t>
            </a: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: Да, для футбольных фанатов и юных любителей спорта. Свитшоты, различные футболки с их тематикой. Сначала продавал со своей страницы в ВК, после создал свою группу в этой же соц. Сети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9520" indent="-3895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7a2bb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chemeClr val="accent5"/>
                </a:solidFill>
                <a:latin typeface="Franklin Gothic Book"/>
              </a:rPr>
              <a:t>И</a:t>
            </a: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:Сколько составлял ваш стартовый капитал?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9520" indent="-3895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7a2bb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chemeClr val="accent5"/>
                </a:solidFill>
                <a:latin typeface="Franklin Gothic Book"/>
              </a:rPr>
              <a:t>В: </a:t>
            </a: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10 тыс. рублей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9520" indent="-3895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7a2bb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chemeClr val="accent5"/>
                </a:solidFill>
                <a:latin typeface="Franklin Gothic Book"/>
              </a:rPr>
              <a:t>И: </a:t>
            </a: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Сколько понадобилось времени, чтобы набрать аудиторию?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9520" indent="-3895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7a2bb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chemeClr val="accent5"/>
                </a:solidFill>
                <a:latin typeface="Franklin Gothic Book"/>
              </a:rPr>
              <a:t>В: </a:t>
            </a: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За первые 2 месяца мне удалось достигнуть отметки в 3 тыс подписчков, после делал рекламу и к Новому Году их кол-во составило 15 тыс., а сейчас их 105 тысяч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9520" indent="-3895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7a2bb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chemeClr val="accent5"/>
                </a:solidFill>
                <a:latin typeface="Franklin Gothic Book"/>
              </a:rPr>
              <a:t>И: </a:t>
            </a: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Сколько товара удалось продать за время существования магазина?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9520" indent="-3895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7a2bb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chemeClr val="accent5"/>
                </a:solidFill>
                <a:latin typeface="Franklin Gothic Book"/>
              </a:rPr>
              <a:t>В: </a:t>
            </a: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За 2 года работы более 15-20 тысяч заказов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9894960" y="1323720"/>
            <a:ext cx="1850400" cy="17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</a:pPr>
            <a:r>
              <a:rPr b="1" lang="ru-RU" sz="4400" spc="-1" strike="noStrike" u="sng">
                <a:solidFill>
                  <a:srgbClr val="191b0e"/>
                </a:solidFill>
                <a:uFillTx/>
                <a:latin typeface="Arial Black"/>
              </a:rPr>
              <a:t>Подтверждение гипотиз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40840" y="1742400"/>
            <a:ext cx="6486840" cy="43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В результате проведенного интервью мы подтверждаем наши гипотезы: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1. Действительно, коммерческий успех не зависит от возраста (герою интервью на данный момент 16 лет)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2. Занятие любимым делом может принести вам достойную прибыль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3. Вероятность коммерческого успеха будет более высокой при ориентировании на определенный клиентский сегмент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4039560" y="4686480"/>
            <a:ext cx="3263760" cy="19198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"/>
          <p:cNvPicPr/>
          <p:nvPr/>
        </p:nvPicPr>
        <p:blipFill>
          <a:blip r:embed="rId2"/>
          <a:stretch/>
        </p:blipFill>
        <p:spPr>
          <a:xfrm>
            <a:off x="7858800" y="2014200"/>
            <a:ext cx="39528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Уголки">
  <a:themeElements>
    <a:clrScheme name="Уголки">
      <a:dk1>
        <a:srgbClr val="000000"/>
      </a:dk1>
      <a:lt1>
        <a:srgbClr val="ffffff"/>
      </a:lt1>
      <a:dk2>
        <a:srgbClr val="191b0e"/>
      </a:dk2>
      <a:lt2>
        <a:srgbClr val="efede3"/>
      </a:lt2>
      <a:accent1>
        <a:srgbClr val="8c8d86"/>
      </a:accent1>
      <a:accent2>
        <a:srgbClr val="e6c069"/>
      </a:accent2>
      <a:accent3>
        <a:srgbClr val="897b61"/>
      </a:accent3>
      <a:accent4>
        <a:srgbClr val="8dab8e"/>
      </a:accent4>
      <a:accent5>
        <a:srgbClr val="77a2bb"/>
      </a:accent5>
      <a:accent6>
        <a:srgbClr val="e28394"/>
      </a:accent6>
      <a:hlink>
        <a:srgbClr val="77a2bb"/>
      </a:hlink>
      <a:folHlink>
        <a:srgbClr val="957a9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Уголки">
  <a:themeElements>
    <a:clrScheme name="Уголки">
      <a:dk1>
        <a:srgbClr val="000000"/>
      </a:dk1>
      <a:lt1>
        <a:srgbClr val="ffffff"/>
      </a:lt1>
      <a:dk2>
        <a:srgbClr val="191b0e"/>
      </a:dk2>
      <a:lt2>
        <a:srgbClr val="efede3"/>
      </a:lt2>
      <a:accent1>
        <a:srgbClr val="8c8d86"/>
      </a:accent1>
      <a:accent2>
        <a:srgbClr val="e6c069"/>
      </a:accent2>
      <a:accent3>
        <a:srgbClr val="897b61"/>
      </a:accent3>
      <a:accent4>
        <a:srgbClr val="8dab8e"/>
      </a:accent4>
      <a:accent5>
        <a:srgbClr val="77a2bb"/>
      </a:accent5>
      <a:accent6>
        <a:srgbClr val="e28394"/>
      </a:accent6>
      <a:hlink>
        <a:srgbClr val="77a2bb"/>
      </a:hlink>
      <a:folHlink>
        <a:srgbClr val="957a9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Уголки">
  <a:themeElements>
    <a:clrScheme name="Уголки">
      <a:dk1>
        <a:srgbClr val="000000"/>
      </a:dk1>
      <a:lt1>
        <a:srgbClr val="ffffff"/>
      </a:lt1>
      <a:dk2>
        <a:srgbClr val="191b0e"/>
      </a:dk2>
      <a:lt2>
        <a:srgbClr val="efede3"/>
      </a:lt2>
      <a:accent1>
        <a:srgbClr val="8c8d86"/>
      </a:accent1>
      <a:accent2>
        <a:srgbClr val="e6c069"/>
      </a:accent2>
      <a:accent3>
        <a:srgbClr val="897b61"/>
      </a:accent3>
      <a:accent4>
        <a:srgbClr val="8dab8e"/>
      </a:accent4>
      <a:accent5>
        <a:srgbClr val="77a2bb"/>
      </a:accent5>
      <a:accent6>
        <a:srgbClr val="e28394"/>
      </a:accent6>
      <a:hlink>
        <a:srgbClr val="77a2bb"/>
      </a:hlink>
      <a:folHlink>
        <a:srgbClr val="957a9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Уголки">
  <a:themeElements>
    <a:clrScheme name="Уголки">
      <a:dk1>
        <a:srgbClr val="000000"/>
      </a:dk1>
      <a:lt1>
        <a:srgbClr val="ffffff"/>
      </a:lt1>
      <a:dk2>
        <a:srgbClr val="191b0e"/>
      </a:dk2>
      <a:lt2>
        <a:srgbClr val="efede3"/>
      </a:lt2>
      <a:accent1>
        <a:srgbClr val="8c8d86"/>
      </a:accent1>
      <a:accent2>
        <a:srgbClr val="e6c069"/>
      </a:accent2>
      <a:accent3>
        <a:srgbClr val="897b61"/>
      </a:accent3>
      <a:accent4>
        <a:srgbClr val="8dab8e"/>
      </a:accent4>
      <a:accent5>
        <a:srgbClr val="77a2bb"/>
      </a:accent5>
      <a:accent6>
        <a:srgbClr val="e28394"/>
      </a:accent6>
      <a:hlink>
        <a:srgbClr val="77a2bb"/>
      </a:hlink>
      <a:folHlink>
        <a:srgbClr val="957a9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Уголки">
  <a:themeElements>
    <a:clrScheme name="Уголки">
      <a:dk1>
        <a:srgbClr val="000000"/>
      </a:dk1>
      <a:lt1>
        <a:srgbClr val="ffffff"/>
      </a:lt1>
      <a:dk2>
        <a:srgbClr val="191b0e"/>
      </a:dk2>
      <a:lt2>
        <a:srgbClr val="efede3"/>
      </a:lt2>
      <a:accent1>
        <a:srgbClr val="8c8d86"/>
      </a:accent1>
      <a:accent2>
        <a:srgbClr val="e6c069"/>
      </a:accent2>
      <a:accent3>
        <a:srgbClr val="897b61"/>
      </a:accent3>
      <a:accent4>
        <a:srgbClr val="8dab8e"/>
      </a:accent4>
      <a:accent5>
        <a:srgbClr val="77a2bb"/>
      </a:accent5>
      <a:accent6>
        <a:srgbClr val="e28394"/>
      </a:accent6>
      <a:hlink>
        <a:srgbClr val="77a2bb"/>
      </a:hlink>
      <a:folHlink>
        <a:srgbClr val="957a9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Уголки">
  <a:themeElements>
    <a:clrScheme name="Уголки">
      <a:dk1>
        <a:srgbClr val="000000"/>
      </a:dk1>
      <a:lt1>
        <a:srgbClr val="ffffff"/>
      </a:lt1>
      <a:dk2>
        <a:srgbClr val="191b0e"/>
      </a:dk2>
      <a:lt2>
        <a:srgbClr val="efede3"/>
      </a:lt2>
      <a:accent1>
        <a:srgbClr val="8c8d86"/>
      </a:accent1>
      <a:accent2>
        <a:srgbClr val="e6c069"/>
      </a:accent2>
      <a:accent3>
        <a:srgbClr val="897b61"/>
      </a:accent3>
      <a:accent4>
        <a:srgbClr val="8dab8e"/>
      </a:accent4>
      <a:accent5>
        <a:srgbClr val="77a2bb"/>
      </a:accent5>
      <a:accent6>
        <a:srgbClr val="e28394"/>
      </a:accent6>
      <a:hlink>
        <a:srgbClr val="77a2bb"/>
      </a:hlink>
      <a:folHlink>
        <a:srgbClr val="957a9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10001105[[fn=Урожай]]</Template>
  <TotalTime>198</TotalTime>
  <Application>LibreOffice/7.4.7.2$Linux_X86_64 LibreOffice_project/40$Build-2</Application>
  <AppVersion>15.0000</AppVersion>
  <Words>658</Words>
  <Paragraphs>14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0T05:57:07Z</dcterms:created>
  <dc:creator>Ирина Герзанич</dc:creator>
  <dc:description/>
  <dc:language>en-US</dc:language>
  <cp:lastModifiedBy>Ирина Герзанич</cp:lastModifiedBy>
  <dcterms:modified xsi:type="dcterms:W3CDTF">2020-03-20T10:36:58Z</dcterms:modified>
  <cp:revision>16</cp:revision>
  <dc:subject/>
  <dc:title>Killcro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4</vt:r8>
  </property>
</Properties>
</file>