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400" spc="-1" strike="noStrike" u="sng">
                <a:solidFill>
                  <a:srgbClr val="595959"/>
                </a:solidFill>
                <a:uFillTx/>
                <a:latin typeface="Franklin Gothic Book"/>
              </a:defRPr>
            </a:pPr>
            <a:r>
              <a:rPr b="1" lang="ru-RU" sz="2400" spc="-1" strike="noStrike" u="sng">
                <a:solidFill>
                  <a:srgbClr val="595959"/>
                </a:solidFill>
                <a:uFillTx/>
                <a:latin typeface="Franklin Gothic Book"/>
              </a:rPr>
              <a:t>Рост спроса на дизайнерскую одежду</a:t>
            </a:r>
          </a:p>
        </c:rich>
      </c:tx>
      <c:layout>
        <c:manualLayout>
          <c:xMode val="edge"/>
          <c:yMode val="edge"/>
          <c:x val="0.17827121332276"/>
          <c:y val="0.0398121682319314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0892413428495903"/>
          <c:y val="0.17115829590309"/>
          <c:w val="0.910705789056305"/>
          <c:h val="0.683067918878454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Ряд 1</c:v>
                </c:pt>
              </c:strCache>
            </c:strRef>
          </c:tx>
          <c:spPr>
            <a:solidFill>
              <a:srgbClr val="8c8d86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Franklin Gothic Book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2015</c:v>
                </c:pt>
                <c:pt idx="1">
                  <c:v>2016</c:v>
                </c:pt>
                <c:pt idx="2">
                  <c:v>2017</c:v>
                </c:pt>
                <c:pt idx="3">
                  <c:v>2018</c:v>
                </c:pt>
                <c:pt idx="4">
                  <c:v>2019</c:v>
                </c:pt>
                <c:pt idx="5">
                  <c:v>2020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14</c:v>
                </c:pt>
                <c:pt idx="1">
                  <c:v>18</c:v>
                </c:pt>
                <c:pt idx="2">
                  <c:v>22</c:v>
                </c:pt>
                <c:pt idx="3">
                  <c:v>35</c:v>
                </c:pt>
                <c:pt idx="4">
                  <c:v>54</c:v>
                </c:pt>
                <c:pt idx="5">
                  <c:v>5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Ряд 2</c:v>
                </c:pt>
              </c:strCache>
            </c:strRef>
          </c:tx>
          <c:spPr>
            <a:solidFill>
              <a:srgbClr val="e6c069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Franklin Gothic Book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2015</c:v>
                </c:pt>
                <c:pt idx="1">
                  <c:v>2016</c:v>
                </c:pt>
                <c:pt idx="2">
                  <c:v>2017</c:v>
                </c:pt>
                <c:pt idx="3">
                  <c:v>2018</c:v>
                </c:pt>
                <c:pt idx="4">
                  <c:v>2019</c:v>
                </c:pt>
                <c:pt idx="5">
                  <c:v>2020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Ряд 3</c:v>
                </c:pt>
              </c:strCache>
            </c:strRef>
          </c:tx>
          <c:spPr>
            <a:solidFill>
              <a:srgbClr val="897b6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Franklin Gothic Book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2015</c:v>
                </c:pt>
                <c:pt idx="1">
                  <c:v>2016</c:v>
                </c:pt>
                <c:pt idx="2">
                  <c:v>2017</c:v>
                </c:pt>
                <c:pt idx="3">
                  <c:v>2018</c:v>
                </c:pt>
                <c:pt idx="4">
                  <c:v>2019</c:v>
                </c:pt>
                <c:pt idx="5">
                  <c:v>2020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6"/>
              </c:numCache>
            </c:numRef>
          </c:val>
        </c:ser>
        <c:gapWidth val="219"/>
        <c:overlap val="-27"/>
        <c:axId val="76957055"/>
        <c:axId val="28640562"/>
      </c:barChart>
      <c:catAx>
        <c:axId val="76957055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Franklin Gothic Book"/>
              </a:defRPr>
            </a:pPr>
          </a:p>
        </c:txPr>
        <c:crossAx val="28640562"/>
        <c:crosses val="autoZero"/>
        <c:auto val="1"/>
        <c:lblAlgn val="ctr"/>
        <c:lblOffset val="100"/>
        <c:noMultiLvlLbl val="0"/>
      </c:catAx>
      <c:valAx>
        <c:axId val="28640562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Franklin Gothic Book"/>
              </a:defRPr>
            </a:pPr>
          </a:p>
        </c:txPr>
        <c:crossAx val="76957055"/>
        <c:crosses val="autoZero"/>
        <c:crossBetween val="between"/>
      </c:valAx>
      <c:spPr>
        <a:solidFill>
          <a:srgbClr val="f0d9a5"/>
        </a:solidFill>
        <a:ln w="0">
          <a:solidFill>
            <a:srgbClr val="191b0e"/>
          </a:solidFill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2C07-FA1D-4441-96EF-9BA8E425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2F77-E96E-4052-AFE6-B83BAA37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F75-7811-4CC4-883B-D20D0681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3219-F09E-4CCB-B03C-1152523B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B873-90F5-40C7-8351-DF12F766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606C-78B6-4A8B-8D25-3D574141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9F19-500B-4075-A6E8-807E790A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EC8C-CE2F-4A5C-BC52-997ADDB0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CA36-6F65-4FD7-9B55-6EBF2E0F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084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0362-6C74-49B6-8927-0CD15B7F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2ED8-77AC-473D-ABD2-5F438D6B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D5DE-884F-4ABB-B951-54BDEF37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2A63-8682-4D6C-9CE1-58847497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292B-3FB2-48C6-BD18-744F08D2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180D-EAFE-4D65-92A8-183DFD0F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51B1-813F-4F38-99E9-B284088E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6F5D-8E96-4721-8344-CCF53D30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519E7-4A83-4863-B24B-D4922BE2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B3A18-D17F-4CAA-BCE7-198A30FE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97EF6-29C9-4DC6-8A8D-F40D56E3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EF94A-6D42-40A4-A783-F013AA1E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2C5CD-02F8-44C5-88BE-451AC706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55BD-F0F5-41C8-8DCD-FC050885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084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D3B3F-DBE9-4840-9EF6-00A5A979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CEF29-A901-4AC4-85F1-1D351C7C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100C2-2817-4346-AC8E-82B1FB62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2A806-AD73-4054-B592-CDFFF037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21C2D-87AB-4A4E-8989-23291959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32BDF-D1B6-47EA-890F-826203AD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DBD7C-1456-4DDF-9E24-C2075CE4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F4F54-5576-4946-B362-60F77BF1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964AC-7CD3-424A-BB88-1C192F10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32CEE-C794-4290-95E2-7FD4316F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3BC-2E2E-4254-852E-DB1E4307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978DE-B012-4771-8DFA-F3B5EDA2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645B8-C1D8-499D-BBDB-F1B2FD6C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084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08E78-8EAD-4B6A-88D9-94F10B95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4B17C-B83A-4CE9-B33C-709FB86D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8C3E2-47EA-47C4-9FF9-94C01D96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6A678-C7EB-4F67-AEC6-CFE9D7F3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E1956-E052-4936-9806-0B8D0FE1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FFA36-2F32-48A9-AA14-BF40D4FD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95253-6D16-4E8F-9A03-F937A4EE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E80B9-109B-47E1-903F-32A3FBDD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194E-0853-45F8-8AA3-3E5E7729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BF1DA-8507-4165-BEA9-584F28EB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515AE-8353-49D7-9233-EAED3EC8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BC061-7366-4FDE-B4DF-F0126F30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1137D-1BF7-4638-86C4-C634AA3D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084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D8526-4D87-4C46-989B-6308B9E4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4ECCE-4323-4BA4-8892-E84A51A1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28AFB-CE8C-4C4B-B9F5-3E686411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6BF88-EA92-449C-9A4A-FB43F573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F862B-7421-433D-9CE2-847B9469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61F38-285B-454D-B13F-8558AA41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084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E0A-FA7E-42CE-8170-D3EAA4AC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75A41-1BE6-4445-9F5D-0712E059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78B60-C73A-44A7-87CD-A66234B5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0CFA4-1B00-47C0-AA69-B0B6E659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04E58-C4EF-4D7B-8567-55CABE68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499FF-2D01-497E-AA11-2CE6BEFD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22152-228E-44DC-A8E3-B6107FBF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084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D9ECA-CB52-4940-84A0-57CA8C61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ACF57-876E-492B-9955-7FC385F8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551EC-E8B5-493D-AA4C-F0706FA0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251C5-B914-46F0-A9F2-D5CB649D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8D1-FF1A-4085-B026-AE6304A0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2EC3C-7C89-4FED-941B-80B02B57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3DE9C-3994-4BAD-B63E-0C906D8C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1A04D-23F3-4D8A-BDBB-6BC60397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E86C-0E01-449D-AEA3-61E9F960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9E7-DB10-4DD6-9CD5-C743E2A7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 hidden="1"/>
          <p:cNvSpPr/>
          <p:nvPr/>
        </p:nvSpPr>
        <p:spPr>
          <a:xfrm>
            <a:off x="47808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15200" y="1788480"/>
            <a:ext cx="8361000" cy="209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</a:pPr>
            <a:r>
              <a:rPr b="0" lang="ru-RU" sz="7200" spc="-1" strike="noStrike" cap="all">
                <a:solidFill>
                  <a:srgbClr val="191b0e"/>
                </a:solidFill>
                <a:latin typeface="Franklin Gothic Book"/>
              </a:rPr>
              <a:t>Образец заголовка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2760" y="6453360"/>
            <a:ext cx="160776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584080" y="6453360"/>
            <a:ext cx="70228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9830520" y="6453360"/>
            <a:ext cx="15958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EB5162-C045-4A15-ACB6-1804C048C775}" type="slidenum"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752760" y="744120"/>
            <a:ext cx="10673640" cy="5349600"/>
            <a:chOff x="752760" y="744120"/>
            <a:chExt cx="10673640" cy="5349600"/>
          </a:xfrm>
        </p:grpSpPr>
        <p:sp>
          <p:nvSpPr>
            <p:cNvPr id="6" name="Freeform 6"/>
            <p:cNvSpPr/>
            <p:nvPr/>
          </p:nvSpPr>
          <p:spPr>
            <a:xfrm>
              <a:off x="8151840" y="1685520"/>
              <a:ext cx="3274560" cy="4408200"/>
            </a:xfrm>
            <a:custGeom>
              <a:avLst/>
              <a:gdLst>
                <a:gd name="textAreaLeft" fmla="*/ 0 w 3274560"/>
                <a:gd name="textAreaRight" fmla="*/ 3274920 w 3274560"/>
                <a:gd name="textAreaTop" fmla="*/ 0 h 4408200"/>
                <a:gd name="textAreaBottom" fmla="*/ 4408560 h 4408200"/>
              </a:gdLst>
              <a:ahLst/>
              <a:rect l="textAreaLeft" t="textAreaTop" r="textAreaRight" b="textAreaBottom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6"/>
            <p:cNvSpPr/>
            <p:nvPr/>
          </p:nvSpPr>
          <p:spPr>
            <a:xfrm flipH="1" flipV="1">
              <a:off x="752400" y="743760"/>
              <a:ext cx="3275280" cy="4408200"/>
            </a:xfrm>
            <a:custGeom>
              <a:avLst/>
              <a:gdLst>
                <a:gd name="textAreaLeft" fmla="*/ 360 w 3275280"/>
                <a:gd name="textAreaRight" fmla="*/ 3276000 w 3275280"/>
                <a:gd name="textAreaTop" fmla="*/ -360 h 4408200"/>
                <a:gd name="textAreaBottom" fmla="*/ 4408200 h 4408200"/>
              </a:gdLst>
              <a:ahLst/>
              <a:rect l="textAreaLeft" t="textAreaTop" r="textAreaRight" b="textAreaBottom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4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864000" indent="-324000">
              <a:lnSpc>
                <a:spcPct val="94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296000" indent="-288000">
              <a:lnSpc>
                <a:spcPct val="94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US" sz="18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i="1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728000" indent="-216000">
              <a:lnSpc>
                <a:spcPct val="94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160000" indent="-216000">
              <a:lnSpc>
                <a:spcPct val="94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592000" indent="-216000">
              <a:lnSpc>
                <a:spcPct val="94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3024000" indent="-216000">
              <a:lnSpc>
                <a:spcPct val="94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47808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0" lang="ru-RU" sz="4400" spc="-1" strike="noStrike">
                <a:solidFill>
                  <a:srgbClr val="191b0e"/>
                </a:solidFill>
                <a:latin typeface="Franklin Gothic Book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44474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Образец текста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Второй уровень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800" spc="-1" strike="noStrike">
                <a:solidFill>
                  <a:srgbClr val="191b0e"/>
                </a:solidFill>
                <a:latin typeface="Franklin Gothic Book"/>
              </a:rPr>
              <a:t>Третий уровень</a:t>
            </a:r>
            <a:endParaRPr b="0" i="1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1800" spc="-1" strike="noStrike">
                <a:solidFill>
                  <a:srgbClr val="191b0e"/>
                </a:solidFill>
                <a:latin typeface="Franklin Gothic Book"/>
              </a:rPr>
              <a:t>Четвертый уровень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600" spc="-1" strike="noStrike">
                <a:solidFill>
                  <a:srgbClr val="191b0e"/>
                </a:solidFill>
                <a:latin typeface="Franklin Gothic Book"/>
              </a:rPr>
              <a:t>Пятый уровень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525360" y="2286000"/>
            <a:ext cx="44474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Образец текста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Второй уровень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800" spc="-1" strike="noStrike">
                <a:solidFill>
                  <a:srgbClr val="191b0e"/>
                </a:solidFill>
                <a:latin typeface="Franklin Gothic Book"/>
              </a:rPr>
              <a:t>Третий уровень</a:t>
            </a:r>
            <a:endParaRPr b="0" i="1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1800" spc="-1" strike="noStrike">
                <a:solidFill>
                  <a:srgbClr val="191b0e"/>
                </a:solidFill>
                <a:latin typeface="Franklin Gothic Book"/>
              </a:rPr>
              <a:t>Четвертый уровень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600" spc="-1" strike="noStrike">
                <a:solidFill>
                  <a:srgbClr val="191b0e"/>
                </a:solidFill>
                <a:latin typeface="Franklin Gothic Book"/>
              </a:rPr>
              <a:t>Пятый уровень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1390680" y="6453360"/>
            <a:ext cx="120420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2893680" y="6453360"/>
            <a:ext cx="628056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9472680" y="6453360"/>
            <a:ext cx="15958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1893FC-EB8B-4D7B-B2EE-46F56D1B0523}" type="slidenum"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 hidden="1"/>
          <p:cNvSpPr/>
          <p:nvPr/>
        </p:nvSpPr>
        <p:spPr>
          <a:xfrm>
            <a:off x="47808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360"/>
            <a:ext cx="5303160" cy="685728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3960" y="685800"/>
            <a:ext cx="3855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4000"/>
              </a:lnSpc>
              <a:buNone/>
            </a:pPr>
            <a:r>
              <a:rPr b="0" lang="ru-RU" sz="4800" spc="-1" strike="noStrike">
                <a:solidFill>
                  <a:srgbClr val="191b0e"/>
                </a:solidFill>
                <a:latin typeface="Franklin Gothic Book"/>
              </a:rPr>
              <a:t>Образец заголовка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532120" y="0"/>
            <a:ext cx="6659640" cy="68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Вставка рисунка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723960" y="2855880"/>
            <a:ext cx="3855240" cy="30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Aft>
                <a:spcPts val="1500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191b0e"/>
                </a:solidFill>
                <a:latin typeface="Franklin Gothic Book"/>
              </a:rPr>
              <a:t>Образец текста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723960" y="6453360"/>
            <a:ext cx="120420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2206080" y="6453360"/>
            <a:ext cx="23734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9883080" y="6453360"/>
            <a:ext cx="15958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5A3170-F17E-4506-AF9F-696C99A0F3B1}" type="slidenum"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530352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47808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0" lang="ru-RU" sz="4400" spc="-1" strike="noStrike">
                <a:solidFill>
                  <a:srgbClr val="191b0e"/>
                </a:solidFill>
                <a:latin typeface="Franklin Gothic Book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08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Образец текста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Второй уровень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800" spc="-1" strike="noStrike">
                <a:solidFill>
                  <a:srgbClr val="191b0e"/>
                </a:solidFill>
                <a:latin typeface="Franklin Gothic Book"/>
              </a:rPr>
              <a:t>Третий уровень</a:t>
            </a:r>
            <a:endParaRPr b="0" i="1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1800" spc="-1" strike="noStrike">
                <a:solidFill>
                  <a:srgbClr val="191b0e"/>
                </a:solidFill>
                <a:latin typeface="Franklin Gothic Book"/>
              </a:rPr>
              <a:t>Четвертый уровень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600" spc="-1" strike="noStrike">
                <a:solidFill>
                  <a:srgbClr val="191b0e"/>
                </a:solidFill>
                <a:latin typeface="Franklin Gothic Book"/>
              </a:rPr>
              <a:t>Пятый уровень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390680" y="6453360"/>
            <a:ext cx="120420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893680" y="6453360"/>
            <a:ext cx="628056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472680" y="6453360"/>
            <a:ext cx="15958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320292-8ECF-49E5-871B-D2270573BF3F}" type="slidenum"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 hidden="1"/>
          <p:cNvSpPr/>
          <p:nvPr/>
        </p:nvSpPr>
        <p:spPr>
          <a:xfrm>
            <a:off x="47808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0" y="360"/>
            <a:ext cx="5303160" cy="685728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23960" y="685800"/>
            <a:ext cx="3855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4000"/>
              </a:lnSpc>
              <a:buNone/>
            </a:pPr>
            <a:r>
              <a:rPr b="0" lang="ru-RU" sz="4800" spc="-1" strike="noStrike">
                <a:solidFill>
                  <a:srgbClr val="191b0e"/>
                </a:solidFill>
                <a:latin typeface="Franklin Gothic Book"/>
              </a:rPr>
              <a:t>Образец заголовка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256080" y="685800"/>
            <a:ext cx="52117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Образец текста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2000" spc="-1" strike="noStrike">
                <a:solidFill>
                  <a:srgbClr val="191b0e"/>
                </a:solidFill>
                <a:latin typeface="Franklin Gothic Book"/>
              </a:rPr>
              <a:t>Второй уровень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800" spc="-1" strike="noStrike">
                <a:solidFill>
                  <a:srgbClr val="191b0e"/>
                </a:solidFill>
                <a:latin typeface="Franklin Gothic Book"/>
              </a:rPr>
              <a:t>Третий уровень</a:t>
            </a:r>
            <a:endParaRPr b="0" i="1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</a:pPr>
            <a:r>
              <a:rPr b="0" i="1" lang="ru-RU" sz="1800" spc="-1" strike="noStrike">
                <a:solidFill>
                  <a:srgbClr val="191b0e"/>
                </a:solidFill>
                <a:latin typeface="Franklin Gothic Book"/>
              </a:rPr>
              <a:t>Четвертый уровень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4120">
              <a:lnSpc>
                <a:spcPct val="94000"/>
              </a:lnSpc>
              <a:spcBef>
                <a:spcPts val="499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1600" spc="-1" strike="noStrike">
                <a:solidFill>
                  <a:srgbClr val="191b0e"/>
                </a:solidFill>
                <a:latin typeface="Franklin Gothic Book"/>
              </a:rPr>
              <a:t>Пятый уровень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body"/>
          </p:nvPr>
        </p:nvSpPr>
        <p:spPr>
          <a:xfrm>
            <a:off x="723960" y="2856240"/>
            <a:ext cx="3855240" cy="301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Aft>
                <a:spcPts val="1500"/>
              </a:spcAft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191b0e"/>
                </a:solidFill>
                <a:latin typeface="Franklin Gothic Book"/>
              </a:rPr>
              <a:t>Образец текста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dt" idx="13"/>
          </p:nvPr>
        </p:nvSpPr>
        <p:spPr>
          <a:xfrm>
            <a:off x="723960" y="6453360"/>
            <a:ext cx="120420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2206080" y="6453360"/>
            <a:ext cx="23734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9883080" y="6453360"/>
            <a:ext cx="15958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749104-4F7D-45C0-A59E-BF28C73EEB0E}" type="slidenum"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30352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8"/>
          <p:cNvSpPr/>
          <p:nvPr/>
        </p:nvSpPr>
        <p:spPr>
          <a:xfrm>
            <a:off x="478080" y="360"/>
            <a:ext cx="2282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0" lang="ru-RU" sz="4400" spc="-1" strike="noStrike">
                <a:solidFill>
                  <a:srgbClr val="191b0e"/>
                </a:solidFill>
                <a:latin typeface="Franklin Gothic Book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390680" y="6453360"/>
            <a:ext cx="120420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17"/>
          </p:nvPr>
        </p:nvSpPr>
        <p:spPr>
          <a:xfrm>
            <a:off x="2893680" y="6453360"/>
            <a:ext cx="628056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8"/>
          </p:nvPr>
        </p:nvSpPr>
        <p:spPr>
          <a:xfrm>
            <a:off x="9472680" y="6453360"/>
            <a:ext cx="1595880" cy="40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191b0e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265736-2A04-436E-9CD4-A0A577831AF2}" type="slidenum">
              <a:rPr b="0" lang="ru-RU" sz="1200" spc="-1" strike="noStrike">
                <a:solidFill>
                  <a:srgbClr val="191b0e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4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864000" indent="-324000">
              <a:lnSpc>
                <a:spcPct val="94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296000" indent="-288000">
              <a:lnSpc>
                <a:spcPct val="94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i="1" lang="en-US" sz="18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i="1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728000" indent="-216000">
              <a:lnSpc>
                <a:spcPct val="94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160000" indent="-216000">
              <a:lnSpc>
                <a:spcPct val="94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592000" indent="-216000">
              <a:lnSpc>
                <a:spcPct val="94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3024000" indent="-216000">
              <a:lnSpc>
                <a:spcPct val="94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523880" y="4341240"/>
            <a:ext cx="914364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2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191b0e"/>
                </a:solidFill>
                <a:latin typeface="Franklin Gothic Book"/>
              </a:rPr>
              <a:t>Проектная работа выполнена</a:t>
            </a:r>
            <a:r>
              <a:rPr b="0" lang="en-US" sz="1400" spc="-1" strike="noStrike">
                <a:solidFill>
                  <a:srgbClr val="191b0e"/>
                </a:solidFill>
                <a:latin typeface="Franklin Gothic Book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191b0e"/>
                </a:solidFill>
                <a:latin typeface="Franklin Gothic Book"/>
              </a:rPr>
              <a:t>Герзанич Ксенией, Желудевой Елизавет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191b0e"/>
                </a:solidFill>
                <a:latin typeface="Franklin Gothic Book"/>
              </a:rPr>
              <a:t>Грибовой Еленой, Земсковой Ангелин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430000" y="1472400"/>
            <a:ext cx="7529040" cy="266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8320" y="208080"/>
            <a:ext cx="5090760" cy="115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0">
              <a:lnSpc>
                <a:spcPct val="84000"/>
              </a:lnSpc>
              <a:buNone/>
            </a:pPr>
            <a:r>
              <a:rPr b="1" lang="ru-RU" sz="7200" spc="-1" strike="noStrike" u="sng">
                <a:solidFill>
                  <a:srgbClr val="191b0e"/>
                </a:solidFill>
                <a:uFillTx/>
                <a:latin typeface="Arial Black"/>
              </a:rPr>
              <a:t>Название и логотип</a:t>
            </a:r>
            <a:endParaRPr b="0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7880" y="2415600"/>
            <a:ext cx="3931920" cy="115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indent="0">
              <a:lnSpc>
                <a:spcPct val="113000"/>
              </a:lnSpc>
              <a:spcAft>
                <a:spcPts val="1500"/>
              </a:spcAft>
              <a:buNone/>
              <a:tabLst>
                <a:tab algn="l" pos="0"/>
              </a:tabLst>
            </a:pPr>
            <a:r>
              <a:rPr b="0" lang="ru-RU" sz="3800" spc="-1" strike="noStrike">
                <a:solidFill>
                  <a:srgbClr val="191b0e"/>
                </a:solidFill>
                <a:latin typeface="Franklin Gothic Book"/>
              </a:rPr>
              <a:t>Запуск бренда начинается с создания оригинального названия и подбора внешнего вида модели.</a:t>
            </a:r>
            <a:endParaRPr b="0" lang="en-US" sz="380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113000"/>
              </a:lnSpc>
              <a:spcAft>
                <a:spcPts val="1500"/>
              </a:spcAft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73080" y="4386240"/>
            <a:ext cx="6739200" cy="23864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2"/>
          <a:stretch/>
        </p:blipFill>
        <p:spPr>
          <a:xfrm>
            <a:off x="4974840" y="207000"/>
            <a:ext cx="3331440" cy="40557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"/>
          <p:cNvPicPr/>
          <p:nvPr/>
        </p:nvPicPr>
        <p:blipFill>
          <a:blip r:embed="rId3"/>
          <a:stretch/>
        </p:blipFill>
        <p:spPr>
          <a:xfrm>
            <a:off x="9234000" y="355320"/>
            <a:ext cx="2551320" cy="4536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"/>
          <p:cNvPicPr/>
          <p:nvPr/>
        </p:nvPicPr>
        <p:blipFill>
          <a:blip r:embed="rId4"/>
          <a:stretch/>
        </p:blipFill>
        <p:spPr>
          <a:xfrm>
            <a:off x="7276320" y="3429000"/>
            <a:ext cx="1998360" cy="31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3520" y="669960"/>
            <a:ext cx="8591760" cy="132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Arial Black"/>
              </a:rPr>
              <a:t>КЛИЕНТСКИЙ СЕГМЕНТ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TextBox 5"/>
          <p:cNvSpPr/>
          <p:nvPr/>
        </p:nvSpPr>
        <p:spPr>
          <a:xfrm>
            <a:off x="1112040" y="1815480"/>
            <a:ext cx="402804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Нашим клиентским сегментом является молодёжь от 14 до 30 лет. Так как мы направлены на молодё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8343360" y="1349280"/>
            <a:ext cx="3518640" cy="35128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4381200" y="3429000"/>
            <a:ext cx="383148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 rot="16200000">
            <a:off x="-1785960" y="2144520"/>
            <a:ext cx="5335200" cy="109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9000"/>
              </a:lnSpc>
              <a:buNone/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 Black"/>
              </a:rPr>
              <a:t>БИЗНЕС-МОДЕЛЬ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02" name="Таблица 2"/>
          <p:cNvGraphicFramePr/>
          <p:nvPr/>
        </p:nvGraphicFramePr>
        <p:xfrm>
          <a:off x="1153440" y="21960"/>
          <a:ext cx="10606320" cy="7671600"/>
        </p:xfrm>
        <a:graphic>
          <a:graphicData uri="http://schemas.openxmlformats.org/drawingml/2006/table">
            <a:tbl>
              <a:tblPr/>
              <a:tblGrid>
                <a:gridCol w="2624760"/>
                <a:gridCol w="1758960"/>
                <a:gridCol w="2090520"/>
                <a:gridCol w="2487600"/>
                <a:gridCol w="1643760"/>
              </a:tblGrid>
              <a:tr h="3600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6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ПУНКТ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ПУНКТ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ПУНКТ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1600" spc="-1" strike="noStrike">
                          <a:solidFill>
                            <a:schemeClr val="lt1"/>
                          </a:solidFill>
                          <a:latin typeface="Franklin Gothic Book"/>
                        </a:rPr>
                        <a:t>ПУНКТ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6984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КЛЮЧЕ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ПАРТН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ОСТАВЩ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ТРАНСПОРТ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КОМПА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</a:tr>
              <a:tr h="9356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КЛЮЧЕ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ВИ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ОЗН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ТОРГОВ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ОДЕЖД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               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6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6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54288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КЛЮЧЕВ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РЕСУР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МАТЕРИ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ИНТЕЛЛЕКТУ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ЧЕЛОВЕ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6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ФИНАНСОВ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</a:tr>
              <a:tr h="93564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ПРЕДСТАВЛ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Ц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КАЧЕСТВ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ОДЕЖДА П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ДОСТУПНОЙ ЦЕ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УНИКАЛЬ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ДИЗАЙ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ВОЗМОЖНОСТЬ НАПЕЧАТАТЬ СВОЙ ДИЗАЙН НА НАШЕЙ ВЕ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4608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ВЗАИМО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С КЛИЕН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ГРУППЫ В СОЦ. СЕТ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СМС-РАССЫЛ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</a:tr>
              <a:tr h="6300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КАНАЛ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СБЫ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СООБ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ВКОНТАК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en-US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INSTA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ЗНАКОМ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(ПУБЛИЧНЫЕ ЛИЧ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6984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КЛИ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ОДРОСТ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(11-1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ЛЮДИ,КОТОРЫЕ СЛЕДЯТ ЗА МОДОЙ И ТРЕНД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РОДИТЕЛИ МОЛОДОГО И СРЕДНЕГО ВОЗРА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</a:tr>
              <a:tr h="69840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ИЗДЕРЖ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ЗАКУПКА ТОВА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ЗАРП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КОМА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НАЛОГ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СБ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6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ПЕЧАТЬ ПРИ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727560">
                <a:tc>
                  <a:txBody>
                    <a:bodyPr lIns="39240" rIns="39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ПОТО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Arial Black"/>
                        </a:rPr>
                        <a:t>ДО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ВЫРУЧКА ОТ ОНЛАЙН-ПРОДА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6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6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  <a:tc>
                  <a:txBody>
                    <a:bodyPr lIns="39240" rIns="39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6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0" lang="ru-RU" sz="21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240" marR="392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ada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9000"/>
              </a:lnSpc>
              <a:buNone/>
            </a:pPr>
            <a:r>
              <a:rPr b="1" lang="ru-RU" sz="9600" spc="-1" strike="noStrike" u="sng">
                <a:solidFill>
                  <a:srgbClr val="191b0e"/>
                </a:solidFill>
                <a:uFillTx/>
                <a:latin typeface="Arial Black"/>
              </a:rPr>
              <a:t>итоги</a:t>
            </a:r>
            <a:endParaRPr b="0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1371600" y="2454840"/>
            <a:ext cx="835272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Мы выполнили все наши 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-</a:t>
            </a:r>
            <a:r>
              <a:rPr b="0" lang="ru-RU" sz="2400" spc="-1" strike="noStrike">
                <a:solidFill>
                  <a:srgbClr val="595959"/>
                </a:solidFill>
                <a:latin typeface="Franklin Gothic Book"/>
              </a:rPr>
              <a:t>нашли поставщика футбо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-</a:t>
            </a:r>
            <a:r>
              <a:rPr b="0" lang="ru-RU" sz="2400" spc="-1" strike="noStrike">
                <a:solidFill>
                  <a:srgbClr val="595959"/>
                </a:solidFill>
                <a:latin typeface="Franklin Gothic Book"/>
              </a:rPr>
              <a:t>нашли фабрику по производству одежды (с собственными принт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-</a:t>
            </a:r>
            <a:r>
              <a:rPr b="0" lang="ru-RU" sz="2400" spc="-1" strike="noStrike">
                <a:solidFill>
                  <a:srgbClr val="595959"/>
                </a:solidFill>
                <a:latin typeface="Franklin Gothic Book"/>
              </a:rPr>
              <a:t>создали в векторной графике свои принты и логот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-</a:t>
            </a:r>
            <a:r>
              <a:rPr b="0" lang="ru-RU" sz="2400" spc="-1" strike="noStrike">
                <a:solidFill>
                  <a:srgbClr val="595959"/>
                </a:solidFill>
                <a:latin typeface="Franklin Gothic Book"/>
              </a:rPr>
              <a:t>разработали бизнес-мод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-</a:t>
            </a:r>
            <a:r>
              <a:rPr b="0" lang="ru-RU" sz="2400" spc="-1" strike="noStrike">
                <a:solidFill>
                  <a:srgbClr val="595959"/>
                </a:solidFill>
                <a:latin typeface="Franklin Gothic Book"/>
              </a:rPr>
              <a:t>создали тов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accent6">
                    <a:lumMod val="50000"/>
                  </a:schemeClr>
                </a:solidFill>
                <a:latin typeface="Franklin Gothic Book"/>
              </a:rPr>
              <a:t>-</a:t>
            </a:r>
            <a:r>
              <a:rPr b="0" lang="ru-RU" sz="2400" spc="-1" strike="noStrike">
                <a:solidFill>
                  <a:srgbClr val="595959"/>
                </a:solidFill>
                <a:latin typeface="Franklin Gothic Book"/>
              </a:rPr>
              <a:t>нашли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96440" y="1155240"/>
            <a:ext cx="1011168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0" lang="ru-RU" sz="9600" spc="-1" strike="noStrike">
                <a:solidFill>
                  <a:srgbClr val="191b0e"/>
                </a:solidFill>
                <a:latin typeface="MS Gothic"/>
                <a:ea typeface="MS Gothic"/>
              </a:rPr>
              <a:t>Спасибо за внимание</a:t>
            </a:r>
            <a:endParaRPr b="0" lang="en-US" sz="9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88960" y="42912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Arial Black"/>
              </a:rPr>
              <a:t>Актуальность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61080" y="1754640"/>
            <a:ext cx="44474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Идея открытия магазина одежды очень привлекательна для представителей малого бизнеса. Одежда- один из наиболее популярных товаров массового потребления на данный момент. Неудивительно, что во многих ТЦ преобладают именно магазины с одеждой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Дизайнеры и другие инфлюенсеры ориентируются на молодежь, стараясь реализовать их спрос(особое виденье на одежду).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66" name="Объект 11" descr=""/>
          <p:cNvPicPr/>
          <p:nvPr/>
        </p:nvPicPr>
        <p:blipFill>
          <a:blip r:embed="rId1"/>
          <a:stretch/>
        </p:blipFill>
        <p:spPr>
          <a:xfrm>
            <a:off x="6095880" y="1680480"/>
            <a:ext cx="566424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23960" y="685800"/>
            <a:ext cx="3855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4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Arial Black"/>
              </a:rPr>
              <a:t>Проблема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26320" y="2114640"/>
            <a:ext cx="3855240" cy="30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13000"/>
              </a:lnSpc>
              <a:spcAft>
                <a:spcPts val="150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191b0e"/>
                </a:solidFill>
                <a:latin typeface="Franklin Gothic Book"/>
              </a:rPr>
              <a:t>К сожалению, в данной индустрии очень большая конкуренция. В связи с этим нужно знать и уметь ориентироваться на свою аудиторию, соответствуя их ожиданиям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  <p:graphicFrame>
        <p:nvGraphicFramePr>
          <p:cNvPr id="269" name="Диаграмма 9"/>
          <p:cNvGraphicFramePr/>
          <p:nvPr/>
        </p:nvGraphicFramePr>
        <p:xfrm>
          <a:off x="5321520" y="685800"/>
          <a:ext cx="6809040" cy="5289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Arial Black"/>
              </a:rPr>
              <a:t>Цель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54640" y="2068200"/>
            <a:ext cx="4169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800" spc="-1" strike="noStrike">
                <a:solidFill>
                  <a:srgbClr val="191b0e"/>
                </a:solidFill>
                <a:latin typeface="Franklin Gothic Book"/>
              </a:rPr>
              <a:t>Создать свой уникальный бренд одежды, который удовлетворил бы спрос молодежной аудитории.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4827240" y="2171880"/>
            <a:ext cx="2888280" cy="3851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8177040" y="591480"/>
            <a:ext cx="35697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23960" y="685800"/>
            <a:ext cx="3855240" cy="21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4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Arial Black"/>
              </a:rPr>
              <a:t>Задачи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Объект 5" descr=""/>
          <p:cNvPicPr/>
          <p:nvPr/>
        </p:nvPicPr>
        <p:blipFill>
          <a:blip r:embed="rId1"/>
          <a:stretch/>
        </p:blipFill>
        <p:spPr>
          <a:xfrm>
            <a:off x="5641920" y="1589760"/>
            <a:ext cx="6442920" cy="33937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22000" y="1764720"/>
            <a:ext cx="4259160" cy="38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13000"/>
              </a:lnSpc>
              <a:spcAft>
                <a:spcPts val="1500"/>
              </a:spcAft>
              <a:buClr>
                <a:srgbClr val="191b0e"/>
              </a:buClr>
              <a:buFont typeface="Franklin Gothic Book"/>
              <a:buAutoNum type="arabicPeriod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Найти поставщика футболок, свитшотов и тд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43080" indent="-343080">
              <a:lnSpc>
                <a:spcPct val="113000"/>
              </a:lnSpc>
              <a:spcAft>
                <a:spcPts val="1500"/>
              </a:spcAft>
              <a:buClr>
                <a:srgbClr val="191b0e"/>
              </a:buClr>
              <a:buFont typeface="Franklin Gothic Book"/>
              <a:buAutoNum type="arabicPeriod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Найти, где печатать принт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43080" indent="-343080">
              <a:lnSpc>
                <a:spcPct val="113000"/>
              </a:lnSpc>
              <a:spcAft>
                <a:spcPts val="1500"/>
              </a:spcAft>
              <a:buClr>
                <a:srgbClr val="191b0e"/>
              </a:buClr>
              <a:buFont typeface="Franklin Gothic Book"/>
              <a:buAutoNum type="arabicPeriod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Создать принт в векторной графике для дальнейшей печати(способ печати: логотип-цифровая печать</a:t>
            </a: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;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принт- шелкография)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43080" indent="-343080">
              <a:lnSpc>
                <a:spcPct val="113000"/>
              </a:lnSpc>
              <a:spcAft>
                <a:spcPts val="1500"/>
              </a:spcAft>
              <a:buClr>
                <a:srgbClr val="191b0e"/>
              </a:buClr>
              <a:buFont typeface="Franklin Gothic Book"/>
              <a:buAutoNum type="arabicPeriod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Разработать бизнес модель для более глубокого анализирования аудитории и для проработки мелких деталей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7" name="Прямоугольник 6"/>
          <p:cNvSpPr/>
          <p:nvPr/>
        </p:nvSpPr>
        <p:spPr>
          <a:xfrm>
            <a:off x="9600120" y="2443680"/>
            <a:ext cx="1207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Old English Text MT"/>
              </a:rPr>
              <a:t>Killc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Arial Black"/>
              </a:rPr>
              <a:t>Гипотезы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000" y="1653480"/>
            <a:ext cx="7516800" cy="40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При выполнении последнего пункта из задач, мы систематизировали наши вопросы в виде гипотез, которые раскрывали в процессе изучения дела и отвечали на свои вопросы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1. Коммерческий успех не зависит от возраста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2. Любимое дело может принести достойный доход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3. Продукция, ориентированная на определенную аудиторию, будет более прибыльной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8786160" y="3574080"/>
            <a:ext cx="3369600" cy="25264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2"/>
          <a:stretch/>
        </p:blipFill>
        <p:spPr>
          <a:xfrm>
            <a:off x="8487360" y="331200"/>
            <a:ext cx="3526920" cy="2644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"/>
          <p:cNvPicPr/>
          <p:nvPr/>
        </p:nvPicPr>
        <p:blipFill>
          <a:blip r:embed="rId3"/>
          <a:stretch/>
        </p:blipFill>
        <p:spPr>
          <a:xfrm>
            <a:off x="4658400" y="4649760"/>
            <a:ext cx="302724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2402280" y="575280"/>
            <a:ext cx="7770960" cy="58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Franklin Gothic Book"/>
              </a:rPr>
              <a:t>Содержание интервью с владельцем магазина одежды для молодежи.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0840" cy="35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Интервьюер</a:t>
            </a:r>
            <a:r>
              <a:rPr b="0" lang="en-US" sz="2000" spc="-1" strike="noStrike">
                <a:solidFill>
                  <a:schemeClr val="accent5"/>
                </a:solidFill>
                <a:latin typeface="Franklin Gothic Book"/>
              </a:rPr>
              <a:t>:</a:t>
            </a: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Когда Вы заинтересовались бизнесом, связанным с одеждой</a:t>
            </a: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Владелец: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В сентябре 2018 г занялся перепродажей одежды для молодежи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И: 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То есть изначально Вы уже знали для кого производите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В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: Да, для футбольных фанатов и юных любителей спорта. Свитшоты, различные футболки с их тематикой. Сначала продавал со своей страницы в ВК, после создал свою группу в этой же соц. Сети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И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:Сколько составлял ваш стартовый капитал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В: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10 тыс. рублей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И: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Сколько понадобилось времени, чтобы набрать аудиторию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В: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За первые 2 месяца мне удалось достигнуть отметки в 3 тыс подписчков, после делал рекламу и к Новому Году их кол-во составило 15 тыс., а сейчас их 105 тысяч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И: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Сколько товара удалось продать за время существования магазина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9520" indent="-3895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7a2bb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chemeClr val="accent5"/>
                </a:solidFill>
                <a:latin typeface="Franklin Gothic Book"/>
              </a:rPr>
              <a:t>В: </a:t>
            </a: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За 2 года работы более 15-20 тысяч заказов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9894960" y="1323720"/>
            <a:ext cx="1850400" cy="17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084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</a:pPr>
            <a:r>
              <a:rPr b="1" lang="ru-RU" sz="4400" spc="-1" strike="noStrike" u="sng">
                <a:solidFill>
                  <a:srgbClr val="191b0e"/>
                </a:solidFill>
                <a:uFillTx/>
                <a:latin typeface="Arial Black"/>
              </a:rPr>
              <a:t>Подтверждение гипотиз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0840" y="1742400"/>
            <a:ext cx="648684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В результате проведенного интервью мы подтверждаем наши гипотезы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1. Действительно, коммерческий успех не зависит от возраста (герою интервью на данный момент 16 лет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2. Занятие любимым делом может принести вам достойную прибыль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4120" indent="-3841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</a:pPr>
            <a:r>
              <a:rPr b="0" lang="ru-RU" sz="2000" spc="-1" strike="noStrike">
                <a:solidFill>
                  <a:srgbClr val="191b0e"/>
                </a:solidFill>
                <a:latin typeface="Franklin Gothic Book"/>
              </a:rPr>
              <a:t>3. Вероятность коммерческого успеха будет более высокой при ориентировании на определенный клиентский сегмент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4039560" y="4686480"/>
            <a:ext cx="3263760" cy="19198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"/>
          <p:cNvPicPr/>
          <p:nvPr/>
        </p:nvPicPr>
        <p:blipFill>
          <a:blip r:embed="rId2"/>
          <a:stretch/>
        </p:blipFill>
        <p:spPr>
          <a:xfrm>
            <a:off x="7858800" y="2014200"/>
            <a:ext cx="3952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Уголки">
  <a:themeElements>
    <a:clrScheme name="Уголки">
      <a:dk1>
        <a:srgbClr val="000000"/>
      </a:dk1>
      <a:lt1>
        <a:srgbClr val="ffffff"/>
      </a:lt1>
      <a:dk2>
        <a:srgbClr val="191b0e"/>
      </a:dk2>
      <a:lt2>
        <a:srgbClr val="efede3"/>
      </a:lt2>
      <a:accent1>
        <a:srgbClr val="8c8d86"/>
      </a:accent1>
      <a:accent2>
        <a:srgbClr val="e6c069"/>
      </a:accent2>
      <a:accent3>
        <a:srgbClr val="897b61"/>
      </a:accent3>
      <a:accent4>
        <a:srgbClr val="8dab8e"/>
      </a:accent4>
      <a:accent5>
        <a:srgbClr val="77a2bb"/>
      </a:accent5>
      <a:accent6>
        <a:srgbClr val="e28394"/>
      </a:accent6>
      <a:hlink>
        <a:srgbClr val="77a2bb"/>
      </a:hlink>
      <a:folHlink>
        <a:srgbClr val="957a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Уголки">
  <a:themeElements>
    <a:clrScheme name="Уголки">
      <a:dk1>
        <a:srgbClr val="000000"/>
      </a:dk1>
      <a:lt1>
        <a:srgbClr val="ffffff"/>
      </a:lt1>
      <a:dk2>
        <a:srgbClr val="191b0e"/>
      </a:dk2>
      <a:lt2>
        <a:srgbClr val="efede3"/>
      </a:lt2>
      <a:accent1>
        <a:srgbClr val="8c8d86"/>
      </a:accent1>
      <a:accent2>
        <a:srgbClr val="e6c069"/>
      </a:accent2>
      <a:accent3>
        <a:srgbClr val="897b61"/>
      </a:accent3>
      <a:accent4>
        <a:srgbClr val="8dab8e"/>
      </a:accent4>
      <a:accent5>
        <a:srgbClr val="77a2bb"/>
      </a:accent5>
      <a:accent6>
        <a:srgbClr val="e28394"/>
      </a:accent6>
      <a:hlink>
        <a:srgbClr val="77a2bb"/>
      </a:hlink>
      <a:folHlink>
        <a:srgbClr val="957a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Уголки">
  <a:themeElements>
    <a:clrScheme name="Уголки">
      <a:dk1>
        <a:srgbClr val="000000"/>
      </a:dk1>
      <a:lt1>
        <a:srgbClr val="ffffff"/>
      </a:lt1>
      <a:dk2>
        <a:srgbClr val="191b0e"/>
      </a:dk2>
      <a:lt2>
        <a:srgbClr val="efede3"/>
      </a:lt2>
      <a:accent1>
        <a:srgbClr val="8c8d86"/>
      </a:accent1>
      <a:accent2>
        <a:srgbClr val="e6c069"/>
      </a:accent2>
      <a:accent3>
        <a:srgbClr val="897b61"/>
      </a:accent3>
      <a:accent4>
        <a:srgbClr val="8dab8e"/>
      </a:accent4>
      <a:accent5>
        <a:srgbClr val="77a2bb"/>
      </a:accent5>
      <a:accent6>
        <a:srgbClr val="e28394"/>
      </a:accent6>
      <a:hlink>
        <a:srgbClr val="77a2bb"/>
      </a:hlink>
      <a:folHlink>
        <a:srgbClr val="957a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Уголки">
  <a:themeElements>
    <a:clrScheme name="Уголки">
      <a:dk1>
        <a:srgbClr val="000000"/>
      </a:dk1>
      <a:lt1>
        <a:srgbClr val="ffffff"/>
      </a:lt1>
      <a:dk2>
        <a:srgbClr val="191b0e"/>
      </a:dk2>
      <a:lt2>
        <a:srgbClr val="efede3"/>
      </a:lt2>
      <a:accent1>
        <a:srgbClr val="8c8d86"/>
      </a:accent1>
      <a:accent2>
        <a:srgbClr val="e6c069"/>
      </a:accent2>
      <a:accent3>
        <a:srgbClr val="897b61"/>
      </a:accent3>
      <a:accent4>
        <a:srgbClr val="8dab8e"/>
      </a:accent4>
      <a:accent5>
        <a:srgbClr val="77a2bb"/>
      </a:accent5>
      <a:accent6>
        <a:srgbClr val="e28394"/>
      </a:accent6>
      <a:hlink>
        <a:srgbClr val="77a2bb"/>
      </a:hlink>
      <a:folHlink>
        <a:srgbClr val="957a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Уголки">
  <a:themeElements>
    <a:clrScheme name="Уголки">
      <a:dk1>
        <a:srgbClr val="000000"/>
      </a:dk1>
      <a:lt1>
        <a:srgbClr val="ffffff"/>
      </a:lt1>
      <a:dk2>
        <a:srgbClr val="191b0e"/>
      </a:dk2>
      <a:lt2>
        <a:srgbClr val="efede3"/>
      </a:lt2>
      <a:accent1>
        <a:srgbClr val="8c8d86"/>
      </a:accent1>
      <a:accent2>
        <a:srgbClr val="e6c069"/>
      </a:accent2>
      <a:accent3>
        <a:srgbClr val="897b61"/>
      </a:accent3>
      <a:accent4>
        <a:srgbClr val="8dab8e"/>
      </a:accent4>
      <a:accent5>
        <a:srgbClr val="77a2bb"/>
      </a:accent5>
      <a:accent6>
        <a:srgbClr val="e28394"/>
      </a:accent6>
      <a:hlink>
        <a:srgbClr val="77a2bb"/>
      </a:hlink>
      <a:folHlink>
        <a:srgbClr val="957a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Уголки">
  <a:themeElements>
    <a:clrScheme name="Уголки">
      <a:dk1>
        <a:srgbClr val="000000"/>
      </a:dk1>
      <a:lt1>
        <a:srgbClr val="ffffff"/>
      </a:lt1>
      <a:dk2>
        <a:srgbClr val="191b0e"/>
      </a:dk2>
      <a:lt2>
        <a:srgbClr val="efede3"/>
      </a:lt2>
      <a:accent1>
        <a:srgbClr val="8c8d86"/>
      </a:accent1>
      <a:accent2>
        <a:srgbClr val="e6c069"/>
      </a:accent2>
      <a:accent3>
        <a:srgbClr val="897b61"/>
      </a:accent3>
      <a:accent4>
        <a:srgbClr val="8dab8e"/>
      </a:accent4>
      <a:accent5>
        <a:srgbClr val="77a2bb"/>
      </a:accent5>
      <a:accent6>
        <a:srgbClr val="e28394"/>
      </a:accent6>
      <a:hlink>
        <a:srgbClr val="77a2bb"/>
      </a:hlink>
      <a:folHlink>
        <a:srgbClr val="957a9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10001105[[fn=Урожай]]</Template>
  <TotalTime>198</TotalTime>
  <Application>LibreOffice/7.4.7.2$Linux_X86_64 LibreOffice_project/40$Build-2</Application>
  <AppVersion>15.0000</AppVersion>
  <Words>658</Words>
  <Paragraphs>1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0T05:57:07Z</dcterms:created>
  <dc:creator>Ирина Герзанич</dc:creator>
  <dc:description/>
  <dc:language>en-US</dc:language>
  <cp:lastModifiedBy>Ирина Герзанич</cp:lastModifiedBy>
  <dcterms:modified xsi:type="dcterms:W3CDTF">2020-03-20T10:36:58Z</dcterms:modified>
  <cp:revision>16</cp:revision>
  <dc:subject/>
  <dc:title>Killcro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4</vt:r8>
  </property>
</Properties>
</file>