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41A1-33BB-44E9-98B2-7CB0D185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D639-ACA6-43DD-8C58-0A405DB2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430F-377F-4488-BE94-17C9932E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B9CA-C74E-4E71-BF98-46DEAA93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F6AB-4223-4F26-B1BD-9C64E116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14BE-787E-4637-8EFA-2FB7D06B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4AE2-8D2C-4225-8C8F-FA93DB9D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B687-0587-4874-BD90-BD5E8161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E05C-F54F-430E-972D-F9ADFDC2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AC7D-CAF0-452E-BA70-D550A425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F05D-A8CB-42FF-AA15-7F483E58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AF72-F421-4184-A9FA-CE610573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BD5E-9663-4407-85FB-00E55FC7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8396-66A8-4D18-B368-FC7352E8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3B7B-DE5B-46FA-ADE8-9599EC7C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A750-9DE9-4A1B-A443-706BAF51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A60D-B149-42D5-8FCB-DD3A7BEE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0894-FC39-4BAB-B366-1A1C6569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D057-FB5A-4FE6-AC8D-E6B30A99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8FE4-2232-4B42-9D2F-835615F7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79BB-D1A0-4089-A2FD-2830EBA4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8582-C8BE-4CEA-8929-67EFCD77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1567-B84D-4421-814C-9E316DD2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F945-C8A5-41F5-963B-6EDC8C02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C17C-EE94-4200-AAB7-428DF795E3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2819-F382-4CC6-98D6-BB8A1EFDAE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eremenna-ya.narod.ru/gemorroy.posle.rodov.html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eremenna-ya.narod.ru/kesarevo.sechenie.html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eremenna-ya.narod.ru/sokrashenie.matki.posle.rodov.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eremenna-ya.narod.ru/gemorroy.posle.rodov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beremenna-ya.narod.ru/kormleie.gryd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124000" y="620640"/>
            <a:ext cx="6624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0000">
                    <a:alpha val="8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ослеродовой</a:t>
            </a:r>
            <a:endParaRPr b="1" i="1" lang="en-US" sz="9600" spc="1" strike="noStrike">
              <a:ln w="6480">
                <a:solidFill>
                  <a:srgbClr val="3333cc"/>
                </a:solidFill>
                <a:miter/>
              </a:ln>
              <a:solidFill>
                <a:srgbClr val="ff0000">
                  <a:alpha val="8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0000">
                    <a:alpha val="8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r>
              <a:rPr b="1" i="1" lang="en-US" sz="9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0000">
                    <a:alpha val="8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ериод</a:t>
            </a:r>
            <a:endParaRPr b="1" i="1" lang="en-US" sz="9600" spc="1" strike="noStrike">
              <a:ln w="6480">
                <a:solidFill>
                  <a:srgbClr val="3333cc"/>
                </a:solidFill>
                <a:miter/>
              </a:ln>
              <a:solidFill>
                <a:srgbClr val="ff0000">
                  <a:alpha val="8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5" name="" descr="Послеродовой период"/>
          <p:cNvPicPr/>
          <p:nvPr/>
        </p:nvPicPr>
        <p:blipFill>
          <a:blip r:embed="rId1"/>
          <a:stretch/>
        </p:blipFill>
        <p:spPr>
          <a:xfrm>
            <a:off x="395280" y="3141720"/>
            <a:ext cx="482436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3708360" y="-360"/>
            <a:ext cx="518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чти половину женщин, после родов беспокоит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геморрой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поэтому об этом обязательно следует рассказать врачу. Он поможет подобрать правильное питание, которое наладит работу кишечника, а при зуде и напряжении в области заднего прохода посоветует делать ванночки из настоя ромашки. Через полтора - два месяца после родов рекомендуется вторичное посещение гинеколога. К этому времени организм почти восстановится и станет таким, как был до беременности. При осмотре врач проверит как сократилась матка и вернулась ли она в прежнее состояние, зажили ли швы, как чувствует себя шейка матки, оценит состояние наружных половых органов, влагалища и промежности. При необходимости он назначит лечение. Если болят швы, которые были наложены на промежность, а также беспокоит шов от кесарева сечения, то об этом нужно рассказать врачу. Если все нормально и швы зажили, то через два месяца после рождения ребенка врач поможет правильно подобрать метод контрацепции. </a:t>
            </a:r>
            <a:br>
              <a:rPr sz="1800"/>
            </a:b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3495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140000" y="260280"/>
            <a:ext cx="48243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 женщинам, у которых беременность протекала с осложнениями, врач может посоветовать обратиться к другим специалистам. Например после анемии необходима консультация терапевта, а после гестоза нужно показаться окулисту, терапевту и нефрологу. В обязательном порядке в ближайшие три - четыре месяца после родов следует посетить стоматолога и вылечить больные зубы, чтобы не распространять инфекцию по всему организму. Если после родов женщину продолжает беспокоить головная боль, то обязательно следует посетить терапевта. Он измерит артериальное давление и возможно отправит на дополнительное обследование, после которого назначит лечени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0920" y="458568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745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348000" y="476280"/>
            <a:ext cx="5338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том случае, если женщина не кормит ребенка грудью и у нее появляется головная боль с одной стороны, а недомогание сопровождается тошнотой и рвотой, то возможно началась мигрень. В этом случае нужно посетить невролога. После того, как восстановится месячный цикл, нужно посетить врача - остеопата. Он проверит в каком состоянии находятся позвоночник, кости и органы таза. Если после родов или при кормлении ребенка грудью возникают боли в спине, то врач поможет с ними справиться. Обратиться к врачу необходимо и тогда, когда беспокоит ощущение тяжести в низу живота или появляется боль при сексуальном контакте. При необходимости врач отрегулирует неправильное положение матки и тем самым поможет избежать воспаления мочевыводящих путей и органов малого т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1399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Десять заповедей </a:t>
            </a:r>
            <a:br>
              <a:rPr sz="3600"/>
            </a:b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послеродового периода</a:t>
            </a:r>
            <a:br>
              <a:rPr sz="40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После родов в течение суток лежать на спине. Вставать следует только в случае крайней необходимости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 Необходимо поддерживать постоянный контакт с ребенком. Прикладывать к груди по требованию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В пищу употреблять достаточное количество легкоусвояемой пищи. Обильное теплое питье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Частое опорожнение мочевого пузыря. Ни в коем случае нельзя терпеть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В конце вторых суток следует принимать пищу, которая имеет слабительный эффект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Личная гигиена: белье должно быть хлопчатобумажным, гигиену промежности проводить при помощи отвара ромашки, мумие или коры дуба, использовать при необходимости ранозаживляющие мази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Чтобы кормление грудью не доставляло неудобств, ребенка следует правильно прикладывать к груди. Для этого сосок вместе с ареолой должен быть целиком погружен в широко открытый рот ребенка. С первого дня нужно носить удобный х/б бюстгальтер, использовать чистый ланолин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Со вторых суток можно применять контрастный душ, делать упражнения для промежности и тазового дна, а также упражнения для мышц брюшного пресса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Для быстрого восстановления после родов использовать гомеопатический препарат Арника 30 трижды в день по одной крупинки в течение пяти дней после родов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  Благоприятная психологическая атмосфера в семье. Для этого у женщины должна быть возможность заниматься только собой и малыш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Послеродовой бандаж 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Ношение послеродового бандажа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58920" y="1600200"/>
            <a:ext cx="583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инекологи рекомендуют женщинам после родов использовать послеродовые бандажи. Они позволяют ускорить процесс сокращения матки, восстанавливают правильное положение внутренних органов, а также снимают лишнюю нагрузку с позвоночника и способствуют быстрейшему заживлению раны после операции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кесарева сечени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леродовой бандаж одевают после консультации с акушером - гинекологом и сделать это можно уже в день родов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тивопоказаниями для ношения послеродового бандажа служат воспаление швов после кесарева сечения, заболевания желудочно - кишечного тракта, которые сопровождаются вздутием живота и спастическими болями, выраженные отеки на фоне заболевания почек, гнойничковые заболевания кожи и непереносимость материала, из которого изготовлен бандаж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Послеродовой бандаж "/>
          <p:cNvPicPr/>
          <p:nvPr/>
        </p:nvPicPr>
        <p:blipFill>
          <a:blip r:embed="rId3"/>
          <a:stretch/>
        </p:blipFill>
        <p:spPr>
          <a:xfrm>
            <a:off x="468360" y="2421000"/>
            <a:ext cx="225720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Физические упражнения </a:t>
            </a:r>
            <a:br>
              <a:rPr sz="3600"/>
            </a:b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после родов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5" name="" descr="Физические упражнения после родов."/>
          <p:cNvPicPr/>
          <p:nvPr/>
        </p:nvPicPr>
        <p:blipFill>
          <a:blip r:embed="rId1"/>
          <a:stretch/>
        </p:blipFill>
        <p:spPr>
          <a:xfrm>
            <a:off x="250920" y="1268280"/>
            <a:ext cx="3727440" cy="25099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4211640" y="1269720"/>
            <a:ext cx="475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сле родов женский организм восстанавливается и приспосабливается к новой жизни. Физические упражнения, выполняемые в первые дни после родов, помогают облегчить восстановительный период и улучшить самочувствие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пражнения после родов укрепляют мышцы спины, живота, ягодиц, ног, тазового дна, они улучшают кровообращение и тем самым способствуют уменьшению послеродовой боли. Главное при выполнении послеродовых физических упражнений - это регулярность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9280" y="400536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пражнения следует делать кажд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нь, но если такой возможности н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 хотя бы два - три раза в недел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полча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грузку нужно увеличи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степенно, а после занятий обязате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едует расслабиться. Если роды прошли нормально, то вернувшись из роддома, желательно делать гимнастику каждый ден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д занятием лучше не есть и опорожнить кишечник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993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ожении лежа на спине, крутить руками над лицом круги, как будто умываяс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Ногами скользить по полу, одну сгибая, а другую выпрямляя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Руки согнуть за головой, ноги согнуть в коленях. Поднимая таз вверх, сделать вдох, опуская - выдохну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Взмахнув руками сесть, три - четыре раза достать кистями рук пальцы ног, спружинив в талии три - четыре раза, затем леч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тупни ног соединить, подтянуть их к туловищу, развести колени в стороны, потом вытянуть ноги и расслабить мышц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огами крутить круги, изображая езду на велосипеде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Встать на четвереньки, одну ногу вытянуть назад и вверх, затем другую ногу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Лечь на живот, руки вытянуть вперед. Поднимая туловище сделать вдох, опуская его - выдох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Лечь на спину сцепив руки за головой и согнув ноги в коленях. - Ноги поворачивать в одну сторону, потом в другую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Лечь на спину, подтянув оба колена к животу выдохнуть, выпрямляя ноги - вдохну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дну вытянутую ногу поднять вверх, опуская ее, поднять другую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Лечь на бок, одну ногу поднять вверх, к ней подтянуть другую и обе ноги подержать поднятыми, затем поочередно опусти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03640" y="476280"/>
            <a:ext cx="48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екомендуемые упражнен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4246560" y="1198800"/>
            <a:ext cx="4897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слеродовой перио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чинается с момента выхода последа и продолжается приблизительно восемь недель. В течение этого периода в женском организме происходят изменения в половых органах, в нервной, эндокринной и сердечно - сосудистой системах. Связано это с тем, что во время беременности и родов в организме происходили определенные изменения и теперь организм возвращается в свое первоначальное состояние, т. е. претерпевает обратное развитие, которое называется инволюция. Исключением являются молочные железы, так как в послеродовой период в них наоборот, происходит максимальное развитие, связанное с лактацией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960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203280" y="333360"/>
            <a:ext cx="57610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это время наибольшим изменениям подвергается матка. Сразу после родов поперечный размер матки составляет 12 - 13 см и весит она 1 кг. К концу послеродового периода, примерно через шесть - восемь недель размер матки становится как до беременности и весит она всего 50 - 60 г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первые недели после родов происходит отторжение слизистой оболочки матки. Эти выделения получили название лохии. Первые три - четыре дня они светло - красного цвета и довольно обильные. Через четыре - пять дней они напоминают серозно - сукровичную жидкость, а через десять суток - лохии становятся жидкими и светлыми, без крови. Через три - четыре недели остаются лишь легкие выделения, а через 6 - 8 недель они окончательно прекращаются и вместе с ними заканчивается послеродовой период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31446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564000" y="333360"/>
            <a:ext cx="5580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рно через неделю после родов проходит отек внешних половых органов и заживают разрывы. В яичниках начинается созревание фолликулов. У некормящих грудью, на шестой - восьмой неделе наступает менструация. У женщин, которые кормят младенца грудью, менструация отсутствует в течение нескольких месяцев или на всем протяжении грудного вскармливания. Через три - четыре дня после родов в молочных железах начинает вырабатываться молоко, которое приходит на смену молозиву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ечение первых часов у родившей женщины наблюдается усталость и сонливость. Это связано в первую очередь с физической и психо - эмоциональной нагрузкой во время родов. Питание в этот период должно оставаться сбалансированным, в рационе должно быть побольше витаминов и минеральных веществ (цинк, железо и кальций). Противопоказаны к приему консервы, острые блюда и алкогольные напи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36356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Самочувствие женщины в первые дни после родов.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первые минуты после родов молодая мама ощущает чувство легкости и счастья, что роды остались позади и долгожданный малыш появился на свет. Но рождение ребенка это тяжелая работа организма, отнимающая немало сил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разу после родов начинается 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сокращение матки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. За полтора - два месяца ее масса с 1000 г уменьшается до 50 г. Матка сокращается за счет сократительных движений маточной мускулатуры, которые сопровождаются болевыми ощущениями и похожи на легкие схватки. При кормлении грудью эти ощущения усиливаются. </a:t>
            </a:r>
            <a:br>
              <a:rPr sz="1600"/>
            </a:br>
            <a:br>
              <a:rPr sz="1600"/>
            </a:b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В промежности возможно появление боли даже в том случае, если не было разрывов. Это объясняется тем, что во время родов ткани подверглись сильному растяжению. Обычно болезненные ощущения не слишком сильны и проходят в течение двух - трех дней. </a:t>
            </a:r>
            <a:br>
              <a:rPr sz="1600"/>
            </a:br>
            <a:br>
              <a:rPr sz="1600"/>
            </a:b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Если же у женщины были разрывы или разрез промежности, то боль сохраняется немного дольше. Заживление наступает через семь - десять дней. Если на промежность были наложены швы, то в течение этого времени женщине нельзя находиться в сидячем положении. Чтобы швы лучше заживали важна обработка антисептическими растворами и тщательная гигиена. </a:t>
            </a:r>
            <a:br>
              <a:rPr sz="1600"/>
            </a:br>
            <a:br>
              <a:rPr sz="1600"/>
            </a:b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96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огда в период беременности или после родов у женщины появляются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геморроидальные узл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которые тоже вызывают болезненные ощущения. Чтобы уменьшить боль, можно прикладывать лед к промежности, принимать душ после каждого акта мочеиспускания и дефекации, а также принимать лекарства по назначению врача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ослеродовой период часто возникают проблемы со стулом. Обычно стул бывает на второй - третий день после родов. Чтобы облегчить акт дефекации, в питание можно включить чернослив, курагу, пить минеральную воду. Если на четвертый день стул отсутствует, то следует воспользоваться слабительной свечо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 как на месте отделившегося последа остаются крупные кровеносные сосуды, то в первые сутки после рождения ребенка, наблюдаются обильные кровяные выделения из матки, в которых могут содержаться небольшие сгустки. Если количество выделений слишком большое, то следует обратиться к врачу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ычно через три дня выделения приобретают серозно - сукровичный или желтовато - коричневый цвет. Через десять дней выделения становятся серозными ( желтовато - белыми)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правило выделения из матки полностью прекращаются к пятой - шестой неделе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некоторых женщин наблюдается частичная задержка выделений в полости матки. Если к этому присоединится инфекция, то может возникнуть эндометрит (воспаление слизистой матки). Поэтому, если у женщины отсутствуют выделения и при этом повышается температура тела, то проводят ультразвуковое исследование (при необходимости оперативное вмешательство)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419280" y="188640"/>
            <a:ext cx="5724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 влиянием гормональной перестройки, в послеродовой период, в молочных железах происходят значительные изменения и начинается выработка молока. В первые два - три дня вырабатывается молозиво, на третий - четвертый день - переходное молоко, постепенно превращающееся в грудное зрелое молоко. Если молока мало, то рекомендуется более часто кормить ребенка грудью. Другой проблемой является наоборот, избыточное количество молока и затрудненный отток. В этом случае молочные железы увеличиваются в объеме, твердеют, становятся болезненными, повышается температура тела. Чтобы этого не произошло, в первые три - четыре дня после родов, необходимо регулярно кормить ребенка и ограничить прием жидкости до 800 мл в день. При правильном кормлении нагрубание постепенно исчезнет и через день - два станет намного легче. Удобный бюстгальтер также способствует правильному становлению лактации. Так как кожа сосков очень нежная, то в первые дни могут возникнуть трещины. Чтобы этого избежать, в первые дни прикладывать ребенка к груди следует на пять - семь минут к одной груди, затем к другой на пять - семь минут, и снова к той, с которой началось кормление. Можно использовать специальный крем, предназначенный для предотвращения трещин на соск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34988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Осложнения после родов и их диагностика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частым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леродовыми осложнения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явля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бинволюция матки ( замедленное обратное развитие матки 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родовые кровотеч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родовой эндометрит – воспаление слизистой оболочки мат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остоятельность ( расхождение ) швов на матке ( после оперативных родов 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УЗ-исследования позволяет снизить риск развития посслеродовых осложнений в несколько р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ef6"/>
                </a:solidFill>
                <a:latin typeface="Arial"/>
              </a:rPr>
              <a:t>Специалисты, которых необходимо посетить после родов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0" name="" descr="Осмотр специалистов после родов"/>
          <p:cNvPicPr/>
          <p:nvPr/>
        </p:nvPicPr>
        <p:blipFill>
          <a:blip r:embed="rId1"/>
          <a:stretch/>
        </p:blipFill>
        <p:spPr>
          <a:xfrm>
            <a:off x="468360" y="2060640"/>
            <a:ext cx="2495520" cy="37432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419640" y="2506320"/>
            <a:ext cx="54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рез несколько дней после родов очень желательно сходить на прием к гинекологу, который проведет осмотр и расскажет как ухаживать за грудью при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грудном вскармливани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проверит шов на животе после кесарева сечения или на промежности, если такие имели место. 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Если вдруг женщина чувствует упадок жизненных сил, ощущает прилив грусти, меланхолии и усталости, то желательно поговорить с психотерапевтом, который поможет избавиться от послеродовой депресс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2:50:21Z</dcterms:created>
  <dc:creator>Пользователь</dc:creator>
  <dc:description/>
  <dc:language>en-US</dc:language>
  <cp:lastModifiedBy>Пользователь</cp:lastModifiedBy>
  <dcterms:modified xsi:type="dcterms:W3CDTF">2011-11-27T14:05:05Z</dcterms:modified>
  <cp:revision>2</cp:revision>
  <dc:subject/>
  <dc:title>Слайд 1</dc:title>
</cp:coreProperties>
</file>