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FB3A4-9898-4179-8AF4-AF4A1E45E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3117-0D2D-42A9-9CD9-61D2DC8D4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94B46-905B-4860-AECE-10611BB1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4B279-68B2-4841-9CFD-287609FB4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3CA9B-244B-4237-89AB-A08AD510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F836D-9E53-4DBD-831B-47EA9C9B1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85B8-872D-4113-9F50-309B0AA7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196B-BE70-42BF-B6B9-F715C4EBB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BF37-B553-4003-AA2B-C9120271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9FD8-CCA0-4D8E-B62E-2E59DD2E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51E3F-0066-4571-BD8E-2A8E4A05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02D0-4A61-483E-8834-334E44EFF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CC57-8892-4E59-A753-FBBED463E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71640" y="620640"/>
            <a:ext cx="7629120" cy="1326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МІКРОПРОЦЕСОР </a:t>
            </a:r>
            <a:br>
              <a:rPr sz="4400"/>
            </a:br>
            <a:r>
              <a:rPr b="1" lang="uk-UA" sz="4400" spc="-1" strike="noStrike">
                <a:solidFill>
                  <a:srgbClr val="000000"/>
                </a:solidFill>
                <a:latin typeface="Arial"/>
              </a:rPr>
              <a:t>К580 ВМ8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
          <p:cNvPicPr/>
          <p:nvPr/>
        </p:nvPicPr>
        <p:blipFill>
          <a:blip r:embed="rId1"/>
          <a:srcRect l="14623" t="20830" r="15726" b="25601"/>
          <a:stretch/>
        </p:blipFill>
        <p:spPr>
          <a:xfrm>
            <a:off x="611280" y="1844640"/>
            <a:ext cx="7993080" cy="46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3628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 виконанні операцій АЛП використовує наступні регістри:</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755640" y="18558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8-мирозрядний допоміжний регістр для тимчасового збереження дани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регістр ознак умов (або регістр прапорці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14716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Регістр прапорців (F) </a:t>
            </a:r>
            <a:r>
              <a:rPr b="0" lang="uk-UA" sz="3200" spc="-1" strike="noStrike">
                <a:solidFill>
                  <a:srgbClr val="000000"/>
                </a:solidFill>
                <a:latin typeface="Arial"/>
              </a:rPr>
              <a:t>призначений для збереження стану результата виконання операції АЛП  і включає в себе наступні п’ять тригерів умов (прапорців):</a:t>
            </a:r>
            <a:br>
              <a:rPr sz="3200"/>
            </a:br>
            <a:endParaRPr b="0" lang="en-US" sz="3200" spc="-1" strike="noStrike">
              <a:solidFill>
                <a:srgbClr val="000000"/>
              </a:solidFill>
              <a:latin typeface="Arial"/>
            </a:endParaRPr>
          </a:p>
        </p:txBody>
      </p:sp>
      <p:sp>
        <p:nvSpPr>
          <p:cNvPr id="64" name="PlaceHolder 2"/>
          <p:cNvSpPr>
            <a:spLocks noGrp="1"/>
          </p:cNvSpPr>
          <p:nvPr>
            <p:ph/>
          </p:nvPr>
        </p:nvSpPr>
        <p:spPr>
          <a:xfrm>
            <a:off x="250560" y="2060640"/>
            <a:ext cx="8893080" cy="479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Z – прапорець нуля (тригер нульового результату -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СУ – прапорець переносу з старшого розряду (car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S – прапорець знаку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P – прапорець парності (p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C – прапорець допоміжного переносу з 3-го в 4-ий розряд (auxiliary car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404280"/>
            <a:ext cx="8218440" cy="619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треба у регістрі прапорців обумовлена тим, що виконання будь-якої операції (команди) може ставитися в залежності від значення результату виконання попередньої операції. Для цього АЛП з’єднується із спеціальним регістром, відповідні розряди якого встановлюються в “1” або “0” в залежності від результату обчислювань. Розряд регістра тільки зберігає якусь одну ознаку(прапорець), а різні МП можуть використовувати різне число ознак. Значення прапорців використовують тільки певні команди, а інші їх ігнорую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поділ ознак по регістру прапорців (або його формат) має наступний вигляд </a:t>
            </a:r>
            <a:endParaRPr b="0" lang="en-US" sz="4000" spc="-1" strike="noStrike">
              <a:solidFill>
                <a:srgbClr val="000000"/>
              </a:solidFill>
              <a:latin typeface="Arial"/>
            </a:endParaRPr>
          </a:p>
        </p:txBody>
      </p:sp>
      <p:graphicFrame>
        <p:nvGraphicFramePr>
          <p:cNvPr id="67" name=""/>
          <p:cNvGraphicFramePr/>
          <p:nvPr/>
        </p:nvGraphicFramePr>
        <p:xfrm>
          <a:off x="468360" y="2349360"/>
          <a:ext cx="8229600" cy="2549520"/>
        </p:xfrm>
        <a:graphic>
          <a:graphicData uri="http://schemas.openxmlformats.org/drawingml/2006/table">
            <a:tbl>
              <a:tblPr/>
              <a:tblGrid>
                <a:gridCol w="1028880"/>
                <a:gridCol w="1028520"/>
                <a:gridCol w="1028880"/>
                <a:gridCol w="1028520"/>
                <a:gridCol w="1028880"/>
                <a:gridCol w="1028520"/>
                <a:gridCol w="1028880"/>
                <a:gridCol w="1028520"/>
              </a:tblGrid>
              <a:tr h="1316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6</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3</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2</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33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S</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Z</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AC</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P</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CY</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116000" y="5690520"/>
            <a:ext cx="6912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розрядів D5,D3,D1 – незмінні.</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16-тирозрядний програмний лічильник (або лічильник команд, Program Counter - PC)</a:t>
            </a:r>
            <a:endParaRPr b="0" lang="en-US" sz="3200" spc="-1" strike="noStrike">
              <a:solidFill>
                <a:srgbClr val="000000"/>
              </a:solidFill>
              <a:latin typeface="Arial"/>
            </a:endParaRPr>
          </a:p>
        </p:txBody>
      </p:sp>
      <p:sp>
        <p:nvSpPr>
          <p:cNvPr id="7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значений для формування та збереження адреси пам’яті, де знаходиться наступний байт команди. Оскільки байти команд розміщуються в пам’яті, як правило, послідовно, то після вибору МП кожного чергового байту поточна адреса в РС збільшується на одиницю, що виконується схемою інкремент-декремента ( СІД) [increment-dec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Покажчик стеку (Stack Pointer - SP)</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ризначений як для початкового формування в оперативній пам’яті системи спеціальної так званої </a:t>
            </a:r>
            <a:r>
              <a:rPr b="1" lang="uk-UA" sz="3600" spc="-1" strike="noStrike">
                <a:solidFill>
                  <a:srgbClr val="000000"/>
                </a:solidFill>
                <a:latin typeface="Arial"/>
              </a:rPr>
              <a:t>стекової </a:t>
            </a:r>
            <a:r>
              <a:rPr b="0" lang="uk-UA" sz="3600" spc="-1" strike="noStrike">
                <a:solidFill>
                  <a:srgbClr val="000000"/>
                </a:solidFill>
                <a:latin typeface="Arial"/>
              </a:rPr>
              <a:t>області</a:t>
            </a:r>
            <a:r>
              <a:rPr b="1" lang="uk-UA" sz="3600" spc="-1" strike="noStrike">
                <a:solidFill>
                  <a:srgbClr val="000000"/>
                </a:solidFill>
                <a:latin typeface="Arial"/>
              </a:rPr>
              <a:t> </a:t>
            </a:r>
            <a:r>
              <a:rPr b="0" lang="uk-UA" sz="3600" spc="-1" strike="noStrike">
                <a:solidFill>
                  <a:srgbClr val="000000"/>
                </a:solidFill>
                <a:latin typeface="Arial"/>
              </a:rPr>
              <a:t>або</a:t>
            </a:r>
            <a:r>
              <a:rPr b="1" lang="uk-UA" sz="3600" spc="-1" strike="noStrike">
                <a:solidFill>
                  <a:srgbClr val="000000"/>
                </a:solidFill>
                <a:latin typeface="Arial"/>
              </a:rPr>
              <a:t> стека</a:t>
            </a:r>
            <a:r>
              <a:rPr b="0" lang="uk-UA" sz="3600" spc="-1" strike="noStrike">
                <a:solidFill>
                  <a:srgbClr val="000000"/>
                </a:solidFill>
                <a:latin typeface="Arial"/>
              </a:rPr>
              <a:t>, так і  в подальшому для збереження адрес для, повернення до основної програми пам’ят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560" y="0"/>
            <a:ext cx="8713800" cy="68580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Оскільки при виконання будь-якої програми може виникнути потреба виклику підпрограми (або перерви  виконання поточної програми), то потрібно забезпечити умови для повернення до виконання основної програми. Для цього треба зберегти адресу комірки пам’яті, де знаходиться чергова команда основної програми. Ця адреса вже сформована (наявна) в РС і вона повинна бути записана в певну область пам’яті, для чого і створюється стек. В SP спочатку записується начальна адреса, з якої починається ця стекова область, так звана </a:t>
            </a:r>
            <a:r>
              <a:rPr b="1" i="1" lang="uk-UA" sz="2200" spc="-1" strike="noStrike">
                <a:solidFill>
                  <a:srgbClr val="000000"/>
                </a:solidFill>
                <a:latin typeface="Arial"/>
              </a:rPr>
              <a:t>вершина стеку</a:t>
            </a:r>
            <a:r>
              <a:rPr b="0" i="1" lang="uk-UA" sz="2200" spc="-1" strike="noStrike">
                <a:solidFill>
                  <a:srgbClr val="000000"/>
                </a:solidFill>
                <a:latin typeface="Arial"/>
              </a:rPr>
              <a:t>. В подальшому, коли має місце звернення (запис) до стеку, ця адреса зменшується на стільки одиниць, скільки записів зроблено в стек. Оскільки адреса є 16 тирозрядною, а пам’ять є 8-мирозрядною, то для збереження одного значення адреси потрібно дві комірки стекової пам’яті. Таким чином, поточний вміст SP повинен бути зменшений на 2-і одиниці, а при наступному виклику програми все буде зроблено як і раніше. При закінченні останньої підпрограми по команді “повернення” зі стеку згідно з останньою адресою в SP бережеться адреса повернення до основної програми, яка записується в РС. Знову ж, для цього використовуються дві еомрки стеку, бо треба сформувати 16-тирозрядну адресу основної пам’яті, так що поточна адреса в SP буде збільшена на 2-і одиниці. Цим реалізується, так зване, правило LI</a:t>
            </a:r>
            <a:r>
              <a:rPr b="0" i="1" lang="en-US" sz="2200" spc="-1" strike="noStrike">
                <a:solidFill>
                  <a:srgbClr val="000000"/>
                </a:solidFill>
                <a:latin typeface="Arial"/>
              </a:rPr>
              <a:t>F</a:t>
            </a:r>
            <a:r>
              <a:rPr b="0" i="1" lang="uk-UA" sz="2200" spc="-1" strike="noStrike">
                <a:solidFill>
                  <a:srgbClr val="000000"/>
                </a:solidFill>
                <a:latin typeface="Arial"/>
              </a:rPr>
              <a:t>O (last-in-</a:t>
            </a:r>
            <a:r>
              <a:rPr b="0" i="1" lang="en-US" sz="2200" spc="-1" strike="noStrike">
                <a:solidFill>
                  <a:srgbClr val="000000"/>
                </a:solidFill>
                <a:latin typeface="Arial"/>
              </a:rPr>
              <a:t>f</a:t>
            </a:r>
            <a:r>
              <a:rPr b="0" i="1" lang="uk-UA" sz="2200" spc="-1" strike="noStrike">
                <a:solidFill>
                  <a:srgbClr val="000000"/>
                </a:solidFill>
                <a:latin typeface="Arial"/>
              </a:rPr>
              <a:t>ast-ou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дресний буфер (АБ)</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є 16-тирозрядним і призначений для формування вихідної адреси для зовнішньої адресної шини (ША), і, звичайно, є однонаправленим, з можливістю відключення (розриву) коли МП передає керування системними ресурсами певному зовнішньому пристрою. Це має місце, при так званому, </a:t>
            </a:r>
            <a:r>
              <a:rPr b="1" lang="uk-UA" sz="3200" spc="-1" strike="noStrike">
                <a:solidFill>
                  <a:srgbClr val="000000"/>
                </a:solidFill>
                <a:latin typeface="Arial"/>
              </a:rPr>
              <a:t>захваті шини</a:t>
            </a:r>
            <a:r>
              <a:rPr b="0" lang="uk-U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Пристрій керування та синхронізації (ПКС)</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прийому та формування керуючих зовнішніх сигналів і здійснення управління роботою внутрішніх вузлів М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84328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9"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0" name="" descr=""/>
          <p:cNvPicPr/>
          <p:nvPr/>
        </p:nvPicPr>
        <p:blipFill>
          <a:blip r:embed="rId1"/>
          <a:srcRect l="23619" t="16647" r="9637" b="13416"/>
          <a:stretch/>
        </p:blipFill>
        <p:spPr>
          <a:xfrm>
            <a:off x="34920" y="222120"/>
            <a:ext cx="8964720" cy="587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3443" r="0" b="3796"/>
          <a:stretch/>
        </p:blipFill>
        <p:spPr>
          <a:xfrm>
            <a:off x="3816360" y="2637000"/>
            <a:ext cx="5327640" cy="3887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РХІТЕКТУРА МП К580ВМ80</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25092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ий МП являє собою центральний процесорний елемент (ЦПЕ), побудований на одному кристалі, структурна схема якого має такий вигляд (мал. 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2"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3" name="" descr=""/>
          <p:cNvPicPr/>
          <p:nvPr/>
        </p:nvPicPr>
        <p:blipFill>
          <a:blip r:embed="rId1"/>
          <a:srcRect l="24012" t="20710" r="11015" b="19751"/>
          <a:stretch/>
        </p:blipFill>
        <p:spPr>
          <a:xfrm>
            <a:off x="430200" y="620640"/>
            <a:ext cx="8713800" cy="49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7" name=""/>
          <p:cNvGraphicFramePr/>
          <p:nvPr/>
        </p:nvGraphicFramePr>
        <p:xfrm>
          <a:off x="324000" y="115920"/>
          <a:ext cx="8381880" cy="5943600"/>
        </p:xfrm>
        <a:graphic>
          <a:graphicData uri="http://schemas.openxmlformats.org/presentationml/2006/ole">
            <p:oleObj r:id="rId1" spid="">
              <p:embed/>
              <p:pic>
                <p:nvPicPr>
                  <p:cNvPr id="48" name="" descr=""/>
                  <p:cNvPicPr/>
                  <p:nvPr/>
                </p:nvPicPr>
                <p:blipFill>
                  <a:blip r:embed="rId2"/>
                  <a:stretch/>
                </p:blipFill>
                <p:spPr>
                  <a:xfrm>
                    <a:off x="324000" y="115920"/>
                    <a:ext cx="83818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Згідно наведеної схеми основними функціональними вузлами ЦПЕ є: </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АЛП;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пристрій керування та синхронізаці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блок регістрів загального призначення (РЗ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допоміжні регістр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регістр ознак умов (або регістр прапорці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вихідні буфери даних та адре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Буфер даних (БД)</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вонаправлена схема з трьома логічними станами (ввід, вивід, виключено), яка призначена для обміну інформацією з пам'яттю та зовнішніми пристроями. Якщо внутрішня шина даних знаходиться в режимі вводу, то буфер даних підключає зовнішню шину даних на ввід. Якщо на внутрішній шині даних присутні дані для передачі з МП, то БД підключає МП на вивід даних на зовнішню магістраль системи і нарешті, коли в мікропроцесорній системі (МПС) має місце режим прямого доступу до пам'яті (ПДП), то БД переходить у відключений ,так званий третій стан, тим самим ізолюючи МП від зовнішньої магістралі да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Блок регістрів загального призначення (РЗП)</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значений для збереження та видачі даних. Регістри В, С, D, H, L можуть використовуватися як восьмирозрядні, або як 16-тирозрядні регістрові пари BC, DE, HL. Назва регістрової пари завжди формується по назві 1‑го регістра пари, в якому зберігається старший байт 16-тирозрядного числа. Регістри використовуються як акумулятори, коли в них зберігаються дані, або як покажчики, коли в них знаходяться адреси операндів. Восьмирозрядні дані поступають в РЗП або виходять з РЗП на внутрішню шину даних через мультиплексор (перемикач). Допоміжні регістри W і Z використовуються для тимчасового збереження 2-го та 3-го байтів поточної команд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Регістр команд (РК)</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збереження 1-го байту команди, яка виконується МП в поточний момент час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Дешифратор команд (ДК)</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для шифрування коду операції (КОП), який міститься у 1-му байті команди, з наступною генерацією відповідних машинних циклів, що забезпечують виконання даної команд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Арифметико логічний пристрій (АЛП)</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аймає в МП центральне місце і являє собою 8‑мирозрядний паралельний пристрій, який забезпечує виконання основних операцій (арифметичних та логічних) обробки даних. АЛП може обробляти не тільки двійкові дані, а і двійково-дестякові числа (тобто числа у Binary Decimals Coded (BDC)) з використанням при цьому блоку десяткової корекції(БД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5:37:34Z</dcterms:created>
  <dc:creator>User</dc:creator>
  <dc:description/>
  <dc:language>en-US</dc:language>
  <cp:lastModifiedBy>User</cp:lastModifiedBy>
  <dcterms:modified xsi:type="dcterms:W3CDTF">2013-01-31T16:13:33Z</dcterms:modified>
  <cp:revision>3</cp:revision>
  <dc:subject/>
  <dc:title>МІКРОПРОЦЕСОР  К580 ВМ80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