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34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FBC-CDA1-4EFE-AA90-BC153D03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000-9B70-4145-A139-EA5A26D0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E19-3605-40F7-A2DC-1A5431CC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128-2BEE-4BB4-BC1D-2BBE9413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D9A-601A-4E8B-AB59-322DC987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234-0EF1-4FCD-AAEF-80F33043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A17-EFB2-4CFE-9FF2-80AAC5C5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D0E-C1EA-4BFF-A2D0-D2C3E90C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016-B5CF-470A-89E0-4128F97A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0B5-52D5-4C99-918F-E8F10CEE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ACD-FD51-4990-AC93-14133E03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C95-16F6-4A67-AF0E-6BE97D6C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51D2-2827-445C-8C38-C06F97E7B7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46920" cy="244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УЛЬТРАЗВУКОВАЯ ДИАГНОСТИКА В ВЕТЕРИНАРНОЙ ПРАКТИК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852640"/>
            <a:ext cx="7777080" cy="1198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Tahoma"/>
              </a:rPr>
              <a:t>Тамимдаров Булат Фарид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9999"/>
                </a:solidFill>
                <a:latin typeface="Times New Roman"/>
              </a:rPr>
              <a:t>врач узи диагностики лечебно-консультационного центра при ФГБОУ ВО Казанская ГАВМ им Н.Э.Баумана, кандидат вет.наук, доцент  кафедры терапии и клинической диагностики с рентгенологией ФГБОУ ВО Казанская ГАВМ им Н.Э.Баума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693800" y="6021360"/>
            <a:ext cx="64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ahoma"/>
              </a:rPr>
              <a:t>Казань 20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21" descr="aschep"/>
          <p:cNvPicPr/>
          <p:nvPr/>
        </p:nvPicPr>
        <p:blipFill>
          <a:blip r:embed="rId1"/>
          <a:stretch/>
        </p:blipFill>
        <p:spPr>
          <a:xfrm>
            <a:off x="395280" y="4149720"/>
            <a:ext cx="1873080" cy="156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lp11"/>
          <p:cNvPicPr/>
          <p:nvPr/>
        </p:nvPicPr>
        <p:blipFill>
          <a:blip r:embed="rId2"/>
          <a:stretch/>
        </p:blipFill>
        <p:spPr>
          <a:xfrm>
            <a:off x="2341440" y="4149720"/>
            <a:ext cx="2060640" cy="154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mp16"/>
          <p:cNvPicPr/>
          <p:nvPr/>
        </p:nvPicPr>
        <p:blipFill>
          <a:blip r:embed="rId3"/>
          <a:stretch/>
        </p:blipFill>
        <p:spPr>
          <a:xfrm>
            <a:off x="4500720" y="422100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plod5"/>
          <p:cNvPicPr/>
          <p:nvPr/>
        </p:nvPicPr>
        <p:blipFill>
          <a:blip r:embed="rId4"/>
          <a:stretch/>
        </p:blipFill>
        <p:spPr>
          <a:xfrm>
            <a:off x="6589800" y="4221000"/>
            <a:ext cx="2052720" cy="14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ис.8  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инадлежности для ультразвуковых сканер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/Б видеопринте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CD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нитор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стройство для датч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onocontac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ветной видеопринтер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B Flash drive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аптер для биопси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я конвексного датчи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зерный принтер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анспортный кейс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2016000" cy="12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2016000" cy="144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826920" y="5157720"/>
            <a:ext cx="2016360" cy="129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4"/>
          <a:stretch/>
        </p:blipFill>
        <p:spPr>
          <a:xfrm>
            <a:off x="3635280" y="83664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5"/>
          <a:stretch/>
        </p:blipFill>
        <p:spPr>
          <a:xfrm>
            <a:off x="3708360" y="2852640"/>
            <a:ext cx="1943280" cy="14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6"/>
          <a:stretch/>
        </p:blipFill>
        <p:spPr>
          <a:xfrm>
            <a:off x="3780000" y="508464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7"/>
          <a:stretch/>
        </p:blipFill>
        <p:spPr>
          <a:xfrm>
            <a:off x="6300720" y="907920"/>
            <a:ext cx="2016360" cy="136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8"/>
          <a:stretch/>
        </p:blipFill>
        <p:spPr>
          <a:xfrm>
            <a:off x="6156360" y="2924280"/>
            <a:ext cx="26654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ffff"/>
                </a:solidFill>
                <a:latin typeface="Tahoma"/>
              </a:rPr>
              <a:t>Способы выведения изображения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ествуют три способа выведения изображения: В-или способ яркости, М-или способ движения и А-или амплитудный. На сегодняшний день в основном применяю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пособы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и В-способе: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ют одновременно несколько ультразвуковых волн или одну, постоянно перемещающуюся, за счет чего образуется сканирующая плоскость, которая как бы разрезает внутренние органы. В результате на экран выводится двухмерное изображение внутренних органов на уровне «разреза». При рас­шифровке анализируется каждый отраженный сигнал, который визуализируется в виде отдельной точки. Яркость точки соответствует силе отраженной волны, а ее расположение на мониторе будет полностью соответствовать расположению внутренних органов (рис. 9). Собранное изображение появляется на экране, непрерывно обновляясь с определенной частотой смены кадров, что обеспечивает исследование в реальном времени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p123"/>
          <p:cNvPicPr/>
          <p:nvPr/>
        </p:nvPicPr>
        <p:blipFill>
          <a:blip r:embed="rId1"/>
          <a:stretch/>
        </p:blipFill>
        <p:spPr>
          <a:xfrm>
            <a:off x="1258920" y="1125360"/>
            <a:ext cx="6481800" cy="4751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770040" y="5877000"/>
            <a:ext cx="6984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. 9  В-режим, печень статичное двухмер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обра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-способ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ют единственную неподвижную ультразвуковую волну, а отраженные сигналы выводятся на экран как ряд точек, расположенных по вертикальной линии. Движение каждой отражающей точки отображается на экране в виде графика. При этом положение точки по вертикальной линии (ос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соответствует глубине расположения структуры по отношению к датчику, и, следовательно, совпадает с топографическим расположением структуры в организме. По горизонтальной линии (ос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фиксируется ее перемещение за определенное время. Яркость точки, как и в В-режиме, соответствует силе отраженной волны. Изображение непрерывно обновляется, перемещаясь по горизонтальной линии, в результате чего получается график движения каждой точки (рис. 10). Этот метод применяют в кардиоло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G:\20140120-194628-9651\ABD20140120194630\201401202002540048ABD.JPG"/>
          <p:cNvPicPr/>
          <p:nvPr/>
        </p:nvPicPr>
        <p:blipFill>
          <a:blip r:embed="rId1"/>
          <a:stretch/>
        </p:blipFill>
        <p:spPr>
          <a:xfrm>
            <a:off x="1403280" y="1147680"/>
            <a:ext cx="6526440" cy="46548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755640" y="59500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ис. 10      М-режим, сверху левый желудоч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760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Tahoma"/>
              </a:rPr>
              <a:t>Подготовка к исследованию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4032"/>
                </a:solidFill>
                <a:latin typeface="Tahoma"/>
              </a:rPr>
              <a:t>!</a:t>
            </a:r>
            <a:r>
              <a:rPr b="0" lang="en-US" sz="1600" spc="-1" strike="noStrike">
                <a:solidFill>
                  <a:srgbClr val="f44032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44032"/>
                </a:solidFill>
                <a:latin typeface="Tahoma"/>
              </a:rPr>
              <a:t>Для успешного проведения ультразвукового исследования, распознавания эхоизображения и получения высококачественных эхограмм необходимо, прежде всего, хорошее знание </a:t>
            </a:r>
            <a:r>
              <a:rPr b="1" i="1" lang="ru-RU" sz="2400" spc="-1" strike="noStrike" u="sng">
                <a:solidFill>
                  <a:srgbClr val="f44032"/>
                </a:solidFill>
                <a:uFillTx/>
                <a:latin typeface="Tahoma"/>
              </a:rPr>
              <a:t>топографической анатомии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1.</a:t>
            </a:r>
            <a:r>
              <a:rPr b="0" i="1" lang="en-US" sz="24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r>
              <a:rPr b="0" i="1" lang="ru-RU" sz="2400" spc="-1" strike="noStrike" u="sng">
                <a:solidFill>
                  <a:srgbClr val="e5ffff"/>
                </a:solidFill>
                <a:uFillTx/>
                <a:latin typeface="Tahoma"/>
              </a:rPr>
              <a:t>Подготовительный этап.</a:t>
            </a:r>
            <a:r>
              <a:rPr b="0" i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ключает в себя собирание анамнеза, изучение клинической картины болезни и подготовку пациента к исследованию. Сведения можно получить от владельца животного (обслуживающего персонала), от ветеринарного специалиста, проводившего исследование и направившего пациента на УЗИ или из сопроводительных докумен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Это не исключает, а даже является целесообразным, - личное клиническое исследование пациента врачом, который будет проводить ультразвуковую диагностику. Полученная информация позволит сократить продолжительность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анипуляций и избрать оптимальную тактику УЗ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8445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5ffff"/>
                </a:solidFill>
                <a:latin typeface="Tahoma"/>
              </a:rPr>
              <a:t>2.</a:t>
            </a:r>
            <a:r>
              <a:rPr b="0" i="1" lang="en-US" sz="24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r>
              <a:rPr b="0" i="1" lang="ru-RU" sz="2400" spc="-1" strike="noStrike" u="sng">
                <a:solidFill>
                  <a:srgbClr val="e5ffff"/>
                </a:solidFill>
                <a:uFillTx/>
                <a:latin typeface="Tahoma"/>
              </a:rPr>
              <a:t>Подготовка пациента включае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:в себя ограничение употребления газообразующих кормов, его фиксирование согласно общепринятых правил, выстригание, выбривание волосяного покрова в месте проекции исследуемого органа (при этом избегают попадания в проекцию датчика костей и газосодержащих структур, которые блокируют прохождение звукового луча), обезжиривание кожи и нанесение на участок тела жидкости, улучшающей контакт ультразвукового датчика с поверхностью. В качестве контактного вещества может служить специальный гель, глицерин или жидкий вазелин, жидкий параф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ИЧИНЫ ДИАГНОСТИЧЕСКИХ ОШИБОК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ми причинами диагностических ошибок при ультразвуковой диагностике могут быть следующ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норирование обязательной нозологической дифференциации при интерпретации результатов УЗИ. Не следует всегда рассматривать толь­ко одну версию диагноза, кажущуюся при пер­вичном исследовании единственно вер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брежная и невнимательная оценка ультразвукового изображения, упущение из вида дополнительных деталей.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ько критический подход к собственному восприятию эхограммы определяет высокий уровень заключ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достаточное изучение анамнестических и клинических данных, из-за чего отсутствуют первоначальные диагностические гипоте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повторных ультразвуковых исследований во всех неясных или сомнительных случаях, интервал между которыми выбирается в зависимости от эхографических находок, клинической картины, графика работы ветеринарной клиники и возможностей владельцев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358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нтерпретация изображ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описания органов общеприняты следующие терм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Эхопозитивное изображени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более светло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Эхонегативное изображени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более темно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перэхогенная структур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ркие белые пят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сти, газы, плотные инородные тел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поэхогенна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уктур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ятна темно-серого цв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мягкие ткани, различные оттенки серог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эхогенная структур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ные пят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все жидк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Ложные изображения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РТЕФАК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3fd29"/>
                </a:solidFill>
                <a:latin typeface="Tahoma"/>
              </a:rPr>
              <a:t>Артефакт в ультразвуковой диагностике — это по­явление на изображении несуществующих структур, отсутствие существующих, неправильные расположение, яркость, очертания, размеры структур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642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 получения изображения органов с помощью отраженных от них ультразвуковых волн называется ЭХОГРАФИЕЙ или  УЛЬТРАСОНОГРАФИЕЙ                      (от греч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o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ражение звука; лат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ra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ящийся за пределами, сверх;  лат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us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вук и греч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o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иш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Преимущество метода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:1.  высокая информативност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2. быстрота получения результат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3. безболезненнос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4. доступность  и простота метод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5. отсутствие явного воздействия на пациент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врач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3fd29"/>
                </a:solidFill>
                <a:latin typeface="Tahoma"/>
              </a:rPr>
              <a:t>Реверберац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эффект, который наблюдают, если ультразвуко­вой импульс попадает между двумя или более отражающими по­верхност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а экране появляются множественные яркие параллельные линии, которые расположены перпендикулярно направлению, в котором распрост­раняется ультразвуковой луч. Час­то реверберацию наблюдают при попадании ультразвука на воздуш­ную поверх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6192720" cy="46814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468360" y="5950080"/>
            <a:ext cx="8496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. 11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тефакты: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— реверберация;б- «хвост кометы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d29"/>
                </a:solidFill>
                <a:latin typeface="Tahoma"/>
              </a:rPr>
              <a:t>Хвост ком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дставляет собой разновидность ревербера­ции, встречается, когда ультразвук вызывает собственные колебания объек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его часто на­блюдают позади мелких пузырьков газа или мелких металличес­ких предметов. При этом колеблющаяся структура посылает к дат­чику многократные ультразвуковые импульсы, отображающиеся на экране в виде светлой полоски за объек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6070680" cy="4608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731880" y="5805360"/>
            <a:ext cx="80881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. 1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тефакт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«хвост кометы» стрелками за кишечными газ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3fd29"/>
                </a:solidFill>
                <a:latin typeface="Tahoma"/>
              </a:rPr>
              <a:t>Зеркальное отображение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— объект, который находится по одну сторону сильного отражателя, появляется с его другой сторон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анные артефакты часто возникают около диафраг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242040" cy="49690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587520" y="5214960"/>
            <a:ext cx="772956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. 13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еркальное отображение желч­ного пузыря (показано стрелкой) позади диафрагм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желчный пузырь;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2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фрагм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d29"/>
                </a:solidFill>
                <a:latin typeface="Tahoma"/>
              </a:rPr>
              <a:t>Акустическая тен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ает за сильно отражающими или сильно поглощающими ультразвук структурами. Она визуализи­руется в виде черной полосы за исследуемым объект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аще все­го акустическая тень появляется за костями, мочевыми конкре­мен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97800" cy="34578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442800" y="4653000"/>
            <a:ext cx="83059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с. 14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ртефакт акустической тени (показан стрелками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мочевого конкремента в полости мочевого пузыр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позвоночника пл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—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ей таза животног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fd29"/>
                </a:solidFill>
                <a:latin typeface="Tahoma"/>
              </a:rPr>
              <a:t>Дистальное псевдоусиление сигнала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ает позади структур, слабо поглощающих ультразвук (жидкостные, жидкостьсодержащие образования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ображается в виде участка паренхимы, эхогенность которого выше, чем рядом расположенного. Повыше­ние эхогенности в этой области не связано с уплотнением и изменением звуко­проводимости самой тк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192720" cy="4319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"/>
          <p:cNvSpPr/>
          <p:nvPr/>
        </p:nvSpPr>
        <p:spPr>
          <a:xfrm>
            <a:off x="554040" y="5214960"/>
            <a:ext cx="7834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с. 15.   Артефакт  дистального псевдоусиления в печен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 — желчный пузырь; 2 — дистальное псевдоусиление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Tahoma"/>
              </a:rPr>
              <a:t>1.Физические основы метода</a:t>
            </a:r>
            <a:endParaRPr b="0" lang="en-US" sz="2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4920" y="1052640"/>
            <a:ext cx="8496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льтразвук – это упругие колебания частиц среды в виде чередования  последовательных  компрессий  и разряжений с частотой 20 кГц до 1 ГГц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льтразвук не воспринимается человеческим ухом.( для срав-нения ухо человека слышит звуковые волны </a:t>
            </a:r>
            <a:r>
              <a:rPr b="0" lang="ru-RU" sz="2200" spc="-1" strike="noStrike" u="sng">
                <a:solidFill>
                  <a:srgbClr val="ffcc00"/>
                </a:solidFill>
                <a:uFillTx/>
                <a:latin typeface="Times New Roman"/>
              </a:rPr>
              <a:t>не выше 0,02 МГц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льтразвук характеризуется такими же физическими параметрами, что и обычные звуковые волны(имеет частоту колебаний, длину волны, скорость распределения звука и др.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диагностических целей используют ультразвук  частотой     </a:t>
            </a:r>
            <a:r>
              <a:rPr b="0" lang="ru-RU" sz="2200" spc="-1" strike="noStrike" u="sng">
                <a:solidFill>
                  <a:srgbClr val="ffcc00"/>
                </a:solidFill>
                <a:uFillTx/>
                <a:latin typeface="Times New Roman"/>
              </a:rPr>
              <a:t>от 2 до 10 МГц и более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иагностическое значение ультразвука связано с возможностью получать изображение внутренних органов и структур  и основано на том, что ультразвук без существенного поглощения способен проникать в мягкие ткани и отражаться от акустических неоднородносте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римерный бланк протокола ультразвукового обследования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4788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ечен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меры: увеличена на _____мм, не увеличен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аницы четкие, нечеткие, прерывисты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хоструктура: однородная, неоднородна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хогенность: гипоэхогенная, изоэхогенная, гиперэхогенна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удистый рисунок : выражен, не выражен. описание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Дополнительные да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Желчный пузыр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орма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епень наполнения: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держимое : однородное, не однородно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иперэхогенные образования: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енка: Утолщена, неутолщена, размеры_____м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Желчные ходы : расширены , не расширен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елезен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мер:  __________мм, увеличена, не увеличен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орма: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полнительн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_______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00720" y="549000"/>
            <a:ext cx="4643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чк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зуализация:четкая, нечетка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сположение : не изменено , изменен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меры 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евая почка________________м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авая  почка_______________мм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нтуры :четкие, не четк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ково-мозговая дифференцировка: есть четкая, нечеткая, н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аренхима : однородная , неоднородна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ЛС: не изменена, уплотнена.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оханки расширены, не расширенн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полнительно________________________________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чевой пузыр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полнение:___________________________________Содержмое:_______________________________________________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енка ___________мм, утолщена, растянута, не изменена._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ключение:_________________________________________________________________________________Врач:________________________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оплерограф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f3fd29"/>
                </a:solidFill>
                <a:uFillTx/>
                <a:latin typeface="Tahoma"/>
              </a:rPr>
              <a:t>Эффект Доплера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ность эффекта состоит в том, что от движущихся объектов ультразвуковые волны отражаются с измененной частот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сдвиг частоты пропорционален скорости движения лоцируемых структур — если движение направлено в сторону датчика, то частота увеличивается, если от датчика — уменьшаетс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3fd29"/>
                </a:solidFill>
                <a:latin typeface="Tahoma"/>
              </a:rPr>
              <a:t>Данный метод позволяет оценить уровень кровотока в любом орга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вные достоинства метода проявляются в кардиологии  в виде возможности практически мгновенной диагностики факта наличия и быстрой полуколичественной оценки степени выраженности клапанной регургитации, внутрисердечных шунтов, быстрой диагностики генеза сердечных шумов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достатком метода является его относительно низкая разрешающая способность. Метод не позволяет без искажений отражать высокие скоростные потоки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. 75 Спектральная доплерография общей каротидной арте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496764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9640" y="333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G:\20131212-122127-9651\ABD20131212122128\201312121221280001ABD.JPG"/>
          <p:cNvPicPr/>
          <p:nvPr/>
        </p:nvPicPr>
        <p:blipFill>
          <a:blip r:embed="rId1"/>
          <a:stretch/>
        </p:blipFill>
        <p:spPr>
          <a:xfrm>
            <a:off x="1952640" y="692280"/>
            <a:ext cx="5832360" cy="39351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"/>
          <p:cNvSpPr/>
          <p:nvPr/>
        </p:nvSpPr>
        <p:spPr>
          <a:xfrm>
            <a:off x="900000" y="472932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ис. 76 Доплерография кровотока при неоплазии селезе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. 77  Доплерография селезеночной артерии и ве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осуды идут параллельно друг к друг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G:\20140103-173343-9651\ABD20140103173345\201401031741360041ABD.JPG"/>
          <p:cNvPicPr/>
          <p:nvPr/>
        </p:nvPicPr>
        <p:blipFill>
          <a:blip r:embed="rId1"/>
          <a:stretch/>
        </p:blipFill>
        <p:spPr>
          <a:xfrm>
            <a:off x="1812960" y="836640"/>
            <a:ext cx="590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. 78 Доплерография сосудов печ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G:\багеева20131209-150326-9651\ABD20131209150402\201312091508590016ABD.JPG"/>
          <p:cNvPicPr/>
          <p:nvPr/>
        </p:nvPicPr>
        <p:blipFill>
          <a:blip r:embed="rId1"/>
          <a:stretch/>
        </p:blipFill>
        <p:spPr>
          <a:xfrm>
            <a:off x="1835280" y="503280"/>
            <a:ext cx="61927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2" descr="G:\20140203-164739-9651\ABD20140203164742\201402031649110013ABD.JPG"/>
          <p:cNvPicPr/>
          <p:nvPr/>
        </p:nvPicPr>
        <p:blipFill>
          <a:blip r:embed="rId1"/>
          <a:stretch/>
        </p:blipFill>
        <p:spPr>
          <a:xfrm>
            <a:off x="1619280" y="620640"/>
            <a:ext cx="6121440" cy="40626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611280" y="4932360"/>
            <a:ext cx="74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с. 79 Крупный сосуд в области мочевого пузыря при доплерограф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.80   Сосудистый конус – семенниковые артерии ба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2" descr="G:\коз-л_синий20140120-124810-9651\VAS20140120124831\201401201251510022VAS.JPG"/>
          <p:cNvPicPr/>
          <p:nvPr/>
        </p:nvPicPr>
        <p:blipFill>
          <a:blip r:embed="rId1"/>
          <a:stretch/>
        </p:blipFill>
        <p:spPr>
          <a:xfrm>
            <a:off x="2124000" y="1557360"/>
            <a:ext cx="554364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. 81 Сосуды почки при пиелонефрите 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та 7 ле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отмечается усиление кровото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бласти почечного синуса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" descr="G:\чуева20131206-194333-9651\ABD20131206194417\201312061957470060ABD.JPG"/>
          <p:cNvPicPr/>
          <p:nvPr/>
        </p:nvPicPr>
        <p:blipFill>
          <a:blip r:embed="rId1"/>
          <a:stretch/>
        </p:blipFill>
        <p:spPr>
          <a:xfrm>
            <a:off x="1187280" y="503280"/>
            <a:ext cx="6769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9640" y="4724280"/>
            <a:ext cx="7920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ис.1 Схематическое изображение А-обратного и прямого – Б  пьезоэлектрического эффе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60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ЛАГОДАРЮ ЗА ВНИМАНИЕ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ИНТЕРЕСУЮЩИМ ВОПРОСАМ ПИШИТЕ НА ЭЛ.ПОЧ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0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bolit@mail.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Tahoma"/>
              </a:rPr>
              <a:t>3.Получение изображения</a:t>
            </a:r>
            <a:endParaRPr b="0" lang="en-US" sz="2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18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9884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зличные ткани  организма по разному  пропускают ультразвуковые волны. Проходя через однородную среду , ход луча представляет собой прямую линию, Достигнув границы разделения сред с различным сопротивлением (мышцы и  кости), часть ультразвука отражае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9884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5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эффициент отражения зависит от разности  ультразвукового сопротивления при этом, чем большая разность, тем  сильнее степень отражени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9884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ак как различные органы и ткани по разному отражают ультразвуковую волну, то полученные изображения  так же будут различаться (рис 2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913800" cy="3311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3933360"/>
            <a:ext cx="8229600" cy="23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Рис.2  Принцип получения изображения  при уз сканировани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1-Распространение ультразвука через мягкие ткан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2-Отражение ультразвуковой волны от  акустических неоднородностей (органы и ткани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3-формирование объекта на основе отраженных сигнал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а- сильно отражающая структура; б– средне отражающая структур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- структура, плохо отражающая ультразву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5229000"/>
            <a:ext cx="84265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ис. 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учный                                      Рис .4         Стационарный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меняется в сельском хозяйстве                              применяется только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реимущественно для определения                           крупных городских клиник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ременности  имеет небольшую стоимость)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ru-RU" sz="30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ffcc00"/>
                </a:solidFill>
                <a:latin typeface="Tahoma"/>
              </a:rPr>
              <a:t>Современная УЗИ аппаратура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1"/>
          <a:stretch/>
        </p:blipFill>
        <p:spPr>
          <a:xfrm>
            <a:off x="5580000" y="1125360"/>
            <a:ext cx="2448000" cy="4102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25606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532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4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</a:rPr>
              <a:t>Рис.5  Портативный переносной узи аппарат среднего класса и ценового диапазона, широко распространен в большинстве ветеринарных клиник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</a:rPr>
              <a:t>Рис.7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</a:rPr>
              <a:t> (а,б,с,д</a:t>
            </a:r>
            <a:r>
              <a:rPr b="0" lang="en-US" sz="2400" spc="-1" strike="noStrike">
                <a:solidFill>
                  <a:srgbClr val="e5ff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</a:rPr>
              <a:t>     Трансдукторы (датчики к узи сканерам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18" descr=""/>
          <p:cNvPicPr/>
          <p:nvPr/>
        </p:nvPicPr>
        <p:blipFill>
          <a:blip r:embed="rId1"/>
          <a:stretch/>
        </p:blipFill>
        <p:spPr>
          <a:xfrm>
            <a:off x="5076720" y="1052640"/>
            <a:ext cx="2797200" cy="18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2952720" cy="1873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195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539640" y="907920"/>
            <a:ext cx="280836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539640" y="2924280"/>
          <a:ext cx="3095640" cy="36504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36504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 Секто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7"/>
          <p:cNvSpPr/>
          <p:nvPr/>
        </p:nvSpPr>
        <p:spPr>
          <a:xfrm>
            <a:off x="1800" y="3071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23" descr=""/>
          <p:cNvPicPr/>
          <p:nvPr/>
        </p:nvPicPr>
        <p:blipFill>
          <a:blip r:embed="rId4"/>
          <a:stretch/>
        </p:blipFill>
        <p:spPr>
          <a:xfrm>
            <a:off x="684360" y="3716280"/>
            <a:ext cx="2736720" cy="1873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0"/>
          <p:cNvSpPr/>
          <p:nvPr/>
        </p:nvSpPr>
        <p:spPr>
          <a:xfrm>
            <a:off x="611280" y="5734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  Секторный микроконвекс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5651640" y="2997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   Линей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4"/>
          <p:cNvSpPr/>
          <p:nvPr/>
        </p:nvSpPr>
        <p:spPr>
          <a:xfrm>
            <a:off x="572436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   Ректаль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8:54:55Z</dcterms:created>
  <dc:creator>Bulat</dc:creator>
  <dc:description/>
  <dc:language>en-US</dc:language>
  <cp:lastModifiedBy>user</cp:lastModifiedBy>
  <dcterms:modified xsi:type="dcterms:W3CDTF">2020-03-22T21:50:37Z</dcterms:modified>
  <cp:revision>188</cp:revision>
  <dc:subject/>
  <dc:title>УЛЬТРАЗВУКОВАЯ ДИАГНОСТИКА В ВЕТЕРИНАРНОЙ ПРАКТИКЕ</dc:title>
</cp:coreProperties>
</file>