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7FEA-9D7C-4F95-86D7-43D27DF0B3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1273-32E1-4203-AE4F-610A649EAB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6394-02EA-43B4-9189-FCF3025F0D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7A45-3AC0-48F9-B49C-A4FEEE8C03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7595-9606-40A8-96D5-6BEFBC74DA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7B04-CED3-4A63-85B4-B13E3E1EE7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F403-31D4-4D01-95A4-88731B8A62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4D2D-D9B9-41B0-9BAD-7FE21A9A51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8C49-4024-48F4-B887-2A6ECF0837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5647-A4AA-4665-A7A4-989C9066E6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F168-7D92-431C-B58E-7ABA2CAE66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276C-2930-480D-A2E7-AF634EEE40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861F-121E-4E7B-A760-C4E64CA558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5DED-E646-4B8E-A4BA-3AE05BE496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720E-6A35-4FA7-A722-D828237112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A49E-0304-4B4D-8518-DE731E807D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BC68-214A-444E-9226-0C11151BCB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0F0F-7641-47C7-BA05-351BF5CC5F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B338-53E8-458F-8A7D-BA5B3E4ECA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6B63-6D42-44EC-AC31-BE8692F58C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92C2-EB3A-4C5B-BE25-0CD8290B98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7145-C1F6-4E6A-BB65-7646CC2FB9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EA8A-E598-48A4-BE94-D97FED3EDB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F55D-88A1-4D15-83D9-F18D52BC87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7BDE-035A-4790-9E9B-FCE31FD6C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ABC6-1035-47F7-9CE5-FE96522C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8BBE-1B22-4DBC-B9CB-1A963CD72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439E-1875-4D5C-B0B5-D992A7BA6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0D40-2554-4760-B07E-1E8AE683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E201-A12D-42A0-9851-3D301537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9BB2-2E07-404C-8790-3A7C3D05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B2D4-5092-474B-8A82-99FFB4BA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E922-EF23-4911-B56E-D431A747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4FF4-773F-49AE-91DB-FFBDDD44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7747-4FC4-4DD3-93A3-AFEBCB68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ADF3-D988-414C-88CF-633DD774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C186-DC50-452E-8F90-1A29ECE71C1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148360" y="333000"/>
            <a:ext cx="3362400" cy="1655640"/>
          </a:xfrm>
          <a:prstGeom prst="rect">
            <a:avLst/>
          </a:prstGeom>
          <a:solidFill>
            <a:srgbClr val="d4c1fb"/>
          </a:solidFill>
          <a:ln w="9360">
            <a:solidFill>
              <a:srgbClr val="2c88e5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нецкий институт физической культуры и спор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 АФ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"/>
          <p:cNvSpPr/>
          <p:nvPr/>
        </p:nvSpPr>
        <p:spPr>
          <a:xfrm flipH="1">
            <a:off x="441360" y="5424480"/>
            <a:ext cx="4130640" cy="82548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цент кафедры АФ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.мед.н     Ю.А. Гришу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68000" y="2637000"/>
            <a:ext cx="7886520" cy="1296720"/>
          </a:xfrm>
          <a:prstGeom prst="rect">
            <a:avLst/>
          </a:prstGeom>
          <a:solidFill>
            <a:srgbClr val="d4c1fb"/>
          </a:solidFill>
          <a:ln w="9360">
            <a:solidFill>
              <a:srgbClr val="2c88e5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ФИЗИЧЕСКАЯ РЕАБИЛИТАЦИЯ ПРИ ЗАБОЛЕВАНИЯХ Ж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минеральная вода Ессентуки-4"/>
          <p:cNvPicPr/>
          <p:nvPr/>
        </p:nvPicPr>
        <p:blipFill>
          <a:blip r:embed="rId1"/>
          <a:stretch/>
        </p:blipFill>
        <p:spPr>
          <a:xfrm>
            <a:off x="6810480" y="4119480"/>
            <a:ext cx="1930320" cy="261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Картинки по запросу Хлоридно-кальциевые воды фото"/>
          <p:cNvPicPr/>
          <p:nvPr/>
        </p:nvPicPr>
        <p:blipFill>
          <a:blip r:embed="rId2"/>
          <a:stretch/>
        </p:blipFill>
        <p:spPr>
          <a:xfrm>
            <a:off x="417600" y="219240"/>
            <a:ext cx="314640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362800" cy="91764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пражнения, способствующие оттоку желчи из желчного пузыря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108000" y="1341360"/>
            <a:ext cx="5562720" cy="15112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marL="268560" indent="-2685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ежа на правом боку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улучшается кровоснабжение печени, обеспечивается массаж печени за счет увеличения Экскурсии правого купола диафраг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11"/>
          <p:cNvSpPr/>
          <p:nvPr/>
        </p:nvSpPr>
        <p:spPr>
          <a:xfrm>
            <a:off x="3308400" y="3141720"/>
            <a:ext cx="5835600" cy="172872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Исходное положение: лежа на спине с приподнятым ножным концом кушетки, а также коленно-локтевое положени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спользуются при спланхноптозах (опущение  внутренних орган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12"/>
          <p:cNvSpPr/>
          <p:nvPr/>
        </p:nvSpPr>
        <p:spPr>
          <a:xfrm>
            <a:off x="0" y="5157720"/>
            <a:ext cx="5118120" cy="15638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различных исходных положениях выполняются движения туловищем, ногами с большой амплитудой в сочетании с дыха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362800" cy="77940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ОКАЗАНИЯ ДЛЯ ЛФ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9"/>
          <p:cNvSpPr/>
          <p:nvPr/>
        </p:nvSpPr>
        <p:spPr>
          <a:xfrm>
            <a:off x="144360" y="1069920"/>
            <a:ext cx="5400720" cy="266400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ронические гастриты с нормальной, повышенной и пониженной секреци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звенная болезнь желудка и 12-перстной киш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скинезии желчевыводящих путей и хронические холецисти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ронические гепати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2"/>
          <p:cNvSpPr/>
          <p:nvPr/>
        </p:nvSpPr>
        <p:spPr>
          <a:xfrm>
            <a:off x="108000" y="3860640"/>
            <a:ext cx="5616360" cy="25196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ронические колиты, в основном со склонностью к запор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рыжи пищеводного отверстия диафраг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планхноптоз (опущение внутренних орган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Картинки по запросу лфк при заб жкт фото"/>
          <p:cNvPicPr/>
          <p:nvPr/>
        </p:nvPicPr>
        <p:blipFill>
          <a:blip r:embed="rId1"/>
          <a:stretch/>
        </p:blipFill>
        <p:spPr>
          <a:xfrm>
            <a:off x="5581800" y="920880"/>
            <a:ext cx="356220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362800" cy="77940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РОТИВОПОКАЗАНИЯ ДЛЯ ЛФ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9"/>
          <p:cNvSpPr/>
          <p:nvPr/>
        </p:nvSpPr>
        <p:spPr>
          <a:xfrm>
            <a:off x="3743280" y="1268280"/>
            <a:ext cx="5400720" cy="165600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ериод обострения заболевания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 выраженным болевым синдромом, многократной рвотой и тошно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2"/>
          <p:cNvSpPr/>
          <p:nvPr/>
        </p:nvSpPr>
        <p:spPr>
          <a:xfrm>
            <a:off x="250920" y="2851200"/>
            <a:ext cx="4608360" cy="36734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ложненное течение заболева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овотечение при язвенной болезни желудка и 12-перстной кишки, язвенном колит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одение язвы, острые перивисцериты (перигастрит, перидуодени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3"/>
          <p:cNvSpPr/>
          <p:nvPr/>
        </p:nvSpPr>
        <p:spPr>
          <a:xfrm>
            <a:off x="5219640" y="4653000"/>
            <a:ext cx="3741840" cy="17272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Общие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повышение температуры тела, интоксикация, простудные заболе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362800" cy="77940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ХРОНИЧЕСКИЕ ГАСТРИ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9"/>
          <p:cNvSpPr/>
          <p:nvPr/>
        </p:nvSpPr>
        <p:spPr>
          <a:xfrm>
            <a:off x="3699000" y="1112760"/>
            <a:ext cx="5400720" cy="9352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етодика ЛФК при хронических гастритах зависит от характера секре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2"/>
          <p:cNvSpPr/>
          <p:nvPr/>
        </p:nvSpPr>
        <p:spPr>
          <a:xfrm>
            <a:off x="11160" y="2048040"/>
            <a:ext cx="4608360" cy="7682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 гастритах с пониженной секреци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3"/>
          <p:cNvSpPr/>
          <p:nvPr/>
        </p:nvSpPr>
        <p:spPr>
          <a:xfrm>
            <a:off x="0" y="3554280"/>
            <a:ext cx="9144000" cy="259236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грузка должна быть умеренной, чтобы стимулировать секреторную и моторную функции желуд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Г проводится за 1,5-2 часа до приема пищи и за 20-40 минут до приема минеральной в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ФК назначается в период стихания обостр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вые 5-6 занятий ЛГ проводится с малой нагрузкой, исключаются упражнения для брюшного прес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Выгнутая вправо стрелка 4"/>
          <p:cNvSpPr/>
          <p:nvPr/>
        </p:nvSpPr>
        <p:spPr>
          <a:xfrm>
            <a:off x="4619520" y="2563920"/>
            <a:ext cx="804960" cy="990360"/>
          </a:xfrm>
          <a:custGeom>
            <a:avLst/>
            <a:gdLst>
              <a:gd name="textAreaLeft" fmla="*/ 107640 w 804960"/>
              <a:gd name="textAreaRight" fmla="*/ 697320 w 804960"/>
              <a:gd name="textAreaTop" fmla="*/ 172080 h 990360"/>
              <a:gd name="textAreaBottom" fmla="*/ 71784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10" stAng="-5400000" swAng="5400000"/>
                <a:lnTo>
                  <a:pt x="21600" y="11897"/>
                </a:lnTo>
                <a:arcTo wR="21600" hR="7510" stAng="0" swAng="3203986"/>
                <a:lnTo>
                  <a:pt x="5400" y="21362"/>
                </a:lnTo>
                <a:lnTo>
                  <a:pt x="0" y="17213"/>
                </a:lnTo>
                <a:lnTo>
                  <a:pt x="5400" y="12587"/>
                </a:lnTo>
                <a:lnTo>
                  <a:pt x="5400" y="14781"/>
                </a:lnTo>
                <a:arcTo wR="21600" hR="7510" stAng="3203986" swAng="-2840323"/>
                <a:lnTo>
                  <a:pt x="20658" y="9703"/>
                </a:lnTo>
                <a:arcTo wR="21600" hR="7510" stAng="-363663" swAng="-5036337"/>
                <a:close/>
              </a:path>
              <a:path fill="darkenLess" w="21600" h="21600">
                <a:moveTo>
                  <a:pt x="0" y="0"/>
                </a:moveTo>
                <a:arcTo wR="21600" hR="7510" stAng="-5400000" swAng="5400000"/>
                <a:lnTo>
                  <a:pt x="21600" y="11897"/>
                </a:lnTo>
                <a:arcTo wR="21600" hR="7510" stAng="0" swAng="-363663"/>
                <a:lnTo>
                  <a:pt x="20658" y="9703"/>
                </a:lnTo>
                <a:arcTo wR="21600" hR="7510" stAng="-363663" swAng="-5036337"/>
                <a:close/>
              </a:path>
            </a:pathLst>
          </a:custGeom>
          <a:solidFill>
            <a:srgbClr val="4c0ec8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362800" cy="77940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ХРОНИЧЕСКИЕ ГАСТРИ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2"/>
          <p:cNvSpPr/>
          <p:nvPr/>
        </p:nvSpPr>
        <p:spPr>
          <a:xfrm>
            <a:off x="201600" y="1197000"/>
            <a:ext cx="4608360" cy="7682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 гастритах с пониженной секреци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3"/>
          <p:cNvSpPr/>
          <p:nvPr/>
        </p:nvSpPr>
        <p:spPr>
          <a:xfrm>
            <a:off x="19080" y="3021120"/>
            <a:ext cx="9144000" cy="357660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пользуются упражнения на расслабление, упражнения для брюшного пресса в исходном положении сначала на спине, можно на боку (причем на правом боку быстрее происходит эвакуация пищи из желудка), затем в и. п. сидя, сто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комплекс упражнений включается ходьба, простая и усложнен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комендуется медленная ходьба через 1,5-2 часа после е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дальнейшем, помимо ЛГ - плавание, лыжи, гребля, спортивные иг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езен массаж передней брюшной стен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Выгнутая вправо стрелка 4"/>
          <p:cNvSpPr/>
          <p:nvPr/>
        </p:nvSpPr>
        <p:spPr>
          <a:xfrm>
            <a:off x="4608360" y="2030400"/>
            <a:ext cx="804960" cy="990720"/>
          </a:xfrm>
          <a:custGeom>
            <a:avLst/>
            <a:gdLst>
              <a:gd name="textAreaLeft" fmla="*/ 107640 w 804960"/>
              <a:gd name="textAreaRight" fmla="*/ 697320 w 804960"/>
              <a:gd name="textAreaTop" fmla="*/ 172080 h 990720"/>
              <a:gd name="textAreaBottom" fmla="*/ 7178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10" stAng="-5400000" swAng="5400000"/>
                <a:lnTo>
                  <a:pt x="21600" y="11897"/>
                </a:lnTo>
                <a:arcTo wR="21600" hR="7510" stAng="0" swAng="3203986"/>
                <a:lnTo>
                  <a:pt x="5400" y="21362"/>
                </a:lnTo>
                <a:lnTo>
                  <a:pt x="0" y="17213"/>
                </a:lnTo>
                <a:lnTo>
                  <a:pt x="5400" y="12587"/>
                </a:lnTo>
                <a:lnTo>
                  <a:pt x="5400" y="14781"/>
                </a:lnTo>
                <a:arcTo wR="21600" hR="7510" stAng="3203986" swAng="-2840323"/>
                <a:lnTo>
                  <a:pt x="20658" y="9703"/>
                </a:lnTo>
                <a:arcTo wR="21600" hR="7510" stAng="-363663" swAng="-5036337"/>
                <a:close/>
              </a:path>
              <a:path fill="darkenLess" w="21600" h="21600">
                <a:moveTo>
                  <a:pt x="0" y="0"/>
                </a:moveTo>
                <a:arcTo wR="21600" hR="7510" stAng="-5400000" swAng="5400000"/>
                <a:lnTo>
                  <a:pt x="21600" y="11897"/>
                </a:lnTo>
                <a:arcTo wR="21600" hR="7510" stAng="0" swAng="-363663"/>
                <a:lnTo>
                  <a:pt x="20658" y="9703"/>
                </a:lnTo>
                <a:arcTo wR="21600" hR="7510" stAng="-363663" swAng="-5036337"/>
                <a:close/>
              </a:path>
            </a:pathLst>
          </a:custGeom>
          <a:solidFill>
            <a:srgbClr val="4c0ec8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362800" cy="57636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ХРОНИЧЕСКИЕ ГАСТРИ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2"/>
          <p:cNvSpPr/>
          <p:nvPr/>
        </p:nvSpPr>
        <p:spPr>
          <a:xfrm>
            <a:off x="-36360" y="1047600"/>
            <a:ext cx="4895640" cy="76860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 гастритах с нормальной и повышенной секрец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3"/>
          <p:cNvSpPr/>
          <p:nvPr/>
        </p:nvSpPr>
        <p:spPr>
          <a:xfrm>
            <a:off x="36360" y="2492280"/>
            <a:ext cx="9144000" cy="41054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щая нагрузка постепенно повышается. Она может быть больше, чем при гастритах с пониженной секрецией. Число упражнений на брюшной пресс ограничивают, чтобы не стимулировать секрец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Г проводят между дневным приемом минеральной воды и обедом, непосредственно перед приемом пищи (заканчивая за 15 минут), или через 2 часа после приема пищи. И.п. лежа, сидя, сто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болях исключают упражнения для брюшного пр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569080" cy="779400"/>
          </a:xfrm>
          <a:prstGeom prst="rect">
            <a:avLst/>
          </a:prstGeom>
          <a:solidFill>
            <a:srgbClr val="c4a9f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Язвенная болезнь желудка и                                  12-перстной ки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9"/>
          <p:cNvSpPr/>
          <p:nvPr/>
        </p:nvSpPr>
        <p:spPr>
          <a:xfrm>
            <a:off x="5400720" y="3963960"/>
            <a:ext cx="3743280" cy="16984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marL="277200" indent="-27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положении лежа выполняют упражнения для верхних и нижних конечностей с ограниченной амплитудой движ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2"/>
          <p:cNvSpPr/>
          <p:nvPr/>
        </p:nvSpPr>
        <p:spPr>
          <a:xfrm>
            <a:off x="179280" y="1268280"/>
            <a:ext cx="8569440" cy="18716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ЛГ назначаетс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пустя 2-5- дней после прекращения острой боли, примерно на второй неделе лечения в стациона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этот период, когда больной находится на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остельном режим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роцедура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Г не превышает 10-15 минут, проводится по индивидуальным схем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ый прямоугольник 3"/>
          <p:cNvSpPr/>
          <p:nvPr/>
        </p:nvSpPr>
        <p:spPr>
          <a:xfrm>
            <a:off x="-4680" y="3933720"/>
            <a:ext cx="4836960" cy="28130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Осторожно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обучают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диафрагмальному дыханию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 небольшой амплитудой. Это способствует улучшению кровообращения и нежному массажу органов брюшной полости, уменьшению спастических явлений и нормализации перистальт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139320" cy="77940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Язвенная болезнь желудка и                                  12-перстной ки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ый прямоугольник 9"/>
          <p:cNvSpPr/>
          <p:nvPr/>
        </p:nvSpPr>
        <p:spPr>
          <a:xfrm>
            <a:off x="5508720" y="1700280"/>
            <a:ext cx="3743280" cy="16984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лают это осторожно, с учетом реакции на упражн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2"/>
          <p:cNvSpPr/>
          <p:nvPr/>
        </p:nvSpPr>
        <p:spPr>
          <a:xfrm>
            <a:off x="-33480" y="1341360"/>
            <a:ext cx="5081760" cy="18716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 стихании болей и других явлений обострения, назначают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алатный режим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примерно через две недели после поступления) и физическая нагрузка постепенно увеличивае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кругленный прямоугольник 3"/>
          <p:cNvSpPr/>
          <p:nvPr/>
        </p:nvSpPr>
        <p:spPr>
          <a:xfrm>
            <a:off x="611280" y="4005360"/>
            <a:ext cx="7142040" cy="23032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пражнения выполняют в исходном положении лежа на спине, на боку стоя на четвереньках, на коленях и затем сто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пражнения с неполной амплитудой в медленном и среднем темп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тепенно углубляется диафрагмальное дыха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должительность занятия 15-20 мин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Прямая со стрелкой 4"/>
          <p:cNvCxnSpPr>
            <a:stCxn id="117" idx="3"/>
            <a:endCxn id="116" idx="1"/>
          </p:cNvCxnSpPr>
          <p:nvPr/>
        </p:nvCxnSpPr>
        <p:spPr>
          <a:xfrm>
            <a:off x="5047920" y="2276640"/>
            <a:ext cx="461160" cy="27324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  <p:cxnSp>
        <p:nvCxnSpPr>
          <p:cNvPr id="120" name="Прямая со стрелкой 6"/>
          <p:cNvCxnSpPr>
            <a:stCxn id="116" idx="2"/>
            <a:endCxn id="118" idx="0"/>
          </p:cNvCxnSpPr>
          <p:nvPr/>
        </p:nvCxnSpPr>
        <p:spPr>
          <a:xfrm flipH="1">
            <a:off x="4182480" y="3398400"/>
            <a:ext cx="3197880" cy="60732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139320" cy="77940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Язвенная болезнь желудка и                                12-перстной ки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2"/>
          <p:cNvSpPr/>
          <p:nvPr/>
        </p:nvSpPr>
        <p:spPr>
          <a:xfrm>
            <a:off x="0" y="1365120"/>
            <a:ext cx="4140360" cy="12718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исчезновения болей при хорошем самочувствии, назнач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вободный реж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3"/>
          <p:cNvSpPr/>
          <p:nvPr/>
        </p:nvSpPr>
        <p:spPr>
          <a:xfrm>
            <a:off x="22320" y="2997360"/>
            <a:ext cx="9126360" cy="33112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пользуются упражнения для всех мышечных групп (щадя область живота и исключая резкие движения), с возрастающим усилием из различных исходных полож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иафрагмальное дыхание глуб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должительность занятия 20-25 мин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период ремиссии желательно продолжить лечение в санатор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Г от 25-30 до 30-40 минут, игры (бадминтон, настольный теннис) не более 25 минут, если нет бо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комендуются прогулки, ходьба на лыжах без крутых подъемов и спусков, плава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Прямая со стрелкой 4"/>
          <p:cNvCxnSpPr>
            <a:stCxn id="121" idx="2"/>
            <a:endCxn id="122" idx="3"/>
          </p:cNvCxnSpPr>
          <p:nvPr/>
        </p:nvCxnSpPr>
        <p:spPr>
          <a:xfrm flipH="1">
            <a:off x="4139640" y="895320"/>
            <a:ext cx="430920" cy="110736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  <p:cxnSp>
        <p:nvCxnSpPr>
          <p:cNvPr id="125" name="Прямая со стрелкой 6"/>
          <p:cNvCxnSpPr>
            <a:stCxn id="121" idx="2"/>
            <a:endCxn id="123" idx="0"/>
          </p:cNvCxnSpPr>
          <p:nvPr/>
        </p:nvCxnSpPr>
        <p:spPr>
          <a:xfrm>
            <a:off x="4570560" y="894960"/>
            <a:ext cx="16560" cy="210276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139320" cy="93672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Язвенная болезнь желудка и                12-перстной киш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2"/>
          <p:cNvSpPr/>
          <p:nvPr/>
        </p:nvSpPr>
        <p:spPr>
          <a:xfrm>
            <a:off x="0" y="1365120"/>
            <a:ext cx="3851280" cy="12718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иболее благоприятное действие оказывает следующее построение занятий в течение дня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3"/>
          <p:cNvSpPr/>
          <p:nvPr/>
        </p:nvSpPr>
        <p:spPr>
          <a:xfrm>
            <a:off x="2843280" y="3284640"/>
            <a:ext cx="6134040" cy="30430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пустя 1,5-2 часа после завтрака выполняют процедуру ЛГ в течение 30-40 минут, в музыкальном сопровождении, усиливающем процессы торможения в ЦНС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лее - аутотренинг, электросон или отдых после аутотренин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ле 30-40-минутного отдыха - душ, плавание или дозированная ходьб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Прямая со стрелкой 4"/>
          <p:cNvCxnSpPr>
            <a:stCxn id="126" idx="2"/>
            <a:endCxn id="127" idx="3"/>
          </p:cNvCxnSpPr>
          <p:nvPr/>
        </p:nvCxnSpPr>
        <p:spPr>
          <a:xfrm flipH="1">
            <a:off x="3850920" y="1052280"/>
            <a:ext cx="720000" cy="95004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  <p:cxnSp>
        <p:nvCxnSpPr>
          <p:cNvPr id="130" name="Прямая со стрелкой 6"/>
          <p:cNvCxnSpPr>
            <a:stCxn id="126" idx="2"/>
            <a:endCxn id="128" idx="0"/>
          </p:cNvCxnSpPr>
          <p:nvPr/>
        </p:nvCxnSpPr>
        <p:spPr>
          <a:xfrm>
            <a:off x="4570200" y="1052640"/>
            <a:ext cx="1340280" cy="223272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  <p:pic>
        <p:nvPicPr>
          <p:cNvPr id="131" name="Picture 8" descr="минеральная вода Ессентуки-4"/>
          <p:cNvPicPr/>
          <p:nvPr/>
        </p:nvPicPr>
        <p:blipFill>
          <a:blip r:embed="rId1"/>
          <a:stretch/>
        </p:blipFill>
        <p:spPr>
          <a:xfrm>
            <a:off x="324000" y="3716280"/>
            <a:ext cx="193032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6000" y="31320"/>
            <a:ext cx="6696000" cy="84924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ЛАН ЛЕ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4"/>
          <p:cNvSpPr/>
          <p:nvPr/>
        </p:nvSpPr>
        <p:spPr>
          <a:xfrm flipH="1">
            <a:off x="179280" y="1052640"/>
            <a:ext cx="8964720" cy="561636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ФК при заболеваниях желудочно-кишечного тра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дачи ЛФК,  формы, показания и противопоказания к занятиям ЛФ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пециальные упражнения при заболеваниях желудочно-кишечного тра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Физиотерапия  и санаторно-курортное лечение при заболеваниях Ж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Скругленный прямоугольник 2"/>
          <p:cNvSpPr/>
          <p:nvPr/>
        </p:nvSpPr>
        <p:spPr>
          <a:xfrm>
            <a:off x="0" y="1365120"/>
            <a:ext cx="3851280" cy="12718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ечебная физкультура назначается сразу после установления диагноз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3"/>
          <p:cNvSpPr/>
          <p:nvPr/>
        </p:nvSpPr>
        <p:spPr>
          <a:xfrm>
            <a:off x="1711440" y="2711520"/>
            <a:ext cx="6132240" cy="350352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личие диспепсических явлений (тяжесть в животе, отрыжка), а также, слабая боль в подреберье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не являются противопоказанияи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умеренном болевом синдроме ЛФК проводится на фоне комплексного ле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Прямая со стрелкой 4"/>
          <p:cNvCxnSpPr>
            <a:endCxn id="132" idx="3"/>
          </p:cNvCxnSpPr>
          <p:nvPr/>
        </p:nvCxnSpPr>
        <p:spPr>
          <a:xfrm flipH="1">
            <a:off x="3850560" y="968040"/>
            <a:ext cx="1896120" cy="103392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  <p:cxnSp>
        <p:nvCxnSpPr>
          <p:cNvPr id="135" name="Прямая со стрелкой 6"/>
          <p:cNvCxnSpPr>
            <a:endCxn id="133" idx="0"/>
          </p:cNvCxnSpPr>
          <p:nvPr/>
        </p:nvCxnSpPr>
        <p:spPr>
          <a:xfrm flipH="1">
            <a:off x="4776120" y="971280"/>
            <a:ext cx="967320" cy="174060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  <p:pic>
        <p:nvPicPr>
          <p:cNvPr id="136" name="Picture 8" descr="Картинки по запросу лфк при дискинезии жвп фото"/>
          <p:cNvPicPr/>
          <p:nvPr/>
        </p:nvPicPr>
        <p:blipFill>
          <a:blip r:embed="rId1"/>
          <a:stretch/>
        </p:blipFill>
        <p:spPr>
          <a:xfrm>
            <a:off x="5746680" y="25884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101520"/>
            <a:ext cx="9139320" cy="93672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искинезии желчевыводящих пу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2"/>
          <p:cNvSpPr/>
          <p:nvPr/>
        </p:nvSpPr>
        <p:spPr>
          <a:xfrm>
            <a:off x="0" y="1365120"/>
            <a:ext cx="4284720" cy="91152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 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ипокинетической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 форме дискинезии нагрузка средня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ый прямоугольник 3"/>
          <p:cNvSpPr/>
          <p:nvPr/>
        </p:nvSpPr>
        <p:spPr>
          <a:xfrm>
            <a:off x="108000" y="2637000"/>
            <a:ext cx="9036000" cy="381636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Исходные поло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знообразные - лежа на спине, на боку, можно на животе, на четвереньках, коленях, сидя, стоя.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Для улучшения оттока желчи, наилучшее и.п. - на левом бо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рименяютс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различные упражнения для брюшного пресса с постепенно возрастающей нагрузк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ыхательные упражнения, в том числе диафрагмальное дых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клоны туловища вперед и наклоны с вращением туловища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рименяют осторожно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т.к. они могут вызвать тошноту, отрыж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пражнения выполняют с полной амплиту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Прямая со стрелкой 4"/>
          <p:cNvCxnSpPr>
            <a:stCxn id="137" idx="2"/>
            <a:endCxn id="138" idx="3"/>
          </p:cNvCxnSpPr>
          <p:nvPr/>
        </p:nvCxnSpPr>
        <p:spPr>
          <a:xfrm flipH="1">
            <a:off x="4284360" y="1038240"/>
            <a:ext cx="286560" cy="78336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  <p:cxnSp>
        <p:nvCxnSpPr>
          <p:cNvPr id="141" name="Прямая со стрелкой 6"/>
          <p:cNvCxnSpPr>
            <a:stCxn id="137" idx="2"/>
            <a:endCxn id="139" idx="0"/>
          </p:cNvCxnSpPr>
          <p:nvPr/>
        </p:nvCxnSpPr>
        <p:spPr>
          <a:xfrm>
            <a:off x="4570560" y="1037880"/>
            <a:ext cx="56160" cy="159948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139320" cy="93672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искинезии желчевыводящих пу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2"/>
          <p:cNvSpPr/>
          <p:nvPr/>
        </p:nvSpPr>
        <p:spPr>
          <a:xfrm>
            <a:off x="0" y="1365120"/>
            <a:ext cx="4788000" cy="112716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ключают различные виды ходьбы, в том числе с высоким подниманием бед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3"/>
          <p:cNvSpPr/>
          <p:nvPr/>
        </p:nvSpPr>
        <p:spPr>
          <a:xfrm>
            <a:off x="12600" y="2997360"/>
            <a:ext cx="6072120" cy="38606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язательно упражнения чередуются с расслабл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ключают малоподвижные игры, а затем - подвижны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должительность процедуры 20-30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д проведением занятий больным необходим пассивный отдых в течение нескольких ми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вые 8-10 процедур ЛГ проводят через день, затем ежедневно, можно 2 раза в д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Картинки по запросу минеральная вода при заболеваниях печени фото"/>
          <p:cNvPicPr/>
          <p:nvPr/>
        </p:nvPicPr>
        <p:blipFill>
          <a:blip r:embed="rId1"/>
          <a:stretch/>
        </p:blipFill>
        <p:spPr>
          <a:xfrm>
            <a:off x="5956200" y="1628640"/>
            <a:ext cx="30956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139320" cy="504720"/>
          </a:xfrm>
          <a:prstGeom prst="rect">
            <a:avLst/>
          </a:prstGeom>
          <a:solidFill>
            <a:srgbClr val="c4a9f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искинезии желчевыводящих пу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2"/>
          <p:cNvSpPr/>
          <p:nvPr/>
        </p:nvSpPr>
        <p:spPr>
          <a:xfrm>
            <a:off x="4680" y="907920"/>
            <a:ext cx="4932360" cy="155916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 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иперкинетической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орме дискинез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ачале дают малую нагрузку с последующим увеличением ее до сред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ый прямоугольник 3"/>
          <p:cNvSpPr/>
          <p:nvPr/>
        </p:nvSpPr>
        <p:spPr>
          <a:xfrm>
            <a:off x="0" y="2754360"/>
            <a:ext cx="9036000" cy="41036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Используютс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разнообразные исходные положения, преобладают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и.п.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ежа на спине (наиболее эффективно для расслабления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оказаны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статические и динамические дыхательные упражнения, маховые движения (вначале с ограниченной амплитудой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Избегают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ыраженных статических напряжений, особенно для мышц брюшного пресса. Не рекомендуются соревновательные моменты в игр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Темп выполн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пражнений медленный с переходом на сред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родолжительность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цедуры 20-30 мин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До занят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обходим пассивный отдых 3-7 минут в положении леж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Вначал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процедуры назначают через день, затем ежедневно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Прямая со стрелкой 4"/>
          <p:cNvCxnSpPr>
            <a:stCxn id="147" idx="2"/>
            <a:endCxn id="148" idx="0"/>
          </p:cNvCxnSpPr>
          <p:nvPr/>
        </p:nvCxnSpPr>
        <p:spPr>
          <a:xfrm>
            <a:off x="2471760" y="2467080"/>
            <a:ext cx="2046960" cy="28800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  <p:pic>
        <p:nvPicPr>
          <p:cNvPr id="150" name="Picture 6" descr="Похожее изображение"/>
          <p:cNvPicPr/>
          <p:nvPr/>
        </p:nvPicPr>
        <p:blipFill>
          <a:blip r:embed="rId1"/>
          <a:stretch/>
        </p:blipFill>
        <p:spPr>
          <a:xfrm>
            <a:off x="5029200" y="982800"/>
            <a:ext cx="391176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139320" cy="57636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Хронический холецистит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2"/>
          <p:cNvSpPr/>
          <p:nvPr/>
        </p:nvSpPr>
        <p:spPr>
          <a:xfrm>
            <a:off x="3630600" y="1197000"/>
            <a:ext cx="5508720" cy="12952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ЛФК назначаетс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 стихания обострения, при удовлетворительном общем состоянии, стойком снижении температуры до субфебрильных циф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3"/>
          <p:cNvSpPr/>
          <p:nvPr/>
        </p:nvSpPr>
        <p:spPr>
          <a:xfrm>
            <a:off x="-19080" y="2708280"/>
            <a:ext cx="9163080" cy="414972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Не является противопоказанием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убфебрилитет, болезненность при пальпации в области желчного пузыря, наличие воспалительных элементов в желчи, ускоренная СО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ЛГ лучше проводить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 1,5-2 часа до приема пищи или через 1,5-2 ча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ри постельном режим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процедура ЛГ до 15 минут, метод индивидуальный, используются упражнения в расслаблении, в исходном положении лежа, сид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ри палатном режим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назначается УГГ и ЛГ. Сначала занятия проводятся индивидуально. Упражнения: упражнения для улучшения оттока желчи, печеночного кровотока в и.п. лежа на спине, на боку, на четвереньках, сид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Прямая со стрелкой 4"/>
          <p:cNvCxnSpPr>
            <a:stCxn id="151" idx="2"/>
          </p:cNvCxnSpPr>
          <p:nvPr/>
        </p:nvCxnSpPr>
        <p:spPr>
          <a:xfrm>
            <a:off x="4570560" y="692280"/>
            <a:ext cx="1815120" cy="50544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  <p:cxnSp>
        <p:nvCxnSpPr>
          <p:cNvPr id="155" name="Прямая со стрелкой 8"/>
          <p:cNvCxnSpPr>
            <a:stCxn id="152" idx="2"/>
          </p:cNvCxnSpPr>
          <p:nvPr/>
        </p:nvCxnSpPr>
        <p:spPr>
          <a:xfrm flipH="1">
            <a:off x="5363640" y="2492280"/>
            <a:ext cx="1021680" cy="21672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  <p:pic>
        <p:nvPicPr>
          <p:cNvPr id="156" name="Picture 8" descr="Похожее изображение"/>
          <p:cNvPicPr/>
          <p:nvPr/>
        </p:nvPicPr>
        <p:blipFill>
          <a:blip r:embed="rId1"/>
          <a:stretch/>
        </p:blipFill>
        <p:spPr>
          <a:xfrm>
            <a:off x="846000" y="944640"/>
            <a:ext cx="252432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139320" cy="57636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Хронический холецистит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кругленный прямоугольник 2"/>
          <p:cNvSpPr/>
          <p:nvPr/>
        </p:nvSpPr>
        <p:spPr>
          <a:xfrm>
            <a:off x="-30240" y="1160640"/>
            <a:ext cx="4356000" cy="12952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ре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нятия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ожно прогреть область печени грелкой или парафи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кругленный прямоугольник 3"/>
          <p:cNvSpPr/>
          <p:nvPr/>
        </p:nvSpPr>
        <p:spPr>
          <a:xfrm>
            <a:off x="-30240" y="2924280"/>
            <a:ext cx="9036000" cy="32414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Длительность занят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8-20 минут. Рекомендуются продолжительные паузы для отдыха до 2-3 минут, после занятий отдых 30 минут в постели на спине или на левом бо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Двигательный режим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тепенно расширяе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В период ремиссии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олжна широко рекомендоваться ходьба, полезны занятия в бассейне с температурой воды + 24-26 ° 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ри наличии мелких камне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в стадии отхождения показаны игры с мячом, бег и прыжки со скакалкой, верховая езда, езда на велосипеде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Прямая со стрелкой 4"/>
          <p:cNvCxnSpPr>
            <a:stCxn id="157" idx="2"/>
            <a:endCxn id="159" idx="0"/>
          </p:cNvCxnSpPr>
          <p:nvPr/>
        </p:nvCxnSpPr>
        <p:spPr>
          <a:xfrm flipH="1">
            <a:off x="4487400" y="692280"/>
            <a:ext cx="83520" cy="223272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  <p:cxnSp>
        <p:nvCxnSpPr>
          <p:cNvPr id="161" name="Прямая со стрелкой 6"/>
          <p:cNvCxnSpPr>
            <a:stCxn id="157" idx="2"/>
          </p:cNvCxnSpPr>
          <p:nvPr/>
        </p:nvCxnSpPr>
        <p:spPr>
          <a:xfrm flipH="1">
            <a:off x="2147400" y="691920"/>
            <a:ext cx="2423520" cy="46908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  <p:pic>
        <p:nvPicPr>
          <p:cNvPr id="162" name="Picture 7" descr="Похожее изображение"/>
          <p:cNvPicPr/>
          <p:nvPr/>
        </p:nvPicPr>
        <p:blipFill>
          <a:blip r:embed="rId1"/>
          <a:stretch/>
        </p:blipFill>
        <p:spPr>
          <a:xfrm>
            <a:off x="5796000" y="722160"/>
            <a:ext cx="277164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139320" cy="57636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Хронический кол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кругленный прямоугольник 2"/>
          <p:cNvSpPr/>
          <p:nvPr/>
        </p:nvSpPr>
        <p:spPr>
          <a:xfrm>
            <a:off x="-30240" y="1290600"/>
            <a:ext cx="4356000" cy="12952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ФК применяется в основном при дисфункциях кишечника, сопровождающимися запора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"/>
          <p:cNvSpPr/>
          <p:nvPr/>
        </p:nvSpPr>
        <p:spPr>
          <a:xfrm>
            <a:off x="-30240" y="2924280"/>
            <a:ext cx="9036000" cy="32414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выбирают исходное положени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способствующее расслаблению передней брюшной стенки - стоя на четвереньках, лежа на спине с согнутыми ног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ограничивают упражнения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 нагрузкой на брюшной прес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мп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медленный, спокойны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Рекомендуютс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упражнения в теплой вод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ротивопоказан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прыжки, бег, верховая ез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4"/>
          <p:cNvSpPr/>
          <p:nvPr/>
        </p:nvSpPr>
        <p:spPr>
          <a:xfrm>
            <a:off x="5418000" y="1362240"/>
            <a:ext cx="3743640" cy="57600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 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пастических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 запора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Прямая со стрелкой 5"/>
          <p:cNvCxnSpPr>
            <a:stCxn id="163" idx="2"/>
            <a:endCxn id="164" idx="0"/>
          </p:cNvCxnSpPr>
          <p:nvPr/>
        </p:nvCxnSpPr>
        <p:spPr>
          <a:xfrm flipH="1">
            <a:off x="2147400" y="692280"/>
            <a:ext cx="2423520" cy="59868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  <p:cxnSp>
        <p:nvCxnSpPr>
          <p:cNvPr id="168" name="Прямая со стрелкой 7"/>
          <p:cNvCxnSpPr>
            <a:stCxn id="166" idx="2"/>
            <a:endCxn id="165" idx="0"/>
          </p:cNvCxnSpPr>
          <p:nvPr/>
        </p:nvCxnSpPr>
        <p:spPr>
          <a:xfrm flipH="1">
            <a:off x="4487040" y="1937880"/>
            <a:ext cx="2802600" cy="98676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50920" y="115560"/>
            <a:ext cx="5288040" cy="57636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Хронический кол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кругленный прямоугольник 2"/>
          <p:cNvSpPr/>
          <p:nvPr/>
        </p:nvSpPr>
        <p:spPr>
          <a:xfrm>
            <a:off x="4765680" y="1125360"/>
            <a:ext cx="4356000" cy="57492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 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тонических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пор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кругленный прямоугольник 3"/>
          <p:cNvSpPr/>
          <p:nvPr/>
        </p:nvSpPr>
        <p:spPr>
          <a:xfrm>
            <a:off x="1619280" y="3500280"/>
            <a:ext cx="7308720" cy="316872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рименяю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пражнения для мышц живота в различных исходных положения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афрагмальное дыха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одьба, прыжки, бег, верховая езд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зированная езда на велосипед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ыжные прогулки, спортивные игр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ссаж и самомассаж живо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Прямая со стрелкой 4"/>
          <p:cNvCxnSpPr>
            <a:stCxn id="170" idx="2"/>
            <a:endCxn id="171" idx="0"/>
          </p:cNvCxnSpPr>
          <p:nvPr/>
        </p:nvCxnSpPr>
        <p:spPr>
          <a:xfrm flipH="1">
            <a:off x="5272920" y="1700280"/>
            <a:ext cx="1670760" cy="180072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  <p:pic>
        <p:nvPicPr>
          <p:cNvPr id="173" name="Picture 7" descr="Примерный комплекс лечебной гимнастики при колитах"/>
          <p:cNvPicPr/>
          <p:nvPr/>
        </p:nvPicPr>
        <p:blipFill>
          <a:blip r:embed="rId1"/>
          <a:stretch/>
        </p:blipFill>
        <p:spPr>
          <a:xfrm>
            <a:off x="38160" y="14400"/>
            <a:ext cx="38131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858920" y="22320"/>
            <a:ext cx="4265640" cy="57600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планхнопто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кругленный прямоугольник 2"/>
          <p:cNvSpPr/>
          <p:nvPr/>
        </p:nvSpPr>
        <p:spPr>
          <a:xfrm>
            <a:off x="3855960" y="1125360"/>
            <a:ext cx="5268960" cy="64620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пущение внутренних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Скругленный прямоугольник 3"/>
          <p:cNvSpPr/>
          <p:nvPr/>
        </p:nvSpPr>
        <p:spPr>
          <a:xfrm>
            <a:off x="0" y="3298680"/>
            <a:ext cx="9124920" cy="337032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Основные средства ЛФК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гимнастические упражнения для мышц брюшного пресса и тазового д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пражнения выполняются в исходном положении лежа на спине с приподнятым на 20-30 см ножным концом кушетки, также используется коленно-кистевое и коленно-локтевое поло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этих исходных положениях желудок и поперечно-ободочная кишка приобретают свое нормальное положение и улучшение кровообращения в связочном аппарате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способствует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укреплению связок в коротком полож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Прямая со стрелкой 5"/>
          <p:cNvCxnSpPr>
            <a:endCxn id="175" idx="0"/>
          </p:cNvCxnSpPr>
          <p:nvPr/>
        </p:nvCxnSpPr>
        <p:spPr>
          <a:xfrm flipH="1">
            <a:off x="6490800" y="596880"/>
            <a:ext cx="502560" cy="52920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triangle" w="med"/>
          </a:ln>
        </p:spPr>
      </p:cxnSp>
      <p:cxnSp>
        <p:nvCxnSpPr>
          <p:cNvPr id="178" name="Прямая со стрелкой 7"/>
          <p:cNvCxnSpPr>
            <a:stCxn id="175" idx="2"/>
            <a:endCxn id="176" idx="0"/>
          </p:cNvCxnSpPr>
          <p:nvPr/>
        </p:nvCxnSpPr>
        <p:spPr>
          <a:xfrm flipH="1">
            <a:off x="4561920" y="1771560"/>
            <a:ext cx="1929240" cy="152784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triangle" w="med"/>
          </a:ln>
        </p:spPr>
      </p:cxnSp>
      <p:pic>
        <p:nvPicPr>
          <p:cNvPr id="179" name="Picture 8" descr="Картинки по запросу спланхноптоз лфк фото"/>
          <p:cNvPicPr/>
          <p:nvPr/>
        </p:nvPicPr>
        <p:blipFill>
          <a:blip r:embed="rId1"/>
          <a:stretch/>
        </p:blipFill>
        <p:spPr>
          <a:xfrm>
            <a:off x="324000" y="0"/>
            <a:ext cx="336060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3924360" cy="57636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планхнопто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кругленный прямоугольник 2"/>
          <p:cNvSpPr/>
          <p:nvPr/>
        </p:nvSpPr>
        <p:spPr>
          <a:xfrm>
            <a:off x="3654360" y="1125360"/>
            <a:ext cx="5489640" cy="8636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пражнения выполняю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койно, плавно, без рывков и резких движ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кругленный прямоугольник 3"/>
          <p:cNvSpPr/>
          <p:nvPr/>
        </p:nvSpPr>
        <p:spPr>
          <a:xfrm>
            <a:off x="179280" y="2781360"/>
            <a:ext cx="8964720" cy="360036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оказан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пециальные упражнения для укрепления мышц брюшного пресса и тазового д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на 5-7-й неделе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бавляют упражнения для формирования правильной осанки, так как от нее также зависит расположение внутренних орга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Исключают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упражнения для брюшного пресса в исходном положении лежа с фиксированными ногами, а также движения, вызывающие сотрясения тела (подскоки, прыжки, бег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не рекомендуется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ъем веса более 5 к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Прямая со стрелкой 6"/>
          <p:cNvCxnSpPr>
            <a:stCxn id="180" idx="2"/>
            <a:endCxn id="182" idx="0"/>
          </p:cNvCxnSpPr>
          <p:nvPr/>
        </p:nvCxnSpPr>
        <p:spPr>
          <a:xfrm>
            <a:off x="1961640" y="691920"/>
            <a:ext cx="2701080" cy="208980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  <p:cxnSp>
        <p:nvCxnSpPr>
          <p:cNvPr id="184" name="Прямая со стрелкой 8"/>
          <p:cNvCxnSpPr>
            <a:stCxn id="180" idx="2"/>
            <a:endCxn id="181" idx="1"/>
          </p:cNvCxnSpPr>
          <p:nvPr/>
        </p:nvCxnSpPr>
        <p:spPr>
          <a:xfrm>
            <a:off x="1961640" y="691920"/>
            <a:ext cx="1693080" cy="86580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ЛФК при заболеваниях органов пищевар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5280" y="2133360"/>
            <a:ext cx="8137440" cy="388764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комплексном плане реабилитации больных с заболеваниями органов желудочно-кишечного тракта применение лечебной физкультуры обеспечивает повышение эффективности лечения, способствует восстановлению работоспособности и поддержанию ее на необходимом уров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изические упражнения влияют на функции пищеварения через ЦН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3924360" cy="57636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планхнопто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Скругленный прямоугольник 2"/>
          <p:cNvSpPr/>
          <p:nvPr/>
        </p:nvSpPr>
        <p:spPr>
          <a:xfrm>
            <a:off x="4788000" y="907920"/>
            <a:ext cx="4356000" cy="7574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лез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ассаж и самомассаж жив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кругленный прямоугольник 3"/>
          <p:cNvSpPr/>
          <p:nvPr/>
        </p:nvSpPr>
        <p:spPr>
          <a:xfrm>
            <a:off x="179280" y="2924280"/>
            <a:ext cx="8964720" cy="34574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сле занят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отдых лежа с приподнятым концом кушетки в течение 15-20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должительность процедур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1-3 неделе - 10-15 минут 1 раз в день, в последующие месяцы по 15 минут 2-3 раза в де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урс леч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т 3 месяцев до 1 года, затем поддерживающее леч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андаж на занятия рекомендуется снимать и надевать леж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Прямая со стрелкой 4"/>
          <p:cNvCxnSpPr>
            <a:stCxn id="185" idx="2"/>
            <a:endCxn id="186" idx="1"/>
          </p:cNvCxnSpPr>
          <p:nvPr/>
        </p:nvCxnSpPr>
        <p:spPr>
          <a:xfrm>
            <a:off x="1962000" y="691920"/>
            <a:ext cx="2826360" cy="59580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  <p:cxnSp>
        <p:nvCxnSpPr>
          <p:cNvPr id="189" name="Прямая со стрелкой 6"/>
          <p:cNvCxnSpPr>
            <a:stCxn id="185" idx="2"/>
            <a:endCxn id="187" idx="0"/>
          </p:cNvCxnSpPr>
          <p:nvPr/>
        </p:nvCxnSpPr>
        <p:spPr>
          <a:xfrm>
            <a:off x="1961640" y="692280"/>
            <a:ext cx="2701080" cy="223272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57636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АНАТОРНО-КУРОРТНОЕ ЛЕ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Скругленный прямоугольник 2"/>
          <p:cNvSpPr/>
          <p:nvPr/>
        </p:nvSpPr>
        <p:spPr>
          <a:xfrm>
            <a:off x="4211640" y="907920"/>
            <a:ext cx="4932360" cy="26654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обходимо при заболеваниях органов пищеварения, так как эти заболевания часто переходят в хроническую форму и протекают с периодами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обостр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рецидивами) и периодами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относительного благополучия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ремиссиям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Скругленный прямоугольник 3"/>
          <p:cNvSpPr/>
          <p:nvPr/>
        </p:nvSpPr>
        <p:spPr>
          <a:xfrm>
            <a:off x="179280" y="3573360"/>
            <a:ext cx="8209080" cy="30956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ротивопоказаниям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иоды обострения заболевания, язвенная болезнь желудка и двенадцатиперстной кишки с повторяющимися кровотечения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иппоз желуд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елчнокаменная болезнь с показаниями к хирургическому лечен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ирроз печени, все формы желтухи, подозрения на злокачественные заболе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Картинки по запросу лфк при заб жкт фото"/>
          <p:cNvPicPr/>
          <p:nvPr/>
        </p:nvPicPr>
        <p:blipFill>
          <a:blip r:embed="rId1"/>
          <a:stretch/>
        </p:blipFill>
        <p:spPr>
          <a:xfrm>
            <a:off x="15840" y="744480"/>
            <a:ext cx="42260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Скругленный прямоугольник 2"/>
          <p:cNvSpPr/>
          <p:nvPr/>
        </p:nvSpPr>
        <p:spPr>
          <a:xfrm>
            <a:off x="755640" y="287280"/>
            <a:ext cx="5019840" cy="8650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РОНИЧЕСКИЙ ГАСТР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кругленный прямоугольник 3"/>
          <p:cNvSpPr/>
          <p:nvPr/>
        </p:nvSpPr>
        <p:spPr>
          <a:xfrm>
            <a:off x="1440" y="1592280"/>
            <a:ext cx="4608720" cy="406872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зависимости от типа хронического гастрита подбирается лечебная ди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ффективным методом в лечении хронического гастрита является бальнеотерапия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санатории Липецка, Медвежья, Моршина, Миргорода, Нальчика, Одессы (Большой Фонтан), Поляны, Пятигорска)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кругленный прямоугольник 1"/>
          <p:cNvSpPr/>
          <p:nvPr/>
        </p:nvSpPr>
        <p:spPr>
          <a:xfrm>
            <a:off x="4427640" y="3357720"/>
            <a:ext cx="4716360" cy="338436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Минеральные воды санаторных курортов способствую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рмализации моторики ЖКТ, улучшают эвакуацию пищ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имулируют трофическую функцию желуд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силивают кровоснабжение стенок желуд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тимизируют гормональную и иммунную системы орга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Похожее изображение"/>
          <p:cNvPicPr/>
          <p:nvPr/>
        </p:nvPicPr>
        <p:blipFill>
          <a:blip r:embed="rId1"/>
          <a:stretch/>
        </p:blipFill>
        <p:spPr>
          <a:xfrm>
            <a:off x="5940360" y="339840"/>
            <a:ext cx="283860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Скругленный прямоугольник 2"/>
          <p:cNvSpPr/>
          <p:nvPr/>
        </p:nvSpPr>
        <p:spPr>
          <a:xfrm>
            <a:off x="434880" y="196920"/>
            <a:ext cx="5070600" cy="72072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РОНИЧЕСКИЙ ГАСТР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кругленный прямоугольник 3"/>
          <p:cNvSpPr/>
          <p:nvPr/>
        </p:nvSpPr>
        <p:spPr>
          <a:xfrm>
            <a:off x="0" y="1204920"/>
            <a:ext cx="5219640" cy="19954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Ванн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 подогретой (до 36—37 ºС) минеральной водой обладают успокаивающим эффектом, улучшают нейрогуморальную регуляцию орган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Скругленный прямоугольник 1"/>
          <p:cNvSpPr/>
          <p:nvPr/>
        </p:nvSpPr>
        <p:spPr>
          <a:xfrm>
            <a:off x="3924360" y="3141720"/>
            <a:ext cx="5219640" cy="180000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рименяется грязелечение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пелоидотерапия). Грязевыми курортами, специализирующимися на лечении больных с хроническим гастритом, являются Анапа, Бирштонас, Друскининкай, Евпатория и 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Скругленный прямоугольник 4"/>
          <p:cNvSpPr/>
          <p:nvPr/>
        </p:nvSpPr>
        <p:spPr>
          <a:xfrm>
            <a:off x="0" y="4941720"/>
            <a:ext cx="5940360" cy="170532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арафинотерапия и лечение озокеритом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осстановительная терапия озокеритом способствует нормализации нервной системы пациента, моторно-эвакуаторной и трофической функций желу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7" descr="Похожее изображение"/>
          <p:cNvPicPr/>
          <p:nvPr/>
        </p:nvPicPr>
        <p:blipFill>
          <a:blip r:embed="rId1"/>
          <a:stretch/>
        </p:blipFill>
        <p:spPr>
          <a:xfrm>
            <a:off x="5796000" y="722160"/>
            <a:ext cx="277164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Скругленный прямоугольник 2"/>
          <p:cNvSpPr/>
          <p:nvPr/>
        </p:nvSpPr>
        <p:spPr>
          <a:xfrm>
            <a:off x="250920" y="189000"/>
            <a:ext cx="4897440" cy="4334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Б желудка и 12-П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кругленный прямоугольник 3"/>
          <p:cNvSpPr/>
          <p:nvPr/>
        </p:nvSpPr>
        <p:spPr>
          <a:xfrm>
            <a:off x="15840" y="1197000"/>
            <a:ext cx="4608720" cy="15112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marL="315360" indent="-31536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ечение минеральной водой, бальнеотерап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итотерапия (отвары и настои тра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кругленный прямоугольник 1"/>
          <p:cNvSpPr/>
          <p:nvPr/>
        </p:nvSpPr>
        <p:spPr>
          <a:xfrm>
            <a:off x="2319480" y="2951280"/>
            <a:ext cx="5492520" cy="180000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ЯБ-результата стрессовых состояни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поэтому  для нормализации работы ЦНС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рекомендуют принимать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войные, жемчужные, кислородно-натриевые ванны. Эффективны прогулки в лесу, возле оз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кругленный прямоугольник 4"/>
          <p:cNvSpPr/>
          <p:nvPr/>
        </p:nvSpPr>
        <p:spPr>
          <a:xfrm>
            <a:off x="0" y="4941720"/>
            <a:ext cx="5940360" cy="144000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Электросон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казан при бессоннице, перепадах настроения, повышенной тревожности, головных болях и головокруж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Картинки по запросу фото бальнеотерапия при жкт"/>
          <p:cNvPicPr/>
          <p:nvPr/>
        </p:nvPicPr>
        <p:blipFill>
          <a:blip r:embed="rId1"/>
          <a:stretch/>
        </p:blipFill>
        <p:spPr>
          <a:xfrm>
            <a:off x="5580000" y="333360"/>
            <a:ext cx="3013200" cy="2255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Картинки по запросу фото бальнеотерапия при жкт"/>
          <p:cNvPicPr/>
          <p:nvPr/>
        </p:nvPicPr>
        <p:blipFill>
          <a:blip r:embed="rId2"/>
          <a:stretch/>
        </p:blipFill>
        <p:spPr>
          <a:xfrm>
            <a:off x="6084720" y="4703760"/>
            <a:ext cx="26845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Скругленный прямоугольник 2"/>
          <p:cNvSpPr/>
          <p:nvPr/>
        </p:nvSpPr>
        <p:spPr>
          <a:xfrm>
            <a:off x="0" y="189000"/>
            <a:ext cx="5832360" cy="4334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Б желудка и 12-П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Скругленный прямоугольник 3"/>
          <p:cNvSpPr/>
          <p:nvPr/>
        </p:nvSpPr>
        <p:spPr>
          <a:xfrm>
            <a:off x="0" y="1197000"/>
            <a:ext cx="6156360" cy="295272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Для снятия болевого синдрома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няют центральную электроанальгезию. Эта методика представляет собой воздействие на кожу головы импульсными токами. Этим достигаются отличный обезболивающий эффект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 также нормализация моторно-эвакуаторной функции Ж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кругленный прямоугольник 1"/>
          <p:cNvSpPr/>
          <p:nvPr/>
        </p:nvSpPr>
        <p:spPr>
          <a:xfrm>
            <a:off x="0" y="4240080"/>
            <a:ext cx="8424720" cy="259236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рименяется и лазеротерапия.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азером воздействуют на кожу в области проекции язвы или на биологически активные точки (лазеропунктур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Лазеротерапия оказывает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езболивающее, противовоспалительное, сосудорасширяющее и трофическое действие, тем самым способствуя рубцеванию язвенного дефек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Лечение лазером показано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м пациентам, у которых язвенная болезнь находится в состоянии неполной реми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Похожее изображение"/>
          <p:cNvPicPr/>
          <p:nvPr/>
        </p:nvPicPr>
        <p:blipFill>
          <a:blip r:embed="rId1"/>
          <a:stretch/>
        </p:blipFill>
        <p:spPr>
          <a:xfrm>
            <a:off x="5859360" y="317520"/>
            <a:ext cx="319248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Скругленный прямоугольник 2"/>
          <p:cNvSpPr/>
          <p:nvPr/>
        </p:nvSpPr>
        <p:spPr>
          <a:xfrm>
            <a:off x="231840" y="115920"/>
            <a:ext cx="5256000" cy="4334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болевания кишеч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кругленный прямоугольник 3"/>
          <p:cNvSpPr/>
          <p:nvPr/>
        </p:nvSpPr>
        <p:spPr>
          <a:xfrm>
            <a:off x="15840" y="981000"/>
            <a:ext cx="5492880" cy="23036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marL="308520" indent="-30852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пользование минеральной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мывание кишечника минеральной во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етотерап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итотерап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ФК и масса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рязел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кругленный прямоугольник 1"/>
          <p:cNvSpPr/>
          <p:nvPr/>
        </p:nvSpPr>
        <p:spPr>
          <a:xfrm>
            <a:off x="395280" y="3716280"/>
            <a:ext cx="8748720" cy="27370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Физиопроцедуры: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зависимости от вида заболевания, типа моторики кишечника, возраста, пола подбирается индивидуальный курс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ри хронических запорах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казаны ультрафиолетовое облучение, гальванический ток, микроволновая терапия, массаж живо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Для активации перистальтики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ишечника и устранения застойных явлений во многих санаториях применяются такие современные и эффективные методики, как рефлексотерапия, электропунктура, лазерное воздействие на биологически активные точки, электрос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Картинки по запросу минеральная вода при заболеваниях печени фото"/>
          <p:cNvPicPr/>
          <p:nvPr/>
        </p:nvPicPr>
        <p:blipFill>
          <a:blip r:embed="rId1"/>
          <a:stretch/>
        </p:blipFill>
        <p:spPr>
          <a:xfrm>
            <a:off x="5651640" y="760320"/>
            <a:ext cx="30859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Скругленный прямоугольник 2"/>
          <p:cNvSpPr/>
          <p:nvPr/>
        </p:nvSpPr>
        <p:spPr>
          <a:xfrm>
            <a:off x="1476360" y="399960"/>
            <a:ext cx="6622920" cy="4334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болевания кишеч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кругленный прямоугольник 3"/>
          <p:cNvSpPr/>
          <p:nvPr/>
        </p:nvSpPr>
        <p:spPr>
          <a:xfrm>
            <a:off x="15840" y="1484280"/>
            <a:ext cx="8659800" cy="158436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случае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гипермоторик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кишечника больным назнача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лектрофорез со спазмолитик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льтрафиолетовое облуче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адинамотерап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арафино-озокеритовые или грязевые апплик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1"/>
          <p:cNvSpPr/>
          <p:nvPr/>
        </p:nvSpPr>
        <p:spPr>
          <a:xfrm>
            <a:off x="1476360" y="4076640"/>
            <a:ext cx="7667640" cy="244800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гипомоторик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используются прохладные водные процедуры, контрастные ванны, подводный душ-массаж, электрофорез с хлористым кальцием, душ Шар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ри хронических поносах со спастическими явлениями и болям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назначаются согревающие компрессы, парафиновые или озокеритовые аппликации, электрофорез со спазмолитиками, индуктотерм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2"/>
          <p:cNvSpPr/>
          <p:nvPr/>
        </p:nvSpPr>
        <p:spPr>
          <a:xfrm>
            <a:off x="15840" y="260280"/>
            <a:ext cx="9128160" cy="4334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болевания печени и желчевыводящих пу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кругленный прямоугольник 3"/>
          <p:cNvSpPr/>
          <p:nvPr/>
        </p:nvSpPr>
        <p:spPr>
          <a:xfrm>
            <a:off x="4807080" y="981000"/>
            <a:ext cx="4330440" cy="158436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marL="335880" indent="-3358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ечение минеральной во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етотерап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рязел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ФК и масса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Скругленный прямоугольник 1"/>
          <p:cNvSpPr/>
          <p:nvPr/>
        </p:nvSpPr>
        <p:spPr>
          <a:xfrm>
            <a:off x="108000" y="3068640"/>
            <a:ext cx="8928000" cy="338472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 заболеваниях печени, желчевыводящих путей необходимо употреблять воду средней или малой минер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 дискинезиях желчного пузыря с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ипотоние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показаны воды с высокой степенью минерализации, сульфидные или хлористо-водородные (например, «Ессентуки» № 17) в охлажденном ви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 дискинетических нарушениях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о гиперкинетическому типу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обходимо пить воды малой минерализации (такие как «Ессентуки» № 4, «Пятигорская», доломитный сульфатный нарзан) в горячем виде 5—6 раз в сутки после 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Картинки по запросу минеральная вода при заболеваниях печени фото"/>
          <p:cNvPicPr/>
          <p:nvPr/>
        </p:nvPicPr>
        <p:blipFill>
          <a:blip r:embed="rId1"/>
          <a:stretch/>
        </p:blipFill>
        <p:spPr>
          <a:xfrm>
            <a:off x="539640" y="757080"/>
            <a:ext cx="3384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Скругленный прямоугольник 2"/>
          <p:cNvSpPr/>
          <p:nvPr/>
        </p:nvSpPr>
        <p:spPr>
          <a:xfrm>
            <a:off x="15840" y="260280"/>
            <a:ext cx="9128160" cy="4334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болевания печени и желчевыводящих пу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Скругленный прямоугольник 3"/>
          <p:cNvSpPr/>
          <p:nvPr/>
        </p:nvSpPr>
        <p:spPr>
          <a:xfrm>
            <a:off x="4807080" y="1197000"/>
            <a:ext cx="4330440" cy="12952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marL="335880" indent="-3358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пользование минеральной воды в зависимости от химического сост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Скругленный прямоугольник 1"/>
          <p:cNvSpPr/>
          <p:nvPr/>
        </p:nvSpPr>
        <p:spPr>
          <a:xfrm>
            <a:off x="108000" y="3068640"/>
            <a:ext cx="9029520" cy="338472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гидрокарбонатно-кальциево-магниевые воды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особствуют нормализации работы печеночных клеток, облегчают желчеотделение, регулируют все виды белкового, жирового и углеводного обмена. Используют при лечении гепати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оляно-щелочные минеральные воды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особенно при сочетании основного заболевания с гастритом, сахарным диабетом, ожирением или подагр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Не рекомендуетс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ить соляно-щелочные воды при заболеваниях почек и мочевыводящих пу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8" descr="Картинки по запросу лфк при дискинезии жвп фото"/>
          <p:cNvPicPr/>
          <p:nvPr/>
        </p:nvPicPr>
        <p:blipFill>
          <a:blip r:embed="rId1"/>
          <a:stretch/>
        </p:blipFill>
        <p:spPr>
          <a:xfrm>
            <a:off x="36360" y="693720"/>
            <a:ext cx="394668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77796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дачи ЛФ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153960" y="5084640"/>
            <a:ext cx="5668920" cy="144000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вышение эмоционального тону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крепление мышц брюшного пресса и стимуляция моторной функции пищеварительной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5478480" y="1711440"/>
            <a:ext cx="3344760" cy="1368360"/>
          </a:xfrm>
          <a:prstGeom prst="rect">
            <a:avLst/>
          </a:prstGeom>
          <a:solidFill>
            <a:srgbClr val="d4c1fb"/>
          </a:solidFill>
          <a:ln w="12600">
            <a:solidFill>
              <a:srgbClr val="f2dc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лучшение функции дых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9"/>
          <p:cNvSpPr/>
          <p:nvPr/>
        </p:nvSpPr>
        <p:spPr>
          <a:xfrm>
            <a:off x="179280" y="1484280"/>
            <a:ext cx="5133960" cy="360036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щее оздоровление и укрепление организма боль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действие на нейрогуморальную регуляцию пищеварительных процес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лучшение кровообращения в брюшной полости и малом тазу, предупреждение спаечного процесса и застойных явл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Прямая со стрелкой 5"/>
          <p:cNvCxnSpPr>
            <a:stCxn id="57" idx="2"/>
            <a:endCxn id="60" idx="0"/>
          </p:cNvCxnSpPr>
          <p:nvPr/>
        </p:nvCxnSpPr>
        <p:spPr>
          <a:xfrm flipH="1">
            <a:off x="2746080" y="1052280"/>
            <a:ext cx="1892880" cy="43236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triangle" w="med"/>
          </a:ln>
        </p:spPr>
      </p:cxnSp>
      <p:cxnSp>
        <p:nvCxnSpPr>
          <p:cNvPr id="62" name="Прямая со стрелкой 7"/>
          <p:cNvCxnSpPr>
            <a:stCxn id="57" idx="2"/>
            <a:endCxn id="59" idx="0"/>
          </p:cNvCxnSpPr>
          <p:nvPr/>
        </p:nvCxnSpPr>
        <p:spPr>
          <a:xfrm>
            <a:off x="4638240" y="1052640"/>
            <a:ext cx="2513520" cy="65952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triangle" w="med"/>
          </a:ln>
        </p:spPr>
      </p:cxnSp>
      <p:cxnSp>
        <p:nvCxnSpPr>
          <p:cNvPr id="63" name="Прямая со стрелкой 11"/>
          <p:cNvCxnSpPr>
            <a:stCxn id="57" idx="2"/>
            <a:endCxn id="58" idx="0"/>
          </p:cNvCxnSpPr>
          <p:nvPr/>
        </p:nvCxnSpPr>
        <p:spPr>
          <a:xfrm>
            <a:off x="4638240" y="1052640"/>
            <a:ext cx="1351800" cy="403272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Скругленный прямоугольник 2"/>
          <p:cNvSpPr/>
          <p:nvPr/>
        </p:nvSpPr>
        <p:spPr>
          <a:xfrm>
            <a:off x="3492360" y="0"/>
            <a:ext cx="5651640" cy="76500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болевания печени и желчевыводящих пу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3"/>
          <p:cNvSpPr/>
          <p:nvPr/>
        </p:nvSpPr>
        <p:spPr>
          <a:xfrm>
            <a:off x="4813200" y="1052640"/>
            <a:ext cx="4330800" cy="13334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пользование минеральной воды в зависимости от химического сост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кругленный прямоугольник 1"/>
          <p:cNvSpPr/>
          <p:nvPr/>
        </p:nvSpPr>
        <p:spPr>
          <a:xfrm>
            <a:off x="108000" y="2637000"/>
            <a:ext cx="9029520" cy="410508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Гидрокарбонатные-натриевые (щелочные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инеральные воды обладают мягким желчегонным эффектом, поэтому показаны при явлениях желтух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Хлоридно-кальциевые воды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лучшают функцию поврежденной печени, способствуют восстановлению структуры  клеток печ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Хлоридно-сульфатные воды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казывают желчегонное и слабительное действие. Назначают при гепатите А, при сочетании гепатита и гастрита с пониженной кислотностью. Принимают за 10—15 мин до е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Гидрокарбонатно-сульфатны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минеральные воды применяют с целью улучшения состава желчи, облегчения ее отделения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8" descr="Картинки по запросу Хлоридно-кальциевые воды фото"/>
          <p:cNvPicPr/>
          <p:nvPr/>
        </p:nvPicPr>
        <p:blipFill>
          <a:blip r:embed="rId1"/>
          <a:stretch/>
        </p:blipFill>
        <p:spPr>
          <a:xfrm>
            <a:off x="539640" y="104760"/>
            <a:ext cx="251964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3"/>
          <p:cNvSpPr/>
          <p:nvPr/>
        </p:nvSpPr>
        <p:spPr>
          <a:xfrm>
            <a:off x="1859040" y="163440"/>
            <a:ext cx="5327640" cy="914400"/>
          </a:xfrm>
          <a:prstGeom prst="rect">
            <a:avLst/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 заключ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6"/>
          <p:cNvSpPr/>
          <p:nvPr/>
        </p:nvSpPr>
        <p:spPr>
          <a:xfrm>
            <a:off x="184320" y="1341360"/>
            <a:ext cx="2803320" cy="2592360"/>
          </a:xfrm>
          <a:prstGeom prst="rect">
            <a:avLst/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 заболеваниях органов ЖКТ применя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Выгнутая вправо стрелка 7"/>
          <p:cNvSpPr/>
          <p:nvPr/>
        </p:nvSpPr>
        <p:spPr>
          <a:xfrm>
            <a:off x="7518240" y="254160"/>
            <a:ext cx="731880" cy="121572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080 h 1215720"/>
              <a:gd name="textAreaBottom" fmla="*/ 888840 h 121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3377999"/>
                <a:lnTo>
                  <a:pt x="5400" y="21334"/>
                </a:lnTo>
                <a:lnTo>
                  <a:pt x="0" y="18350"/>
                </a:lnTo>
                <a:lnTo>
                  <a:pt x="5400" y="14834"/>
                </a:lnTo>
                <a:lnTo>
                  <a:pt x="5400" y="16459"/>
                </a:lnTo>
                <a:arcTo wR="21600" hR="8363" stAng="3377999" swAng="-3114862"/>
                <a:lnTo>
                  <a:pt x="21188" y="9988"/>
                </a:lnTo>
                <a:arcTo wR="21600" hR="8363" stAng="-263137" swAng="-5136863"/>
                <a:close/>
              </a:path>
              <a:path fill="darkenLess"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-263137"/>
                <a:lnTo>
                  <a:pt x="21188" y="9988"/>
                </a:lnTo>
                <a:arcTo wR="21600" hR="8363" stAng="-263137" swAng="-5136863"/>
                <a:close/>
              </a:path>
            </a:pathLst>
          </a:custGeom>
          <a:solidFill>
            <a:srgbClr val="4c0ec8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Выгнутая влево стрелка 8"/>
          <p:cNvSpPr/>
          <p:nvPr/>
        </p:nvSpPr>
        <p:spPr>
          <a:xfrm>
            <a:off x="826920" y="33336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3" stAng="-5400000" swAng="-5400000"/>
                <a:lnTo>
                  <a:pt x="0" y="11613"/>
                </a:lnTo>
                <a:arcTo wR="21600" hR="8363" stAng="10800000" swAng="-3377999"/>
                <a:lnTo>
                  <a:pt x="16200" y="21334"/>
                </a:lnTo>
                <a:lnTo>
                  <a:pt x="21600" y="18350"/>
                </a:lnTo>
                <a:lnTo>
                  <a:pt x="16200" y="14834"/>
                </a:lnTo>
                <a:lnTo>
                  <a:pt x="16200" y="16459"/>
                </a:lnTo>
                <a:arcTo wR="21600" hR="8363" stAng="7422001" swAng="3114862"/>
                <a:lnTo>
                  <a:pt x="412" y="9988"/>
                </a:lnTo>
                <a:arcTo wR="21600" hR="8363" stAng="-10536863" swAng="5136863"/>
                <a:close/>
              </a:path>
              <a:path fill="darkenLess" w="21600" h="21600">
                <a:moveTo>
                  <a:pt x="21600" y="0"/>
                </a:moveTo>
                <a:arcTo wR="21600" hR="8363" stAng="-5400000" swAng="-5400000"/>
                <a:lnTo>
                  <a:pt x="0" y="8363"/>
                </a:lnTo>
                <a:arcTo wR="21600" hR="8363" stAng="10800000" swAng="-263137"/>
                <a:lnTo>
                  <a:pt x="412" y="9988"/>
                </a:lnTo>
                <a:arcTo wR="21600" hR="8363" stAng="-10536863" swAng="5136863"/>
                <a:close/>
              </a:path>
            </a:pathLst>
          </a:custGeom>
          <a:solidFill>
            <a:srgbClr val="4c0ec8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кругленный прямоугольник 1"/>
          <p:cNvSpPr/>
          <p:nvPr/>
        </p:nvSpPr>
        <p:spPr>
          <a:xfrm>
            <a:off x="3887640" y="1566720"/>
            <a:ext cx="2089440" cy="576360"/>
          </a:xfrm>
          <a:prstGeom prst="roundRect">
            <a:avLst>
              <a:gd name="adj" fmla="val 16667"/>
            </a:avLst>
          </a:prstGeom>
          <a:solidFill>
            <a:srgbClr val="c4a9f9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ФК и масс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кругленный прямоугольник 2"/>
          <p:cNvSpPr/>
          <p:nvPr/>
        </p:nvSpPr>
        <p:spPr>
          <a:xfrm>
            <a:off x="6659640" y="1989000"/>
            <a:ext cx="2089080" cy="648000"/>
          </a:xfrm>
          <a:prstGeom prst="roundRect">
            <a:avLst>
              <a:gd name="adj" fmla="val 16667"/>
            </a:avLst>
          </a:prstGeom>
          <a:solidFill>
            <a:srgbClr val="c4a9f9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иетотера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кругленный прямоугольник 4"/>
          <p:cNvSpPr/>
          <p:nvPr/>
        </p:nvSpPr>
        <p:spPr>
          <a:xfrm>
            <a:off x="3384720" y="3054240"/>
            <a:ext cx="2879640" cy="480960"/>
          </a:xfrm>
          <a:prstGeom prst="roundRect">
            <a:avLst>
              <a:gd name="adj" fmla="val 16667"/>
            </a:avLst>
          </a:prstGeom>
          <a:solidFill>
            <a:srgbClr val="c4a9f9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итотера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Скругленный прямоугольник 5"/>
          <p:cNvSpPr/>
          <p:nvPr/>
        </p:nvSpPr>
        <p:spPr>
          <a:xfrm>
            <a:off x="6372360" y="3548160"/>
            <a:ext cx="2663640" cy="914400"/>
          </a:xfrm>
          <a:prstGeom prst="roundRect">
            <a:avLst>
              <a:gd name="adj" fmla="val 16667"/>
            </a:avLst>
          </a:prstGeom>
          <a:solidFill>
            <a:srgbClr val="c4a9f9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рафинотерап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зокерит, грязел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Скругленный прямоугольник 9"/>
          <p:cNvSpPr/>
          <p:nvPr/>
        </p:nvSpPr>
        <p:spPr>
          <a:xfrm>
            <a:off x="2627280" y="4206960"/>
            <a:ext cx="3168720" cy="914400"/>
          </a:xfrm>
          <a:prstGeom prst="roundRect">
            <a:avLst>
              <a:gd name="adj" fmla="val 16667"/>
            </a:avLst>
          </a:prstGeom>
          <a:solidFill>
            <a:srgbClr val="c4a9f9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изиотерапевтические процед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кругленный прямоугольник 10"/>
          <p:cNvSpPr/>
          <p:nvPr/>
        </p:nvSpPr>
        <p:spPr>
          <a:xfrm>
            <a:off x="228600" y="5335560"/>
            <a:ext cx="2660760" cy="914400"/>
          </a:xfrm>
          <a:prstGeom prst="roundRect">
            <a:avLst>
              <a:gd name="adj" fmla="val 16667"/>
            </a:avLst>
          </a:prstGeom>
          <a:solidFill>
            <a:srgbClr val="c4a9f9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альнеотера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кругленный прямоугольник 11"/>
          <p:cNvSpPr/>
          <p:nvPr/>
        </p:nvSpPr>
        <p:spPr>
          <a:xfrm>
            <a:off x="4522680" y="5548320"/>
            <a:ext cx="4321440" cy="914400"/>
          </a:xfrm>
          <a:prstGeom prst="roundRect">
            <a:avLst>
              <a:gd name="adj" fmla="val 16667"/>
            </a:avLst>
          </a:prstGeom>
          <a:solidFill>
            <a:srgbClr val="c4a9f9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анаторно-курортное л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3" name="Прямая со стрелкой 16"/>
          <p:cNvCxnSpPr/>
          <p:nvPr/>
        </p:nvCxnSpPr>
        <p:spPr>
          <a:xfrm>
            <a:off x="4716360" y="5157360"/>
            <a:ext cx="432720" cy="1080"/>
          </a:xfrm>
          <a:prstGeom prst="straightConnector1">
            <a:avLst/>
          </a:prstGeom>
          <a:ln w="6480">
            <a:solidFill>
              <a:srgbClr val="7db6ef"/>
            </a:solidFill>
            <a:miter/>
            <a:tailEnd len="med" type="triangle" w="med"/>
          </a:ln>
        </p:spPr>
      </p:cxnSp>
      <p:sp>
        <p:nvSpPr>
          <p:cNvPr id="244" name="Прямоугольник 3"/>
          <p:cNvSpPr/>
          <p:nvPr/>
        </p:nvSpPr>
        <p:spPr>
          <a:xfrm>
            <a:off x="1859040" y="163440"/>
            <a:ext cx="5327640" cy="914400"/>
          </a:xfrm>
          <a:prstGeom prst="rect">
            <a:avLst/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6"/>
          <p:cNvSpPr/>
          <p:nvPr/>
        </p:nvSpPr>
        <p:spPr>
          <a:xfrm>
            <a:off x="550800" y="1341360"/>
            <a:ext cx="8569440" cy="5256360"/>
          </a:xfrm>
          <a:prstGeom prst="rect">
            <a:avLst/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комендуемая 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литерату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арченко О.К. Основы физической реабилитации: учеб. Для студентов вузов / О.К. Марченко.- К.: Олимпийская литература. -  2012. – 528 с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40 эк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ухін В.М. Фізична реабілітація: підручник/ В.М. Мухін. – 3-тє вид, переробл та доповн. – К.: Олімп. Л-ра, 2009. – 488 с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32 эк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пов С.Н. Физическая реабилитация6 учебник для студентов высших учебных заведений /  С.Н. Попов. – изд-е – 4-е. – Ростов на Дону: «Феникс», 2006. – 608 с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23 эк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пов С.Н. Физическая реабилитация6 учебник для студентов высших учебных заведений /  С.Н. Попов. – изд-е – 4-е. – Ростов на Дону: «Феникс»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88. - 40 эк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ая литерату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пифанов В.А. Лечебная физическая культура / Учебное пособие для вузов. М.: Издат. дом «ГЭОТААМЕД», 2002. С. 560. - 3 эк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чебная физическая культура. Справочник / Под ред. проф. Епифанова В.А. М.: Медицина, 2001. С. 592. - 17 эк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Выгнутая вправо стрелка 7"/>
          <p:cNvSpPr/>
          <p:nvPr/>
        </p:nvSpPr>
        <p:spPr>
          <a:xfrm>
            <a:off x="7518240" y="254160"/>
            <a:ext cx="731880" cy="121572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080 h 1215720"/>
              <a:gd name="textAreaBottom" fmla="*/ 888840 h 121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3377999"/>
                <a:lnTo>
                  <a:pt x="5400" y="21334"/>
                </a:lnTo>
                <a:lnTo>
                  <a:pt x="0" y="18350"/>
                </a:lnTo>
                <a:lnTo>
                  <a:pt x="5400" y="14834"/>
                </a:lnTo>
                <a:lnTo>
                  <a:pt x="5400" y="16459"/>
                </a:lnTo>
                <a:arcTo wR="21600" hR="8363" stAng="3377999" swAng="-3114862"/>
                <a:lnTo>
                  <a:pt x="21188" y="9988"/>
                </a:lnTo>
                <a:arcTo wR="21600" hR="8363" stAng="-263137" swAng="-5136863"/>
                <a:close/>
              </a:path>
              <a:path fill="darkenLess"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-263137"/>
                <a:lnTo>
                  <a:pt x="21188" y="9988"/>
                </a:lnTo>
                <a:arcTo wR="21600" hR="8363" stAng="-263137" swAng="-5136863"/>
                <a:close/>
              </a:path>
            </a:pathLst>
          </a:custGeom>
          <a:solidFill>
            <a:srgbClr val="4c0ec8"/>
          </a:solidFill>
          <a:ln w="12600">
            <a:solidFill>
              <a:srgbClr val="4c0e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Выгнутая влево стрелка 8"/>
          <p:cNvSpPr/>
          <p:nvPr/>
        </p:nvSpPr>
        <p:spPr>
          <a:xfrm>
            <a:off x="826920" y="33336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3" stAng="-5400000" swAng="-5400000"/>
                <a:lnTo>
                  <a:pt x="0" y="11613"/>
                </a:lnTo>
                <a:arcTo wR="21600" hR="8363" stAng="10800000" swAng="-3377999"/>
                <a:lnTo>
                  <a:pt x="16200" y="21334"/>
                </a:lnTo>
                <a:lnTo>
                  <a:pt x="21600" y="18350"/>
                </a:lnTo>
                <a:lnTo>
                  <a:pt x="16200" y="14834"/>
                </a:lnTo>
                <a:lnTo>
                  <a:pt x="16200" y="16459"/>
                </a:lnTo>
                <a:arcTo wR="21600" hR="8363" stAng="7422001" swAng="3114862"/>
                <a:lnTo>
                  <a:pt x="412" y="9988"/>
                </a:lnTo>
                <a:arcTo wR="21600" hR="8363" stAng="-10536863" swAng="5136863"/>
                <a:close/>
              </a:path>
              <a:path fill="darkenLess" w="21600" h="21600">
                <a:moveTo>
                  <a:pt x="21600" y="0"/>
                </a:moveTo>
                <a:arcTo wR="21600" hR="8363" stAng="-5400000" swAng="-5400000"/>
                <a:lnTo>
                  <a:pt x="0" y="8363"/>
                </a:lnTo>
                <a:arcTo wR="21600" hR="8363" stAng="10800000" swAng="-263137"/>
                <a:lnTo>
                  <a:pt x="412" y="9988"/>
                </a:lnTo>
                <a:arcTo wR="21600" hR="8363" stAng="-10536863" swAng="5136863"/>
                <a:close/>
              </a:path>
            </a:pathLst>
          </a:custGeom>
          <a:solidFill>
            <a:srgbClr val="4c0ec8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3080" y="2676240"/>
            <a:ext cx="8658360" cy="129708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7" descr="Картинки по запросу фото бальнеотерапия при жкт"/>
          <p:cNvPicPr/>
          <p:nvPr/>
        </p:nvPicPr>
        <p:blipFill>
          <a:blip r:embed="rId1"/>
          <a:stretch/>
        </p:blipFill>
        <p:spPr>
          <a:xfrm>
            <a:off x="5580000" y="333360"/>
            <a:ext cx="3013200" cy="22557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Картинки по запросу лфк при дискинезии жвп фото"/>
          <p:cNvPicPr/>
          <p:nvPr/>
        </p:nvPicPr>
        <p:blipFill>
          <a:blip r:embed="rId2"/>
          <a:stretch/>
        </p:blipFill>
        <p:spPr>
          <a:xfrm>
            <a:off x="163440" y="4060800"/>
            <a:ext cx="3946680" cy="26290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Картинки по запросу Хлоридно-кальциевые воды фото"/>
          <p:cNvPicPr/>
          <p:nvPr/>
        </p:nvPicPr>
        <p:blipFill>
          <a:blip r:embed="rId3"/>
          <a:stretch/>
        </p:blipFill>
        <p:spPr>
          <a:xfrm>
            <a:off x="539640" y="104760"/>
            <a:ext cx="2519640" cy="2281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Картинки по запросу минеральная вода при заболеваниях печени фото"/>
          <p:cNvPicPr/>
          <p:nvPr/>
        </p:nvPicPr>
        <p:blipFill>
          <a:blip r:embed="rId4"/>
          <a:stretch/>
        </p:blipFill>
        <p:spPr>
          <a:xfrm>
            <a:off x="5364000" y="4594320"/>
            <a:ext cx="30862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640" y="274320"/>
            <a:ext cx="4032360" cy="56196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Формы ЛФК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4140360" y="1225440"/>
            <a:ext cx="4679640" cy="1871640"/>
          </a:xfrm>
          <a:prstGeom prst="rect">
            <a:avLst/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тренняя гигиеническая гимнасти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ечебная гимнасти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гул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рренку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вижные иг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4"/>
          <p:cNvSpPr/>
          <p:nvPr/>
        </p:nvSpPr>
        <p:spPr>
          <a:xfrm>
            <a:off x="130320" y="2637000"/>
            <a:ext cx="3865320" cy="223200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лементы спортивно-прикладных упражне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зда на велосипед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лава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ребл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одьба на лыж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Прямая со стрелкой 6"/>
          <p:cNvCxnSpPr>
            <a:stCxn id="64" idx="3"/>
            <a:endCxn id="65" idx="0"/>
          </p:cNvCxnSpPr>
          <p:nvPr/>
        </p:nvCxnSpPr>
        <p:spPr>
          <a:xfrm>
            <a:off x="4140000" y="555120"/>
            <a:ext cx="2340360" cy="67068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triangle" w="med"/>
          </a:ln>
        </p:spPr>
      </p:cxnSp>
      <p:cxnSp>
        <p:nvCxnSpPr>
          <p:cNvPr id="68" name="Прямая со стрелкой 9"/>
          <p:cNvCxnSpPr>
            <a:stCxn id="64" idx="2"/>
            <a:endCxn id="66" idx="0"/>
          </p:cNvCxnSpPr>
          <p:nvPr/>
        </p:nvCxnSpPr>
        <p:spPr>
          <a:xfrm flipH="1">
            <a:off x="2061720" y="836280"/>
            <a:ext cx="62640" cy="180108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triangle" w="med"/>
          </a:ln>
        </p:spPr>
      </p:cxnSp>
      <p:sp>
        <p:nvSpPr>
          <p:cNvPr id="69" name="Скругленный прямоугольник 15"/>
          <p:cNvSpPr/>
          <p:nvPr/>
        </p:nvSpPr>
        <p:spPr>
          <a:xfrm>
            <a:off x="4140360" y="4292640"/>
            <a:ext cx="4679640" cy="24494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няется массаж и самомассаж жив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занятиях лечебной гимнастикой сочетаются общеразвивающие упражнения и специаль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77796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ПЕЦИАЛЬНЫЕ УПРАЖ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95280" y="1413000"/>
            <a:ext cx="4105440" cy="280800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дыхательные упражнения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обенно диафрагмальное дыхание, которое, ритмично изменяя внутрибрюшное давление, оказывает массирующее воздействие на печень, желудок, кишеч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4500720" y="3141720"/>
            <a:ext cx="4464000" cy="302400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В результа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величивается желчеотделение, перистальтика желудка и кишечни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лучшается венозный отт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меньшаются застойные явления в органах пищевар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Выгнутая вправо стрелка 4"/>
          <p:cNvSpPr/>
          <p:nvPr/>
        </p:nvSpPr>
        <p:spPr>
          <a:xfrm>
            <a:off x="5095800" y="1924200"/>
            <a:ext cx="1090800" cy="1217520"/>
          </a:xfrm>
          <a:custGeom>
            <a:avLst/>
            <a:gdLst>
              <a:gd name="textAreaLeft" fmla="*/ 146160 w 1090800"/>
              <a:gd name="textAreaRight" fmla="*/ 944640 w 1090800"/>
              <a:gd name="textAreaTop" fmla="*/ 201960 h 1217520"/>
              <a:gd name="textAreaBottom" fmla="*/ 879120 h 121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173" stAng="-5400000" swAng="5400000"/>
                <a:lnTo>
                  <a:pt x="21600" y="12009"/>
                </a:lnTo>
                <a:arcTo wR="21600" hR="7173" stAng="0" swAng="3127953"/>
                <a:lnTo>
                  <a:pt x="5400" y="21372"/>
                </a:lnTo>
                <a:lnTo>
                  <a:pt x="0" y="16763"/>
                </a:lnTo>
                <a:lnTo>
                  <a:pt x="5400" y="11698"/>
                </a:lnTo>
                <a:lnTo>
                  <a:pt x="5400" y="14117"/>
                </a:lnTo>
                <a:arcTo wR="21600" hR="7173" stAng="3127953" swAng="-2721099"/>
                <a:lnTo>
                  <a:pt x="20336" y="9591"/>
                </a:lnTo>
                <a:arcTo wR="21600" hR="7173" stAng="-406855" swAng="-4993145"/>
                <a:close/>
              </a:path>
              <a:path fill="darkenLess" w="21600" h="21600">
                <a:moveTo>
                  <a:pt x="0" y="0"/>
                </a:moveTo>
                <a:arcTo wR="21600" hR="7173" stAng="-5400000" swAng="5400000"/>
                <a:lnTo>
                  <a:pt x="21600" y="12009"/>
                </a:lnTo>
                <a:arcTo wR="21600" hR="7173" stAng="0" swAng="-406855"/>
                <a:lnTo>
                  <a:pt x="20336" y="9591"/>
                </a:lnTo>
                <a:arcTo wR="21600" hR="7173" stAng="-406855" swAng="-4993145"/>
                <a:close/>
              </a:path>
            </a:pathLst>
          </a:custGeom>
          <a:solidFill>
            <a:srgbClr val="4c0ec8"/>
          </a:solidFill>
          <a:ln w="12600">
            <a:solidFill>
              <a:srgbClr val="c4a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77796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ПЕЦИАЛЬНЫЕ УПРАЖ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4920" y="1412640"/>
            <a:ext cx="5761080" cy="316836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пражнения на расслабл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ышц брюшного прес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нижают повышенный тонус ЦНС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флекторно понижают тонус мышц желудка, кишечни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ффективны для снятия спазмов привратника желудка, сфинкте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Картинки по запросу диафрагмальное дыхание при заболеваниях жкт фото"/>
          <p:cNvPicPr/>
          <p:nvPr/>
        </p:nvPicPr>
        <p:blipFill>
          <a:blip r:embed="rId1"/>
          <a:stretch/>
        </p:blipFill>
        <p:spPr>
          <a:xfrm>
            <a:off x="4638600" y="3978360"/>
            <a:ext cx="44071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777960"/>
          </a:xfrm>
          <a:prstGeom prst="rect">
            <a:avLst/>
          </a:prstGeom>
          <a:solidFill>
            <a:srgbClr val="c4a9f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ПЕЦИАЛЬНЫЕ УПРАЖ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321920"/>
            <a:ext cx="4255920" cy="278316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пражнения для мышц тазового д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 расслаблении и сокращении мышц брюшного пресса, давление в брюшной полости то повышается, то понижается, оказывая массирующее влияние на внутренние орг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3"/>
          <p:cNvSpPr/>
          <p:nvPr/>
        </p:nvSpPr>
        <p:spPr>
          <a:xfrm>
            <a:off x="4809960" y="1628640"/>
            <a:ext cx="4334040" cy="190836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ктивно действующие мышцы брюшного пресса, спины и малого таза,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усиливают приток крови к органам брюшной полост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4"/>
          <p:cNvSpPr/>
          <p:nvPr/>
        </p:nvSpPr>
        <p:spPr>
          <a:xfrm>
            <a:off x="4713120" y="4105440"/>
            <a:ext cx="4335480" cy="26636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особствует ликвидации воспалительных процесс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рмализации кровообращения в печени, почка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странению застоя венозной крови в области малого таз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вышает окислительные процессы и обмен ве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Прямая со стрелкой 6"/>
          <p:cNvCxnSpPr>
            <a:stCxn id="79" idx="2"/>
            <a:endCxn id="80" idx="0"/>
          </p:cNvCxnSpPr>
          <p:nvPr/>
        </p:nvCxnSpPr>
        <p:spPr>
          <a:xfrm flipH="1">
            <a:off x="6881040" y="3536640"/>
            <a:ext cx="96120" cy="568800"/>
          </a:xfrm>
          <a:prstGeom prst="straightConnector1">
            <a:avLst/>
          </a:prstGeom>
          <a:ln w="38160">
            <a:solidFill>
              <a:srgbClr val="4c0ec8"/>
            </a:solidFill>
            <a:miter/>
            <a:tailEnd len="med" type="triangle" w="med"/>
          </a:ln>
        </p:spPr>
      </p:cxnSp>
      <p:sp>
        <p:nvSpPr>
          <p:cNvPr id="82" name="Скругленный прямоугольник 9"/>
          <p:cNvSpPr/>
          <p:nvPr/>
        </p:nvSpPr>
        <p:spPr>
          <a:xfrm>
            <a:off x="250920" y="4113360"/>
            <a:ext cx="4033800" cy="265572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крепление мышц брюшного пресса и тазового д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особствуют нормализации положения органов пищеварения, особенно при опущении внутренних орган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362800" cy="917640"/>
          </a:xfrm>
          <a:prstGeom prst="rect">
            <a:avLst/>
          </a:prstGeom>
          <a:solidFill>
            <a:srgbClr val="d4c1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пражнения, способствующие оттоку желчи из желчного пузыря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3"/>
          <p:cNvSpPr/>
          <p:nvPr/>
        </p:nvSpPr>
        <p:spPr>
          <a:xfrm>
            <a:off x="3851280" y="2708280"/>
            <a:ext cx="5176800" cy="158436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marL="277200" indent="-27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В положении лежа на спине с согнутыми ногами и на четвереньках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стигается наилучшее расслабление органов брюшной пол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9"/>
          <p:cNvSpPr/>
          <p:nvPr/>
        </p:nvSpPr>
        <p:spPr>
          <a:xfrm>
            <a:off x="103320" y="4508640"/>
            <a:ext cx="5405400" cy="208584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marL="274320" indent="-2743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Для улучшения оттока желч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лучше всего исходное положение лежа на левом боку (продвижению желчи способствует сокращение стенок желчного пузыря, сила тяжести желчи), а также на четвереньках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13"/>
          <p:cNvSpPr/>
          <p:nvPr/>
        </p:nvSpPr>
        <p:spPr>
          <a:xfrm>
            <a:off x="31680" y="1220760"/>
            <a:ext cx="5477040" cy="1224000"/>
          </a:xfrm>
          <a:prstGeom prst="roundRect">
            <a:avLst>
              <a:gd name="adj" fmla="val 16667"/>
            </a:avLst>
          </a:prstGeom>
          <a:solidFill>
            <a:srgbClr val="d4c1fb"/>
          </a:solidFill>
          <a:ln w="12600">
            <a:solidFill>
              <a:srgbClr val="5a8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Используются различные исходные положения: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оя, стоя на коленях, сидя, лежа, коленно-локтевое, коленно-кистев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8T10:56:48Z</dcterms:created>
  <dc:creator>Юлия</dc:creator>
  <dc:description/>
  <dc:language>en-US</dc:language>
  <cp:lastModifiedBy>User</cp:lastModifiedBy>
  <dcterms:modified xsi:type="dcterms:W3CDTF">2019-03-19T08:05:23Z</dcterms:modified>
  <cp:revision>226</cp:revision>
  <dc:subject/>
  <dc:title>ГИПОКСИЯ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50</vt:lpwstr>
  </property>
</Properties>
</file>