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0DA8-EB04-4FB5-8D01-0C6A8AFB59A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8D4D-E59F-48C4-8779-6B46B06A4899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EAB3-16DF-4CD7-A0DC-D1EFBFFC1EB5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07F-7462-4D00-9EBF-9DFD6D39029E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452-C108-45C3-B256-11D64837EA29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5128-01F6-46E8-9A11-DD5829CB637B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D66-D432-4733-A36A-01A940CD018D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84C2-2B50-4805-B2D6-7F4F3C773A2D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1EE-1740-4FF1-AA8D-1F9F72AE4EB0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499D-1117-4511-8483-2820D25D71F8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4F12-E7AA-42BB-9578-3FDF7889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1D96-521F-4FE6-9DB7-EC40B525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7D92-83E6-4DA3-84AD-AC3AC082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6139-7B20-4FFD-9DC3-78042C06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9520-0DC0-41AA-9CE8-3B034694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DB09-C62D-47FE-99A6-1AF1934B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24D2-D553-4F46-BECD-33E06B3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FEE3-E61D-4E6D-8AB7-1866AB41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23AC-4389-414A-835D-12C5311E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6B51-1706-4AFF-95BD-BFBF723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69A3-6623-4B6B-9F56-DC60943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7631-6A83-462D-A419-DB113514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26C-DA60-4876-A8A3-809ABEB8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B8D7-F7A7-410B-8BAA-FFE046F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670B-11D4-454F-83EA-EAC4A9C7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BB2-DFAA-47F3-B048-DA75E9DD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0358-9B4B-4460-AFE7-CF93B833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7B752-056D-4742-AFF5-6F8DFBC1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2723B-5812-4532-9552-121B430E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B7D82-56F1-4A1E-9A4D-C9913D8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36FDB-F352-4700-9214-7A5C3A7D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41648-DB2C-4A54-A305-539B58CA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E6A9-60BE-4F18-879A-67EF6845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58E17-3EC6-42EF-95B6-D0F6B802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A9A13-6DB9-47EC-B118-BB9C6F4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31A4F-12CE-432D-A107-C4A48F7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367DF-77AA-421E-AFC7-81F3A09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8F4E1-7F4C-4713-B45B-CDE1826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67771-74C4-4020-AC1D-D0BF3175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B7BE7-84F4-4E8B-8545-6FA22151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62F6-E0BF-492D-AD70-63311CB3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AC24-7F50-493F-AA12-4D9B097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3135-9DA3-420C-BAD8-B7E34986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1580-803B-4304-B011-1ED27FF3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C0A5-6826-4BB1-A3B2-58DA5E1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FB96-809B-4A75-9649-4244494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6DCF-5829-43C4-A4E7-874AC55D3C0A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BFC6-800F-4B91-90A6-BDD90A22E9CA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5CB-FAE7-4F5D-8239-3890439F172A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ngramm.su/word_usage/can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ELLO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600200"/>
            <a:ext cx="8640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Пройди тест в электронном дневнике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по модальным глаголам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!!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845640"/>
            <a:ext cx="742464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Ough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ought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выражает порицание, упрек за то, что не было сделано или было сделано неправильн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You ought to have done it previously. – Тебе следовало сделать это ране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7640" y="476280"/>
            <a:ext cx="87850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Will + Perfect Infini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лагол 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выражения предполагаемого действия или намерения выполнить действие, которое должно закончиться до определенного момента в будущем или до начала другого действ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on't have done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 it by the time you get back. – Я не смогу сделать этого к твоему приход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с перфектным инфинитивом употребляется для выражения обычного или повторного действия в прошлом и продолжающегося до настоящего момент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It differs to anything you 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ill have done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 before. – Это отличается от всего, что вы (обычно) делали ране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Wil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с перфектным инфинитивом также выражает уверенность, заключение, вывод, произошедшем в прошлом и имеющее отношение к текущему состоянию или действи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50560" y="188640"/>
            <a:ext cx="8507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Would + Perfect Infiniti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ould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выражения желаемого субъектом действия, но которое не произошл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n't have done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it. But I was still so young that time and when you're young you do what you're not supposed to do. – Я не хотел этого делать. Но тогда я был ещё так молод. А когда ты молод, ты делаешь то, что не должен дел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 have come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but I was stuck in traffic. – Я бы приехал, но я застрял в пробк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данном значении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ould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употребляется не для указания на действие в прошлом, а как более мягкая форма глагола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и выражает предпочтение. На то, что действие относится к прошлому указывается с помощью перфектного инфинитива. Сравните с предложением в настоящем времен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 do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it. But I am so tired . - Я бы хотел это сделать. Но я так уст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Would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построения условного предложения, выражающее невыполненное по каким-либо причинам действие в прош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hould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should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 сочетании с перфектным инфинитивом употребляется для выражения невыполненного необходимого действия, другими словами, того, что следовало бы сделать, но сделано не был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should have staye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home. – Мне следовало бы остаться до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ou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shouldn't have eat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so much. – Тебе не следовало объедать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ИСЬМЕННО В ТЕТР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5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ИСЬМЕННО В ТЕТР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1976400" y="907920"/>
            <a:ext cx="5619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YOUR HOME ASSIGN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677520"/>
            <a:ext cx="850752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омашнее задание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Выучить грамматику/ Grammar Check 7, с. 150—151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дание письменно в тетрадях, только глаго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ara … (can/might) get a playstation for her birthda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 … (must not/needn’t) read in the dark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y grandfather is retired, so he … (shouldn’t/doesn’t have to) go to work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fridge is full, so we … (must not/needn’t) go shopp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ur employees … (can/must) sign this agree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e … (may/ought to) reserve a table in advance if we want to have dinner the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… (can’t/needn’t) believe it! You … (have to/must) be jok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n … (must/is to) finish school next yea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rry, I’m late. I … (needed to/had to) wait for the plumb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at time do we … (should/have to) be at the railway station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on’t wait for me tonight. I … (might/must) be la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росьба, проходите честно, по совести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перфектные модальные глаголы</a:t>
            </a:r>
            <a:br>
              <a:rPr sz="3000"/>
            </a:br>
            <a:r>
              <a:rPr b="0" lang="es-ES_tradnl" sz="3000" spc="-1" strike="noStrike">
                <a:solidFill>
                  <a:srgbClr val="7030a0"/>
                </a:solidFill>
                <a:latin typeface="Century Schoolbook"/>
              </a:rPr>
              <a:t>STRU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7623000" cy="743040"/>
        </p:xfrm>
        <a:graphic>
          <a:graphicData uri="http://schemas.openxmlformats.org/drawingml/2006/table">
            <a:tbl>
              <a:tblPr/>
              <a:tblGrid>
                <a:gridCol w="3179880"/>
                <a:gridCol w="44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OD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ODAL PER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bject + modal + base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bject + modal + have + past partic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1"/>
          <p:cNvSpPr/>
          <p:nvPr/>
        </p:nvSpPr>
        <p:spPr>
          <a:xfrm>
            <a:off x="611280" y="2616120"/>
            <a:ext cx="624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 have / migh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ul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ould have / ought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oul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e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смотри слайды от 3 до   1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никни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9152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Can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трицательных и вопросительных предложениях модальный глагол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ca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употребляемый с перфектным инфинитивом, выражает сомнение в том, что действие или событие имело место в прошло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I don't believe 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n have done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it. He is too weak. – Я не верю, что он мог сделать это. Он слишком сла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S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n't have overslept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She is never late. – Она не могла проспать. Она никогда не опазды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8000" y="189000"/>
            <a:ext cx="8856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Could + Perfect Infini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отрицательных и вопросительных высказываниях глагольная группа [could + "перфектный инфинитив"] может употребляться в аналогичном значении, что и с глаголом can, но выражает менее категоричную форм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 don't believe he could have done it. He is too weak. – Что-то мне не верится, что он мог сделать это. Он слишком сла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сли содержание всего высказывания относится к прошлому, а также если глагол главной части сложного предложения указывает на действие в прошлом, то для согласования времён в придаточной части употребляется форма прошедшего времени модального глагола "can" т. е. "could"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 didn't believe he could have done it. He was too weak. – Я не верил, что он мог сделать это. Он был слишком сла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утвердительных высказываниях перфектная форма глагола употребляется с модальным глаголом could для указания на действие, которое могло произойти, но не произошло[1]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We could have gone, but we didn't. – Мы могли уйти, но не уш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404280"/>
            <a:ext cx="746748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y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отребление модального глагола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ay"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четании с перфектным инфинитивом выражает предположение, неуверенность в произошедш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She 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y not have know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 about it. But it doesn't constitute justification. –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на, возможно, не знала об этом. Но это не служит оправда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I'm not sure but he 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y have bee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 here. –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Я не уверен, но он мог быть зде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6840" y="115560"/>
            <a:ext cx="8002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Migh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отребление формы прошедшего времени глагола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may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т. е.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might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указывает на менее категоричное выражение неуверенности в произошедшем действ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Don't be angry with her. S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ight not have known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bout it. – Не злись на неё. Она, возможно, и не знала об э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четании с обстоятельством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as well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употребляется при выражении альтернативы при недовольстве текущим положением де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ight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s well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ave stayed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t home. – С таким же успехом я мог бы дома остат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us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альный глагол </a:t>
            </a:r>
            <a:r>
              <a:rPr b="0" i="1" lang="ru-RU" sz="2400" spc="-1" strike="noStrike">
                <a:solidFill>
                  <a:srgbClr val="0066cc"/>
                </a:solidFill>
                <a:latin typeface="Arial"/>
              </a:rPr>
              <a:t>"must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 перфектным инфинитивом указывает на уверенность или высокую вероятность действия, имеющего место в прошлом и имеющее отношение к текущему моменту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 guess 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must have hur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the muscle while playing. – Думаю, я должно быть повредил мышцу во время иг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 can't find the key. 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must not have tak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it. – Не могу найти ключи. Скорее всего я не взял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Need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need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выражает сомнение в целесообразности совершённого действия в прошлом, употребляется только в вопросительных и отрицательных предложения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ed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you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ave done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it? – И какая была необходимость тебе делать эт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edn't have been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present all the time. – Ему не нужно было присутствовать всё это время. (не было никакой необходимости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8:49:18Z</dcterms:created>
  <dc:creator>LAURA</dc:creator>
  <dc:description/>
  <dc:language>en-US</dc:language>
  <cp:lastModifiedBy>Admin</cp:lastModifiedBy>
  <dcterms:modified xsi:type="dcterms:W3CDTF">2020-04-08T19:29:37Z</dcterms:modified>
  <cp:revision>23</cp:revision>
  <dc:subject/>
  <dc:title>MODALS</dc:title>
</cp:coreProperties>
</file>