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4B30-C53F-4F3E-A223-72B450A516C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709-3A41-496A-BA34-BEC80E8BC8E8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9D61-4EB0-45CE-A148-E388A8E5F68A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2C0-4C70-4CA8-9BDB-EFD1B69DA8FB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F7A0-3A23-448C-B9BB-DC227D4B2EA4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3ED-2B34-47E3-9B56-7FF1ABDD638A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6A85-A45F-4914-95FF-F3CD0C2F4866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942C-DB1C-4217-BAD4-611247DDD6D5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6E3-3690-441D-97D1-CE925E561E95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DDE-6211-490F-9555-27A2B7C3B6B7}" type="slidenum">
              <a:rPr b="0" lang="es-ES_trad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20CAB-7099-40FA-B59A-C175ADDD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52B7-E4AC-4EA9-93D3-9A7E80D6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70AA-B61A-4DD9-BE64-8B00DDAF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8C3FF-2A2D-4B0F-9432-78DF7E2E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E3A7-C5AA-4C6D-924E-95F12A9F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DB9-D138-40DA-AA28-1877B3B5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1F0-23D5-40DE-8D23-2303F4BB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B8FC-F41E-4A43-9EFD-0791B074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EF17-11B1-4C6B-9309-47C28E10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4A8E-9352-4332-8738-3521A03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0C16-A7B2-494C-AD77-1E99555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ADF2-5E0A-47F6-A665-8690206E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68B4-FEE0-469A-9E5C-6F65C60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80A-203D-4BB4-8DED-79EB2C0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C7C5-0A97-42CD-B2F9-5927BB6B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173B-208B-46B8-9883-116DD7A3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9C1-0ED7-4A3B-BE88-37F4338B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72CF1-828D-4F86-B0DE-D6BD4B5F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D8570-A9DB-44D8-9566-CFE893B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321B5-0287-4194-998A-47A5887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EBDFD-4BF7-4967-BB30-B7D342D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6F7B8-8ECA-42EA-BF85-6A31713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A8D3-6360-4BAA-9820-096F6120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5EC06-64B6-4B73-9237-3650E7D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79DA5-A64F-4740-A54B-91225255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0AD84-49D3-4830-ADA7-96F5513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1119B-D08B-4F1D-BB22-160DA1EE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3A85E-F357-4641-85B2-19D29AF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26FF1-B73A-4997-85D1-8542508C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64321-1CD2-4195-9704-59D33B0A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368B-BF8E-4BBC-B531-63BA02C7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8B6F-4EE2-4E5F-92D8-DDC5C92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3FBB-7654-4719-BB58-DBD683AF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28D9-0E26-4720-A7B2-0FBDE2B7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AB5A7-8F02-4718-BE66-1344EBCC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79189-F676-4D8F-9311-ED13D58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433-B676-4ED3-9729-8ADE7132C3C4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954-FCCF-4DD2-B81D-F921166CC3B7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6870-E023-4975-A1AF-5A58AA930F3A}" type="slidenum">
              <a:rPr b="1" lang="es-ES_tradnl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gramm.su/word_usage/can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ELLO!!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600200"/>
            <a:ext cx="8640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ройди тест в электронном дневнике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entury Schoolbook"/>
              </a:rPr>
              <a:t>по модальным глаголам</a:t>
            </a: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!!!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845640"/>
            <a:ext cx="742464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Ou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ou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порицание, упрек за то, что не было сделано или было сделано неправильн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You ought to have done it previously. – Тебе следовало сделать это ране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07640" y="476280"/>
            <a:ext cx="87850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Will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предполагаемого действия или намерения выполнить действие, которое должно закончиться до определенного момента в будущем или до начала другого действ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on't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it by the time you get back. – Я не смогу сделать этого к твоему приходу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употребляется для выражения обычного или повторного действия в прошлом и продолжающегося до настоящего момент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It differs to anything you 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ill have done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 before. – Это отличается от всего, что вы (обычно) делали ране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il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с перфектным инфинитивом также выражает уверенность, заключение, вывод, произошедшем в прошлом и имеющее отношение к текущему состоянию или действи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50560" y="188640"/>
            <a:ext cx="8507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Would + Perfect Infinitiv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выражения желаемого субъектом действия, но которое не произошл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n't have don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was still so young that time and when you're young you do what you're not supposed to do. – Я не хотел этого делать. Но тогда я был ещё так молод. А когда ты молод, ты делаешь то, что не должен делат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have come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but I was stuck in traffic. – Я бы приехал, но я застрял в пробк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данном значении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ould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употребляется не для указания на действие в прошлом, а как более мягкая форма глагола 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"will"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и выражает предпочтение. На то, что действие относится к прошлому указывается с помощью перфектного инфинитива. Сравните с предложением в настоящем времен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would do</a:t>
            </a: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</a:rPr>
              <a:t> it. But I am so tired . - Я бы хотел это сделать. Но я так уст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Would"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употребляется для построения условного предложения, выражающее невыполненное по каким-либо причинам действие в прош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houl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should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в сочетании с перфектным инфинитивом употребляется для выражения невыполненного необходимого действия, другими словами, того, что следовало бы сделать, но сделано не был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 have staye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home. – Мне следовало бы остаться до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shouldn't have eat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so much. – Тебе не следовало объедать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1" name="Объект 3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65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ИСЬМЕННО В ТЕТРАД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1976400" y="907920"/>
            <a:ext cx="5619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YOUR HOME ASSIGN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77520"/>
            <a:ext cx="8507520" cy="60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омашне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Выучить грамматику/ Grammar Check 7, с. 150—151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дание письменно в тетрадях, только глагол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ra … (can/might) get a playstation for her birthday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You … (must not/needn’t) read in the da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y grandfather is retired, so he … (shouldn’t/doesn’t have to) go to work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e fridge is full, so we … (must not/needn’t) go shopp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ur employees … (can/must) sign this agreement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 … (may/ought to) reserve a table in advance if we want to have dinner the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 … (can’t/needn’t) believe it! You … (have to/must) be jokin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n … (must/is to) finish school next yea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orry, I’m late. I … (needed to/had to) wait for the plumb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hat time do we … (should/have to) be at the railway station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n’t wait for me tonight. I … (might/must) be lat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Schoolbook"/>
              </a:rPr>
              <a:t>Просьба, проходите честно, по совести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7030a0"/>
                </a:solidFill>
                <a:latin typeface="Century Schoolbook"/>
              </a:rPr>
              <a:t>перфектные модальные глаголы</a:t>
            </a:r>
            <a:br>
              <a:rPr sz="3000"/>
            </a:br>
            <a:r>
              <a:rPr b="0" lang="es-ES_tradnl" sz="3000" spc="-1" strike="noStrike">
                <a:solidFill>
                  <a:srgbClr val="7030a0"/>
                </a:solidFill>
                <a:latin typeface="Century Schoolbook"/>
              </a:rPr>
              <a:t>STRUCTU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7623000" cy="743040"/>
        </p:xfrm>
        <a:graphic>
          <a:graphicData uri="http://schemas.openxmlformats.org/drawingml/2006/table">
            <a:tbl>
              <a:tblPr/>
              <a:tblGrid>
                <a:gridCol w="3179880"/>
                <a:gridCol w="4443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ODAL PER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cd2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base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bject + modal + have + past partici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6e8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1"/>
          <p:cNvSpPr/>
          <p:nvPr/>
        </p:nvSpPr>
        <p:spPr>
          <a:xfrm>
            <a:off x="611280" y="2616120"/>
            <a:ext cx="624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s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 have / migh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ould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 have / ought 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oul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edn’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Просмотри слайды от 3 до   1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никни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476280"/>
            <a:ext cx="829152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Can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предложениях модальный глагол 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ca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употребляемый с перфектным инфинитивом, выражает сомнение в том, что действие или событие имело место в прошло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 don't believe 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 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. He is too weak. – Я не верю, что он мог сделать это. Он слишком сла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an't have overslep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. She is never late. – Она не могла проспать. Она никогда не опаздыва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08000" y="189000"/>
            <a:ext cx="8856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Could + Perfect Infinitiv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отрицательных и вопросительных высказываниях глагольная группа [could + "перфектный инфинитив"] может употребляться в аналогичном значении, что и с глаголом can, но выражает менее категоричную форму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on't believe he could have done it. He is too weak. – Что-то мне не верится, что он мог сделать это. Он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Если содержание всего высказывания относится к прошлому, а также если глагол главной части сложного предложения указывает на действие в прошлом, то для согласования времён в придаточной части употребляется форма прошедшего времени модального глагола "can" т. е. "could"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I didn't believe he could have done it. He was too weak. – Я не верил, что он мог сделать это. Он был слишком слаб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утвердительных высказываниях перфектная форма глагола употребляется с модальным глаголом could для указания на действие, которое могло произойти, но не произошло[1]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We could have gone, but we didn't. – Мы могли уйти, но не уш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404280"/>
            <a:ext cx="7467480" cy="60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ay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модального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ay"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 перфектным инфинитивом выражает предположение, неуверенность в произошедше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S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not have know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about it. But it doesn't constitute justification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на, возможно, не знала об этом. Но это не служит оправда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I'm not sure but he 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ay have been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 here. –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Я не уверен, но он мог быть здес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6840" y="115560"/>
            <a:ext cx="8002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Migh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потребление формы прошедшего времени глагола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ay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т. е.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might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казывает на менее категоричное выражение неуверенности в произошедшем действ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Don't be angry with her. S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 not have know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bout it. – Не злись на неё. Она, возможно, и не знала об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очетании с обстоятельством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"as well"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употребляется при выражении альтернативы при недовольстве текущим положением дел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might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s well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stay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at home. – С таким же успехом я мог бы дома оста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ust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альный глагол </a:t>
            </a:r>
            <a:r>
              <a:rPr b="0" i="1" lang="ru-RU" sz="2400" spc="-1" strike="noStrike">
                <a:solidFill>
                  <a:srgbClr val="0066cc"/>
                </a:solidFill>
                <a:latin typeface="Arial"/>
              </a:rPr>
              <a:t>"must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с перфектным инфинитивом указывает на уверенность или высокую вероятность действия, имеющего место в прошлом и имеющее отношение к текущему момент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guess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have hur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the muscle while playing. – Думаю, я должно быть повредил мышцу во время иг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I can't find the key. I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must not have tak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it. – Не могу найти ключи. Скорее всего я не взял 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Need + Perfect Infini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альный глагол 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nee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в сочетании с перфектным инфинитивом выражает сомнение в целесообразности совершённого действия в прошлом, употребляется только в вопросительных и отрицательных предложениях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you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ave done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it? – И какая была необходимость тебе делать эт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He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edn't have been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present all the time. – Ему не нужно было присутствовать всё это время. (не было никакой необходимост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18:49:18Z</dcterms:created>
  <dc:creator>LAURA</dc:creator>
  <dc:description/>
  <dc:language>en-US</dc:language>
  <cp:lastModifiedBy>Admin</cp:lastModifiedBy>
  <dcterms:modified xsi:type="dcterms:W3CDTF">2020-04-08T19:29:37Z</dcterms:modified>
  <cp:revision>23</cp:revision>
  <dc:subject/>
  <dc:title>MODALS</dc:title>
</cp:coreProperties>
</file>