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199-7142-4F8B-93F1-98F68304E2A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4B88-A182-4445-9859-C8DABF9FEA78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265-EB9E-42A7-8AD0-87CEFDA84403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A377-5378-4CA7-8730-027A75F11F0E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A9EF-0C54-425A-9572-80F00F2A59B1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952C-B8ED-4043-B9D4-9B5237C27EC0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CD58-1C6A-4CFA-BCFA-09BD789ACAE3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350D-FF39-4023-A599-D4E31CF75730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93FC-5AC9-4CC9-8D00-929EEE093073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CFF3-0DF9-42C6-9152-7949A374654D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E448-9223-49F9-BD60-DA1BCDD4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E1BD-26D6-4264-B968-0B033554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F2988-6835-4524-AA48-1A2D33A1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6562-D7FE-4973-9692-63D479B2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40FC-9CFE-4A1E-84C5-C49BF3AC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8ED-3E6E-4DA4-B56E-10590744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3FCF-6455-421C-8265-88CA130A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1DA-B0FB-4766-9EB7-98148008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FD71-3B19-46EF-BDC2-1A70F036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F373-B33F-4FEA-BB5B-9F935123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274B-0510-487F-A4DA-B14F8F3E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796A5-2915-43BA-A145-35FF67D4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6049-5644-4F68-89A9-7DAF2663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B1CF-5FEB-4196-9F80-27914197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77CC-EF35-4EC8-98F7-27157CE6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510D-907C-4ECB-B584-8E1535FC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C96D-8629-4543-A1E7-7AEF54FD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BC93F-F8CC-4732-AACF-9F2A0167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DF39C-78B4-426C-A362-33E4A781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C0E1F-DD10-474A-989E-5CCF4BD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CE310-362A-44D6-9062-8CD59926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2C36A-E306-4EFF-9F10-B4DDE933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5B45-9C1B-43AA-B503-046BCC26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F160D-65F2-4993-A727-0BC45543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8AAF3-CE74-4838-A158-4AF2B6B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7B7F2-C537-49A3-8167-C41AC648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6D876-11E2-4BFB-9E34-AA5EC383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7D660-91BB-4DC2-92DA-D1CAA79C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381FB-016F-4674-A603-A13D4807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63606-954C-493A-8135-A4770825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5D4B-D3EE-4979-806F-A17B985B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CF9D-974E-46E9-BEEA-E83EDEB8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A6BD-677C-47F2-8102-06ACB925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98C1-8C66-436E-A8B8-F6793F0D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D8F40-1A4F-430F-B0B6-CAA4A9D0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CE61-25D1-4D90-ACE4-E6E2409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9D06-5264-4AA7-AFAE-130EC51B79A1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9EFD-F80A-40B4-9121-0C467B76C252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8BBC-BB4D-461F-ACCE-666B4C7E6C8D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ngramm.su/word_usage/can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ELLO!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600200"/>
            <a:ext cx="8640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Пройди тест в электронном дневнике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по модальным глаголам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!!!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845640"/>
            <a:ext cx="742464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Ought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ought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выражает порицание, упрек за то, что не было сделано или было сделано неправильн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You ought to have done it previously. – Тебе следовало сделать это ране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7640" y="476280"/>
            <a:ext cx="87850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Will + Perfect Infinitiv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лагол 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"will"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употребляется для выражения предполагаемого действия или намерения выполнить действие, которое должно закончиться до определенного момента в будущем или до начала другого действ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won't have done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 it by the time you get back. – Я не смогу сделать этого к твоему приход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"will"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с перфектным инфинитивом употребляется для выражения обычного или повторного действия в прошлом и продолжающегося до настоящего момент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It differs to anything you 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will have done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 before. – Это отличается от всего, что вы (обычно) делали ране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Wil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с перфектным инфинитивом также выражает уверенность, заключение, вывод, произошедшем в прошлом и имеющее отношение к текущему состоянию или действи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50560" y="188640"/>
            <a:ext cx="850716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Would + Perfect Infiniti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"would"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употребляется для выражения желаемого субъектом действия, но которое не произошло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wouldn't have done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it. But I was still so young that time and when you're young you do what you're not supposed to do. – Я не хотел этого делать. Но тогда я был ещё так молод. А когда ты молод, ты делаешь то, что не должен дела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would have come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but I was stuck in traffic. – Я бы приехал, но я застрял в пробк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данном значении 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"would"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употребляется не для указания на действие в прошлом, а как более мягкая форма глагола 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"will"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и выражает предпочтение. На то, что действие относится к прошлому указывается с помощью перфектного инфинитива. Сравните с предложением в настоящем времен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would do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it. But I am so tired . - Я бы хотел это сделать. Но я так уста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Would"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употребляется для построения условного предложения, выражающее невыполненное по каким-либо причинам действие в прошл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hould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альный глагол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should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в сочетании с перфектным инфинитивом употребляется для выражения невыполненного необходимого действия, другими словами, того, что следовало бы сделать, но сделано не был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should have staye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home. – Мне следовало бы остаться до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ou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shouldn't have eat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so much. – Тебе не следовало объедать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ИСЬМЕННО В ТЕТРАД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71" name="Объект 3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65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ИСЬМЕННО В ТЕТРАД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1976400" y="907920"/>
            <a:ext cx="5619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YOUR HOME ASSIGN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677520"/>
            <a:ext cx="850752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омашнее задание: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Выучить грамматику/ Grammar Check 7, с. 150—151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дание письменно в тетрадях, только глаго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ara … (can/might) get a playstation for her birthda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 … (must not/needn’t) read in the dark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y grandfather is retired, so he … (shouldn’t/doesn’t have to) go to work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fridge is full, so we … (must not/needn’t) go shopp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ur employees … (can/must) sign this agree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e … (may/ought to) reserve a table in advance if we want to have dinner the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… (can’t/needn’t) believe it! You … (have to/must) be jok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n … (must/is to) finish school next yea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rry, I’m late. I … (needed to/had to) wait for the plumb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at time do we … (should/have to) be at the railway station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on’t wait for me tonight. I … (might/must) be la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Просьба, проходите честно, по совести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перфектные модальные глаголы</a:t>
            </a:r>
            <a:br>
              <a:rPr sz="3000"/>
            </a:br>
            <a:r>
              <a:rPr b="0" lang="es-ES_tradnl" sz="3000" spc="-1" strike="noStrike">
                <a:solidFill>
                  <a:srgbClr val="7030a0"/>
                </a:solidFill>
                <a:latin typeface="Century Schoolbook"/>
              </a:rPr>
              <a:t>STRUCTU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7623000" cy="743040"/>
        </p:xfrm>
        <a:graphic>
          <a:graphicData uri="http://schemas.openxmlformats.org/drawingml/2006/table">
            <a:tbl>
              <a:tblPr/>
              <a:tblGrid>
                <a:gridCol w="3179880"/>
                <a:gridCol w="444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OD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ODAL PER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bject + modal + base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bject + modal + have + past partici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ик 1"/>
          <p:cNvSpPr/>
          <p:nvPr/>
        </p:nvSpPr>
        <p:spPr>
          <a:xfrm>
            <a:off x="611280" y="2616120"/>
            <a:ext cx="624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s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 have / migh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uld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uldn’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uld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ould have / ought 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ouldn’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edn’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смотри слайды от 3 до   1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никни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6280"/>
            <a:ext cx="829152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Can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отрицательных и вопросительных предложениях модальный глагол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ca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употребляемый с перфектным инфинитивом, выражает сомнение в том, что действие или событие имело место в прошло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I don't believe 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an have done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it. He is too weak. – Я не верю, что он мог сделать это. Он слишком сла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S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an't have overslept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She is never late. – Она не могла проспать. Она никогда не опаздыв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8000" y="189000"/>
            <a:ext cx="8856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Could + Perfect Infinitiv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отрицательных и вопросительных высказываниях глагольная группа [could + "перфектный инфинитив"] может употребляться в аналогичном значении, что и с глаголом can, но выражает менее категоричную форм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I don't believe he could have done it. He is too weak. – Что-то мне не верится, что он мог сделать это. Он слишком слаб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сли содержание всего высказывания относится к прошлому, а также если глагол главной части сложного предложения указывает на действие в прошлом, то для согласования времён в придаточной части употребляется форма прошедшего времени модального глагола "can" т. е. "could"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I didn't believe he could have done it. He was too weak. – Я не верил, что он мог сделать это. Он был слишком слаб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утвердительных высказываниях перфектная форма глагола употребляется с модальным глаголом could для указания на действие, которое могло произойти, но не произошло[1]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We could have gone, but we didn't. – Мы могли уйти, но не уш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404280"/>
            <a:ext cx="746748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y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отребление модального глагола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may"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четании с перфектным инфинитивом выражает предположение, неуверенность в произошедше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She 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y not have known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 about it. But it doesn't constitute justification. –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на, возможно, не знала об этом. Но это не служит оправдан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I'm not sure but he 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y have been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 here. –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Я не уверен, но он мог быть зде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6840" y="115560"/>
            <a:ext cx="8002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Might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отребление формы прошедшего времени глагола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may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т. е.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might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указывает на менее категоричное выражение неуверенности в произошедшем действ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Don't be angry with her. S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ight not have known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about it. – Не злись на неё. Она, возможно, и не знала об э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четании с обстоятельством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as well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употребляется при выражении альтернативы при недовольстве текущим положением де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ight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as well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ave stayed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at home. – С таким же успехом я мог бы дома остать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47628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ust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альный глагол </a:t>
            </a:r>
            <a:r>
              <a:rPr b="0" i="1" lang="ru-RU" sz="2400" spc="-1" strike="noStrike">
                <a:solidFill>
                  <a:srgbClr val="0066cc"/>
                </a:solidFill>
                <a:latin typeface="Arial"/>
              </a:rPr>
              <a:t>"must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 перфектным инфинитивом указывает на уверенность или высокую вероятность действия, имеющего место в прошлом и имеющее отношение к текущему моменту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 guess 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must have hur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the muscle while playing. – Думаю, я должно быть повредил мышцу во время иг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 can't find the key. 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must not have tak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it. – Не могу найти ключи. Скорее всего я не взял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Need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need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выражает сомнение в целесообразности совершённого действия в прошлом, употребляется только в вопросительных и отрицательных предложения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ed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you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ave done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it? – И какая была необходимость тебе делать эт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edn't have been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present all the time. – Ему не нужно было присутствовать всё это время. (не было никакой необходимости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8:49:18Z</dcterms:created>
  <dc:creator>LAURA</dc:creator>
  <dc:description/>
  <dc:language>en-US</dc:language>
  <cp:lastModifiedBy>Admin</cp:lastModifiedBy>
  <dcterms:modified xsi:type="dcterms:W3CDTF">2020-04-08T19:29:37Z</dcterms:modified>
  <cp:revision>23</cp:revision>
  <dc:subject/>
  <dc:title>MODALS</dc:title>
</cp:coreProperties>
</file>