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24E-A29B-433C-A4BB-7519CA37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72F-14EE-4FA5-BE93-355C7642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64C-4F5E-4FA2-874C-F0FFAAC2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01F-5D49-4F57-99B1-0C1586E2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32F-5FD4-422D-A0F8-3F0B1633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B337-62B9-4A4D-BFFC-4918E959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E36A-DD8F-481A-8046-1959009F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C37E-468F-4F8C-B11D-28A3039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59B9-9935-4879-BB7C-411FCEA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D91-4EF1-4A0C-A8DE-6AA3F21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434A-D167-495A-A118-EABEA2D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688-79E0-4A4C-B637-33C6EBAE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FFB5-8707-4BBE-B149-53C0E6F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04B8-83F1-4F32-8AC2-341C6367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C5D9-3B9E-406A-A964-8664320D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755B-118F-42B5-A743-10F6FC8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D0ED-AC9D-4339-9966-93A04310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652-BFE8-427C-AF86-0679371A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55A-8ADC-4B2B-9C36-E84048E3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D4B-B73C-4B8E-B985-E9064A0F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E42-A3DC-425C-BEC0-6760DCF3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3EC-6F86-4DA8-B52C-16B85E19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5DA-E938-42DA-9177-CBBE32C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7EF-0FE0-4DC3-BD74-D63F87B6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1944-0E2A-4919-8947-1A95B50F83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5B84-2075-4449-A07D-2B399DECB8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механизмы. Рычаг. Равновесие сил на рычаге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33336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ычаг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яет собой твердое тело, которое может вращаться вокруг неподвижной опо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исимости от взаимного расположения точки опоры, точки приложения усилия и точки приложения нагрузки различают рычаги первого и второго род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2"/>
          <p:cNvSpPr/>
          <p:nvPr/>
        </p:nvSpPr>
        <p:spPr>
          <a:xfrm>
            <a:off x="1692360" y="4076640"/>
            <a:ext cx="5761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1763640" y="1341360"/>
            <a:ext cx="5761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281320" y="143676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509920" y="16714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4"/>
          <p:cNvSpPr/>
          <p:nvPr/>
        </p:nvSpPr>
        <p:spPr>
          <a:xfrm flipH="1">
            <a:off x="6948360" y="1916280"/>
            <a:ext cx="648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3924360" y="1916280"/>
            <a:ext cx="647640" cy="71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577960" y="1944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20000" y="24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2195640" y="185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399564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6961320" y="176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971640" y="47628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перв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ежду точками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нагрузки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2268360" y="494172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3635280" y="443700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34"/>
          <p:cNvSpPr/>
          <p:nvPr/>
        </p:nvSpPr>
        <p:spPr>
          <a:xfrm>
            <a:off x="3851280" y="47242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35"/>
          <p:cNvSpPr/>
          <p:nvPr/>
        </p:nvSpPr>
        <p:spPr>
          <a:xfrm>
            <a:off x="1979640" y="4941720"/>
            <a:ext cx="64764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6948360" y="42922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3995640" y="5084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7020000" y="4149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3497400" y="49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212400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80400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971640" y="2997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втор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точка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находятся на противоположных концах, а точка приложения нагрузк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 между ни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684360" y="2924280"/>
            <a:ext cx="799128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684360" y="1268280"/>
            <a:ext cx="799128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755640" y="4076640"/>
            <a:ext cx="7920000" cy="1657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684360" y="620640"/>
            <a:ext cx="7848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ыми примерами рычага первого рода являются  плоскогубцы, лом и ножни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2" descr="http://odem-ural.ru/img/147/224.jpg"/>
          <p:cNvPicPr/>
          <p:nvPr/>
        </p:nvPicPr>
        <p:blipFill>
          <a:blip r:embed="rId1"/>
          <a:stretch/>
        </p:blipFill>
        <p:spPr>
          <a:xfrm>
            <a:off x="380880" y="2349360"/>
            <a:ext cx="2376720" cy="321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900igr.net/datas/predmety/Instrumenty-v-garazhe.files/0024-024-Lom.jpg"/>
          <p:cNvPicPr/>
          <p:nvPr/>
        </p:nvPicPr>
        <p:blipFill>
          <a:blip r:embed="rId2"/>
          <a:stretch/>
        </p:blipFill>
        <p:spPr>
          <a:xfrm>
            <a:off x="3067200" y="2349360"/>
            <a:ext cx="2736720" cy="321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izobretenie.net/uploads/posts/2012-01/1327059086_nozhnicy1.jpg"/>
          <p:cNvPicPr/>
          <p:nvPr/>
        </p:nvPicPr>
        <p:blipFill>
          <a:blip r:embed="rId3"/>
          <a:stretch/>
        </p:blipFill>
        <p:spPr>
          <a:xfrm>
            <a:off x="6097680" y="2349360"/>
            <a:ext cx="2828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755640" y="54936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рычага второго рода – щипцы для раскалывания орехов, тачка, ключ для открывания буты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http://boom-dom.ru/image/data/1/12/120/12089976_7949.jpg"/>
          <p:cNvPicPr/>
          <p:nvPr/>
        </p:nvPicPr>
        <p:blipFill>
          <a:blip r:embed="rId1"/>
          <a:stretch/>
        </p:blipFill>
        <p:spPr>
          <a:xfrm>
            <a:off x="250920" y="2370240"/>
            <a:ext cx="2665440" cy="2857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sinotech.ru/images/stories/8977.jpg"/>
          <p:cNvPicPr/>
          <p:nvPr/>
        </p:nvPicPr>
        <p:blipFill>
          <a:blip r:embed="rId2"/>
          <a:stretch/>
        </p:blipFill>
        <p:spPr>
          <a:xfrm>
            <a:off x="3203640" y="2370240"/>
            <a:ext cx="2808360" cy="2857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http://radiuscity.ru/files/articles/issue156/article1776/3.jpg"/>
          <p:cNvPicPr/>
          <p:nvPr/>
        </p:nvPicPr>
        <p:blipFill>
          <a:blip r:embed="rId3"/>
          <a:stretch/>
        </p:blipFill>
        <p:spPr>
          <a:xfrm>
            <a:off x="6300720" y="2370240"/>
            <a:ext cx="259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179280" y="549360"/>
            <a:ext cx="331308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 сил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39560" y="1197000"/>
            <a:ext cx="8393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ратчайшее расстояние между точкой опоры и прямой, вдоль которой действует на рычаг сила, называется </a:t>
            </a: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м силы</a:t>
            </a: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235194_html_100d4baa"/>
          <p:cNvPicPr/>
          <p:nvPr/>
        </p:nvPicPr>
        <p:blipFill>
          <a:blip r:embed="rId1"/>
          <a:stretch/>
        </p:blipFill>
        <p:spPr>
          <a:xfrm>
            <a:off x="0" y="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457200" y="5398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при помощи рычага большую силу можно уравновесить мень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476360" y="2852640"/>
            <a:ext cx="4967280" cy="23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68360" y="1268280"/>
            <a:ext cx="828036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5194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908000" y="333360"/>
            <a:ext cx="56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ьи (лат. 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micida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от 1 до 150 м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983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айте мне точку опоры и я переверну ми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68360" y="1557360"/>
            <a:ext cx="8280360" cy="518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1"/>
          <p:cNvSpPr/>
          <p:nvPr/>
        </p:nvSpPr>
        <p:spPr>
          <a:xfrm>
            <a:off x="539640" y="1125360"/>
            <a:ext cx="77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помощью рычага рабочий поднимает плиту массой 240 кг. Какую силу прикладывает он к большому плечу рычага, равному 2,4 м если меньшее плечо равно 60 с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24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6"/>
          <p:cNvSpPr/>
          <p:nvPr/>
        </p:nvSpPr>
        <p:spPr>
          <a:xfrm>
            <a:off x="108000" y="1557360"/>
            <a:ext cx="8913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971640" y="476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ей и сло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9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241" name="Прямая со стрелкой 8"/>
          <p:cNvCxnSpPr/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57280" y="1413000"/>
            <a:ext cx="3006720" cy="468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76244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6192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нимают груз в 50 раз больше самих себ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870120" y="1501920"/>
            <a:ext cx="7619760" cy="48733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35280" y="33336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новые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лат. 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ephantida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3-6 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Федор Шаляпин - Эй, ухнем  (audiopoisk.com).mp3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physik.ucoz.ru/_ld/5/93475151.jpg"/>
          <p:cNvPicPr/>
          <p:nvPr/>
        </p:nvPicPr>
        <p:blipFill>
          <a:blip r:embed="rId2"/>
          <a:stretch/>
        </p:blipFill>
        <p:spPr>
          <a:xfrm>
            <a:off x="179280" y="404640"/>
            <a:ext cx="8731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03865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ханизмам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стым механизмам относятс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ычаг, блок, ворот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лонная плоскость, клин, вин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55640" y="4365720"/>
            <a:ext cx="8064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755640" y="5157720"/>
            <a:ext cx="8064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55640" y="3284640"/>
            <a:ext cx="8064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7:03:57Z</dcterms:created>
  <dc:creator>ustimenko-lv</dc:creator>
  <dc:description/>
  <dc:language>en-US</dc:language>
  <cp:lastModifiedBy>Любочка</cp:lastModifiedBy>
  <dcterms:modified xsi:type="dcterms:W3CDTF">2018-03-18T20:13:16Z</dcterms:modified>
  <cp:revision>32</cp:revision>
  <dc:subject/>
  <dc:title>Простые механизмы. Рычаг. Равновесие сил на рычаге</dc:title>
</cp:coreProperties>
</file>