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A300CE4-C9AE-43F4-BF8D-7A2DA29FB6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C6AB90D-379D-42A7-B0EB-ABC8FD804D7D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67A6-D4A5-408E-A4F6-5F291DDA3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148D-7CA7-40CE-96F0-8E1185032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616E-5D47-450C-A7D6-0681C9497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0A56-8852-4AC0-867A-8A7A26687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9EC75-2D89-49DF-855C-9FC6028CA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4C542-89CD-49FB-9048-951BF203D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528D1-90B5-489E-9E4F-23CDCEC64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A33F5-B184-4182-8A47-EAAD26119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9B310-FDFF-4008-824B-7B4271483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57A97-B3AB-4F20-ACB1-488063845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11013-8336-4E3D-A875-E998F9B9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334E-5AD2-49A3-9023-9CECC86A6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B3A1B-1561-4C38-A5CE-C3B7BD20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B7F09-03A1-4C23-A4A0-75DB8FCD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3FA95-3787-4B7E-AB47-E441DE9A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61B62-CC7B-45F7-A6E0-9569BCBCE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82D4C-8425-4DB5-9267-2D4F276C2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16CA-100E-43D2-904E-42297BF0B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738F-865E-4404-9E86-17866F46B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4A72-405E-472C-BBE5-20A97EAB6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1271-B818-4242-A707-AA5DACF27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6CF4-1F84-4189-B856-A246E448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1669-D58E-4C64-8B4E-5966138C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BD72-A61E-4A52-B294-4850218D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3D65E7D-75B8-4A15-8BDC-29E335A96BD7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6FABC2F-2767-432A-8444-E7208EC374F1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217800" y="4008600"/>
            <a:ext cx="43538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/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3"/>
          <p:cNvSpPr/>
          <p:nvPr/>
        </p:nvSpPr>
        <p:spPr>
          <a:xfrm>
            <a:off x="1164960" y="752040"/>
            <a:ext cx="9745560" cy="21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" rig="soft">
                <a:rot lat="0" lon="0" rev="15600000"/>
              </a:lightRig>
            </a:scene3d>
            <a:sp3d extrusionH="57150" prstMaterial="softEdge">
              <a:bevelT w="25400" h="38100"/>
            </a:sp3d>
          </a:bodyPr>
          <a:p>
            <a:pPr algn="ctr">
              <a:lnSpc>
                <a:spcPct val="100000"/>
              </a:lnSpc>
            </a:pPr>
            <a:r>
              <a:rPr b="1" lang="en-US" sz="6600" spc="-1" strike="noStrike">
                <a:solidFill>
                  <a:srgbClr val="ffff00"/>
                </a:solidFill>
                <a:latin typeface="Arial Black"/>
              </a:rPr>
              <a:t>Modal verbs</a:t>
            </a:r>
            <a:br>
              <a:rPr sz="6600"/>
            </a:br>
            <a:r>
              <a:rPr b="1" lang="ru-RU" sz="6600" spc="-1" strike="noStrike">
                <a:solidFill>
                  <a:srgbClr val="ffff00"/>
                </a:solidFill>
                <a:latin typeface="Arial Black"/>
              </a:rPr>
              <a:t>(Модальные глаголы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4"/>
          <p:cNvSpPr/>
          <p:nvPr/>
        </p:nvSpPr>
        <p:spPr>
          <a:xfrm>
            <a:off x="4590000" y="669960"/>
            <a:ext cx="26910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fc000"/>
                </a:solidFill>
                <a:latin typeface="Calibri"/>
              </a:rPr>
              <a:t>Ought t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2"/>
          <p:cNvSpPr/>
          <p:nvPr/>
        </p:nvSpPr>
        <p:spPr>
          <a:xfrm>
            <a:off x="1665000" y="1593360"/>
            <a:ext cx="97876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евод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лжен, следу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начение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ыражает моральный долг, желательность, настоятельный со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Таблица 6"/>
          <p:cNvGraphicFramePr/>
          <p:nvPr/>
        </p:nvGraphicFramePr>
        <p:xfrm>
          <a:off x="1665000" y="3265920"/>
          <a:ext cx="8127720" cy="1072080"/>
        </p:xfrm>
        <a:graphic>
          <a:graphicData uri="http://schemas.openxmlformats.org/drawingml/2006/table">
            <a:tbl>
              <a:tblPr/>
              <a:tblGrid>
                <a:gridCol w="2709000"/>
                <a:gridCol w="2709000"/>
                <a:gridCol w="2709000"/>
              </a:tblGrid>
              <a:tr h="536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P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Fu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536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Ought 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4"/>
          <p:cNvSpPr/>
          <p:nvPr/>
        </p:nvSpPr>
        <p:spPr>
          <a:xfrm>
            <a:off x="4708800" y="2284200"/>
            <a:ext cx="24534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1" lang="en-US" sz="5400" spc="-1" strike="noStrike">
                <a:solidFill>
                  <a:srgbClr val="ffc000"/>
                </a:solidFill>
                <a:latin typeface="Calibri"/>
              </a:rPr>
              <a:t>have t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2"/>
          <p:cNvSpPr/>
          <p:nvPr/>
        </p:nvSpPr>
        <p:spPr>
          <a:xfrm>
            <a:off x="1082160" y="3582360"/>
            <a:ext cx="90331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евод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нужден, обяз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начение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употребляется для выражения долженствования и необходимости в зависимости от обстоятель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1"/>
          <p:cNvSpPr/>
          <p:nvPr/>
        </p:nvSpPr>
        <p:spPr>
          <a:xfrm>
            <a:off x="5090040" y="474120"/>
            <a:ext cx="16912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fc000"/>
                </a:solidFill>
                <a:latin typeface="Calibri"/>
              </a:rPr>
              <a:t>Ne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2"/>
          <p:cNvSpPr/>
          <p:nvPr/>
        </p:nvSpPr>
        <p:spPr>
          <a:xfrm>
            <a:off x="1074600" y="1155600"/>
            <a:ext cx="9886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7"/>
          <p:cNvSpPr/>
          <p:nvPr/>
        </p:nvSpPr>
        <p:spPr>
          <a:xfrm>
            <a:off x="1211760" y="1294200"/>
            <a:ext cx="99666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т модальный глагол имеет только одну форму – настоящую. В утвердительном предложение он употребляется для выражения необходимости выполнения какого-либо действия, в то время, как в отрицательном предложении – отсутствия необходим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1"/>
          <p:cNvSpPr/>
          <p:nvPr/>
        </p:nvSpPr>
        <p:spPr>
          <a:xfrm>
            <a:off x="805320" y="1526760"/>
            <a:ext cx="9823320" cy="30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ростой инфинитив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-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форма, в которой глагол даётся в словаре. Он показывает, что действие, выраженное им, одновременно действию, выраженному глаголом-сказуемым (или какой-либо ситуации), или следует за н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c000"/>
                </a:solidFill>
                <a:latin typeface="Calibri"/>
              </a:rPr>
              <a:t>I want to speak to him. It was pleasant to speak to hi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en-US" sz="2800" spc="-1" strike="noStrike">
                <a:solidFill>
                  <a:srgbClr val="ffc000"/>
                </a:solidFill>
                <a:latin typeface="Calibri"/>
              </a:rPr>
              <a:t>When they give you something, you must always say thank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en-U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c000"/>
                </a:solidFill>
                <a:latin typeface="Calibri"/>
              </a:rPr>
              <a:t>I want you to give me some in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1"/>
          <p:cNvSpPr/>
          <p:nvPr/>
        </p:nvSpPr>
        <p:spPr>
          <a:xfrm>
            <a:off x="1333800" y="1112760"/>
            <a:ext cx="9453960" cy="30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ерфектный инфинитив </a:t>
            </a: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Perfect Infinitive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Образуется при помощи инфинитива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o have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и третьей формы смыслового глагола: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o have invited, to have written, to have asked.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Употребляется, чтобы выразить действие, которое предшествует действию, выраженному глаголом-сказуемым, или происходит ранее какой-либо ситу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I am glad to have spoken to h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When I came up to the house there was no light in the windows. Everybody must have gone to b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1"/>
          <p:cNvSpPr/>
          <p:nvPr/>
        </p:nvSpPr>
        <p:spPr>
          <a:xfrm>
            <a:off x="548640" y="1351440"/>
            <a:ext cx="10640880" cy="43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Put the verb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an, may, must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____ we see on this map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____ you speak Spanish? — No, unfortunately I ____ no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 what time ____ you come to colleg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____ I come i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____ not smoke he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____ take your book? — I am afraid not: I need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 have very little time: I ____ g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____ not go to the cinema today because they are bu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____ read this text: it is easy enou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3"/>
          <p:cNvSpPr/>
          <p:nvPr/>
        </p:nvSpPr>
        <p:spPr>
          <a:xfrm>
            <a:off x="4700520" y="706680"/>
            <a:ext cx="2447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" rig="soft">
                <a:rot lat="0" lon="0" rev="15600000"/>
              </a:lightRig>
            </a:scene3d>
            <a:sp3d extrusionH="57150" prstMaterial="softEdge">
              <a:bevelT w="25400" h="38100"/>
            </a:sp3d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chemeClr val="accent4"/>
                </a:solidFill>
                <a:latin typeface="Arial"/>
              </a:rPr>
              <a:t>Exercise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580680" y="703080"/>
            <a:ext cx="10986840" cy="52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Модальные глаголы – это глаголы, которые не выражают действия или состояния, а устанавливают  отношение между подлежащим и действием или состоянием, выраженным инфинитивом другого глагол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"/>
          <p:cNvSpPr/>
          <p:nvPr/>
        </p:nvSpPr>
        <p:spPr>
          <a:xfrm>
            <a:off x="725760" y="522360"/>
            <a:ext cx="10827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собенности модальных глагол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 английском язы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2"/>
          <p:cNvSpPr/>
          <p:nvPr/>
        </p:nvSpPr>
        <p:spPr>
          <a:xfrm>
            <a:off x="725760" y="2220480"/>
            <a:ext cx="10958040" cy="39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ой глагол после модального пишется без частицы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 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an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Arial"/>
              </a:rPr>
              <a:t>swi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 имеют окончания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/-es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третьем лице, единственном числе настоящего времени (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ром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эквивалентов модальных глаголов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have to, be to)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 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an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nce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 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as 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wake up early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595080" y="1877760"/>
            <a:ext cx="10971720" cy="30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просительная и отрицательная формы  образуются без вспомогательных глаголов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elp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I help you?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 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an'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dance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. Не все модальные глаголы имеют формы будущего и прошедшего времён, и при их выражении заменяются на эквиваленты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3"/>
          <p:cNvSpPr/>
          <p:nvPr/>
        </p:nvSpPr>
        <p:spPr>
          <a:xfrm>
            <a:off x="595080" y="398520"/>
            <a:ext cx="106675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собенности модальных глагол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 английском язы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"/>
          <p:cNvSpPr/>
          <p:nvPr/>
        </p:nvSpPr>
        <p:spPr>
          <a:xfrm>
            <a:off x="571680" y="570600"/>
            <a:ext cx="10960920" cy="38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ffffff"/>
                </a:solidFill>
                <a:latin typeface="Georgia1"/>
              </a:rPr>
              <a:t>Модальные глаголы можно разделить на </a:t>
            </a:r>
            <a:r>
              <a:rPr b="1" lang="en-US" sz="2800" spc="-1" strike="noStrike">
                <a:solidFill>
                  <a:srgbClr val="ffffff"/>
                </a:solidFill>
                <a:latin typeface="Georgia1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Georgia1"/>
              </a:rPr>
              <a:t> категор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1. </a:t>
            </a:r>
            <a:r>
              <a:rPr b="1" lang="ru-RU" sz="2400" spc="-1" strike="noStrike">
                <a:solidFill>
                  <a:srgbClr val="ffff00"/>
                </a:solidFill>
                <a:latin typeface="Georgia"/>
              </a:rPr>
              <a:t>Модальные глаголы 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– 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can/could, may/migh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must, should, ought to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2. </a:t>
            </a:r>
            <a:r>
              <a:rPr b="1" lang="ru-RU" sz="2400" spc="-1" strike="noStrike">
                <a:solidFill>
                  <a:srgbClr val="ffff00"/>
                </a:solidFill>
                <a:latin typeface="Georgia"/>
              </a:rPr>
              <a:t>Эквиваленты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– be able to,  be allowed 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to have to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Овал 1"/>
          <p:cNvSpPr/>
          <p:nvPr/>
        </p:nvSpPr>
        <p:spPr>
          <a:xfrm>
            <a:off x="3360600" y="2030040"/>
            <a:ext cx="1165680" cy="673920"/>
          </a:xfrm>
          <a:prstGeom prst="ellipse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libri"/>
              </a:rPr>
              <a:t>М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Овал 2"/>
          <p:cNvSpPr/>
          <p:nvPr/>
        </p:nvSpPr>
        <p:spPr>
          <a:xfrm>
            <a:off x="3360600" y="3588840"/>
            <a:ext cx="1165680" cy="673920"/>
          </a:xfrm>
          <a:prstGeom prst="ellipse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libri"/>
              </a:rPr>
              <a:t>М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вал 3"/>
          <p:cNvSpPr/>
          <p:nvPr/>
        </p:nvSpPr>
        <p:spPr>
          <a:xfrm>
            <a:off x="1843920" y="5010120"/>
            <a:ext cx="1165680" cy="673920"/>
          </a:xfrm>
          <a:prstGeom prst="ellipse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libri"/>
              </a:rPr>
              <a:t>М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люс 4"/>
          <p:cNvSpPr/>
          <p:nvPr/>
        </p:nvSpPr>
        <p:spPr>
          <a:xfrm>
            <a:off x="960120" y="1725840"/>
            <a:ext cx="719640" cy="696960"/>
          </a:xfrm>
          <a:prstGeom prst="mathPlus">
            <a:avLst>
              <a:gd name="adj1" fmla="val 23520"/>
            </a:avLst>
          </a:prstGeom>
          <a:solidFill>
            <a:schemeClr val="bg1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0" name="Минус 5"/>
          <p:cNvSpPr/>
          <p:nvPr/>
        </p:nvSpPr>
        <p:spPr>
          <a:xfrm>
            <a:off x="1604160" y="3873600"/>
            <a:ext cx="1645560" cy="319680"/>
          </a:xfrm>
          <a:prstGeom prst="mathMinus">
            <a:avLst>
              <a:gd name="adj1" fmla="val 23520"/>
            </a:avLst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0600" bIns="306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1" name="Равно 6"/>
          <p:cNvSpPr/>
          <p:nvPr/>
        </p:nvSpPr>
        <p:spPr>
          <a:xfrm>
            <a:off x="4526640" y="2453760"/>
            <a:ext cx="1988640" cy="182520"/>
          </a:xfrm>
          <a:prstGeom prst="mathEqual">
            <a:avLst>
              <a:gd name="adj1" fmla="val 23520"/>
              <a:gd name="adj2" fmla="val 11760"/>
            </a:avLst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инус 7"/>
          <p:cNvSpPr/>
          <p:nvPr/>
        </p:nvSpPr>
        <p:spPr>
          <a:xfrm>
            <a:off x="1641960" y="2357280"/>
            <a:ext cx="1645560" cy="319680"/>
          </a:xfrm>
          <a:prstGeom prst="mathMinus">
            <a:avLst>
              <a:gd name="adj1" fmla="val 23520"/>
            </a:avLst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0600" bIns="306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3" name="Минус 8"/>
          <p:cNvSpPr/>
          <p:nvPr/>
        </p:nvSpPr>
        <p:spPr>
          <a:xfrm>
            <a:off x="3238560" y="5356800"/>
            <a:ext cx="1645560" cy="319680"/>
          </a:xfrm>
          <a:prstGeom prst="mathMinus">
            <a:avLst>
              <a:gd name="adj1" fmla="val 23520"/>
            </a:avLst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0600" bIns="306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4" name="Равно 9"/>
          <p:cNvSpPr/>
          <p:nvPr/>
        </p:nvSpPr>
        <p:spPr>
          <a:xfrm>
            <a:off x="5793840" y="4004280"/>
            <a:ext cx="1988640" cy="182520"/>
          </a:xfrm>
          <a:prstGeom prst="mathEqual">
            <a:avLst>
              <a:gd name="adj1" fmla="val 23520"/>
              <a:gd name="adj2" fmla="val 11760"/>
            </a:avLst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Равно 10"/>
          <p:cNvSpPr/>
          <p:nvPr/>
        </p:nvSpPr>
        <p:spPr>
          <a:xfrm>
            <a:off x="4964040" y="5425560"/>
            <a:ext cx="1988640" cy="182520"/>
          </a:xfrm>
          <a:prstGeom prst="mathEqual">
            <a:avLst>
              <a:gd name="adj1" fmla="val 23520"/>
              <a:gd name="adj2" fmla="val 11760"/>
            </a:avLst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инус 11"/>
          <p:cNvSpPr/>
          <p:nvPr/>
        </p:nvSpPr>
        <p:spPr>
          <a:xfrm>
            <a:off x="880200" y="3173760"/>
            <a:ext cx="799920" cy="683640"/>
          </a:xfrm>
          <a:prstGeom prst="mathMinus">
            <a:avLst>
              <a:gd name="adj1" fmla="val 23520"/>
            </a:avLst>
          </a:prstGeom>
          <a:solidFill>
            <a:schemeClr val="bg1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7" name="Прямоугольник 12"/>
          <p:cNvSpPr/>
          <p:nvPr/>
        </p:nvSpPr>
        <p:spPr>
          <a:xfrm>
            <a:off x="943200" y="4793040"/>
            <a:ext cx="53748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13"/>
          <p:cNvSpPr/>
          <p:nvPr/>
        </p:nvSpPr>
        <p:spPr>
          <a:xfrm>
            <a:off x="4662720" y="3411720"/>
            <a:ext cx="113508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5400" spc="-1" strike="noStrike">
                <a:solidFill>
                  <a:schemeClr val="accent1"/>
                </a:solidFill>
                <a:latin typeface="Calibri"/>
              </a:rPr>
              <a:t>no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4"/>
          <p:cNvSpPr/>
          <p:nvPr/>
        </p:nvSpPr>
        <p:spPr>
          <a:xfrm>
            <a:off x="6912000" y="4793040"/>
            <a:ext cx="53748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6000" spc="-1" strike="noStrike">
                <a:solidFill>
                  <a:srgbClr val="0099ff"/>
                </a:solidFill>
                <a:latin typeface="Calibri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5"/>
          <p:cNvSpPr/>
          <p:nvPr/>
        </p:nvSpPr>
        <p:spPr>
          <a:xfrm>
            <a:off x="3045960" y="522000"/>
            <a:ext cx="688212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ВИДЫ ПРЕДЛОЖЕНИ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6"/>
          <p:cNvSpPr/>
          <p:nvPr/>
        </p:nvSpPr>
        <p:spPr>
          <a:xfrm>
            <a:off x="6966720" y="2038320"/>
            <a:ext cx="2703240" cy="7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 can swi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8"/>
          <p:cNvSpPr/>
          <p:nvPr/>
        </p:nvSpPr>
        <p:spPr>
          <a:xfrm>
            <a:off x="7813080" y="3633120"/>
            <a:ext cx="36039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 can not swi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19"/>
          <p:cNvSpPr/>
          <p:nvPr/>
        </p:nvSpPr>
        <p:spPr>
          <a:xfrm>
            <a:off x="7469280" y="5387400"/>
            <a:ext cx="358128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an you swi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3"/>
          <p:cNvSpPr/>
          <p:nvPr/>
        </p:nvSpPr>
        <p:spPr>
          <a:xfrm>
            <a:off x="5206680" y="635760"/>
            <a:ext cx="125244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" rig="soft">
                <a:rot lat="0" lon="0" rev="15600000"/>
              </a:lightRig>
            </a:scene3d>
            <a:sp3d extrusionH="57150" prstMaterial="softEdge">
              <a:bevelT w="25400" h="38100"/>
            </a:sp3d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chemeClr val="accent4"/>
                </a:solidFill>
                <a:latin typeface="Calibri"/>
              </a:rPr>
              <a:t>Ca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1499400" y="1676520"/>
            <a:ext cx="1009548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евод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гу, уме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начение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физическая или умственная способность, возможность совершать действ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квивалент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e able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Таблица 6"/>
          <p:cNvGraphicFramePr/>
          <p:nvPr/>
        </p:nvGraphicFramePr>
        <p:xfrm>
          <a:off x="1769040" y="3291480"/>
          <a:ext cx="8127720" cy="915120"/>
        </p:xfrm>
        <a:graphic>
          <a:graphicData uri="http://schemas.openxmlformats.org/drawingml/2006/table">
            <a:tbl>
              <a:tblPr/>
              <a:tblGrid>
                <a:gridCol w="2709000"/>
                <a:gridCol w="2709000"/>
                <a:gridCol w="270900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P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Fu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u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will be able 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</a:tr>
            </a:tbl>
          </a:graphicData>
        </a:graphic>
      </p:graphicFrame>
      <p:sp>
        <p:nvSpPr>
          <p:cNvPr id="117" name="Прямоугольник 7"/>
          <p:cNvSpPr/>
          <p:nvPr/>
        </p:nvSpPr>
        <p:spPr>
          <a:xfrm>
            <a:off x="1499400" y="4620600"/>
            <a:ext cx="65811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ould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-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вежливая просьба (не могли бы вы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3"/>
          <p:cNvSpPr/>
          <p:nvPr/>
        </p:nvSpPr>
        <p:spPr>
          <a:xfrm>
            <a:off x="5209200" y="669960"/>
            <a:ext cx="1430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fc000"/>
                </a:solidFill>
                <a:latin typeface="Calibri"/>
              </a:rPr>
              <a:t>M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4"/>
          <p:cNvSpPr/>
          <p:nvPr/>
        </p:nvSpPr>
        <p:spPr>
          <a:xfrm>
            <a:off x="1402200" y="1593360"/>
            <a:ext cx="101419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евод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жно, разреш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начение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разрешение, просьба, возможность или предположение, выражает фактическую, разовую возмож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квиваленты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e allowed t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Таблица 5"/>
          <p:cNvGraphicFramePr/>
          <p:nvPr/>
        </p:nvGraphicFramePr>
        <p:xfrm>
          <a:off x="1438200" y="3401640"/>
          <a:ext cx="8127720" cy="915120"/>
        </p:xfrm>
        <a:graphic>
          <a:graphicData uri="http://schemas.openxmlformats.org/drawingml/2006/table">
            <a:tbl>
              <a:tblPr/>
              <a:tblGrid>
                <a:gridCol w="2709000"/>
                <a:gridCol w="2709000"/>
                <a:gridCol w="270900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P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Fu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ma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mi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will be allowed 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</a:tr>
            </a:tbl>
          </a:graphicData>
        </a:graphic>
      </p:graphicFrame>
      <p:sp>
        <p:nvSpPr>
          <p:cNvPr id="121" name="Прямоугольник 6"/>
          <p:cNvSpPr/>
          <p:nvPr/>
        </p:nvSpPr>
        <p:spPr>
          <a:xfrm>
            <a:off x="1757520" y="4554720"/>
            <a:ext cx="74887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ight -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показатель вероятности того, что что-то произойдёт, но с ещё большей неуверенностью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4"/>
          <p:cNvSpPr/>
          <p:nvPr/>
        </p:nvSpPr>
        <p:spPr>
          <a:xfrm>
            <a:off x="5099040" y="669960"/>
            <a:ext cx="16502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fc000"/>
                </a:solidFill>
                <a:latin typeface="Calibri"/>
              </a:rPr>
              <a:t>Mu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2"/>
          <p:cNvSpPr/>
          <p:nvPr/>
        </p:nvSpPr>
        <p:spPr>
          <a:xfrm>
            <a:off x="1108800" y="1508400"/>
            <a:ext cx="100123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евод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лжен, над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начение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ыражает необходимость, обяза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квиваленты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have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Таблица 6"/>
          <p:cNvGraphicFramePr/>
          <p:nvPr/>
        </p:nvGraphicFramePr>
        <p:xfrm>
          <a:off x="1757520" y="3362400"/>
          <a:ext cx="8127720" cy="1072080"/>
        </p:xfrm>
        <a:graphic>
          <a:graphicData uri="http://schemas.openxmlformats.org/drawingml/2006/table">
            <a:tbl>
              <a:tblPr/>
              <a:tblGrid>
                <a:gridCol w="2709000"/>
                <a:gridCol w="2709000"/>
                <a:gridCol w="2709000"/>
              </a:tblGrid>
              <a:tr h="536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P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Fu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536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mu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had 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will have 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  <Words>548</Words>
  <Paragraphs>97</Paragraphs>
  <Company>SPecialiST RePack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5T17:32:03Z</dcterms:created>
  <dc:creator>Марина</dc:creator>
  <dc:description/>
  <dc:language>en-US</dc:language>
  <cp:lastModifiedBy>User</cp:lastModifiedBy>
  <dcterms:modified xsi:type="dcterms:W3CDTF">2020-04-12T03:13:57Z</dcterms:modified>
  <cp:revision>30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Произвольный</vt:lpwstr>
  </property>
  <property fmtid="{D5CDD505-2E9C-101B-9397-08002B2CF9AE}" pid="4" name="Slides">
    <vt:r8>15</vt:r8>
  </property>
</Properties>
</file>