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96B847-5294-4BD8-9FE1-20C699B34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AF9196-375C-4BDE-ACFF-4EEA9208EBD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587-E46A-45D3-AEC5-3626A37E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ED3-3DDE-4B96-968F-2DF2B2B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8D8-3214-4557-9661-0E020076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C94-78C5-4376-80C8-22EC3F22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5893-1ABC-4F46-82EC-28D552FF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84F-0F08-4522-81FB-0DADB597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5320-D430-4274-A201-9979B40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9917-D95A-4926-BFE2-3FD0B906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31BE-69D7-4E78-9D8F-0C62CE01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A3D4-235B-46D7-9D35-2AD22AD2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4A2E-BB7C-4A2A-B7C8-5F90BEC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398-C771-4320-856F-81BF0AF1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A59A-A131-444C-8DC4-F7D08E4F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535-3220-46D3-9DF1-009F5872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1598-8154-4D20-B97F-FEA286D8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BC20-F398-4F8A-AADC-7FFCF3A8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E72B-8FB9-4316-946D-A44AB61A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50F-E65F-46F9-B607-BE57908A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D22-F801-4FB7-9FB7-4BE7C602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E67-E778-4A15-8E58-1797E5C8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26A-44C6-46BA-9656-F546429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EFC-2373-4392-A96E-429EB88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43D-102A-4E6A-8148-CC7092E6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C43-08C8-4D2C-87A5-28CF7BA8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F5D58-5CB2-43ED-AE3E-BCC65935C42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A5BCC9-4246-4F8A-B512-B1B8DA623D5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7800" y="4008600"/>
            <a:ext cx="43538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164960" y="752040"/>
            <a:ext cx="97455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Modal verbs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(Модальные глаголы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4"/>
          <p:cNvSpPr/>
          <p:nvPr/>
        </p:nvSpPr>
        <p:spPr>
          <a:xfrm>
            <a:off x="4590000" y="669960"/>
            <a:ext cx="2691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Ought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1665000" y="1593360"/>
            <a:ext cx="9787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след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моральный долг, желательность, настоятель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Таблица 6"/>
          <p:cNvGraphicFramePr/>
          <p:nvPr/>
        </p:nvGraphicFramePr>
        <p:xfrm>
          <a:off x="1665000" y="3265920"/>
          <a:ext cx="8127720" cy="107208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4"/>
          <p:cNvSpPr/>
          <p:nvPr/>
        </p:nvSpPr>
        <p:spPr>
          <a:xfrm>
            <a:off x="4708800" y="2284200"/>
            <a:ext cx="2453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have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082160" y="3582360"/>
            <a:ext cx="9033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нужден, обя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потребляется для выражения долженствования и необходимости в зависимости от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5090040" y="474120"/>
            <a:ext cx="16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074600" y="1155600"/>
            <a:ext cx="988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1211760" y="1294200"/>
            <a:ext cx="996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имеет только одну форму – настоящую. В утвердительном предложение он употребляется для выражения необходимости выполнения какого-либо действия, в то время, как в отрицательном предложении – отсутствия необход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805320" y="1526760"/>
            <a:ext cx="98233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стой инфинитив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а, в которой глагол даётся в словаре. Он показывает, что действие, выраженное им, одновременно действию, выраженному глаголом-сказуемым (или какой-либо ситуации), или следует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I want to speak to him. It was pleasant to speak to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When they give you something, you must always say thank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I want you to give me som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333800" y="1112760"/>
            <a:ext cx="94539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фектный инфинитив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Perfect Infinitiv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уется при помощи инфинитива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have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третьей формы смыслового глагола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have invited, to have written, to have asked.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потребляется, чтобы выразить действие, которое предшествует действию, выраженному глаголом-сказуемым, или происходит ранее какой-либо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I am glad to have spoken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When I came up to the house there was no light in the windows. Everybody must have gone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48640" y="1351440"/>
            <a:ext cx="1064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ut the verb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, may, mus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____ we see on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you speak Spanish? — No, unfortunately I ____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what time ____ you come to colle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I come 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not smok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take your book? — I am afraid not: I need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ave very little time: I ____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____ not go to the cinema today because they are bu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read this text: it is easy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4700520" y="706680"/>
            <a:ext cx="244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4"/>
                </a:solidFill>
                <a:latin typeface="Arial"/>
              </a:rPr>
              <a:t>Exercis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80680" y="703080"/>
            <a:ext cx="1098684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одальные глаголы – это глаголы, которые не выражают действия или состояния, а устанавливают  отношение между подлежащим и действием или состоянием, выраженным инфинитивом другого глаго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725760" y="522360"/>
            <a:ext cx="108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725760" y="2220480"/>
            <a:ext cx="109580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ой глагол после модального пишется без частицы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sw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имеют окончан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/-es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ретьем лице, единственном числе настоящего времени 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ом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квивалентов модальных глаголов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ve to, be to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wake up early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595080" y="1877760"/>
            <a:ext cx="10971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ительная и отрицательная формы  образуются без вспомогательных глагол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I help you?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'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dance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Не все модальные глаголы имеют формы будущего и прошедшего времён, и при их выражении заменяются на эквивален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595080" y="398520"/>
            <a:ext cx="10667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71680" y="570600"/>
            <a:ext cx="10960920" cy="38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Georgia1"/>
              </a:rPr>
              <a:t>Модальные глаголы можно разделить на </a:t>
            </a:r>
            <a:r>
              <a:rPr b="1" lang="en-US" sz="2800" spc="-1" strike="noStrike">
                <a:solidFill>
                  <a:srgbClr val="ffffff"/>
                </a:solidFill>
                <a:latin typeface="Georgia1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Georgia1"/>
              </a:rPr>
              <a:t> катего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Модальные глаголы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an/could, may/m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must, should, ought to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Эквиваленты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be able to,  be allowed 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to have to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Овал 1"/>
          <p:cNvSpPr/>
          <p:nvPr/>
        </p:nvSpPr>
        <p:spPr>
          <a:xfrm>
            <a:off x="3360600" y="20300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"/>
          <p:cNvSpPr/>
          <p:nvPr/>
        </p:nvSpPr>
        <p:spPr>
          <a:xfrm>
            <a:off x="3360600" y="35888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3"/>
          <p:cNvSpPr/>
          <p:nvPr/>
        </p:nvSpPr>
        <p:spPr>
          <a:xfrm>
            <a:off x="1843920" y="501012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люс 4"/>
          <p:cNvSpPr/>
          <p:nvPr/>
        </p:nvSpPr>
        <p:spPr>
          <a:xfrm>
            <a:off x="960120" y="1725840"/>
            <a:ext cx="719640" cy="696960"/>
          </a:xfrm>
          <a:prstGeom prst="mathPl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Минус 5"/>
          <p:cNvSpPr/>
          <p:nvPr/>
        </p:nvSpPr>
        <p:spPr>
          <a:xfrm>
            <a:off x="1604160" y="38736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Равно 6"/>
          <p:cNvSpPr/>
          <p:nvPr/>
        </p:nvSpPr>
        <p:spPr>
          <a:xfrm>
            <a:off x="4526640" y="24537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инус 7"/>
          <p:cNvSpPr/>
          <p:nvPr/>
        </p:nvSpPr>
        <p:spPr>
          <a:xfrm>
            <a:off x="1641960" y="235728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Минус 8"/>
          <p:cNvSpPr/>
          <p:nvPr/>
        </p:nvSpPr>
        <p:spPr>
          <a:xfrm>
            <a:off x="3238560" y="53568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Равно 9"/>
          <p:cNvSpPr/>
          <p:nvPr/>
        </p:nvSpPr>
        <p:spPr>
          <a:xfrm>
            <a:off x="5793840" y="400428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Равно 10"/>
          <p:cNvSpPr/>
          <p:nvPr/>
        </p:nvSpPr>
        <p:spPr>
          <a:xfrm>
            <a:off x="4964040" y="54255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инус 11"/>
          <p:cNvSpPr/>
          <p:nvPr/>
        </p:nvSpPr>
        <p:spPr>
          <a:xfrm>
            <a:off x="880200" y="3173760"/>
            <a:ext cx="799920" cy="683640"/>
          </a:xfrm>
          <a:prstGeom prst="mathMin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9432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662720" y="3411720"/>
            <a:ext cx="1135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Calibri"/>
              </a:rPr>
              <a:t>n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69120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99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045960" y="522000"/>
            <a:ext cx="6882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ВИДЫ ПРЕДЛОЖ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6966720" y="2038320"/>
            <a:ext cx="27032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7813080" y="3633120"/>
            <a:ext cx="3603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not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7469280" y="5387400"/>
            <a:ext cx="3581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n you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5206680" y="635760"/>
            <a:ext cx="1252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4"/>
                </a:solidFill>
                <a:latin typeface="Calibri"/>
              </a:rPr>
              <a:t>C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499400" y="1676520"/>
            <a:ext cx="10095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, ум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изическая или умственная способность, возможность совершать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abl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Таблица 6"/>
          <p:cNvGraphicFramePr/>
          <p:nvPr/>
        </p:nvGraphicFramePr>
        <p:xfrm>
          <a:off x="1769040" y="329148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bl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17" name="Прямоугольник 7"/>
          <p:cNvSpPr/>
          <p:nvPr/>
        </p:nvSpPr>
        <p:spPr>
          <a:xfrm>
            <a:off x="1499400" y="4620600"/>
            <a:ext cx="6581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ежливая просьба (не могли бы в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5209200" y="669960"/>
            <a:ext cx="143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402200" y="1593360"/>
            <a:ext cx="10141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, разреш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зрешение, просьба, возможность или предположение, выражает фактическую, разовую 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allowed 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Таблица 5"/>
          <p:cNvGraphicFramePr/>
          <p:nvPr/>
        </p:nvGraphicFramePr>
        <p:xfrm>
          <a:off x="1438200" y="340164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llowe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21" name="Прямоугольник 6"/>
          <p:cNvSpPr/>
          <p:nvPr/>
        </p:nvSpPr>
        <p:spPr>
          <a:xfrm>
            <a:off x="1757520" y="4554720"/>
            <a:ext cx="7488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ght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ель вероятности того, что что-то произойдёт, но с ещё большей неуверенностью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4"/>
          <p:cNvSpPr/>
          <p:nvPr/>
        </p:nvSpPr>
        <p:spPr>
          <a:xfrm>
            <a:off x="5099040" y="669960"/>
            <a:ext cx="1650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108800" y="1508400"/>
            <a:ext cx="1001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необходимость, обяз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Таблица 6"/>
          <p:cNvGraphicFramePr/>
          <p:nvPr/>
        </p:nvGraphicFramePr>
        <p:xfrm>
          <a:off x="1757520" y="3362400"/>
          <a:ext cx="8127720" cy="107208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hav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  <Words>548</Words>
  <Paragraphs>97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7:32:03Z</dcterms:created>
  <dc:creator>Марина</dc:creator>
  <dc:description/>
  <dc:language>en-US</dc:language>
  <cp:lastModifiedBy>User</cp:lastModifiedBy>
  <dcterms:modified xsi:type="dcterms:W3CDTF">2020-04-12T03:13:57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Произвольный</vt:lpwstr>
  </property>
  <property fmtid="{D5CDD505-2E9C-101B-9397-08002B2CF9AE}" pid="4" name="Slides">
    <vt:r8>15</vt:r8>
  </property>
</Properties>
</file>