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EDB4FF-6E69-4B95-9B82-799C1D933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DD2D56-C13D-4C9A-9C7C-5AA7E04F17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F55-C834-4444-81D3-92A1C885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65D-1726-467E-86A4-1BF329C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389-4F19-4BA6-9E0A-F40A5AB2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E57-D243-4E57-A1B6-53AA3F64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926-4FE3-467F-9BBF-63C77CE4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7B9B-0BE7-4E1A-AF78-B09B48E3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CB2B-89EF-42D1-89D3-E38B785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2A6B-22B1-4A15-86B2-DE8586BC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EAC-0135-4E51-A553-7226749C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4438-281C-4DAF-8EA9-67142F7B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7FDE-E99A-400C-8036-8CD332E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0E3-3BDC-40B2-8101-0E30BCAE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842A-86EB-424E-8AED-92B8FD70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CD11-AD3E-4564-A6B8-4F3DD47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4342-A697-47DB-B15C-BC03783E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344A-3991-4C71-B4AD-5DFCEF9C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B37-B0DD-43FF-82DE-EBB46978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5E5-FE05-455E-982C-56CBFCD6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D6F-A499-4CEF-9EB2-7D8C493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70B-88DA-478B-8E3B-9D5E3F22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CF0-9BA2-435D-90E7-09E9C848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338-D3FA-41B6-AD73-E026A99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254-545C-44AF-8436-FA74EFA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E4C-6596-48CA-8A1A-F18CBB0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D0034-D406-464A-A1A8-39B1CBACD84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2A42ED-4876-4ECD-8897-9018B953DBD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7800" y="4008600"/>
            <a:ext cx="43538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164960" y="752040"/>
            <a:ext cx="97455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Modal verbs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Black"/>
              </a:rPr>
              <a:t>(Модальные глаголы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4590000" y="669960"/>
            <a:ext cx="2691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Ought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1665000" y="1593360"/>
            <a:ext cx="97876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следу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моральный долг, желательность, настоятельный со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Таблица 6"/>
          <p:cNvGraphicFramePr/>
          <p:nvPr/>
        </p:nvGraphicFramePr>
        <p:xfrm>
          <a:off x="1665000" y="326592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4708800" y="2284200"/>
            <a:ext cx="2453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have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082160" y="3582360"/>
            <a:ext cx="9033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нужден, обя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потребляется для выражения долженствования и необходимости в зависимости от обстоятель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5090040" y="474120"/>
            <a:ext cx="1691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Ne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074600" y="1155600"/>
            <a:ext cx="988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1211760" y="1294200"/>
            <a:ext cx="9966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модальный глагол имеет только одну форму – настоящую. В утвердительном предложение он употребляется для выражения необходимости выполнения какого-либо действия, в то время, как в отрицательном предложении – отсутствия необход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805320" y="1526760"/>
            <a:ext cx="98233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стой инфинитив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а, в которой глагол даётся в словаре. Он показывает, что действие, выраженное им, одновременно действию, выраженному глаголом-сказуемым (или какой-либо ситуации), или следует за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 want to speak to him. It was pleasant to speak to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When they give you something, you must always say thank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I want you to give me som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333800" y="1112760"/>
            <a:ext cx="945396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фектный инфинитив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Perfect Infiniti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разуется при помощи инфинитива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have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третьей формы смыслового глагола: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o have invited, to have written, to have asked.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потребляется, чтобы выразить действие, которое предшествует действию, выраженному глаголом-сказуемым, или происходит ранее какой-либо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I am glad to have spoken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When I came up to the house there was no light in the windows. Everybody must have gone to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548640" y="1351440"/>
            <a:ext cx="106408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ut the verb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, may, must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____ we see on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you speak Spanish? — No, unfortunately I ____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what time ____ you come to colle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I come 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not smoke 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 take your book? — I am afraid not: I need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ve very little time: I ____ 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____ not go to the cinema today because they are bu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____ read this text: it is easy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4700520" y="706680"/>
            <a:ext cx="2447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4"/>
                </a:solidFill>
                <a:latin typeface="Arial"/>
              </a:rPr>
              <a:t>Exerci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80680" y="703080"/>
            <a:ext cx="1098684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Модальные глаголы – это глаголы, которые не выражают действия или состояния, а устанавливают  отношение между подлежащим и действием или состоянием, выраженным инфинитивом другого глаго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725760" y="522360"/>
            <a:ext cx="10827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725760" y="2220480"/>
            <a:ext cx="10958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ой глагол после модального пишется без частицы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"/>
              </a:rPr>
              <a:t>sw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имеют окончания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/-es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третьем лице, единственном числе настоящего времени (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ом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эквивалентов модальных глаголов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ve to, be to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wake up early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595080" y="1877760"/>
            <a:ext cx="10971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просительная и отрицательная формы  образуются без вспомогательных глагол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I help you?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 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'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dance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Не все модальные глаголы имеют формы будущего и прошедшего времён, и при их выражении заменяются на эквивален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95080" y="398520"/>
            <a:ext cx="10667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английском язы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71680" y="570600"/>
            <a:ext cx="10960920" cy="38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Модальные глаголы можно разделить на </a:t>
            </a:r>
            <a:r>
              <a:rPr b="1" lang="en-US" sz="2800" spc="-1" strike="noStrike">
                <a:solidFill>
                  <a:srgbClr val="ffffff"/>
                </a:solidFill>
                <a:latin typeface="Georgia1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Georgia1"/>
              </a:rPr>
              <a:t> категор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Модальные глаголы 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can/could, may/m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must, should, ought to</a:t>
            </a: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2.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Эквиваленты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– be able to,  be allowed 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o have to</a:t>
            </a: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Овал 1"/>
          <p:cNvSpPr/>
          <p:nvPr/>
        </p:nvSpPr>
        <p:spPr>
          <a:xfrm>
            <a:off x="3360600" y="20300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2"/>
          <p:cNvSpPr/>
          <p:nvPr/>
        </p:nvSpPr>
        <p:spPr>
          <a:xfrm>
            <a:off x="3360600" y="358884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"/>
          <p:cNvSpPr/>
          <p:nvPr/>
        </p:nvSpPr>
        <p:spPr>
          <a:xfrm>
            <a:off x="1843920" y="5010120"/>
            <a:ext cx="1165680" cy="673920"/>
          </a:xfrm>
          <a:prstGeom prst="ellipse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люс 4"/>
          <p:cNvSpPr/>
          <p:nvPr/>
        </p:nvSpPr>
        <p:spPr>
          <a:xfrm>
            <a:off x="960120" y="1725840"/>
            <a:ext cx="719640" cy="696960"/>
          </a:xfrm>
          <a:prstGeom prst="mathPl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Минус 5"/>
          <p:cNvSpPr/>
          <p:nvPr/>
        </p:nvSpPr>
        <p:spPr>
          <a:xfrm>
            <a:off x="1604160" y="38736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Равно 6"/>
          <p:cNvSpPr/>
          <p:nvPr/>
        </p:nvSpPr>
        <p:spPr>
          <a:xfrm>
            <a:off x="4526640" y="24537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инус 7"/>
          <p:cNvSpPr/>
          <p:nvPr/>
        </p:nvSpPr>
        <p:spPr>
          <a:xfrm>
            <a:off x="1641960" y="235728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Минус 8"/>
          <p:cNvSpPr/>
          <p:nvPr/>
        </p:nvSpPr>
        <p:spPr>
          <a:xfrm>
            <a:off x="3238560" y="5356800"/>
            <a:ext cx="1645560" cy="319680"/>
          </a:xfrm>
          <a:prstGeom prst="mathMinus">
            <a:avLst>
              <a:gd name="adj1" fmla="val 2352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0600" bIns="306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Равно 9"/>
          <p:cNvSpPr/>
          <p:nvPr/>
        </p:nvSpPr>
        <p:spPr>
          <a:xfrm>
            <a:off x="5793840" y="400428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Равно 10"/>
          <p:cNvSpPr/>
          <p:nvPr/>
        </p:nvSpPr>
        <p:spPr>
          <a:xfrm>
            <a:off x="4964040" y="5425560"/>
            <a:ext cx="1988640" cy="18252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инус 11"/>
          <p:cNvSpPr/>
          <p:nvPr/>
        </p:nvSpPr>
        <p:spPr>
          <a:xfrm>
            <a:off x="880200" y="3173760"/>
            <a:ext cx="799920" cy="68364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9432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662720" y="3411720"/>
            <a:ext cx="1135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Calibri"/>
              </a:rPr>
              <a:t>n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6912000" y="4793040"/>
            <a:ext cx="53748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0099ff"/>
                </a:solidFill>
                <a:latin typeface="Calibri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045960" y="522000"/>
            <a:ext cx="68821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ИДЫ ПРЕДЛОЖ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6966720" y="2038320"/>
            <a:ext cx="270324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7813080" y="3633120"/>
            <a:ext cx="3603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 can not sw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7469280" y="5387400"/>
            <a:ext cx="358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n you swi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3"/>
          <p:cNvSpPr/>
          <p:nvPr/>
        </p:nvSpPr>
        <p:spPr>
          <a:xfrm>
            <a:off x="5206680" y="635760"/>
            <a:ext cx="12524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soft">
                <a:rot lat="0" lon="0" rev="15600000"/>
              </a:lightRig>
            </a:scene3d>
            <a:sp3d extrusionH="57150" prstMaterial="softEdge">
              <a:bevelT w="25400" h="38100"/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4"/>
                </a:solidFill>
                <a:latin typeface="Calibri"/>
              </a:rPr>
              <a:t>C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499400" y="1676520"/>
            <a:ext cx="100954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гу, ум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изическая или умственная способность, возможность совершать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bl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Таблица 6"/>
          <p:cNvGraphicFramePr/>
          <p:nvPr/>
        </p:nvGraphicFramePr>
        <p:xfrm>
          <a:off x="1769040" y="329148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bl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17" name="Прямоугольник 7"/>
          <p:cNvSpPr/>
          <p:nvPr/>
        </p:nvSpPr>
        <p:spPr>
          <a:xfrm>
            <a:off x="1499400" y="4620600"/>
            <a:ext cx="65811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ежливая просьба (не могли бы в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209200" y="669960"/>
            <a:ext cx="1430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402200" y="1593360"/>
            <a:ext cx="101419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жно, разреш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азрешение, просьба, возможность или предположение, выражает фактическую, разовую 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allowed 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Таблица 5"/>
          <p:cNvGraphicFramePr/>
          <p:nvPr/>
        </p:nvGraphicFramePr>
        <p:xfrm>
          <a:off x="1438200" y="3401640"/>
          <a:ext cx="8127720" cy="91512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be allowe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121" name="Прямоугольник 6"/>
          <p:cNvSpPr/>
          <p:nvPr/>
        </p:nvSpPr>
        <p:spPr>
          <a:xfrm>
            <a:off x="1757520" y="4554720"/>
            <a:ext cx="7488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ght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казатель вероятности того, что что-то произойдёт, но с ещё большей неуверенностью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4"/>
          <p:cNvSpPr/>
          <p:nvPr/>
        </p:nvSpPr>
        <p:spPr>
          <a:xfrm>
            <a:off x="5099040" y="669960"/>
            <a:ext cx="1650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M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108800" y="1508400"/>
            <a:ext cx="1001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вод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лжен, 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е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ражает необходимость, обяза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виваленты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Таблица 6"/>
          <p:cNvGraphicFramePr/>
          <p:nvPr/>
        </p:nvGraphicFramePr>
        <p:xfrm>
          <a:off x="1757520" y="3362400"/>
          <a:ext cx="8127720" cy="1072080"/>
        </p:xfrm>
        <a:graphic>
          <a:graphicData uri="http://schemas.openxmlformats.org/drawingml/2006/table">
            <a:tbl>
              <a:tblPr/>
              <a:tblGrid>
                <a:gridCol w="2709000"/>
                <a:gridCol w="2709000"/>
                <a:gridCol w="2709000"/>
              </a:tblGrid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will have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  <Words>548</Words>
  <Paragraphs>97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7:32:03Z</dcterms:created>
  <dc:creator>Марина</dc:creator>
  <dc:description/>
  <dc:language>en-US</dc:language>
  <cp:lastModifiedBy>User</cp:lastModifiedBy>
  <dcterms:modified xsi:type="dcterms:W3CDTF">2020-04-12T03:13:57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