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gif" ContentType="image/gif"/>
  <Override PartName="/ppt/media/image8.wmf" ContentType="image/x-wmf"/>
  <Override PartName="/ppt/media/image12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18.wmf" ContentType="image/x-wmf"/>
  <Override PartName="/ppt/media/image5.jpeg" ContentType="image/jpeg"/>
  <Override PartName="/ppt/media/image17.wmf" ContentType="image/x-wmf"/>
  <Override PartName="/ppt/media/image6.gif" ContentType="image/gi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2E8-5C59-48C9-8EF7-E0BFF7FE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12B-C8AA-4BF0-8EF9-2E94BD5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03E-91E6-4AD6-95F6-3180680D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325-1637-4FE6-A4DD-125EE19E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2019-5D9B-4529-9086-EBA1D4A8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64D5-8C41-4E53-BDE0-CCCC3B33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2AEE-E36C-4C93-8744-F5A01C2D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897D-FBE6-42BF-B567-3B6B964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06E2-B5B1-4FB7-A63B-A757E25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F94E-E222-438F-BB65-CE2D5A5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34B-1728-45CB-AD30-F2FD604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EE-B92F-42CD-87B0-C4311EFE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939-2E16-4D01-88EC-3499830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5E3-3BE4-465E-A33A-F3A29BEE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CFAC-7D16-4332-B514-8657432A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0E57-E0E1-404C-8DB5-43C435B9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336C-F686-4138-BF1F-43E503E1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3664-BB99-4D32-8B97-BAF74AEF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23BB-120D-47D2-8F67-97DB4EA0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2E4F-7630-4783-9C28-78F2BB2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32E3-EA95-4CEF-8A03-228276B5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1037-E3B5-4462-BD1F-17CF7A6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40F-05EC-44EF-B021-B2753A30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0B24-1FF8-4363-BD74-8280D38D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671A-C40F-4EBB-BAE6-FCED568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C292-D162-4C94-933E-D233B3E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1D93-9D21-4738-B066-C21C47E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B050-D961-44FE-BC49-B623734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CC30-6822-44ED-BB2C-5251892E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A6570-6DB1-40A8-8559-6E18AE74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C81-412C-48C6-B0E6-B1EFA485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F21-E300-415A-9801-6749F6BD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66A-48B0-49A3-9C22-9D84C28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86B-60C3-4EBF-8966-E9040B2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BB2-25B9-432E-9676-98FFEA3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4F-67A5-4EFD-A171-9A28D78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A0B6CF-781F-4F9B-9FDB-D275E1009B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BC943-6665-4986-8608-C590D3846A5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AD5070-FE2D-441A-89A8-12F22BF1650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nbcmedia4.msn.com/j/msnbc/Components/Photos/050307/050307_bethe_vmed.grid-4x2.jpg" TargetMode="External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hyperlink" Target="http://upload.wikimedia.org/wikipedia/commons/5/59/Greenhouse_George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Bomba_atomowa.gif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hyperlink" Target="http://upload.wikimedia.org/wikipedia/commons/2/2c/Kernspaltung.svg" TargetMode="External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7695720" cy="67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ка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1907640" y="3357000"/>
            <a:ext cx="6192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Термоядерная реак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12080" y="260640"/>
            <a:ext cx="64141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нергия Солнца – это энер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моядерны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92240" y="3789000"/>
            <a:ext cx="251748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нс Б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6 –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риканский уч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белевская пре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6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6" descr="Картинка 2 из 2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7640" y="764640"/>
            <a:ext cx="2026440" cy="2952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66" name="Text Box 17"/>
          <p:cNvSpPr/>
          <p:nvPr/>
        </p:nvSpPr>
        <p:spPr>
          <a:xfrm>
            <a:off x="2915640" y="1484640"/>
            <a:ext cx="58669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одный цикл – цепочка из трех термоядерных реакций, приводящих к образованию гелия из вод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20"/>
          <p:cNvGraphicFramePr/>
          <p:nvPr/>
        </p:nvGraphicFramePr>
        <p:xfrm>
          <a:off x="3996000" y="2709000"/>
          <a:ext cx="3347640" cy="6170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6000" y="2709000"/>
                    <a:ext cx="334764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1"/>
          <p:cNvGraphicFramePr/>
          <p:nvPr/>
        </p:nvGraphicFramePr>
        <p:xfrm>
          <a:off x="3996000" y="3429000"/>
          <a:ext cx="3239640" cy="684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70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6000" y="3429000"/>
                    <a:ext cx="32396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2"/>
          <p:cNvGraphicFramePr/>
          <p:nvPr/>
        </p:nvGraphicFramePr>
        <p:xfrm>
          <a:off x="4140000" y="4293000"/>
          <a:ext cx="3598560" cy="5886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2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000" y="4293000"/>
                    <a:ext cx="3598560" cy="58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95640" y="1340640"/>
            <a:ext cx="8065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еакция слияния (синтеза) легких ядер (таких, как водород, гелий и др), происходящая при температурах порядка сотен миллионов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25920" y="404640"/>
            <a:ext cx="71748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Термоядерная реа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23640" y="5157360"/>
            <a:ext cx="8496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чему протекание термоядерных реакций возможно только при очень высоких температу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Fusion_Reaction"/>
          <p:cNvPicPr/>
          <p:nvPr/>
        </p:nvPicPr>
        <p:blipFill>
          <a:blip r:embed="rId1"/>
          <a:stretch/>
        </p:blipFill>
        <p:spPr>
          <a:xfrm>
            <a:off x="2123640" y="2853000"/>
            <a:ext cx="4320000" cy="216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ij kernfusie smelten lichte kernen samen tot zwaardere. Daarbij komt enorm veel energie vrij. "/>
          <p:cNvPicPr/>
          <p:nvPr/>
        </p:nvPicPr>
        <p:blipFill>
          <a:blip r:embed="rId1"/>
          <a:stretch/>
        </p:blipFill>
        <p:spPr>
          <a:xfrm>
            <a:off x="539640" y="1340640"/>
            <a:ext cx="3241440" cy="21380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0" name="Object 6"/>
          <p:cNvGraphicFramePr/>
          <p:nvPr/>
        </p:nvGraphicFramePr>
        <p:xfrm>
          <a:off x="3924000" y="1772640"/>
          <a:ext cx="4812840" cy="10267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000" y="1772640"/>
                    <a:ext cx="4812840" cy="102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440640" y="332640"/>
            <a:ext cx="8124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имер термоядерн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356000" y="3069000"/>
            <a:ext cx="39596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 идет с выделением эн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427640" y="4797360"/>
            <a:ext cx="45367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еакция была реализована в термоядерной бомбе и носила неуправляем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Файл:Greenhouse Georg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640" y="4077000"/>
            <a:ext cx="2160360" cy="236664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13" descr="Bomba atomowa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99640" y="4077000"/>
            <a:ext cx="1380600" cy="23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ij kernfusie smelten lichte kernen samen tot zwaardere. Daarbij komt enorm veel energie vrij. "/>
          <p:cNvPicPr/>
          <p:nvPr/>
        </p:nvPicPr>
        <p:blipFill>
          <a:blip r:embed="rId1"/>
          <a:stretch/>
        </p:blipFill>
        <p:spPr>
          <a:xfrm>
            <a:off x="539640" y="4149720"/>
            <a:ext cx="3024000" cy="19936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4356000" y="4581000"/>
          <a:ext cx="3816000" cy="8139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581000"/>
                    <a:ext cx="3816000" cy="81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4"/>
          <p:cNvSpPr/>
          <p:nvPr/>
        </p:nvSpPr>
        <p:spPr>
          <a:xfrm>
            <a:off x="503280" y="476280"/>
            <a:ext cx="817272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акая реакция энергетически более выго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в расчете на один нуклон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нтез легких ядер или деление тяжел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Файл:Kernspaltung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1989000"/>
            <a:ext cx="3096720" cy="18903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42" name="Object 6"/>
          <p:cNvGraphicFramePr/>
          <p:nvPr/>
        </p:nvGraphicFramePr>
        <p:xfrm>
          <a:off x="3564000" y="2565000"/>
          <a:ext cx="5346360" cy="75852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64000" y="2565000"/>
                    <a:ext cx="5346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838080" y="1845000"/>
            <a:ext cx="21409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нте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 г  ге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4000" y="1772640"/>
            <a:ext cx="46749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го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 вагонов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914364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равнение термоядерной энергии и энергии, выделяющейся при реакции гор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maximonline.bg/nuclear_fusion(1).gif"/>
          <p:cNvPicPr/>
          <p:nvPr/>
        </p:nvPicPr>
        <p:blipFill>
          <a:blip r:embed="rId1"/>
          <a:stretch/>
        </p:blipFill>
        <p:spPr>
          <a:xfrm>
            <a:off x="827640" y="3501000"/>
            <a:ext cx="2880000" cy="2325600"/>
          </a:xfrm>
          <a:prstGeom prst="rect">
            <a:avLst/>
          </a:prstGeom>
          <a:ln cap="sq" w="88900">
            <a:solidFill>
              <a:srgbClr val="1f497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8" name="Picture 1" descr=""/>
          <p:cNvPicPr/>
          <p:nvPr/>
        </p:nvPicPr>
        <p:blipFill>
          <a:blip r:embed="rId2"/>
          <a:srcRect l="57480" t="52490" r="18886" b="16000"/>
          <a:stretch/>
        </p:blipFill>
        <p:spPr>
          <a:xfrm>
            <a:off x="5220000" y="3429000"/>
            <a:ext cx="3120120" cy="2340000"/>
          </a:xfrm>
          <a:prstGeom prst="rect">
            <a:avLst/>
          </a:prstGeom>
          <a:ln cap="sq" w="88900">
            <a:solidFill>
              <a:srgbClr val="1f497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Img_termosintes-003"/>
          <p:cNvPicPr/>
          <p:nvPr/>
        </p:nvPicPr>
        <p:blipFill>
          <a:blip r:embed="rId1"/>
          <a:stretch/>
        </p:blipFill>
        <p:spPr>
          <a:xfrm>
            <a:off x="755640" y="2781000"/>
            <a:ext cx="3887280" cy="3061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0" name="Text Box 5"/>
          <p:cNvSpPr/>
          <p:nvPr/>
        </p:nvSpPr>
        <p:spPr>
          <a:xfrm>
            <a:off x="879480" y="10018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39640" y="260640"/>
            <a:ext cx="8136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правляемые термоядерные 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83640" y="1628640"/>
            <a:ext cx="108439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заключается основная трудность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уществлении термоядерных реакц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60000" y="3213000"/>
            <a:ext cx="417636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удерживать плазму в ограниченном пространстве без соприкосновения со стенками установки с помощью магнитно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179280" y="549360"/>
            <a:ext cx="89643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тановка ТОКАМАК для осуществления управляемого термоядерного 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7080" y="5164920"/>
            <a:ext cx="8964360" cy="13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КАМА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идальна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а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итны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ушк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Img_termosintes-00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411640" y="1617840"/>
            <a:ext cx="3744000" cy="2949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3"/>
          <p:cNvSpPr/>
          <p:nvPr/>
        </p:nvSpPr>
        <p:spPr>
          <a:xfrm>
            <a:off x="395280" y="459000"/>
            <a:ext cx="8462520" cy="136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ждународный экспериментальный термоядерный реактор 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6" descr="llewellin-smith"/>
          <p:cNvPicPr/>
          <p:nvPr/>
        </p:nvPicPr>
        <p:blipFill>
          <a:blip r:embed="rId1"/>
          <a:stretch/>
        </p:blipFill>
        <p:spPr>
          <a:xfrm>
            <a:off x="539640" y="1700640"/>
            <a:ext cx="4895280" cy="45360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9" name="Rectangle 138"/>
          <p:cNvSpPr/>
          <p:nvPr/>
        </p:nvSpPr>
        <p:spPr>
          <a:xfrm>
            <a:off x="5724360" y="2347200"/>
            <a:ext cx="341928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кция реактора ITER, строительство которого уже началось и должно по проекту закончиться к 2018 году. Мощность реактора должна составлять не менее 500 MВт. Для оценки размеров внизу на чертеже (справа) помещен силуэт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llewellin-smith"/>
          <p:cNvPicPr/>
          <p:nvPr/>
        </p:nvPicPr>
        <p:blipFill>
          <a:blip r:embed="rId1"/>
          <a:stretch/>
        </p:blipFill>
        <p:spPr>
          <a:xfrm>
            <a:off x="611640" y="1700640"/>
            <a:ext cx="8130960" cy="3277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61" name="Rectangle 8"/>
          <p:cNvSpPr/>
          <p:nvPr/>
        </p:nvSpPr>
        <p:spPr>
          <a:xfrm>
            <a:off x="179280" y="5013000"/>
            <a:ext cx="896436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нципу работы термоядерная электростанция похожа на обычные тепловые электростанции и отличается от них лишь конструкцией «печи» и типом топл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9200" y="692280"/>
            <a:ext cx="87778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рмоядерная электрост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  <Words>214</Words>
  <Paragraphs>35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2:59:09Z</dcterms:created>
  <dc:creator>Лариса Гончарова</dc:creator>
  <dc:description/>
  <dc:language>en-US</dc:language>
  <cp:lastModifiedBy>Admin</cp:lastModifiedBy>
  <dcterms:modified xsi:type="dcterms:W3CDTF">2020-04-16T17:23:0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