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gif" ContentType="image/gif"/>
  <Override PartName="/ppt/media/image8.wmf" ContentType="image/x-wmf"/>
  <Override PartName="/ppt/media/image12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18.wmf" ContentType="image/x-wmf"/>
  <Override PartName="/ppt/media/image5.jpeg" ContentType="image/jpeg"/>
  <Override PartName="/ppt/media/image17.wmf" ContentType="image/x-wmf"/>
  <Override PartName="/ppt/media/image6.gif" ContentType="image/gi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7A5-392C-4E8B-9FD3-155606C5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D8B-8FF0-4BA9-9B9E-921B4E1D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221-4D41-439E-AB47-6806AD72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C93-3372-47FE-8CE3-BD2D64DD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760B-4ADA-4071-ADCB-0A11722E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B722-95EA-44C0-AA06-E0600AF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B12-0242-4D58-B336-A015E22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4626-FA6D-4119-881A-0B4F9ED5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138-2781-46DA-B1C0-475436B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C4C-D767-43B3-8E1F-40C54BB5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B86F-9D41-45BF-A039-0691320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8FA-182C-4889-A090-B4A7A1C3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68B9-E50E-4F22-8A9C-3B393C1B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015-C7BA-43A7-A1FF-08E07FD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1EDF-547F-4787-8F02-CCCE19B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F30-0536-4B43-836D-2529ECDC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99D-074A-48BE-A7A5-15A5892B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0D3B-834E-4B9A-A688-4C0E1811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712A-4619-4795-91B1-4BE0E02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D79B-FA2A-4820-A519-598E747A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2CD8-3E36-4820-A566-CBE74B5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6835-5B4D-4A43-91F1-3BB9DC2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B67-24BF-47DB-A63D-E496BC4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D23D-4334-4031-BB20-B37DFE0A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3191-C30F-4327-B18D-98D7360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C57BB-922B-4686-BAA7-D877589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3CF7-22D6-4686-B49E-CF4F0E5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D660-1AAC-41B9-A74A-D9C7673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926C-6AF5-403E-B3B3-E8F64325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526E-C1DA-44A4-97A8-8426403E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E4D-07D6-4E16-B594-0AC77305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F82-2361-4C6B-A7ED-BFA995C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8D7-04F1-4730-83D5-A56E8B14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BEA-E7D5-4FF5-A5E7-6EA5A55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FAC-F92B-44C8-AF6D-835EE21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AF8-EA4C-41E0-89FC-ECBCF0F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E3562-D24B-41B0-9BE7-19B246ED41F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E74B9-6B91-4620-B6CA-6C090D0D53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11190-B237-42FE-8FA3-4F031C644B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nbcmedia4.msn.com/j/msnbc/Components/Photos/050307/050307_bethe_vmed.grid-4x2.jpg" TargetMode="External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hyperlink" Target="http://upload.wikimedia.org/wikipedia/commons/5/59/Greenhouse_George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Bomba_atomowa.gif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hyperlink" Target="http://upload.wikimedia.org/wikipedia/commons/2/2c/Kernspaltung.svg" TargetMode="External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7695720" cy="67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ка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1907640" y="3357000"/>
            <a:ext cx="6192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Термоядерная реак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12080" y="260640"/>
            <a:ext cx="64141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нергия Солнца – это энер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моядерны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92240" y="3789000"/>
            <a:ext cx="251748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нс Б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6 –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риканский уч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белевская пре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6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Картинка 2 из 2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7640" y="764640"/>
            <a:ext cx="202644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66" name="Text Box 17"/>
          <p:cNvSpPr/>
          <p:nvPr/>
        </p:nvSpPr>
        <p:spPr>
          <a:xfrm>
            <a:off x="2915640" y="1484640"/>
            <a:ext cx="58669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одный цикл – цепочка из трех термоядерных реакций, приводящих к образованию гелия из вод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20"/>
          <p:cNvGraphicFramePr/>
          <p:nvPr/>
        </p:nvGraphicFramePr>
        <p:xfrm>
          <a:off x="3996000" y="2709000"/>
          <a:ext cx="3347640" cy="6170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6000" y="2709000"/>
                    <a:ext cx="334764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1"/>
          <p:cNvGraphicFramePr/>
          <p:nvPr/>
        </p:nvGraphicFramePr>
        <p:xfrm>
          <a:off x="3996000" y="3429000"/>
          <a:ext cx="3239640" cy="684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7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6000" y="3429000"/>
                    <a:ext cx="32396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2"/>
          <p:cNvGraphicFramePr/>
          <p:nvPr/>
        </p:nvGraphicFramePr>
        <p:xfrm>
          <a:off x="4140000" y="4293000"/>
          <a:ext cx="3598560" cy="5886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2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000" y="4293000"/>
                    <a:ext cx="3598560" cy="58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5640" y="1340640"/>
            <a:ext cx="8065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еакция слияния (синтеза) легких ядер (таких, как водород, гелий и др), происходящая при температурах порядка сотен миллионов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25920" y="404640"/>
            <a:ext cx="71748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Термоядерная реа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23640" y="5157360"/>
            <a:ext cx="8496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протекание термоядерных реакций возможно только при очень высоких температу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Fusion_Reaction"/>
          <p:cNvPicPr/>
          <p:nvPr/>
        </p:nvPicPr>
        <p:blipFill>
          <a:blip r:embed="rId1"/>
          <a:stretch/>
        </p:blipFill>
        <p:spPr>
          <a:xfrm>
            <a:off x="2123640" y="2853000"/>
            <a:ext cx="4320000" cy="216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ij kernfusie smelten lichte kernen samen tot zwaardere. Daarbij komt enorm veel energie vrij. "/>
          <p:cNvPicPr/>
          <p:nvPr/>
        </p:nvPicPr>
        <p:blipFill>
          <a:blip r:embed="rId1"/>
          <a:stretch/>
        </p:blipFill>
        <p:spPr>
          <a:xfrm>
            <a:off x="539640" y="1340640"/>
            <a:ext cx="3241440" cy="21380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0" name="Object 6"/>
          <p:cNvGraphicFramePr/>
          <p:nvPr/>
        </p:nvGraphicFramePr>
        <p:xfrm>
          <a:off x="3924000" y="1772640"/>
          <a:ext cx="4812840" cy="10267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000" y="1772640"/>
                    <a:ext cx="4812840" cy="102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440640" y="332640"/>
            <a:ext cx="8124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мер термоядерн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356000" y="3069000"/>
            <a:ext cx="3959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 идет с выделением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427640" y="4797360"/>
            <a:ext cx="45367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еакция была реализована в термоядерной бомбе и носила неуправляем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Файл:Greenhouse Georg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640" y="4077000"/>
            <a:ext cx="2160360" cy="236664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13" descr="Bomba atomowa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99640" y="4077000"/>
            <a:ext cx="1380600" cy="23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ij kernfusie smelten lichte kernen samen tot zwaardere. Daarbij komt enorm veel energie vrij. "/>
          <p:cNvPicPr/>
          <p:nvPr/>
        </p:nvPicPr>
        <p:blipFill>
          <a:blip r:embed="rId1"/>
          <a:stretch/>
        </p:blipFill>
        <p:spPr>
          <a:xfrm>
            <a:off x="539640" y="4149720"/>
            <a:ext cx="3024000" cy="19936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4356000" y="4581000"/>
          <a:ext cx="3816000" cy="8139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581000"/>
                    <a:ext cx="3816000" cy="81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4"/>
          <p:cNvSpPr/>
          <p:nvPr/>
        </p:nvSpPr>
        <p:spPr>
          <a:xfrm>
            <a:off x="503280" y="476280"/>
            <a:ext cx="817272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ая реакция энергетически более выго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в расчете на один нуклон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нтез легких ядер или деление тяжел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Файл:Kernspaltung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1989000"/>
            <a:ext cx="3096720" cy="18903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42" name="Object 6"/>
          <p:cNvGraphicFramePr/>
          <p:nvPr/>
        </p:nvGraphicFramePr>
        <p:xfrm>
          <a:off x="3564000" y="2565000"/>
          <a:ext cx="5346360" cy="75852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64000" y="2565000"/>
                    <a:ext cx="5346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838080" y="1845000"/>
            <a:ext cx="21409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нт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 г  г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4000" y="1772640"/>
            <a:ext cx="46749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го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 вагонов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914364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равнение термоядерной энергии и энергии, выделяющейся при реакции гор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maximonline.bg/nuclear_fusion(1).gif"/>
          <p:cNvPicPr/>
          <p:nvPr/>
        </p:nvPicPr>
        <p:blipFill>
          <a:blip r:embed="rId1"/>
          <a:stretch/>
        </p:blipFill>
        <p:spPr>
          <a:xfrm>
            <a:off x="827640" y="3501000"/>
            <a:ext cx="2880000" cy="2325600"/>
          </a:xfrm>
          <a:prstGeom prst="rect">
            <a:avLst/>
          </a:prstGeom>
          <a:ln cap="sq" w="88900">
            <a:solidFill>
              <a:srgbClr val="1f497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8" name="Picture 1" descr=""/>
          <p:cNvPicPr/>
          <p:nvPr/>
        </p:nvPicPr>
        <p:blipFill>
          <a:blip r:embed="rId2"/>
          <a:srcRect l="57480" t="52490" r="18886" b="16000"/>
          <a:stretch/>
        </p:blipFill>
        <p:spPr>
          <a:xfrm>
            <a:off x="5220000" y="3429000"/>
            <a:ext cx="3120120" cy="2340000"/>
          </a:xfrm>
          <a:prstGeom prst="rect">
            <a:avLst/>
          </a:prstGeom>
          <a:ln cap="sq" w="88900">
            <a:solidFill>
              <a:srgbClr val="1f497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Img_termosintes-003"/>
          <p:cNvPicPr/>
          <p:nvPr/>
        </p:nvPicPr>
        <p:blipFill>
          <a:blip r:embed="rId1"/>
          <a:stretch/>
        </p:blipFill>
        <p:spPr>
          <a:xfrm>
            <a:off x="755640" y="2781000"/>
            <a:ext cx="3887280" cy="306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0" name="Text Box 5"/>
          <p:cNvSpPr/>
          <p:nvPr/>
        </p:nvSpPr>
        <p:spPr>
          <a:xfrm>
            <a:off x="879480" y="10018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39640" y="260640"/>
            <a:ext cx="8136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правляемые термоядерные 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83640" y="1628640"/>
            <a:ext cx="108439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заключается основная трудность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уществлении термоядерных реа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60000" y="3213000"/>
            <a:ext cx="417636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удерживать плазму в ограниченном пространстве без соприкосновения со стенками установки с помощью магнитно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79280" y="549360"/>
            <a:ext cx="89643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тановка ТОКАМАК для осуществления управляемого термоядерного 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7080" y="5164920"/>
            <a:ext cx="8964360" cy="13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КАМА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идальна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итны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уш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Img_termosintes-00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411640" y="1617840"/>
            <a:ext cx="3744000" cy="2949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3"/>
          <p:cNvSpPr/>
          <p:nvPr/>
        </p:nvSpPr>
        <p:spPr>
          <a:xfrm>
            <a:off x="395280" y="459000"/>
            <a:ext cx="8462520" cy="136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ждународный экспериментальный термоядерный реактор 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6" descr="llewellin-smith"/>
          <p:cNvPicPr/>
          <p:nvPr/>
        </p:nvPicPr>
        <p:blipFill>
          <a:blip r:embed="rId1"/>
          <a:stretch/>
        </p:blipFill>
        <p:spPr>
          <a:xfrm>
            <a:off x="539640" y="1700640"/>
            <a:ext cx="4895280" cy="453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9" name="Rectangle 138"/>
          <p:cNvSpPr/>
          <p:nvPr/>
        </p:nvSpPr>
        <p:spPr>
          <a:xfrm>
            <a:off x="5724360" y="2347200"/>
            <a:ext cx="341928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кция реактора ITER, строительство которого уже началось и должно по проекту закончиться к 2018 году. Мощность реактора должна составлять не менее 500 MВт. Для оценки размеров внизу на чертеже (справа) помещен силуэт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llewellin-smith"/>
          <p:cNvPicPr/>
          <p:nvPr/>
        </p:nvPicPr>
        <p:blipFill>
          <a:blip r:embed="rId1"/>
          <a:stretch/>
        </p:blipFill>
        <p:spPr>
          <a:xfrm>
            <a:off x="611640" y="1700640"/>
            <a:ext cx="8130960" cy="3277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61" name="Rectangle 8"/>
          <p:cNvSpPr/>
          <p:nvPr/>
        </p:nvSpPr>
        <p:spPr>
          <a:xfrm>
            <a:off x="179280" y="5013000"/>
            <a:ext cx="896436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нципу работы термоядерная электростанция похожа на обычные тепловые электростанции и отличается от них лишь конструкцией «печи» и типом топл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9200" y="692280"/>
            <a:ext cx="87778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рмоядерная электрост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  <Words>214</Words>
  <Paragraphs>35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2:59:09Z</dcterms:created>
  <dc:creator>Лариса Гончарова</dc:creator>
  <dc:description/>
  <dc:language>en-US</dc:language>
  <cp:lastModifiedBy>Admin</cp:lastModifiedBy>
  <dcterms:modified xsi:type="dcterms:W3CDTF">2020-04-16T17:23:0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