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0F1CE9-3E77-407B-B970-7956A956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1D853-E89C-4B34-A5E5-5C1743FA6E0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A23-6034-455F-ADC8-82DFDCEE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BED-8189-48AF-A1B6-6B532F8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EA-4064-49C5-AFFE-576CB712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69C-A95C-46A5-B2CD-6D68F2DF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3CF-FF2A-49AD-9B7F-61328A4A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C22A-EADA-4D5E-A3E5-91AAB13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21E-401D-4476-90C5-195B507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EFB-B303-4F2E-81B4-0E1B987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BE3E-9C82-4025-9E64-B79DCA91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DA7-F971-4073-944C-6EF179E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65EC-36FF-40C8-8DF6-52D41A3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AD5-669F-415B-8F2E-1EF9EC7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14E8-0833-475A-92CD-C52B6AF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CCD-AD8D-4CC1-AA56-974A16C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937B-B62E-4DD3-9E66-C3C6DCE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8A3-A6C4-40B4-89B0-883A14C6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72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10240" y="175248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72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10240" y="4037040"/>
            <a:ext cx="245340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4DB-DE84-48D5-B2A1-188EC16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B51-958E-4997-A292-6CF345F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768-E70C-492F-A406-90F09C5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D1C-F0CC-47EC-BD70-D1D0E0A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640"/>
            <a:ext cx="579096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14B-6AE7-4B9F-AA83-0DCD5E3F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87F-F4C0-41DD-A07D-4F420F80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1400" y="403704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0B1-5CFA-4ABE-A183-1C850F6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1400" y="1752480"/>
            <a:ext cx="3718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76197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1A6-8659-4E89-8455-4EAE58F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800" spc="-80" strike="noStrike" cap="all">
                <a:solidFill>
                  <a:srgbClr val="000000"/>
                </a:solidFill>
                <a:latin typeface="Arial Black"/>
              </a:rPr>
              <a:t>Образец заголовка</a:t>
            </a:r>
            <a:endParaRPr b="0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001080" y="4846320"/>
            <a:ext cx="142560" cy="20113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001080" y="0"/>
            <a:ext cx="142560" cy="48459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30FEE6-2801-43A7-A280-57CF81E0644C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1080" y="0"/>
            <a:ext cx="142560" cy="1371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001080" y="1371600"/>
            <a:ext cx="142560" cy="54860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d1282e"/>
                </a:solidFill>
                <a:latin typeface="Arial Black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619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d1282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172200"/>
            <a:ext cx="3428640" cy="30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492960"/>
            <a:ext cx="3428640" cy="2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5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1930DE-A169-4717-BC84-D9321369C1B3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80" strike="noStrike" cap="all">
                <a:solidFill>
                  <a:srgbClr val="000000"/>
                </a:solidFill>
                <a:latin typeface="Arial Black"/>
              </a:rPr>
              <a:t>Перспектива.</a:t>
            </a:r>
            <a:br>
              <a:rPr sz="3200"/>
            </a:br>
            <a:r>
              <a:rPr b="1" lang="ru-RU" sz="3200" spc="-80" strike="noStrike" cap="all">
                <a:solidFill>
                  <a:srgbClr val="000000"/>
                </a:solidFill>
                <a:latin typeface="Arial Black"/>
              </a:rPr>
              <a:t> Построение объектов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71800" y="5500800"/>
            <a:ext cx="69102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117" strike="noStrike" cap="all">
                <a:solidFill>
                  <a:srgbClr val="000000"/>
                </a:solidFill>
                <a:latin typeface="Arial Black"/>
              </a:rPr>
              <a:t>Работу выполнила:Аникина Алина,группа – П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117" strike="noStrike" cap="all">
                <a:solidFill>
                  <a:srgbClr val="000000"/>
                </a:solidFill>
                <a:latin typeface="Arial Black"/>
              </a:rPr>
              <a:t>Педагог – Платонова Н.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52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Куб во фронтальной и угловой перспектив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721800" y="947880"/>
            <a:ext cx="2965320" cy="5213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4766760" y="947880"/>
            <a:ext cx="3654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640" y="18864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Ваза на горизонтальной плоскости</a:t>
            </a:r>
            <a:br>
              <a:rPr sz="18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"/>
          <p:cNvPicPr/>
          <p:nvPr/>
        </p:nvPicPr>
        <p:blipFill>
          <a:blip r:embed="rId1"/>
          <a:stretch/>
        </p:blipFill>
        <p:spPr>
          <a:xfrm>
            <a:off x="680400" y="1723680"/>
            <a:ext cx="3169080" cy="42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"/>
          <p:cNvPicPr/>
          <p:nvPr/>
        </p:nvPicPr>
        <p:blipFill>
          <a:blip r:embed="rId2"/>
          <a:stretch/>
        </p:blipFill>
        <p:spPr>
          <a:xfrm>
            <a:off x="4905000" y="1723680"/>
            <a:ext cx="3169080" cy="42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5640" y="0"/>
            <a:ext cx="5790960" cy="13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Сту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1043640" y="1556640"/>
            <a:ext cx="7025400" cy="45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5280" y="192240"/>
            <a:ext cx="6948000" cy="76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60" strike="noStrike" cap="all">
                <a:solidFill>
                  <a:srgbClr val="000000"/>
                </a:solidFill>
                <a:latin typeface="Arial Black"/>
              </a:rPr>
              <a:t>Построение куба, шестигранника и пирамиды.</a:t>
            </a:r>
            <a:br>
              <a:rPr sz="1800"/>
            </a:br>
            <a:r>
              <a:rPr b="0" lang="ru-RU" sz="1800" spc="-60" strike="noStrike" cap="all">
                <a:solidFill>
                  <a:srgbClr val="000000"/>
                </a:solidFill>
                <a:latin typeface="Arial Black"/>
              </a:rPr>
              <a:t>Светот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8" descr=""/>
          <p:cNvPicPr/>
          <p:nvPr/>
        </p:nvPicPr>
        <p:blipFill>
          <a:blip r:embed="rId1"/>
          <a:stretch/>
        </p:blipFill>
        <p:spPr>
          <a:xfrm>
            <a:off x="103680" y="945000"/>
            <a:ext cx="2883600" cy="4063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"/>
          <p:cNvPicPr/>
          <p:nvPr/>
        </p:nvPicPr>
        <p:blipFill>
          <a:blip r:embed="rId2"/>
          <a:stretch/>
        </p:blipFill>
        <p:spPr>
          <a:xfrm>
            <a:off x="6329160" y="764640"/>
            <a:ext cx="2646000" cy="3528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3"/>
          <a:stretch/>
        </p:blipFill>
        <p:spPr>
          <a:xfrm>
            <a:off x="2970360" y="3742920"/>
            <a:ext cx="4069440" cy="30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040" cy="83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Линейный</a:t>
            </a:r>
            <a:r>
              <a:rPr b="0" lang="ru-RU" sz="2000" spc="-60" strike="noStrike" cap="all">
                <a:solidFill>
                  <a:srgbClr val="d1282e"/>
                </a:solidFill>
                <a:latin typeface="Arial Black"/>
              </a:rPr>
              <a:t> </a:t>
            </a:r>
            <a:r>
              <a:rPr b="0" lang="ru-RU" sz="2000" spc="-60" strike="noStrike" cap="all">
                <a:solidFill>
                  <a:srgbClr val="000000"/>
                </a:solidFill>
                <a:latin typeface="Arial Black"/>
              </a:rPr>
              <a:t>рисунок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1"/>
          <a:stretch/>
        </p:blipFill>
        <p:spPr>
          <a:xfrm>
            <a:off x="899640" y="1412640"/>
            <a:ext cx="3528000" cy="4622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"/>
          <p:cNvPicPr/>
          <p:nvPr/>
        </p:nvPicPr>
        <p:blipFill>
          <a:blip r:embed="rId2"/>
          <a:stretch/>
        </p:blipFill>
        <p:spPr>
          <a:xfrm>
            <a:off x="5034600" y="1412640"/>
            <a:ext cx="2921400" cy="46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09028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Спасибо</a:t>
            </a:r>
            <a:br>
              <a:rPr sz="3600"/>
            </a:b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за</a:t>
            </a:r>
            <a:br>
              <a:rPr sz="3600"/>
            </a:br>
            <a:r>
              <a:rPr b="0" lang="ru-RU" sz="3600" spc="-60" strike="noStrike" cap="all">
                <a:solidFill>
                  <a:srgbClr val="000000"/>
                </a:solidFill>
                <a:latin typeface="Arial Black"/>
              </a:rPr>
              <a:t>внимание!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лавная">
  <a:themeElements>
    <a:clrScheme name="Главная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ая">
  <a:themeElements>
    <a:clrScheme name="Главная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ssential</Template>
  <TotalTime>36</TotalTime>
  <Application>LibreOffice/7.4.7.2$Linux_X86_64 LibreOffice_project/40$Build-2</Application>
  <AppVersion>15.0000</AppVersion>
  <Words>36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21:31:21Z</dcterms:created>
  <dc:creator>user</dc:creator>
  <dc:description/>
  <dc:language>en-US</dc:language>
  <cp:lastModifiedBy>anomalyanimal@outlook.com</cp:lastModifiedBy>
  <dcterms:modified xsi:type="dcterms:W3CDTF">2020-04-16T19:14:54Z</dcterms:modified>
  <cp:revision>9</cp:revision>
  <dc:subject/>
  <dc:title>Перспектива.  Построение объе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