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18864A-F9A1-435E-8446-AF3F71CDF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19CF74-DE65-4DAA-861D-71AB4BB948F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5A37-BCFF-4B14-849B-F2195212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6197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76197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59C-DA43-4996-A1CE-6C7A9073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3614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6ADE-8294-47D5-B180-1DCB0F6B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33720" y="175248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10240" y="175248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33720" y="403704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10240" y="403704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A307-3699-4F63-850D-212F9A63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35EE-8325-49B4-9510-B6B57ACC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761976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0B61-54F0-432E-8BFC-16DA2500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61976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55A2-2C6A-473F-AAA2-B850CE58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86E2-CB1B-4618-ABDB-8BED0E7E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678A-7D51-46DB-8F61-6B20052A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2640"/>
            <a:ext cx="5790960" cy="63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E9FB-2DD3-43D4-AE95-DD72CE6D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49E9-CCFE-45D0-A998-0987E8C2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761976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6839-EB33-4E08-9BD8-5D14E77A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614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BDA4-2A2E-47EF-A43A-164AE77D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76197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E4D4-7B31-4CEC-9CA7-DAE5F767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6197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76197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D245-F527-4FD0-B0A6-891AA35F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614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EABF-0CCB-404F-B7EA-89C0FE81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720" y="175248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10240" y="175248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720" y="403704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10240" y="403704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426F-B27C-4A72-BAE1-1F5D015D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61976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6CE-0DF2-4BD1-811F-A3D49602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1DAB-5403-4886-B850-F17D68E9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F09D-D1E3-4E39-9379-CC056CBA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640"/>
            <a:ext cx="5790960" cy="63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4D43-0217-4A45-A5AE-0C4C365B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DBE4-52B3-4BF6-9778-AC8B2D19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14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B298-CBB2-4FD0-8ED3-2FFD21B4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76197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7563-24D4-41D7-BD82-2C6A0339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9001080" y="0"/>
            <a:ext cx="142560" cy="13712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9001080" y="1371600"/>
            <a:ext cx="142560" cy="54860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8800" spc="-80" strike="noStrike" cap="all">
                <a:solidFill>
                  <a:srgbClr val="000000"/>
                </a:solidFill>
                <a:latin typeface="Arial Black"/>
              </a:rPr>
              <a:t>Образец заголовка</a:t>
            </a:r>
            <a:endParaRPr b="0" lang="ru-RU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172200"/>
            <a:ext cx="3428640" cy="30456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457200" y="6492960"/>
            <a:ext cx="3428640" cy="2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001080" y="4846320"/>
            <a:ext cx="142560" cy="201132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9001080" y="0"/>
            <a:ext cx="142560" cy="48459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5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B61F125-E0FB-4921-86B7-1B6BC25438C1}" type="slidenum">
              <a:rPr b="1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9001080" y="0"/>
            <a:ext cx="142560" cy="13712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9001080" y="1371600"/>
            <a:ext cx="142560" cy="54860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60" strike="noStrike" cap="all">
                <a:solidFill>
                  <a:srgbClr val="d1282e"/>
                </a:solidFill>
                <a:latin typeface="Arial Black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76197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880">
              <a:lnSpc>
                <a:spcPct val="100000"/>
              </a:lnSpc>
              <a:spcBef>
                <a:spcPts val="400"/>
              </a:spcBef>
              <a:buClr>
                <a:srgbClr val="d1282e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d1282e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d1282e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d1282e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7200" y="6172200"/>
            <a:ext cx="3428640" cy="30456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57200" y="6492960"/>
            <a:ext cx="3428640" cy="2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5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2400" spc="-1" strike="noStrike">
                <a:solidFill>
                  <a:srgbClr val="d1282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BECFD3E-F2EB-40B8-BB45-B40DA0343829}" type="slidenum">
              <a:rPr b="1" lang="en-US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80" strike="noStrike" cap="all">
                <a:solidFill>
                  <a:srgbClr val="000000"/>
                </a:solidFill>
                <a:latin typeface="Arial Black"/>
              </a:rPr>
              <a:t>Перспектива.</a:t>
            </a:r>
            <a:br>
              <a:rPr sz="3200"/>
            </a:br>
            <a:r>
              <a:rPr b="1" lang="ru-RU" sz="3200" spc="-80" strike="noStrike" cap="all">
                <a:solidFill>
                  <a:srgbClr val="000000"/>
                </a:solidFill>
                <a:latin typeface="Arial Black"/>
              </a:rPr>
              <a:t> Построение объектов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071800" y="5500800"/>
            <a:ext cx="69102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000" spc="117" strike="noStrike" cap="all">
                <a:solidFill>
                  <a:srgbClr val="000000"/>
                </a:solidFill>
                <a:latin typeface="Arial Black"/>
              </a:rPr>
              <a:t>Работу выполнила:Аникина Алина,группа – П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000" spc="117" strike="noStrike" cap="all">
                <a:solidFill>
                  <a:srgbClr val="000000"/>
                </a:solidFill>
                <a:latin typeface="Arial Black"/>
              </a:rPr>
              <a:t>Педагог – Платонова Н.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86520" cy="51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60" strike="noStrike" cap="all">
                <a:solidFill>
                  <a:srgbClr val="000000"/>
                </a:solidFill>
                <a:latin typeface="Arial Black"/>
              </a:rPr>
              <a:t>Куб во фронтальной и угловой перспективе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6" descr=""/>
          <p:cNvPicPr/>
          <p:nvPr/>
        </p:nvPicPr>
        <p:blipFill>
          <a:blip r:embed="rId1"/>
          <a:stretch/>
        </p:blipFill>
        <p:spPr>
          <a:xfrm>
            <a:off x="721800" y="947880"/>
            <a:ext cx="2965320" cy="52131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"/>
          <p:cNvPicPr/>
          <p:nvPr/>
        </p:nvPicPr>
        <p:blipFill>
          <a:blip r:embed="rId2"/>
          <a:stretch/>
        </p:blipFill>
        <p:spPr>
          <a:xfrm>
            <a:off x="4766760" y="947880"/>
            <a:ext cx="36547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5640" y="188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60" strike="noStrike" cap="all">
                <a:solidFill>
                  <a:srgbClr val="000000"/>
                </a:solidFill>
                <a:latin typeface="Arial Black"/>
              </a:rPr>
              <a:t>Ваза на горизонтальной плоскости</a:t>
            </a:r>
            <a:br>
              <a:rPr sz="18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6" descr=""/>
          <p:cNvPicPr/>
          <p:nvPr/>
        </p:nvPicPr>
        <p:blipFill>
          <a:blip r:embed="rId1"/>
          <a:stretch/>
        </p:blipFill>
        <p:spPr>
          <a:xfrm>
            <a:off x="680400" y="1723680"/>
            <a:ext cx="3169080" cy="42253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8" descr=""/>
          <p:cNvPicPr/>
          <p:nvPr/>
        </p:nvPicPr>
        <p:blipFill>
          <a:blip r:embed="rId2"/>
          <a:stretch/>
        </p:blipFill>
        <p:spPr>
          <a:xfrm>
            <a:off x="4905000" y="1723680"/>
            <a:ext cx="3169080" cy="42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5640" y="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60" strike="noStrike" cap="all">
                <a:solidFill>
                  <a:srgbClr val="000000"/>
                </a:solidFill>
                <a:latin typeface="Arial Black"/>
              </a:rPr>
              <a:t>Стул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6" descr=""/>
          <p:cNvPicPr/>
          <p:nvPr/>
        </p:nvPicPr>
        <p:blipFill>
          <a:blip r:embed="rId1"/>
          <a:stretch/>
        </p:blipFill>
        <p:spPr>
          <a:xfrm>
            <a:off x="1043640" y="1556640"/>
            <a:ext cx="7025400" cy="456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65280" y="192240"/>
            <a:ext cx="6948000" cy="76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800" spc="-60" strike="noStrike" cap="all">
                <a:solidFill>
                  <a:srgbClr val="000000"/>
                </a:solidFill>
                <a:latin typeface="Arial Black"/>
              </a:rPr>
              <a:t>Построение куба, шестигранника и пирамиды.</a:t>
            </a:r>
            <a:br>
              <a:rPr sz="1800"/>
            </a:br>
            <a:r>
              <a:rPr b="0" lang="ru-RU" sz="1800" spc="-60" strike="noStrike" cap="all">
                <a:solidFill>
                  <a:srgbClr val="000000"/>
                </a:solidFill>
                <a:latin typeface="Arial Black"/>
              </a:rPr>
              <a:t>Светот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8" descr=""/>
          <p:cNvPicPr/>
          <p:nvPr/>
        </p:nvPicPr>
        <p:blipFill>
          <a:blip r:embed="rId1"/>
          <a:stretch/>
        </p:blipFill>
        <p:spPr>
          <a:xfrm>
            <a:off x="103680" y="945000"/>
            <a:ext cx="2883600" cy="40636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0" descr=""/>
          <p:cNvPicPr/>
          <p:nvPr/>
        </p:nvPicPr>
        <p:blipFill>
          <a:blip r:embed="rId2"/>
          <a:stretch/>
        </p:blipFill>
        <p:spPr>
          <a:xfrm>
            <a:off x="6329160" y="764640"/>
            <a:ext cx="2646000" cy="35280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2" descr=""/>
          <p:cNvPicPr/>
          <p:nvPr/>
        </p:nvPicPr>
        <p:blipFill>
          <a:blip r:embed="rId3"/>
          <a:stretch/>
        </p:blipFill>
        <p:spPr>
          <a:xfrm>
            <a:off x="2970360" y="3742920"/>
            <a:ext cx="4069440" cy="305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7160" y="142920"/>
            <a:ext cx="7772040" cy="83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60" strike="noStrike" cap="all">
                <a:solidFill>
                  <a:srgbClr val="000000"/>
                </a:solidFill>
                <a:latin typeface="Arial Black"/>
              </a:rPr>
              <a:t>Линейный</a:t>
            </a:r>
            <a:r>
              <a:rPr b="0" lang="ru-RU" sz="2000" spc="-60" strike="noStrike" cap="all">
                <a:solidFill>
                  <a:srgbClr val="d1282e"/>
                </a:solidFill>
                <a:latin typeface="Arial Black"/>
              </a:rPr>
              <a:t> </a:t>
            </a:r>
            <a:r>
              <a:rPr b="0" lang="ru-RU" sz="2000" spc="-60" strike="noStrike" cap="all">
                <a:solidFill>
                  <a:srgbClr val="000000"/>
                </a:solidFill>
                <a:latin typeface="Arial Black"/>
              </a:rPr>
              <a:t>рисунок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7" descr=""/>
          <p:cNvPicPr/>
          <p:nvPr/>
        </p:nvPicPr>
        <p:blipFill>
          <a:blip r:embed="rId1"/>
          <a:stretch/>
        </p:blipFill>
        <p:spPr>
          <a:xfrm>
            <a:off x="899640" y="1412640"/>
            <a:ext cx="3528000" cy="46220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1" descr=""/>
          <p:cNvPicPr/>
          <p:nvPr/>
        </p:nvPicPr>
        <p:blipFill>
          <a:blip r:embed="rId2"/>
          <a:stretch/>
        </p:blipFill>
        <p:spPr>
          <a:xfrm>
            <a:off x="5034600" y="1412640"/>
            <a:ext cx="2921400" cy="462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7640" y="620640"/>
            <a:ext cx="809028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60" strike="noStrike" cap="all">
                <a:solidFill>
                  <a:srgbClr val="000000"/>
                </a:solidFill>
                <a:latin typeface="Arial Black"/>
              </a:rPr>
              <a:t>Спасибо</a:t>
            </a:r>
            <a:br>
              <a:rPr sz="3600"/>
            </a:br>
            <a:r>
              <a:rPr b="0" lang="ru-RU" sz="3600" spc="-60" strike="noStrike" cap="all">
                <a:solidFill>
                  <a:srgbClr val="000000"/>
                </a:solidFill>
                <a:latin typeface="Arial Black"/>
              </a:rPr>
              <a:t>за</a:t>
            </a:r>
            <a:br>
              <a:rPr sz="3600"/>
            </a:br>
            <a:r>
              <a:rPr b="0" lang="ru-RU" sz="3600" spc="-60" strike="noStrike" cap="all">
                <a:solidFill>
                  <a:srgbClr val="000000"/>
                </a:solidFill>
                <a:latin typeface="Arial Black"/>
              </a:rPr>
              <a:t>внимание! 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Главная">
  <a:themeElements>
    <a:clrScheme name="Главная">
      <a:dk1>
        <a:srgbClr val="000000"/>
      </a:dk1>
      <a:lt1>
        <a:srgbClr val="ffffff"/>
      </a:lt1>
      <a:dk2>
        <a:srgbClr val="d1282e"/>
      </a:dk2>
      <a:lt2>
        <a:srgbClr val="c8c8b1"/>
      </a:lt2>
      <a:accent1>
        <a:srgbClr val="7a7a7a"/>
      </a:accent1>
      <a:accent2>
        <a:srgbClr val="f5c201"/>
      </a:accent2>
      <a:accent3>
        <a:srgbClr val="526db0"/>
      </a:accent3>
      <a:accent4>
        <a:srgbClr val="989aac"/>
      </a:accent4>
      <a:accent5>
        <a:srgbClr val="dc5924"/>
      </a:accent5>
      <a:accent6>
        <a:srgbClr val="b4b392"/>
      </a:accent6>
      <a:hlink>
        <a:srgbClr val="cc9900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лавная">
  <a:themeElements>
    <a:clrScheme name="Главная">
      <a:dk1>
        <a:srgbClr val="000000"/>
      </a:dk1>
      <a:lt1>
        <a:srgbClr val="ffffff"/>
      </a:lt1>
      <a:dk2>
        <a:srgbClr val="d1282e"/>
      </a:dk2>
      <a:lt2>
        <a:srgbClr val="c8c8b1"/>
      </a:lt2>
      <a:accent1>
        <a:srgbClr val="7a7a7a"/>
      </a:accent1>
      <a:accent2>
        <a:srgbClr val="f5c201"/>
      </a:accent2>
      <a:accent3>
        <a:srgbClr val="526db0"/>
      </a:accent3>
      <a:accent4>
        <a:srgbClr val="989aac"/>
      </a:accent4>
      <a:accent5>
        <a:srgbClr val="dc5924"/>
      </a:accent5>
      <a:accent6>
        <a:srgbClr val="b4b392"/>
      </a:accent6>
      <a:hlink>
        <a:srgbClr val="cc9900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d1282e"/>
      </a:dk2>
      <a:lt2>
        <a:srgbClr val="c8c8b1"/>
      </a:lt2>
      <a:accent1>
        <a:srgbClr val="7a7a7a"/>
      </a:accent1>
      <a:accent2>
        <a:srgbClr val="f5c201"/>
      </a:accent2>
      <a:accent3>
        <a:srgbClr val="526db0"/>
      </a:accent3>
      <a:accent4>
        <a:srgbClr val="989aac"/>
      </a:accent4>
      <a:accent5>
        <a:srgbClr val="dc5924"/>
      </a:accent5>
      <a:accent6>
        <a:srgbClr val="b4b392"/>
      </a:accent6>
      <a:hlink>
        <a:srgbClr val="cc9900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ssential</Template>
  <TotalTime>36</TotalTime>
  <Application>LibreOffice/7.4.7.2$Linux_X86_64 LibreOffice_project/40$Build-2</Application>
  <AppVersion>15.0000</AppVersion>
  <Words>36</Words>
  <Paragraphs>1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4T21:31:21Z</dcterms:created>
  <dc:creator>user</dc:creator>
  <dc:description/>
  <dc:language>en-US</dc:language>
  <cp:lastModifiedBy>anomalyanimal@outlook.com</cp:lastModifiedBy>
  <dcterms:modified xsi:type="dcterms:W3CDTF">2020-04-16T19:14:54Z</dcterms:modified>
  <cp:revision>9</cp:revision>
  <dc:subject/>
  <dc:title>Перспектива.  Построение объекто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7</vt:r8>
  </property>
</Properties>
</file>