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042-C7AF-4249-9FFB-1D62A197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537-97FD-4862-B887-763C338F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75E-9043-4FD2-B63C-9740D449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60E-E25B-47B9-8171-1E26611C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E6A-16D7-41EB-9B86-89BDEF6C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447-50B4-44D4-B2CE-2C9642FC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AF5-D1AB-4553-9757-54A403E8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1A2-5FF4-4C4A-BDA4-F340B9F5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B56-221A-4892-8BAD-D405A45B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328-1CB0-482B-A25A-137A1FB4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75F-0674-4752-8B36-8604284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6F4-89FE-4248-8C2A-128E3273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972-72D2-4E96-A612-EA61CE71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uture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Simple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something else happene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will have done all the shopping before the supermarket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a specific time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welve o’clock, I will have tidied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1440" y="22766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2565360"/>
            <a:ext cx="136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il/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7080" y="328464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080" y="472428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84200" y="491004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n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Contin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70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emphasise the duration of an action up to a certain time in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y the end of May, Jill will have been living there for 15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3640" y="206064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7440" y="4365720"/>
            <a:ext cx="232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re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4160" y="458136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wo years’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9800" y="20606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...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ues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040" y="2565360"/>
            <a:ext cx="201420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16600" y="2565360"/>
            <a:ext cx="236448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29680" y="2565360"/>
            <a:ext cx="216792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use the Future Simple to talk abo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re will be more deserts in the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ake you with me nex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ell your friends abou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se bags look heavy. I’ll carry some for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l you help we with the cl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at the time of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ions are not on the list, but I will get 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be going to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lans and arrragments for the fu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going to plant some trees in my g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thing we know is going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’s very tired. He is going to fall asleep very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now on, I’m not going to throw away paper with the other rubb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8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7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6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52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9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0720" y="2205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8720" y="3429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1640" y="472428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7440" y="2421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4724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1880" y="2565360"/>
            <a:ext cx="2581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06360" y="2565360"/>
            <a:ext cx="30960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/she/it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/you/they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12600" y="2565360"/>
            <a:ext cx="27349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you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7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Continuous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that will be in progress at a specific time in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time toworrow, I will be travelling to M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’t phone me at four o’clock because I’ll be having a res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77336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four o’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5800" y="335772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6520" y="234936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4365720"/>
            <a:ext cx="20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6920" y="46227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00"/>
                            </p:stCondLst>
                            <p:childTnLst>
                              <p:par>
                                <p:cTn id="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1:47Z</dcterms:modified>
  <cp:revision>36</cp:revision>
  <dc:subject/>
  <dc:title>Present Tenses</dc:title>
</cp:coreProperties>
</file>