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F9E-122A-478E-9E30-818D4DC4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D84-D6FE-46DF-83F1-24118C8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EAA-FF7D-4917-BE65-17FAB450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627-985B-49CD-BD80-96532DD1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78F-2B94-46B4-8FF7-8B0EC10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BC6-B0E2-47C9-B50B-C121704C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D21-C59A-4D46-A46D-68399064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167-E7EF-4CCA-AECE-D7288742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887-8D06-4FB4-A73C-F042F52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0E2-F37E-43DB-A260-961C0948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01E-C7ED-45F3-B733-A6B5183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931-8DB0-4AE8-8C7A-75C81E1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CFF-7661-4BCA-96F3-AC7532BC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uture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Simple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something else happened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will have done all the shopping before the supermarket cl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 that will be finished before a specific time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welve o’clock, I will have tidied the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01440" y="227664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2565360"/>
            <a:ext cx="136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l/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7080" y="3284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5080" y="472428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84200" y="491004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n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Contini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been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70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Perfec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77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emphasise the duration of an action up to a certain time in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By the end of May, Jill will have been living there for 15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3640" y="206064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7440" y="4365720"/>
            <a:ext cx="232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re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ex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4160" y="458136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wo years’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9800" y="206064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long ...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ues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2040" y="2565360"/>
            <a:ext cx="201420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16600" y="2565360"/>
            <a:ext cx="236448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29680" y="2565360"/>
            <a:ext cx="2167920" cy="128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use the Future Simple to talk abo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re will be more deserts in the fu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ake you with me nex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’ll tell your friends abou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se bags look heavy. I’ll carry som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ll you help we with the clea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at the time of spe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ions are not on the list, but I will get 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Going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be going to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lans and arrragments for the fu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going to plant some trees in my 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thing we know is going 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’s very tired. He is going to fall asleep very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6496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now on, I’m not going to throw away paper with the other rubb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8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76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7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52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9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 expressions wit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uture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60720" y="220500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8720" y="3429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1640" y="472428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7440" y="2421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5800" y="472428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1880" y="2565360"/>
            <a:ext cx="2581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06360" y="2565360"/>
            <a:ext cx="30960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/she/it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/you/they will not b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12600" y="2565360"/>
            <a:ext cx="27349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you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be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7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uture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use the Future Continuous to talk abo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that will be in progress at a specific time in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s time toworrow, I will be travelling to M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’t phone me at four o’clock because I’ll be having a rest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Expressions with the Future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77336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four o’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65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5800" y="3357720"/>
            <a:ext cx="30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im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6520" y="234936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4365720"/>
            <a:ext cx="20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6920" y="46227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880" y="2565360"/>
            <a:ext cx="21574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3280" y="2565360"/>
            <a:ext cx="309708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you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/she/it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/you/they will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2565360"/>
            <a:ext cx="2087640" cy="210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I/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he/she/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we/you/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g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700"/>
                            </p:stCondLst>
                            <p:childTnLst>
                              <p:par>
                                <p:cTn id="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1:47Z</dcterms:modified>
  <cp:revision>36</cp:revision>
  <dc:subject/>
  <dc:title>Present Tenses</dc:title>
</cp:coreProperties>
</file>