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E12-9FA2-45A8-AC71-DA5020AD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52A-0B3D-4598-B615-65C830D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D19-D2E9-4E21-83F6-C847D1EE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FF3-77AB-486D-B998-B5D4E6E4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414-9E2E-4C68-9462-28B6C7F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889-5A27-47DC-B97D-454B5E4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FD2-07BE-4D7A-A6C8-918FD538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09E-B6DC-4AAF-94B3-BD7D235E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690-1034-4363-A35B-30EBE4B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997-1BAB-4C48-AB16-9993A8F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FCF-38EA-4FD7-9891-698A982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9A4-C296-41D8-81A0-FFA615B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E33-BD2C-4AC4-A764-E4C4E411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uture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Simple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something else happene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will have done all the shopping before the supermarket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a specific time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welve o’clock, I will have tidied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1440" y="2276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2565360"/>
            <a:ext cx="13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l/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7080" y="3284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080" y="472428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84200" y="491004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n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Contin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emphasise the duration of an action up to a certain time in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y the end of May, Jill will have been living there for 15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3640" y="206064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7440" y="4365720"/>
            <a:ext cx="232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re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4160" y="45813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 years’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9800" y="2060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...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ues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040" y="2565360"/>
            <a:ext cx="201420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16600" y="2565360"/>
            <a:ext cx="236448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29680" y="2565360"/>
            <a:ext cx="216792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use the Future Simple to talk abo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will be more deserts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ake you with me nex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ell your friends abou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se bags look heavy. I’ll carry som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l you help we with the cl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at the time of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ions are not on the list, but I will get 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be going to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lans and arrragments for the fu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going to plant some trees in my 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thing we know is going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’s very tired. He is going to fall asleep very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now on, I’m not going to throw away paper with the other rubb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8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7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2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9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720" y="220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8720" y="3429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1640" y="472428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7440" y="2421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472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1880" y="2565360"/>
            <a:ext cx="2581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06360" y="2565360"/>
            <a:ext cx="30960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it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/you/they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2600" y="2565360"/>
            <a:ext cx="27349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Continuous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that will be in progress at a specific time in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time toworrow, I will be travelling to M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’t phone me at four o’clock because I’ll be having a res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77336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four o’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5800" y="335772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6520" y="23493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365720"/>
            <a:ext cx="20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6920" y="46227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1:47Z</dcterms:modified>
  <cp:revision>36</cp:revision>
  <dc:subject/>
  <dc:title>Present Tenses</dc:title>
</cp:coreProperties>
</file>