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92E-422B-48F4-862D-DB5542EF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19B-20AF-4D37-9B4A-4454F623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006-B880-47CF-8629-A2D6C6AE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086-BDF4-4EEC-AD44-376E4373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048-9933-46EB-8CB0-F283DEBE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BD5-21A0-4F87-888F-E167CB01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C6A-BA96-4A58-89C1-632431D5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CF9-ED76-491B-9AEC-AA78E146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2AD-E6D5-4A46-867A-A36632D4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218-55BF-497D-BFA0-14CC3BF2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2D3-63B7-4D46-BE35-5968F4F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24E-C9F4-46E3-8A30-E90310B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9ABC-9AF4-4C49-8701-0E0E61908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10884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ический ток в различных средах</a:t>
            </a: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523880" y="1865160"/>
            <a:ext cx="61722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Электрический 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жидкост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10" descr="image001"/>
          <p:cNvPicPr/>
          <p:nvPr/>
        </p:nvPicPr>
        <p:blipFill>
          <a:blip r:embed="rId2"/>
          <a:srcRect l="0" t="0" r="0" b="54498"/>
          <a:stretch/>
        </p:blipFill>
        <p:spPr>
          <a:xfrm>
            <a:off x="685800" y="3944880"/>
            <a:ext cx="2797200" cy="194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image001"/>
          <p:cNvPicPr/>
          <p:nvPr/>
        </p:nvPicPr>
        <p:blipFill>
          <a:blip r:embed="rId3"/>
          <a:srcRect l="0" t="49864" r="0" b="5527"/>
          <a:stretch/>
        </p:blipFill>
        <p:spPr>
          <a:xfrm>
            <a:off x="5105520" y="3873600"/>
            <a:ext cx="2939760" cy="1927080"/>
          </a:xfrm>
          <a:prstGeom prst="rect">
            <a:avLst/>
          </a:prstGeom>
          <a:ln w="0">
            <a:noFill/>
          </a:ln>
        </p:spPr>
      </p:pic>
      <p:sp>
        <p:nvSpPr>
          <p:cNvPr id="46" name="Line 12"/>
          <p:cNvSpPr/>
          <p:nvPr/>
        </p:nvSpPr>
        <p:spPr>
          <a:xfrm>
            <a:off x="5105520" y="3944880"/>
            <a:ext cx="0" cy="17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219320" y="26668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Законы электро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Законы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faraday_1"/>
          <p:cNvPicPr/>
          <p:nvPr/>
        </p:nvPicPr>
        <p:blipFill>
          <a:blip r:embed="rId2"/>
          <a:stretch/>
        </p:blipFill>
        <p:spPr>
          <a:xfrm>
            <a:off x="380880" y="1143000"/>
            <a:ext cx="3173400" cy="384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8" name="Text Box 4"/>
          <p:cNvSpPr/>
          <p:nvPr/>
        </p:nvSpPr>
        <p:spPr>
          <a:xfrm>
            <a:off x="228600" y="457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Исследовал электролиз и открыл его законы английский физик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Майкл Фарадей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в 1834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80880" y="5105520"/>
            <a:ext cx="320040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Майкл Фарадей (1791 – 1867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крыл явление электромагнитной индукции, законы электролиза, ввел представления об электрическом и магнитном 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809880" y="91440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ервый закон электр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038480" y="1447920"/>
            <a:ext cx="4572000" cy="119124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Масса вещества, выделившегося на электродах при электролизе, прямо пропорциональна величине заряда, прошедшего через электр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5486400" y="2971800"/>
                <a:ext cx="144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9"/>
          <p:cNvSpPr/>
          <p:nvPr/>
        </p:nvSpPr>
        <p:spPr>
          <a:xfrm>
            <a:off x="3886200" y="3733920"/>
            <a:ext cx="4800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электрохимический эквивалент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равен массе вещества, выделившегося при прохождении через электролит заряда 1 К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54100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Если учесть, что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q =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1"/>
              <p:cNvSpPr txBox="1"/>
              <p:nvPr/>
            </p:nvSpPr>
            <p:spPr>
              <a:xfrm>
                <a:off x="5089680" y="5907240"/>
                <a:ext cx="2090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Законы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28800" y="6094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Второй  закон электр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066680"/>
            <a:ext cx="8534520" cy="119124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При одинаковом количестве электричества (электрическом заряде, прошедшем через электролит) масса вещества, выделившегося при электролизе, пропорциональна отношению молярной массы вещества к вал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5"/>
              <p:cNvSpPr txBox="1"/>
              <p:nvPr/>
            </p:nvSpPr>
            <p:spPr>
              <a:xfrm>
                <a:off x="457200" y="2590920"/>
                <a:ext cx="441972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Text Box 6"/>
          <p:cNvSpPr/>
          <p:nvPr/>
        </p:nvSpPr>
        <p:spPr>
          <a:xfrm>
            <a:off x="5181480" y="2590920"/>
            <a:ext cx="373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са выделившегося веще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химический эквивалент    М – молярная масса вещества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нтность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8600" y="40384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28600" y="41911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Заряд, необходимый для выделения 1 моля вещества, одинаков для всех электролитов. Он называется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числом Фарадея </a:t>
            </a: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9"/>
              <p:cNvSpPr txBox="1"/>
              <p:nvPr/>
            </p:nvSpPr>
            <p:spPr>
              <a:xfrm>
                <a:off x="990720" y="5105520"/>
                <a:ext cx="51814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К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0"/>
              <p:cNvSpPr txBox="1"/>
              <p:nvPr/>
            </p:nvSpPr>
            <p:spPr>
              <a:xfrm>
                <a:off x="4255920" y="5943600"/>
                <a:ext cx="963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11"/>
          <p:cNvSpPr/>
          <p:nvPr/>
        </p:nvSpPr>
        <p:spPr>
          <a:xfrm>
            <a:off x="380880" y="59436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Электрохимический эквивалент и число Фарадея связаны соотнош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вопрос"/>
          <p:cNvPicPr/>
          <p:nvPr/>
        </p:nvPicPr>
        <p:blipFill>
          <a:blip r:embed="rId2"/>
          <a:stretch/>
        </p:blipFill>
        <p:spPr>
          <a:xfrm>
            <a:off x="5257800" y="6019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5715000" y="594360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отсюда экспериментально определить заряд электрон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Monotype Corsiva"/>
              </a:rPr>
              <a:t>Физический смысл электрохимического эквивалент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533520" y="838080"/>
                <a:ext cx="192060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0"/>
              <p:cNvSpPr txBox="1"/>
              <p:nvPr/>
            </p:nvSpPr>
            <p:spPr>
              <a:xfrm>
                <a:off x="6400800" y="609480"/>
                <a:ext cx="25686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3429000" y="1447920"/>
                <a:ext cx="19540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9"/>
              <p:cNvSpPr txBox="1"/>
              <p:nvPr/>
            </p:nvSpPr>
            <p:spPr>
              <a:xfrm>
                <a:off x="609480" y="3124080"/>
                <a:ext cx="15685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609480" y="4648320"/>
                <a:ext cx="1957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13"/>
          <p:cNvSpPr/>
          <p:nvPr/>
        </p:nvSpPr>
        <p:spPr>
          <a:xfrm>
            <a:off x="4724280" y="571500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 экспериментально определить заряд электро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0"/>
              <p:cNvSpPr txBox="1"/>
              <p:nvPr/>
            </p:nvSpPr>
            <p:spPr>
              <a:xfrm>
                <a:off x="4343400" y="3429000"/>
                <a:ext cx="20955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Right Arrow 10"/>
          <p:cNvSpPr/>
          <p:nvPr/>
        </p:nvSpPr>
        <p:spPr>
          <a:xfrm>
            <a:off x="2743200" y="18288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Arrow 11"/>
          <p:cNvSpPr/>
          <p:nvPr/>
        </p:nvSpPr>
        <p:spPr>
          <a:xfrm>
            <a:off x="5562720" y="1828800"/>
            <a:ext cx="533160" cy="3808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ight Arrow 12"/>
          <p:cNvSpPr/>
          <p:nvPr/>
        </p:nvSpPr>
        <p:spPr>
          <a:xfrm>
            <a:off x="3200400" y="4038480"/>
            <a:ext cx="990720" cy="7336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781680" y="350532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тношение массы иона к заряду 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Заряд  электрон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5715000" y="685800"/>
                <a:ext cx="25686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1"/>
              <p:cNvSpPr txBox="1"/>
              <p:nvPr/>
            </p:nvSpPr>
            <p:spPr>
              <a:xfrm>
                <a:off x="609480" y="838080"/>
                <a:ext cx="393876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2209680" y="2666880"/>
                <a:ext cx="33530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2133720" y="4876920"/>
                <a:ext cx="33526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Box 6"/>
          <p:cNvSpPr/>
          <p:nvPr/>
        </p:nvSpPr>
        <p:spPr>
          <a:xfrm>
            <a:off x="6400800" y="5105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74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04920" y="7621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висимость сопротивления электролита от температу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228600" y="2073240"/>
            <a:ext cx="853452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ная зависимость сопротивления электролита объясняется в основ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м удельного сопротив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альфа - температур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 сопротивл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лектролитов всег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5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ротивление электролита можно рассчитать по формул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http://class-fizika.narod.ru/10_11_class/10_toksreda/58.jpg"/>
          <p:cNvPicPr/>
          <p:nvPr/>
        </p:nvPicPr>
        <p:blipFill>
          <a:blip r:embed="rId1"/>
          <a:stretch/>
        </p:blipFill>
        <p:spPr>
          <a:xfrm>
            <a:off x="685800" y="2743200"/>
            <a:ext cx="3200400" cy="912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http://class-fizika.narod.ru/10_11_class/10_toksreda/57.jpg"/>
          <p:cNvPicPr/>
          <p:nvPr/>
        </p:nvPicPr>
        <p:blipFill>
          <a:blip r:embed="rId2"/>
          <a:stretch/>
        </p:blipFill>
        <p:spPr>
          <a:xfrm>
            <a:off x="3657600" y="3809880"/>
            <a:ext cx="1287360" cy="533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://class-fizika.narod.ru/10_11_class/10_toksreda/56.jpg"/>
          <p:cNvPicPr/>
          <p:nvPr/>
        </p:nvPicPr>
        <p:blipFill>
          <a:blip r:embed="rId3"/>
          <a:stretch/>
        </p:blipFill>
        <p:spPr>
          <a:xfrm>
            <a:off x="6324480" y="3505320"/>
            <a:ext cx="2438640" cy="1806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http://class-fizika.narod.ru/10_11_class/10_toksreda/59.jpg"/>
          <p:cNvPicPr/>
          <p:nvPr/>
        </p:nvPicPr>
        <p:blipFill>
          <a:blip r:embed="rId4"/>
          <a:stretch/>
        </p:blipFill>
        <p:spPr>
          <a:xfrm>
            <a:off x="4419720" y="5715000"/>
            <a:ext cx="2573280" cy="874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219320" y="26668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Применение электро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6"/>
          <p:cNvPicPr/>
          <p:nvPr/>
        </p:nvPicPr>
        <p:blipFill>
          <a:blip r:embed="rId2"/>
          <a:stretch/>
        </p:blipFill>
        <p:spPr>
          <a:xfrm>
            <a:off x="0" y="262080"/>
            <a:ext cx="9296280" cy="6595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057400" y="1523880"/>
            <a:ext cx="0" cy="3733920"/>
          </a:xfrm>
          <a:prstGeom prst="line">
            <a:avLst/>
          </a:prstGeom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09480" y="586440"/>
            <a:ext cx="4726080" cy="15721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cc0099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НЕНИЕ ЭЛЕКТРО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2057400" y="289548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276720" y="2395080"/>
            <a:ext cx="4725720" cy="10501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cc0099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ение химически чист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3276720" y="3690720"/>
            <a:ext cx="4725720" cy="10501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cc0099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альваност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276720" y="4795560"/>
            <a:ext cx="4725720" cy="10501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cc0099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альван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2057400" y="419112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2057400" y="525780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FIG17"/>
          <p:cNvPicPr/>
          <p:nvPr/>
        </p:nvPicPr>
        <p:blipFill>
          <a:blip r:embed="rId2"/>
          <a:stretch/>
        </p:blipFill>
        <p:spPr>
          <a:xfrm>
            <a:off x="457200" y="1219320"/>
            <a:ext cx="2800440" cy="33336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609480" y="5335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Основателем гальванотехники и ее широчайшего применения является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. С. Якоби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который изобрел в 1836 году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гальваноплас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533520" y="4724280"/>
            <a:ext cx="3047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Борис Семенович Якоб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1801 – 1874) – русский академик, открывший гальванопластику, создавший первую конструкцию электродвигат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114800" y="1754280"/>
            <a:ext cx="4114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Гальванотехника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- это отрасль прикладной электрохимии, смысл которой состоит в получении электролитическим путем металлических копий каких-либо предметов (гальванопластика) или же в нанесении этим же способом металлических покрытий на какие-либо поверхности (гальваностегия). Способ этот в свое время широко использовался в полиграфической промышленности и в определенных случаях применяется и сейч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Рафинирование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533520" y="3505320"/>
            <a:ext cx="502920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914400" y="3048120"/>
            <a:ext cx="7632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191120" y="3048120"/>
            <a:ext cx="91440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91440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914400" y="2590920"/>
            <a:ext cx="129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2209680" y="2438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2362320" y="2286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2362320" y="2590920"/>
            <a:ext cx="2286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 flipV="1">
            <a:off x="464832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4800600" y="2286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28600" y="2057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6019920" y="1219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тод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тонкая пластина чистой мед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од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толстая пластина неочищенн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 flipH="1">
            <a:off x="2895480" y="2895480"/>
            <a:ext cx="3733920" cy="26672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6630840" y="2666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6172200" y="312408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 прохождении тока через электролит на катоде оседает чистая медь, анод расходуется и исто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6172200" y="4876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меси остаются в электролите или оседают на 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5715000" y="59436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лотности тока 0,3 А на 1 д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цесс идет несколько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19320" y="10666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676520" y="2514600"/>
            <a:ext cx="6019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Электролитическая 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Электрический ток в электролитах. Электро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Законы элект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менение элект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Получение 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380880" y="19051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Алюминий получают электролитическим способом из глинозема (вспомните – алюминий является одним из самых распространенных химических элементов земной коры и содержится в любой гли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3520" y="2971800"/>
            <a:ext cx="6781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литическим способом полу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й, натрий, калий, кальций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у, хлор, хлористый кальций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228600" y="4419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380880" y="4648320"/>
            <a:ext cx="830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в, например, электролиз раствора поваренной со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ы можем получить сразу 3 полезных химических ве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ообразные водород и хлор, а также раствор едкого на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2. Гальваносте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image001"/>
          <p:cNvPicPr/>
          <p:nvPr/>
        </p:nvPicPr>
        <p:blipFill>
          <a:blip r:embed="rId2"/>
          <a:srcRect l="0" t="0" r="0" b="50173"/>
          <a:stretch/>
        </p:blipFill>
        <p:spPr>
          <a:xfrm>
            <a:off x="533520" y="1752480"/>
            <a:ext cx="4343400" cy="33004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5257800" y="2133720"/>
            <a:ext cx="342900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Гальваностегия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покрытие предметов неокисляющимся металлами для защиты от корро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i, Zn, Ag, Au, 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вопрос"/>
          <p:cNvPicPr/>
          <p:nvPr/>
        </p:nvPicPr>
        <p:blipFill>
          <a:blip r:embed="rId3"/>
          <a:stretch/>
        </p:blipFill>
        <p:spPr>
          <a:xfrm>
            <a:off x="609480" y="53341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1219320" y="5410080"/>
            <a:ext cx="7162560" cy="368280"/>
          </a:xfrm>
          <a:prstGeom prst="rect">
            <a:avLst/>
          </a:prstGeom>
          <a:solidFill>
            <a:srgbClr val="993366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ведите примеры защитных покрытий в быту и тех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3. Гальванопл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FIG13"/>
          <p:cNvPicPr/>
          <p:nvPr/>
        </p:nvPicPr>
        <p:blipFill>
          <a:blip r:embed="rId2"/>
          <a:stretch/>
        </p:blipFill>
        <p:spPr>
          <a:xfrm>
            <a:off x="457200" y="1295280"/>
            <a:ext cx="2511360" cy="37339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0"/>
          <p:cNvSpPr/>
          <p:nvPr/>
        </p:nvSpPr>
        <p:spPr>
          <a:xfrm>
            <a:off x="457200" y="52578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 барельефа, полученная методом гальванопла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3276720" y="1676520"/>
            <a:ext cx="5486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Гальванопластика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получение отслаиваемых копий предмета, полученных путем осаждения металла на поверхности предмета электролитически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3429000" y="30481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ость копирования формы предмета очень высокая, т.к. процесс идет на ионном (молекулярном)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3352680" y="4191120"/>
            <a:ext cx="541044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римен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олучение рельефных копий барельефов, ста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Изготовление клише, поли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выпуск ценных бумаг, ден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609480" y="617400"/>
            <a:ext cx="777240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Кроме указанных выше, электролиз нашел применение и в других областях: </a:t>
            </a: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 получение оксидных защитных пленок на металлах (анодирование)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электрохимическая обработка поверхности металлического изделия (полировка)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электрохимическое окрашивание металлов (например, меди, латуни, цинка, хрома и др.)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очистка воды - удаление из нее растворимых примесей. В результате получается так называемая мягкая вода (по своим свойствам приближающаяся к дистиллированной)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электрохимическая заточка режущих инструментов (например, хирургических ножей, бритв и т.д.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304920" y="518148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609480" y="61128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304920" y="518148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1102320" y="1371600"/>
            <a:ext cx="7153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99"/>
                </a:solidFill>
                <a:latin typeface="Arial"/>
              </a:rPr>
              <a:t>пп. 79, 8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99"/>
                </a:solidFill>
                <a:latin typeface="Arial"/>
              </a:rPr>
              <a:t>стр. 200 упр.12 (4,5,7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219320" y="266688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Электролитическая диссоци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28600" y="457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о электрическим свойствам все жидкости можно разделить на 2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2666880" y="999360"/>
            <a:ext cx="32083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eaeaea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219320" y="2370960"/>
            <a:ext cx="220968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Я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2362320" y="1600200"/>
            <a:ext cx="129528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4952880" y="1600200"/>
            <a:ext cx="121932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181480" y="2370960"/>
            <a:ext cx="250056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РОВОДЯ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343400" y="2895480"/>
            <a:ext cx="0" cy="25146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одержащие свободные заряженные частицы (диссоциирующие) -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87692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Не содержащие свободные заряженные частицы (недиссоциирующ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191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 ним относятся растворы (чаще всего водные) и расплавы солей, кислот и ос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876920" y="4114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 ним относятся дистилированная вода, спирт, минеральное мас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228600" y="55627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228600" y="571500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Электролитической диссоциацией</a:t>
            </a: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называется распад нейтральных молекул вещества в растворителе на положительные и отрицательные 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3808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80880" y="56386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51814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0880" y="3352680"/>
            <a:ext cx="480060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2057400" y="13716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2362320" y="13716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895480" y="1371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83808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5812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5"/>
          <p:cNvSpPr/>
          <p:nvPr/>
        </p:nvSpPr>
        <p:spPr>
          <a:xfrm>
            <a:off x="3505320" y="350532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6"/>
          <p:cNvSpPr/>
          <p:nvPr/>
        </p:nvSpPr>
        <p:spPr>
          <a:xfrm>
            <a:off x="533520" y="510552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7"/>
          <p:cNvSpPr/>
          <p:nvPr/>
        </p:nvSpPr>
        <p:spPr>
          <a:xfrm>
            <a:off x="2209680" y="4952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8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9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0"/>
          <p:cNvSpPr/>
          <p:nvPr/>
        </p:nvSpPr>
        <p:spPr>
          <a:xfrm>
            <a:off x="1417680" y="3936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343400" y="3809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2"/>
          <p:cNvSpPr/>
          <p:nvPr/>
        </p:nvSpPr>
        <p:spPr>
          <a:xfrm>
            <a:off x="1676520" y="34290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3"/>
          <p:cNvSpPr/>
          <p:nvPr/>
        </p:nvSpPr>
        <p:spPr>
          <a:xfrm>
            <a:off x="2438280" y="43434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4"/>
          <p:cNvSpPr/>
          <p:nvPr/>
        </p:nvSpPr>
        <p:spPr>
          <a:xfrm>
            <a:off x="3246480" y="5079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228600" y="685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Электролитическая диссоциация поваренной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6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5410080" y="1371600"/>
            <a:ext cx="0" cy="4267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5943600" y="1523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5943600" y="2286000"/>
            <a:ext cx="28195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5943600" y="2590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Диссоциация других веще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5715000" y="33526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5715000" y="3886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5715000" y="4419720"/>
            <a:ext cx="3200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4"/>
          <p:cNvSpPr/>
          <p:nvPr/>
        </p:nvSpPr>
        <p:spPr>
          <a:xfrm>
            <a:off x="5715000" y="4952880"/>
            <a:ext cx="3124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22860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 диссоциации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оны металлов и водорода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всегда заряжены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положительно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а ионы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ислотных радикалов и группы ОН - отриц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4798E-006 C -0.01371 0.14682 -0.00312 0.02219 -0.00312 0.37734 E">
                                      <p:cBhvr>
                                        <p:cTn id="6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C -0.01372 0.14682 -0.00313 0.02219 -0.00313 0.37734 E">
                                      <p:cBhvr>
                                        <p:cTn id="6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4.9999999999998E-006 0.3919 0.00711 0.39029 0.01494 0.39792 C 0.01667 0.39953 0.01789 0.40185 0.0198 0.40323 C 0.02275 0.40578 0.02935 0.41017 0.02935 0.4104 C 0.03438 0.41873 0.04219 0.42219 0.05122 0.42381 C 0.05556 0.4289 0.06077 0.43075 0.06685 0.4319 C 0.07327 0.43445 0.07952 0.43514 0.08612 0.43607 C 0.09966 0.44393 0.12778 0.443 0.14167 0.443 E">
                                      <p:cBhvr>
                                        <p:cTn id="6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-0.00833 0.38358 -0.01128 0.3926 -0.01597 0.39907 C -0.01823 0.40185 -0.02187 0.40323 -0.02413 0.40531 C -0.0283 0.40901 -0.03159 0.41433 -0.03576 0.41757 C -0.03975 0.42104 -0.04722 0.42543 -0.05191 0.42705 C -0.05746 0.4319 -0.06284 0.43607 -0.06927 0.43792 C -0.0802 0.44855 -0.09583 0.44971 -0.10885 0.45179 C -0.11423 0.45271 -0.11944 0.45503 -0.125 0.45503 E">
                                      <p:cBhvr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266688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Электрический ток в электролитах. Электр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Ионы в электролите движутся хаотично, но при создании электрического поля характер движения становится упорядоченным:</a:t>
            </a: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положительные ионы (катионы) движутся к катоду,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рицательные ионы (анионы) движутся к ан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152280" y="1981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38080" y="3124080"/>
            <a:ext cx="4724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066680" y="28195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029200" y="2819520"/>
            <a:ext cx="15228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114300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1143000" y="25146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2590920" y="23623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27432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2743200" y="25146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51814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7"/>
          <p:cNvSpPr/>
          <p:nvPr/>
        </p:nvSpPr>
        <p:spPr>
          <a:xfrm>
            <a:off x="3886200" y="32702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8"/>
          <p:cNvSpPr/>
          <p:nvPr/>
        </p:nvSpPr>
        <p:spPr>
          <a:xfrm>
            <a:off x="175248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9"/>
          <p:cNvSpPr/>
          <p:nvPr/>
        </p:nvSpPr>
        <p:spPr>
          <a:xfrm>
            <a:off x="411480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1"/>
          <p:cNvSpPr/>
          <p:nvPr/>
        </p:nvSpPr>
        <p:spPr>
          <a:xfrm>
            <a:off x="1371600" y="32702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2"/>
          <p:cNvSpPr/>
          <p:nvPr/>
        </p:nvSpPr>
        <p:spPr>
          <a:xfrm>
            <a:off x="2819520" y="51750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3"/>
          <p:cNvSpPr/>
          <p:nvPr/>
        </p:nvSpPr>
        <p:spPr>
          <a:xfrm>
            <a:off x="3733920" y="410832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2666880" y="37274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5"/>
          <p:cNvSpPr/>
          <p:nvPr/>
        </p:nvSpPr>
        <p:spPr>
          <a:xfrm>
            <a:off x="1676520" y="41846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6"/>
          <p:cNvSpPr/>
          <p:nvPr/>
        </p:nvSpPr>
        <p:spPr>
          <a:xfrm>
            <a:off x="1981080" y="35812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7"/>
          <p:cNvSpPr/>
          <p:nvPr/>
        </p:nvSpPr>
        <p:spPr>
          <a:xfrm>
            <a:off x="2286000" y="4495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8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9"/>
          <p:cNvSpPr/>
          <p:nvPr/>
        </p:nvSpPr>
        <p:spPr>
          <a:xfrm>
            <a:off x="3429000" y="54864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1"/>
          <p:cNvSpPr/>
          <p:nvPr/>
        </p:nvSpPr>
        <p:spPr>
          <a:xfrm flipH="1">
            <a:off x="3429000" y="35812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2"/>
          <p:cNvSpPr/>
          <p:nvPr/>
        </p:nvSpPr>
        <p:spPr>
          <a:xfrm flipH="1">
            <a:off x="3657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 flipH="1">
            <a:off x="1371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4"/>
          <p:cNvSpPr/>
          <p:nvPr/>
        </p:nvSpPr>
        <p:spPr>
          <a:xfrm flipH="1">
            <a:off x="2209680" y="4038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5867280" y="3429000"/>
            <a:ext cx="28958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Электрический ток в электролитах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едставляет собой  упорядоченное движение положительных и отрицательных и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Рассмотрим, что происходит, когда ионы достигают электродов (на примере медного купо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228600" y="12952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800600" y="15238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38080" y="3581280"/>
            <a:ext cx="281952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066680" y="32767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1143000" y="2971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1143000" y="29718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1752480" y="54036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2666880" y="41846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8380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1371600" y="5715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>
            <a:off x="2209680" y="4495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343400" y="22096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оложительные ионы меди, подходя к катоду, получают два недостающих электрона, восстанавливаясь до металлическ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4267080" y="47242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В процессе протекания тока через электролит на катоде происходит оседание слоя чистой меди –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электролиз раствора медного купо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9528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2 е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1066680" y="1828800"/>
            <a:ext cx="2438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ат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1"/>
          <p:cNvSpPr/>
          <p:nvPr/>
        </p:nvSpPr>
        <p:spPr>
          <a:xfrm>
            <a:off x="2606760" y="48769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2073240" y="59436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971800" y="838080"/>
            <a:ext cx="24382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ан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762120" y="2590920"/>
            <a:ext cx="2895480" cy="281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124080" y="2286000"/>
            <a:ext cx="15264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838080" y="1981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3200400" y="1980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600200" y="42606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1828800" y="30416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438280" y="3352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2209680" y="45720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304920" y="57150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Выделение вещества на электродах вследствие окислительно – восстановительных реакций  при прохождении тока через электролит называется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электроли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419720" y="2819520"/>
            <a:ext cx="426708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ульфат - ионы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ru-RU" sz="2400" spc="-1" strike="noStrike" baseline="30000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подходя к аноду, отдают ему два лишних электрона, которые через источник тока поступают на катод и присоединяются к положительным ионам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1770840" y="3657600"/>
            <a:ext cx="743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1618200" y="4876920"/>
            <a:ext cx="743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ina</dc:creator>
  <dc:description/>
  <dc:language>en-US</dc:language>
  <cp:lastModifiedBy>Arina</cp:lastModifiedBy>
  <dcterms:modified xsi:type="dcterms:W3CDTF">2020-04-22T08:16:00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