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C1F1A68-E6F5-488D-920D-E948B00427D4}" type="doc">
      <dgm:prSet loTypeId="urn:microsoft.com/office/officeart/2005/8/layout/default#1" loCatId="list" qsTypeId="urn:microsoft.com/office/officeart/2005/8/quickstyle/simple4" qsCatId="simple" csTypeId="urn:microsoft.com/office/officeart/2005/8/colors/colorful3" csCatId="colorful" phldr="1"/>
      <dgm:spPr/>
      <dgm:t>
        <a:bodyPr/>
        <a:lstStyle/>
        <a:p>
          <a:endParaRPr lang="ru-RU"/>
        </a:p>
      </dgm:t>
    </dgm:pt>
    <dgm:pt modelId="{A03F170F-3A89-453F-98B8-D9E10FD82FEE}">
      <dgm:prSet phldrT="[Текст]" custT="1"/>
      <dgm:spPr>
        <a:gradFill rotWithShape="0">
          <a:gsLst>
            <a:gs pos="0">
              <a:srgbClr val="CC66FF"/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Философ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полняет мировоззренческую, познавательную функцию</a:t>
          </a:r>
          <a:endParaRPr lang="ru-RU" sz="1600" b="1" dirty="0">
            <a:solidFill>
              <a:schemeClr val="tx1"/>
            </a:solidFill>
          </a:endParaRPr>
        </a:p>
      </dgm:t>
    </dgm:pt>
    <dgm:pt modelId="{4BA58850-483D-462B-8FB6-A5BB8D072A7C}" type="parTrans" cxnId="{B8F01B41-CFF5-4AE7-95BE-32E39B43C1B0}">
      <dgm:prSet/>
      <dgm:spPr/>
      <dgm:t>
        <a:bodyPr/>
        <a:lstStyle/>
        <a:p>
          <a:endParaRPr lang="ru-RU" sz="1600"/>
        </a:p>
      </dgm:t>
    </dgm:pt>
    <dgm:pt modelId="{AF938C32-9B57-4540-B6AC-6E203A5E9300}" type="sibTrans" cxnId="{B8F01B41-CFF5-4AE7-95BE-32E39B43C1B0}">
      <dgm:prSet/>
      <dgm:spPr/>
      <dgm:t>
        <a:bodyPr/>
        <a:lstStyle/>
        <a:p>
          <a:endParaRPr lang="ru-RU" sz="1600"/>
        </a:p>
      </dgm:t>
    </dgm:pt>
    <dgm:pt modelId="{A89E1198-7993-4DD3-895E-978AB714EBF5}">
      <dgm:prSet phldrT="[Текст]" custT="1"/>
      <dgm:spPr>
        <a:gradFill rotWithShape="0">
          <a:gsLst>
            <a:gs pos="0">
              <a:srgbClr val="C00000"/>
            </a:gs>
            <a:gs pos="80000">
              <a:schemeClr val="accent3">
                <a:hueOff val="265683"/>
                <a:satOff val="99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265683"/>
                <a:satOff val="99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олитическ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Подводит базу под  политическими и правовыми интересами, юридическими нормами, законами</a:t>
          </a:r>
          <a:endParaRPr lang="ru-RU" sz="1600" b="1" dirty="0">
            <a:solidFill>
              <a:schemeClr val="tx1"/>
            </a:solidFill>
          </a:endParaRPr>
        </a:p>
      </dgm:t>
    </dgm:pt>
    <dgm:pt modelId="{57AE9D82-5488-4231-9299-35302C628596}" type="parTrans" cxnId="{AFBCDF53-BF91-4F87-A81F-CCAF2C329AD9}">
      <dgm:prSet/>
      <dgm:spPr/>
      <dgm:t>
        <a:bodyPr/>
        <a:lstStyle/>
        <a:p>
          <a:endParaRPr lang="ru-RU" sz="1600"/>
        </a:p>
      </dgm:t>
    </dgm:pt>
    <dgm:pt modelId="{37A69175-5CEB-45DF-963A-D5F12967D10C}" type="sibTrans" cxnId="{AFBCDF53-BF91-4F87-A81F-CCAF2C329AD9}">
      <dgm:prSet/>
      <dgm:spPr/>
      <dgm:t>
        <a:bodyPr/>
        <a:lstStyle/>
        <a:p>
          <a:endParaRPr lang="ru-RU" sz="1600"/>
        </a:p>
      </dgm:t>
    </dgm:pt>
    <dgm:pt modelId="{0A10A1B9-1A83-4E04-9EEA-3902A73267E7}">
      <dgm:prSet phldrT="[Текст]" custT="1"/>
      <dgm:spPr>
        <a:gradFill rotWithShape="0">
          <a:gsLst>
            <a:gs pos="0">
              <a:srgbClr val="FFC000"/>
            </a:gs>
            <a:gs pos="80000">
              <a:schemeClr val="accent3">
                <a:hueOff val="531366"/>
                <a:satOff val="198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531366"/>
                <a:satOff val="198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равов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ражает не только знание права, но и отношение к нему</a:t>
          </a:r>
          <a:endParaRPr lang="ru-RU" sz="1600" b="1" dirty="0">
            <a:solidFill>
              <a:schemeClr val="tx1"/>
            </a:solidFill>
          </a:endParaRPr>
        </a:p>
      </dgm:t>
    </dgm:pt>
    <dgm:pt modelId="{0B23CB3A-37AA-41D5-972E-4D59D86551D1}" type="parTrans" cxnId="{48BF3893-2799-4376-838E-0399A8C55779}">
      <dgm:prSet/>
      <dgm:spPr/>
      <dgm:t>
        <a:bodyPr/>
        <a:lstStyle/>
        <a:p>
          <a:endParaRPr lang="ru-RU" sz="1600"/>
        </a:p>
      </dgm:t>
    </dgm:pt>
    <dgm:pt modelId="{1D643408-352C-4D91-BB54-2823722DDC7A}" type="sibTrans" cxnId="{48BF3893-2799-4376-838E-0399A8C55779}">
      <dgm:prSet/>
      <dgm:spPr/>
      <dgm:t>
        <a:bodyPr/>
        <a:lstStyle/>
        <a:p>
          <a:endParaRPr lang="ru-RU" sz="1600"/>
        </a:p>
      </dgm:t>
    </dgm:pt>
    <dgm:pt modelId="{5AC34E67-DEAE-451D-AE3D-CD4D17A616CD}">
      <dgm:prSet phldrT="[Текст]" custT="1"/>
      <dgm:spPr>
        <a:gradFill rotWithShape="0">
          <a:gsLst>
            <a:gs pos="0">
              <a:srgbClr val="92D050"/>
            </a:gs>
            <a:gs pos="80000">
              <a:schemeClr val="accent3">
                <a:hueOff val="797048"/>
                <a:satOff val="297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797048"/>
                <a:satOff val="297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FF0000"/>
              </a:solidFill>
            </a:rPr>
            <a:t>Мораль</a:t>
          </a:r>
        </a:p>
        <a:p>
          <a:r>
            <a:rPr lang="ru-RU" sz="1600" b="1" dirty="0" smtClean="0">
              <a:solidFill>
                <a:schemeClr val="tx1"/>
              </a:solidFill>
            </a:rPr>
            <a:t>Нравственные принципы общества, нормы поведения, способы формирования нравственных чувств</a:t>
          </a:r>
        </a:p>
      </dgm:t>
    </dgm:pt>
    <dgm:pt modelId="{AF9E0EBD-A4B9-46FA-92DB-69EC90FBC472}" type="parTrans" cxnId="{2B830CF2-3BCE-4A3E-ABD6-2199A1FE2255}">
      <dgm:prSet/>
      <dgm:spPr/>
      <dgm:t>
        <a:bodyPr/>
        <a:lstStyle/>
        <a:p>
          <a:endParaRPr lang="ru-RU" sz="1600"/>
        </a:p>
      </dgm:t>
    </dgm:pt>
    <dgm:pt modelId="{5B95A813-FBD3-409B-90AA-1611286D05EA}" type="sibTrans" cxnId="{2B830CF2-3BCE-4A3E-ABD6-2199A1FE2255}">
      <dgm:prSet/>
      <dgm:spPr/>
      <dgm:t>
        <a:bodyPr/>
        <a:lstStyle/>
        <a:p>
          <a:endParaRPr lang="ru-RU" sz="1600"/>
        </a:p>
      </dgm:t>
    </dgm:pt>
    <dgm:pt modelId="{47A03FD6-E94D-44D9-B40E-665D9625C204}">
      <dgm:prSet phldrT="[Текст]" custT="1"/>
      <dgm:spPr>
        <a:gradFill rotWithShape="0">
          <a:gsLst>
            <a:gs pos="0">
              <a:schemeClr val="accent1">
                <a:lumMod val="75000"/>
              </a:schemeClr>
            </a:gs>
            <a:gs pos="80000">
              <a:schemeClr val="accent3">
                <a:hueOff val="1062731"/>
                <a:satOff val="396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062731"/>
                <a:satOff val="396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Искусство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в обществе эстетическое сознание, эстетическое отношение к действительности</a:t>
          </a:r>
          <a:endParaRPr lang="ru-RU" sz="1600" b="1" dirty="0">
            <a:solidFill>
              <a:schemeClr val="tx1"/>
            </a:solidFill>
          </a:endParaRPr>
        </a:p>
      </dgm:t>
    </dgm:pt>
    <dgm:pt modelId="{247B355B-8A27-48A9-9007-E1542A439451}" type="parTrans" cxnId="{C3E96A82-DA1A-45CB-BBD3-77B74DE48E99}">
      <dgm:prSet/>
      <dgm:spPr/>
      <dgm:t>
        <a:bodyPr/>
        <a:lstStyle/>
        <a:p>
          <a:endParaRPr lang="ru-RU" sz="1600"/>
        </a:p>
      </dgm:t>
    </dgm:pt>
    <dgm:pt modelId="{72DF1083-2A38-4AAE-B211-068F1712EBBE}" type="sibTrans" cxnId="{C3E96A82-DA1A-45CB-BBD3-77B74DE48E99}">
      <dgm:prSet/>
      <dgm:spPr/>
      <dgm:t>
        <a:bodyPr/>
        <a:lstStyle/>
        <a:p>
          <a:endParaRPr lang="ru-RU" sz="1600"/>
        </a:p>
      </dgm:t>
    </dgm:pt>
    <dgm:pt modelId="{3D4B47E4-9680-4CA0-8707-21FCB22511C3}">
      <dgm:prSet custT="1"/>
      <dgm:spPr>
        <a:gradFill rotWithShape="0">
          <a:gsLst>
            <a:gs pos="0">
              <a:srgbClr val="FFFF66"/>
            </a:gs>
            <a:gs pos="80000">
              <a:schemeClr val="accent3">
                <a:hueOff val="1594097"/>
                <a:satOff val="594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594097"/>
                <a:satOff val="594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Религ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религиозное сознание. Религиозные идеи, веру в Бога, в бессмертие души</a:t>
          </a:r>
          <a:endParaRPr lang="ru-RU" sz="1600" b="1" dirty="0">
            <a:solidFill>
              <a:schemeClr val="tx1"/>
            </a:solidFill>
          </a:endParaRPr>
        </a:p>
      </dgm:t>
    </dgm:pt>
    <dgm:pt modelId="{B5D1AE3A-205C-4989-A419-B2AF24B19BB3}" type="parTrans" cxnId="{14AE8B38-B507-4B51-A1B6-5E2262FCEA28}">
      <dgm:prSet/>
      <dgm:spPr/>
      <dgm:t>
        <a:bodyPr/>
        <a:lstStyle/>
        <a:p>
          <a:endParaRPr lang="ru-RU" sz="1600"/>
        </a:p>
      </dgm:t>
    </dgm:pt>
    <dgm:pt modelId="{A1BD46A8-186F-4737-BA1B-0FD273EC30C3}" type="sibTrans" cxnId="{14AE8B38-B507-4B51-A1B6-5E2262FCEA28}">
      <dgm:prSet/>
      <dgm:spPr/>
      <dgm:t>
        <a:bodyPr/>
        <a:lstStyle/>
        <a:p>
          <a:endParaRPr lang="ru-RU" sz="1600"/>
        </a:p>
      </dgm:t>
    </dgm:pt>
    <dgm:pt modelId="{DEA52189-5BCF-440F-9067-2FD38AD3081B}">
      <dgm:prSet custT="1"/>
      <dgm:spPr>
        <a:gradFill rotWithShape="0">
          <a:gsLst>
            <a:gs pos="0">
              <a:srgbClr val="C00000"/>
            </a:gs>
            <a:gs pos="80000">
              <a:schemeClr val="accent3">
                <a:hueOff val="1328414"/>
                <a:satOff val="495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328414"/>
                <a:satOff val="495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Наука</a:t>
          </a:r>
        </a:p>
        <a:p>
          <a:r>
            <a:rPr lang="ru-RU" sz="1600" b="1" dirty="0" smtClean="0">
              <a:solidFill>
                <a:schemeClr val="tx1"/>
              </a:solidFill>
            </a:rPr>
            <a:t>Вооружает людей научными знаниями, правильным пониманием действительности, процессов, событий</a:t>
          </a:r>
          <a:endParaRPr lang="ru-RU" sz="1600" b="1" dirty="0">
            <a:solidFill>
              <a:schemeClr val="tx1"/>
            </a:solidFill>
          </a:endParaRPr>
        </a:p>
      </dgm:t>
    </dgm:pt>
    <dgm:pt modelId="{6E5BFEBA-208C-4A15-A37E-B0F8F7F31654}" type="parTrans" cxnId="{7173FFC6-C7C5-44FB-A760-9BE095950B5F}">
      <dgm:prSet/>
      <dgm:spPr/>
      <dgm:t>
        <a:bodyPr/>
        <a:lstStyle/>
        <a:p>
          <a:endParaRPr lang="ru-RU" sz="1600"/>
        </a:p>
      </dgm:t>
    </dgm:pt>
    <dgm:pt modelId="{AEE92C56-29A8-4FA1-9BE7-C5C99EA1821C}" type="sibTrans" cxnId="{7173FFC6-C7C5-44FB-A760-9BE095950B5F}">
      <dgm:prSet/>
      <dgm:spPr/>
      <dgm:t>
        <a:bodyPr/>
        <a:lstStyle/>
        <a:p>
          <a:endParaRPr lang="ru-RU" sz="1600"/>
        </a:p>
      </dgm:t>
    </dgm:pt>
    <dgm:pt modelId="{0A76FA3C-4157-448D-8B70-8C979A1CE884}" type="pres">
      <dgm:prSet presAssocID="{EC1F1A68-E6F5-488D-920D-E948B00427D4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9C2EFCB-A97B-443F-A643-301B03BBB677}" type="pres">
      <dgm:prSet presAssocID="{A03F170F-3A89-453F-98B8-D9E10FD82FEE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A10D57-DF6E-44D3-A4BC-ACC55823D89B}" type="pres">
      <dgm:prSet presAssocID="{AF938C32-9B57-4540-B6AC-6E203A5E9300}" presName="sibTrans" presStyleCnt="0"/>
      <dgm:spPr/>
    </dgm:pt>
    <dgm:pt modelId="{E4EB0604-5143-48FE-8766-41A2BCA925B8}" type="pres">
      <dgm:prSet presAssocID="{A89E1198-7993-4DD3-895E-978AB714EBF5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40A01E-272C-421E-BB34-A8C81AA00B62}" type="pres">
      <dgm:prSet presAssocID="{37A69175-5CEB-45DF-963A-D5F12967D10C}" presName="sibTrans" presStyleCnt="0"/>
      <dgm:spPr/>
    </dgm:pt>
    <dgm:pt modelId="{E1C51FD5-4C66-4905-ACCE-934A90080968}" type="pres">
      <dgm:prSet presAssocID="{0A10A1B9-1A83-4E04-9EEA-3902A73267E7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82BBA7-DF1A-4C9F-B525-094C09D9BF7A}" type="pres">
      <dgm:prSet presAssocID="{1D643408-352C-4D91-BB54-2823722DDC7A}" presName="sibTrans" presStyleCnt="0"/>
      <dgm:spPr/>
    </dgm:pt>
    <dgm:pt modelId="{D68B6C59-9C8F-46A3-A948-D00F2175A999}" type="pres">
      <dgm:prSet presAssocID="{5AC34E67-DEAE-451D-AE3D-CD4D17A616CD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620DAD-7291-48D8-8A92-CD6C297DA338}" type="pres">
      <dgm:prSet presAssocID="{5B95A813-FBD3-409B-90AA-1611286D05EA}" presName="sibTrans" presStyleCnt="0"/>
      <dgm:spPr/>
    </dgm:pt>
    <dgm:pt modelId="{80FF8218-DE8C-47FE-B7D4-B2F967E922CD}" type="pres">
      <dgm:prSet presAssocID="{47A03FD6-E94D-44D9-B40E-665D9625C204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ECF951A-5177-426A-82A9-10389BBF3279}" type="pres">
      <dgm:prSet presAssocID="{72DF1083-2A38-4AAE-B211-068F1712EBBE}" presName="sibTrans" presStyleCnt="0"/>
      <dgm:spPr/>
    </dgm:pt>
    <dgm:pt modelId="{66812F60-387A-4154-A9D8-E7C4F3AFFCC3}" type="pres">
      <dgm:prSet presAssocID="{DEA52189-5BCF-440F-9067-2FD38AD3081B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9ADB020-E360-49E4-8174-23234C143D71}" type="pres">
      <dgm:prSet presAssocID="{AEE92C56-29A8-4FA1-9BE7-C5C99EA1821C}" presName="sibTrans" presStyleCnt="0"/>
      <dgm:spPr/>
    </dgm:pt>
    <dgm:pt modelId="{B216BF25-60E0-49EB-8B62-2A75FCF357AA}" type="pres">
      <dgm:prSet presAssocID="{3D4B47E4-9680-4CA0-8707-21FCB22511C3}" presName="node" presStyleLbl="node1" presStyleIdx="6" presStyleCnt="7" custLinFactNeighborX="1186" custLinFactNeighborY="113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B830CF2-3BCE-4A3E-ABD6-2199A1FE2255}" srcId="{EC1F1A68-E6F5-488D-920D-E948B00427D4}" destId="{5AC34E67-DEAE-451D-AE3D-CD4D17A616CD}" srcOrd="3" destOrd="0" parTransId="{AF9E0EBD-A4B9-46FA-92DB-69EC90FBC472}" sibTransId="{5B95A813-FBD3-409B-90AA-1611286D05EA}"/>
    <dgm:cxn modelId="{48BF3893-2799-4376-838E-0399A8C55779}" srcId="{EC1F1A68-E6F5-488D-920D-E948B00427D4}" destId="{0A10A1B9-1A83-4E04-9EEA-3902A73267E7}" srcOrd="2" destOrd="0" parTransId="{0B23CB3A-37AA-41D5-972E-4D59D86551D1}" sibTransId="{1D643408-352C-4D91-BB54-2823722DDC7A}"/>
    <dgm:cxn modelId="{7D6A38AF-C3BC-4C33-B4DB-5DCB7DEE8771}" type="presOf" srcId="{EC1F1A68-E6F5-488D-920D-E948B00427D4}" destId="{0A76FA3C-4157-448D-8B70-8C979A1CE884}" srcOrd="0" destOrd="0" presId="urn:microsoft.com/office/officeart/2005/8/layout/default#1"/>
    <dgm:cxn modelId="{C9C3A297-6FE2-4DC1-9074-15FE9234668E}" type="presOf" srcId="{DEA52189-5BCF-440F-9067-2FD38AD3081B}" destId="{66812F60-387A-4154-A9D8-E7C4F3AFFCC3}" srcOrd="0" destOrd="0" presId="urn:microsoft.com/office/officeart/2005/8/layout/default#1"/>
    <dgm:cxn modelId="{AFBCDF53-BF91-4F87-A81F-CCAF2C329AD9}" srcId="{EC1F1A68-E6F5-488D-920D-E948B00427D4}" destId="{A89E1198-7993-4DD3-895E-978AB714EBF5}" srcOrd="1" destOrd="0" parTransId="{57AE9D82-5488-4231-9299-35302C628596}" sibTransId="{37A69175-5CEB-45DF-963A-D5F12967D10C}"/>
    <dgm:cxn modelId="{B8F01B41-CFF5-4AE7-95BE-32E39B43C1B0}" srcId="{EC1F1A68-E6F5-488D-920D-E948B00427D4}" destId="{A03F170F-3A89-453F-98B8-D9E10FD82FEE}" srcOrd="0" destOrd="0" parTransId="{4BA58850-483D-462B-8FB6-A5BB8D072A7C}" sibTransId="{AF938C32-9B57-4540-B6AC-6E203A5E9300}"/>
    <dgm:cxn modelId="{BF47810A-D6C3-463B-9CDD-6510F809E080}" type="presOf" srcId="{3D4B47E4-9680-4CA0-8707-21FCB22511C3}" destId="{B216BF25-60E0-49EB-8B62-2A75FCF357AA}" srcOrd="0" destOrd="0" presId="urn:microsoft.com/office/officeart/2005/8/layout/default#1"/>
    <dgm:cxn modelId="{C3E96A82-DA1A-45CB-BBD3-77B74DE48E99}" srcId="{EC1F1A68-E6F5-488D-920D-E948B00427D4}" destId="{47A03FD6-E94D-44D9-B40E-665D9625C204}" srcOrd="4" destOrd="0" parTransId="{247B355B-8A27-48A9-9007-E1542A439451}" sibTransId="{72DF1083-2A38-4AAE-B211-068F1712EBBE}"/>
    <dgm:cxn modelId="{3AFA9212-4975-4515-B557-E8E58CA433F3}" type="presOf" srcId="{A89E1198-7993-4DD3-895E-978AB714EBF5}" destId="{E4EB0604-5143-48FE-8766-41A2BCA925B8}" srcOrd="0" destOrd="0" presId="urn:microsoft.com/office/officeart/2005/8/layout/default#1"/>
    <dgm:cxn modelId="{14AE8B38-B507-4B51-A1B6-5E2262FCEA28}" srcId="{EC1F1A68-E6F5-488D-920D-E948B00427D4}" destId="{3D4B47E4-9680-4CA0-8707-21FCB22511C3}" srcOrd="6" destOrd="0" parTransId="{B5D1AE3A-205C-4989-A419-B2AF24B19BB3}" sibTransId="{A1BD46A8-186F-4737-BA1B-0FD273EC30C3}"/>
    <dgm:cxn modelId="{D593D6C0-6A7D-423B-B308-E32CA4144AB3}" type="presOf" srcId="{0A10A1B9-1A83-4E04-9EEA-3902A73267E7}" destId="{E1C51FD5-4C66-4905-ACCE-934A90080968}" srcOrd="0" destOrd="0" presId="urn:microsoft.com/office/officeart/2005/8/layout/default#1"/>
    <dgm:cxn modelId="{7173FFC6-C7C5-44FB-A760-9BE095950B5F}" srcId="{EC1F1A68-E6F5-488D-920D-E948B00427D4}" destId="{DEA52189-5BCF-440F-9067-2FD38AD3081B}" srcOrd="5" destOrd="0" parTransId="{6E5BFEBA-208C-4A15-A37E-B0F8F7F31654}" sibTransId="{AEE92C56-29A8-4FA1-9BE7-C5C99EA1821C}"/>
    <dgm:cxn modelId="{FC4FF298-CB68-426D-9B12-33557B73D2BC}" type="presOf" srcId="{47A03FD6-E94D-44D9-B40E-665D9625C204}" destId="{80FF8218-DE8C-47FE-B7D4-B2F967E922CD}" srcOrd="0" destOrd="0" presId="urn:microsoft.com/office/officeart/2005/8/layout/default#1"/>
    <dgm:cxn modelId="{FDB637EE-4B22-4CB0-B287-A295E0D15D0B}" type="presOf" srcId="{A03F170F-3A89-453F-98B8-D9E10FD82FEE}" destId="{B9C2EFCB-A97B-443F-A643-301B03BBB677}" srcOrd="0" destOrd="0" presId="urn:microsoft.com/office/officeart/2005/8/layout/default#1"/>
    <dgm:cxn modelId="{2910EFBB-C157-4BF0-8329-039DBC9A4DB7}" type="presOf" srcId="{5AC34E67-DEAE-451D-AE3D-CD4D17A616CD}" destId="{D68B6C59-9C8F-46A3-A948-D00F2175A999}" srcOrd="0" destOrd="0" presId="urn:microsoft.com/office/officeart/2005/8/layout/default#1"/>
    <dgm:cxn modelId="{6F30A8CA-6DAD-438F-9B17-7BF6DF42FB88}" type="presParOf" srcId="{0A76FA3C-4157-448D-8B70-8C979A1CE884}" destId="{B9C2EFCB-A97B-443F-A643-301B03BBB677}" srcOrd="0" destOrd="0" presId="urn:microsoft.com/office/officeart/2005/8/layout/default#1"/>
    <dgm:cxn modelId="{AC05CBCC-091C-447B-9EC9-1C3AF2B462A9}" type="presParOf" srcId="{0A76FA3C-4157-448D-8B70-8C979A1CE884}" destId="{91A10D57-DF6E-44D3-A4BC-ACC55823D89B}" srcOrd="1" destOrd="0" presId="urn:microsoft.com/office/officeart/2005/8/layout/default#1"/>
    <dgm:cxn modelId="{8D3FFFF8-F929-4839-A18F-8F349EF35A07}" type="presParOf" srcId="{0A76FA3C-4157-448D-8B70-8C979A1CE884}" destId="{E4EB0604-5143-48FE-8766-41A2BCA925B8}" srcOrd="2" destOrd="0" presId="urn:microsoft.com/office/officeart/2005/8/layout/default#1"/>
    <dgm:cxn modelId="{E1F4AE47-4FC9-4266-A6F3-2FA14E1DD95A}" type="presParOf" srcId="{0A76FA3C-4157-448D-8B70-8C979A1CE884}" destId="{2A40A01E-272C-421E-BB34-A8C81AA00B62}" srcOrd="3" destOrd="0" presId="urn:microsoft.com/office/officeart/2005/8/layout/default#1"/>
    <dgm:cxn modelId="{F5037F80-A424-4CB5-864C-83FCE290273C}" type="presParOf" srcId="{0A76FA3C-4157-448D-8B70-8C979A1CE884}" destId="{E1C51FD5-4C66-4905-ACCE-934A90080968}" srcOrd="4" destOrd="0" presId="urn:microsoft.com/office/officeart/2005/8/layout/default#1"/>
    <dgm:cxn modelId="{D7C24D9B-A97A-4B45-A244-00ECF9E0332D}" type="presParOf" srcId="{0A76FA3C-4157-448D-8B70-8C979A1CE884}" destId="{1882BBA7-DF1A-4C9F-B525-094C09D9BF7A}" srcOrd="5" destOrd="0" presId="urn:microsoft.com/office/officeart/2005/8/layout/default#1"/>
    <dgm:cxn modelId="{9C4A20A4-D842-48F4-A7C7-A95918F2C02B}" type="presParOf" srcId="{0A76FA3C-4157-448D-8B70-8C979A1CE884}" destId="{D68B6C59-9C8F-46A3-A948-D00F2175A999}" srcOrd="6" destOrd="0" presId="urn:microsoft.com/office/officeart/2005/8/layout/default#1"/>
    <dgm:cxn modelId="{03BBAF6B-9ADD-4E0F-B601-C0C1762AF0D8}" type="presParOf" srcId="{0A76FA3C-4157-448D-8B70-8C979A1CE884}" destId="{9D620DAD-7291-48D8-8A92-CD6C297DA338}" srcOrd="7" destOrd="0" presId="urn:microsoft.com/office/officeart/2005/8/layout/default#1"/>
    <dgm:cxn modelId="{95060B79-B955-4B5E-8369-0444FB97B196}" type="presParOf" srcId="{0A76FA3C-4157-448D-8B70-8C979A1CE884}" destId="{80FF8218-DE8C-47FE-B7D4-B2F967E922CD}" srcOrd="8" destOrd="0" presId="urn:microsoft.com/office/officeart/2005/8/layout/default#1"/>
    <dgm:cxn modelId="{5A8DFE46-4114-4C8C-894E-42B622D7644C}" type="presParOf" srcId="{0A76FA3C-4157-448D-8B70-8C979A1CE884}" destId="{6ECF951A-5177-426A-82A9-10389BBF3279}" srcOrd="9" destOrd="0" presId="urn:microsoft.com/office/officeart/2005/8/layout/default#1"/>
    <dgm:cxn modelId="{D8AF552A-D836-4DEE-9A53-75F37E7E331A}" type="presParOf" srcId="{0A76FA3C-4157-448D-8B70-8C979A1CE884}" destId="{66812F60-387A-4154-A9D8-E7C4F3AFFCC3}" srcOrd="10" destOrd="0" presId="urn:microsoft.com/office/officeart/2005/8/layout/default#1"/>
    <dgm:cxn modelId="{BDC1B114-2701-41B4-B81A-74079AD56352}" type="presParOf" srcId="{0A76FA3C-4157-448D-8B70-8C979A1CE884}" destId="{19ADB020-E360-49E4-8174-23234C143D71}" srcOrd="11" destOrd="0" presId="urn:microsoft.com/office/officeart/2005/8/layout/default#1"/>
    <dgm:cxn modelId="{F9DD3A59-832F-4721-9826-A0C81876499E}" type="presParOf" srcId="{0A76FA3C-4157-448D-8B70-8C979A1CE884}" destId="{B216BF25-60E0-49EB-8B62-2A75FCF357AA}" srcOrd="12" destOrd="0" presId="urn:microsoft.com/office/officeart/2005/8/layout/default#1"/>
  </dgm:cxnLst>
  <dgm:bg>
    <a:solidFill>
      <a:schemeClr val="tx2">
        <a:lumMod val="60000"/>
        <a:lumOff val="40000"/>
      </a:schemeClr>
    </a:solidFill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#1">
  <dgm:title val=""/>
  <dgm:desc val=""/>
  <dgm:catLst>
    <dgm:cat type="list" pri="1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CC9-2ADB-409D-8A04-30ED9CFA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753-A0F7-4C8A-84DF-DCDDE149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32B-B0BB-4A90-9ABF-11656BDC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8BC-F69B-4062-8643-FB2A4D78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13C-A35C-45D5-94B8-0FAF4C84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6446-269A-460C-872F-27F302A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823-43DB-492F-BB94-D653D93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C32-72B2-4EF9-8988-FC1D64C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232-36BB-4DDB-81BC-9314B76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29DD-439B-4D07-8A81-87B0B6B2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AA27-A26C-4A59-A6D4-53AF0F3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83C-6364-4D4C-9D7F-FB6841F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907C-E607-451E-97E2-90A87B7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35FF-7647-4E6E-8EF2-161865E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6F1D-AADE-4484-8691-4BCCB03E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A48-2F41-46A5-A395-DE2BE724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86A-6286-422C-B699-94589FA9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53E3-C6BD-4EB8-B0A3-EC62FA12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24A2-7223-47C0-9F5F-E03AD56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574D-4C59-491F-ADA9-6D8D05F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3759-4F13-4BD6-B774-F43F249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8752-FC1C-460D-A3E2-9932CD8F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BD3-A402-4C49-83DF-34DF68F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07B0-D595-4DAF-99E8-301A31A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AEEF-F568-4AEF-96CA-D694372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A2B6-0728-4091-AFE9-4866200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34B9-857F-45EB-ADDD-B82EB099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6658-EFF2-4B70-B1BF-EEB62EDF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C174-E1CE-40B1-BFD7-5669AD9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94DE-7113-4370-8856-5E61C68C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3AA-7C41-4583-89AE-7E86AB4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016-399B-4E93-9CA4-E43F43F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450-DE24-4DDB-BEF7-DE5361F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076-29E0-44B3-A558-2319B13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8A7-7F7C-42AC-8E0F-61A146A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7E4-8F73-4C8F-8414-BF0583C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D0443A-66C2-4221-ADDD-31CE22299F42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44d26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a5b592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f3a447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d092a7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929C09-61DA-4301-A705-372866F524FE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db9ab0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C464E1-ABDC-44C2-979D-C2875D1B7C05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571800" cy="1642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СНОВЫ ФИЛОСОФИИ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СОЗН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:\работа дома\Сведения и отчеты\УКПК информация\логотип1-цветной.png"/>
          <p:cNvPicPr/>
          <p:nvPr/>
        </p:nvPicPr>
        <p:blipFill>
          <a:blip r:embed="rId1"/>
          <a:stretch/>
        </p:blipFill>
        <p:spPr>
          <a:xfrm>
            <a:off x="214200" y="1071720"/>
            <a:ext cx="1582200" cy="1661760"/>
          </a:xfrm>
          <a:prstGeom prst="rect">
            <a:avLst/>
          </a:prstGeom>
          <a:ln w="0">
            <a:noFill/>
          </a:ln>
        </p:spPr>
      </p:pic>
      <p:sp>
        <p:nvSpPr>
          <p:cNvPr id="141" name="Подзаголовок 2"/>
          <p:cNvSpPr/>
          <p:nvPr/>
        </p:nvSpPr>
        <p:spPr>
          <a:xfrm>
            <a:off x="723960" y="5500800"/>
            <a:ext cx="785448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rmAutofit/>
          </a:bodyPr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кимова Елена Сергеевна, преподаватель истории и социальны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1" lang="en-US" sz="5600" spc="-1" strike="noStrike">
              <a:solidFill>
                <a:srgbClr val="db9ab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643040" y="0"/>
            <a:ext cx="585756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3100" spc="-1" strike="noStrike">
                <a:solidFill>
                  <a:srgbClr val="444d26"/>
                </a:solidFill>
                <a:latin typeface="Times New Roman"/>
              </a:rPr>
              <a:t>Формы общественного сознания</a:t>
            </a:r>
            <a:br>
              <a:rPr sz="5400"/>
            </a:br>
            <a:endParaRPr b="0" lang="ru-RU" sz="31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66148165"/>
              </p:ext>
            </p:extLst>
          </p:nvPr>
        </p:nvGraphicFramePr>
        <p:xfrm>
          <a:off x="214200" y="928800"/>
          <a:ext cx="8929440" cy="592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Думаем и рассуждаем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звучит основной вопрос философии? Онтологическая его сторона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числите слова ассоциации связанные с понятием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ких смыслах мы чаще всего употребляем слово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Цели и задачи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содержание  понятия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ить факторы влияющие на формирование общественного и лич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аимосвязь индивидуального и обществен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7160" y="1428840"/>
            <a:ext cx="7829280" cy="4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9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080" y="1935360"/>
            <a:ext cx="56433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 algn="ct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444d26"/>
                </a:solidFill>
                <a:latin typeface="Times New Roman"/>
              </a:rPr>
              <a:t>"Сознание - то средство, вне которого нет ни знания, ни опыта, ни человеческого бытия …"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 algn="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К. Яспер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немецкий философ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0" descr="Великие немецкие философы. Карл Теодор Ясперс биография"/>
          <p:cNvPicPr/>
          <p:nvPr/>
        </p:nvPicPr>
        <p:blipFill>
          <a:blip r:embed="rId1"/>
          <a:stretch/>
        </p:blipFill>
        <p:spPr>
          <a:xfrm>
            <a:off x="214200" y="1428840"/>
            <a:ext cx="34189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20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1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5723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=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 (</a:t>
            </a:r>
            <a:r>
              <a:rPr b="0" i="1" lang="ru-RU" sz="4000" spc="-1" strike="noStrike">
                <a:solidFill>
                  <a:srgbClr val="444d26"/>
                </a:solidFill>
                <a:latin typeface="Times New Roman"/>
              </a:rPr>
              <a:t>представители классической философии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направленность на определённый объект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человек может ничего не знать о каком -либо объекте, но, если он выделяет его, направляет на него свой интерес, этот объект становится объектом сознания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амосо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: Дж. Локк (через ощущения и рефлексию – размышление личности о самой себе, самоанализ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овокупность идей: индивидуальных  или коллективных: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Г.Гегель, К.Маркс. В этом значении они употребляли этот термин, говоря об общественном сознании, классовом сознании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ознание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10" descr="Сознание — что это такое | KtoNaNovenkogo.ru"/>
          <p:cNvPicPr/>
          <p:nvPr/>
        </p:nvPicPr>
        <p:blipFill>
          <a:blip r:embed="rId1"/>
          <a:stretch/>
        </p:blipFill>
        <p:spPr>
          <a:xfrm>
            <a:off x="0" y="0"/>
            <a:ext cx="2999880" cy="2255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5768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4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ая, свойственная только людям, связанная с речью,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2" descr="ᐈ Сознание фото, фотографии сознание картинки | скачать на ..."/>
          <p:cNvPicPr/>
          <p:nvPr/>
        </p:nvPicPr>
        <p:blipFill>
          <a:blip r:embed="rId2"/>
          <a:stretch/>
        </p:blipFill>
        <p:spPr>
          <a:xfrm>
            <a:off x="5810400" y="4357800"/>
            <a:ext cx="33332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259200" indent="-25920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информационно-познавательную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– получение информации, знаний о мире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коммуникативн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обеспечение межличностного общения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регулятивно-управленческ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регуляция индивидуального поведения, общественных отношений, управление поведением через сферу политического, нравственного, правового, эстетического, философского и др. сознания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ценностно-смысловую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– прояснение смысла и значимости явлений, событий и поведения людей; их оценка с позиции потребностей, интересов, ценностей и целей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ворчески-конструктив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выдвижение новых идей, открытие, созидание нового, изобретение, конструирование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немоническ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ли функцию памяти – исторической, социальной, культурной, индивидуальной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ультурно-воспитатель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нкцию, связанную с образованием и воспитанием людей, человека;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уховную функц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риентирующую человека на высшие смыслы, ценности и идеалы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труктура сознания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329320" cy="46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214200" y="1285920"/>
            <a:ext cx="2428560" cy="2214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Ощущения -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свойств предметов, воздействующих на наши органы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3071880" y="3714840"/>
            <a:ext cx="2642760" cy="1571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нимание </a:t>
            </a:r>
            <a:r>
              <a:rPr b="0" lang="ru-RU" sz="17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правленность на определённый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6000840" y="3857760"/>
            <a:ext cx="242856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85840" y="3857760"/>
            <a:ext cx="249984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2928960" y="1357200"/>
            <a:ext cx="2499840" cy="17856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ля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нательное регулирование человеком своего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5786280" y="1357200"/>
            <a:ext cx="2785680" cy="2142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Мышл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сшая форма отражениия, позволяющая понять сущность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492912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Память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ошл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1"/>
          <p:cNvSpPr/>
          <p:nvPr/>
        </p:nvSpPr>
        <p:spPr>
          <a:xfrm>
            <a:off x="64296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ображ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дание нового 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506</TotalTime>
  <Application>LibreOffice/7.4.7.2$Linux_X86_64 LibreOffice_project/40$Build-2</Application>
  <AppVersion>15.0000</AppVersion>
  <Words>365</Words>
  <Paragraphs>56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1:50:29Z</dcterms:created>
  <dc:creator>Дутф</dc:creator>
  <dc:description/>
  <dc:language>en-US</dc:language>
  <cp:lastModifiedBy>Дутф</cp:lastModifiedBy>
  <dcterms:modified xsi:type="dcterms:W3CDTF">2020-04-21T11:27:20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