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AD6-9783-4DDA-A2DE-23A1EA1E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4D7-BFEF-4E82-A243-9F2B2AF9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71D4B-D1C0-41E1-8E1F-93118794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D159B-4745-4157-AD38-4DAB8023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A719B-D87A-434B-A1E4-A97CEF0B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FFBAA-B6F6-40DD-B7C4-157F023E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03297-471C-4275-A83A-EFC0EF8C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04120-5497-4152-A3B5-D464EB4D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0F6E6-20A3-4CA7-AC26-848C4139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931C3-507F-4BF9-806B-FDD5D5FC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89E56-55A6-4943-80D1-D8687A08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E94BA-D16E-4376-B91C-B91344B5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198-0143-41EC-8290-95E81391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85BE8-3366-4828-A049-62A95FC2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75AB4-802B-49D7-BAB3-E7DFB296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B3D6C-7ABC-41E3-AD70-8B10C718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6F17A-E2B9-4B73-ACB4-AFAB06E5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48823-9829-41D9-8E91-C705FEB5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AF738-A0D5-4294-BBE0-31105887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CF263-3955-422B-9A5D-BCA9BCE0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37523-F44F-4ABE-9D50-5F769474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2FA89-6A13-4D36-A4E2-86D471CB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EA0E1-28EF-4E42-B0FC-6DE86B5A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A34A-1FF3-408B-B04B-D8C483BF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BB599-FF27-499C-A2F0-5E1B03E8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13E7F-4971-4E69-A17D-E068F06D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DCBA6-DE7F-4744-ABC6-611279C1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B5617-A646-4980-8607-3C004A72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EE25E-96BA-482F-8A81-2F9B7967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998F7-08CE-471C-93F2-BE714933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56A06-570C-47B1-8CCD-F6CAE9DA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0B449-76FB-4599-93BC-C7B46BF1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C3C58-A151-448E-8A03-9E1B7AEE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0679D-5D86-4C70-87F2-058E3EC4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14D5-7A0C-498E-A566-020B2C66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58B41-660B-4436-BB6F-D86A70AE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5EED9-84AB-498E-A3C2-6021717D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411F0-2964-49DB-8AB4-5494844C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FE279-F164-47DB-BB7E-20EBD420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880AC-B30C-480D-87A5-D8492900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B6E78-CF74-43C3-B00E-2C4B3686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187B7-8C3A-4FDB-8963-DB7DE800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0B71E-45E4-436E-B3EA-A7D8F4D1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8152B-525C-4BC4-AE8F-0EB91E5E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4D466-7C04-456B-9F48-C62AD518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0897-9F3B-4790-800E-10467EF0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0A3CA-3269-4150-8948-F3EE8C65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E3F64-7276-449E-A5CB-B0CAFA12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D0DCB-E561-41D8-B3F1-E79859F3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80ECB-28F9-4281-A21A-2FF99719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3063E-FAA7-4513-A57F-70EB5928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0C5AB-7FB1-4C36-8A3E-F3A335C4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2C013D-1CF8-4405-807F-36037B1E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5FB6E-AF50-4DE9-98B6-7887B4C4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6CE51C-D1DC-4FD2-AF81-7E10F917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6C3BB-61D1-495E-8084-5A73E2ED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E2E0-0905-4A27-B223-B07D30F9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9379F-4B13-4724-9864-878CAB78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C33147-C883-4878-BC6B-CDD032FE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F3DB3D-6B8A-42C0-8DF6-025BDF5A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1D076-8049-4EDE-B3BB-D183942B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BC3EA-45AF-41AC-804C-60AA187E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DF7C5-7A6B-4A11-83E5-E0ACB662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6BFF9-F3AA-4E64-BAEA-415D61E9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CCC758-85AC-4721-B176-803470E4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342B1B-40D6-4EA9-8394-4B67CD3F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643E96-D94F-45BE-8A58-E2B7686B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E71E-C07B-41DE-9CCF-979C6E40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0EBF58-5407-4134-AD69-62F9B3FC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FC909E-33CC-4244-BF22-C2CC47B1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6F9AF-BFC5-4FBE-AF25-0675D871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8C05C-616E-4E13-9409-89D0567C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76FE73-6B92-477E-BA95-4A800782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B0804A-920F-430B-A127-496D2DDA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5CF37E-C78B-4481-BF67-B8652166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AF53DE-48A9-4400-84C5-F7787F30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8481FF-A9F4-4433-A342-1102BBE4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6AA00-9D71-4508-AAD4-8C861113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80D1-1C3D-45FE-B3E6-76BF964C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6E631B-5AF0-495A-AC5A-A5E46481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962E0-55AA-41C1-ADEB-459D825E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A6B747-8FB0-4276-80A1-8AAAAD54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0A9284-4FF1-47FA-B0FA-AF0D8134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29CB12-4543-4638-9DBD-B7DFAA11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AD5A8C-B7E2-4E74-9028-A41FD517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57FC95-EBE0-4A93-99FD-F56897EA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5146E3-28E5-4306-8932-242F1DD4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13144-0B0F-4C6B-A3F7-3BCC009E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A52BCE-ADC8-47BF-BF87-E0A38EDA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97CA-88AE-4162-AF05-5AD5C481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79D973-DC3C-4DBB-AF31-E7E1FF6E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E66312-A4A2-4DA4-A4F8-E4329136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095424-B610-499B-AFF1-176D1E04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90825D-183B-4556-88AF-142BFDC5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6161E5-5EF7-498B-9BDC-7276B2A8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7D9B58-D46B-48A1-A077-BB105B44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801DC2-2AF8-4A47-9365-989B9676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16C83A-3525-4417-9631-CD728E9B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361AFB-F54C-4653-AF53-61500B42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88AB0F-C330-407B-8FE4-251ED8F4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2521-067A-477E-B9A2-643DBED0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B43CCA-CF1A-4EF7-A8CB-FA64E738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03DAF0-994C-4FA3-96CE-AE5C3E01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C17497-7630-4632-8C20-763B8ECB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A12F0A-1E5D-4E99-9BC0-04C4E163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84E428-5488-4C48-882B-7B107923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71F1E2-953D-4360-8D11-F111092F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D2AFC6-56E1-4D39-9E99-0697F6C3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2B56A-1BF3-41BD-B821-63889957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14C172-9C6C-4B2F-972D-CEA6389D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88AEDE-A4B8-4153-A3DB-0CE15815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160B-7962-497F-BC15-2B53164E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FD0B-7CF8-450C-9BCA-FCC27C33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0FF468-0FCF-42E8-BB37-4AB10571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9603BA-FD08-4335-A97D-F0F79B62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3EE7CC-AE25-4140-A199-92EBBE4C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1D2338-B90A-4BF6-9725-FCC64232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A48645-419B-470D-96A1-ECF0508E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DA1E3C-03F9-44D7-8ED2-B77223E9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F0BFCB-FF2C-4595-A5D3-2DCF13BA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FB5565-E0D8-43E0-87E4-8323CD09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7E6041-8A43-49AE-A8A8-7778AC79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763EE4-FBCF-4AC2-BE27-03982EF2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BF5E-3B75-491F-A972-D3C57701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15D0A4-F2FB-4B8C-A2B6-C6ED6976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7B6D8F-1E0A-4A59-ACE8-95EE90EE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F92557-BCA4-4B84-B8A8-D05D01F0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26AF28-3035-47E7-9383-CA4CC628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BB5027-117F-461E-9602-2B75C553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0AF61D-AA56-4AF7-8070-14467E1B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FB5666-1455-4E25-B0B8-1849D82F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814C-47EB-43FA-AC87-E0215C03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49D5-0983-4761-B403-BDB93230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7075-F2B9-47E2-9BE9-65562D16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D0599-ECA0-400A-9706-D3AEC7A2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789B4-E83D-4E98-9F5C-7A23C49D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8F007-2096-4D40-9877-F4590FFC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AE659-7BF0-4A0E-93E2-EBB9FA11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BE483-6032-4CF8-BC08-23F290F8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F1A-DA58-45AD-8EE8-C5E1CD91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2D08B-72C8-4F4F-BA0E-CC7D0765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48964-6F20-40D8-97C4-83D590A1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02106-466E-412B-8320-6E645946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A857B-97F4-4D61-AF21-09037F58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00672-75CD-417A-9E11-33DBB292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B4FD7-5303-49E6-90A7-3997D746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075AC-AE8D-4B5B-AD87-FB103097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EC4F0-F3C4-4D0E-A7DB-4ABC9EB5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0AC74-2C55-431B-99AB-86850293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BD4DF-6E30-4626-A350-AEA6A816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E08D-FF8B-4AF7-A06A-CD52DB8B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4B3BF-BC8C-4089-8CB0-4D44D449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ABC26-5461-4D29-B04A-1EAA0080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22C13-4BDF-4997-8031-881CD76D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D8393-4993-4F7F-9948-D7DB303F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22B78-F92E-4460-9F06-026F108E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53710-057F-4517-A58A-BB48BBCB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3730C-C1EC-4562-B50D-3EC1E396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B625C-EAB9-4780-A177-38D37137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4C22D-77F3-4D84-AAE7-8D6CCFCE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BBB93-2667-40B1-91FC-C35D25B4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815-F014-4F82-8672-798EB354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B20B9-5F4A-498B-9445-EF1ADF97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496E1-9DB8-419D-ACB3-13223BFF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DE5D1-75B1-42ED-A321-CD10E793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5FA98-2ECA-4705-998A-449C61CB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64D8D-3A18-4047-8551-AF0C6C11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DC0BE-C99A-4DAA-81DE-3B0AFF19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06720-F55C-4667-89E0-48A36C3F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16FA9-C2E8-45B1-B6A9-9555E308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B3484-5D9F-4E19-8FAE-7576F58C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D089D-6971-4AF4-A8B2-F6E2EE58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6AD3-B37E-410A-89CB-0910F8AE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31D77-C643-4D6C-AFA4-524CE2B4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1231B-60CC-460F-B7DA-7485FA99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ABB75-BE47-4153-922C-45B93124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01407-D660-465F-B916-294AB65C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238E7-16CC-4A6B-B282-01FE8F0E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D234D-6CB3-4238-895F-91A9279D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273E3-AA0C-4927-A893-80110EF0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345DD-72A7-42E2-B5F1-F0836D8D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4C412-4516-4E9D-83D3-C255C126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97A27-3E7E-4B66-8479-1C9A1F1F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94C-CEC3-40F2-A560-289E8B70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0F4A0-E9D9-4915-8A04-9EABE36E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14BB0-58EF-4E7A-81CE-6E7CBB21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038A8-721F-4BEA-BE83-8DF75176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4BB23-3D23-480D-95E4-1710B046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4BB9A-17D4-4E45-BFB9-C2A75BC5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F1544-5C31-41D7-BD73-70FF94C6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0B03A-DDD4-4470-BFB2-F2CB19A0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BC9E2-D988-4BFF-B363-AD576E49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E1BE6-9581-4D67-B831-574C1D4E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9E670-CF0F-4041-968C-46042972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0F5-3D3B-4DD9-8717-8A8FC5BC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8DA25-11B4-4640-A509-56161BD2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F8D75-8E75-4B78-A21D-20D34D0C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0D2D5-B83C-420D-843A-84F6A3A1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8C0A3-50B3-4DD0-A60C-AC7067F6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9E01A-8FFB-4BA0-9BD2-97211B3E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D1666-BBA9-46D0-B9DB-B2811DB0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3B158-C4A8-4F81-BF80-C4667F2B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59219-BB33-4D3F-83EF-02825442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BBB3C-9F28-4039-B956-2B2BEF22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62002-3E78-44AF-B72E-4520D61D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50D-2191-44D7-8B58-03BF1E5D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05C1B-C83E-4F2C-897D-1157006C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5F9D4-4AC4-4D0A-B765-ECE96877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C425F-7D08-4C28-BC5F-11707277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FFF7C-01B5-4740-A118-116C092F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8CD2D-0B2F-4937-99F1-12A0FB83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A202E-C5E7-4799-A8E4-5D3A4786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5EFB0-FD44-4891-B30F-FE4C4060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A5F57-2C21-463A-AE0D-6210B642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9E2AD-5FE2-41B5-9A26-182F8279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9AE52-17EF-49A5-8F69-4F93FD40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8768-B378-4F38-B7CA-5F55D69EDDF7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3146-C68F-421C-A8A5-D47396CF6FD1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19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25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26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0CDF-DB0A-4E77-9E1E-63CAF1170EE8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20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21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22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23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Rectangle 24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BDEE-4313-4814-A56C-51FE630502D4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28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29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30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31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Rectangle 32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1" name="TextBox 12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9962-2B5D-43B3-A8ED-FC09F4B9635C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21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22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23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24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Rectangle 25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F68E-F1D9-4E8A-80A6-8B32FA44A840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22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25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F334-59E9-4E9A-A720-0548B53BA577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33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34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35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36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Rectangle 37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2751-3829-431E-9062-DCAEE443B05B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15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16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17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8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Rectangle 19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65D6-5B1A-4160-ABF9-8B4EF6846137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13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11"/>
            <p:cNvSpPr/>
            <p:nvPr/>
          </p:nvSpPr>
          <p:spPr>
            <a:xfrm rot="5400000">
              <a:off x="5362920" y="1959480"/>
              <a:ext cx="528624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Rectangle 12"/>
            <p:cNvSpPr/>
            <p:nvPr/>
          </p:nvSpPr>
          <p:spPr>
            <a:xfrm rot="5400000">
              <a:off x="7289280" y="5462280"/>
              <a:ext cx="1433520" cy="13669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E138-615F-4CFA-9A06-4AE87CCF61B3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EEFB-4970-49F2-BE76-FE02C0423C2C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2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2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2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3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83F9-0F1C-4679-8AC7-5EB77881B846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1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20"/>
            <p:cNvSpPr/>
            <p:nvPr/>
          </p:nvSpPr>
          <p:spPr>
            <a:xfrm>
              <a:off x="0" y="27288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21"/>
            <p:cNvSpPr/>
            <p:nvPr/>
          </p:nvSpPr>
          <p:spPr>
            <a:xfrm>
              <a:off x="7710840" y="272880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0F9D-757C-429F-8B18-0A96F909D280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6455-1C34-4CBA-B7E9-84406BE2A760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2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2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2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3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B504-C8FA-4EAF-9C0C-F699BD7A4365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4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15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16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7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760D-B4ED-4290-9FCD-6388B7A6BEE9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3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73FE-F4CD-439F-AB37-F701C9F61255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0E47-5187-49A2-A54A-16F6A1BA3CD4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3160" y="752040"/>
            <a:ext cx="688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at’s the tim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38" name="Содержимое 7" descr="Безымянный.png"/>
          <p:cNvPicPr/>
          <p:nvPr/>
        </p:nvPicPr>
        <p:blipFill>
          <a:blip r:embed="rId1"/>
          <a:stretch/>
        </p:blipFill>
        <p:spPr>
          <a:xfrm>
            <a:off x="895320" y="2127240"/>
            <a:ext cx="2616120" cy="315108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 txBox="1"/>
          <p:nvPr/>
        </p:nvSpPr>
        <p:spPr>
          <a:xfrm>
            <a:off x="5032440" y="5297400"/>
            <a:ext cx="3657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t’s half past eight.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Половина 9 (половинка после 8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0" name="Содержимое 6"/>
          <p:cNvSpPr/>
          <p:nvPr/>
        </p:nvSpPr>
        <p:spPr>
          <a:xfrm>
            <a:off x="755640" y="5272200"/>
            <a:ext cx="3657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t’s nine o’clock.</a:t>
            </a: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-9 ча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1" name="Рисунок 9" descr="Безымянный - копия - копия.png"/>
          <p:cNvPicPr/>
          <p:nvPr/>
        </p:nvPicPr>
        <p:blipFill>
          <a:blip r:embed="rId2"/>
          <a:stretch/>
        </p:blipFill>
        <p:spPr>
          <a:xfrm>
            <a:off x="4998960" y="2127240"/>
            <a:ext cx="2529000" cy="3146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3160" y="752040"/>
            <a:ext cx="688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New word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08000" y="2133360"/>
            <a:ext cx="3952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) o’clock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alf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as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get up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ave breakfas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ave lunch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ash fac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o homework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3851280" y="2133360"/>
            <a:ext cx="529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(семь) часов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половин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после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вставать (просыпаться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завтракать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обедать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умываться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делать домашнее задание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at’s the tim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6" name="Рисунок 3" descr=""/>
          <p:cNvPicPr/>
          <p:nvPr/>
        </p:nvPicPr>
        <p:blipFill>
          <a:blip r:embed="rId1"/>
          <a:stretch/>
        </p:blipFill>
        <p:spPr>
          <a:xfrm>
            <a:off x="749160" y="2700360"/>
            <a:ext cx="7499520" cy="4181400"/>
          </a:xfrm>
          <a:prstGeom prst="rect">
            <a:avLst/>
          </a:prstGeom>
          <a:ln w="0">
            <a:noFill/>
          </a:ln>
        </p:spPr>
      </p:pic>
      <p:sp>
        <p:nvSpPr>
          <p:cNvPr id="847" name="TextBox 4"/>
          <p:cNvSpPr/>
          <p:nvPr/>
        </p:nvSpPr>
        <p:spPr>
          <a:xfrm>
            <a:off x="1841400" y="1847880"/>
            <a:ext cx="585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It’s seven o’clock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Рисунок 13" descr="игры.png"/>
          <p:cNvPicPr/>
          <p:nvPr/>
        </p:nvPicPr>
        <p:blipFill>
          <a:blip r:embed="rId1"/>
          <a:stretch/>
        </p:blipFill>
        <p:spPr>
          <a:xfrm>
            <a:off x="2840040" y="4273560"/>
            <a:ext cx="3341520" cy="232884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07640" y="691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eter is 6. He doesn’t go to school. Make a story about his day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eter gets up at...(washes his face, brushes teeth,has breakfast,plays games,watches fairy tales, plays football, goes to bed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50" name="Рисунок 9" descr="вечер.png"/>
          <p:cNvPicPr/>
          <p:nvPr/>
        </p:nvPicPr>
        <p:blipFill>
          <a:blip r:embed="rId2"/>
          <a:stretch/>
        </p:blipFill>
        <p:spPr>
          <a:xfrm>
            <a:off x="357120" y="3000240"/>
            <a:ext cx="2484360" cy="1656000"/>
          </a:xfrm>
          <a:prstGeom prst="rect">
            <a:avLst/>
          </a:prstGeom>
          <a:ln w="0">
            <a:noFill/>
          </a:ln>
        </p:spPr>
      </p:pic>
      <p:pic>
        <p:nvPicPr>
          <p:cNvPr id="851" name="Рисунок 10" descr="водные процедуры.png"/>
          <p:cNvPicPr/>
          <p:nvPr/>
        </p:nvPicPr>
        <p:blipFill>
          <a:blip r:embed="rId3"/>
          <a:stretch/>
        </p:blipFill>
        <p:spPr>
          <a:xfrm>
            <a:off x="3000240" y="278604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852" name="Рисунок 11" descr="дневной сон, ночной сон.png"/>
          <p:cNvPicPr/>
          <p:nvPr/>
        </p:nvPicPr>
        <p:blipFill>
          <a:blip r:embed="rId4"/>
          <a:stretch/>
        </p:blipFill>
        <p:spPr>
          <a:xfrm>
            <a:off x="5786280" y="2714760"/>
            <a:ext cx="2810160" cy="18716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2" descr="завтрак, обед, ужин.png"/>
          <p:cNvPicPr/>
          <p:nvPr/>
        </p:nvPicPr>
        <p:blipFill>
          <a:blip r:embed="rId5"/>
          <a:stretch/>
        </p:blipFill>
        <p:spPr>
          <a:xfrm>
            <a:off x="428760" y="4643280"/>
            <a:ext cx="2808000" cy="1872000"/>
          </a:xfrm>
          <a:prstGeom prst="rect">
            <a:avLst/>
          </a:prstGeom>
          <a:ln w="0">
            <a:noFill/>
          </a:ln>
        </p:spPr>
      </p:pic>
      <p:pic>
        <p:nvPicPr>
          <p:cNvPr id="854" name="Рисунок 14" descr="прогулка.png"/>
          <p:cNvPicPr/>
          <p:nvPr/>
        </p:nvPicPr>
        <p:blipFill>
          <a:blip r:embed="rId6"/>
          <a:stretch/>
        </p:blipFill>
        <p:spPr>
          <a:xfrm>
            <a:off x="5643720" y="4500720"/>
            <a:ext cx="313200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mework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533160" y="2336760"/>
            <a:ext cx="6887880" cy="10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Trebuchet MS"/>
              </a:rPr>
              <a:t>Lesson 55 (Workbook),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Trebuchet MS"/>
              </a:rPr>
              <a:t>Ex1 p.103 (Student’book)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3:27:19Z</dcterms:created>
  <dc:creator>босс</dc:creator>
  <dc:description/>
  <dc:language>en-US</dc:language>
  <cp:lastModifiedBy>Людмила</cp:lastModifiedBy>
  <dcterms:modified xsi:type="dcterms:W3CDTF">2020-04-23T08:36:38Z</dcterms:modified>
  <cp:revision>55</cp:revision>
  <dc:subject/>
  <dc:title>Слайд 1</dc:title>
</cp:coreProperties>
</file>