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C0C-4F68-4509-BE20-5EBAF7D7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A8C-94F7-45D5-AB13-1C440DF9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235E5-A665-4D9F-A267-BF00094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950C7-A227-4D12-B80F-4F375E7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755A-753F-4BC1-BC3F-3976A96A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F8B8B-486A-4631-93AB-EF309EE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4CD83-85B6-4733-9A06-B4E1557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1965-1C9E-4751-AA91-4C79DB3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229B1-CAD4-4FAB-9177-DA03EA39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EEE71-1AA0-4D24-918C-51333D1E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C8BFB-DC3E-42A8-B136-325D2C0A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8D3A-3911-4568-BF2F-05F8FA85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293-CFD1-40EF-9027-F2CA3002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D94F5-3DCD-4D28-8482-0EB57B47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8C096-1436-47E0-9DAE-47475E5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6AEB1-46EE-40B7-870B-88FCE29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09C2E-2DDB-4B1F-B5C5-C12B68E3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9BABB-0997-40C7-A179-528F04D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28406-11D5-4B4D-A955-64DE9A1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703F5-8BB6-4D23-88C2-A8753E0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91BDF-5CCA-4B14-9699-D75AA5F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D5131-71B6-4A05-BE84-6E8A75DB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8E3A-3892-4CCC-A0C1-69126E39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AD9-40E6-4AD6-A641-1B56D623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7B4BD-42FD-4B6B-A1CF-19B7531F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2631-34CB-4514-8CE1-B2FAE07A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9DC8-545B-486A-8563-768B050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EAE30-101C-4C1D-A122-6B096EA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47CB1-552D-4CFE-8D8E-9C9D535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0999-23B0-4D34-B2EC-26D4EDC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7F85A-1315-4CED-A78F-C670518F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0F12-93E4-40F1-845F-5C0BE8D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35AEE-5A5D-4240-9E3E-4BAF1CF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02DD-DDE3-4AAF-943B-7A2F435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30FE-CFE0-41FD-8596-8151A329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4006B-8284-4DBC-B617-85D0B52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0238-3970-4518-9D99-1141DEF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F9FAF-D12A-47B4-8164-957F7D33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AAFBC-EB00-418B-AF68-891D6556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15807-DEB1-43D5-A3E4-D0368AE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9D76-E21C-4400-973D-C5CEDCA6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9B420-544D-4A97-A6A0-EDCF9E5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87FA-2178-4F01-A230-E4D08A7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41C33-08AF-47D5-AAC9-892766A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8B8C3-3357-41CB-BFF3-69267A1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1765-C6B1-43F5-8B94-56F21C64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D7D0E-6215-41FD-BB94-0744AEE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CD507-208B-478C-9BE9-5044839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926DE-0251-42FA-8E84-3475A54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308CB-057B-4DDC-B671-D3B779BE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23ED5-8330-4C97-A69A-41695EE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D0569-51EE-45E4-A80C-8D0F41CA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AEADC-C06A-4616-BED7-9E1CED4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5029C-C7AE-4015-B6A4-ADB1DD31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7FA90-ACE4-43BA-8FA4-E3555DF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9B428-E058-49B4-A1DE-0D44CADD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EEC7-0159-43E8-A56E-E73F826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AA9F7-FCBB-41AA-85AB-9EC0C5E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1205C-A08A-4A63-B0B8-477A81B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9DE8D-D43B-4941-9A26-5055D5A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13A02-5E7F-43EE-9661-12642CB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8259F-D4CF-4C4D-B5C0-F9980FF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74D12-7102-4581-BB5A-E68EF1F8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4D8D7-DAF8-41F3-B318-3690A05E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ADE5A-7533-4CD3-92D6-8054FF3A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49884-9D60-48ED-B8AA-532A98C3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FAD84-4501-4358-B22D-76A4B90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0ED0-5532-4DB7-96B9-E1FE8286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C1C63-8746-4C19-8E9C-2853850F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1AC2D-332C-47AB-9F50-EA602CB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D6762-91E9-4872-8560-D342E73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0EB0B-EC58-492C-9C59-86CC7DB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81C75-5AD9-4BB6-88E3-2324629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BA6F0-02D4-47FA-AD40-BFA44AE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0777A-C37C-4E2E-91B0-AB228AF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18405-6243-4C4F-B0B8-9D1EB054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36A01-AB0E-4A56-9D5E-42180273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1C333-7A1C-432D-A4FA-3BC25061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C32E-0BF2-4EAA-92AB-9579F579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06A30-8861-40A8-878E-4DDB102C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1E469-3C81-4258-9A40-527AE8A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8FD7C-8902-4761-AC28-5D4FC44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A907E-7AFD-4261-8265-716FDD77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3301A-EDDA-4A3A-A7CC-034DF0DA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C7F58-2110-441E-BF02-39A79F4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C0DBD-EDE5-4E54-8050-23B8376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48C46-FF91-4A78-B707-E587602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74A4D-52C3-4A4F-BD2E-EDCB5ED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CB8C5-EAFC-4B01-9D6E-00086311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DFB-5E62-4967-91F6-92458D2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BB6B5-6D08-4CCE-8CE3-FEDAE090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7746E-CA90-43FD-8D0F-18444745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D37C7-0504-4774-BD73-FCD1EDF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8F1A0-BDA5-4CA9-9A3A-FF20339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600DE-12EA-4D95-AF08-424EE90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5D1F1-D997-49E9-A159-04EF66A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EDAED-0019-4DFA-B42E-C1D25DAD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2E6EA-BB0F-4B23-820C-E8002C3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E1531-ACDE-4488-B67E-D2BBB71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26BED-0638-42C9-B266-D1186701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3965-F2A1-4D46-8AF9-8228028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199029-5084-4774-9753-DB5F1AA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A9988-6A42-47C3-A8E6-E4B1AB5D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B1E42-4A2A-45E1-B95F-D084EE99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B1E28-B730-46FE-9B31-ACC13A4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847BF-0B5B-4F21-BC1B-0CDC79C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83E21-CF1A-4B6B-B9D6-8D0F25C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F6D04-8400-4A6A-9267-863330F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7C001-6EE5-460E-A70E-23D41915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966D4-0341-4E2E-8974-4A43660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64562-B173-46A6-80C6-76AFBBA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A3C-6254-436A-8A5C-7A0F609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DF7-9CEE-49A4-84D2-14EB15E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CC52D-5C5E-43F7-8384-B9FB447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2C08B-3A99-436B-BDB4-D56BA5C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02A20-F90E-4F8E-BFDB-FD261D5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3EB13-8319-418A-80E8-0011EC98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1BD4D-2FBB-4CF5-8EB0-0A8DEB0F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687E0-20AF-4CE1-BDC3-0BCA8A65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2882EC-AE88-4894-B02D-52BFFEE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3D586-7572-41A2-9FD1-D699EDE6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9A18B-2859-4633-8F61-E3140E19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44F52-AE01-40F2-8ECF-374469B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31EB-6FB7-4F17-9340-04EA24C4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1F5BA-621F-48CC-A754-0E3289C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C77E3-5812-4BAB-BAC2-BAE2F1E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0F340-F21A-4C78-BF63-F4DE3D7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63098-D8E8-4491-ABDE-9EB6E9A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99126-5B59-4A51-AC48-9450862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F1669-1ED4-43EC-B91D-92D7C2BF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CB7AD-51D8-4EC1-9F04-DDE138C6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543C-2D2C-4D95-992A-7489000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7F23-7EBA-428D-BAB6-0E84823C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339-EF25-4EFC-AE2F-AFE59E4B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69B4-7B9E-45C3-B39B-C05B82F7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0B24-629F-4717-890F-ECFBCF2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4C27-73BC-45E2-8C0D-8019336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3A6F-F3DA-4758-AE41-F25ECB5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E349-14A7-42D8-9294-3A7FCBB3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15F-4236-4799-82AF-90CCF4F4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CB68-DFCE-4BDE-AEE4-4816A5C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1EFC-B993-4D4F-89F8-EF25176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80BD-60C5-454E-AAD2-FB54748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F85D-9D50-4FDA-B5F1-2579BE2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1B00-52EB-4AC9-B26B-C03ABDD2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3F90-B714-48E9-B2B6-42E4DFEF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7E89-58F3-4E8C-A0C5-9BE1BB9D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A9E3D-1C49-4A0E-A22C-D6E7AD3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D464-986B-425F-98FF-AC00090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74C4-DAC5-4C44-ADE7-739E706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1BC-333F-4662-95E8-F3FE5DB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3843-EC83-4297-B908-EC38F73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8FED-96C0-4179-A510-C803441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B77E-BC75-4F9C-AF8D-C94C248A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F19E-EA7C-42B8-9495-35AF8CD7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C39E-C76F-4006-A46D-64461D1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C518-A599-46D1-93F0-0B75797D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3802-8110-420E-B126-5049A18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A7D8-BF2D-4D9F-94C0-A15FC4F8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260E-32AA-4775-93C9-D8341F42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86A6-E64C-4760-B47C-FCCA29DA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5A8-F2AF-4525-BF3D-123D6AB5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F1DC-7267-4B07-968E-85A26DE2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ED090-3610-4F61-8A9F-1120A9E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9BF5-8F11-4FC0-9111-A3A7989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D783-601B-4AE3-9FBB-68774C1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BD68F-84D3-4688-89FA-F21CE7E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305E0-EFF2-40C1-8A54-BD4524B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B946-4555-47E3-9DF2-E78D6FB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9699-973D-48E3-BA43-6EB3247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2538-3F5B-4CEF-9297-B4F0803E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37A9-B7F0-4813-9229-8DF28A0D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B6A-72B2-45C7-8902-B1C7F7E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5EE6-3861-4ACC-9E08-14FDE11E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C8C7-4450-4F2B-8433-5C80F924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2880-BB75-4E8F-BFEE-D1B1C62E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EAD1-759C-418B-912E-5375C0B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B9B3A-9D2A-4A7D-85D3-C323F41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2D67-A838-47CD-87B9-FA7F122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AF001-498C-43BF-B509-BE3ADE1D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91E31-B92C-4391-9223-FFD9375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79D9-65A9-42BB-92D9-FCD2912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51E2-7F5B-4FA5-B523-B827BDD9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0EC-74C3-417A-881F-7E87895E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6C85-13CD-4D42-B9C6-DF1C6C9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08788-BAA6-4E70-A717-B12F8BC0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6DC6-31FD-4AC3-B8C2-BA1ED5B2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F7993-C109-4DA2-BB75-CBF15DDF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4DCA8-6E11-431E-9CEB-2EBE68B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67E67-BC23-44EC-B414-DBE1C23F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6F93-1759-4DB5-B018-A13F491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98E12-B9CC-485D-BB79-B00A6BC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7805-455E-4881-89D0-B5C932D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7116-A16D-4260-A37F-2C00611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38E4-1FBE-4387-8917-37C2FCEF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666C-ED72-4DFC-84C6-5D33F25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4F98-6350-42AE-AC8E-0994004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3623-5E13-4609-9DB9-5287290E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2E2EC-06FB-4C72-809D-4A8770C6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EE14-591B-4B21-8445-9EA768AE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58E7-5A6E-4E88-907E-8F999ABD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54E0-95CD-4367-A1A2-33E018B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3C12-6416-4A12-A486-C75A08EF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4EDC-8A7B-4928-880E-E2C3662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6870-1F0F-4957-B276-3939912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6B7-DE10-459A-BF90-B5F76EF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F911-E806-41BB-9B35-70D869C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E9FA-8363-4149-85D3-95F6D3D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2FE1-296A-4D1D-AE59-54D9A6DB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8D45B-7240-4305-BA76-0EFA6F9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D613A-31F8-4B1D-BC9F-ABF4B5A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3A92-02E2-40FE-9339-9EB30231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8B7B5-4E2A-44F6-8A45-F7283164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71734-8D35-44B4-9BD4-C9A96D59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AD2E2-6E89-4FF6-96EA-C64D8986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311B6-48C4-4EE8-8B2E-31F3FD0A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803-5E84-459C-803C-A8F53309563F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402-AD31-4993-8B34-0F21014B8DF0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41E-AC23-4024-941D-0EAE93E17495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AD46-352A-4C06-95F3-68C457DE0991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EA2F-5A67-4AC8-BFA8-45E9D3AB16A9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DA3-D555-44B2-83FB-BEA5AF8CEF2B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C8D-897D-4115-AE52-9A53DE3EEDF8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9194-AD19-4D10-9392-890A5E84F4EE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55D-39D8-4D9B-9565-027C40088A1A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7096-D5AE-4FAD-8B06-1B5C87834C7E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FA0F-7B10-48EC-AC85-38C6A64698B2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4AE-B0BF-46F6-8F60-A2DA9EC725AB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FAAA-D207-442B-B987-D50BDF448F45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7B77-1FB6-41C5-88A7-1BDF8D2739E6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09A8-6588-45DE-84B1-A01CC8B7F6FC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69F-B53B-48B7-8D7E-52495B4D419C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E772-A143-4CEA-AD73-72B28BBE8174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9586"/>
            </a:gs>
            <a:gs pos="100000">
              <a:srgbClr val="4b332b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0C18-6634-409D-A827-526F180636C7}" type="slidenum">
              <a:rPr b="0" lang="ru-RU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8" name="Содержимое 7" descr="Безымянный.png"/>
          <p:cNvPicPr/>
          <p:nvPr/>
        </p:nvPicPr>
        <p:blipFill>
          <a:blip r:embed="rId1"/>
          <a:stretch/>
        </p:blipFill>
        <p:spPr>
          <a:xfrm>
            <a:off x="895320" y="2127240"/>
            <a:ext cx="2616120" cy="31510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 txBox="1"/>
          <p:nvPr/>
        </p:nvSpPr>
        <p:spPr>
          <a:xfrm>
            <a:off x="5032440" y="5297400"/>
            <a:ext cx="3657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t’s half past eight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Половина 9 (половинка после 8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Содержимое 6"/>
          <p:cNvSpPr/>
          <p:nvPr/>
        </p:nvSpPr>
        <p:spPr>
          <a:xfrm>
            <a:off x="755640" y="5272200"/>
            <a:ext cx="365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’s nine o’clock.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-9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Рисунок 9" descr="Безымянный - копия - копия.png"/>
          <p:cNvPicPr/>
          <p:nvPr/>
        </p:nvPicPr>
        <p:blipFill>
          <a:blip r:embed="rId2"/>
          <a:stretch/>
        </p:blipFill>
        <p:spPr>
          <a:xfrm>
            <a:off x="4998960" y="2127240"/>
            <a:ext cx="2529000" cy="31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160" y="752040"/>
            <a:ext cx="68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ew word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8000" y="2133360"/>
            <a:ext cx="395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) o’clo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lf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et u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breakfas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lunc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sh f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 homewor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51280" y="213336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(семь) часов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лови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сл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вставать (просыпаться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завтрак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едать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умыватьс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делать домашнее задани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’s the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6" name="Рисунок 3" descr=""/>
          <p:cNvPicPr/>
          <p:nvPr/>
        </p:nvPicPr>
        <p:blipFill>
          <a:blip r:embed="rId1"/>
          <a:stretch/>
        </p:blipFill>
        <p:spPr>
          <a:xfrm>
            <a:off x="749160" y="2700360"/>
            <a:ext cx="7499520" cy="41814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4"/>
          <p:cNvSpPr/>
          <p:nvPr/>
        </p:nvSpPr>
        <p:spPr>
          <a:xfrm>
            <a:off x="1841400" y="1847880"/>
            <a:ext cx="585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It’s seven o’clock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Рисунок 13" descr="игры.png"/>
          <p:cNvPicPr/>
          <p:nvPr/>
        </p:nvPicPr>
        <p:blipFill>
          <a:blip r:embed="rId1"/>
          <a:stretch/>
        </p:blipFill>
        <p:spPr>
          <a:xfrm>
            <a:off x="2840040" y="4273560"/>
            <a:ext cx="3341520" cy="23288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7640" y="69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is 6. He doesn’t go to school. Make a story about his day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ter gets up at...(washes his face, brushes teeth,has breakfast,plays games,watches fairy tales, plays football, goes to bed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0" name="Рисунок 9" descr="вечер.png"/>
          <p:cNvPicPr/>
          <p:nvPr/>
        </p:nvPicPr>
        <p:blipFill>
          <a:blip r:embed="rId2"/>
          <a:stretch/>
        </p:blipFill>
        <p:spPr>
          <a:xfrm>
            <a:off x="357120" y="300024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0" descr="водные процедуры.png"/>
          <p:cNvPicPr/>
          <p:nvPr/>
        </p:nvPicPr>
        <p:blipFill>
          <a:blip r:embed="rId3"/>
          <a:stretch/>
        </p:blipFill>
        <p:spPr>
          <a:xfrm>
            <a:off x="3000240" y="278604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852" name="Рисунок 11" descr="дневной сон, ночной сон.png"/>
          <p:cNvPicPr/>
          <p:nvPr/>
        </p:nvPicPr>
        <p:blipFill>
          <a:blip r:embed="rId4"/>
          <a:stretch/>
        </p:blipFill>
        <p:spPr>
          <a:xfrm>
            <a:off x="5786280" y="2714760"/>
            <a:ext cx="2810160" cy="18716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2" descr="завтрак, обед, ужин.png"/>
          <p:cNvPicPr/>
          <p:nvPr/>
        </p:nvPicPr>
        <p:blipFill>
          <a:blip r:embed="rId5"/>
          <a:stretch/>
        </p:blipFill>
        <p:spPr>
          <a:xfrm>
            <a:off x="428760" y="4643280"/>
            <a:ext cx="2808000" cy="1872000"/>
          </a:xfrm>
          <a:prstGeom prst="rect">
            <a:avLst/>
          </a:prstGeom>
          <a:ln w="0">
            <a:noFill/>
          </a:ln>
        </p:spPr>
      </p:pic>
      <p:pic>
        <p:nvPicPr>
          <p:cNvPr id="854" name="Рисунок 14" descr="прогулка.png"/>
          <p:cNvPicPr/>
          <p:nvPr/>
        </p:nvPicPr>
        <p:blipFill>
          <a:blip r:embed="rId6"/>
          <a:stretch/>
        </p:blipFill>
        <p:spPr>
          <a:xfrm>
            <a:off x="5643720" y="450072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533160" y="2336760"/>
            <a:ext cx="688788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Lesson 55 (Workbook)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Trebuchet MS"/>
              </a:rPr>
              <a:t>Ex1 p.103 (Student’book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3:27:19Z</dcterms:created>
  <dc:creator>босс</dc:creator>
  <dc:description/>
  <dc:language>en-US</dc:language>
  <cp:lastModifiedBy>Людмила</cp:lastModifiedBy>
  <dcterms:modified xsi:type="dcterms:W3CDTF">2020-04-23T08:36:38Z</dcterms:modified>
  <cp:revision>55</cp:revision>
  <dc:subject/>
  <dc:title>Слайд 1</dc:title>
</cp:coreProperties>
</file>