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3211-6A2E-4F32-9BB2-EC62C41C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E25-FCC9-460B-A78E-175CDD9A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BB282-2AFE-4B57-8C19-AE426C98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7C3EB-1949-48D8-ACF3-B54260DF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EF77E-ABA6-482E-8256-AAED8BF8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DA0D1-54A6-45B8-AEFF-896F589F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C5D46-52C9-4866-92AF-1B72021D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0A921-BB80-4D05-A330-D443A228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D9C98-24E2-4DEA-8C9A-E1D8F683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00CD7-E3B0-4997-A1AB-AAB7C0D0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608EE-822F-438B-B60E-21FBFD3A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8F740-2CEB-4283-BA60-CC706BE2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0E5-C144-4459-86BE-9B9E818D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271CF-C70E-4F1E-B4ED-D735C76D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E49D5-D20D-4289-9725-46467413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73A2A-FA99-4452-B3B7-DD6A182C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1835F-E294-4E62-A0B3-C2A5EDB5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85F6A-66E8-4942-9834-7A297230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C7EA0-CC7C-4501-97F0-5765AD28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3B7A3-B07B-4D58-9EFE-30084129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1AE27-C96E-4F5E-879F-A6CA86F7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C31E0-1A0D-4EF4-9119-147ED63D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6900B-125C-40C6-9F68-EE68A001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A32C-A7D8-4900-8708-9A22BF03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42681-4F71-4F91-8C6D-C047D780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0DED9-8F7A-431F-8515-DFCC51E9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1BA1E-E242-4CD8-B47C-6DD91AE3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DD202-39B9-4B6F-92A2-D0877502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E502D-CE7A-4D6E-BBAB-09B6EDD2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0C655-D865-485F-9005-CF80C4AB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8237D-6FF5-464E-85B0-06C8A59D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C404D-CD93-4F93-B653-52D464D2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ACBAC-6DBD-4AFB-86C8-1AC3CF4E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32FC8-F0D2-4006-B2DB-D3609E90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3454-CB33-480E-9238-0C6671BA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CEF4F-B8EF-4B98-AD2B-0810EB8E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7517C-3B82-4C2D-92B1-158AA18D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D2C61-E7D7-4B11-9240-9459F65B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28981-34C7-4E46-859D-EA4055D0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3417B-6F32-445E-A837-CD77A73F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9EE29-139A-4AA8-BC04-F48A47A6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969D0-DF5A-41A8-B595-8AC91CB3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2F376-82EE-477D-894E-7AB5BF37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B5C44-BB4B-4CCF-A8AC-4307B00E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BAEE9-B8F3-4A09-8588-D146B5FF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A6AE-388E-4D20-BBD7-E54C2781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34F51-9C37-4535-AA34-CC55A40F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63581-5480-4DAF-B26D-296F6B38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B8C25-F8BD-4098-9E3C-F8FE2A00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383F9-C54F-4279-B892-23CE6A59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15E26-7FBD-4F3F-B584-5327C3DF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F5AB6-D8EF-4183-A3AB-EEB9EC19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DF674-0ADB-4E35-98FF-7269C744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368CE-C4B0-44FB-8809-F36ED54B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07BEC-96EE-4E1C-BE61-F9B46104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28E68-58AB-4479-B24E-5B6D2D4A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32EA-D9B0-444A-B397-7B666278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5280C-E5FF-4CB6-8C14-EBBC6515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923213-F448-43E6-81BC-03AA8AD2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94D86B-F43D-4FE9-9490-78D32E46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584C3-F4F8-4F36-A746-5152A1A8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6AEE4D-77D1-4E68-A98B-D6A71B76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DD7204-B1BB-4AF4-9EFD-A306C88D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18FC24-F6BD-446B-AC46-0B13F88B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57CC72-11D0-4958-A3A2-89FD451A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3D4887-D388-4A8E-9A0E-AD3F4BF3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66260E-0044-4AD1-B567-3695520E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29AF-2DFF-4E54-B802-6EB23BD5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9FDFE4-00B2-48D6-A442-F2C05682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A6CDB6-5246-44B7-861D-6E71DB16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7B6A46-A1DA-4691-A68B-28566471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5AAF86-A607-404F-953B-BB916782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4F7487-0700-42A6-A753-F840D576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2351E3-D9EF-494D-AA60-DE8AF324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C797C9-4775-44A7-AF45-4CC0897D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943D98-3BBD-498F-BD9E-D507A578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0EC03B-C742-4FBF-8B00-530A7A49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A53CF6-BDC5-459D-AD91-15424A15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A137-6E2C-42B4-AB37-86DF53A8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7A035C-669C-4162-BF65-3DAA7E12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7F05FE-7145-43C6-8F5F-5CA6561E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4DD592-855D-4152-96E5-35B6DE4A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3A9EBF-5031-4E01-A6E4-ACDCD46A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AF8687-88D0-44C3-B822-3842EF5E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A4EF04-C049-4B6C-ADB8-4814245D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41853A-4CFB-41E7-BCCD-5D2E72C4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77597D-634C-4A04-888B-C81BBC89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FBC451-DC27-4112-86D0-0E86B17D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E518B3-7482-4118-88AF-1847C5B0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98C8-0EE0-4077-98D3-5A08E16E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94CA92-403C-42FA-BB51-384E1F3D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18DE6D-ED11-4F46-9BC5-4F8C4D95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B083AA-F784-4883-BC8E-18B42C09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2E7A58-6369-4F08-BBBE-E9CC8159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FE7CAA-961B-4614-B520-57EE3897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D1E891-6EDB-4EFD-92B0-55D5BEC1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4E8A20-3CFD-4F9D-B27D-1253CE69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746A23-F292-4707-8F40-8A2918A0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DDA27C-AE3F-4AB4-8D76-8142E21E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45163A-13F5-4C86-A356-2FEAA510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934B-9C38-472C-8166-0DACEBA8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98065A-BF7A-4FB4-9D85-B750CED2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1084A5-D79B-4935-9135-AFD8A691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03DFE9-EAE6-47EE-A093-37381B5A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CB0406-862F-4F83-9DD1-B3BF1253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99E5AC-EF8D-47DB-A627-B09AFB57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127130-F56B-47C6-B2FB-B2C1E74F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3B5450-EDB4-440F-9543-46AD79C5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806767-74CC-4AFF-926A-6BF3261F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3A400E-FDE5-44F8-A88B-7DB3F9A0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714C2B-6BA5-4B98-BBE6-68396E15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1D9-2A47-43BF-9C7B-283122F5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2AA5-D9A3-42B2-91E2-14D033E4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8F5588-11DB-4069-9A36-AC897969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9ED7F1-5F28-4EEC-8394-250EF23A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00A5A2-460B-46FF-8701-29153083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B1A00C-38B3-48D2-BE09-6EDE9074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60F2FD-4A40-4BED-A697-4EA55243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6C81C2-6022-4500-B76D-AFBB59A0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028293-CAE3-4211-B7C3-3F450568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34C071-1FBA-48DE-9A7B-CC9E9466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E43E5A-49B2-4626-839A-5A1FA7FA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82AA01-E046-4EB2-8D34-7804B971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B5BC-2350-44E2-B9E5-1BFC9CE6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95B302-0900-4179-9E74-8FDF8B74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385C31-7EA2-4F14-9A6C-0613301E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020A16-F6B9-4962-878F-5544CDE0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BD58D6-F7C0-4F37-9480-27AD9CFD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CB2596-3CF8-44FD-96DC-E8255818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71C3CC-C800-484E-99E0-FFB4B30F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DF4810-F7E9-45D9-B140-8A226456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361B-09B3-4E02-A280-C55019B4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98CA-7FD3-4114-A97B-9AD4EAAD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1767-3605-42B7-B251-BBC68709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0E70F-25A3-4C26-8C15-D67B2987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8A4F1-F234-4EC6-96B9-E1913A1B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AFBBD-4357-4563-A859-E1D70D76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A8CC2-E6B0-46EC-9FC2-9A4E3F09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ECFE1-86B5-4A6E-AEE0-0A0BCB55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D5E-F684-4CF2-9C32-3909BD98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4C857-C2B6-4F99-AC6A-ADCB035C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5D79A-4301-48CA-8006-72E40349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AF27F-4C33-422D-8C49-55D53C25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57F5C-11E7-4552-828B-F1847FE6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B6281-292F-48E2-B44E-9B0F520A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BB942-2495-4D54-88F9-05129CDD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DA6C1-C934-4337-BE87-7F2CDFB9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3099B-26BC-44A1-97A9-80BE08EE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C57B9-6477-4351-8734-BC3104F2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9C5C3-763F-4A44-B9EF-C2E6E948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526A-0387-484A-AE72-FF59934B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FDFC7-1613-4E97-B8A8-6D59E345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73A09-9226-4DA1-85F0-A325A4E3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A69D4-7098-4737-B4CA-763FD443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0DA87-0535-4E5A-93ED-60AE13AB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E344F-4C6D-43E0-B914-B2E06A30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A8EC0-BF9D-4510-A950-561BCBE5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4D46A-CD56-43B4-AC0F-1DC656A5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50EB3-963A-4533-AAEB-532536BB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DDB14-C7B6-446C-8268-DC0E9969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D89CF-3439-4DDF-A64B-8C75F5BD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C41-231A-43D4-8ADF-6204CED9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87D8D-FC5F-4A85-956C-1CA1CC72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D53B8-F070-4617-B2FF-1FD1F093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71D97-0394-41D1-B2F8-DBB43C88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D8BD2-EB93-4223-92DA-0B987CA6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A8D59-0DAC-4898-A360-30015C2B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C9378-BEA3-4632-9A9A-E9D1E51B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47BED-C397-4A5F-A6CC-D3C7ABC2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AEF1C-C389-46AC-9FCA-C136E7D2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F94C9-8111-4A74-B102-E5B77750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3616A-70DF-4BFC-BEA0-3C6C15DB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AD68-7C29-4195-97DF-B9D23DCF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DC8B0-3C65-41D3-8DDE-7786A51C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45DE5-6511-4ED4-AC41-A0CA5E3E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669B4-FA90-40FD-8912-BC6503A0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B1482-BC75-4B6E-80C6-B54C777B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35D2B-C13A-4558-9775-22644EB9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94858-D21A-481A-A47B-B36D6E8D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5AA45-0190-44FC-AC12-C0DCA6D7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5AB23-D972-44A6-9C64-1E21E432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70F53-5FD7-4243-8C37-9E475572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084F0-5782-4A39-AFB0-3BABA173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175-6239-450B-84BC-0EC46EC4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0D66E-EA1C-4900-A974-7E799312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779BC-DD21-45E9-9697-40205C33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01859-47B2-4EF6-B768-BF6DC88F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0347A-3A3E-4142-BCCF-D98E35D9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0810B-140B-4DDC-8CB1-EE325120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BB600-5E36-45F5-8CE5-217943D7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96AE3-0651-4F3B-ADFD-342BA498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DC27C-0EBC-4A06-8781-7CC3E166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FD8AE-28B1-4FAB-8A9A-86BE19DB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D5288-8445-475F-AA42-52879944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3764-4CA0-4083-8AF8-E0F75F05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B9322-89C0-4AA6-9233-C558A1AA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532BC-E65F-4F26-B56D-9DC04463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C10A1-E914-4692-8880-24D85646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AB798-9960-43FD-8A5F-35EAC166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7C82E-385E-4FDE-9A06-2E9D7BF4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6487C-B9B0-4737-A0BD-B3509A3B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C57F2-4884-41FF-9756-9EFBD67F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C2BEC-CAD3-45FC-9F77-E8DB917A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EB447-E744-48B2-9383-93C927ED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556EE-6B80-45DF-AF54-FDEDE7DE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637-16BA-4004-A5CB-92077713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9F4B4-AFCF-4408-AEA5-B12BB927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364C0-771C-4C02-AB7F-752787CF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543FB-2A57-414F-A511-E4850A32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242D1-A686-4B9A-8B9E-CA97F4E0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3D795-D58D-4CFB-9B5C-7E515B3B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FA859-75A0-437D-8F33-421172F3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3C5C1-4E1E-4317-A0F6-6953D6C5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A4291-E65E-473E-9620-2A9F8E26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61A1B-529F-4480-AC71-23C54192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A7B28-FA96-49DC-B067-DB0A3967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4F39-4AFA-4B51-845E-4522CEBA41A0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33B6-9366-48E8-8E72-F565E44AA68D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19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25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26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C89D-7263-4AC8-A732-CA7C5020D09A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20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21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22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23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Rectangle 24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A725-6E5E-43BD-B62B-0538221F3B72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28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29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30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31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Rectangle 32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1" name="TextBox 12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6F9A-34C0-423B-BAFF-CAC97B32EE5B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21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22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23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24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Rectangle 25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DB3F-658A-4214-BD04-3A3E0250058A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22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25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B32E-D022-4CE7-AFC5-092E21E9FF46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33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34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35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36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Rectangle 37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89BF-30BA-444F-933C-68A11C1FEBB8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15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16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17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8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Rectangle 19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1A1C-9FCE-4F70-9C1A-B0A5DB7E0F53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13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11"/>
            <p:cNvSpPr/>
            <p:nvPr/>
          </p:nvSpPr>
          <p:spPr>
            <a:xfrm rot="5400000">
              <a:off x="5362920" y="1959480"/>
              <a:ext cx="528624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Rectangle 12"/>
            <p:cNvSpPr/>
            <p:nvPr/>
          </p:nvSpPr>
          <p:spPr>
            <a:xfrm rot="5400000">
              <a:off x="7289280" y="5462280"/>
              <a:ext cx="1433520" cy="13669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4024-A809-4100-A45D-A45537249180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EE0C-7147-4B5E-8BB7-C2DCF28845EB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2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2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2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3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106E-5D50-4E5F-8E00-EA6064261A44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1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20"/>
            <p:cNvSpPr/>
            <p:nvPr/>
          </p:nvSpPr>
          <p:spPr>
            <a:xfrm>
              <a:off x="0" y="27288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21"/>
            <p:cNvSpPr/>
            <p:nvPr/>
          </p:nvSpPr>
          <p:spPr>
            <a:xfrm>
              <a:off x="7710840" y="272880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751B-FE31-4159-A012-4A729DBBE81A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1FC9-9256-486F-9E07-3DB7A273FDC1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2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2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2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3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4C0C-0D9D-4DC8-86FD-4A869DD52B00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4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15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16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7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83CF-930B-4A1C-8CF2-66A8C1B9F495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3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B9E1-3137-4DCA-918B-07DB97CBE016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D14E-2E06-44FF-9DC5-4420E7DAFDF1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3160" y="752040"/>
            <a:ext cx="688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at’s the tim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38" name="Содержимое 7" descr="Безымянный.png"/>
          <p:cNvPicPr/>
          <p:nvPr/>
        </p:nvPicPr>
        <p:blipFill>
          <a:blip r:embed="rId1"/>
          <a:stretch/>
        </p:blipFill>
        <p:spPr>
          <a:xfrm>
            <a:off x="895320" y="2127240"/>
            <a:ext cx="2616120" cy="315108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 txBox="1"/>
          <p:nvPr/>
        </p:nvSpPr>
        <p:spPr>
          <a:xfrm>
            <a:off x="5032440" y="5297400"/>
            <a:ext cx="3657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t’s half past eight.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Половина 9 (половинка после 8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0" name="Содержимое 6"/>
          <p:cNvSpPr/>
          <p:nvPr/>
        </p:nvSpPr>
        <p:spPr>
          <a:xfrm>
            <a:off x="755640" y="5272200"/>
            <a:ext cx="3657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t’s nine o’clock.</a:t>
            </a: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-9 ча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1" name="Рисунок 9" descr="Безымянный - копия - копия.png"/>
          <p:cNvPicPr/>
          <p:nvPr/>
        </p:nvPicPr>
        <p:blipFill>
          <a:blip r:embed="rId2"/>
          <a:stretch/>
        </p:blipFill>
        <p:spPr>
          <a:xfrm>
            <a:off x="4998960" y="2127240"/>
            <a:ext cx="2529000" cy="3146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3160" y="752040"/>
            <a:ext cx="688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New word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08000" y="2133360"/>
            <a:ext cx="3952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) o’clock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alf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as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get up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ave breakfas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ave lunch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ash fac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o homework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3851280" y="2133360"/>
            <a:ext cx="529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(семь) часов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половин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после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вставать (просыпаться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завтракать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обедать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умываться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делать домашнее задание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at’s the tim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6" name="Рисунок 3" descr=""/>
          <p:cNvPicPr/>
          <p:nvPr/>
        </p:nvPicPr>
        <p:blipFill>
          <a:blip r:embed="rId1"/>
          <a:stretch/>
        </p:blipFill>
        <p:spPr>
          <a:xfrm>
            <a:off x="749160" y="2700360"/>
            <a:ext cx="7499520" cy="4181400"/>
          </a:xfrm>
          <a:prstGeom prst="rect">
            <a:avLst/>
          </a:prstGeom>
          <a:ln w="0">
            <a:noFill/>
          </a:ln>
        </p:spPr>
      </p:pic>
      <p:sp>
        <p:nvSpPr>
          <p:cNvPr id="847" name="TextBox 4"/>
          <p:cNvSpPr/>
          <p:nvPr/>
        </p:nvSpPr>
        <p:spPr>
          <a:xfrm>
            <a:off x="1841400" y="1847880"/>
            <a:ext cx="585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It’s seven o’clock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Рисунок 13" descr="игры.png"/>
          <p:cNvPicPr/>
          <p:nvPr/>
        </p:nvPicPr>
        <p:blipFill>
          <a:blip r:embed="rId1"/>
          <a:stretch/>
        </p:blipFill>
        <p:spPr>
          <a:xfrm>
            <a:off x="2840040" y="4273560"/>
            <a:ext cx="3341520" cy="232884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07640" y="691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eter is 6. He doesn’t go to school. Make a story about his day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eter gets up at...(washes his face, brushes teeth,has breakfast,plays games,watches fairy tales, plays football, goes to bed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50" name="Рисунок 9" descr="вечер.png"/>
          <p:cNvPicPr/>
          <p:nvPr/>
        </p:nvPicPr>
        <p:blipFill>
          <a:blip r:embed="rId2"/>
          <a:stretch/>
        </p:blipFill>
        <p:spPr>
          <a:xfrm>
            <a:off x="357120" y="3000240"/>
            <a:ext cx="2484360" cy="1656000"/>
          </a:xfrm>
          <a:prstGeom prst="rect">
            <a:avLst/>
          </a:prstGeom>
          <a:ln w="0">
            <a:noFill/>
          </a:ln>
        </p:spPr>
      </p:pic>
      <p:pic>
        <p:nvPicPr>
          <p:cNvPr id="851" name="Рисунок 10" descr="водные процедуры.png"/>
          <p:cNvPicPr/>
          <p:nvPr/>
        </p:nvPicPr>
        <p:blipFill>
          <a:blip r:embed="rId3"/>
          <a:stretch/>
        </p:blipFill>
        <p:spPr>
          <a:xfrm>
            <a:off x="3000240" y="278604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852" name="Рисунок 11" descr="дневной сон, ночной сон.png"/>
          <p:cNvPicPr/>
          <p:nvPr/>
        </p:nvPicPr>
        <p:blipFill>
          <a:blip r:embed="rId4"/>
          <a:stretch/>
        </p:blipFill>
        <p:spPr>
          <a:xfrm>
            <a:off x="5786280" y="2714760"/>
            <a:ext cx="2810160" cy="18716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2" descr="завтрак, обед, ужин.png"/>
          <p:cNvPicPr/>
          <p:nvPr/>
        </p:nvPicPr>
        <p:blipFill>
          <a:blip r:embed="rId5"/>
          <a:stretch/>
        </p:blipFill>
        <p:spPr>
          <a:xfrm>
            <a:off x="428760" y="4643280"/>
            <a:ext cx="2808000" cy="1872000"/>
          </a:xfrm>
          <a:prstGeom prst="rect">
            <a:avLst/>
          </a:prstGeom>
          <a:ln w="0">
            <a:noFill/>
          </a:ln>
        </p:spPr>
      </p:pic>
      <p:pic>
        <p:nvPicPr>
          <p:cNvPr id="854" name="Рисунок 14" descr="прогулка.png"/>
          <p:cNvPicPr/>
          <p:nvPr/>
        </p:nvPicPr>
        <p:blipFill>
          <a:blip r:embed="rId6"/>
          <a:stretch/>
        </p:blipFill>
        <p:spPr>
          <a:xfrm>
            <a:off x="5643720" y="4500720"/>
            <a:ext cx="313200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mework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533160" y="2336760"/>
            <a:ext cx="6887880" cy="10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Trebuchet MS"/>
              </a:rPr>
              <a:t>Lesson 55 (Workbook),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Trebuchet MS"/>
              </a:rPr>
              <a:t>Ex1 p.103 (Student’book)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3:27:19Z</dcterms:created>
  <dc:creator>босс</dc:creator>
  <dc:description/>
  <dc:language>en-US</dc:language>
  <cp:lastModifiedBy>Людмила</cp:lastModifiedBy>
  <dcterms:modified xsi:type="dcterms:W3CDTF">2020-04-23T08:36:38Z</dcterms:modified>
  <cp:revision>55</cp:revision>
  <dc:subject/>
  <dc:title>Слайд 1</dc:title>
</cp:coreProperties>
</file>