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27F-3CBE-47D6-8052-35177911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8BA-CD91-44D0-9F05-2E28F459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01B-45D6-4CBC-B89D-9D6DD3CD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812-C7E8-4DF8-B2C9-4A38C6E7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5A4-94A8-4E6F-906C-160B4D6E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70B-3497-4C80-B311-046140F4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A8F-85AB-4B43-A353-F7BB3D4C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193-9EE8-400A-B1CD-59E515CC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81C-66C3-474D-91D3-DD4250F1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1FC-31A0-4AED-B9DF-D6A61592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76C-A887-4130-A177-B5045C48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546-CA52-4781-B7DD-32DFFCD7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2d0"/>
            </a:gs>
            <a:gs pos="50000">
              <a:srgbClr val="bbe0e3"/>
            </a:gs>
            <a:gs pos="100000">
              <a:srgbClr val="7272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AB5D-7F71-4BAC-A03F-B88A182033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08000" y="1268280"/>
            <a:ext cx="518508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имические свой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1056l"/>
          <p:cNvPicPr/>
          <p:nvPr/>
        </p:nvPicPr>
        <p:blipFill>
          <a:blip r:embed="rId1"/>
          <a:stretch/>
        </p:blipFill>
        <p:spPr>
          <a:xfrm>
            <a:off x="395280" y="1484280"/>
            <a:ext cx="8497800" cy="503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t1056"/>
          <p:cNvPicPr/>
          <p:nvPr/>
        </p:nvPicPr>
        <p:blipFill>
          <a:blip r:embed="rId2"/>
          <a:stretch/>
        </p:blipFill>
        <p:spPr>
          <a:xfrm>
            <a:off x="324000" y="333360"/>
            <a:ext cx="83772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1055a"/>
          <p:cNvPicPr/>
          <p:nvPr/>
        </p:nvPicPr>
        <p:blipFill>
          <a:blip r:embed="rId1"/>
          <a:stretch/>
        </p:blipFill>
        <p:spPr>
          <a:xfrm>
            <a:off x="1568520" y="4925880"/>
            <a:ext cx="5740200" cy="1816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f1055b"/>
          <p:cNvPicPr/>
          <p:nvPr/>
        </p:nvPicPr>
        <p:blipFill>
          <a:blip r:embed="rId2"/>
          <a:stretch/>
        </p:blipFill>
        <p:spPr>
          <a:xfrm>
            <a:off x="324000" y="1984320"/>
            <a:ext cx="8208720" cy="158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1055a"/>
          <p:cNvPicPr/>
          <p:nvPr/>
        </p:nvPicPr>
        <p:blipFill>
          <a:blip r:embed="rId3"/>
          <a:srcRect l="0" t="28410" r="0" b="29018"/>
          <a:stretch/>
        </p:blipFill>
        <p:spPr>
          <a:xfrm>
            <a:off x="250920" y="620640"/>
            <a:ext cx="849780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t1055b"/>
          <p:cNvPicPr/>
          <p:nvPr/>
        </p:nvPicPr>
        <p:blipFill>
          <a:blip r:embed="rId4"/>
          <a:srcRect l="0" t="16290" r="0" b="18679"/>
          <a:stretch/>
        </p:blipFill>
        <p:spPr>
          <a:xfrm>
            <a:off x="755640" y="3860640"/>
            <a:ext cx="7416720" cy="86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Химические свойства воды - схема, таблица — Схемо.Р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3_1_2"/>
          <p:cNvPicPr/>
          <p:nvPr/>
        </p:nvPicPr>
        <p:blipFill>
          <a:blip r:embed="rId1"/>
          <a:srcRect l="0" t="0" r="0" b="3866"/>
          <a:stretch/>
        </p:blipFill>
        <p:spPr>
          <a:xfrm>
            <a:off x="0" y="1052640"/>
            <a:ext cx="9144000" cy="4968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n1051"/>
          <p:cNvPicPr/>
          <p:nvPr/>
        </p:nvPicPr>
        <p:blipFill>
          <a:blip r:embed="rId2"/>
          <a:stretch/>
        </p:blipFill>
        <p:spPr>
          <a:xfrm>
            <a:off x="144360" y="0"/>
            <a:ext cx="3203640" cy="2820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t1051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20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L32p6p00"/>
          <p:cNvPicPr/>
          <p:nvPr/>
        </p:nvPicPr>
        <p:blipFill>
          <a:blip r:embed="rId2"/>
          <a:stretch/>
        </p:blipFill>
        <p:spPr>
          <a:xfrm>
            <a:off x="3073320" y="2486160"/>
            <a:ext cx="5675400" cy="425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2_3_1_L2"/>
          <p:cNvPicPr/>
          <p:nvPr/>
        </p:nvPicPr>
        <p:blipFill>
          <a:blip r:embed="rId3"/>
          <a:stretch/>
        </p:blipFill>
        <p:spPr>
          <a:xfrm>
            <a:off x="179280" y="3068640"/>
            <a:ext cx="2413080" cy="1663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>
            <a:hlinkClick r:id="rId4" action="ppaction://hlinksldjump"/>
          </p:cNvPr>
          <p:cNvSpPr/>
          <p:nvPr/>
        </p:nvSpPr>
        <p:spPr>
          <a:xfrm>
            <a:off x="611280" y="5661000"/>
            <a:ext cx="1081080" cy="57636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272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Охарактеризуйте физические и химические свойства воды. таблица 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3_2_1"/>
          <p:cNvPicPr/>
          <p:nvPr/>
        </p:nvPicPr>
        <p:blipFill>
          <a:blip r:embed="rId1"/>
          <a:stretch/>
        </p:blipFill>
        <p:spPr>
          <a:xfrm>
            <a:off x="-36360" y="260280"/>
            <a:ext cx="918036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952e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398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t1058"/>
          <p:cNvPicPr/>
          <p:nvPr/>
        </p:nvPicPr>
        <p:blipFill>
          <a:blip r:embed="rId2"/>
          <a:stretch/>
        </p:blipFill>
        <p:spPr>
          <a:xfrm>
            <a:off x="1619280" y="5013360"/>
            <a:ext cx="5600520" cy="12859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8748720" y="6165720"/>
            <a:ext cx="431640" cy="692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692280"/>
              <a:gd name="textAreaBottom" fmla="*/ 664560 h 692280"/>
            </a:gdLst>
            <a:ahLst/>
            <a:rect l="textAreaLeft" t="textAreaTop" r="textAreaRight" b="textAreaBottom"/>
            <a:pathLst>
              <a:path w="21600" h="34632">
                <a:moveTo>
                  <a:pt x="0" y="0"/>
                </a:moveTo>
                <a:lnTo>
                  <a:pt x="21600" y="0"/>
                </a:lnTo>
                <a:lnTo>
                  <a:pt x="21600" y="34632"/>
                </a:lnTo>
                <a:lnTo>
                  <a:pt x="0" y="34632"/>
                </a:lnTo>
                <a:close/>
              </a:path>
              <a:path fill="lightenLess" w="21600" h="34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632">
                <a:moveTo>
                  <a:pt x="21600" y="0"/>
                </a:moveTo>
                <a:lnTo>
                  <a:pt x="21600" y="34632"/>
                </a:lnTo>
                <a:lnTo>
                  <a:pt x="20200" y="33232"/>
                </a:lnTo>
                <a:lnTo>
                  <a:pt x="20200" y="1400"/>
                </a:lnTo>
                <a:close/>
              </a:path>
              <a:path fill="darkenLess" w="21600" h="34632">
                <a:moveTo>
                  <a:pt x="21600" y="34632"/>
                </a:moveTo>
                <a:lnTo>
                  <a:pt x="0" y="34632"/>
                </a:lnTo>
                <a:lnTo>
                  <a:pt x="1400" y="33232"/>
                </a:lnTo>
                <a:lnTo>
                  <a:pt x="20200" y="33232"/>
                </a:lnTo>
                <a:close/>
              </a:path>
              <a:path fill="lighten" w="21600" h="34632">
                <a:moveTo>
                  <a:pt x="0" y="34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232"/>
                </a:lnTo>
                <a:close/>
              </a:path>
              <a:path fill="darken" w="21600" h="34632">
                <a:moveTo>
                  <a:pt x="10800" y="103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4632">
                <a:moveTo>
                  <a:pt x="10800" y="106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4632">
                <a:moveTo>
                  <a:pt x="8224" y="14740"/>
                </a:moveTo>
                <a:lnTo>
                  <a:pt x="12088" y="14740"/>
                </a:lnTo>
                <a:lnTo>
                  <a:pt x="12088" y="21737"/>
                </a:lnTo>
                <a:lnTo>
                  <a:pt x="13376" y="21737"/>
                </a:lnTo>
                <a:lnTo>
                  <a:pt x="13376" y="22660"/>
                </a:lnTo>
                <a:lnTo>
                  <a:pt x="8224" y="22660"/>
                </a:lnTo>
                <a:lnTo>
                  <a:pt x="8224" y="21737"/>
                </a:lnTo>
                <a:lnTo>
                  <a:pt x="9512" y="21737"/>
                </a:lnTo>
                <a:lnTo>
                  <a:pt x="9512" y="15645"/>
                </a:lnTo>
                <a:lnTo>
                  <a:pt x="8224" y="15645"/>
                </a:lnTo>
                <a:close/>
              </a:path>
            </a:pathLst>
          </a:custGeom>
          <a:solidFill>
            <a:srgbClr val="727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rcRect l="26354" t="27347" r="27525" b="267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Взаимодействие металлов с водой - Презентация 13131-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1053"/>
          <p:cNvPicPr/>
          <p:nvPr/>
        </p:nvPicPr>
        <p:blipFill>
          <a:blip r:embed="rId1"/>
          <a:stretch/>
        </p:blipFill>
        <p:spPr>
          <a:xfrm>
            <a:off x="539640" y="260280"/>
            <a:ext cx="7704360" cy="2441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1054"/>
          <p:cNvPicPr/>
          <p:nvPr/>
        </p:nvPicPr>
        <p:blipFill>
          <a:blip r:embed="rId2"/>
          <a:stretch/>
        </p:blipFill>
        <p:spPr>
          <a:xfrm>
            <a:off x="684360" y="4365720"/>
            <a:ext cx="8064360" cy="190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активными металлами вода реагирует при обычных условиях, с менее активными  - при нагре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08:16:44Z</dcterms:created>
  <dc:creator>Наталья</dc:creator>
  <dc:description/>
  <dc:language>en-US</dc:language>
  <cp:lastModifiedBy>Толочина</cp:lastModifiedBy>
  <dcterms:modified xsi:type="dcterms:W3CDTF">2020-05-13T08:11:44Z</dcterms:modified>
  <cp:revision>10</cp:revision>
  <dc:subject/>
  <dc:title>Слайд 1</dc:title>
</cp:coreProperties>
</file>