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25BB-EE5B-4000-A570-4289C4F35C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2574-6331-4B28-9157-CB533481B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5393-FAA3-4C76-B013-2422F2A172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622-6EFB-4F58-8FA6-823A30F6F4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212-4A63-45E1-BA12-FDEE35B1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A62-2EEA-4C85-B234-D762125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90A-A7B9-41A9-9DD2-F477FFF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EE1-717B-423B-9205-B6055B2F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60A-66E3-4F83-A61D-B69E45E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548C-E246-4773-834E-260CE5B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013-A7D9-4D3D-812E-0FD0722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70C-A2F2-4775-80C7-3907AC10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DDAB-F9D6-4504-B53F-B3FECA33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85E-FD88-490F-B832-1141C6D0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555-6368-4119-8C2E-BBC8432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911-5AD8-4368-A991-2066870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96E-8711-4555-817D-A186EC4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C9C-0C2A-4CED-8A69-68BC001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0337-9F56-4617-9C7A-FB8F9477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C0F4-0A65-4CF0-993B-561F8944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615E-E808-4D5F-84FD-19293967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42DB-990F-4E19-9CDF-945BBA58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1A52-7FEA-49FA-9FF6-39888FF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7712-059C-46CD-AD18-B7018354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1278-E0EE-4B47-A327-52A7324E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E0A9-117D-45FD-89D9-D6E3C4A9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2EC-9DFC-4924-A221-79C5A69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73EE-C503-4609-B716-441A023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3144-F73B-4202-9668-80CB6E0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0C70-E89D-411E-AEF7-9484CF0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874B-5BA3-4180-A936-2141BA88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B58E-8A34-4834-B8CE-E93CF9DF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7187-2115-40CB-B4F1-FF477C32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F4D9-425B-4845-8523-717A8E64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F93C-5189-48F2-B50D-6C5EACE2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298D-8D9E-42FB-9032-5FAA5DA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ED26E-02C3-4684-A5A5-FC9DBBD1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1A9-42AC-4509-8870-7753345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9B94-CBFA-4134-AC3E-CF00346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46FE-9595-42A5-A9CF-6F1737B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26E2-2FF4-4FDA-9CFD-5B33B64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0EC0-D8BE-4177-899E-4AB7327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658B-D5DD-48CF-BD08-B0B0328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1DA3-37BF-4C5E-AD65-46C366B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C9B6-13D5-4D7A-B34C-A29F162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2F32-6173-4D78-A7E8-B8A8B000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A445-C79E-4EBF-AA2B-FFCE0874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D688-564E-46AA-B5D7-DDBBAFA2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52B-11A4-458D-AB46-CF5F256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B684-C918-427A-85EF-632E275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FB3AE-4F1E-4538-9497-983F813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CB53C-050C-4A7C-8E18-C1AFF5A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9ED8-2E4A-4594-B2EF-5562FAC2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4F3D-446D-44FE-83A1-0AFB346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16E0-9131-4E75-960D-4482F1B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0AFA-7B14-45EA-B8A6-25CB929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88BAF-660A-4D31-B519-C5794FE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2D85D-A1E9-4C91-8492-B030517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4197-D031-4B92-8C7B-E7C1D05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820-F32B-4021-9425-D920609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4F1B-8BE8-4C51-90C3-F42CD34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5B5A-7968-463D-8A2B-4EB00670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D789-418D-48EE-811A-D669C936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83D4-E16B-456B-B385-DC28BBA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1AB8-D4DB-4D4E-AB2F-658994B6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3965-EB5C-4D48-8544-E939DCEE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FD27-2E97-4B29-BDF3-45D13EA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4F53-99AF-4826-86C3-A519C92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3D16-8C92-4A52-9CF0-D74CB33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E7B6-6F38-4EDF-B1DE-F80EF39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6C5-3985-45E0-A4B8-908508B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D2EC-C866-44F8-B1EB-CAEFFDF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174D-DDEF-4E4C-96D4-BF686A01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36E63-1503-46E6-AD1C-98319615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1D41D-8C58-479C-A16D-DF66E263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EEE4-8AC4-473E-A618-E7E1BFBE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D685-5F8F-4B1C-BFEC-B6426DC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585F-0E93-41A3-B5E6-AB4BC28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BBFF-4CD0-44A8-A862-9ADDAE6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9C51-4ECB-4A43-9CDF-7393EDC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92EC-FC7A-4D90-9862-99ED3CA5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869-8D80-48ED-ABB5-FE0807E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D2C0-D90A-4EB4-84EE-4687A85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897F7-66F6-4104-ABBD-2CEA52A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DEFA1-D6DA-4E24-BFFF-C4ACA17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5212-A7B5-4F87-84CD-476F0838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E9AB-8465-4E97-B263-D0867A9B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7E3-A815-4E34-9F15-59017B1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E14-75A5-4D6C-B8F5-D62723B47A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D61-9400-45DB-91F6-4D33F74A5C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BE3-F65C-42E5-AB5A-B32EAAD115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5B8-CACE-42C6-AFE9-57DA45F54CF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F2F-1E7F-4F35-8FF8-F7DE540B47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6D5F-CBCD-4C24-B090-2FB6193155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DB97-8FDA-474E-891C-7608738EEA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Современные стратегии поддержки одарённых детей: вызовы и перспективы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7280" y="3141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оповичева Оксана Николаевна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заместитель директо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БУ Орловской области  ДПО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«Институт развития образования»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кандидат педагогических наук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ам по себе высокий интеллект, не сама по себе креативность, это всегда особая личность, имеющая особые цели и ценности, особый «жизненный проект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этому важна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Candara"/>
              </a:rPr>
              <a:t>правильная «внешняя» мотивация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нешняя мотивация – это   «внутренняя» мотивация, но явно или неявно опосредованная социальными задачами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ДАРЁННЫЙ РЕБЕНОК --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одарёнными детьми – приоритетная государственная и общественная задач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ворческий продукт – суть ожиданий от одарённых люде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различными видами одарённости, не только интеллектуальн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Незримый» колледж мира, коллаборац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 отношении одарённых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сновные тенденции сегодняшнего време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отношении одарённости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9:01:48Z</dcterms:created>
  <dc:creator>1</dc:creator>
  <dc:description/>
  <dc:language>en-US</dc:language>
  <cp:lastModifiedBy>Оксана</cp:lastModifiedBy>
  <dcterms:modified xsi:type="dcterms:W3CDTF">2020-05-26T12:05:35Z</dcterms:modified>
  <cp:revision>11</cp:revision>
  <dc:subject/>
  <dc:title>Дополнительное образование детей как средство профилактики правонарушений в детской среде</dc:title>
</cp:coreProperties>
</file>