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BAA8-2D08-4C63-97B8-C0CC63A59C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FBED-64E0-478F-B275-8F61CB902D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E8C2-3B68-44BA-8067-285B67AA58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1697-195E-4494-9002-2D417F8401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C08-93C7-4074-9D5E-B2E425AB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4D51-5544-43DC-AC93-0B0F2CF0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3FE5-E840-409B-BCD8-BA9C975A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6FB8-A14F-4772-A5A4-C55CD8C8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3167-72DF-4EA7-B0C7-6D23B6FA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5C90-9662-466C-8198-5021DF62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A773-E7E6-4DFD-9145-707510EA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F06C-7B11-4EB8-B099-7552152F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8F5A-DB5C-4304-A82A-9B05F5B3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EBFD-7D9D-4DB3-90A9-66ACAB9E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FABF-7CAA-4F2D-A5F7-7FA7C1FD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A26-284B-43C6-8E53-E6DB3877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0946-4512-4066-9B5A-6C19583E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30CF-FE8E-4931-A603-951B906D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3C08-8273-4AB3-B4F3-0EE00502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E157-EB4F-4D51-AAC0-416885E6B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362A-DFDF-48F6-971E-6AAB8587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29279-428F-4E79-9E46-AA913C1E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0702A-61F3-4620-A1EC-169B6698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5432C-305C-44ED-876A-CE3F1988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BB6D6-A32C-4948-B67E-1084891D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039EA-8CA6-44F7-B87A-2792BDC6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C32-848C-4E31-A0B0-D43B669E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F41CA-53A3-40CB-9025-A39FF7DA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2936F-810A-434F-A66A-D8816A81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86703-6134-4110-9F3A-5A24590C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3B2DB-20F0-4915-A40E-3476BC83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99E56-0E14-463E-9834-1CE815E1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B2719-1BF9-49D9-A989-40730FED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E0EFE-9A6C-4718-B96D-EA2A3D94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3C063-AF12-4452-8DD6-2DC5ECC4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5BFA6-2217-4474-A4BA-E272D674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0C090-37E3-4D69-A9C8-E4CD5A85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956E-1123-4C83-88E7-802F10D9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AA445-280B-4B1D-BBF9-15658D44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26E9D-DB8D-484F-8099-BAA51B4E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BA1B8-2DC3-44D8-BA20-7106B545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81EE5-2E76-4D3C-AF19-F6948C88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732BB-8AC5-4438-85F7-5D954DB8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39B4D-BA7D-413D-885F-DC34D50F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26FE4-CAB8-414C-8B73-5D0D80AB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1F75C-CBE3-4C92-9F8D-03AFE298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D26DD-71DF-4D79-AD2F-9A17221C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AA4A7-5A01-49E2-BC0E-B037DD1B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55D2-D106-41B7-AB43-2D7F7EAF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3F03D-9BFD-457D-A85F-A1D770A3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230FD-BFC5-4AC5-9222-0EB0730E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6C89B-6B80-44E8-9778-5D018CFE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B52BD-411E-4D0A-9265-77AC4BAD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3E558-E243-496A-B8D8-57934C43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D222F-CF92-4D3A-B8B9-A9ECE4C2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B81AE-D550-48B5-907F-ED7FA722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9E45F-212C-4E8B-A72F-8E1865BB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7131C-A475-4AE5-8A7B-F10621CE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17008-AF5B-406B-9147-CF514BFD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07A0-4E36-4525-B2AD-E7D8D35D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311A3-5504-453C-8E24-23BBAB77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882AA-DEEA-4526-A368-6FAA3535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C1658-8B38-4511-A91F-8CB386C8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E0434-1FC6-42FE-87FD-B49154FB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1B04C-2F16-4BE4-9A19-59387D0D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4913C-90CC-4341-8D3D-110BC046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69273-B4AB-4DC6-98DB-499A6937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9E5C6-1F01-4984-B391-7F02B85B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B149D-5749-4DAB-9845-48587699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407A6-AF46-4B15-93D4-85F121AA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29E-2AC9-431F-8EDE-5F75056B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0E2C4-5139-4613-B7F2-FB71D4D6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6FD74-EAD0-4E6D-9B86-17811B02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4C3EF-C372-46B8-AA6D-6487EC4C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ACBFD-93F1-4CFC-89A8-AF95C949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B6B46-9756-42CD-A04C-393CBFEC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0E501-AC1E-4A8B-91B1-ED33BB86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8AE3F-390A-4010-B6D7-2B7B7E6A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D031F-849B-477F-AB68-6F2707C0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66527-7E7E-4AE8-AA8A-3A95C3B6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D6014-D2C6-41D5-9740-E58AD01F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0A60-9E41-455E-97B2-1142D862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202C7-F632-4B0A-BFCB-90667BCC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0E373-442B-4030-85A1-9E480338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3E29D-32FC-4D24-9257-7B1B442F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67F0A-86CC-49B2-89C2-421E135B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6D60C-6AC7-449C-8272-BDDB9141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024-1235-47EE-9BC5-0268C91F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D9F7-49F9-43C7-85D4-3DFD8CEC771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1E98-2101-4501-BB44-7988943F118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A692-2194-47B2-9952-0FDB727D5B3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7ADF-173C-4869-9F7D-997E6534BB2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8C93-019A-4E36-A294-DF1FCFACCE6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43AC-7641-4FED-8115-E3847DEA245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FD45-5118-4490-B01E-AF19144AB86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67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Современные стратегии поддержки одарённых детей: вызовы и перспективы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187280" y="314136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Поповичева Оксана Николаевна,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заместитель директора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БУ Орловской области  ДПО 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«Институт развития образования»,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ndara"/>
              </a:rPr>
              <a:t>кандидат педагогических наук</a:t>
            </a:r>
            <a:r>
              <a:rPr b="1" lang="ru-RU" sz="26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900000" y="1989000"/>
            <a:ext cx="7408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spcBef>
                <a:spcPts val="601"/>
              </a:spcBef>
              <a:buClr>
                <a:srgbClr val="31b6fd"/>
              </a:buClr>
              <a:buFont typeface="Candar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не сам по себе высокий интеллект, не сама по себе креативность, это всегда особая личность, имеющая особые цели и ценности, особый «жизненный проект»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оэтому важна </a:t>
            </a:r>
            <a:r>
              <a:rPr b="1" lang="ru-RU" sz="2400" spc="-1" strike="noStrike" u="sng">
                <a:solidFill>
                  <a:srgbClr val="073e87"/>
                </a:solidFill>
                <a:uFillTx/>
                <a:latin typeface="Candara"/>
              </a:rPr>
              <a:t>правильная «внешняя» мотивация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Внешняя мотивация – это   «внутренняя» мотивация, но явно или неявно опосредованная социальными задачами.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ОДАРЁННЫЙ РЕБЕНОК --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900000" y="1989000"/>
            <a:ext cx="7408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 algn="just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абота с одарёнными детьми – приоритетная государственная и общественная задач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9480" indent="-429480" algn="just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Творческий продукт – суть ожиданий от одарённых людей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9480" indent="-429480" algn="just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Работа с различными видами одарённости, не только интеллектуальной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9480" indent="-429480" algn="just">
              <a:spcBef>
                <a:spcPts val="601"/>
              </a:spcBef>
              <a:buClr>
                <a:srgbClr val="31b6fd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«Незримый» колледж мира, коллаборация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29480" indent="-42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в отношении одарённых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Основные тенденции сегодняшнего времен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в отношении одарённости: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9:01:48Z</dcterms:created>
  <dc:creator>1</dc:creator>
  <dc:description/>
  <dc:language>en-US</dc:language>
  <cp:lastModifiedBy>Оксана</cp:lastModifiedBy>
  <dcterms:modified xsi:type="dcterms:W3CDTF">2020-05-26T12:05:35Z</dcterms:modified>
  <cp:revision>11</cp:revision>
  <dc:subject/>
  <dc:title>Дополнительное образование детей как средство профилактики правонарушений в детской среде</dc:title>
</cp:coreProperties>
</file>