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55F-0486-4476-96AD-A0D0A8646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1F5-71DA-419D-A577-0A1B7E687C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5DE7-E139-4439-92C1-46BAC2512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8423-7F8C-4E94-B460-F3F082C018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482-169D-4A03-83D7-91904AAE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3A6-AD2F-49B6-9E15-C7101CC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ADE-D343-4F33-95FC-F2F7C937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290-244B-486F-AD9A-D16C6947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06F0-989B-4688-B9B8-B7002BB6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7C68-F4F0-4A5C-9C56-C9C0762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B393-17A6-405B-B14D-F604CED2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0C31-C63F-464F-839D-D24BA363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7B18-71EF-4E66-BD90-487A0B5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2F50-E17A-456D-96B3-2419BEE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E030-FD3A-4750-8491-F297DB0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D70-9E0B-42BE-BD59-B43E0854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4637-DA42-4E79-8581-DAA4735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5A33-7180-4152-82CD-56C1E29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575B-F7C0-4A1C-9320-3CBE858C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DD60-A2CB-4BC5-83A9-AF5D3EC1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D27C-1038-4699-9744-642FCBE2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ACB1-5FDA-4CFF-9237-856CC352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88CB-2061-48DE-88CE-5437FE1C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DAB4-3802-499C-8605-AAD2588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6CA9-AABF-4CFA-A4A6-E4A36766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465B-B6C1-42CF-B772-2B3B1203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481-D04B-4F7A-8CAD-4EB39CD5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5BEB-0B33-49C3-95CE-C3392D9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2DB1-E814-4C2C-822A-47B6FBD7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0298-3134-40B0-A95D-F987CC9F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BB34-94B3-4050-96B1-448C1DD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193B-F71D-461E-B9DD-82AE51D0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50EC-9797-43F6-A4A2-2C1192F0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B90B-29C0-4A4D-9959-F3529842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F6B5-4EA5-40E2-B8CE-B83BDFD4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2C18-55A8-4902-80DA-5B2D4AA1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139F-AD94-47D2-B71F-52FCBF7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A78-A851-4E53-A6B5-E8FB7884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FC72-F87D-4A1C-9F31-EE36B1DF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14FB-884E-44C5-AD9C-CF3214B7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ADA9-303F-468C-8677-51033A6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D49C-0726-406D-801B-C0CDA446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A76A-F39D-4F1D-80FF-19C2867E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5B82-EA3D-41ED-B734-6AA4E274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A8E0-6E53-4F84-B5CC-AC53C655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36F7-0C2F-431B-A764-CB66A669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91F4-5C12-42D7-8678-11974D5C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301E-2206-45AA-9DAA-DEE1AE70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ED1-2E37-404D-9836-303CAC8E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0153-6405-4B91-8702-E683BFC5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C6A43-F3AD-45AE-B125-1304CEA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827DE-8E94-4ACD-95F4-E7C5E4D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66AC3-95C7-4C24-AF4E-F445D194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30537-AF85-41A3-A87D-94B3EACE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163AC-9CC7-4B09-9105-08FC0C4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19EA9-BC23-4EFD-886F-2F440F6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731EC-6624-45F8-9AC1-BF415E1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E7FD-1A8F-4FF7-86D9-38610745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5B626-D3BC-4E2B-87D3-15AC42B7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8E0-7467-4358-B1C8-28BB40C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9F8E-BF02-424A-92C4-0E49F006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3212F-C5E2-4633-80E9-0CBB8F2C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7E1B-4B1A-4778-9415-9FB8842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47DB7-68BB-4AF5-B7B0-575E35BA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2A542-39A3-413B-B24F-5A805C61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6EF97-B09E-4FBC-B8F1-3B2B63E7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E7601-9787-4D40-9059-62D89487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8007D-D36E-48C4-8D0F-4E8CADB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9A2C-E4EB-4BE9-B0C8-8B37C8C1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BDED-985E-479E-8792-58309D7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41B-22B1-4C00-BE5E-AE8AB78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4B90-DA11-4628-9F51-068C529B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57C6-08F2-4F15-84CC-AA8E964A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9BF0-1F2F-4E40-9212-3F054AF8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79F19-F91E-4099-8625-336E8201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3BF11-DB8E-4775-A819-D8B6B227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AE37E-4DD7-450F-8102-8267EA48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34499-B236-48E4-A08E-8650BB72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725B-BDE2-446E-BAA7-CA6ABCD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EC703-B003-4D09-AC33-6CB38C9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48597-8C5E-4B6C-9873-6ADEC36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C5A-0DD1-4B6C-95E2-FC65836A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CF63D-BE1C-4F38-9750-67D7C09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4FE90-3370-4B84-B1A8-C0B32C08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B8F7F-D3B2-40D7-A6B4-56435CDD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84D85-CD76-4ED5-AD4E-B12AA530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1F797-2A8E-4B23-AE8C-9908F60D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D90-B3AD-4DE2-8D04-D99D6FC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7B56-6B17-4AC6-9677-BAFAB9B1FD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8DF0-D68B-4810-A4CB-FD26287D4C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2D60-009F-4B46-BEF1-65CA39684AD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CE16-F186-4C00-ABA7-A829CEB63A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00B-855B-4F58-A260-C8BC736762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77DD-B384-4C8B-8620-508780CFD2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D004-1923-45BA-9C93-05BBFFD4CA9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6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Современные стратегии поддержки одарённых детей: вызовы и перспективы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87280" y="3141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оповичева Оксана Николаевна,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заместитель директо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БУ Орловской области  ДПО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«Институт развития образования»,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кандидат педагогических наук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00000" y="1989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ам по себе высокий интеллект, не сама по себе креативность, это всегда особая личность, имеющая особые цели и ценности, особый «жизненный проект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этому важна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Candara"/>
              </a:rPr>
              <a:t>правильная «внешняя» мотивация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нешняя мотивация – это   «внутренняя» мотивация, но явно или неявно опосредованная социальными задачами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ДАРЁННЫЙ РЕБЕНОК --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00000" y="1989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бота с одарёнными детьми – приоритетная государственная и общественная задач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ворческий продукт – суть ожиданий от одарённых люде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бота с различными видами одарённости, не только интеллектуальн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Незримый» колледж мира, коллаборац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 отношении одарённых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сновные тенденции сегодняшнего време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отношении одарённости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9:01:48Z</dcterms:created>
  <dc:creator>1</dc:creator>
  <dc:description/>
  <dc:language>en-US</dc:language>
  <cp:lastModifiedBy>Оксана</cp:lastModifiedBy>
  <dcterms:modified xsi:type="dcterms:W3CDTF">2020-05-26T12:05:35Z</dcterms:modified>
  <cp:revision>11</cp:revision>
  <dc:subject/>
  <dc:title>Дополнительное образование детей как средство профилактики правонарушений в детской среде</dc:title>
</cp:coreProperties>
</file>