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29.png" ContentType="image/png"/>
  <Override PartName="/ppt/media/chimes.wav" ContentType="audio/x-wav"/>
  <Override PartName="/ppt/media/image16.jpeg" ContentType="image/jpeg"/>
  <Override PartName="/ppt/media/image9.png" ContentType="image/png"/>
  <Override PartName="/ppt/media/image28.png" ContentType="image/png"/>
  <Override PartName="/ppt/media/image30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applause.wav" ContentType="audio/x-wav"/>
  <Override PartName="/ppt/media/image13.png" ContentType="image/png"/>
  <Override PartName="/ppt/media/image14.png" ContentType="image/png"/>
  <Override PartName="/ppt/media/image15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7EB3-FC8F-42A5-BD1D-4A3E0E34CA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B416-F24A-41CC-A04B-A41D6A0E0B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BED6-0F1A-4E08-B8D8-7FC14A1CF0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4A55-D3B2-49B6-B47E-023C1014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EEB7-1945-4A65-9A4C-88BBEED5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01AB-1170-4DCC-9F77-8ED5FE94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037E-7AD0-456A-BD37-F93A95F3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ABA9-C6E7-4B91-BAE9-87EAE83C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F140-3E26-4316-BF9B-38A27A44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8654-BAD1-45CF-A072-31F2A1C0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BC11-17C4-4E0C-A64C-1FBEBE8F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0B09-BDBD-4FC9-A429-BA8772C5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39F5-8E3E-4F0D-9E4B-0144AB8F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B647-59C2-41AE-AF7B-EC0F6E96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81B4-8EAA-4A7D-B182-4FBA8ABC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AAA2-41AE-474E-9F94-D6A36AF8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2A32-3128-4F52-AA12-E1D7D2E9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13AA-6895-4140-93D8-7BB76742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EC55-3F09-4F7C-8B4C-31BD6924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BCEB-1EE2-46C6-916D-1C468246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511E-BEF2-4B7C-98E5-13CD1EAB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134F-2D3B-4A74-BE4F-DA4591A7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4D4D-A6C4-4117-8CD6-8142AFBE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0838-56D0-4AEA-9633-7EE1D35A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29F9-E4D2-4904-9FE1-4593043F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E083-C64F-41E4-AA6F-FB286D3B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0FDC-534C-4171-BBDD-39B35277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61ED-9F5B-4F41-8C8D-06BAE1BC1B2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AB6F-347E-4AC6-A6D4-BE399641CC7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" Target="slide3.xml"/><Relationship Id="rId4" Type="http://schemas.openxmlformats.org/officeDocument/2006/relationships/image" Target="../media/image5.png"/><Relationship Id="rId5" Type="http://schemas.openxmlformats.org/officeDocument/2006/relationships/slide" Target="slide8.xml"/><Relationship Id="rId6" Type="http://schemas.openxmlformats.org/officeDocument/2006/relationships/image" Target="../media/image6.png"/><Relationship Id="rId7" Type="http://schemas.openxmlformats.org/officeDocument/2006/relationships/slide" Target="slide4.xml"/><Relationship Id="rId8" Type="http://schemas.openxmlformats.org/officeDocument/2006/relationships/image" Target="../media/image7.png"/><Relationship Id="rId9" Type="http://schemas.openxmlformats.org/officeDocument/2006/relationships/slide" Target="slide6.xml"/><Relationship Id="rId10" Type="http://schemas.openxmlformats.org/officeDocument/2006/relationships/image" Target="../media/image8.png"/><Relationship Id="rId11" Type="http://schemas.openxmlformats.org/officeDocument/2006/relationships/slide" Target="slide7.xml"/><Relationship Id="rId12" Type="http://schemas.openxmlformats.org/officeDocument/2006/relationships/image" Target="../media/image9.png"/><Relationship Id="rId13" Type="http://schemas.openxmlformats.org/officeDocument/2006/relationships/slide" Target="slide5.xml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chimes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audio" Target="../media/chimes.wav"/><Relationship Id="rId40" Type="http://schemas.openxmlformats.org/officeDocument/2006/relationships/audio" Target="../media/chimes.wav"/><Relationship Id="rId41" Type="http://schemas.openxmlformats.org/officeDocument/2006/relationships/audio" Target="../media/applause.wav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" descr=""/>
          <p:cNvPicPr/>
          <p:nvPr/>
        </p:nvPicPr>
        <p:blipFill>
          <a:blip r:embed="rId2"/>
          <a:stretch/>
        </p:blipFill>
        <p:spPr>
          <a:xfrm>
            <a:off x="2017800" y="731880"/>
            <a:ext cx="5290920" cy="529092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"/>
          <p:cNvSpPr/>
          <p:nvPr/>
        </p:nvSpPr>
        <p:spPr>
          <a:xfrm>
            <a:off x="714240" y="1643040"/>
            <a:ext cx="79297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Arial"/>
              </a:rPr>
              <a:t>Игра </a:t>
            </a:r>
            <a:br>
              <a:rPr sz="7200"/>
            </a:br>
            <a:r>
              <a:rPr b="1" lang="ru-RU" sz="7200" spc="-1" strike="noStrike">
                <a:solidFill>
                  <a:srgbClr val="0000cc"/>
                </a:solidFill>
                <a:latin typeface="Arial"/>
              </a:rPr>
              <a:t>«Колесо удачи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Заголовок 1"/>
          <p:cNvSpPr/>
          <p:nvPr/>
        </p:nvSpPr>
        <p:spPr>
          <a:xfrm>
            <a:off x="500040" y="1785960"/>
            <a:ext cx="79297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11"/>
          <p:cNvSpPr/>
          <p:nvPr/>
        </p:nvSpPr>
        <p:spPr>
          <a:xfrm>
            <a:off x="142920" y="500040"/>
            <a:ext cx="842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3d75"/>
                </a:solidFill>
                <a:latin typeface="Arial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253d75"/>
                </a:solidFill>
                <a:latin typeface="Lucida Sans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253d75"/>
                </a:solidFill>
                <a:latin typeface="Arial"/>
              </a:rPr>
              <a:t>Список источников иллюстрац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оугольник 12"/>
          <p:cNvSpPr/>
          <p:nvPr/>
        </p:nvSpPr>
        <p:spPr>
          <a:xfrm>
            <a:off x="357120" y="4572000"/>
            <a:ext cx="8501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000080" y="1500120"/>
            <a:ext cx="771516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schools.keldysh.ru/sch148/images/C41-11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schools.keldysh.ru/sch148/images/C41-32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www.special-baby.ru/files/product/61783.00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pomozgui.ru/pomozgui_i/stati/1283349839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i074.radikal.ru/0810/ff/4b012173eef1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www.kingsclere.hants.sch.uk/maths_icon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3" descr="1158220732.jpg"/>
          <p:cNvPicPr/>
          <p:nvPr/>
        </p:nvPicPr>
        <p:blipFill>
          <a:blip r:embed="rId2"/>
          <a:stretch/>
        </p:blipFill>
        <p:spPr>
          <a:xfrm>
            <a:off x="7900920" y="5614920"/>
            <a:ext cx="1054080" cy="1047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6840" y="225360"/>
            <a:ext cx="1255680" cy="1152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170000" y="3297240"/>
            <a:ext cx="1324080" cy="1287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311120" y="865080"/>
            <a:ext cx="1212840" cy="1328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Картинка 35 из 6984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530360" y="5370480"/>
            <a:ext cx="1200240" cy="1206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Картинка 4 из 95000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71360" y="4584600"/>
            <a:ext cx="1322640" cy="1322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Картинка 9 из 6220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71360" y="2084400"/>
            <a:ext cx="1243080" cy="1249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15"/>
          <a:stretch/>
        </p:blipFill>
        <p:spPr>
          <a:xfrm>
            <a:off x="2786040" y="573120"/>
            <a:ext cx="5718240" cy="571176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9" descr=""/>
          <p:cNvPicPr/>
          <p:nvPr/>
        </p:nvPicPr>
        <p:blipFill>
          <a:blip r:embed="rId16"/>
          <a:stretch/>
        </p:blipFill>
        <p:spPr>
          <a:xfrm>
            <a:off x="963720" y="2286000"/>
            <a:ext cx="72723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Rot by="23400000">
                                      <p:cBhvr>
                                        <p:cTn id="1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Rot by="28800000">
                                      <p:cBhvr>
                                        <p:cTn id="1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Rot by="28800000">
                                      <p:cBhvr>
                                        <p:cTn id="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Rot by="25200000">
                                      <p:cBhvr>
                                        <p:cTn id="2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Rot by="28800000">
                                      <p:cBhvr>
                                        <p:cTn id="2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Rot by="28800000">
                                      <p:cBhvr>
                                        <p:cTn id="3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Rot by="25200000">
                                      <p:cBhvr>
                                        <p:cTn id="3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Rot by="32400000">
                                      <p:cBhvr>
                                        <p:cTn id="4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Rot by="28800000">
                                      <p:cBhvr>
                                        <p:cTn id="4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Rot by="28800000">
                                      <p:cBhvr>
                                        <p:cTn id="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animRot by="25200000">
                                      <p:cBhvr>
                                        <p:cTn id="5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animRot by="28800000">
                                      <p:cBhvr>
                                        <p:cTn id="5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animRot by="32400000">
                                      <p:cBhvr>
                                        <p:cTn id="6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animRot by="32400000">
                                      <p:cBhvr>
                                        <p:cTn id="6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animRot by="28800000">
                                      <p:cBhvr>
                                        <p:cTn id="6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animRot by="28800000">
                                      <p:cBhvr>
                                        <p:cTn id="7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animRot by="25200000">
                                      <p:cBhvr>
                                        <p:cTn id="7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animRot by="28800000">
                                      <p:cBhvr>
                                        <p:cTn id="8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animRot by="32400000">
                                      <p:cBhvr>
                                        <p:cTn id="8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animRot by="32400000">
                                      <p:cBhvr>
                                        <p:cTn id="9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animRot by="28800000">
                                      <p:cBhvr>
                                        <p:cTn id="9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animRot by="28800000">
                                      <p:cBhvr>
                                        <p:cTn id="10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indefinite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animRot by="25200000">
                                      <p:cBhvr>
                                        <p:cTn id="10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himes.wav"/>
                                        </p:tgtEl>
                                      </p:cMediaNode>
                                    </p:audio>
                                    <p:animRot by="28800000">
                                      <p:cBhvr>
                                        <p:cTn id="11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indefinite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indefinite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1809720" y="79200"/>
            <a:ext cx="969840" cy="8956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2928960" y="214200"/>
            <a:ext cx="3929040" cy="642960"/>
          </a:xfrm>
          <a:prstGeom prst="rect">
            <a:avLst/>
          </a:prstGeom>
          <a:gradFill rotWithShape="0">
            <a:gsLst>
              <a:gs pos="0">
                <a:srgbClr val="548ca0"/>
              </a:gs>
              <a:gs pos="100000">
                <a:srgbClr val="548ca0"/>
              </a:gs>
            </a:gsLst>
            <a:lin ang="8340000"/>
          </a:gradFill>
          <a:ln w="9360">
            <a:solidFill>
              <a:srgbClr val="488094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СЧИТАЕ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1143000" y="4000680"/>
            <a:ext cx="7572240" cy="1143000"/>
          </a:xfrm>
          <a:prstGeom prst="rect">
            <a:avLst/>
          </a:prstGeom>
          <a:gradFill rotWithShape="0">
            <a:gsLst>
              <a:gs pos="0">
                <a:srgbClr val="548ca0"/>
              </a:gs>
              <a:gs pos="100000">
                <a:srgbClr val="548ca0"/>
              </a:gs>
            </a:gsLst>
            <a:lin ang="8340000"/>
          </a:gradFill>
          <a:ln w="9360">
            <a:solidFill>
              <a:srgbClr val="488094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Сколько горошин может войти в один стакан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1143000" y="2571840"/>
            <a:ext cx="7572240" cy="1143000"/>
          </a:xfrm>
          <a:prstGeom prst="rect">
            <a:avLst/>
          </a:prstGeom>
          <a:gradFill rotWithShape="0">
            <a:gsLst>
              <a:gs pos="0">
                <a:srgbClr val="548ca0"/>
              </a:gs>
              <a:gs pos="100000">
                <a:srgbClr val="548ca0"/>
              </a:gs>
            </a:gsLst>
            <a:lin ang="8340000"/>
          </a:gradFill>
          <a:ln w="9360">
            <a:solidFill>
              <a:srgbClr val="488094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Между цифрами 3 3 3 3 3  нужно расставить знаки  и скобки так, чтобы получилось 19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1143000" y="1143000"/>
            <a:ext cx="7572240" cy="1143000"/>
          </a:xfrm>
          <a:prstGeom prst="rect">
            <a:avLst/>
          </a:prstGeom>
          <a:gradFill rotWithShape="0">
            <a:gsLst>
              <a:gs pos="0">
                <a:srgbClr val="548ca0"/>
              </a:gs>
              <a:gs pos="100000">
                <a:srgbClr val="548ca0"/>
              </a:gs>
            </a:gsLst>
            <a:lin ang="8340000"/>
          </a:gradFill>
          <a:ln w="9360">
            <a:solidFill>
              <a:srgbClr val="488094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В комнате горело 50 свечей, 20 из них заду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Сколько останется?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1143000" y="5429160"/>
            <a:ext cx="7572240" cy="1143000"/>
          </a:xfrm>
          <a:prstGeom prst="rect">
            <a:avLst/>
          </a:prstGeom>
          <a:gradFill rotWithShape="0">
            <a:gsLst>
              <a:gs pos="0">
                <a:srgbClr val="548ca0"/>
              </a:gs>
              <a:gs pos="100000">
                <a:srgbClr val="548ca0"/>
              </a:gs>
            </a:gsLst>
            <a:lin ang="8340000"/>
          </a:gradFill>
          <a:ln w="9360">
            <a:solidFill>
              <a:srgbClr val="488094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В комнате было 12 цыплят, 3 кролика, 5 щенят, 2 кошки, 1 петух и 2 курицы. Сюда зашёл хозяин с собакой. Сколько в комнате стало ног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Нашивка 13"/>
          <p:cNvSpPr/>
          <p:nvPr/>
        </p:nvSpPr>
        <p:spPr>
          <a:xfrm>
            <a:off x="285840" y="1285920"/>
            <a:ext cx="714240" cy="571320"/>
          </a:xfrm>
          <a:custGeom>
            <a:avLst/>
            <a:gdLst>
              <a:gd name="textAreaLeft" fmla="*/ 0 w 714240"/>
              <a:gd name="textAreaRight" fmla="*/ 714600 w 71424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gradFill rotWithShape="0">
            <a:gsLst>
              <a:gs pos="0">
                <a:srgbClr val="548ca0"/>
              </a:gs>
              <a:gs pos="100000">
                <a:srgbClr val="548ca0"/>
              </a:gs>
            </a:gsLst>
            <a:lin ang="8340000"/>
          </a:gradFill>
          <a:ln w="9360">
            <a:solidFill>
              <a:srgbClr val="488094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Управляющая кнопка: назад 14">
            <a:hlinkClick r:id="rId3" action="ppaction://hlinksldjump"/>
          </p:cNvPr>
          <p:cNvSpPr/>
          <p:nvPr/>
        </p:nvSpPr>
        <p:spPr>
          <a:xfrm>
            <a:off x="0" y="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4990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</a:pathLst>
          </a:custGeom>
          <a:gradFill rotWithShape="0">
            <a:gsLst>
              <a:gs pos="0">
                <a:srgbClr val="548ca0"/>
              </a:gs>
              <a:gs pos="100000">
                <a:srgbClr val="548ca0"/>
              </a:gs>
            </a:gsLst>
            <a:lin ang="8340000"/>
          </a:gradFill>
          <a:ln w="9360">
            <a:solidFill>
              <a:srgbClr val="488094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4071960" y="171468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20, задутые не сгорят полн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6429240" y="3000240"/>
            <a:ext cx="2357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(3∙3-3)∙33=1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16"/>
          <p:cNvSpPr/>
          <p:nvPr/>
        </p:nvSpPr>
        <p:spPr>
          <a:xfrm>
            <a:off x="2357280" y="478620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исколько, т.к. горошины не ходя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17"/>
          <p:cNvSpPr/>
          <p:nvPr/>
        </p:nvSpPr>
        <p:spPr>
          <a:xfrm>
            <a:off x="6715080" y="621504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2, у жив. лап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1.70213E-006 L 0.00434 0.21832 E">
                                      <p:cBhvr>
                                        <p:cTn id="137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0.21832 L 0.00452 0.43849 E">
                                      <p:cBhvr>
                                        <p:cTn id="153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43849 L 0.00452 0.63784 E">
                                      <p:cBhvr>
                                        <p:cTn id="16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4"/>
          <p:cNvSpPr/>
          <p:nvPr/>
        </p:nvSpPr>
        <p:spPr>
          <a:xfrm>
            <a:off x="2928960" y="214200"/>
            <a:ext cx="3929040" cy="642960"/>
          </a:xfrm>
          <a:prstGeom prst="rect">
            <a:avLst/>
          </a:prstGeom>
          <a:gradFill rotWithShape="0">
            <a:gsLst>
              <a:gs pos="0">
                <a:srgbClr val="7b8c68"/>
              </a:gs>
              <a:gs pos="100000">
                <a:srgbClr val="7b8c68"/>
              </a:gs>
            </a:gsLst>
            <a:lin ang="8340000"/>
          </a:gradFill>
          <a:ln w="9360">
            <a:solidFill>
              <a:srgbClr val="6f805c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БУ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1143000" y="4000680"/>
            <a:ext cx="7572240" cy="1143000"/>
          </a:xfrm>
          <a:prstGeom prst="rect">
            <a:avLst/>
          </a:prstGeom>
          <a:gradFill rotWithShape="0">
            <a:gsLst>
              <a:gs pos="0">
                <a:srgbClr val="7b8c68"/>
              </a:gs>
              <a:gs pos="100000">
                <a:srgbClr val="7b8c68"/>
              </a:gs>
            </a:gsLst>
            <a:lin ang="8340000"/>
          </a:gradFill>
          <a:ln w="9360">
            <a:solidFill>
              <a:srgbClr val="6f805c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гадайте реб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9"/>
          <p:cNvSpPr/>
          <p:nvPr/>
        </p:nvSpPr>
        <p:spPr>
          <a:xfrm>
            <a:off x="1143000" y="2571840"/>
            <a:ext cx="7572240" cy="1143000"/>
          </a:xfrm>
          <a:prstGeom prst="rect">
            <a:avLst/>
          </a:prstGeom>
          <a:gradFill rotWithShape="0">
            <a:gsLst>
              <a:gs pos="0">
                <a:srgbClr val="7b8c68"/>
              </a:gs>
              <a:gs pos="100000">
                <a:srgbClr val="7b8c68"/>
              </a:gs>
            </a:gsLst>
            <a:lin ang="8340000"/>
          </a:gradFill>
          <a:ln w="9360">
            <a:solidFill>
              <a:srgbClr val="6f805c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гадайте реб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10"/>
          <p:cNvSpPr/>
          <p:nvPr/>
        </p:nvSpPr>
        <p:spPr>
          <a:xfrm>
            <a:off x="1143000" y="1143000"/>
            <a:ext cx="7572240" cy="1143000"/>
          </a:xfrm>
          <a:prstGeom prst="rect">
            <a:avLst/>
          </a:prstGeom>
          <a:gradFill rotWithShape="0">
            <a:gsLst>
              <a:gs pos="0">
                <a:srgbClr val="7b8c68"/>
              </a:gs>
              <a:gs pos="100000">
                <a:srgbClr val="7b8c68"/>
              </a:gs>
            </a:gsLst>
            <a:lin ang="8340000"/>
          </a:gradFill>
          <a:ln w="9360">
            <a:solidFill>
              <a:srgbClr val="6f805c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гадайте ребус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1"/>
          <p:cNvSpPr/>
          <p:nvPr/>
        </p:nvSpPr>
        <p:spPr>
          <a:xfrm>
            <a:off x="1143000" y="5429160"/>
            <a:ext cx="7572240" cy="1143000"/>
          </a:xfrm>
          <a:prstGeom prst="rect">
            <a:avLst/>
          </a:prstGeom>
          <a:gradFill rotWithShape="0">
            <a:gsLst>
              <a:gs pos="0">
                <a:srgbClr val="7b8c68"/>
              </a:gs>
              <a:gs pos="100000">
                <a:srgbClr val="7b8c68"/>
              </a:gs>
            </a:gsLst>
            <a:lin ang="8340000"/>
          </a:gradFill>
          <a:ln w="9360">
            <a:solidFill>
              <a:srgbClr val="6f805c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гадайте реб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Нашивка 13"/>
          <p:cNvSpPr/>
          <p:nvPr/>
        </p:nvSpPr>
        <p:spPr>
          <a:xfrm>
            <a:off x="285840" y="1285920"/>
            <a:ext cx="714240" cy="571320"/>
          </a:xfrm>
          <a:custGeom>
            <a:avLst/>
            <a:gdLst>
              <a:gd name="textAreaLeft" fmla="*/ 0 w 714240"/>
              <a:gd name="textAreaRight" fmla="*/ 714600 w 71424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gradFill rotWithShape="0">
            <a:gsLst>
              <a:gs pos="0">
                <a:srgbClr val="7b8c68"/>
              </a:gs>
              <a:gs pos="100000">
                <a:srgbClr val="7b8c68"/>
              </a:gs>
            </a:gsLst>
            <a:lin ang="8340000"/>
          </a:gradFill>
          <a:ln w="9360">
            <a:solidFill>
              <a:srgbClr val="6f805c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Управляющая кнопка: назад 14">
            <a:hlinkClick r:id="rId2" action="ppaction://hlinksldjump"/>
          </p:cNvPr>
          <p:cNvSpPr/>
          <p:nvPr/>
        </p:nvSpPr>
        <p:spPr>
          <a:xfrm>
            <a:off x="0" y="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4990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</a:pathLst>
          </a:custGeom>
          <a:gradFill rotWithShape="0">
            <a:gsLst>
              <a:gs pos="0">
                <a:srgbClr val="7b8c68"/>
              </a:gs>
              <a:gs pos="100000">
                <a:srgbClr val="7b8c68"/>
              </a:gs>
            </a:gsLst>
            <a:lin ang="8340000"/>
          </a:gradFill>
          <a:ln w="9360">
            <a:solidFill>
              <a:srgbClr val="6f805c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3"/>
          <a:stretch/>
        </p:blipFill>
        <p:spPr>
          <a:xfrm>
            <a:off x="1884240" y="79200"/>
            <a:ext cx="895320" cy="9813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5"/>
          <p:cNvSpPr/>
          <p:nvPr/>
        </p:nvSpPr>
        <p:spPr>
          <a:xfrm>
            <a:off x="6643800" y="142884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(шкатул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2" descr="C:\Documents and Settings\user\Рабочий стол\АЛГЕБРА\7f860a7251.jpg"/>
          <p:cNvPicPr/>
          <p:nvPr/>
        </p:nvPicPr>
        <p:blipFill>
          <a:blip r:embed="rId4"/>
          <a:stretch/>
        </p:blipFill>
        <p:spPr>
          <a:xfrm>
            <a:off x="1214280" y="3857760"/>
            <a:ext cx="6872400" cy="27208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6"/>
          <p:cNvSpPr/>
          <p:nvPr/>
        </p:nvSpPr>
        <p:spPr>
          <a:xfrm>
            <a:off x="7000920" y="292896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(лимо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3" descr="C:\Documents and Settings\user\Рабочий стол\АЛГЕБРА\a544cd08be.jpg"/>
          <p:cNvPicPr/>
          <p:nvPr/>
        </p:nvPicPr>
        <p:blipFill>
          <a:blip r:embed="rId5"/>
          <a:stretch/>
        </p:blipFill>
        <p:spPr>
          <a:xfrm>
            <a:off x="1500120" y="357120"/>
            <a:ext cx="6096240" cy="34765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7"/>
          <p:cNvSpPr/>
          <p:nvPr/>
        </p:nvSpPr>
        <p:spPr>
          <a:xfrm>
            <a:off x="7000920" y="44290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(глобу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18"/>
          <p:cNvSpPr/>
          <p:nvPr/>
        </p:nvSpPr>
        <p:spPr>
          <a:xfrm>
            <a:off x="7000920" y="57862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(кула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C:\Documents and Settings\user\Рабочий стол\АЛГЕБРА\003_knuckle.png"/>
          <p:cNvPicPr/>
          <p:nvPr/>
        </p:nvPicPr>
        <p:blipFill>
          <a:blip r:embed="rId6"/>
          <a:srcRect l="7206" t="0" r="1802" b="0"/>
          <a:stretch/>
        </p:blipFill>
        <p:spPr>
          <a:xfrm>
            <a:off x="1285920" y="1071720"/>
            <a:ext cx="7215120" cy="3786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ребусы для детей"/>
          <p:cNvPicPr/>
          <p:nvPr/>
        </p:nvPicPr>
        <p:blipFill>
          <a:blip r:embed="rId7"/>
          <a:stretch/>
        </p:blipFill>
        <p:spPr>
          <a:xfrm>
            <a:off x="1928880" y="2214720"/>
            <a:ext cx="6095880" cy="41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1.70213E-006 L 0.00434 0.21832 E">
                                      <p:cBhvr>
                                        <p:cTn id="19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0.21832 L 0.00452 0.43849 E">
                                      <p:cBhvr>
                                        <p:cTn id="209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43849 L 0.00452 0.63784 E">
                                      <p:cBhvr>
                                        <p:cTn id="228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4"/>
          <p:cNvSpPr/>
          <p:nvPr/>
        </p:nvSpPr>
        <p:spPr>
          <a:xfrm>
            <a:off x="2857680" y="214200"/>
            <a:ext cx="3929040" cy="642960"/>
          </a:xfrm>
          <a:prstGeom prst="rect">
            <a:avLst/>
          </a:prstGeom>
          <a:gradFill rotWithShape="0">
            <a:gsLst>
              <a:gs pos="0">
                <a:srgbClr val="4f69a5"/>
              </a:gs>
              <a:gs pos="100000">
                <a:srgbClr val="4f69a5"/>
              </a:gs>
            </a:gsLst>
            <a:lin ang="8340000"/>
          </a:gradFill>
          <a:ln w="9360">
            <a:solidFill>
              <a:srgbClr val="435d99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МЕКАЛ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1143000" y="3857760"/>
            <a:ext cx="7572240" cy="1357200"/>
          </a:xfrm>
          <a:prstGeom prst="rect">
            <a:avLst/>
          </a:prstGeom>
          <a:gradFill rotWithShape="0">
            <a:gsLst>
              <a:gs pos="0">
                <a:srgbClr val="4f69a5"/>
              </a:gs>
              <a:gs pos="100000">
                <a:srgbClr val="4f69a5"/>
              </a:gs>
            </a:gsLst>
            <a:lin ang="8340000"/>
          </a:gradFill>
          <a:ln w="9360">
            <a:solidFill>
              <a:srgbClr val="435d99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На столе лежат две монеты, в сумме они дают 3 рубля. Одна из них - не 1 рубль. Какие это монет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9"/>
          <p:cNvSpPr/>
          <p:nvPr/>
        </p:nvSpPr>
        <p:spPr>
          <a:xfrm>
            <a:off x="1143000" y="2571840"/>
            <a:ext cx="7572240" cy="1143000"/>
          </a:xfrm>
          <a:prstGeom prst="rect">
            <a:avLst/>
          </a:prstGeom>
          <a:gradFill rotWithShape="0">
            <a:gsLst>
              <a:gs pos="0">
                <a:srgbClr val="4f69a5"/>
              </a:gs>
              <a:gs pos="100000">
                <a:srgbClr val="4f69a5"/>
              </a:gs>
            </a:gsLst>
            <a:lin ang="8340000"/>
          </a:gradFill>
          <a:ln w="9360">
            <a:solidFill>
              <a:srgbClr val="435d99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Назовите пять дней, не называя чисел  и названий дн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10"/>
          <p:cNvSpPr/>
          <p:nvPr/>
        </p:nvSpPr>
        <p:spPr>
          <a:xfrm>
            <a:off x="1143000" y="1143000"/>
            <a:ext cx="7572240" cy="1214280"/>
          </a:xfrm>
          <a:prstGeom prst="rect">
            <a:avLst/>
          </a:prstGeom>
          <a:gradFill rotWithShape="0">
            <a:gsLst>
              <a:gs pos="0">
                <a:srgbClr val="4f69a5"/>
              </a:gs>
              <a:gs pos="100000">
                <a:srgbClr val="4f69a5"/>
              </a:gs>
            </a:gsLst>
            <a:lin ang="8340000"/>
          </a:gradFill>
          <a:ln w="9360">
            <a:solidFill>
              <a:srgbClr val="435d99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Чем кончаются день и ноч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11"/>
          <p:cNvSpPr/>
          <p:nvPr/>
        </p:nvSpPr>
        <p:spPr>
          <a:xfrm>
            <a:off x="1143000" y="5357880"/>
            <a:ext cx="7572240" cy="1143000"/>
          </a:xfrm>
          <a:prstGeom prst="rect">
            <a:avLst/>
          </a:prstGeom>
          <a:gradFill rotWithShape="0">
            <a:gsLst>
              <a:gs pos="0">
                <a:srgbClr val="4f69a5"/>
              </a:gs>
              <a:gs pos="100000">
                <a:srgbClr val="4f69a5"/>
              </a:gs>
            </a:gsLst>
            <a:lin ang="8340000"/>
          </a:gradFill>
          <a:ln w="9360">
            <a:solidFill>
              <a:srgbClr val="435d99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Сколько месяцев в году имеют 28 дней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Нашивка 13"/>
          <p:cNvSpPr/>
          <p:nvPr/>
        </p:nvSpPr>
        <p:spPr>
          <a:xfrm>
            <a:off x="285840" y="1285920"/>
            <a:ext cx="714240" cy="571320"/>
          </a:xfrm>
          <a:custGeom>
            <a:avLst/>
            <a:gdLst>
              <a:gd name="textAreaLeft" fmla="*/ 0 w 714240"/>
              <a:gd name="textAreaRight" fmla="*/ 714600 w 71424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gradFill rotWithShape="0">
            <a:gsLst>
              <a:gs pos="0">
                <a:srgbClr val="4f69a5"/>
              </a:gs>
              <a:gs pos="100000">
                <a:srgbClr val="4f69a5"/>
              </a:gs>
            </a:gsLst>
            <a:lin ang="8340000"/>
          </a:gradFill>
          <a:ln w="9360">
            <a:solidFill>
              <a:srgbClr val="435d99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Управляющая кнопка: назад 14">
            <a:hlinkClick r:id="rId2" action="ppaction://hlinksldjump"/>
          </p:cNvPr>
          <p:cNvSpPr/>
          <p:nvPr/>
        </p:nvSpPr>
        <p:spPr>
          <a:xfrm>
            <a:off x="0" y="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4990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</a:pathLst>
          </a:custGeom>
          <a:gradFill rotWithShape="0">
            <a:gsLst>
              <a:gs pos="0">
                <a:srgbClr val="4f69a5"/>
              </a:gs>
              <a:gs pos="100000">
                <a:srgbClr val="4f69a5"/>
              </a:gs>
            </a:gsLst>
            <a:lin ang="8340000"/>
          </a:gradFill>
          <a:ln w="9360">
            <a:solidFill>
              <a:srgbClr val="435d99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5429160" y="1643040"/>
            <a:ext cx="32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Мягким знак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15"/>
          <p:cNvSpPr/>
          <p:nvPr/>
        </p:nvSpPr>
        <p:spPr>
          <a:xfrm>
            <a:off x="2500200" y="3214800"/>
            <a:ext cx="63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озавчера, вчера, сегодня, завтра, послезавт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17"/>
          <p:cNvSpPr/>
          <p:nvPr/>
        </p:nvSpPr>
        <p:spPr>
          <a:xfrm>
            <a:off x="6929280" y="57150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Все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18"/>
          <p:cNvSpPr/>
          <p:nvPr/>
        </p:nvSpPr>
        <p:spPr>
          <a:xfrm>
            <a:off x="1214280" y="485784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2 рубля и один, одна то не 1 рубль, а вот другая- 1 руб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15" descr="Картинка 9 из 6220"/>
          <p:cNvPicPr/>
          <p:nvPr/>
        </p:nvPicPr>
        <p:blipFill>
          <a:blip r:embed="rId3"/>
          <a:stretch/>
        </p:blipFill>
        <p:spPr>
          <a:xfrm>
            <a:off x="1670040" y="152280"/>
            <a:ext cx="1030320" cy="10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46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1.70213E-006 L 0.00434 0.21832 E">
                                      <p:cBhvr>
                                        <p:cTn id="25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0.21832 L 0.00452 0.43849 E">
                                      <p:cBhvr>
                                        <p:cTn id="266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43849 L 0.00452 0.63784 E">
                                      <p:cBhvr>
                                        <p:cTn id="278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Прямоугольник 4"/>
          <p:cNvGrpSpPr/>
          <p:nvPr/>
        </p:nvGrpSpPr>
        <p:grpSpPr>
          <a:xfrm>
            <a:off x="2846520" y="201600"/>
            <a:ext cx="3951000" cy="669960"/>
            <a:chOff x="2846520" y="201600"/>
            <a:chExt cx="3951000" cy="669960"/>
          </a:xfrm>
        </p:grpSpPr>
        <p:pic>
          <p:nvPicPr>
            <p:cNvPr id="141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2846520" y="201600"/>
              <a:ext cx="395100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2857680" y="214200"/>
              <a:ext cx="3929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Друзья наши -меньшие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Прямоугольник 5"/>
          <p:cNvGrpSpPr/>
          <p:nvPr/>
        </p:nvGrpSpPr>
        <p:grpSpPr>
          <a:xfrm>
            <a:off x="1103400" y="3992400"/>
            <a:ext cx="7974000" cy="1513080"/>
            <a:chOff x="1103400" y="3992400"/>
            <a:chExt cx="7974000" cy="1513080"/>
          </a:xfrm>
        </p:grpSpPr>
        <p:pic>
          <p:nvPicPr>
            <p:cNvPr id="144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1103400" y="3992400"/>
              <a:ext cx="797400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143000" y="4000680"/>
              <a:ext cx="75722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  <a:ea typeface="Calibri"/>
                </a:rPr>
                <a:t>Летела стая уток. Одна впереди, две позади; одна позади и две впереди; одна между двумя и три в ряд. Сколько летело уток?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Прямоугольник 9"/>
          <p:cNvGrpSpPr/>
          <p:nvPr/>
        </p:nvGrpSpPr>
        <p:grpSpPr>
          <a:xfrm>
            <a:off x="1103400" y="2567160"/>
            <a:ext cx="7974000" cy="1504800"/>
            <a:chOff x="1103400" y="2567160"/>
            <a:chExt cx="7974000" cy="1504800"/>
          </a:xfrm>
        </p:grpSpPr>
        <p:pic>
          <p:nvPicPr>
            <p:cNvPr id="147" name="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1103400" y="2567160"/>
              <a:ext cx="797400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143000" y="2571840"/>
              <a:ext cx="75722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уда идет цыпленок, переходя дорогу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Прямоугольник 10"/>
          <p:cNvGrpSpPr/>
          <p:nvPr/>
        </p:nvGrpSpPr>
        <p:grpSpPr>
          <a:xfrm>
            <a:off x="1103400" y="1133640"/>
            <a:ext cx="7974000" cy="1512720"/>
            <a:chOff x="1103400" y="1133640"/>
            <a:chExt cx="7974000" cy="1512720"/>
          </a:xfrm>
        </p:grpSpPr>
        <p:pic>
          <p:nvPicPr>
            <p:cNvPr id="150" name="Прямоугольник 10" descr=""/>
            <p:cNvPicPr/>
            <p:nvPr/>
          </p:nvPicPr>
          <p:blipFill>
            <a:blip r:embed="rId5"/>
            <a:stretch/>
          </p:blipFill>
          <p:spPr>
            <a:xfrm>
              <a:off x="1103400" y="1133640"/>
              <a:ext cx="797400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143000" y="1143000"/>
              <a:ext cx="75722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Когда черной кошке лучше всего пробраться в дом?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Прямоугольник 11"/>
          <p:cNvGrpSpPr/>
          <p:nvPr/>
        </p:nvGrpSpPr>
        <p:grpSpPr>
          <a:xfrm>
            <a:off x="1103400" y="5353200"/>
            <a:ext cx="7974000" cy="1504800"/>
            <a:chOff x="1103400" y="5353200"/>
            <a:chExt cx="7974000" cy="1504800"/>
          </a:xfrm>
        </p:grpSpPr>
        <p:pic>
          <p:nvPicPr>
            <p:cNvPr id="153" name="Прямоугольник 11" descr=""/>
            <p:cNvPicPr/>
            <p:nvPr/>
          </p:nvPicPr>
          <p:blipFill>
            <a:blip r:embed="rId6"/>
            <a:stretch/>
          </p:blipFill>
          <p:spPr>
            <a:xfrm>
              <a:off x="1103400" y="5353200"/>
              <a:ext cx="797400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143000" y="5357880"/>
              <a:ext cx="75722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  <a:ea typeface="Calibri"/>
                </a:rPr>
                <a:t>Почему черные овцы едят травы меньше, чем белые?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Нашивка 13"/>
          <p:cNvGrpSpPr/>
          <p:nvPr/>
        </p:nvGrpSpPr>
        <p:grpSpPr>
          <a:xfrm>
            <a:off x="237960" y="1279440"/>
            <a:ext cx="1127160" cy="939960"/>
            <a:chOff x="237960" y="1279440"/>
            <a:chExt cx="1127160" cy="939960"/>
          </a:xfrm>
        </p:grpSpPr>
        <p:pic>
          <p:nvPicPr>
            <p:cNvPr id="156" name="Нашивка 13" descr=""/>
            <p:cNvPicPr/>
            <p:nvPr/>
          </p:nvPicPr>
          <p:blipFill>
            <a:blip r:embed="rId7"/>
            <a:stretch/>
          </p:blipFill>
          <p:spPr>
            <a:xfrm>
              <a:off x="237960" y="1279440"/>
              <a:ext cx="112716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71680" y="1285920"/>
              <a:ext cx="1425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Управляющая кнопка: назад 14"/>
          <p:cNvGrpSpPr/>
          <p:nvPr/>
        </p:nvGrpSpPr>
        <p:grpSpPr>
          <a:xfrm>
            <a:off x="-36360" y="-6480"/>
            <a:ext cx="1109520" cy="1006560"/>
            <a:chOff x="-36360" y="-6480"/>
            <a:chExt cx="1109520" cy="1006560"/>
          </a:xfrm>
        </p:grpSpPr>
        <p:pic>
          <p:nvPicPr>
            <p:cNvPr id="159" name="Управляющая кнопка: назад 14" descr=""/>
            <p:cNvPicPr/>
            <p:nvPr/>
          </p:nvPicPr>
          <p:blipFill>
            <a:blip r:embed="rId8"/>
            <a:stretch/>
          </p:blipFill>
          <p:spPr>
            <a:xfrm>
              <a:off x="-36360" y="-6480"/>
              <a:ext cx="11095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0" y="0"/>
              <a:ext cx="7142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" name="TextBox 15"/>
          <p:cNvSpPr/>
          <p:nvPr/>
        </p:nvSpPr>
        <p:spPr>
          <a:xfrm>
            <a:off x="4286160" y="178596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  <a:ea typeface="Tahoma"/>
              </a:rPr>
              <a:t>Когда дверь откры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4286160" y="328716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На другую сторону дорог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16"/>
          <p:cNvSpPr/>
          <p:nvPr/>
        </p:nvSpPr>
        <p:spPr>
          <a:xfrm>
            <a:off x="5000760" y="4714920"/>
            <a:ext cx="371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  <a:ea typeface="Tahoma"/>
              </a:rPr>
              <a:t>Три утки, одна за друг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17"/>
          <p:cNvSpPr/>
          <p:nvPr/>
        </p:nvSpPr>
        <p:spPr>
          <a:xfrm>
            <a:off x="2214720" y="5715000"/>
            <a:ext cx="650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  <a:ea typeface="Calibri"/>
              </a:rPr>
              <a:t>Потому что черных овец меньше, чем бел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1" descr="Картинка 35 из 6984"/>
          <p:cNvPicPr/>
          <p:nvPr/>
        </p:nvPicPr>
        <p:blipFill>
          <a:blip r:embed="rId9"/>
          <a:stretch/>
        </p:blipFill>
        <p:spPr>
          <a:xfrm>
            <a:off x="1670040" y="79200"/>
            <a:ext cx="1042920" cy="10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89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1.70213E-006 L 0.00434 0.21832 E">
                                      <p:cBhvr>
                                        <p:cTn id="297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0.21832 L 0.00452 0.43849 E">
                                      <p:cBhvr>
                                        <p:cTn id="30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43849 L 0.00452 0.63784 E">
                                      <p:cBhvr>
                                        <p:cTn id="315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4"/>
          <p:cNvSpPr/>
          <p:nvPr/>
        </p:nvSpPr>
        <p:spPr>
          <a:xfrm>
            <a:off x="2928960" y="285840"/>
            <a:ext cx="3929040" cy="642960"/>
          </a:xfrm>
          <a:prstGeom prst="rect">
            <a:avLst/>
          </a:prstGeom>
          <a:solidFill>
            <a:srgbClr val="a379bb"/>
          </a:solidFill>
          <a:ln w="25560">
            <a:solidFill>
              <a:srgbClr val="7757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ahoma"/>
              </a:rPr>
              <a:t>Движение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5"/>
          <p:cNvSpPr/>
          <p:nvPr/>
        </p:nvSpPr>
        <p:spPr>
          <a:xfrm>
            <a:off x="1143000" y="4000680"/>
            <a:ext cx="7572240" cy="1143000"/>
          </a:xfrm>
          <a:prstGeom prst="rect">
            <a:avLst/>
          </a:prstGeom>
          <a:solidFill>
            <a:srgbClr val="a379bb"/>
          </a:solidFill>
          <a:ln w="25560">
            <a:solidFill>
              <a:srgbClr val="7757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 лошадей пробежала 40 км. Сколько километров пробежала каждая лошад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9"/>
          <p:cNvSpPr/>
          <p:nvPr/>
        </p:nvSpPr>
        <p:spPr>
          <a:xfrm>
            <a:off x="1143000" y="2571840"/>
            <a:ext cx="7572240" cy="1285920"/>
          </a:xfrm>
          <a:prstGeom prst="rect">
            <a:avLst/>
          </a:prstGeom>
          <a:solidFill>
            <a:srgbClr val="a379bb"/>
          </a:solidFill>
          <a:ln w="25560">
            <a:solidFill>
              <a:srgbClr val="7757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ла Маша в город, а навстречу ей три старушки, у каждой по два мешка, в каждом мешке по кошке. Сколько всего человек шло в город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10"/>
          <p:cNvSpPr/>
          <p:nvPr/>
        </p:nvSpPr>
        <p:spPr>
          <a:xfrm>
            <a:off x="1143000" y="1214280"/>
            <a:ext cx="7572240" cy="1143000"/>
          </a:xfrm>
          <a:prstGeom prst="rect">
            <a:avLst/>
          </a:prstGeom>
          <a:solidFill>
            <a:srgbClr val="a379bb"/>
          </a:solidFill>
          <a:ln w="25560">
            <a:solidFill>
              <a:srgbClr val="7757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Один оборот вокруг Земли спутник делает за 1 ч 40 минут, а другой - за 100 минут. Как это может бы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11"/>
          <p:cNvSpPr/>
          <p:nvPr/>
        </p:nvSpPr>
        <p:spPr>
          <a:xfrm>
            <a:off x="1143000" y="5286240"/>
            <a:ext cx="7572240" cy="1357560"/>
          </a:xfrm>
          <a:prstGeom prst="rect">
            <a:avLst/>
          </a:prstGeom>
          <a:solidFill>
            <a:srgbClr val="a379bb"/>
          </a:solidFill>
          <a:ln w="25560">
            <a:solidFill>
              <a:srgbClr val="7757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Тёмной ночью в сильный дождь ехал автоб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Какой был номер этого автобуса и какое из колёс у него не крутилос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Нашивка 13"/>
          <p:cNvSpPr/>
          <p:nvPr/>
        </p:nvSpPr>
        <p:spPr>
          <a:xfrm>
            <a:off x="285840" y="1285920"/>
            <a:ext cx="714240" cy="571320"/>
          </a:xfrm>
          <a:custGeom>
            <a:avLst/>
            <a:gdLst>
              <a:gd name="textAreaLeft" fmla="*/ 0 w 714240"/>
              <a:gd name="textAreaRight" fmla="*/ 714600 w 71424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a379bb"/>
          </a:solidFill>
          <a:ln w="25560">
            <a:solidFill>
              <a:srgbClr val="7757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Управляющая кнопка: назад 14"/>
          <p:cNvSpPr/>
          <p:nvPr/>
        </p:nvSpPr>
        <p:spPr>
          <a:xfrm>
            <a:off x="0" y="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4990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</a:pathLst>
          </a:custGeom>
          <a:solidFill>
            <a:srgbClr val="a379bb"/>
          </a:solidFill>
          <a:ln w="25560">
            <a:solidFill>
              <a:srgbClr val="7757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4857840" y="18572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1 ч 40 мин = 100 м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16"/>
          <p:cNvSpPr/>
          <p:nvPr/>
        </p:nvSpPr>
        <p:spPr>
          <a:xfrm>
            <a:off x="6286680" y="335772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Один. Это Маш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17"/>
          <p:cNvSpPr/>
          <p:nvPr/>
        </p:nvSpPr>
        <p:spPr>
          <a:xfrm>
            <a:off x="6929280" y="457200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 40 к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18"/>
          <p:cNvSpPr/>
          <p:nvPr/>
        </p:nvSpPr>
        <p:spPr>
          <a:xfrm>
            <a:off x="3714840" y="607212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Calibri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Calibri"/>
              </a:rPr>
              <a:t>Мокрый; не крутилось запас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13" descr="Картинка 4 из 95000"/>
          <p:cNvPicPr/>
          <p:nvPr/>
        </p:nvPicPr>
        <p:blipFill>
          <a:blip r:embed="rId2"/>
          <a:stretch/>
        </p:blipFill>
        <p:spPr>
          <a:xfrm>
            <a:off x="1670040" y="152280"/>
            <a:ext cx="1109520" cy="11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1.70213E-006 L 0.00434 0.21832 E">
                                      <p:cBhvr>
                                        <p:cTn id="331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0.21832 L 0.00452 0.43849 E">
                                      <p:cBhvr>
                                        <p:cTn id="343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43849 L 0.00452 0.63784 E">
                                      <p:cBhvr>
                                        <p:cTn id="355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Прямоугольник 4"/>
          <p:cNvGrpSpPr/>
          <p:nvPr/>
        </p:nvGrpSpPr>
        <p:grpSpPr>
          <a:xfrm>
            <a:off x="2859120" y="146160"/>
            <a:ext cx="4211640" cy="963360"/>
            <a:chOff x="2859120" y="146160"/>
            <a:chExt cx="4211640" cy="963360"/>
          </a:xfrm>
        </p:grpSpPr>
        <p:pic>
          <p:nvPicPr>
            <p:cNvPr id="179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2859120" y="146160"/>
              <a:ext cx="421164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928960" y="214200"/>
              <a:ext cx="3929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Сложные задачк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Прямоугольник 5"/>
          <p:cNvGrpSpPr/>
          <p:nvPr/>
        </p:nvGrpSpPr>
        <p:grpSpPr>
          <a:xfrm>
            <a:off x="987480" y="3790800"/>
            <a:ext cx="7943760" cy="1420920"/>
            <a:chOff x="987480" y="3790800"/>
            <a:chExt cx="7943760" cy="1420920"/>
          </a:xfrm>
        </p:grpSpPr>
        <p:pic>
          <p:nvPicPr>
            <p:cNvPr id="182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987480" y="3790800"/>
              <a:ext cx="794376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1143000" y="3857760"/>
              <a:ext cx="75722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Как можно предсказать счет любого спортивного матча задолго до его начала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Прямоугольник 9"/>
          <p:cNvGrpSpPr/>
          <p:nvPr/>
        </p:nvGrpSpPr>
        <p:grpSpPr>
          <a:xfrm>
            <a:off x="987480" y="2505240"/>
            <a:ext cx="7943760" cy="1420560"/>
            <a:chOff x="987480" y="2505240"/>
            <a:chExt cx="7943760" cy="1420560"/>
          </a:xfrm>
        </p:grpSpPr>
        <p:pic>
          <p:nvPicPr>
            <p:cNvPr id="185" name="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987480" y="2505240"/>
              <a:ext cx="7943760" cy="14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1143000" y="2571840"/>
              <a:ext cx="75722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  <a:ea typeface="Calibri"/>
                </a:rPr>
                <a:t>Что все люди на Земле делают одновременно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Прямоугольник 10"/>
          <p:cNvGrpSpPr/>
          <p:nvPr/>
        </p:nvGrpSpPr>
        <p:grpSpPr>
          <a:xfrm>
            <a:off x="987480" y="1011240"/>
            <a:ext cx="7943760" cy="1639800"/>
            <a:chOff x="987480" y="1011240"/>
            <a:chExt cx="7943760" cy="1639800"/>
          </a:xfrm>
        </p:grpSpPr>
        <p:pic>
          <p:nvPicPr>
            <p:cNvPr id="188" name="Прямоугольник 10" descr=""/>
            <p:cNvPicPr/>
            <p:nvPr/>
          </p:nvPicPr>
          <p:blipFill>
            <a:blip r:embed="rId5"/>
            <a:stretch/>
          </p:blipFill>
          <p:spPr>
            <a:xfrm>
              <a:off x="987480" y="1011240"/>
              <a:ext cx="794376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143000" y="1143000"/>
              <a:ext cx="75722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  <a:ea typeface="Calibri"/>
                </a:rPr>
                <a:t>Если в 12 часов ночи идет дождь, то можно ли ожидать, что через 72 часа будет солнечная погода?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0" name="Прямоугольник 11"/>
          <p:cNvGrpSpPr/>
          <p:nvPr/>
        </p:nvGrpSpPr>
        <p:grpSpPr>
          <a:xfrm>
            <a:off x="987480" y="5078520"/>
            <a:ext cx="7943760" cy="1779480"/>
            <a:chOff x="987480" y="5078520"/>
            <a:chExt cx="7943760" cy="1779480"/>
          </a:xfrm>
        </p:grpSpPr>
        <p:pic>
          <p:nvPicPr>
            <p:cNvPr id="191" name="Прямоугольник 11" descr=""/>
            <p:cNvPicPr/>
            <p:nvPr/>
          </p:nvPicPr>
          <p:blipFill>
            <a:blip r:embed="rId6"/>
            <a:stretch/>
          </p:blipFill>
          <p:spPr>
            <a:xfrm>
              <a:off x="987480" y="5078520"/>
              <a:ext cx="794376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143000" y="5143680"/>
              <a:ext cx="75722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Мальчик упал с 4 ступенек и сломал ногу. Сколько ног сломает мальчик, если упадет с 40 ступенек?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" name="Нашивка 13"/>
          <p:cNvGrpSpPr/>
          <p:nvPr/>
        </p:nvGrpSpPr>
        <p:grpSpPr>
          <a:xfrm>
            <a:off x="212760" y="1219320"/>
            <a:ext cx="1000080" cy="853920"/>
            <a:chOff x="212760" y="1219320"/>
            <a:chExt cx="1000080" cy="853920"/>
          </a:xfrm>
        </p:grpSpPr>
        <p:pic>
          <p:nvPicPr>
            <p:cNvPr id="194" name="Нашивка 13" descr=""/>
            <p:cNvPicPr/>
            <p:nvPr/>
          </p:nvPicPr>
          <p:blipFill>
            <a:blip r:embed="rId7"/>
            <a:stretch/>
          </p:blipFill>
          <p:spPr>
            <a:xfrm>
              <a:off x="212760" y="1219320"/>
              <a:ext cx="10000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71680" y="1285920"/>
              <a:ext cx="1425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Управляющая кнопка: назад 14"/>
          <p:cNvGrpSpPr/>
          <p:nvPr/>
        </p:nvGrpSpPr>
        <p:grpSpPr>
          <a:xfrm>
            <a:off x="-66600" y="-66600"/>
            <a:ext cx="993600" cy="920520"/>
            <a:chOff x="-66600" y="-66600"/>
            <a:chExt cx="993600" cy="920520"/>
          </a:xfrm>
        </p:grpSpPr>
        <p:pic>
          <p:nvPicPr>
            <p:cNvPr id="197" name="Управляющая кнопка: назад 14" descr=""/>
            <p:cNvPicPr/>
            <p:nvPr/>
          </p:nvPicPr>
          <p:blipFill>
            <a:blip r:embed="rId8"/>
            <a:stretch/>
          </p:blipFill>
          <p:spPr>
            <a:xfrm>
              <a:off x="-66600" y="-66600"/>
              <a:ext cx="99360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0" y="0"/>
              <a:ext cx="7142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9" name="Picture 6" descr=""/>
          <p:cNvPicPr/>
          <p:nvPr/>
        </p:nvPicPr>
        <p:blipFill>
          <a:blip r:embed="rId9"/>
          <a:stretch/>
        </p:blipFill>
        <p:spPr>
          <a:xfrm>
            <a:off x="1596960" y="79200"/>
            <a:ext cx="1036800" cy="11163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2436120" y="1858320"/>
            <a:ext cx="63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  <a:ea typeface="Calibri"/>
              </a:rPr>
              <a:t>Нет, - через 72 часа будет снова полноч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571760" y="3286080"/>
            <a:ext cx="1571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17"/>
          <p:cNvSpPr/>
          <p:nvPr/>
        </p:nvSpPr>
        <p:spPr>
          <a:xfrm>
            <a:off x="7358040" y="328608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  <a:ea typeface="Tahoma"/>
              </a:rPr>
              <a:t>жив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5572080" y="44290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  <a:ea typeface="Calibri"/>
              </a:rPr>
              <a:t>Счет до начала 0: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1857240" y="6143760"/>
            <a:ext cx="67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  <a:ea typeface="Tahoma"/>
              </a:rPr>
              <a:t>Всего одну, т.к. вторая у него уже слом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69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1.70213E-006 L 0.00434 0.21832 E">
                                      <p:cBhvr>
                                        <p:cTn id="377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0.21832 L 0.00452 0.43849 E">
                                      <p:cBhvr>
                                        <p:cTn id="386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43849 L 0.00452 0.63784 E">
                                      <p:cBhvr>
                                        <p:cTn id="395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Заголовок 1"/>
          <p:cNvSpPr/>
          <p:nvPr/>
        </p:nvSpPr>
        <p:spPr>
          <a:xfrm>
            <a:off x="500040" y="1785960"/>
            <a:ext cx="79297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11"/>
          <p:cNvSpPr/>
          <p:nvPr/>
        </p:nvSpPr>
        <p:spPr>
          <a:xfrm>
            <a:off x="142920" y="500040"/>
            <a:ext cx="84297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3d75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253d75"/>
                </a:solidFill>
                <a:latin typeface="Arial"/>
              </a:rPr>
              <a:t>Список источник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3d75"/>
                </a:solidFill>
                <a:latin typeface="Arial"/>
              </a:rPr>
              <a:t>основного содерж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1071720" y="2000160"/>
            <a:ext cx="78580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/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ww.uchportal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a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54-1-0-108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/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ww.izvilina.co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d1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/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bus.detsky-mir.co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8:13:16Z</dcterms:created>
  <dc:creator>Анна</dc:creator>
  <dc:description/>
  <dc:language>en-US</dc:language>
  <cp:lastModifiedBy>User</cp:lastModifiedBy>
  <dcterms:modified xsi:type="dcterms:W3CDTF">2020-05-24T14:29:09Z</dcterms:modified>
  <cp:revision>166</cp:revision>
  <dc:subject/>
  <dc:title>Игра</dc:title>
</cp:coreProperties>
</file>