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D6D-A29C-4FF9-8414-6C282518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491-230E-41FF-9C4C-924582C3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302-4709-4992-BC54-4ACB1E34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902E-FE3A-4A50-8423-C8D831FB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160A-AEC5-4D82-A296-5EE91508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FBB2-A5D9-40F2-8F18-6493C9AD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4C66-6C67-4F2B-AEB8-BDA82202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C1AE-C3EC-4B23-9C6F-6DA4F3F0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6156-2D50-46B2-B004-30C55F54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30B5-77B0-485E-B56F-B9146D41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90DE-EB2B-4C0C-9E2C-222E1D96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7DB-EC31-4D56-A0DA-10C91BDD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6832-A51B-45DD-B967-1F9A40B8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E331-7858-40DA-A670-731F3B70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8413-3F04-48A1-BF36-C6E370AE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EDAE-917F-4DBA-93BF-957E12CF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5134-F5C2-4739-845F-804DCE79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587-15FA-4D92-877B-0A8DBE27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3AB-1C5C-43C5-8FA7-795EFA96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8DC-EF9D-4C90-AF1A-EE52444E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192-6D55-41C2-BBB0-EB1878D7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ED9-E10F-4240-9ECE-F6B9E19D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ED6-C61D-4E85-8441-3FEA5405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970-9A73-4A3F-97B6-E92E8753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DCB8-DEBD-4135-B68E-B7B17E42A0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84D1-5023-493E-B0DF-DC94B4CF17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640" y="1082520"/>
            <a:ext cx="770256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ВИКТОР ПЕТРОВИЧ АСТАФЬЕ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Пастух и пастушка». Современная пастораль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Рисунок 3" descr="http://cbse.ru/wp-content/uploads/2015/04/Viktor-Astafev.jpg"/>
          <p:cNvPicPr/>
          <p:nvPr/>
        </p:nvPicPr>
        <p:blipFill>
          <a:blip r:embed="rId1"/>
          <a:stretch/>
        </p:blipFill>
        <p:spPr>
          <a:xfrm>
            <a:off x="6875640" y="765000"/>
            <a:ext cx="2133360" cy="28576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http://www.allsoch.ru/attachments/000/002/460/default.jpg"/>
          <p:cNvPicPr/>
          <p:nvPr/>
        </p:nvPicPr>
        <p:blipFill>
          <a:blip r:embed="rId2"/>
          <a:stretch/>
        </p:blipFill>
        <p:spPr>
          <a:xfrm>
            <a:off x="1187280" y="4000680"/>
            <a:ext cx="4199040" cy="2857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640" y="772200"/>
            <a:ext cx="7702560" cy="64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Из третьей части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50920" y="1557000"/>
            <a:ext cx="8664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Как заняли местечко фашисты, на постой к нам определился фриц один. Барственный такой. С собакой в Россию пожаловал. На собаке ошейник позолоченны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бака - скользкая, пучеглазая... Фашист этот культурный приводил с пересылки девушек... Что он с ними делал! Что делал! Всё показывал им какую-то парижскую любовь. Одна девушка выпорола глаз вальяжному фрицу, за парижскую-то любовь... Один только успела. Собака загрызла девушку…- Люся закрыла лицо руками и так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го сдавила, что из-под пальце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катилась бледность. - Перекусил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й горло разом, как птичке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лизнулась и легла к окну... там!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м!..- показывала Люся одн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кой, другой всё зажимала глаза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Какой ты ласковый! Ты в мать. Я тепер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наю её! Зачем войны? Зачем? За одн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олько горе матери... Ах, господи, как б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сказать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Рисунок 3" descr="D:\Documents\Alexander\Desktop\104738.jpg"/>
          <p:cNvPicPr/>
          <p:nvPr/>
        </p:nvPicPr>
        <p:blipFill>
          <a:blip r:embed="rId1"/>
          <a:stretch/>
        </p:blipFill>
        <p:spPr>
          <a:xfrm>
            <a:off x="4859280" y="3860640"/>
            <a:ext cx="4284720" cy="2997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640" y="799560"/>
            <a:ext cx="77025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50920" y="1988640"/>
            <a:ext cx="866448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твёртая часть – «Успение». Эпиграф из Петрарки: «И жизни нет конца И мукам – краю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"Успение" в переводе со старославянского - "сон". Успением называют дни завершения жизненного пути христианских святых. Их кончину не называют смертью, поскольку в христианстве считается, что нет небытия для святых, их тела и их души нетленны. Приходит день успения, после которого будет пробуждение, соединение с богом и вечная жизнь и сла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йдёт из жизни Борис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гибнут его товарищи, буду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анитарном поезде крики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льбы о помощи. Н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третятся Борис и Люся, чере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ды найдёт он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воего возлюбленного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4" descr="D:\Documents\Alexander\Desktop\77538499_large_Uspenie1.jpg"/>
          <p:cNvPicPr/>
          <p:nvPr/>
        </p:nvPicPr>
        <p:blipFill>
          <a:blip r:embed="rId1"/>
          <a:stretch/>
        </p:blipFill>
        <p:spPr>
          <a:xfrm>
            <a:off x="4211640" y="4005360"/>
            <a:ext cx="4932360" cy="2852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02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ДВОЙНИКИ-АНТИПОДЫ ГЛАВНЫХ ГЕРОЕВ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50920" y="1628640"/>
            <a:ext cx="866448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жратая пэпэжэ” — походно-полевая жена врача госпиталя, куда попадает Борис Костяев после ран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He одного ещё такого вот мямлю-мужика обратает такая вот святоликая боевая подруг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добно устраиваясь н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тельство, разведёт его с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мьёй, увезёт с соб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войны в южный городок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сытно и тепло, да помыка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стофилей бу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т ещё десять-двадцать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ка тот не помрёт с надсады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антипод Люси, полюбивш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-настоящему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всегда, искренн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бескорыст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Рисунок 3" descr="http://s1.cn.ru/data/images/imgs/2012/07/27/18637/18637189.jpg"/>
          <p:cNvPicPr/>
          <p:nvPr/>
        </p:nvPicPr>
        <p:blipFill>
          <a:blip r:embed="rId1"/>
          <a:stretch/>
        </p:blipFill>
        <p:spPr>
          <a:xfrm>
            <a:off x="4356000" y="2708280"/>
            <a:ext cx="3961080" cy="414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883800"/>
            <a:ext cx="770256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ДВОЙНИКИ-АНТИПОДЫ ГЛАВНЫХ ГЕРОЕВ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мкомвзвода старшина Мохнаков,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нтипод Бориса, —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озяин в окопном быт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 человек без лишних  сантиментов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живёт по принципу: всё дозволено,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йна всё спишет. В этот ряд он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авит и Люс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хнаков: «Я весь истратился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войне.  Весь! Сердце истратил..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e жаль мне никого.  Меня бы палачом над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мецкими преступниками, я бы их!..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аршина не только оценивает себя, но и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нимает роковое решение — погибнуть, так как со своей жестокостью он не может жить в обществе. Он гибнет в бою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росаясь с миной под тан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орис, если бы не полюбил Люсю, пришёл бы к такому же концу. Но он умирает от любви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4" descr="D:\Documents\Alexander\Desktop\1333603298_9c2f84643793-e1290590986514.jpg"/>
          <p:cNvPicPr/>
          <p:nvPr/>
        </p:nvPicPr>
        <p:blipFill>
          <a:blip r:embed="rId1"/>
          <a:stretch/>
        </p:blipFill>
        <p:spPr>
          <a:xfrm>
            <a:off x="179280" y="1484280"/>
            <a:ext cx="3168720" cy="4125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025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ФИНАЛ ПОВЕС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50920" y="1915920"/>
            <a:ext cx="86644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ся, найдя могилу Бориса через годы: «Спи! Я пойду. Но я вернусь к тебе. Скоро. Совсем скоро мы будем вместе... Там уж никто не в силах разлучить нас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а шла и видела не ночную, благостно шелестящую степь, а море, в бескрайности которого качалась одиноким бакеном острая пирамидка, и зыбко было всё в этом мир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он, или то, что было им когда-то, остался в безмолвной земле, опутанный корнями трав и цветов, утихших до весн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тался один - посреди Росс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4" descr="D:\Documents\Alexander\Desktop\img12.jpg"/>
          <p:cNvPicPr/>
          <p:nvPr/>
        </p:nvPicPr>
        <p:blipFill>
          <a:blip r:embed="rId1"/>
          <a:stretch/>
        </p:blipFill>
        <p:spPr>
          <a:xfrm>
            <a:off x="4356000" y="4365720"/>
            <a:ext cx="3996000" cy="2492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716040"/>
            <a:ext cx="770256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ЖАНР ПОВЕС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50920" y="1557360"/>
            <a:ext cx="86644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В обозначении жанра соединилось несоединимо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Для пасторали специфично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изображение блаженной жизн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пастухов и пастушек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противопоставление беспечн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жизни пастухов шумной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суетной жизни горожан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знающих нужду, горе и всяк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социальные бедств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полное отсутствие отраж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реальной деревенской жизн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XVI—XVII в.; наделение герое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пасторали психикой, манерами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языком придворной зна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лово «современная» отражает реалии ХХ века с его трагическими катаклизм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Рисунок 3" descr="http://sigallery.umi.ru/images/cms/data/pastorale/chetyre_sezona_-_vesna.jpg"/>
          <p:cNvPicPr/>
          <p:nvPr/>
        </p:nvPicPr>
        <p:blipFill>
          <a:blip r:embed="rId1"/>
          <a:stretch/>
        </p:blipFill>
        <p:spPr>
          <a:xfrm>
            <a:off x="4500720" y="1844640"/>
            <a:ext cx="4895640" cy="4003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721800"/>
            <a:ext cx="770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ЖАНР ПОВЕС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50920" y="1412640"/>
            <a:ext cx="86644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обозначении названия повести жанр оправдывается: несоединимое соединяется. Только истинная любовь, которая приходит к современным «пастуху» и «пастушке», может преодолеть бедствия эпохи, потому что эта любовь вечная, непобедима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мершие на войне и от войны старики не разлучаются и после смерти: «Попробовали разнять руки пастуха и пастушки, да не могли и решили - так тому и быть». Не расставшиеся и после смерти, они передают свою любовь Борису и Люсе, ещё не знающим о том, что они станут «пастухом» и «пастушкой», а те, волей автора, передают эту любовь на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Рисунок 3" descr="http://images.mreadz.com/132/131546/1.jpg"/>
          <p:cNvPicPr/>
          <p:nvPr/>
        </p:nvPicPr>
        <p:blipFill>
          <a:blip r:embed="rId1"/>
          <a:stretch/>
        </p:blipFill>
        <p:spPr>
          <a:xfrm>
            <a:off x="3203640" y="4005360"/>
            <a:ext cx="5292720" cy="2852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5640" y="1096920"/>
            <a:ext cx="7702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D:\Documents\Alexander\Desktop\0011-011-Povest-Pastukh-i-pastushka-1967-19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«Если…потомки не осмыслят и не осознают прошлого, у них не будет настоящего…»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В.П.Астафьев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Рисунок 3" descr="http://www.teatral-online.ru/i/ph/xl/xl_20140428124521.jpg"/>
          <p:cNvPicPr/>
          <p:nvPr/>
        </p:nvPicPr>
        <p:blipFill>
          <a:blip r:embed="rId1"/>
          <a:stretch/>
        </p:blipFill>
        <p:spPr>
          <a:xfrm>
            <a:off x="4427640" y="3357720"/>
            <a:ext cx="4481280" cy="3047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5640" y="1096920"/>
            <a:ext cx="7702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Рисунок 3" descr="http://alsey.ru/assets/images/museum/4.jpg"/>
          <p:cNvPicPr/>
          <p:nvPr/>
        </p:nvPicPr>
        <p:blipFill>
          <a:blip r:embed="rId1"/>
          <a:stretch/>
        </p:blipFill>
        <p:spPr>
          <a:xfrm>
            <a:off x="324000" y="1052640"/>
            <a:ext cx="8640720" cy="5184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640" y="958680"/>
            <a:ext cx="7702560" cy="157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К работе над повестью писатель обращался трижды – в 1969, в 1971 и в 1989 годах. В.П.Астафьев говорил в 1989 году: «Больше других люблю “Пастуха и пастушку”»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овести не называются ни время, ни место сражения. Однако ясно, что действие происходит на Украине, где была окружена и уничтожена громадна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уппировка против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мнени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следователей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стафьев описыва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рсунь-Шевченковск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ерацию 1944 г.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у из выдающихс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истор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ечественной вой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Рисунок 3" descr="http://aleksee-iva.narod.ru/matvey/karta.jpg"/>
          <p:cNvPicPr/>
          <p:nvPr/>
        </p:nvPicPr>
        <p:blipFill>
          <a:blip r:embed="rId1"/>
          <a:stretch/>
        </p:blipFill>
        <p:spPr>
          <a:xfrm>
            <a:off x="3564000" y="3429000"/>
            <a:ext cx="5435640" cy="3429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1096920"/>
            <a:ext cx="7702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Рисунок 3" descr="http://www.litrossia.ru/media/k2/items/cache/b225e64bdaac62c44562dbc8cb763254_M.jpg"/>
          <p:cNvPicPr/>
          <p:nvPr/>
        </p:nvPicPr>
        <p:blipFill>
          <a:blip r:embed="rId1"/>
          <a:stretch/>
        </p:blipFill>
        <p:spPr>
          <a:xfrm>
            <a:off x="2340000" y="0"/>
            <a:ext cx="43927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614160"/>
            <a:ext cx="77025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0920" y="1988640"/>
            <a:ext cx="866448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вая часть – «Бой». Эпиграф: «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Есть упоение в бою! какие красивые и устарелые слова!..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Из разговора, услышанного на войн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Уточнение: Слова услышаны автором в санитарном поезде. Таким образом композиция оформляется как кольцевая: судьба главного героя повести Бориса Костяева заканчивается в санитарном поезде в последней части произведения, а авторская, судя по эпиграфу к первой части, только начинается. Кроме того, главная героиня, Люся, находит могилу своего возлюбленного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композиционно – в пролог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и встреча «пастуха» и «пастушки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родолжается в финале произвед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Рисунок 3" descr="http://lgz.ru/upload/medialibrary/946/946536d609690d022d78eae8e4e40d8d.jpg"/>
          <p:cNvPicPr/>
          <p:nvPr/>
        </p:nvPicPr>
        <p:blipFill>
          <a:blip r:embed="rId1"/>
          <a:stretch/>
        </p:blipFill>
        <p:spPr>
          <a:xfrm>
            <a:off x="5292720" y="4092480"/>
            <a:ext cx="3328920" cy="2765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1082520"/>
            <a:ext cx="770256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вая часть – «Бой». Под пером Виктора Астафьева  оживают картина боя и образ человека на войне: “Борис недоверчиво посмотрел на усмирённую громаду машины: такую силищу — такой маленькой гранатой! Такой маленький человек! Слышал взводный ещё плохо. Во рту у него хрустела земля...”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рой “окопная” правда писателя даже натуралистична: «На поле, в ложках, в воронках, и особенно густо возле изувеченных деревцев лежали убитые, изрубленные, подавленные немцы. Попадались ещё живые, изо рта их шёл пар, они хватались за ноги, ползали следом по истолчённому снегу, опятнанному комками земли и кровью, взывали о помощ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ороняясь от жалости и жути, Борис зажмурил глаза: “Зачем пришли сюда?.. Зачем? Это наша земля! Это наша родина! Где ваша?”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1082520"/>
            <a:ext cx="770256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этой же части изображены погибшие старик и старушка, пасшие накануне боя колхозных коров, теперь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преданно обнявшиеся 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мертный час»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пастух и пастушка»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ни лежали, прикрывая друг друга. Старух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рятала лицо под мышку старику. И мертвых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ло их осколками, посекло одежонку, вырвало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ую вату из латаных телогреек, в которые об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ни были одеты... Хведор Хвомич пробовал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нять руки пастуха и пастушки, да не смог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казал, что так тому и быть, так даже лучше —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месте на веки вечные...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Рисунок 3" descr="http://fb.ru/misc/i/gallery/15074/585484.jpg"/>
          <p:cNvPicPr/>
          <p:nvPr/>
        </p:nvPicPr>
        <p:blipFill>
          <a:blip r:embed="rId1"/>
          <a:stretch/>
        </p:blipFill>
        <p:spPr>
          <a:xfrm>
            <a:off x="5076720" y="3645000"/>
            <a:ext cx="3311640" cy="321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025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-360" y="1412640"/>
            <a:ext cx="6156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торая часть – «Свидание». Эпиграф из Ярослава Смелякова: «И ты пришла, заслышав ожиданье…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вным - давно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вным-давно, ещё до появлень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я знал тебя, любил тебя и жда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Я выдумал тебя, мое стремлень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я печаль, мой верный идеал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 ты пришла, заслышав ожиданье,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знав, что я заранее влюбле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к детские идут воспоминань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з глубины покинутых времен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верясь в том, что это образ м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то создан он мучительной тоскою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я любовался вовсе не тобою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 вымысла бездушною игро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лагодарю за смелое учень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 весь твой смысл, за все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 то, что т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ыла не только рабским воплощенье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 только точной копией мечты: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4427640" y="2997360"/>
            <a:ext cx="39607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нена таких духовных си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ак далека от всякого притворств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к наглый блеск созвездий бутафорски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лек от жизни истинных светил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столько чистой и такой сердечн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то я теперь стою перед тоб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веки покоренный человечн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емительной и нежной красото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ускай меня мечтатель не осуди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я радуюсь сегодня за двои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ому, что жизнь всегда была и буд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много выше вымыслов мои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1082520"/>
            <a:ext cx="770256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торая часть – «Свидание». Завязка произведения. Нарастающее чувство любви Бориса Костяева и Люс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орис: “Ещё я помню театр с колоннами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узыку. Знаешь, музыка была сиреневая..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стенькая такая, понятная и сиреневая..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почему-то услышал сейчас ту музыку и ка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нцевали двое —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 и она, пастух и пастушка —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помнил. Лужайка зелёная. Овечки белы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стух и пастушка в шкурах. Они любили друг друга, не стыдились любви и не боялись её. В доверчивости они были беззащитны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3" descr="http://s.newslab.ru/content/doc/cache/0654/545/350x218.jpg"/>
          <p:cNvPicPr/>
          <p:nvPr/>
        </p:nvPicPr>
        <p:blipFill>
          <a:blip r:embed="rId1"/>
          <a:stretch/>
        </p:blipFill>
        <p:spPr>
          <a:xfrm>
            <a:off x="5813280" y="3213000"/>
            <a:ext cx="3330720" cy="2303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025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ОРТРЕТ ЛЮС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-360" y="1628640"/>
            <a:ext cx="891540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деревенская, 21 год, достаточно начитанна и музыкальна, понимает и чувствует людей. С ней произошло что-то страшное. “Глубокая затаённость и грусть и даже виноватость в чём-то” угадывались в не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ртрет даётся писателем с помощью полутонов, эскизно. Маленькое лицо Люси как будто недорисованное, убегающий взгляд, глаза, “то темнея, то светясь, … жили как бы отдельно от лица”. Такая женщина способна на необычную любов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Рисунок 3" descr="http://volbusiness.ru/assets/images/news/kdtsoldatiki.JPG"/>
          <p:cNvPicPr/>
          <p:nvPr/>
        </p:nvPicPr>
        <p:blipFill>
          <a:blip r:embed="rId1"/>
          <a:stretch/>
        </p:blipFill>
        <p:spPr>
          <a:xfrm>
            <a:off x="4211640" y="3429000"/>
            <a:ext cx="4762440" cy="3170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1004760"/>
            <a:ext cx="77025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50920" y="2565360"/>
            <a:ext cx="866448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ретья часть – «Прощание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пиграф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рькие слёзы застлали мой взор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мурое утро крадётся, как вор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чи вослед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клято будь наступление дня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ремя уводит тебя и мен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серый рассвет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з лирики ваган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Рисунок 4" descr="D:\Documents\Alexander\Desktop\img1.jpg"/>
          <p:cNvPicPr/>
          <p:nvPr/>
        </p:nvPicPr>
        <p:blipFill>
          <a:blip r:embed="rId1"/>
          <a:stretch/>
        </p:blipFill>
        <p:spPr>
          <a:xfrm>
            <a:off x="4067280" y="2781360"/>
            <a:ext cx="5076720" cy="3376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1:15:03Z</dcterms:created>
  <dc:creator>Нечаева</dc:creator>
  <dc:description/>
  <dc:language>en-US</dc:language>
  <cp:lastModifiedBy>Alexander</cp:lastModifiedBy>
  <dcterms:modified xsi:type="dcterms:W3CDTF">2016-12-11T16:32:57Z</dcterms:modified>
  <cp:revision>39</cp:revision>
  <dc:subject/>
  <dc:title>Презентация PowerPoint</dc:title>
</cp:coreProperties>
</file>