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850-3A8C-4C3F-88E9-DBDD8A3A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C37-D097-49BA-BC07-03761DE1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4D6-A2D1-4C6C-B684-957B634A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4F2-D246-4E19-BA09-60F0BFAB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94B4-041F-473F-95D5-852FBD98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2B42-D445-43D3-86B3-6D3409B8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21B0-76DE-424C-A0ED-D85357C3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AFE9-E4B5-48DE-8F08-99F66AB5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04F3-2C54-4B4A-A7BA-7DFC05C2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B9BE-1034-4D37-AAFF-F9CE3F2A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DBE1-28EC-450B-AA4B-A2F4126C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49D-810F-4948-885E-F7A2DD98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671-EAB4-4266-B646-FE7FCB9C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D4AE-1353-4909-A470-59A1F412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B3AA-4468-45D4-A29D-7254267B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7108-CCBE-4AC9-A01F-3962F0AD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17D8-E734-41B3-A4FD-0F367D26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0C6-9718-4AEE-A725-668A599A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01F-7DDA-4176-B1AD-EB018DB4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A6D-41CF-41A3-B0B9-26D0F68C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43E-A62E-4618-A839-1001C861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B8B-271B-45A3-ABF5-CC4D0394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F89-706D-489B-9341-6DA39C2F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0D3-26F6-4262-B101-B9C08D68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B499-E037-4CB3-A96D-5985F8E7A5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D170-FAB5-4216-868A-83EDF1D3C4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640" y="1082520"/>
            <a:ext cx="770256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ВИКТОР ПЕТРОВИЧ АСТАФЬЕ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Пастух и пастушка». Современная пасторал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Рисунок 3" descr="http://cbse.ru/wp-content/uploads/2015/04/Viktor-Astafev.jpg"/>
          <p:cNvPicPr/>
          <p:nvPr/>
        </p:nvPicPr>
        <p:blipFill>
          <a:blip r:embed="rId1"/>
          <a:stretch/>
        </p:blipFill>
        <p:spPr>
          <a:xfrm>
            <a:off x="6875640" y="765000"/>
            <a:ext cx="2133360" cy="28576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http://www.allsoch.ru/attachments/000/002/460/default.jpg"/>
          <p:cNvPicPr/>
          <p:nvPr/>
        </p:nvPicPr>
        <p:blipFill>
          <a:blip r:embed="rId2"/>
          <a:stretch/>
        </p:blipFill>
        <p:spPr>
          <a:xfrm>
            <a:off x="1187280" y="4000680"/>
            <a:ext cx="4199040" cy="285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772200"/>
            <a:ext cx="7702560" cy="64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Из третьей части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50920" y="1557000"/>
            <a:ext cx="8664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Как заняли местечко фашисты, на постой к нам определился фриц один. Барственный такой. С собакой в Россию пожаловал. На собаке ошейник позолоченны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бака - скользкая, пучеглазая... Фашист этот культурный приводил с пересылки девушек... Что он с ними делал! Что делал! Всё показывал им какую-то парижскую любовь. Одна девушка выпорола глаз вальяжному фрицу, за парижскую-то любовь... Один только успела. Собака загрызла девушку…- Люся закрыла лицо руками и так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го сдавила, что из-под пальце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катилась бледность. - Перекуси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й горло разом, как птичке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лизнулась и легла к окну... там!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м!..- показывала Люся од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кой, другой всё зажимала глаза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Какой ты ласковый! Ты в мать. Я тепер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ю её! Зачем войны? Зачем? За одн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олько горе матери... Ах, господи, как б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сказать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Рисунок 3" descr="D:\Documents\Alexander\Desktop\104738.jpg"/>
          <p:cNvPicPr/>
          <p:nvPr/>
        </p:nvPicPr>
        <p:blipFill>
          <a:blip r:embed="rId1"/>
          <a:stretch/>
        </p:blipFill>
        <p:spPr>
          <a:xfrm>
            <a:off x="4859280" y="3860640"/>
            <a:ext cx="4284720" cy="2997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640" y="799560"/>
            <a:ext cx="77025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66448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твёртая часть – «Успение». Эпиграф из Петрарки: «И жизни нет конца И мукам – краю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"Успение" в переводе со старославянского - "сон". Успением называют дни завершения жизненного пути христианских святых. Их кончину не называют смертью, поскольку в христианстве считается, что нет небытия для святых, их тела и их души нетленны. Приходит день успения, после которого будет пробуждение, соединение с богом и вечная жизнь и сла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йдёт из жизни Борис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гибнут его товарищи, буду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анитарном поезде крики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льбы о помощи. Н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третятся Борис и Люся, чере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ды найдёт о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воего возлюбленног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4" descr="D:\Documents\Alexander\Desktop\77538499_large_Uspenie1.jpg"/>
          <p:cNvPicPr/>
          <p:nvPr/>
        </p:nvPicPr>
        <p:blipFill>
          <a:blip r:embed="rId1"/>
          <a:stretch/>
        </p:blipFill>
        <p:spPr>
          <a:xfrm>
            <a:off x="4211640" y="4005360"/>
            <a:ext cx="4932360" cy="2852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02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ДВОЙНИКИ-АНТИПОДЫ ГЛАВНЫХ ГЕРОЕВ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66448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жратая пэпэжэ” — походно-полевая жена врача госпиталя, куда попадает Борис Костяев после ран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He одного ещё такого вот мямлю-мужика обратает такая вот святоликая боевая подруг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добно устраиваясь 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тельство, разведёт его 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мьёй, увезёт с соб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войны в южный городо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сытно и тепло, да помыка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тофилей бу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т ещё десять-двадцать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ка тот не помрёт с надсады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антипод Люси, полюбивш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-настоящему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всегда, искрен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бескорыст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Рисунок 3" descr="http://s1.cn.ru/data/images/imgs/2012/07/27/18637/18637189.jpg"/>
          <p:cNvPicPr/>
          <p:nvPr/>
        </p:nvPicPr>
        <p:blipFill>
          <a:blip r:embed="rId1"/>
          <a:stretch/>
        </p:blipFill>
        <p:spPr>
          <a:xfrm>
            <a:off x="4356000" y="2708280"/>
            <a:ext cx="3961080" cy="414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883800"/>
            <a:ext cx="770256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ДВОЙНИКИ-АНТИПОДЫ ГЛАВНЫХ ГЕРОЕВ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мкомвзвода старшина Мохнаков,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типод Бориса, —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озяин в окопном быт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 человек без лишних  сантиментов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живёт по принципу: всё дозволено,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йна всё спишет. В этот ряд он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вит и Люс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хнаков: «Я весь истратился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войне.  Весь! Сердце истратил..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e жаль мне никого.  Меня бы палачом на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мецкими преступниками, я бы их!..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ршина не только оценивает себя, но и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нимает роковое решение — погибнуть, так как со своей жестокостью он не может жить в обществе. Он гибнет в бою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росаясь с миной под тан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рис, если бы не полюбил Люсю, пришёл бы к такому же концу. Но он умирает от любви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" descr="D:\Documents\Alexander\Desktop\1333603298_9c2f84643793-e1290590986514.jpg"/>
          <p:cNvPicPr/>
          <p:nvPr/>
        </p:nvPicPr>
        <p:blipFill>
          <a:blip r:embed="rId1"/>
          <a:stretch/>
        </p:blipFill>
        <p:spPr>
          <a:xfrm>
            <a:off x="179280" y="1484280"/>
            <a:ext cx="3168720" cy="412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025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ФИНАЛ ПОВЕ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50920" y="1915920"/>
            <a:ext cx="86644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ся, найдя могилу Бориса через годы: «Спи! Я пойду. Но я вернусь к тебе. Скоро. Совсем скоро мы будем вместе... Там уж никто не в силах разлучить нас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а шла и видела не ночную, благостно шелестящую степь, а море, в бескрайности которого качалась одиноким бакеном острая пирамидка, и зыбко было всё в этом мир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он, или то, что было им когда-то, остался в безмолвной земле, опутанный корнями трав и цветов, утихших до весн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ался один - посреди Росс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4" descr="D:\Documents\Alexander\Desktop\img12.jpg"/>
          <p:cNvPicPr/>
          <p:nvPr/>
        </p:nvPicPr>
        <p:blipFill>
          <a:blip r:embed="rId1"/>
          <a:stretch/>
        </p:blipFill>
        <p:spPr>
          <a:xfrm>
            <a:off x="4356000" y="4365720"/>
            <a:ext cx="3996000" cy="2492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716040"/>
            <a:ext cx="770256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ЖАНР ПОВЕ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50920" y="1557360"/>
            <a:ext cx="8664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В обозначении жанра соединилось несоединимо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Для пасторали специфично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изображение блаженной жизн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астухов и пастушек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ротивопоставление беспеч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жизни пастухов шумной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суетной жизни горожан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знающих нужду, горе и всяк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социальные бедств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олное отсутствие отраж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реальной деревенской жизн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XVI—XVII в.; наделение герое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асторали психикой, манерами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языком придворной зна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лово «современная» отражает реалии ХХ века с его трагическими катаклизм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Рисунок 3" descr="http://sigallery.umi.ru/images/cms/data/pastorale/chetyre_sezona_-_vesna.jpg"/>
          <p:cNvPicPr/>
          <p:nvPr/>
        </p:nvPicPr>
        <p:blipFill>
          <a:blip r:embed="rId1"/>
          <a:stretch/>
        </p:blipFill>
        <p:spPr>
          <a:xfrm>
            <a:off x="4500720" y="1844640"/>
            <a:ext cx="4895640" cy="4003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721800"/>
            <a:ext cx="770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ЖАНР ПОВЕ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50920" y="1412640"/>
            <a:ext cx="8664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обозначении названия повести жанр оправдывается: несоединимое соединяется. Только истинная любовь, которая приходит к современным «пастуху» и «пастушке», может преодолеть бедствия эпохи, потому что эта любовь вечная, непобедима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мершие на войне и от войны старики не разлучаются и после смерти: «Попробовали разнять руки пастуха и пастушки, да не могли и решили - так тому и быть». Не расставшиеся и после смерти, они передают свою любовь Борису и Люсе, ещё не знающим о том, что они станут «пастухом» и «пастушкой», а те, волей автора, передают эту любовь н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Рисунок 3" descr="http://images.mreadz.com/132/131546/1.jpg"/>
          <p:cNvPicPr/>
          <p:nvPr/>
        </p:nvPicPr>
        <p:blipFill>
          <a:blip r:embed="rId1"/>
          <a:stretch/>
        </p:blipFill>
        <p:spPr>
          <a:xfrm>
            <a:off x="3203640" y="4005360"/>
            <a:ext cx="5292720" cy="2852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5640" y="1096920"/>
            <a:ext cx="7702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D:\Documents\Alexander\Desktop\0011-011-Povest-Pastukh-i-pastushka-1967-19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«Если…потомки не осмыслят и не осознают прошлого, у них не будет настоящего…»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В.П.Астафьев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Рисунок 3" descr="http://www.teatral-online.ru/i/ph/xl/xl_20140428124521.jpg"/>
          <p:cNvPicPr/>
          <p:nvPr/>
        </p:nvPicPr>
        <p:blipFill>
          <a:blip r:embed="rId1"/>
          <a:stretch/>
        </p:blipFill>
        <p:spPr>
          <a:xfrm>
            <a:off x="4427640" y="3357720"/>
            <a:ext cx="4481280" cy="304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640" y="1096920"/>
            <a:ext cx="7702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Рисунок 3" descr="http://alsey.ru/assets/images/museum/4.jpg"/>
          <p:cNvPicPr/>
          <p:nvPr/>
        </p:nvPicPr>
        <p:blipFill>
          <a:blip r:embed="rId1"/>
          <a:stretch/>
        </p:blipFill>
        <p:spPr>
          <a:xfrm>
            <a:off x="324000" y="1052640"/>
            <a:ext cx="8640720" cy="5184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640" y="958680"/>
            <a:ext cx="7702560" cy="15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К работе над повестью писатель обращался трижды – в 1969, в 1971 и в 1989 годах. В.П.Астафьев говорил в 1989 году: «Больше других люблю “Пастуха и пастушку”»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овести не называются ни время, ни место сражения. Однако ясно, что действие происходит на Украине, где была окружена и уничтожена громадна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ировка против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мнени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следователей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афьев описыва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рсунь-Шевченковск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ерацию 1944 г.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у из выдающихс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истор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ечественной вой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Рисунок 3" descr="http://aleksee-iva.narod.ru/matvey/karta.jpg"/>
          <p:cNvPicPr/>
          <p:nvPr/>
        </p:nvPicPr>
        <p:blipFill>
          <a:blip r:embed="rId1"/>
          <a:stretch/>
        </p:blipFill>
        <p:spPr>
          <a:xfrm>
            <a:off x="3564000" y="3429000"/>
            <a:ext cx="5435640" cy="3429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1096920"/>
            <a:ext cx="7702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Рисунок 3" descr="http://www.litrossia.ru/media/k2/items/cache/b225e64bdaac62c44562dbc8cb763254_M.jpg"/>
          <p:cNvPicPr/>
          <p:nvPr/>
        </p:nvPicPr>
        <p:blipFill>
          <a:blip r:embed="rId1"/>
          <a:stretch/>
        </p:blipFill>
        <p:spPr>
          <a:xfrm>
            <a:off x="234000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614160"/>
            <a:ext cx="77025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66448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ая часть – «Бой». Эпиграф: «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Есть упоение в бою! какие красивые и устарелые слова!..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Из разговора, услышанного на вой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Уточнение: Слова услышаны автором в санитарном поезде. Таким образом композиция оформляется как кольцевая: судьба главного героя повести Бориса Костяева заканчивается в санитарном поезде в последней части произведения, а авторская, судя по эпиграфу к первой части, только начинается. Кроме того, главная героиня, Люся, находит могилу своего возлюбленного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композиционно – в пролог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и встреча «пастуха» и «пастушки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родолжается в финале произвед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Рисунок 3" descr="http://lgz.ru/upload/medialibrary/946/946536d609690d022d78eae8e4e40d8d.jpg"/>
          <p:cNvPicPr/>
          <p:nvPr/>
        </p:nvPicPr>
        <p:blipFill>
          <a:blip r:embed="rId1"/>
          <a:stretch/>
        </p:blipFill>
        <p:spPr>
          <a:xfrm>
            <a:off x="5292720" y="4092480"/>
            <a:ext cx="3328920" cy="2765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1082520"/>
            <a:ext cx="770256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ая часть – «Бой». Под пером Виктора Астафьева  оживают картина боя и образ человека на войне: “Борис недоверчиво посмотрел на усмирённую громаду машины: такую силищу — такой маленькой гранатой! Такой маленький человек! Слышал взводный ещё плохо. Во рту у него хрустела земля...”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рой “окопная” правда писателя даже натуралистична: «На поле, в ложках, в воронках, и особенно густо возле изувеченных деревцев лежали убитые, изрубленные, подавленные немцы. Попадались ещё живые, изо рта их шёл пар, они хватались за ноги, ползали следом по истолчённому снегу, опятнанному комками земли и кровью, взывали о помощ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ороняясь от жалости и жути, Борис зажмурил глаза: “Зачем пришли сюда?.. Зачем? Это наша земля! Это наша родина! Где ваша?”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1082520"/>
            <a:ext cx="770256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этой же части изображены погибшие старик и старушка, пасшие накануне боя колхозных коров, теперь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преданно обнявшиеся 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мертный час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пастух и пастушка»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ни лежали, прикрывая друг друга. Старух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рятала лицо под мышку старику. И мертвых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ло их осколками, посекло одежонку, вырвал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ую вату из латаных телогреек, в которые об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ни были одеты... Хведор Хвомич пробова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нять руки пастуха и пастушки, да не смог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казал, что так тому и быть, так даже лучше —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месте на веки вечные...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Рисунок 3" descr="http://fb.ru/misc/i/gallery/15074/585484.jpg"/>
          <p:cNvPicPr/>
          <p:nvPr/>
        </p:nvPicPr>
        <p:blipFill>
          <a:blip r:embed="rId1"/>
          <a:stretch/>
        </p:blipFill>
        <p:spPr>
          <a:xfrm>
            <a:off x="5076720" y="3645000"/>
            <a:ext cx="331164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025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1412640"/>
            <a:ext cx="6156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торая часть – «Свидание». Эпиграф из Ярослава Смелякова: «И ты пришла, заслышав ожиданье…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вным - давно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вным-давно, ещё до появлень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 знал тебя, любил тебя и жда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 выдумал тебя, мое стремлень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я печаль, мой верный идеал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ты пришла, заслышав ожиданье,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знав, что я заранее влюбл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к детские идут воспоминань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глубины покинутых времен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верясь в том, что это образ м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то создан он мучительной тоскою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 любовался вовсе не тобою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вымысла бездушною игр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лагодарю за смелое учень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 весь твой смысл, за все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 то, что 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ыла не только рабским воплощенье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 только точной копией мечты: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4427640" y="2997360"/>
            <a:ext cx="3960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нена таких духовных си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к далека от всякого притворств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к наглый блеск созвездий бутафорски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лек от жизни истинных светил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столько чистой и такой сердечн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то я теперь стою перед тоб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веки покоренный человечн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емительной и нежной красот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ускай меня мечтатель не осуди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 радуюсь сегодня за двои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ому, что жизнь всегда была и буд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много выше вымыслов мо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1082520"/>
            <a:ext cx="770256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торая часть – «Свидание». Завязка произведения. Нарастающее чувство любви Бориса Костяева и Люс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рис: “Ещё я помню театр с колоннами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узыку. Знаешь, музыка была сиреневая..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тенькая такая, понятная и сиреневая..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почему-то услышал сейчас ту музыку и ка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нцевали двое —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и она, пастух и пастушка 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помнил. Лужайка зелёная. Овечки белы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стух и пастушка в шкурах. Они любили друг друга, не стыдились любви и не боялись её. В доверчивости они были беззащитны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3" descr="http://s.newslab.ru/content/doc/cache/0654/545/350x218.jpg"/>
          <p:cNvPicPr/>
          <p:nvPr/>
        </p:nvPicPr>
        <p:blipFill>
          <a:blip r:embed="rId1"/>
          <a:stretch/>
        </p:blipFill>
        <p:spPr>
          <a:xfrm>
            <a:off x="5813280" y="3213000"/>
            <a:ext cx="3330720" cy="2303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025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ОРТРЕТ ЛЮС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-360" y="1628640"/>
            <a:ext cx="89154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деревенская, 21 год, достаточно начитанна и музыкальна, понимает и чувствует людей. С ней произошло что-то страшное. “Глубокая затаённость и грусть и даже виноватость в чём-то” угадывались в н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ртрет даётся писателем с помощью полутонов, эскизно. Маленькое лицо Люси как будто недорисованное, убегающий взгляд, глаза, “то темнея, то светясь, … жили как бы отдельно от лица”. Такая женщина способна на необычную любов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Рисунок 3" descr="http://volbusiness.ru/assets/images/news/kdtsoldatiki.JPG"/>
          <p:cNvPicPr/>
          <p:nvPr/>
        </p:nvPicPr>
        <p:blipFill>
          <a:blip r:embed="rId1"/>
          <a:stretch/>
        </p:blipFill>
        <p:spPr>
          <a:xfrm>
            <a:off x="4211640" y="3429000"/>
            <a:ext cx="4762440" cy="317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1004760"/>
            <a:ext cx="77025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50920" y="2565360"/>
            <a:ext cx="866448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ретья часть – «Прощание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пиграф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рькие слёзы застлали мой взо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мурое утро крадётся, как вор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чи вослед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клято будь наступление дня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ремя уводит тебя и мен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ерый рассве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з лирики вага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Рисунок 4" descr="D:\Documents\Alexander\Desktop\img1.jpg"/>
          <p:cNvPicPr/>
          <p:nvPr/>
        </p:nvPicPr>
        <p:blipFill>
          <a:blip r:embed="rId1"/>
          <a:stretch/>
        </p:blipFill>
        <p:spPr>
          <a:xfrm>
            <a:off x="4067280" y="2781360"/>
            <a:ext cx="5076720" cy="3376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1:15:03Z</dcterms:created>
  <dc:creator>Нечаева</dc:creator>
  <dc:description/>
  <dc:language>en-US</dc:language>
  <cp:lastModifiedBy>Alexander</cp:lastModifiedBy>
  <dcterms:modified xsi:type="dcterms:W3CDTF">2016-12-11T16:32:57Z</dcterms:modified>
  <cp:revision>39</cp:revision>
  <dc:subject/>
  <dc:title>Презентация PowerPoint</dc:title>
</cp:coreProperties>
</file>