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5FB-8D19-4C76-85AB-CDA999E66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7E1-A4CB-484F-BAC3-BDFABCD5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BB7-F924-4EF5-9299-B429937F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0F2-35D6-4845-AD86-F011AD34C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ED10-5095-419A-8B4E-CA1B6ACA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B5C1-5BE4-45A2-A48F-4A1D1AE9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2C03-FDFB-4124-9BBA-BBDD08A5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A7BE-643C-4EBD-996D-D1C43E97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2027-5CE3-4889-97FE-A2AA5FE1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A15B-8044-4A3F-B862-C2019635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8787-D975-410D-AFB8-25239412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E75-5C80-4239-AE08-0FCC49A3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B3CC-0077-4FEC-9BD0-682C3F6C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83E5-E07F-4535-850C-B3B6A990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7918-82C2-4A5C-AF50-90970DE1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D53E-5B64-457B-B9CC-501640CD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7B34-59D4-441D-B02F-40BD2FCE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D507-FAB3-4AC4-8163-7D3884E6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39B-502C-4F26-9F02-7EB0DB2A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792-E0FD-4765-B596-07F03C25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1F4-BA92-4208-BD57-BA1C68C8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383-3AEC-4711-8E58-2334F650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B59-F357-4D44-8022-4BC93E9A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B20-CA91-4071-BC87-ADE28915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DB1B-9FDB-4171-9E15-F748E0FDC7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868D-0B2F-4611-86BA-502B2D3028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ВИКТОР ПЕТРОВИЧ АСТАФЬЕВ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Пастух и пастушка». Современная пасторал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Рисунок 3" descr="http://cbse.ru/wp-content/uploads/2015/04/Viktor-Astafev.jpg"/>
          <p:cNvPicPr/>
          <p:nvPr/>
        </p:nvPicPr>
        <p:blipFill>
          <a:blip r:embed="rId1"/>
          <a:stretch/>
        </p:blipFill>
        <p:spPr>
          <a:xfrm>
            <a:off x="6875640" y="765000"/>
            <a:ext cx="2133360" cy="28576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4" descr="http://www.allsoch.ru/attachments/000/002/460/default.jpg"/>
          <p:cNvPicPr/>
          <p:nvPr/>
        </p:nvPicPr>
        <p:blipFill>
          <a:blip r:embed="rId2"/>
          <a:stretch/>
        </p:blipFill>
        <p:spPr>
          <a:xfrm>
            <a:off x="1187280" y="4000680"/>
            <a:ext cx="4199040" cy="2857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772200"/>
            <a:ext cx="7702560" cy="64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Из третьей части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50920" y="1557000"/>
            <a:ext cx="8664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Как заняли местечко фашисты, на постой к нам определился фриц один. Барственный такой. С собакой в Россию пожаловал. На собаке ошейник позолоченны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обака - скользкая, пучеглазая... Фашист этот культурный приводил с пересылки девушек... Что он с ними делал! Что делал! Всё показывал им какую-то парижскую любовь. Одна девушка выпорола глаз вальяжному фрицу, за парижскую-то любовь... Один только успела. Собака загрызла девушку…- Люся закрыла лицо руками и так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го сдавила, что из-под пальцев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катилась бледность. - Перекусил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ей горло разом, как птичке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лизнулась и легла к окну... там!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м!..- показывала Люся одно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укой, другой всё зажимала глаза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Какой ты ласковый! Ты в мать. Я теперь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ю её! Зачем войны? Зачем? За одн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олько горе матери... Ах, господи, как б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то сказать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Рисунок 3" descr="D:\Documents\Alexander\Desktop\104738.jpg"/>
          <p:cNvPicPr/>
          <p:nvPr/>
        </p:nvPicPr>
        <p:blipFill>
          <a:blip r:embed="rId1"/>
          <a:stretch/>
        </p:blipFill>
        <p:spPr>
          <a:xfrm>
            <a:off x="4859280" y="3860640"/>
            <a:ext cx="4284720" cy="2997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640" y="799560"/>
            <a:ext cx="770256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66448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твёртая часть – «Успение». Эпиграф из Петрарки: «И жизни нет конца И мукам – краю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"Успение" в переводе со старославянского - "сон". Успением называют дни завершения жизненного пути христианских святых. Их кончину не называют смертью, поскольку в христианстве считается, что нет небытия для святых, их тела и их души нетленны. Приходит день успения, после которого будет пробуждение, соединение с богом и вечная жизнь и сла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йдёт из жизни Борис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гибнут его товарищи, буду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анитарном поезде крики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льбы о помощи. Н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третятся Борис и Люся, чере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ды найдёт о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воего возлюбленног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4" descr="D:\Documents\Alexander\Desktop\77538499_large_Uspenie1.jpg"/>
          <p:cNvPicPr/>
          <p:nvPr/>
        </p:nvPicPr>
        <p:blipFill>
          <a:blip r:embed="rId1"/>
          <a:stretch/>
        </p:blipFill>
        <p:spPr>
          <a:xfrm>
            <a:off x="4211640" y="4005360"/>
            <a:ext cx="4932360" cy="2852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02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Verdana"/>
              </a:rPr>
              <a:t>ДВОЙНИКИ-АНТИПОДЫ ГЛАВНЫХ ГЕРОЕВ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50920" y="1628640"/>
            <a:ext cx="866448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жратая пэпэжэ” — походно-полевая жена врача госпиталя, куда попадает Борис Костяев после ран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He одного ещё такого вот мямлю-мужика обратает такая вот святоликая боевая подруг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добно устраиваясь н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тельство, разведёт его с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емьёй, увезёт с соб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войны в южный городо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сытно и тепло, да помыкать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тофилей бу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т ещё десять-двадцать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ка тот не помрёт с надсады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антипод Люси, полюбивш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-настоящему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всегда, искренн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бескорыст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Рисунок 3" descr="http://s1.cn.ru/data/images/imgs/2012/07/27/18637/18637189.jpg"/>
          <p:cNvPicPr/>
          <p:nvPr/>
        </p:nvPicPr>
        <p:blipFill>
          <a:blip r:embed="rId1"/>
          <a:stretch/>
        </p:blipFill>
        <p:spPr>
          <a:xfrm>
            <a:off x="4356000" y="2708280"/>
            <a:ext cx="3961080" cy="414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883800"/>
            <a:ext cx="770256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ДВОЙНИКИ-АНТИПОДЫ ГЛАВНЫХ ГЕРОЕВ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мкомвзвода старшина Мохнаков,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типод Бориса, —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озяин в окопном быту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н  человек без лишних  сантиментов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живёт по принципу: всё дозволено,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йна всё спишет. В этот ряд он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вит и Люс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хнаков: «Я весь истратился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войне.  Весь! Сердце истратил..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He жаль мне никого.  Меня бы палачом над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мецкими преступниками, я бы их!..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аршина не только оценивает себя, но и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нимает роковое решение — погибнуть, так как со своей жестокостью он не может жить в обществе. Он гибнет в бою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росаясь с миной под тан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орис, если бы не полюбил Люсю, пришёл бы к такому же концу. Но он умирает от любви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D:\Documents\Alexander\Desktop\1333603298_9c2f84643793-e1290590986514.jpg"/>
          <p:cNvPicPr/>
          <p:nvPr/>
        </p:nvPicPr>
        <p:blipFill>
          <a:blip r:embed="rId1"/>
          <a:stretch/>
        </p:blipFill>
        <p:spPr>
          <a:xfrm>
            <a:off x="179280" y="1484280"/>
            <a:ext cx="3168720" cy="4125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025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ФИНАЛ ПОВЕ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250920" y="1915920"/>
            <a:ext cx="86644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ся, найдя могилу Бориса через годы: «Спи! Я пойду. Но я вернусь к тебе. Скоро. Совсем скоро мы будем вместе... Там уж никто не в силах разлучить нас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а шла и видела не ночную, благостно шелестящую степь, а море, в бескрайности которого качалась одиноким бакеном острая пирамидка, и зыбко было всё в этом мир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он, или то, что было им когда-то, остался в безмолвной земле, опутанный корнями трав и цветов, утихших до весны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ался один - посреди Росс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4" descr="D:\Documents\Alexander\Desktop\img12.jpg"/>
          <p:cNvPicPr/>
          <p:nvPr/>
        </p:nvPicPr>
        <p:blipFill>
          <a:blip r:embed="rId1"/>
          <a:stretch/>
        </p:blipFill>
        <p:spPr>
          <a:xfrm>
            <a:off x="4356000" y="4365720"/>
            <a:ext cx="3996000" cy="2492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716040"/>
            <a:ext cx="7702560" cy="76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ЖАНР ПОВЕ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50920" y="1557360"/>
            <a:ext cx="8664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В обозначении жанра соединилось несоединимо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Для пасторали специфично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изображение блаженной жизн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астухов и пастушек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ротивопоставление беспечно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жизни пастухов шумной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суетной жизни горожан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знающих нужду, горе и всяк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социальные бедств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олное отсутствие отраже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реальной деревенской жизн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XVI—XVII в.; наделение герое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пасторали психикой, манерами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Verdana"/>
              </a:rPr>
              <a:t>языком придворной зна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лово «современная» отражает реалии ХХ века с его трагическими катаклизмам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Рисунок 3" descr="http://sigallery.umi.ru/images/cms/data/pastorale/chetyre_sezona_-_vesna.jpg"/>
          <p:cNvPicPr/>
          <p:nvPr/>
        </p:nvPicPr>
        <p:blipFill>
          <a:blip r:embed="rId1"/>
          <a:stretch/>
        </p:blipFill>
        <p:spPr>
          <a:xfrm>
            <a:off x="4500720" y="1844640"/>
            <a:ext cx="4895640" cy="4003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721800"/>
            <a:ext cx="770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ЖАНР ПОВЕСТ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50920" y="1412640"/>
            <a:ext cx="86644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бозначении названия повести жанр оправдывается: несоединимое соединяется. Только истинная любовь, которая приходит к современным «пастуху» и «пастушке», может преодолеть бедствия эпохи, потому что эта любовь вечная, непобедима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мершие на войне и от войны старики не разлучаются и после смерти: «Попробовали разнять руки пастуха и пастушки, да не могли и решили - так тому и быть». Не расставшиеся и после смерти, они передают свою любовь Борису и Люсе, ещё не знающим о том, что они станут «пастухом» и «пастушкой», а те, волей автора, передают эту любовь на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Рисунок 3" descr="http://images.mreadz.com/132/131546/1.jpg"/>
          <p:cNvPicPr/>
          <p:nvPr/>
        </p:nvPicPr>
        <p:blipFill>
          <a:blip r:embed="rId1"/>
          <a:stretch/>
        </p:blipFill>
        <p:spPr>
          <a:xfrm>
            <a:off x="3203640" y="4005360"/>
            <a:ext cx="5292720" cy="2852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5640" y="1096920"/>
            <a:ext cx="7702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D:\Documents\Alexander\Desktop\0011-011-Povest-Pastukh-i-pastushka-1967-197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«Если…потомки не осмыслят и не осознают прошлого, у них не будет настоящего…»</a:t>
            </a:r>
            <a:br>
              <a:rPr sz="4000"/>
            </a:br>
            <a:r>
              <a:rPr b="0" lang="ru-RU" sz="4000" spc="-1" strike="noStrike">
                <a:solidFill>
                  <a:srgbClr val="003366"/>
                </a:solidFill>
                <a:latin typeface="Verdana"/>
              </a:rPr>
              <a:t>В.П.Астафьев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Рисунок 3" descr="http://www.teatral-online.ru/i/ph/xl/xl_20140428124521.jpg"/>
          <p:cNvPicPr/>
          <p:nvPr/>
        </p:nvPicPr>
        <p:blipFill>
          <a:blip r:embed="rId1"/>
          <a:stretch/>
        </p:blipFill>
        <p:spPr>
          <a:xfrm>
            <a:off x="4427640" y="3357720"/>
            <a:ext cx="4481280" cy="3047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640" y="1096920"/>
            <a:ext cx="7702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Рисунок 3" descr="http://alsey.ru/assets/images/museum/4.jpg"/>
          <p:cNvPicPr/>
          <p:nvPr/>
        </p:nvPicPr>
        <p:blipFill>
          <a:blip r:embed="rId1"/>
          <a:stretch/>
        </p:blipFill>
        <p:spPr>
          <a:xfrm>
            <a:off x="324000" y="1052640"/>
            <a:ext cx="8640720" cy="5184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5640" y="958680"/>
            <a:ext cx="7702560" cy="157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К работе над повестью писатель обращался трижды – в 1969, в 1971 и в 1989 годах. В.П.Астафьев говорил в 1989 году: «Больше других люблю “Пастуха и пастушку”»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овести не называются ни время, ни место сражения. Однако ясно, что действие происходит на Украине, где была окружена и уничтожена громадна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уппировка против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 мнени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следователей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афьев описыва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рсунь-Шевченковскую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ерацию 1944 г.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у из выдающихс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истор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ечественной войн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Рисунок 3" descr="http://aleksee-iva.narod.ru/matvey/karta.jpg"/>
          <p:cNvPicPr/>
          <p:nvPr/>
        </p:nvPicPr>
        <p:blipFill>
          <a:blip r:embed="rId1"/>
          <a:stretch/>
        </p:blipFill>
        <p:spPr>
          <a:xfrm>
            <a:off x="3564000" y="3429000"/>
            <a:ext cx="5435640" cy="3429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1096920"/>
            <a:ext cx="77025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Рисунок 3" descr="http://www.litrossia.ru/media/k2/items/cache/b225e64bdaac62c44562dbc8cb763254_M.jpg"/>
          <p:cNvPicPr/>
          <p:nvPr/>
        </p:nvPicPr>
        <p:blipFill>
          <a:blip r:embed="rId1"/>
          <a:stretch/>
        </p:blipFill>
        <p:spPr>
          <a:xfrm>
            <a:off x="234000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614160"/>
            <a:ext cx="770256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664480" cy="39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ая часть – «Бой». Эпиграф: «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Есть упоение в бою! какие красивые и устарелые слова!..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Из разговора, услышанного на вой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Уточнение: Слова услышаны автором в санитарном поезде. Таким образом композиция оформляется как кольцевая: судьба главного героя повести Бориса Костяева заканчивается в санитарном поезде в последней части произведения, а авторская, судя по эпиграфу к первой части, только начинается. Кроме того, главная героиня, Люся, находит могилу своего возлюбленного –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композиционно – в пролог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и встреча «пастуха» и «пастушки»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родолжается в финале произвед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Рисунок 3" descr="http://lgz.ru/upload/medialibrary/946/946536d609690d022d78eae8e4e40d8d.jpg"/>
          <p:cNvPicPr/>
          <p:nvPr/>
        </p:nvPicPr>
        <p:blipFill>
          <a:blip r:embed="rId1"/>
          <a:stretch/>
        </p:blipFill>
        <p:spPr>
          <a:xfrm>
            <a:off x="5292720" y="4092480"/>
            <a:ext cx="3328920" cy="2765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ая часть – «Бой». Под пером Виктора Астафьева  оживают картина боя и образ человека на войне: “Борис недоверчиво посмотрел на усмирённую громаду машины: такую силищу — такой маленькой гранатой! Такой маленький человек! Слышал взводный ещё плохо. Во рту у него хрустела земля...”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ой “окопная” правда писателя даже натуралистична: «На поле, в ложках, в воронках, и особенно густо возле изувеченных деревцев лежали убитые, изрубленные, подавленные немцы. Попадались ещё живые, изо рта их шёл пар, они хватались за ноги, ползали следом по истолчённому снегу, опятнанному комками земли и кровью, взывали о помощ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ороняясь от жалости и жути, Борис зажмурил глаза: “Зачем пришли сюда?.. Зачем? Это наша земля! Это наша родина! Где ваша?”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этой же части изображены погибшие старик и старушка, пасшие накануне боя колхозных коров, теперь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преданно обнявшиеся 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мертный час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пастух и пастушка»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ни лежали, прикрывая друг друга. Старух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рятала лицо под мышку старику. И мертвых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ло их осколками, посекло одежонку, вырвало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рую вату из латаных телогреек, в которые об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ни были одеты... Хведор Хвомич пробовал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знять руки пастуха и пастушки, да не смог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казал, что так тому и быть, так даже лучше —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месте на веки вечные...”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Рисунок 3" descr="http://fb.ru/misc/i/gallery/15074/585484.jpg"/>
          <p:cNvPicPr/>
          <p:nvPr/>
        </p:nvPicPr>
        <p:blipFill>
          <a:blip r:embed="rId1"/>
          <a:stretch/>
        </p:blipFill>
        <p:spPr>
          <a:xfrm>
            <a:off x="5076720" y="3645000"/>
            <a:ext cx="331164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025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2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1412640"/>
            <a:ext cx="6156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ая часть – «Свидание». Эпиграф из Ярослава Смелякова: «И ты пришла, заслышав ожиданье…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вным - давно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вным-давно, ещё до появлень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знал тебя, любил тебя и жда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выдумал тебя, мое стремлень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я печаль, мой верный идеал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 ты пришла, заслышав ожиданье,                                       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знав, что я заранее влюбл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к детские идут воспоминань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з глубины покинутых времен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ерясь в том, что это образ м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то создан он мучительной тоскою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любовался вовсе не тобою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вымысла бездушною игр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лагодарю за смелое учень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 весь твой смысл, за все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 то, что 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ыла не только рабским воплощенье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 только точной копией мечты: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4427640" y="2997360"/>
            <a:ext cx="39607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нена таких духовных си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 далека от всякого притворств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к наглый блеск созвездий бутафорски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лек от жизни истинных светил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столько чистой и такой сердечн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то я теперь стою перед тоб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веки покоренный человечн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емительной и нежной красото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ускай меня мечтатель не осуди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я радуюсь сегодня за двоих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ому, что жизнь всегда была и буд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много выше вымыслов мои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1082520"/>
            <a:ext cx="770256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50920" y="2819520"/>
            <a:ext cx="86644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торая часть – «Свидание». Завязка произведения. Нарастающее чувство любви Бориса Костяева и Люс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орис: “Ещё я помню театр с колоннами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узыку. Знаешь, музыка была сиреневая..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стенькая такая, понятная и сиреневая..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почему-то услышал сейчас ту музыку и как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нцевали двое —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и она, пастух и пастушка —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спомнил. Лужайка зелёная. Овечки белы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стух и пастушка в шкурах. Они любили друг друга, не стыдились любви и не боялись её. В доверчивости они были беззащитны”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3" descr="http://s.newslab.ru/content/doc/cache/0654/545/350x218.jpg"/>
          <p:cNvPicPr/>
          <p:nvPr/>
        </p:nvPicPr>
        <p:blipFill>
          <a:blip r:embed="rId1"/>
          <a:stretch/>
        </p:blipFill>
        <p:spPr>
          <a:xfrm>
            <a:off x="5813280" y="3213000"/>
            <a:ext cx="3330720" cy="2303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025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Verdana"/>
              </a:rPr>
              <a:t>ПОРТРЕТ ЛЮСИ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-360" y="1628640"/>
            <a:ext cx="891540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деревенская, 21 год, достаточно начитанна и музыкальна, понимает и чувствует людей. С ней произошло что-то страшное. “Глубокая затаённость и грусть и даже виноватость в чём-то” угадывались в н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ртрет даётся писателем с помощью полутонов, эскизно. Маленькое лицо Люси как будто недорисованное, убегающий взгляд, глаза, “то темнея, то светясь, … жили как бы отдельно от лица”. Такая женщина способна на необычную любов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Рисунок 3" descr="http://volbusiness.ru/assets/images/news/kdtsoldatiki.JPG"/>
          <p:cNvPicPr/>
          <p:nvPr/>
        </p:nvPicPr>
        <p:blipFill>
          <a:blip r:embed="rId1"/>
          <a:stretch/>
        </p:blipFill>
        <p:spPr>
          <a:xfrm>
            <a:off x="4211640" y="3429000"/>
            <a:ext cx="476244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1004760"/>
            <a:ext cx="77025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СТРУКТУРА ПОВЕСТИ. СОДЕРЖАНИЕ ЕЁ ЧАСТЕЙ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50920" y="2565360"/>
            <a:ext cx="866448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ретья часть – «Прощание»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Эпиграф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орькие слёзы застлали мой взор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Хмурое утро крадётся, как вор,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чи вослед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клято будь наступление дня!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ремя уводит тебя и меня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серый рассве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Из лирики ваган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Рисунок 4" descr="D:\Documents\Alexander\Desktop\img1.jpg"/>
          <p:cNvPicPr/>
          <p:nvPr/>
        </p:nvPicPr>
        <p:blipFill>
          <a:blip r:embed="rId1"/>
          <a:stretch/>
        </p:blipFill>
        <p:spPr>
          <a:xfrm>
            <a:off x="4067280" y="2781360"/>
            <a:ext cx="5076720" cy="3376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1:15:03Z</dcterms:created>
  <dc:creator>Нечаева</dc:creator>
  <dc:description/>
  <dc:language>en-US</dc:language>
  <cp:lastModifiedBy>Alexander</cp:lastModifiedBy>
  <dcterms:modified xsi:type="dcterms:W3CDTF">2016-12-11T16:32:57Z</dcterms:modified>
  <cp:revision>39</cp:revision>
  <dc:subject/>
  <dc:title>Презентация PowerPoint</dc:title>
</cp:coreProperties>
</file>