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45A-E99C-4A26-860D-54260590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411-5949-4E88-B045-D8A7993C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0DF-DDCF-43D2-B04C-7A88DDE1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7E2-CE70-439E-AF90-9DECAB24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F3CE-A81B-49C9-B903-25FDAFEE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4586-9E64-4321-81FB-675CBCE3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0209-302C-4F58-A50E-D518B4D7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55A8-3D6A-46DA-A7BD-F8D3E8FB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51D4-CDFC-4F21-9A54-524A131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7F3E-9FDC-410D-B2FA-55ECD70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71DD-3FC4-4196-AEE3-6B791F0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E3B-5AB5-4264-A007-0A3673E3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5906-2C76-4690-AF88-B1656A85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577E-E62D-4D6C-A871-72D535B8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B37A-661E-49D9-ACC8-3CA4794F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3228-330D-456A-818D-0D20E5D7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1E80-92FE-48AE-AE4D-F7282102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755F-8608-4CD9-9A28-C8C06EC3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8FED-363C-4BBC-A7AA-CC98C0AC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0390-DABA-44B2-9628-29516BEF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60F5-EDAE-42EE-85C7-B2D8E610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F77F-C0ED-4937-A410-B86D9C45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5D1-8A98-4142-BB8C-3C46D7F0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AC78-B27D-4E2D-A4EC-CD37D571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6210-A3D9-4ED2-84C3-904C0CF9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79C4-97F6-44B1-A97B-171B4F30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1792-F78F-4E9F-84E0-E4ADCD0F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7C51-DC89-4D54-91D2-C86C67B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DA0B-1DD5-4782-BB11-65338A2C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33A0-52F4-45F7-8CAA-6F822B0E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3408-630C-4583-A4AC-509C11D3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69E8-0C24-43EE-AE2F-3AD94F8C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98C3-9BFA-41A8-A02F-5B27595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150-23D9-420A-A003-25CA352D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FC062-E376-4035-8A2F-45D3AD4E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508B-F3E8-4B7D-9CD7-BC459AEC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2534-FCAD-4F38-808F-C0B38F5C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25FD-062F-47DA-9CD8-C9CED39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4A8D-F042-4613-B49F-EDBA81C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43028-9C7A-4858-83D1-114B8E8E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C8C27-ED22-49FF-991A-43416BCA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ABF3-8F86-4C63-A5CA-3811CE45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49A88-8BE5-4060-BDBA-200DB68B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B5482-F3A8-4BA4-BE04-EEC013B5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DA8-B9D0-4804-851A-9E18B774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7BE29-51AC-4A9F-B141-FBE7EBBC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171A9-2FD0-4C3A-B0A3-7343F250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EFCCE-F18A-48F6-950F-B3641545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8B22-C3FD-4DB9-9775-785370C1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3A97D-0F86-4DC9-A7E3-63EDBA71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4479C-6388-41BB-8FA9-013165A7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A3824-288D-4F74-9A0C-E252F1AC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C1DCE-1EA6-415F-92CC-1849B751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E82AF-CC80-4514-84DB-27454214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78FA8-A298-4D83-8BA0-B8CEF886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C35-197A-4691-8EFE-1B6F4F6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F0DCC-7890-4416-A83F-E88DB683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6B0B8-9B44-4683-AE4E-F7158363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CCE2-6C2D-4676-92E9-1A8BC696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E1992-C79E-4E1B-9072-A5CEFE4C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47D8-FBC3-4CA2-A0CC-46B3C4EE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8B5DC-019F-44AB-8EA3-5BABC274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FA6F3-36A5-427A-9B33-422CA174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777BB-0FDF-434A-834E-A7426CCC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DB15-B878-4E30-B1B6-6AF78BD1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E56F4-C73C-4F1F-81AF-C5EB1399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C1A-E879-43AE-93EA-2A4EA5F2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BCEDF-FE7A-4CA1-B232-F78E58BD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1821B-CDF9-4598-8146-424DFC4E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A1E03-D342-45EB-8BED-14A34C4C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8D377-40F8-432F-9010-51A5CC59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BBD0F-7C9F-46E0-9D79-2606639C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85CB9-7ED7-4C5A-80EB-77056514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AB4C0-E1C0-490C-A3CB-DDDF798A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DFE21-A9A4-4EC3-9410-04B85A5F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84AA6-8A59-44CD-AB82-570CEC22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EC8A3-D8AB-46B4-A838-2C60813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3FE-D282-406D-A8DA-4BF0734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9A54C-99F6-4E1D-9648-BA82FE8E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A8EF5-6A00-4602-9EC6-1F62D2E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3DBA4-EA96-4445-A5C4-8D335114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CE4B7-216A-4660-BC84-5C3C1B72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71593-1ED0-4434-A783-4845BE13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FF908-AC2E-4DD8-B07C-02F5C2A6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D9601-A24C-4113-96A3-DBCA52ED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3945E-AC9E-45FC-BD3C-67205B6E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3D6B-2622-4339-BD54-A2301099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8AD6-9FE4-48AE-A2FC-332B53C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E32-ACFA-4CF8-B12A-8B0D431D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083EF-9F41-4CD9-A88E-DFC78172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58C22-03D4-4650-815C-66D14251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652AB-DF05-4F59-ABD0-C7228F10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4DCDF-CAC3-4860-9A03-B2AA48B0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23E19-D06C-4DA5-B545-43C419D7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2CE61-7BDF-48BB-BCF0-CC31FACF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CF6AF-D270-48DD-88FD-52FA02A9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46F5-D868-4C27-BE66-AC85AE72D7A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56BD-2928-43D2-95EF-6DAD7AD8127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62FD-D7EE-4047-ABD9-F1B848819909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04DD-C5D3-4110-A4F9-60B36C50203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0845-C547-46AC-9AA6-9A02206861E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268B-D707-457B-A960-368C50F2070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0C93-6A58-4940-B328-45849AE15895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2ADD-0EBB-4E62-B671-34149C57191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hina_2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Утомление при физической и умственной работе.</a:t>
            </a: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Барба Дарья, 2ПСО-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ственное переутомл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собенно опасно для психического здоровья человека, так как оно связано со способностью центральной нервной системы к длительной работе с перегрузками, что в конечном итоге может привести к развитию запредельного торможения в ее корковых и подкорковых структурах, к нарушению слаженности взаимодействия вегетативных функций. Оно граничит с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болевани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имеет более длительный период восстанов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ственное переутомление является следствием того, что мозг человека, обладая большими компенсаторными возможностями, способен длительное время работать с перегрузкой, не давая знать о своем утомлении, которое мы ощущаем только тогда, когда наступила фаза переутом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05221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038480" y="0"/>
            <a:ext cx="529272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05221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ранение и профилактика утом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умственных и физических нагрузках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зможны за счет повышения уровня общей и специальной тренированности организма, оптимизации его физической, умственной и эмоциональной активност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билизация других сторон психической активности и двигательной деятельности, не связанных с теми, которые привели к утомлению, способствует отдалению умственного утомления и даже его профилакти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ологические процессы, обеспечивающие восстановление измененных при выполнении того или иного рода деятельности функций организма, называются</a:t>
            </a:r>
            <a:r>
              <a:rPr b="0" lang="ru-RU" sz="2400" spc="-1" strike="noStrike">
                <a:solidFill>
                  <a:srgbClr val="9fb8c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восстановитель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, в течение которого происходит вос­становление физиологического статуса после выполнения определенной работы, называют </a:t>
            </a: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восстановительным период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7" descr="Рациональное питание – рецепт молодости и долговечия.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fb8cd"/>
                </a:solidFill>
                <a:latin typeface="Cambria"/>
              </a:rPr>
              <a:t>Средства восстановления организма после утомления и переутомления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тимальная физическая активнос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ключение на другие виды работы и сочетание работы с активным отдых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циональное питани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ие строгого гигиенического образа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коряют процесс восстановления достаточный по времени и полноценный сон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дные процедур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ная баня, массаж и самомассаж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рмакологические средства и физиотерапевтические процедур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регулирующая трениров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й критерий положительной динамики восстановительных процессов – готовность к повторной деятельности, а наиболее объективный показатель восстановления работоспособности - максимальный объем повторно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5" descr="massazh5"/>
          <p:cNvPicPr/>
          <p:nvPr/>
        </p:nvPicPr>
        <p:blipFill>
          <a:blip r:embed="rId2"/>
          <a:stretch/>
        </p:blipFill>
        <p:spPr>
          <a:xfrm>
            <a:off x="0" y="5653080"/>
            <a:ext cx="1828800" cy="1204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aquamama_200_133"/>
          <p:cNvPicPr/>
          <p:nvPr/>
        </p:nvPicPr>
        <p:blipFill>
          <a:blip r:embed="rId3"/>
          <a:stretch/>
        </p:blipFill>
        <p:spPr>
          <a:xfrm>
            <a:off x="7467480" y="5743440"/>
            <a:ext cx="16765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роцесс  восстановления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странение изменений и нарушений в системах нейрогуморального регулирования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ыведение продуктов распада, образующихся в результате работы в тканях и клетках работавшего органа, из мест их возникновения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странение продуктов распада из внутренней среды организм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циональное сочетание нагрузок и отдых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- необходимое условие сохранения и развития активности восстановительных процессов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 особой тщательностью необходимо учитывать нюансы восстановительных процессов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ри организации занятий физическими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пражнениями и планировании тренировочных нагрузок. Повторные нагрузки целесообразно выполнять в фазе повышенной работоспособности. Слишком длинные интервалы отдыха снижают эффективность тренировочного процесса. Например, после скоростного бега на 60-80 м кислородный долг ликвидируется в течение 5-8 минут. Возбудимость же центральной нервной системы в течение этого промежутка времени еще сохраняется на высоком уровне, поэтому интервал в 5-8 мин - оптимальный для повторения скоростной работы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ачестве ускоряющего процесс восстановления средства в спортивной практике с успехом используе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ктивный отдых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т. е. переключение на другой вид деятельности. Значение активного отдыха для восстановления работоспособности впервые было установлено русским физиологом И.М.Сеченовым (1829-1905), который показал, что явно выраженное ускорение восстановления работоспособности утомленной конечности происходит не при ее пассивном отдыхе, а при работе в период отдыха другой конечность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5" descr="36051"/>
          <p:cNvPicPr/>
          <p:nvPr/>
        </p:nvPicPr>
        <p:blipFill>
          <a:blip r:embed="rId2"/>
          <a:stretch/>
        </p:blipFill>
        <p:spPr>
          <a:xfrm>
            <a:off x="0" y="5178600"/>
            <a:ext cx="22860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860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53"/>
                </a:solidFill>
                <a:latin typeface="Cambria"/>
              </a:rPr>
              <a:t>Простейшие методики применения средств физической культуры для направленной коррекции работоспособности, усталости, утомления</a:t>
            </a: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Систематические занятия физическими упражнениями способствуют поддержанию работоспособности. В основе физической работоспособности и подготовленности лежит развитие вынослив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аилучшие средства развития выносливости - </a:t>
            </a:r>
            <a:r>
              <a:rPr b="1" lang="ru-RU" sz="2000" spc="-1" strike="noStrike">
                <a:solidFill>
                  <a:srgbClr val="9fb8cd"/>
                </a:solidFill>
                <a:latin typeface="Arial Unicode MS"/>
              </a:rPr>
              <a:t>ходьба, бег, велосипедный спорт, плавание, лыжный спорт, </a:t>
            </a:r>
            <a:r>
              <a:rPr b="1" lang="ru-RU" sz="2000" spc="-1" strike="noStrike">
                <a:solidFill>
                  <a:srgbClr val="9fb8cd"/>
                </a:solidFill>
                <a:latin typeface="Calibri"/>
              </a:rPr>
              <a:t>танцы, гребля, подъем по лестнице, бег на коньках и любые продолжительные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Занятие каким-либо из вышеуказанных циклических видов физических упражнений должны продолжаться </a:t>
            </a:r>
            <a:r>
              <a:rPr b="0" lang="ru-RU" sz="2000" spc="-1" strike="noStrike">
                <a:solidFill>
                  <a:srgbClr val="9fb8cd"/>
                </a:solidFill>
                <a:latin typeface="Arial Unicode MS"/>
              </a:rPr>
              <a:t>не менее 15 мин 3 раза в неделю при ЧСС 60-80% от максимальной (120-160 уд./мин</a:t>
            </a:r>
            <a:r>
              <a:rPr b="0" lang="en-US" sz="2000" spc="-1" strike="noStrike">
                <a:solidFill>
                  <a:srgbClr val="9fb8cd"/>
                </a:solidFill>
                <a:latin typeface="Arial Unicode MS"/>
              </a:rPr>
              <a:t> (</a:t>
            </a:r>
            <a:r>
              <a:rPr b="0" lang="ru-RU" sz="2000" spc="-1" strike="noStrike">
                <a:solidFill>
                  <a:srgbClr val="9fb8cd"/>
                </a:solidFill>
                <a:latin typeface="Arial Unicode MS"/>
              </a:rPr>
              <a:t>Максимальная ЧСС рассчитывается по формуле  </a:t>
            </a:r>
            <a:r>
              <a:rPr b="0" lang="en-US" sz="2000" spc="-1" strike="noStrike">
                <a:solidFill>
                  <a:srgbClr val="9fb8cd"/>
                </a:solidFill>
                <a:latin typeface="Arial Unicode MS"/>
              </a:rPr>
              <a:t>220-</a:t>
            </a:r>
            <a:r>
              <a:rPr b="0" lang="ru-RU" sz="2000" spc="-1" strike="noStrike">
                <a:solidFill>
                  <a:srgbClr val="9fb8cd"/>
                </a:solidFill>
                <a:latin typeface="Arial Unicode MS"/>
              </a:rPr>
              <a:t>Возраст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ля достижения тренировочного эффекта необходимо заниматься, например, ходьбой не менее 40 мин 4 раза в неделю при частоте пульса 60% и более от максимального показателя. По мере повышения уровня физической подготовленности организм после каждого занятия будет восстанавливаться все быстрее, следовательно, время восстановления может служить мерилом уровня физической подготовлен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комендации к занятиям 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комендуемая продолжительность тренировок - 20-60 мин непрерывной аэробной работы. Продолжительность зависит от интенсивности нагрузки: работу низкой интенсивности следует выполнять длительно (при отсутствии предварительной подготовки на начальном этапе целесообразно использовать интервальный вариант тренировки: нагрузка - отдых). Взрослым людям, не занимающимся спортом, рекомендуется двигательная активность низкой или умеренной интенсивности и большой продолжительности, поскольку в длительных программах занятий полнее достигается эффект «общей выносливости», а также в связи с потенциальной опасностью высокоинтенсивной активности Изменения в разумных пределах интенсивности и продолжительности тренировок при неизменном объеме механической работы практически не влияют на величину физической подготовл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СС при выполнении физических упражнений в воде, как правило, ниже, чем на суше (приблизительно на 13%). В то же время МПК при выполнении од них и тех же упражнений аэробной направленности в воде и на суше одинаково. Учитывая это, рекомендуется при работе в воде вычитать из заданной ЧСС на суше 17 уд./ми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енировки для сохранения достигнутого уровня должны быть регулярными. Уровень физической подготовленности при прекращении занятий уже через 2 мес. заметно снижается, а через 3-8 мес. возвращается к исходному. У людей, тренировавшихся многие годы, это снижение происходит медленне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яжелоатлетические упражнения практически не увеличивают МПК, но тренируют мышечную силу и локальную выносливость, увеличивают мышечную масс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недостаточной физической нагрузке ее следует повышать в первую очередь за счет увеличения объема, затем интенсивности и частоты занят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превышения уровня физической нагрузки прежде всего должна быть снижена интенсивность упражнений, затем их объем и в последнюю очередь - частота занят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" descr="Активный отды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ыносливость сердечно-сосудистой и дыхательной систем человека возрастает, его пульс в состоянии покоя падает. Следует, что отдых как обязательная составная часть тренировки необходимо не только для восстановления потраченных сил, ликвидации последствий утомления, но и для дальнейшего роста сил, подъема уровня тренированности организма на большую выс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b8cd"/>
                </a:solidFill>
                <a:latin typeface="Calibri"/>
              </a:rPr>
              <a:t>Активный отды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сновой этого феномена является установленный И. М. Сеченовым факт повышения работоспособности при чередовании работы различных мышечных групп. В практике физического воспитания, например, между упражнениями на выносливость могут включаться упражнения на силу, быстроту и ловкость они оказывают влияние на скорость восстановления и возрастание выносливости. Время и характер активного отдыха во многом определяются динамикой работоспособности и утомляемости, зная которую можно подобрать время «активного отдыха» в течение рабочего дня и характер его в зависимости от степени и вида утом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b8cd"/>
                </a:solidFill>
                <a:latin typeface="Calibri"/>
              </a:rPr>
              <a:t>Преодолеть  бессонниц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одно из проявлений умственного и психического переутом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F8561CF7CB7B-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457200" y="1600200"/>
            <a:ext cx="952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096920" indent="-22860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лагодар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china_2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0880" y="380880"/>
            <a:ext cx="8229600" cy="77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ая мышечная деятельность, занятия физическими упражнениями, спортом повышают активность обменных процессов, тренируют и поддерживают на высоком уровне механизмы, осуществляющие в организме обмен веществ и энергии, что положительно сказывается на умственной и физической работоспособности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следует помнить, что при выполнении любого вида деятельности в зависимости от увеличения объема информации, интенсификации многих сторон жизни в условиях современного общества в организме может развиваться особое состояние, называемое утомле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37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Утомление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9140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вид функционального состояния организма человека, временно возникающий под влиянием продолжительной или интенсивной работы и приводящий к снижению ее эффе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яние утомления проявляется в уменьшении силы и выносливости мышц, ухудшении координации движений, в возрастании затрат энергии при выполнении однообразной работы, в замедлении скорости переработки информации, ухудшении памяти, затруднении процесса сосредоточения и переключения внимания. Развитие процесса утомления связано с ощущением устал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F8561CF7CB7B-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600" y="-3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ины возникновения утомления у студ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й день студентов насыщен значительными умственным, и эмоциональными нагрузками. В совокупности с вынужденной рабочей позой, при которой значительное время в напряженном состоянии находятся мышцы, удерживающие туловище в определенном положении, частые нарушения рационального режима труда и отдыха, неадекватные физические нагрузки, могут приводить к нежелательным явлениям, служить причин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томл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ое, в свою очередь, может накапливаться и переходить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ереутомле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ого чтобы этого избежать, один вид деятельности должен сменяться другим, или необходим отдых. Наиболее эффективен активный отдых в виде умеренного физического труда или занятии физическими упражнени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подготовке к экзаменационной сессии и в процессе сдачи экзаме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 студентов велика вероятность снижения работоспособности из-за развития хронического утомления или переутомления, неграмотного использования натуральных стимуляторов (чай, кофе) или фармакологических средств, наличия выраженного предэкзаменационного стресса. Причинами подобных явлений могут быть нарушения режима труда, отдыха и питания, отсутствие знаний по рациональному применению средств и методов сохранения и восстановления работоспособности, дефицит профессионально важных качеств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е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то же время утомление служит естественным сигналом возможного истощения организма и одновременно предохранительным биологическим механизмом, защищающим его от перенапряжения. Вместе с тем утомление, возникающее в процессе физического или умственного упражнения, является также и стимулятором, мобилизующим резервы организма, его органы и системы, восстановительные процесс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12~5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85800"/>
            <a:ext cx="9144000" cy="5349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Классификация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стр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е значительной интенсивности, не соответствующей уровню непосредственной готовности организма к выполнению данной нагрузки)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роническ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ммирование сдвигов в нервно-мышечной и ЦНС, возникающих при многократной утомительной работе, вызывают хроническое утомление), т.е. может проявляться в короткий промежуток времени носить длительный характер (вплоть до нескольких месяце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общее и локаль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.е. характеризующим изменение функции организма в целом или какой-либо ограниченной группы мышц, органа, какого-либо анализатора и т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ое и хроническое утомление, а также переутомление могут привести к заболеванию нервной системы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ердечно-сосудистых заболеваний, язвенной болезням, снижению сил организм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F8561CF7CB7B-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53"/>
                </a:solidFill>
                <a:latin typeface="Cambria"/>
              </a:rPr>
              <a:t>Признаки хронического утомления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ервы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ощущение усталости до начала работы и низкая работоспособность в течение всего рабочего дн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тор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повышенная раздражительность. Студент реагирует совершенно неадекватно на всевозможные, даже самые незначительные раздражители: шутки товарищей, справедливые замечания преподавателей и т.п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Трети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исчезновение интереса к работ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Четверты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ослабление интереса к окружающим событиям, даже тем, которые касаются самого студент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яты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снижение аппетит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Шест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падение вес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едьм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нарушение сна: трудное засыпание и просыпание, бессонница, порывистый поверхностный сон, кошмарные сновидения и т.д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осьм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понижение устойчивости к различным инфекциям и, в первую очередь, предрасположенность к простудным заболевания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роме этих симптомов, могут наблюдаться головные боли, головокружение, тошнота, а иногда даже рвота, повышение сухожильных рефлексов, тремор вытянутых рук, иногда и век, понижение кровяного давления до 90/50 мм.рт.ст., повышенная потливость, повышение возбудимости вестибулярной системы (укачивание в автобусе, автомобиле, самолете и т.п.), затруднения в восприятии пространства, иллюзии и др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-1368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е признаки утомления при физическом труде (по С. А. Косило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85800"/>
          <a:ext cx="8763120" cy="5792760"/>
        </p:xfrm>
        <a:graphic>
          <a:graphicData uri="http://schemas.openxmlformats.org/drawingml/2006/table">
            <a:tbl>
              <a:tblPr/>
              <a:tblGrid>
                <a:gridCol w="1208160"/>
                <a:gridCol w="2266920"/>
                <a:gridCol w="2114640"/>
                <a:gridCol w="31734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ы наблю-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м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 ко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тельное покрасн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ое покрасн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 покраснение, побледнение, синюш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ли-в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тельная (влажность на лбу и щеках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а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ше пояс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о резкая (ниже пояса, выступление сол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енное, ровн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коло 30 дыханий в 1 ми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енное. Периодическое дыхание через р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о учащенное, поверхностное непрерывное дыхание через рот. Отдельные глубокие вдохи, сменяющиеся беспорядочным дыханием (одышко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ренные и точ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веренные, нарушения рит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ые перерывы в работе, замедление движений» дрожание конечнос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шибочное выполнение указаний и правил рабо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от правил работы, ошибки при новых зада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ия реакции, неточные выполнения указаний, отсутствие интереса, апа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чув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жало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обы на устал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обы на головную боль, слаб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Фазы развития утомления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мпенсирова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 явно выраженного снижения работоспособности за счет подключения к напряженной деятельности резервных возможностей организ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компенсирова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резервные мощности организма исчерпываются, и работоспособность явно снижается или невозможно поддерживать нужную интенсивности работы даже при подключении резервных систем организ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5" descr="im128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029120"/>
            <a:ext cx="5715000" cy="2828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im1284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29000" y="0"/>
            <a:ext cx="5715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Переутомление, Бизнес"/>
          <p:cNvPicPr/>
          <p:nvPr/>
        </p:nvPicPr>
        <p:blipFill>
          <a:blip r:embed="rId1"/>
          <a:stretch/>
        </p:blipFill>
        <p:spPr>
          <a:xfrm>
            <a:off x="4724280" y="3330720"/>
            <a:ext cx="4419720" cy="3527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news_4885_ma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Переутомление, Бизнес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527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тическое выполнение работы на фоне недовосстановления, непродуманная организация труда, длительное выполнение работы, связанной с чрезмерным нервно-психическим или физическим напряжением могут привести к </a:t>
            </a: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переутомлению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, как следствие, 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напряжению нервной системы, 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стрениям сердечно-сосудистых заболеваний, гипертонической и язвенной болезням, снижению защитных свойств организма. Физиологическая основа всех этих явлений – нарушение баланса возбудительно­тормозных нервных процес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20-06-21T09:55:1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