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305-497E-4FE8-8B11-B2F28363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917-3262-45BD-8167-7203F4DF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D18-BD99-4CE0-8204-6D0B09E7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2C5-836C-47CD-B5E6-672C5119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45F3-AFF0-4566-A428-BE4ACF77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9D1C-1E7A-43AB-957B-3706EF9B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4E2F-F5EE-49D7-9966-D9EE95A0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24F5-95CE-4F19-B9C7-EC2E33A8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CB4A-699C-4A0E-B37C-C4E5185F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20AC-D8CB-4C11-9E2B-8CEAC6B9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DC1B-07D6-46F6-9937-B6E5428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BD9-A2DB-4BAF-A046-33DF48A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7C66-F207-4117-B976-75796EFF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0269-9B52-44FB-B818-9D3ED4B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FC68-775E-4328-B23B-7211DFD5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2E17-2A36-4486-B139-0A62D9FE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9C70-262B-4B02-B87D-2932A817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DA47-BC92-4AE9-8236-C1F38919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07AA-FA06-4538-AAFB-35858C26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077C-613D-48A6-9F62-879632E6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2940-FA02-4072-8AC6-9B182766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80514-E74E-4F6C-AA54-7B48D89C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89F-6326-4A01-B128-372034C6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5FFA-066E-456E-820E-AE913FD4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BCF0-2AE4-468B-93B7-2CA4F8EC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E5EA-FB48-4D6D-BF1B-71AF5FD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327E-C3ED-4794-9E3E-F896924B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B8C6-A5F8-4438-B03F-54659652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69CB-04B1-4A67-8FB9-7C2BDAB6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A425-CAF2-4108-B361-C7BAE2DB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76DA-6747-46D6-A204-E408A8E1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86B8-4390-48F9-99E2-AA03A2B5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51256-9EA7-4B6F-8E52-4CE0054C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BCD-5C6E-4655-9D35-3D00A4E0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F2C0-628B-4ADE-80A6-590D95F0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6C93-F821-4E7E-8CC3-0BB489C2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53F6C-4442-4C5B-9309-3A5EFDBE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23B8D-8043-4771-8D22-568DF96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F8B0-9CF5-43C4-BB49-C404DCCE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CAE1-D14D-4469-BF2E-04DA9D10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4A81D-6F9C-4259-8F2E-51430184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3FB1-A5B3-46C5-AB87-ADC087E0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A2791-D332-4C18-AF55-FAE0478F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E6984-4219-469A-8BBE-86E3B71F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A6C-C56F-438C-AB71-3A75867A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0DA4-520F-470C-BD34-19837135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B8E6B-95B9-4929-B2D3-9EC643F3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BE863-62C0-4D5A-B0B5-4197576E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C939-1E6A-4CAE-BE39-D3D7F51D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F5165-4C3D-41CD-B27D-928BEED7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2B53-C346-4654-B1CF-023F981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2B077-7705-4B28-9545-FA971EDD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D6AEA-7590-4476-9CC2-2BBAFE9D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2487E-D8F0-469F-9F75-714DEE7B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FEE58-13A9-4A6A-B543-B8C7E571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450-BFF8-45CA-B477-34EC4D54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96F8-87DC-45E9-8EE0-8F37E342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A5C04-D621-4D4D-B59D-4BCFDBB2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5899D-B313-4867-9089-AA934D29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2DA3-148B-4E09-869B-CB06E5DB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B496-5C27-4BD8-B135-551E5B8A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6FACB-8B2D-4546-8CF5-D7A84508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FE39E-09AE-48D0-8F25-F58AEABB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21223-6F66-4398-BBB5-16B8D749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76985-09F1-4627-9380-28B64F8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64D4-1F90-4A52-975A-059F7F58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E8D-DB56-40E2-B86D-494AAC7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C8F5A-CEFA-4131-825E-B3D7F46D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BD57D-171A-410A-9FC5-BC5EE64B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9FFC5-225D-4790-972E-EA58FC6A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6227B-AD72-4924-B0A9-AD0FA503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3720B-0602-43AC-8A67-683FB1BC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1AF0-C61B-437A-8B31-6B64B657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9AE06-3A15-458D-BDB3-C1F5E21E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F66B9-4801-4C3B-A0DF-13FC05A1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32AA0-EA4B-4CAF-986A-36B0690D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78789-3BDE-4DA2-8698-DF74B07F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BD5-7AEE-4006-9D04-9AB39DF3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528D0-C316-4C8E-9651-AAFE01D6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4C245-6000-44E6-A981-EBE4125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485BB-01E6-48D2-97AB-ACD7FFD5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47289-6829-4458-9FDA-B575B975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0DDF5-6994-426C-BCF4-99D48393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0B520-DA04-4AE6-9E65-CC7A3524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93809-E6BF-4F10-ACEC-61D725A4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2C411-FF42-493B-AE10-5BBCD46F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387DC-191C-4F75-A0FD-D4C96C16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AFD09-21A0-45B7-9754-0AB1A0AD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3E7-5386-4084-A429-3DB384E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1403D-FAC7-4EC9-BB8F-100F7376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2AE1D-A7A2-434B-8D9E-0E0C79CF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4498F-6CD4-4AD2-95E3-F723402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E5CE6-8DF0-481D-B97F-4105592C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51CE9-DCF1-4A80-952D-9E362F83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D5A2D-A892-4254-9908-3CEEAE4B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9760F-4D41-454E-BEDE-7FE238D2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7A67-5AFF-4725-A01D-B4A85EDCBF4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0F05-EADA-4926-B8EA-FB99C5B0177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F919-C706-4E73-BDE0-BF0A3B0BA5BB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B276-D7FF-4C1B-A96E-E378C66D695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5BBA-4089-4708-A52C-FC32AC4F6AE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FB9A-A252-4A95-84A6-5F019331511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7019-D451-42E1-83DB-81BFEA3DDDE8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EB07-97D0-40C8-ACDF-A68BB35488D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hina_2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Утомление при физической и умственной работе.</a:t>
            </a: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Барба Дарья, 2ПСО-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ственное переутомл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собенно опасно для психического здоровья человека, так как оно связано со способностью центральной нервной системы к длительной работе с перегрузками, что в конечном итоге может привести к развитию запредельного торможения в ее корковых и подкорковых структурах, к нарушению слаженности взаимодействия вегетативных функций. Оно граничит с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болевани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имеет более длительный период восстанов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ственное переутомление является следствием того, что мозг человека, обладая большими компенсаторными возможностями, способен длительное время работать с перегрузкой, не давая знать о своем утомлении, которое мы ощущаем только тогда, когда наступила фаза переутом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05221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038480" y="0"/>
            <a:ext cx="529272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05221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ранение и профилактика утом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умственных и физических нагрузках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зможны за счет повышения уровня общей и специальной тренированности организма, оптимизации его физической, умственной и эмоциональной активност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билизация других сторон психической активности и двигательной деятельности, не связанных с теми, которые привели к утомлению, способствует отдалению умственного утомления и даже его профилакти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ологические процессы, обеспечивающие восстановление измененных при выполнении того или иного рода деятельности функций организма, называются</a:t>
            </a:r>
            <a:r>
              <a:rPr b="0" lang="ru-RU" sz="2400" spc="-1" strike="noStrike">
                <a:solidFill>
                  <a:srgbClr val="9fb8c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восстановитель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, в течение которого происходит вос­становление физиологического статуса после выполнения определенной работы, называют </a:t>
            </a: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восстановительным период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7" descr="Рациональное питание – рецепт молодости и долговечия.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fb8cd"/>
                </a:solidFill>
                <a:latin typeface="Cambria"/>
              </a:rPr>
              <a:t>Средства восстановления организма после утомления и переутомления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тимальная физическая активнос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ключение на другие виды работы и сочетание работы с активным отдых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циональное питани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ие строгого гигиенического образа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коряют процесс восстановления достаточный по времени и полноценный сон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дные процедур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ная баня, массаж и самомассаж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рмакологические средства и физиотерапевтические процедур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регулирующая трениров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й критерий положительной динамики восстановительных процессов – готовность к повторной деятельности, а наиболее объективный показатель восстановления работоспособности - максимальный объем повторно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5" descr="massazh5"/>
          <p:cNvPicPr/>
          <p:nvPr/>
        </p:nvPicPr>
        <p:blipFill>
          <a:blip r:embed="rId2"/>
          <a:stretch/>
        </p:blipFill>
        <p:spPr>
          <a:xfrm>
            <a:off x="0" y="5653080"/>
            <a:ext cx="1828800" cy="1204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aquamama_200_133"/>
          <p:cNvPicPr/>
          <p:nvPr/>
        </p:nvPicPr>
        <p:blipFill>
          <a:blip r:embed="rId3"/>
          <a:stretch/>
        </p:blipFill>
        <p:spPr>
          <a:xfrm>
            <a:off x="7467480" y="5743440"/>
            <a:ext cx="16765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роцесс  восстановления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странение изменений и нарушений в системах нейрогуморального регулирования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ыведение продуктов распада, образующихся в результате работы в тканях и клетках работавшего органа, из мест их возникновения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странение продуктов распада из внутренней среды организм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циональное сочетание нагрузок и отдых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- необходимое условие сохранения и развития активности восстановительных процессов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 особой тщательностью необходимо учитывать нюансы восстановительных процессов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ри организации занятий физическими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пражнениями и планировании тренировочных нагрузок. Повторные нагрузки целесообразно выполнять в фазе повышенной работоспособности. Слишком длинные интервалы отдыха снижают эффективность тренировочного процесса. Например, после скоростного бега на 60-80 м кислородный долг ликвидируется в течение 5-8 минут. Возбудимость же центральной нервной системы в течение этого промежутка времени еще сохраняется на высоком уровне, поэтому интервал в 5-8 мин - оптимальный для повторения скоростной работы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ачестве ускоряющего процесс восстановления средства в спортивной практике с успехом используе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ктивный отдых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т. е. переключение на другой вид деятельности. Значение активного отдыха для восстановления работоспособности впервые было установлено русским физиологом И.М.Сеченовым (1829-1905), который показал, что явно выраженное ускорение восстановления работоспособности утомленной конечности происходит не при ее пассивном отдыхе, а при работе в период отдыха другой конечность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5" descr="36051"/>
          <p:cNvPicPr/>
          <p:nvPr/>
        </p:nvPicPr>
        <p:blipFill>
          <a:blip r:embed="rId2"/>
          <a:stretch/>
        </p:blipFill>
        <p:spPr>
          <a:xfrm>
            <a:off x="0" y="5178600"/>
            <a:ext cx="22860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860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53"/>
                </a:solidFill>
                <a:latin typeface="Cambria"/>
              </a:rPr>
              <a:t>Простейшие методики применения средств физической культуры для направленной коррекции работоспособности, усталости, утомления</a:t>
            </a: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Систематические занятия физическими упражнениями способствуют поддержанию работоспособности. В основе физической работоспособности и подготовленности лежит развитие вынослив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аилучшие средства развития выносливости - </a:t>
            </a:r>
            <a:r>
              <a:rPr b="1" lang="ru-RU" sz="2000" spc="-1" strike="noStrike">
                <a:solidFill>
                  <a:srgbClr val="9fb8cd"/>
                </a:solidFill>
                <a:latin typeface="Arial Unicode MS"/>
              </a:rPr>
              <a:t>ходьба, бег, велосипедный спорт, плавание, лыжный спорт, </a:t>
            </a:r>
            <a:r>
              <a:rPr b="1" lang="ru-RU" sz="2000" spc="-1" strike="noStrike">
                <a:solidFill>
                  <a:srgbClr val="9fb8cd"/>
                </a:solidFill>
                <a:latin typeface="Calibri"/>
              </a:rPr>
              <a:t>танцы, гребля, подъем по лестнице, бег на коньках и любые продолжительные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Занятие каким-либо из вышеуказанных циклических видов физических упражнений должны продолжаться </a:t>
            </a:r>
            <a:r>
              <a:rPr b="0" lang="ru-RU" sz="2000" spc="-1" strike="noStrike">
                <a:solidFill>
                  <a:srgbClr val="9fb8cd"/>
                </a:solidFill>
                <a:latin typeface="Arial Unicode MS"/>
              </a:rPr>
              <a:t>не менее 15 мин 3 раза в неделю при ЧСС 60-80% от максимальной (120-160 уд./мин</a:t>
            </a:r>
            <a:r>
              <a:rPr b="0" lang="en-US" sz="2000" spc="-1" strike="noStrike">
                <a:solidFill>
                  <a:srgbClr val="9fb8cd"/>
                </a:solidFill>
                <a:latin typeface="Arial Unicode MS"/>
              </a:rPr>
              <a:t> (</a:t>
            </a:r>
            <a:r>
              <a:rPr b="0" lang="ru-RU" sz="2000" spc="-1" strike="noStrike">
                <a:solidFill>
                  <a:srgbClr val="9fb8cd"/>
                </a:solidFill>
                <a:latin typeface="Arial Unicode MS"/>
              </a:rPr>
              <a:t>Максимальная ЧСС рассчитывается по формуле  </a:t>
            </a:r>
            <a:r>
              <a:rPr b="0" lang="en-US" sz="2000" spc="-1" strike="noStrike">
                <a:solidFill>
                  <a:srgbClr val="9fb8cd"/>
                </a:solidFill>
                <a:latin typeface="Arial Unicode MS"/>
              </a:rPr>
              <a:t>220-</a:t>
            </a:r>
            <a:r>
              <a:rPr b="0" lang="ru-RU" sz="2000" spc="-1" strike="noStrike">
                <a:solidFill>
                  <a:srgbClr val="9fb8cd"/>
                </a:solidFill>
                <a:latin typeface="Arial Unicode MS"/>
              </a:rPr>
              <a:t>Возраст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ля достижения тренировочного эффекта необходимо заниматься, например, ходьбой не менее 40 мин 4 раза в неделю при частоте пульса 60% и более от максимального показателя. По мере повышения уровня физической подготовленности организм после каждого занятия будет восстанавливаться все быстрее, следовательно, время восстановления может служить мерилом уровня физической подготовлен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комендации к занятиям 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комендуемая продолжительность тренировок - 20-60 мин непрерывной аэробной работы. Продолжительность зависит от интенсивности нагрузки: работу низкой интенсивности следует выполнять длительно (при отсутствии предварительной подготовки на начальном этапе целесообразно использовать интервальный вариант тренировки: нагрузка - отдых). Взрослым людям, не занимающимся спортом, рекомендуется двигательная активность низкой или умеренной интенсивности и большой продолжительности, поскольку в длительных программах занятий полнее достигается эффект «общей выносливости», а также в связи с потенциальной опасностью высокоинтенсивной активности Изменения в разумных пределах интенсивности и продолжительности тренировок при неизменном объеме механической работы практически не влияют на величину физической подготовл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СС при выполнении физических упражнений в воде, как правило, ниже, чем на суше (приблизительно на 13%). В то же время МПК при выполнении од них и тех же упражнений аэробной направленности в воде и на суше одинаково. Учитывая это, рекомендуется при работе в воде вычитать из заданной ЧСС на суше 17 уд./ми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енировки для сохранения достигнутого уровня должны быть регулярными. Уровень физической подготовленности при прекращении занятий уже через 2 мес. заметно снижается, а через 3-8 мес. возвращается к исходному. У людей, тренировавшихся многие годы, это снижение происходит медленне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яжелоатлетические упражнения практически не увеличивают МПК, но тренируют мышечную силу и локальную выносливость, увеличивают мышечную масс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недостаточной физической нагрузке ее следует повышать в первую очередь за счет увеличения объема, затем интенсивности и частоты занят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превышения уровня физической нагрузки прежде всего должна быть снижена интенсивность упражнений, затем их объем и в последнюю очередь - частота занят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" descr="Активный отды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ыносливость сердечно-сосудистой и дыхательной систем человека возрастает, его пульс в состоянии покоя падает. Следует, что отдых как обязательная составная часть тренировки необходимо не только для восстановления потраченных сил, ликвидации последствий утомления, но и для дальнейшего роста сил, подъема уровня тренированности организма на большую выс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b8cd"/>
                </a:solidFill>
                <a:latin typeface="Calibri"/>
              </a:rPr>
              <a:t>Активный отды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сновой этого феномена является установленный И. М. Сеченовым факт повышения работоспособности при чередовании работы различных мышечных групп. В практике физического воспитания, например, между упражнениями на выносливость могут включаться упражнения на силу, быстроту и ловкость они оказывают влияние на скорость восстановления и возрастание выносливости. Время и характер активного отдыха во многом определяются динамикой работоспособности и утомляемости, зная которую можно подобрать время «активного отдыха» в течение рабочего дня и характер его в зависимости от степени и вида утом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b8cd"/>
                </a:solidFill>
                <a:latin typeface="Calibri"/>
              </a:rPr>
              <a:t>Преодолеть  бессонниц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одно из проявлений умственного и психического переутом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F8561CF7CB7B-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457200" y="1600200"/>
            <a:ext cx="952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096920" indent="-22860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лагодар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china_2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0880" y="380880"/>
            <a:ext cx="8229600" cy="77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ая мышечная деятельность, занятия физическими упражнениями, спортом повышают активность обменных процессов, тренируют и поддерживают на высоком уровне механизмы, осуществляющие в организме обмен веществ и энергии, что положительно сказывается на умственной и физической работоспособности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следует помнить, что при выполнении любого вида деятельности в зависимости от увеличения объема информации, интенсификации многих сторон жизни в условиях современного общества в организме может развиваться особое состояние, называемое утомле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37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Утомление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9140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вид функционального состояния организма человека, временно возникающий под влиянием продолжительной или интенсивной работы и приводящий к снижению ее эффе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яние утомления проявляется в уменьшении силы и выносливости мышц, ухудшении координации движений, в возрастании затрат энергии при выполнении однообразной работы, в замедлении скорости переработки информации, ухудшении памяти, затруднении процесса сосредоточения и переключения внимания. Развитие процесса утомления связано с ощущением устал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F8561CF7CB7B-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600" y="-3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ины возникновения утомления у студ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й день студентов насыщен значительными умственным, и эмоциональными нагрузками. В совокупности с вынужденной рабочей позой, при которой значительное время в напряженном состоянии находятся мышцы, удерживающие туловище в определенном положении, частые нарушения рационального режима труда и отдыха, неадекватные физические нагрузки, могут приводить к нежелательным явлениям, служить причин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томл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ое, в свою очередь, может накапливаться и переходить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ереутомле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ого чтобы этого избежать, один вид деятельности должен сменяться другим, или необходим отдых. Наиболее эффективен активный отдых в виде умеренного физического труда или занятии физическими упражнени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подготовке к экзаменационной сессии и в процессе сдачи экзаме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 студентов велика вероятность снижения работоспособности из-за развития хронического утомления или переутомления, неграмотного использования натуральных стимуляторов (чай, кофе) или фармакологических средств, наличия выраженного предэкзаменационного стресса. Причинами подобных явлений могут быть нарушения режима труда, отдыха и питания, отсутствие знаний по рациональному применению средств и методов сохранения и восстановления работоспособности, дефицит профессионально важных качеств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е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то же время утомление служит естественным сигналом возможного истощения организма и одновременно предохранительным биологическим механизмом, защищающим его от перенапряжения. Вместе с тем утомление, возникающее в процессе физического или умственного упражнения, является также и стимулятором, мобилизующим резервы организма, его органы и системы, восстановительные процесс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12~5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85800"/>
            <a:ext cx="9144000" cy="5349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Классификация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стр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е значительной интенсивности, не соответствующей уровню непосредственной готовности организма к выполнению данной нагрузки)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роническ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ммирование сдвигов в нервно-мышечной и ЦНС, возникающих при многократной утомительной работе, вызывают хроническое утомление), т.е. может проявляться в короткий промежуток времени носить длительный характер (вплоть до нескольких месяце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общее и локаль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.е. характеризующим изменение функции организма в целом или какой-либо ограниченной группы мышц, органа, какого-либо анализатора и т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ое и хроническое утомление, а также переутомление могут привести к заболеванию нервной системы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ердечно-сосудистых заболеваний, язвенной болезням, снижению сил организм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F8561CF7CB7B-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53"/>
                </a:solidFill>
                <a:latin typeface="Cambria"/>
              </a:rPr>
              <a:t>Признаки хронического утомления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ервы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ощущение усталости до начала работы и низкая работоспособность в течение всего рабочего дн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тор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повышенная раздражительность. Студент реагирует совершенно неадекватно на всевозможные, даже самые незначительные раздражители: шутки товарищей, справедливые замечания преподавателей и т.п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Трети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исчезновение интереса к работ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Четверты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ослабление интереса к окружающим событиям, даже тем, которые касаются самого студент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яты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снижение аппетит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Шест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падение вес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едьм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нарушение сна: трудное засыпание и просыпание, бессонница, порывистый поверхностный сон, кошмарные сновидения и т.д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осьм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понижение устойчивости к различным инфекциям и, в первую очередь, предрасположенность к простудным заболевания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роме этих симптомов, могут наблюдаться головные боли, головокружение, тошнота, а иногда даже рвота, повышение сухожильных рефлексов, тремор вытянутых рук, иногда и век, понижение кровяного давления до 90/50 мм.рт.ст., повышенная потливость, повышение возбудимости вестибулярной системы (укачивание в автобусе, автомобиле, самолете и т.п.), затруднения в восприятии пространства, иллюзии и др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-1368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е признаки утомления при физическом труде (по С. А. Косило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85800"/>
          <a:ext cx="8763120" cy="5792760"/>
        </p:xfrm>
        <a:graphic>
          <a:graphicData uri="http://schemas.openxmlformats.org/drawingml/2006/table">
            <a:tbl>
              <a:tblPr/>
              <a:tblGrid>
                <a:gridCol w="1208160"/>
                <a:gridCol w="2266920"/>
                <a:gridCol w="2114640"/>
                <a:gridCol w="31734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ы наблю-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м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 ко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тельное покрасн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ое покрасн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 покраснение, побледнение, синюш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ли-в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тельная (влажность на лбу и щеках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а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ше пояс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о резкая (ниже пояса, выступление сол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енное, ровн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коло 30 дыханий в 1 ми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енное. Периодическое дыхание через р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о учащенное, поверхностное непрерывное дыхание через рот. Отдельные глубокие вдохи, сменяющиеся беспорядочным дыханием (одышко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ренные и точ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веренные, нарушения рит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ые перерывы в работе, замедление движений» дрожание конечнос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шибочное выполнение указаний и правил рабо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от правил работы, ошибки при новых зада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ия реакции, неточные выполнения указаний, отсутствие интереса, апа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чув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жало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обы на устал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обы на головную боль, слаб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Фазы развития утомления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мпенсирова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 явно выраженного снижения работоспособности за счет подключения к напряженной деятельности резервных возможностей организ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компенсирова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резервные мощности организма исчерпываются, и работоспособность явно снижается или невозможно поддерживать нужную интенсивности работы даже при подключении резервных систем организ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5" descr="im128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029120"/>
            <a:ext cx="5715000" cy="2828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im1284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29000" y="0"/>
            <a:ext cx="5715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Переутомление, Бизнес"/>
          <p:cNvPicPr/>
          <p:nvPr/>
        </p:nvPicPr>
        <p:blipFill>
          <a:blip r:embed="rId1"/>
          <a:stretch/>
        </p:blipFill>
        <p:spPr>
          <a:xfrm>
            <a:off x="4724280" y="3330720"/>
            <a:ext cx="4419720" cy="3527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news_4885_ma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Переутомление, Бизнес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527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тическое выполнение работы на фоне недовосстановления, непродуманная организация труда, длительное выполнение работы, связанной с чрезмерным нервно-психическим или физическим напряжением могут привести к </a:t>
            </a: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переутомлению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, как следствие, 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напряжению нервной системы, 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стрениям сердечно-сосудистых заболеваний, гипертонической и язвенной болезням, снижению защитных свойств организма. Физиологическая основа всех этих явлений – нарушение баланса возбудительно­тормозных нервных процес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20-06-21T09:55:1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