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158F-F7FB-4B9E-8221-90D3A7DC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4A2-A087-4AF2-A404-8EEA7240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CC1-4054-42A0-BE74-07928D21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CBBE-423C-4523-9591-54A5C634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6259-022A-4273-BB5D-02EB1301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4045-C6EC-4CC7-B565-585EB4F9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C107-BBB0-497B-B196-0A8B9EFB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1B41-6191-48AC-89B1-C501D102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A94A-B96C-4774-B47F-DEBC0E7B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C322-6311-45F5-881A-D96E11CC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5F56-8600-4937-9231-05BC6389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DAF-491A-4401-9F21-8B7BA8D6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3337-37D5-4D61-A529-A512BDEC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A922-A21C-4D35-B328-102BB99A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D96D-CE16-476B-9E5D-EA1FE37B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4612-0A76-4AB4-90CF-7CD41677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D8CF-5A7C-4335-ABBB-0DA243DB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62F8F-D0E8-4074-91AA-5141A593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66F69-386D-44E3-8B4E-46B9A361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3156F-E09F-4557-804E-97829CA4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EA461-E206-412D-ACCF-2146C201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B1058-BB87-4D71-92C6-9FF674C4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7839-BD67-455E-A0A3-7BFDA8A2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DB2AA-DFAE-449D-ACDE-F90F90FC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01083-A66D-49A3-9209-E09B41D0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28230-66AE-42CF-A0CD-598714E3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9BD1D-073B-41CD-9CA5-3EB6661D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87DD9-6C3F-491D-8BC6-002EFED9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77CD5-2B5A-4B7A-ACD3-1BB1C235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74694-DCFC-4648-BEE0-B8DC2F9C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F2409-6194-4FA4-B057-7FD3571B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39F55-DC69-460D-BAA4-C14B3D1E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26159-4B0B-456A-BEB8-04E380CD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9B4-D2D8-401C-B527-A962222C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05EEC-C48F-4162-B07A-E52C190B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5FFFD-7AC7-48B7-B00E-C95D41AC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59E14-0050-4F52-96F9-9A194FFC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72FA0-EF50-48A0-B31B-2DCBB4FE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BAFFE-DDDC-4735-BF89-809DFD2B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DB69F-0789-400E-A435-BD7067FB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5885D-5549-44B6-A1A4-164A0134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6943C-D527-4A3C-83E0-9C4D894C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BC39F-74E0-47AD-BBFB-0222AF03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D7C05-01FF-49B4-ADFA-00273486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9E2-ED47-4EB5-B242-58C59DE8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E7C60-4915-4DFE-BF26-87E7ECA6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F3976-2C79-465C-B643-76C6698E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696BF-B57D-4829-AF6A-AC218B08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56907-9CDA-4E96-978C-0D38E548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3C307-1861-402F-BBF1-6B3658D5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C25DB-5FF0-4324-BB5C-23324144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2AA47-770F-48E1-A154-EBA61DE9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FE76C-0F3A-4A7E-86CD-DBAF2C25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5C790-0DA6-44E6-9B65-E3634412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502E9-B99E-4965-AEC4-71A1D52D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57A-F2C2-4253-AB10-217BD3AB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B50C2-81A0-49D1-84B1-3E79D60C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AC3EB-E27F-4F51-8CF0-25F2B33B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359AB-61C4-4572-9CFB-DD23BB9D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E8566-8101-44F8-8317-B3DF8350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5AC6A-C885-460E-A638-31FCAC9C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C0898-3338-4125-A1CC-FFCFD75C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13009-5723-4E71-9C3E-D414DCC8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24FE0-36BA-427C-AA7B-DB0EAEDF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44A89-7895-4376-A4D8-5BA1BE6A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08830-54B3-405C-A967-42CB5E30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31F-7F36-403C-A9D1-8CBEE6E8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29D66-A92F-4151-842E-F1EE4EB6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02A20-0C8A-4D20-8580-3701A5E0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8CA46-1222-4D70-8FAC-CBC19618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5962E-1564-40FB-AAC0-637D34D1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8F5AB-17E7-415E-9B0D-D43AE916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60979-B781-482B-9693-32802162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C7A09-707C-48B2-B841-01FC04E6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5C97B-6DC2-481D-AB76-E203C63A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EB0B7-E662-435F-8E79-6A46F12C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6AC7C-62C2-4ADD-8D6C-871798D1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EDA-E930-4B43-86CF-5E31B4B9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CFFED-1539-44EE-B05F-CEC66548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69317-CC0E-459F-9367-BDFF6DBD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9C9BA-6584-42B2-83B1-BBB12D7E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CDEA7-885F-44A2-AA64-5EF16774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205AF-FA5F-462D-99D3-1CEB593C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F6D26-D983-4104-8CAD-1C55122E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4B676-1FA0-4E2B-9114-04DF90E9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29158-4757-4B41-A4A5-48701B98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FF9ED-990C-4DC1-A2DB-7EE5C6E1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437F1-CB91-4B3E-BD85-DE5050C1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CF8-9AF7-442A-9C5F-52DC47E2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32119-8747-4C23-A313-DF0240AF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FAF64-CF4E-4478-AE93-E27B1617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3F4D9-F7DA-492F-B929-7288D361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32001-5DE1-430E-8241-93413164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EEC54-9E2D-461C-9661-DBE4AACF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24DBD-2629-476B-8E2F-537F0558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B8014-6095-4AD6-B95F-FA037AD2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9635-1A74-4488-900F-00A302AB43F0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A6DB-6E03-409F-AA29-43CF795C8E74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9C92-477E-480B-AE03-D0BC470155D8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2938-95AD-4E4F-96A0-A0BFEAB22E5E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AFCE-7931-4CCD-92F1-D67CC73FDB0B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1D19-55AC-4F9D-9EA7-E317E2261A44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B477-EED0-4EB1-921C-AAF8AD711573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7005-4BD2-4C07-9D92-36DBE48FADDC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china_2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Утомление при физической и умственной работе.</a:t>
            </a:r>
            <a:br>
              <a:rPr sz="3600"/>
            </a:b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Барба Дарья, 2ПСО-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мственное переутомл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собенно опасно для психического здоровья человека, так как оно связано со способностью центральной нервной системы к длительной работе с перегрузками, что в конечном итоге может привести к развитию запредельного торможения в ее корковых и подкорковых структурах, к нарушению слаженности взаимодействия вегетативных функций. Оно граничит с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болевание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имеет более длительный период восстанов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ственное переутомление является следствием того, что мозг человека, обладая большими компенсаторными возможностями, способен длительное время работать с перегрузкой, не давая знать о своем утомлении, которое мы ощущаем только тогда, когда наступила фаза переутом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5" descr="05221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038480" y="0"/>
            <a:ext cx="529272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05221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транение и профилактика утом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умственных и физических нагрузках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озможны за счет повышения уровня общей и специальной тренированности организма, оптимизации его физической, умственной и эмоциональной активности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билизация других сторон психической активности и двигательной деятельности, не связанных с теми, которые привели к утомлению, способствует отдалению умственного утомления и даже его профилактик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зиологические процессы, обеспечивающие восстановление измененных при выполнении того или иного рода деятельности функций организма, называются</a:t>
            </a:r>
            <a:r>
              <a:rPr b="0" lang="ru-RU" sz="2400" spc="-1" strike="noStrike">
                <a:solidFill>
                  <a:srgbClr val="9fb8c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fb8cd"/>
                </a:solidFill>
                <a:latin typeface="Calibri"/>
              </a:rPr>
              <a:t>восстановительны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, в течение которого происходит вос­становление физиологического статуса после выполнения определенной работы, называют </a:t>
            </a:r>
            <a:r>
              <a:rPr b="1" lang="ru-RU" sz="2400" spc="-1" strike="noStrike">
                <a:solidFill>
                  <a:srgbClr val="9fb8cd"/>
                </a:solidFill>
                <a:latin typeface="Calibri"/>
              </a:rPr>
              <a:t>восстановительным период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7" descr="Рациональное питание – рецепт молодости и долговечия.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fb8cd"/>
                </a:solidFill>
                <a:latin typeface="Cambria"/>
              </a:rPr>
              <a:t>Средства восстановления организма после утомления и переутомления</a:t>
            </a: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тимальная физическая активность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ключение на другие виды работы и сочетание работы с активным отдыхо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циональное питани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ление строгого гигиенического образа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коряют процесс восстановления достаточный по времени и полноценный сон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дные процедур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ная баня, массаж и самомассаж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рмакологические средства и физиотерапевтические процедур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регулирующая трениров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авный критерий положительной динамики восстановительных процессов – готовность к повторной деятельности, а наиболее объективный показатель восстановления работоспособности - максимальный объем повторной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5" descr="massazh5"/>
          <p:cNvPicPr/>
          <p:nvPr/>
        </p:nvPicPr>
        <p:blipFill>
          <a:blip r:embed="rId2"/>
          <a:stretch/>
        </p:blipFill>
        <p:spPr>
          <a:xfrm>
            <a:off x="0" y="5653080"/>
            <a:ext cx="1828800" cy="1204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9" descr="aquamama_200_133"/>
          <p:cNvPicPr/>
          <p:nvPr/>
        </p:nvPicPr>
        <p:blipFill>
          <a:blip r:embed="rId3"/>
          <a:stretch/>
        </p:blipFill>
        <p:spPr>
          <a:xfrm>
            <a:off x="7467480" y="5743440"/>
            <a:ext cx="16765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3605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7118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52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Процесс  восстановления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странение изменений и нарушений в системах нейрогуморального регулирования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ыведение продуктов распада, образующихся в результате работы в тканях и клетках работавшего органа, из мест их возникновения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странение продуктов распада из внутренней среды организм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Рациональное сочетание нагрузок и отдыха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- необходимое условие сохранения и развития активности восстановительных процессов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 особой тщательностью необходимо учитывать нюансы восстановительных процессов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при организации занятий физическими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пражнениями и планировании тренировочных нагрузок. Повторные нагрузки целесообразно выполнять в фазе повышенной работоспособности. Слишком длинные интервалы отдыха снижают эффективность тренировочного процесса. Например, после скоростного бега на 60-80 м кислородный долг ликвидируется в течение 5-8 минут. Возбудимость же центральной нервной системы в течение этого промежутка времени еще сохраняется на высоком уровне, поэтому интервал в 5-8 мин - оптимальный для повторения скоростной работы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3605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7118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качестве ускоряющего процесс восстановления средства в спортивной практике с успехом используетс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активный отдых,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т. е. переключение на другой вид деятельности. Значение активного отдыха для восстановления работоспособности впервые было установлено русским физиологом И.М.Сеченовым (1829-1905), который показал, что явно выраженное ускорение восстановления работоспособности утомленной конечности происходит не при ее пассивном отдыхе, а при работе в период отдыха другой конечностью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5" descr="36051"/>
          <p:cNvPicPr/>
          <p:nvPr/>
        </p:nvPicPr>
        <p:blipFill>
          <a:blip r:embed="rId2"/>
          <a:stretch/>
        </p:blipFill>
        <p:spPr>
          <a:xfrm>
            <a:off x="0" y="5178600"/>
            <a:ext cx="22860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3605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8600"/>
            <a:ext cx="9144000" cy="67118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53"/>
                </a:solidFill>
                <a:latin typeface="Cambria"/>
              </a:rPr>
              <a:t>Простейшие методики применения средств физической культуры для направленной коррекции работоспособности, усталости, утомления</a:t>
            </a:r>
            <a:br>
              <a:rPr sz="1800"/>
            </a:br>
            <a:endParaRPr b="0" lang="en-US" sz="1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52280" y="10666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Систематические занятия физическими упражнениями способствуют поддержанию работоспособности. В основе физической работоспособности и подготовленности лежит развитие вынослив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Наилучшие средства развития выносливости - </a:t>
            </a:r>
            <a:r>
              <a:rPr b="1" lang="ru-RU" sz="2000" spc="-1" strike="noStrike">
                <a:solidFill>
                  <a:srgbClr val="9fb8cd"/>
                </a:solidFill>
                <a:latin typeface="Arial Unicode MS"/>
              </a:rPr>
              <a:t>ходьба, бег, велосипедный спорт, плавание, лыжный спорт, </a:t>
            </a:r>
            <a:r>
              <a:rPr b="1" lang="ru-RU" sz="2000" spc="-1" strike="noStrike">
                <a:solidFill>
                  <a:srgbClr val="9fb8cd"/>
                </a:solidFill>
                <a:latin typeface="Calibri"/>
              </a:rPr>
              <a:t>танцы, гребля, подъем по лестнице, бег на коньках и любые продолжительные иг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Занятие каким-либо из вышеуказанных циклических видов физических упражнений должны продолжаться </a:t>
            </a:r>
            <a:r>
              <a:rPr b="0" lang="ru-RU" sz="2000" spc="-1" strike="noStrike">
                <a:solidFill>
                  <a:srgbClr val="9fb8cd"/>
                </a:solidFill>
                <a:latin typeface="Arial Unicode MS"/>
              </a:rPr>
              <a:t>не менее 15 мин 3 раза в неделю при ЧСС 60-80% от максимальной (120-160 уд./мин</a:t>
            </a:r>
            <a:r>
              <a:rPr b="0" lang="en-US" sz="2000" spc="-1" strike="noStrike">
                <a:solidFill>
                  <a:srgbClr val="9fb8cd"/>
                </a:solidFill>
                <a:latin typeface="Arial Unicode MS"/>
              </a:rPr>
              <a:t> (</a:t>
            </a:r>
            <a:r>
              <a:rPr b="0" lang="ru-RU" sz="2000" spc="-1" strike="noStrike">
                <a:solidFill>
                  <a:srgbClr val="9fb8cd"/>
                </a:solidFill>
                <a:latin typeface="Arial Unicode MS"/>
              </a:rPr>
              <a:t>Максимальная ЧСС рассчитывается по формуле  </a:t>
            </a:r>
            <a:r>
              <a:rPr b="0" lang="en-US" sz="2000" spc="-1" strike="noStrike">
                <a:solidFill>
                  <a:srgbClr val="9fb8cd"/>
                </a:solidFill>
                <a:latin typeface="Arial Unicode MS"/>
              </a:rPr>
              <a:t>220-</a:t>
            </a:r>
            <a:r>
              <a:rPr b="0" lang="ru-RU" sz="2000" spc="-1" strike="noStrike">
                <a:solidFill>
                  <a:srgbClr val="9fb8cd"/>
                </a:solidFill>
                <a:latin typeface="Arial Unicode MS"/>
              </a:rPr>
              <a:t>Возраст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Для достижения тренировочного эффекта необходимо заниматься, например, ходьбой не менее 40 мин 4 раза в неделю при частоте пульса 60% и более от максимального показателя. По мере повышения уровня физической подготовленности организм после каждого занятия будет восстанавливаться все быстрее, следовательно, время восстановления может служить мерилом уровня физической подготовленности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4" descr="3605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7118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комендации к занятиям Ф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комендуемая продолжительность тренировок - 20-60 мин непрерывной аэробной работы. Продолжительность зависит от интенсивности нагрузки: работу низкой интенсивности следует выполнять длительно (при отсутствии предварительной подготовки на начальном этапе целесообразно использовать интервальный вариант тренировки: нагрузка - отдых). Взрослым людям, не занимающимся спортом, рекомендуется двигательная активность низкой или умеренной интенсивности и большой продолжительности, поскольку в длительных программах занятий полнее достигается эффект «общей выносливости», а также в связи с потенциальной опасностью высокоинтенсивной активности Изменения в разумных пределах интенсивности и продолжительности тренировок при неизменном объеме механической работы практически не влияют на величину физической подготовл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СС при выполнении физических упражнений в воде, как правило, ниже, чем на суше (приблизительно на 13%). В то же время МПК при выполнении од них и тех же упражнений аэробной направленности в воде и на суше одинаково. Учитывая это, рекомендуется при работе в воде вычитать из заданной ЧСС на суше 17 уд./ми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ренировки для сохранения достигнутого уровня должны быть регулярными. Уровень физической подготовленности при прекращении занятий уже через 2 мес. заметно снижается, а через 3-8 мес. возвращается к исходному. У людей, тренировавшихся многие годы, это снижение происходит медленне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яжелоатлетические упражнения практически не увеличивают МПК, но тренируют мышечную силу и локальную выносливость, увеличивают мышечную масс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недостаточной физической нагрузке ее следует повышать в первую очередь за счет увеличения объема, затем интенсивности и частоты занят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лучае превышения уровня физической нагрузки прежде всего должна быть снижена интенсивность упражнений, затем их объем и в последнюю очередь - частота занят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5" descr="Активный отдых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выносливость сердечно-сосудистой и дыхательной систем человека возрастает, его пульс в состоянии покоя падает. Следует, что отдых как обязательная составная часть тренировки необходимо не только для восстановления потраченных сил, ликвидации последствий утомления, но и для дальнейшего роста сил, подъема уровня тренированности организма на большую высот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fb8cd"/>
                </a:solidFill>
                <a:latin typeface="Calibri"/>
              </a:rPr>
              <a:t>Активный отды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Основой этого феномена является установленный И. М. Сеченовым факт повышения работоспособности при чередовании работы различных мышечных групп. В практике физического воспитания, например, между упражнениями на выносливость могут включаться упражнения на силу, быстроту и ловкость они оказывают влияние на скорость восстановления и возрастание выносливости. Время и характер активного отдыха во многом определяются динамикой работоспособности и утомляемости, зная которую можно подобрать время «активного отдыха» в течение рабочего дня и характер его в зависимости от степени и вида утомл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fb8cd"/>
                </a:solidFill>
                <a:latin typeface="Calibri"/>
              </a:rPr>
              <a:t>Преодолеть  бессонниц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— одно из проявлений умственного и психического переутомл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F8561CF7CB7B-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457200" y="1600200"/>
            <a:ext cx="952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096920" indent="-228600" algn="ctr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 algn="ctr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Благодар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 algn="ctr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china_2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0880" y="380880"/>
            <a:ext cx="8229600" cy="77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ая мышечная деятельность, занятия физическими упражнениями, спортом повышают активность обменных процессов, тренируют и поддерживают на высоком уровне механизмы, осуществляющие в организме обмен веществ и энергии, что положительно сказывается на умственной и физической работоспособности челове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ко следует помнить, что при выполнении любого вида деятельности в зависимости от увеличения объема информации, интенсификации многих сторон жизни в условиях современного общества в организме может развиваться особое состояние, называемое утомлени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376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64653"/>
                </a:solidFill>
                <a:latin typeface="Cambria"/>
              </a:rPr>
              <a:t>Утомление 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9140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вид функционального состояния организма человека, временно возникающий под влиянием продолжительной или интенсивной работы и приводящий к снижению ее эффектив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ояние утомления проявляется в уменьшении силы и выносливости мышц, ухудшении координации движений, в возрастании затрат энергии при выполнении однообразной работы, в замедлении скорости переработки информации, ухудшении памяти, затруднении процесса сосредоточения и переключения внимания. Развитие процесса утомления связано с ощущением устал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F8561CF7CB7B-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28600" y="-3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чины возникновения утомления у студен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бный день студентов насыщен значительными умственным, и эмоциональными нагрузками. В совокупности с вынужденной рабочей позой, при которой значительное время в напряженном состоянии находятся мышцы, удерживающие туловище в определенном положении, частые нарушения рационального режима труда и отдыха, неадекватные физические нагрузки, могут приводить к нежелательным явлениям, служить причино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утомл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которое, в свою очередь, может накапливаться и переходить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ереутомление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того чтобы этого избежать, один вид деятельности должен сменяться другим, или необходим отдых. Наиболее эффективен активный отдых в виде умеренного физического труда или занятии физическими упражнения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 подготовке к экзаменационной сессии и в процессе сдачи экзамен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 студентов велика вероятность снижения работоспособности из-за развития хронического утомления или переутомления, неграмотного использования натуральных стимуляторов (чай, кофе) или фармакологических средств, наличия выраженного предэкзаменационного стресса. Причинами подобных явлений могут быть нарушения режима труда, отдыха и питания, отсутствие знаний по рациональному применению средств и методов сохранения и восстановления работоспособности, дефицит профессионально важных качеств и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начение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то же время утомление служит естественным сигналом возможного истощения организма и одновременно предохранительным биологическим механизмом, защищающим его от перенапряжения. Вместе с тем утомление, возникающее в процессе физического или умственного упражнения, является также и стимулятором, мобилизующим резервы организма, его органы и системы, восстановительные процесс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12~5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685800"/>
            <a:ext cx="9144000" cy="5349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64653"/>
                </a:solidFill>
                <a:latin typeface="Cambria"/>
              </a:rPr>
              <a:t>Классификация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стро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р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е значительной интенсивности, не соответствующей уровню непосредственной готовности организма к выполнению данной нагрузки);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роническо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уммирование сдвигов в нервно-мышечной и ЦНС, возникающих при многократной утомительной работе, вызывают хроническое утомление), т.е. может проявляться в короткий промежуток времени носить длительный характер (вплоть до нескольких месяцев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b8cd"/>
                </a:solidFill>
                <a:latin typeface="Calibri"/>
              </a:rPr>
              <a:t>общее и локальн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.е. характеризующим изменение функции организма в целом или какой-либо ограниченной группы мышц, органа, какого-либо анализатора и т.п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рое и хроническое утомление, а также переутомление могут привести к заболеванию нервной системы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ердечно-сосудистых заболеваний, язвенной болезням, снижению сил организма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F8561CF7CB7B-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53"/>
                </a:solidFill>
                <a:latin typeface="Cambria"/>
              </a:rPr>
              <a:t>Признаки хронического утомления</a:t>
            </a:r>
            <a:endParaRPr b="0" lang="en-US" sz="3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ервы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ощущение усталости до начала работы и низкая работоспособность в течение всего рабочего дн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Второ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повышенная раздражительность. Студент реагирует совершенно неадекватно на всевозможные, даже самые незначительные раздражители: шутки товарищей, справедливые замечания преподавателей и т.п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Трети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исчезновение интереса к работ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Четверты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ослабление интереса к окружающим событиям, даже тем, которые касаются самого студент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яты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снижение аппетит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Шесто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падение вес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едьмо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нарушение сна: трудное засыпание и просыпание, бессонница, порывистый поверхностный сон, кошмарные сновидения и т.д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Восьмой признак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понижение устойчивости к различным инфекциям и, в первую очередь, предрасположенность к простудным заболевания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роме этих симптомов, могут наблюдаться головные боли, головокружение, тошнота, а иногда даже рвота, повышение сухожильных рефлексов, тремор вытянутых рук, иногда и век, понижение кровяного давления до 90/50 мм.рт.ст., повышенная потливость, повышение возбудимости вестибулярной системы (укачивание в автобусе, автомобиле, самолете и т.п.), затруднения в восприятии пространства, иллюзии и др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0" y="-1368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шние признаки утомления при физическом труде (по С. А. Косилов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52280" y="685800"/>
          <a:ext cx="8763120" cy="5792760"/>
        </p:xfrm>
        <a:graphic>
          <a:graphicData uri="http://schemas.openxmlformats.org/drawingml/2006/table">
            <a:tbl>
              <a:tblPr/>
              <a:tblGrid>
                <a:gridCol w="1208160"/>
                <a:gridCol w="2266920"/>
                <a:gridCol w="2114640"/>
                <a:gridCol w="317340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ы наблю-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м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аска кож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тельное покрасн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тельное покрасн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кое покраснение, побледнение, синюшн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ли-в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тельная (влажность на лбу и щеках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тельна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ыше пояс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о резкая (ниже пояса, выступление солей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енное, ровно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коло 30 дыханий в 1 мин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енное. Периодическое дыхание через ро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ительно учащенное, поверхностное непрерывное дыхание через рот. Отдельные глубокие вдохи, сменяющиеся беспорядочным дыханием (одышкой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ренные и точ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веренные, нарушения рит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ые перерывы в работе, замедление движений» дрожание конечност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ошибочное выполнение указаний и правил рабо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от правил работы, ошибки при новых задания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дления реакции, неточные выполнения указаний, отсутствие интереса, апат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чув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жало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лобы на устал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лобы на головную боль, слаб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Фазы развития утомления: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мпенсирован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з явно выраженного снижения работоспособности за счет подключения к напряженной деятельности резервных возможностей организ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екомпенсирован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резервные мощности организма исчерпываются, и работоспособность явно снижается или невозможно поддерживать нужную интенсивности работы даже при подключении резервных систем организм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5" descr="im128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4029120"/>
            <a:ext cx="5715000" cy="2828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im1284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429000" y="0"/>
            <a:ext cx="57150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Переутомление, Бизнес"/>
          <p:cNvPicPr/>
          <p:nvPr/>
        </p:nvPicPr>
        <p:blipFill>
          <a:blip r:embed="rId1"/>
          <a:stretch/>
        </p:blipFill>
        <p:spPr>
          <a:xfrm>
            <a:off x="4724280" y="3330720"/>
            <a:ext cx="4419720" cy="3527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news_4885_man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4581360" cy="6858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Переутомление, Бизнес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5272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атическое выполнение работы на фоне недовосстановления, непродуманная организация труда, длительное выполнение работы, связанной с чрезмерным нервно-психическим или физическим напряжением могут привести к </a:t>
            </a:r>
            <a:r>
              <a:rPr b="1" lang="ru-RU" sz="2400" spc="-1" strike="noStrike">
                <a:solidFill>
                  <a:srgbClr val="9fb8cd"/>
                </a:solidFill>
                <a:latin typeface="Calibri"/>
              </a:rPr>
              <a:t>переутомлению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, как следствие, к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напряжению нервной системы, 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стрениям сердечно-сосудистых заболеваний, гипертонической и язвенной болезням, снижению защитных свойств организма. Физиологическая основа всех этих явлений – нарушение баланса возбудительно­тормозных нервных процесс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20-06-21T09:55:16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