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718D-838A-456B-A2DF-BB9F48BC0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8615-CBBD-4066-8E6B-F4B4F249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FACE-D622-4D85-B264-ED05FBDAC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D6E2-CDE9-4467-946C-00D670182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BC49-5F61-47E3-9D3B-31876805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5146-C173-4D22-BF2A-058394D9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6321-6DB5-429D-86D5-E92CD8F6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53FB-E9DB-4AC8-957A-D6D1571A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6AF0-1919-4574-AA8C-E3AE3B23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EF67-BDD7-473C-84F7-674A065F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7CFE-F7BA-4D99-8E30-F123C84A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49C4-C904-40CF-8943-1E686912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AC4A-4697-4AA2-9829-87D96B9C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3D78-439A-49E5-85E2-3F1CC37A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D124-0E8F-4ACA-BB20-68C75F9C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A74E-17D1-496F-B0B8-DC5D3341F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91D2-01F9-4284-9CF6-2CDAFE404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A891-5AEC-467C-B913-3E0D8ABA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19D3-2631-492F-8EEF-D1AC498E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D106-8EF0-412A-8DCC-73FDF664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E771-38E2-4C91-9AA7-8336880A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B65B-3DC8-44C0-9F87-50862BCC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D383-1B48-4337-A2F3-7798A0F5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B72B-7FBD-4DBB-91ED-2C8DF336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7FEC-8121-4F0E-B426-696B6A82994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C0E2-9A85-40DB-B4E8-8E0AC7CA2C4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Воинский храм Александра Невского: от </a:t>
            </a:r>
            <a:r>
              <a:rPr b="1" lang="ru-RU" sz="5400" spc="-1" strike="noStrike">
                <a:solidFill>
                  <a:srgbClr val="006633"/>
                </a:solidFill>
                <a:latin typeface="Monotype Corsiva"/>
              </a:rPr>
              <a:t>А </a:t>
            </a:r>
            <a:r>
              <a:rPr b="1" lang="ru-RU" sz="4400" spc="-1" strike="noStrike">
                <a:solidFill>
                  <a:srgbClr val="006633"/>
                </a:solidFill>
                <a:latin typeface="Times New Roman"/>
              </a:rPr>
              <a:t>до</a:t>
            </a:r>
            <a:r>
              <a:rPr b="1" lang="ru-RU" sz="5400" spc="-1" strike="noStrike">
                <a:solidFill>
                  <a:srgbClr val="006633"/>
                </a:solidFill>
                <a:latin typeface="Monotype Corsiva"/>
              </a:rPr>
              <a:t> Я</a:t>
            </a:r>
            <a:r>
              <a:rPr b="0" lang="ru-RU" sz="46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84360" y="3962520"/>
            <a:ext cx="6050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6633"/>
                </a:solidFill>
                <a:latin typeface="Arial"/>
              </a:rPr>
              <a:t>Автор: </a:t>
            </a:r>
            <a:r>
              <a:rPr b="1" lang="ru-RU" sz="2000" spc="-1" strike="noStrike">
                <a:solidFill>
                  <a:srgbClr val="006633"/>
                </a:solidFill>
                <a:latin typeface="Arial"/>
              </a:rPr>
              <a:t>Стрельник Максим, детское объединение «Кривичи», ГБОУ ДО ПО «Дом детства и юношества «Радуга», 9 кла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33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6633"/>
                </a:solidFill>
                <a:latin typeface="Arial"/>
              </a:rPr>
              <a:t>Руководитель: </a:t>
            </a:r>
            <a:r>
              <a:rPr b="1" lang="ru-RU" sz="2000" spc="-1" strike="noStrike">
                <a:solidFill>
                  <a:srgbClr val="006633"/>
                </a:solidFill>
                <a:latin typeface="Arial"/>
              </a:rPr>
              <a:t>Васильев Геннадий Никанд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hram2"/>
          <p:cNvPicPr/>
          <p:nvPr/>
        </p:nvPicPr>
        <p:blipFill>
          <a:blip r:embed="rId1"/>
          <a:stretch/>
        </p:blipFill>
        <p:spPr>
          <a:xfrm>
            <a:off x="468360" y="3573360"/>
            <a:ext cx="1782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33"/>
                </a:solidFill>
                <a:latin typeface="Monotype Corsiva"/>
              </a:rPr>
              <a:t>П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    Престольный праздник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мечается 12 сентября в День перенесения императором Петр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щей Александра Невского из города Владимира в город Санкт – Петербург в 1724 го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1"/>
          <p:cNvPicPr/>
          <p:nvPr/>
        </p:nvPicPr>
        <p:blipFill>
          <a:blip r:embed="rId1"/>
          <a:stretch/>
        </p:blipFill>
        <p:spPr>
          <a:xfrm>
            <a:off x="1116000" y="1268280"/>
            <a:ext cx="317196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33"/>
                </a:solidFill>
                <a:latin typeface="Monotype Corsiva"/>
              </a:rPr>
              <a:t>С  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  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тихи, посвященные храму и Александру Невскому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Александр – князь великий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лександр – князь великий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Любит весь его народ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Е\го подвиги и битв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ждый знает до сих пор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лава этих битв велики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ж по всей земле прошла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 умнейшего из князе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о сих пор глядит стран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ть, все войско шло за князем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 него равнялась знать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Его дар как полководц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раг Руси успел познать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лышим и читаем много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к на льду он победил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 как шведа, и как немца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 как всех он разгромил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авлюков Александ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Дорога к Храму и Душ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Мы с внучкой Олей к храму подош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 с трепетом в святилище вошл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У девочки - большие изумленные глаза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Еще чуть-чуть, и в них появится слеза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Не верится, что храму - сотня лет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 он - свидетель многих слез и бед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од сводами его живет и радость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 неразрывны молодость и старость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Мою ладонь, сжвмвет крепко рученька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Да это ж ты единственная внученька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ак изумляет храма выши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 в голосе отца Олега - глубина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ы веришь в общую людскую суть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оторой нам себя не обмануть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Душа вселенская, как зеркало, разбилась –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ы лишь осколок, и что в нем отразилось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 калейдоскопе только несколько зеркал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Но мир его загадочный - не мал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 верю я, что все богатства мира - у тебя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оль рвешься ты понять и высказать себя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 верю, внученька, Всевышний любит и тебя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оль не отнял ни веры, ни огня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Он к храму нас с тобой приве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 души к святости возвел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Емельянова С.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33"/>
                </a:solidFill>
                <a:latin typeface="Monotype Corsiva"/>
              </a:rPr>
              <a:t>Т  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  Тэор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Олег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280" y="1557000"/>
            <a:ext cx="3816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аздник, посвященный А. Невскому в детском саду школы-интерната г. Пско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2920" y="90792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тоиерей Олег Тэор, настоятель храма святого благоверного князя Александра Невского - рукоположен Олег Тэор был в 1970 году, Начинал служить в Троицком Соборе и в Дновском районе (село Бела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IMG_8348"/>
          <p:cNvPicPr/>
          <p:nvPr/>
        </p:nvPicPr>
        <p:blipFill>
          <a:blip r:embed="rId1"/>
          <a:stretch/>
        </p:blipFill>
        <p:spPr>
          <a:xfrm>
            <a:off x="684360" y="1700280"/>
            <a:ext cx="3671640" cy="2450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IMG_8305"/>
          <p:cNvPicPr/>
          <p:nvPr/>
        </p:nvPicPr>
        <p:blipFill>
          <a:blip r:embed="rId2"/>
          <a:stretch/>
        </p:blipFill>
        <p:spPr>
          <a:xfrm>
            <a:off x="5076720" y="3645000"/>
            <a:ext cx="334980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33"/>
                </a:solidFill>
                <a:latin typeface="Monotype Corsiva"/>
              </a:rPr>
              <a:t>Ф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    Фотогалерея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погибших воинов – десантников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иографические сведения и фотографии воинов в храме собирались долгие годы не только в Пскове, но и во многих городах страны. Многие фотографии пришлось корректировать с помощью компьютерного оборудования уже в Псков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ст из синодика. Десантники 6 р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28576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33"/>
                </a:solidFill>
                <a:latin typeface="Monotype Corsiva"/>
              </a:rPr>
              <a:t>Х 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 Храм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святого благоверного великого князя Александра Невского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341360"/>
            <a:ext cx="40384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Хра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вятого благоверного великого князя Александра Невского славного 96 – го Омского полка был выстроен за 14 месяцев и освящен 4 октября 1908 года. Разработать типовой проект полковой церкви было поручено Фёдору Михайловичу Вержбицком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Загрузить увеличенное изображение. 934 x 700 px. Размер файла 272816 b.&#10; Воинский храм благоверного великого князя Александра Невского "/>
          <p:cNvPicPr/>
          <p:nvPr/>
        </p:nvPicPr>
        <p:blipFill>
          <a:blip r:embed="rId1"/>
          <a:stretch/>
        </p:blipFill>
        <p:spPr>
          <a:xfrm>
            <a:off x="755640" y="2349360"/>
            <a:ext cx="356220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33"/>
                </a:solidFill>
                <a:latin typeface="Monotype Corsiva"/>
              </a:rPr>
              <a:t>Ц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  Царь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Николай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I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Храм Александра Невского связан с именами российского Императора Николая II. Среди книг библиотеки храма имеется книга Ветхого Завета с собственноручными пометками Николая II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Э.К. Липгарт. Портрет императора Николая II. Россия, 1900-1913 годы."/>
          <p:cNvPicPr/>
          <p:nvPr/>
        </p:nvPicPr>
        <p:blipFill>
          <a:blip r:embed="rId1"/>
          <a:stretch/>
        </p:blipFill>
        <p:spPr>
          <a:xfrm>
            <a:off x="1174680" y="1413000"/>
            <a:ext cx="30099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33"/>
                </a:solidFill>
                <a:latin typeface="Monotype Corsiva"/>
              </a:rPr>
              <a:t>Ю  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  Юбилей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храма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летняя годовщина создания храма Невского в Пскове отмечалась 6 декабря 2008 года. В этот день состоялся молебен, концерт и церемония присвоения почетного звания имени Александра Невского образовательным учреждениям области - школам,  классам, отрядам, библиотекам, которые приняли активное участие в юбилейных мероприятиях в честь столетия хр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34383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33"/>
                </a:solidFill>
                <a:latin typeface="Monotype Corsiva"/>
              </a:rPr>
              <a:t>Я 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006633"/>
                </a:solidFill>
                <a:latin typeface="Garamond"/>
              </a:rPr>
              <a:t>Я______ (Имя слушателя, участника предстоящих юбилейных                 </a:t>
            </a:r>
            <a:br>
              <a:rPr sz="2000"/>
            </a:br>
            <a:r>
              <a:rPr b="1" lang="ru-RU" sz="2000" spc="-1" strike="noStrike">
                <a:solidFill>
                  <a:srgbClr val="006633"/>
                </a:solidFill>
                <a:latin typeface="Garamond"/>
              </a:rPr>
              <a:t>              событий  (110-летия храма) </a:t>
            </a:r>
            <a:br>
              <a:rPr sz="2000"/>
            </a:b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 </a:t>
            </a:r>
            <a:br>
              <a:rPr sz="4200"/>
            </a:b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8" name="Picture 4" descr="C:\Users\Геннадий\Desktop\Фото0002.jpg"/>
          <p:cNvPicPr/>
          <p:nvPr/>
        </p:nvPicPr>
        <p:blipFill>
          <a:blip r:embed="rId1"/>
          <a:stretch/>
        </p:blipFill>
        <p:spPr>
          <a:xfrm>
            <a:off x="2411280" y="1916280"/>
            <a:ext cx="4267440" cy="274320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4"/>
          <p:cNvSpPr/>
          <p:nvPr/>
        </p:nvSpPr>
        <p:spPr>
          <a:xfrm>
            <a:off x="2268360" y="4941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ащиеся 3 класса школы-интерната г. Пскова сдают Иванову Роману письменные отзывы о проведенной бесед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Используемые источник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00"/>
                </a:solidFill>
                <a:latin typeface="Arial"/>
              </a:rPr>
              <a:t>Навстречу славному юбилею: 100 лет воинскому храму Александра Невского в г. Пскове (из опыта работы Псковской общеобразовательной школы-интерната) –Псков, 20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00"/>
                </a:solidFill>
                <a:latin typeface="Arial"/>
              </a:rPr>
              <a:t>Покровский Д.Л., Словарь церковных терминов, -М., 199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http://www.pskovtemple.ru/day/library.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http://www.orfey.net/attractions/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http://www.images.yandex.ru/yand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http://www.google.ru/imgh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http://days.pravoslavie.ru/Life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http://www.pravoslavie.ru/put/28564.ht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1257243197_cerk"/>
          <p:cNvPicPr/>
          <p:nvPr/>
        </p:nvPicPr>
        <p:blipFill>
          <a:blip r:embed="rId1"/>
          <a:stretch/>
        </p:blipFill>
        <p:spPr>
          <a:xfrm>
            <a:off x="7777080" y="333360"/>
            <a:ext cx="98604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КОНЕЦ)))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4"/>
          <p:cNvSpPr txBox="1"/>
          <p:nvPr/>
        </p:nvSpPr>
        <p:spPr>
          <a:xfrm>
            <a:off x="1403280" y="3141720"/>
            <a:ext cx="672804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Haettenschweiler"/>
              </a:rPr>
              <a:t>СПАСИБО ЗА ВНИМАН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Haettenschweiler"/>
              <a:ea typeface="Haettenschweiler"/>
            </a:endParaRPr>
          </a:p>
        </p:txBody>
      </p:sp>
      <p:sp>
        <p:nvSpPr>
          <p:cNvPr id="156" name="WordArt 5"/>
          <p:cNvSpPr txBox="1"/>
          <p:nvPr/>
        </p:nvSpPr>
        <p:spPr>
          <a:xfrm>
            <a:off x="7453080" y="6234840"/>
            <a:ext cx="71640" cy="73080"/>
          </a:xfrm>
          <a:prstGeom prst="rect">
            <a:avLst/>
          </a:prstGeom>
        </p:spPr>
        <p:txBody>
          <a:bodyPr wrap="none" lIns="90000" rIns="90000" tIns="26640" bIns="2664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Gloucester MT Extra Condensed"/>
              </a:rPr>
              <a:t>;-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Gloucester MT Extra Condensed"/>
              <a:ea typeface="Gloucester MT Extra Condensed"/>
            </a:endParaRPr>
          </a:p>
        </p:txBody>
      </p:sp>
      <p:sp>
        <p:nvSpPr>
          <p:cNvPr id="157" name="WordArt 6"/>
          <p:cNvSpPr txBox="1"/>
          <p:nvPr/>
        </p:nvSpPr>
        <p:spPr>
          <a:xfrm rot="5121600">
            <a:off x="6966360" y="2475360"/>
            <a:ext cx="111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:-)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33"/>
                </a:solidFill>
                <a:latin typeface="Monotype Corsiva"/>
              </a:rPr>
              <a:t>А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    Александр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Невский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кона Св. А. Невског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341360"/>
            <a:ext cx="40384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ександр Ярославич Невский (1220-1263) - новгородский князь, великий русский полководец выдающийся государственный и политический деятел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 Невский, возглавивший борьбу против иноземных захватчиков, одержал со своим войском победу над шведской армией в битве на реке Нева (1240 г.) и над немецкими рыцарями на Чудском озере (1242 г.). В 1252 году стал Великим князем Владимирским. Русская православная церковь причислила его к лику свят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ikona"/>
          <p:cNvPicPr/>
          <p:nvPr/>
        </p:nvPicPr>
        <p:blipFill>
          <a:blip r:embed="rId1"/>
          <a:stretch/>
        </p:blipFill>
        <p:spPr>
          <a:xfrm>
            <a:off x="1187280" y="1268280"/>
            <a:ext cx="285768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5400" spc="-1" strike="noStrike">
                <a:solidFill>
                  <a:srgbClr val="006633"/>
                </a:solidFill>
                <a:latin typeface="Monotype Corsiva"/>
              </a:rPr>
              <a:t>Б</a:t>
            </a:r>
            <a:r>
              <a:rPr b="1" lang="ru-RU" sz="5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   Библиотека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храма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читывает свыше 23000 книг. Имеются книги по богослужению, богословским наукам, библии разных изданий, жития святых, книги по истории церкви, краеведческая литература. Самые старые книги богослужебные, датируемые XVII и XVIII веками. Специальный раздел посвящен житию святого благоверного князя Александра Невского, житиям псковских свят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и книг: Житие Никандра Псковского датируется 1801 год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l1"/>
          <p:cNvPicPr/>
          <p:nvPr/>
        </p:nvPicPr>
        <p:blipFill>
          <a:blip r:embed="rId1"/>
          <a:stretch/>
        </p:blipFill>
        <p:spPr>
          <a:xfrm>
            <a:off x="1042920" y="1484280"/>
            <a:ext cx="2857680" cy="1990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l3"/>
          <p:cNvPicPr/>
          <p:nvPr/>
        </p:nvPicPr>
        <p:blipFill>
          <a:blip r:embed="rId2"/>
          <a:stretch/>
        </p:blipFill>
        <p:spPr>
          <a:xfrm>
            <a:off x="1042920" y="378936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33"/>
                </a:solidFill>
                <a:latin typeface="Monotype Corsiva"/>
              </a:rPr>
              <a:t>В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     Выбуты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1196640"/>
            <a:ext cx="403848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Родина святой великой княгини Ольги. Выбуты находятся на левом берегу реки Великой. На берегу стоит старинный храм Илии Пророка, построенный в XV веке псковскими мастерами. В былые времена рядом с Ильинским храмом был 2-х этажный Ольгинский храм, от которого сохранились лишь руин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о благословению Архиепископа Псковского и Великолукского Евсевия с 1999 года Настоятель храма святого Александра Невского является одновременно и Настоятелем храма святого Илии Пророка в погосте Выбуты. Там же воины-десантники Псковской дивизии построили своими руками храм святителя Николая Чудотворц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1q"/>
          <p:cNvPicPr/>
          <p:nvPr/>
        </p:nvPicPr>
        <p:blipFill>
          <a:blip r:embed="rId1"/>
          <a:stretch/>
        </p:blipFill>
        <p:spPr>
          <a:xfrm>
            <a:off x="611280" y="1916280"/>
            <a:ext cx="4038480" cy="26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Monotype Corsiva"/>
              </a:rPr>
              <a:t>Д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  Даты памятные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(по новому стилю)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13 марта - возобновление богослужения в 1992 г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15 марта - Державной иконы Божией Матери (невдалеке от храма часовня - памятник в честь погибших воинов)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18 апреля - День воинской славы России, победа на Чудском озере (Ледовое побоище, 1242 г.)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12 июня - День рождения св. Александра Невского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28 июля - память святого равноапостольного князя Владимира (невдалеке от храма проходила Княжевладимирская улица)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28 августа (Успение Пресвятой Богородицы) - Сурдегской иконы Божией Матер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12 сентября - перенесение мощей святого Александра Невского из г. Владимира в Санкт-Петербург - главный престольный праздник храм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17 октября - освящение храма в 1908 году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6 декабря - память святого благоверного великого князя Александра Невского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22 декабря - иконы Божией Матери «Нечаянная Радость»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33"/>
                </a:solidFill>
                <a:latin typeface="Monotype Corsiva"/>
              </a:rPr>
              <a:t>Ж 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  Житие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Александра Невского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Житие Александра Невского», написанное вскоре после смерти князя, создает идеальный образ правителя, защитника своего отечества от военных и идеологических посягательств внешних враг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вская битва. Миниатюра из Жития Александра Невског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IMAGE"/>
          <p:cNvPicPr/>
          <p:nvPr/>
        </p:nvPicPr>
        <p:blipFill>
          <a:blip r:embed="rId1"/>
          <a:stretch/>
        </p:blipFill>
        <p:spPr>
          <a:xfrm>
            <a:off x="730080" y="1341360"/>
            <a:ext cx="364680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33"/>
                </a:solidFill>
                <a:latin typeface="Monotype Corsiva"/>
              </a:rPr>
              <a:t>И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     Иконостас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храма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лужба в храме А. Невског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коностас храму Св. А. Невского подарен Святейшим патриархом Алекс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м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вторы его - художники из Палеха, лауреаты Государственной премии Российской Федерации: Кукулиевы, Адеянов, Бушков, Макаш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нументальная работа состоит из 7 икон, обрамленных деревянной резьбой из лип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image063"/>
          <p:cNvPicPr/>
          <p:nvPr/>
        </p:nvPicPr>
        <p:blipFill>
          <a:blip r:embed="rId1"/>
          <a:stretch/>
        </p:blipFill>
        <p:spPr>
          <a:xfrm>
            <a:off x="684360" y="1989000"/>
            <a:ext cx="376380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33"/>
                </a:solidFill>
                <a:latin typeface="Monotype Corsiva"/>
              </a:rPr>
              <a:t>К  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  Колокола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1917 года впервые в России главой государства были подарены церкви колокола. На главном из них изображены герб России, святой Александр Невский и надпись "Колокол отлит в Каменске-Уральском товариществом "Пятков и К°" в лето 1995 от Рождества Христова в честь 775-летия святого благоверного князя Александра Невского и передан в дар храму града Пскова первым президентом России Борисом Ельциным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SS100581"/>
          <p:cNvPicPr/>
          <p:nvPr/>
        </p:nvPicPr>
        <p:blipFill>
          <a:blip r:embed="rId1"/>
          <a:stretch/>
        </p:blipFill>
        <p:spPr>
          <a:xfrm>
            <a:off x="900000" y="1628640"/>
            <a:ext cx="3200400" cy="4267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i"/>
          <p:cNvPicPr/>
          <p:nvPr/>
        </p:nvPicPr>
        <p:blipFill>
          <a:blip r:embed="rId2"/>
          <a:stretch/>
        </p:blipFill>
        <p:spPr>
          <a:xfrm>
            <a:off x="6804000" y="18900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33"/>
                </a:solidFill>
                <a:latin typeface="Monotype Corsiva"/>
              </a:rPr>
              <a:t>М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    Музей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храм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узей храма - в нем  хранятся святыни, среди них: ряса праведного Иоанна Кронштадтского, в одной из книг имеется подлинник его подпис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В музее собраны старые, требующие реставрации иконы, кресты, рукописные и печатные церковные книги; коллекции пасхальных яиц, самоваров, монет, редкие иконы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В экспозиции музея - Казанская икона Божией Матери, перед которой молились псковские партизаны в годы Великой Отечественной войны.  Псковскими рукодельницами подарены музею домотканые вышитые полотенца, скатерти, иконы, кружев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m1"/>
          <p:cNvPicPr/>
          <p:nvPr/>
        </p:nvPicPr>
        <p:blipFill>
          <a:blip r:embed="rId1"/>
          <a:stretch/>
        </p:blipFill>
        <p:spPr>
          <a:xfrm>
            <a:off x="1042920" y="1628640"/>
            <a:ext cx="2857680" cy="2133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m2"/>
          <p:cNvPicPr/>
          <p:nvPr/>
        </p:nvPicPr>
        <p:blipFill>
          <a:blip r:embed="rId2"/>
          <a:stretch/>
        </p:blipFill>
        <p:spPr>
          <a:xfrm>
            <a:off x="1116000" y="400536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4:58:18Z</dcterms:created>
  <dc:creator>Пользователь</dc:creator>
  <dc:description/>
  <dc:language>en-US</dc:language>
  <cp:lastModifiedBy>Геннадий</cp:lastModifiedBy>
  <dcterms:modified xsi:type="dcterms:W3CDTF">2020-05-22T06:32:42Z</dcterms:modified>
  <cp:revision>23</cp:revision>
  <dc:subject/>
  <dc:title>Воинский храм Александра Невского: от А до Я </dc:title>
</cp:coreProperties>
</file>