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3D0-ED02-482C-9B46-0A689548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B20-63E1-414E-A33B-6E5D02C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CA6-1428-49B5-BE33-152BC47C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0FB-C7E8-4C6C-B063-1155C489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2560-E9BE-42DA-8DC3-855CDFAE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E62C-19FD-4174-B13A-4B641614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63B-017F-47C6-B533-BA5FCF4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BD6E-F309-4451-9D27-7DDD28F4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4CE9-8691-4E7A-AF59-88EC3E11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681F-0F55-4EB3-93B0-347BBA0C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D5D7-B908-4303-B1B7-04009D7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F96-F7C5-414D-B176-8FF95535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FE74-2CBB-4EFD-BD90-99C6A56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3E3B-7D06-4808-9504-A240F672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176D-406C-42DB-AA8A-94AA2809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651E-63A8-4988-82C6-B11C48E1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A122-8187-4B4B-873C-56738E07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58A-6695-4113-A541-56136AA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EF2-5E47-44DE-86A8-42FD36AB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5EF-8788-4C5F-BDAF-CA1A1438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C58-D981-4663-832F-6273986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5D2-6787-4462-8856-A583E07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972-8CE8-4233-B2F4-E4F71486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CE5-CBD8-4F0F-8034-B15F9552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091-5354-4B76-8B84-3E7B175C14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1F08-1420-42DB-85CA-957F8D3051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Воинский храм Александра Невского: от 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А </a:t>
            </a:r>
            <a:r>
              <a:rPr b="1" lang="ru-RU" sz="4400" spc="-1" strike="noStrike">
                <a:solidFill>
                  <a:srgbClr val="006633"/>
                </a:solidFill>
                <a:latin typeface="Times New Roman"/>
              </a:rPr>
              <a:t>до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 Я</a:t>
            </a: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84360" y="3962520"/>
            <a:ext cx="6050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Стрельник Максим, детское объединение «Кривичи», ГБОУ ДО ПО «Дом детства и юношества «Радуга», 9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Руководитель: </a:t>
            </a: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Васильев Геннадий Ник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ram2"/>
          <p:cNvPicPr/>
          <p:nvPr/>
        </p:nvPicPr>
        <p:blipFill>
          <a:blip r:embed="rId1"/>
          <a:stretch/>
        </p:blipFill>
        <p:spPr>
          <a:xfrm>
            <a:off x="468360" y="3573360"/>
            <a:ext cx="1782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П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Престольный праздник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чается 12 сентября в День перенесения императором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щей Александра Невского из города Владимира в город Санкт – Петербург в 172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1"/>
          <p:cNvPicPr/>
          <p:nvPr/>
        </p:nvPicPr>
        <p:blipFill>
          <a:blip r:embed="rId1"/>
          <a:stretch/>
        </p:blipFill>
        <p:spPr>
          <a:xfrm>
            <a:off x="1116000" y="1268280"/>
            <a:ext cx="3171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С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, посвященные храму и Александру Невском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ександр – князь велики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лександр – князь великий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ит весь его наро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\го подвиги и бит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ждый знает до сих пор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ава этих битв вели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ж по всей земле прошла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умнейшего из княз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 сих пор глядит стр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ть, все войско шло за князе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него равнялась зн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го дар как полковод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раг Руси успел позн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ышим и читаем мног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на льду он победил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как шведа, и как немц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как всех он разгромил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влюков Александ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Дорога к Храму и Душ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ы с внучкой Олей к храму подошл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с трепетом в святилище вошл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 девочки - большие изумленные глаза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ще чуть-чуть, и в них появится слеза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 верится, что храму - сотня лет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он - свидетель многих слез и бе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д сводами его живет и радость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неразрывны молодость и старость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ю ладонь, сжвмвет крепко рученька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а это ж ты единственная внученьк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ак изумляет храма выш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 голосе отца Олега - глубин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ы веришь в общую людскую суть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торой нам себя не обмануть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уша вселенская, как зеркало, разбилась –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ы лишь осколок, и что в нем отразилось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 калейдоскопе только несколько зеркал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о мир его загадочный - не ма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ерю я, что все богатства мира - у теб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ь рвешься ты понять и высказать себ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верю, внученька, Всевышний любит и тебя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ь не отнял ни веры, ни огн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н к храму нас с тобой приве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И души к святости возвел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Емельянова С.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Т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Тэо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Олег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аздник, посвященный А. Невскому в детском саду школы-интерната г. Пск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90792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оиерей Олег Тэор, настоятель храма святого благоверного князя Александра Невского - рукоположен Олег Тэор был в 1970 году, Начинал служить в Троицком Соборе и в Дновском районе (село Бел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IMG_8348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2450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G_8305"/>
          <p:cNvPicPr/>
          <p:nvPr/>
        </p:nvPicPr>
        <p:blipFill>
          <a:blip r:embed="rId2"/>
          <a:stretch/>
        </p:blipFill>
        <p:spPr>
          <a:xfrm>
            <a:off x="5076720" y="3645000"/>
            <a:ext cx="3349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Ф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Фотогалере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огибших воинов – десантник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ографические сведения и фотографии воинов в храме собирались долгие годы не только в Пскове, но и во многих городах страны. Многие фотографии пришлось корректировать с помощью компьютерного оборудования уже в Псков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т из синодика. Десантники 6 р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28576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Х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Хр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святого благоверного великого князя Александра Невского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того благоверного великого князя Александра Невского славного 96 – го Омского полка был выстроен за 14 месяцев и освящен 4 октября 1908 года. Разработать типовой проект полковой церкви было поручено Фёдору Михайловичу Вержбицком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Загрузить увеличенное изображение. 934 x 700 px. Размер файла 272816 b.&#10; Воинский храм благоверного великого князя Александра Невского "/>
          <p:cNvPicPr/>
          <p:nvPr/>
        </p:nvPicPr>
        <p:blipFill>
          <a:blip r:embed="rId1"/>
          <a:stretch/>
        </p:blipFill>
        <p:spPr>
          <a:xfrm>
            <a:off x="755640" y="2349360"/>
            <a:ext cx="3562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Ц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Царь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Николай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рам Александра Невского связан с именами российского Императора Николая II. Среди книг библиотеки храма имеется книга Ветхого Завета с собственноручными пометками Николая I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Э.К. Липгарт. Портрет императора Николая II. Россия, 1900-1913 годы."/>
          <p:cNvPicPr/>
          <p:nvPr/>
        </p:nvPicPr>
        <p:blipFill>
          <a:blip r:embed="rId1"/>
          <a:stretch/>
        </p:blipFill>
        <p:spPr>
          <a:xfrm>
            <a:off x="1174680" y="1413000"/>
            <a:ext cx="3009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Ю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Юбиле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няя годовщина создания храма Невского в Пскове отмечалась 6 декабря 2008 года. В этот день состоялся молебен, концерт и церемония присвоения почетного звания имени Александра Невского образовательным учреждениям области - школам,  классам, отрядам, библиотекам, которые приняли активное участие в юбилейных мероприятиях в честь столетия х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38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Я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Я______ (Имя слушателя, участника предстоящих юбилейных                 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              событий  (110-летия храма) </a:t>
            </a:r>
            <a:br>
              <a:rPr sz="20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 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4" descr="C:\Users\Геннадий\Desktop\Фото0002.jpg"/>
          <p:cNvPicPr/>
          <p:nvPr/>
        </p:nvPicPr>
        <p:blipFill>
          <a:blip r:embed="rId1"/>
          <a:stretch/>
        </p:blipFill>
        <p:spPr>
          <a:xfrm>
            <a:off x="2411280" y="191628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4"/>
          <p:cNvSpPr/>
          <p:nvPr/>
        </p:nvSpPr>
        <p:spPr>
          <a:xfrm>
            <a:off x="2268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щиеся 3 класса школы-интерната г. Пскова сдают Иванову Роману письменные отзывы о проведенной бесе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спользуем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Навстречу славному юбилею: 100 лет воинскому храму Александра Невского в г. Пскове (из опыта работы Псковской общеобразовательной школы-интерната) –Псков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окровский Д.Л., Словарь церковных терминов, -М.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pskovtemple.ru/day/library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orfey.net/attractions/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images.yandex.ru/yand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google.ru/img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days.pravoslavie.ru/Life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pravoslavie.ru/put/28564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257243197_cerk"/>
          <p:cNvPicPr/>
          <p:nvPr/>
        </p:nvPicPr>
        <p:blipFill>
          <a:blip r:embed="rId1"/>
          <a:stretch/>
        </p:blipFill>
        <p:spPr>
          <a:xfrm>
            <a:off x="7777080" y="333360"/>
            <a:ext cx="9860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ОНЕЦ))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403280" y="3141720"/>
            <a:ext cx="67280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aettenschweiler"/>
              </a:rPr>
              <a:t>СПАСИБО ЗА 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aettenschweiler"/>
              <a:ea typeface="Haettenschweiler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453080" y="6234840"/>
            <a:ext cx="7164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loucester MT Extra Condensed"/>
              </a:rPr>
              <a:t>;-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loucester MT Extra Condensed"/>
              <a:ea typeface="Gloucester MT Extra Condensed"/>
            </a:endParaRPr>
          </a:p>
        </p:txBody>
      </p:sp>
      <p:sp>
        <p:nvSpPr>
          <p:cNvPr id="157" name="WordArt 6"/>
          <p:cNvSpPr txBox="1"/>
          <p:nvPr/>
        </p:nvSpPr>
        <p:spPr>
          <a:xfrm rot="5121600">
            <a:off x="6966360" y="2475360"/>
            <a:ext cx="111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loucester MT Extra Condensed"/>
              </a:rPr>
              <a:t>:-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loucester MT Extra Condensed"/>
              <a:ea typeface="Gloucester MT Extra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А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Александ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Невски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кона Св. А. Невск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 Ярославич Невский (1220-1263) - новгородский князь, великий русский полководец выдающийся государственный и политический дея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Невский, возглавивший борьбу против иноземных захватчиков, одержал со своим войском победу над шведской армией в битве на реке Нева (1240 г.) и над немецкими рыцарями на Чудском озере (1242 г.). В 1252 году стал Великим князем Владимирским. Русская православная церковь причислила его к лику св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ikona"/>
          <p:cNvPicPr/>
          <p:nvPr/>
        </p:nvPicPr>
        <p:blipFill>
          <a:blip r:embed="rId1"/>
          <a:stretch/>
        </p:blipFill>
        <p:spPr>
          <a:xfrm>
            <a:off x="1187280" y="1268280"/>
            <a:ext cx="28576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Б</a:t>
            </a:r>
            <a:r>
              <a:rPr b="1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Библиотек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читывает свыше 23000 книг. Имеются книги по богослужению, богословским наукам, библии разных изданий, жития святых, книги по истории церкви, краеведческая литература. Самые старые книги богослужебные, датируемые XVII и XVIII веками. Специальный раздел посвящен житию святого благоверного князя Александра Невского, житиям псковских св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книг: Житие Никандра Псковского датируется 1801 г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l1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l3"/>
          <p:cNvPicPr/>
          <p:nvPr/>
        </p:nvPicPr>
        <p:blipFill>
          <a:blip r:embed="rId2"/>
          <a:stretch/>
        </p:blipFill>
        <p:spPr>
          <a:xfrm>
            <a:off x="1042920" y="3789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В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Выбуты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дина святой великой княгини Ольги. Выбуты находятся на левом берегу реки Великой. На берегу стоит старинный храм Илии Пророка, построенный в XV веке псковскими мастерами. В былые времена рядом с Ильинским храмом был 2-х этажный Ольгинский храм, от которого сохранились лишь руи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 благословению Архиепископа Псковского и Великолукского Евсевия с 1999 года Настоятель храма святого Александра Невского является одновременно и Настоятелем храма святого Илии Пророка в погосте Выбуты. Там же воины-десантники Псковской дивизии построили своими руками храм святителя Николая Чудотворц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q"/>
          <p:cNvPicPr/>
          <p:nvPr/>
        </p:nvPicPr>
        <p:blipFill>
          <a:blip r:embed="rId1"/>
          <a:stretch/>
        </p:blipFill>
        <p:spPr>
          <a:xfrm>
            <a:off x="611280" y="1916280"/>
            <a:ext cx="40384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Monotype Corsiva"/>
              </a:rPr>
              <a:t>Д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Даты памятны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(по новому стилю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3 марта - возобновление богослужения в 199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5 марта - Державной иконы Божией Матери (невдалеке от храма часовня - памятник в честь погибших воинов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8 апреля - День воинской славы России, победа на Чудском озере (Ледовое побоище, 1242 г.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 июня - День рождения св. Александра Невског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8 июля - память святого равноапостольного князя Владимира (невдалеке от храма проходила Княжевладимирская улица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8 августа (Успение Пресвятой Богородицы) - Сурдегской иконы Божией Матер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 сентября - перенесение мощей святого Александра Невского из г. Владимира в Санкт-Петербург - главный престольный праздник храм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7 октября - освящение храма в 1908 год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6 декабря - память святого благоверного великого князя Александра Невског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2 декабря - иконы Божией Матери «Нечаянная Радость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Ж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Житие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Александра Невског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Житие Александра Невского», написанное вскоре после смерти князя, создает идеальный образ правителя, защитника своего отечества от военных и идеологических посягательств внешних враг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вская битва. Миниатюра из Жития Александра Нев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IMAGE"/>
          <p:cNvPicPr/>
          <p:nvPr/>
        </p:nvPicPr>
        <p:blipFill>
          <a:blip r:embed="rId1"/>
          <a:stretch/>
        </p:blipFill>
        <p:spPr>
          <a:xfrm>
            <a:off x="730080" y="1341360"/>
            <a:ext cx="3646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И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 Иконостас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ра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в храме А. Невск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оностас храму Св. А. Невского подарен Святейшим патриархом Алек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ы его - художники из Палеха, лауреаты Государственной премии Российской Федерации: Кукулиевы, Адеянов, Бушков, Макаш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ументальная работа состоит из 7 икон, обрамленных деревянной резьбой из лип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image063"/>
          <p:cNvPicPr/>
          <p:nvPr/>
        </p:nvPicPr>
        <p:blipFill>
          <a:blip r:embed="rId1"/>
          <a:stretch/>
        </p:blipFill>
        <p:spPr>
          <a:xfrm>
            <a:off x="684360" y="1989000"/>
            <a:ext cx="376380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К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Колокол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1917 года впервые в России главой государства были подарены церкви колокола. На главном из них изображены герб России, святой Александр Невский и надпись "Колокол отлит в Каменске-Уральском товариществом "Пятков и К°" в лето 1995 от Рождества Христова в честь 775-летия святого благоверного князя Александра Невского и передан в дар храму града Пскова первым президентом России Борисом Ельцины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S100581"/>
          <p:cNvPicPr/>
          <p:nvPr/>
        </p:nvPicPr>
        <p:blipFill>
          <a:blip r:embed="rId1"/>
          <a:stretch/>
        </p:blipFill>
        <p:spPr>
          <a:xfrm>
            <a:off x="900000" y="162864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"/>
          <p:cNvPicPr/>
          <p:nvPr/>
        </p:nvPicPr>
        <p:blipFill>
          <a:blip r:embed="rId2"/>
          <a:stretch/>
        </p:blipFill>
        <p:spPr>
          <a:xfrm>
            <a:off x="6804000" y="1890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33"/>
                </a:solidFill>
                <a:latin typeface="Monotype Corsiva"/>
              </a:rPr>
              <a:t>М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 Музей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хра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узей храма - в нем  хранятся святыни, среди них: ряса праведного Иоанна Кронштадтского, в одной из книг имеется подлинник его подпис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музее собраны старые, требующие реставрации иконы, кресты, рукописные и печатные церковные книги; коллекции пасхальных яиц, самоваров, монет, редкие икон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экспозиции музея - Казанская икона Божией Матери, перед которой молились псковские партизаны в годы Великой Отечественной войны.  Псковскими рукодельницами подарены музею домотканые вышитые полотенца, скатерти, иконы, круже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m1"/>
          <p:cNvPicPr/>
          <p:nvPr/>
        </p:nvPicPr>
        <p:blipFill>
          <a:blip r:embed="rId1"/>
          <a:stretch/>
        </p:blipFill>
        <p:spPr>
          <a:xfrm>
            <a:off x="1042920" y="162864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m2"/>
          <p:cNvPicPr/>
          <p:nvPr/>
        </p:nvPicPr>
        <p:blipFill>
          <a:blip r:embed="rId2"/>
          <a:stretch/>
        </p:blipFill>
        <p:spPr>
          <a:xfrm>
            <a:off x="111600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4:58:18Z</dcterms:created>
  <dc:creator>Пользователь</dc:creator>
  <dc:description/>
  <dc:language>en-US</dc:language>
  <cp:lastModifiedBy>Геннадий</cp:lastModifiedBy>
  <dcterms:modified xsi:type="dcterms:W3CDTF">2020-05-22T06:32:42Z</dcterms:modified>
  <cp:revision>23</cp:revision>
  <dc:subject/>
  <dc:title>Воинский храм Александра Невского: от А до Я </dc:title>
</cp:coreProperties>
</file>