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16120" y="1142640"/>
            <a:ext cx="52257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34D5-4013-442D-AA8C-FF30246100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C8FA-577D-4A4B-A302-62DE8F16B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9749-943D-4D7F-8ABE-951FC04CE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C021-E431-42E1-8CEF-E05F7F20E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78EE-F792-4B17-B03C-FB1CBAAD5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A7B-2895-411B-8866-FC1794E4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080-6095-41B6-B9FD-17A472C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D68-56E4-4661-B107-1422F6BB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8B8-F912-4FF3-A306-326530AC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B238-D935-40A0-8E75-86E1C33C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7CCB-CB59-4B7B-BA3C-CAC1BF9B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536C-987C-41A0-B665-B56B8919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995E-5EA9-452C-8BA5-5D6B0CA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9790-1181-4A89-AE86-E8D0AEE7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5C1B-EAE6-410C-8ED6-4A231F6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D7CA-50DA-4670-8086-8B286733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9E8-2AB0-49C5-9E36-95200D3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FC18-3ED6-4087-AADF-1C7EBE4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A92D-1BB2-46B0-8597-F5502F60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D4AB-BA28-4189-A931-0253FE3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60DF-3353-435E-BDA2-555011AC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C80C-4503-4676-AF7E-DB33FAF7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98B7-D239-4458-A022-D9352BEC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FD38D-1432-4569-A770-C6AC1103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4653-B32B-4980-BFC7-EAA578A8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63E3-63A4-4A78-9FDC-A78F97A2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2777-E149-4783-B191-AEFE95A0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AF3-916A-4176-8AE2-1A490332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8395-B887-4EF7-A231-8C4773BA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19F4-1FBB-4BCF-99B7-20A6062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EB3F-3D83-4B27-BBF8-0898304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CFFD-7BE6-4A3F-A8BD-8214901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92BF-23B6-445E-ABE4-0FD55425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C1B3-3290-4DB2-A14A-9501CE70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7BE2-F601-48F2-81FB-1ADBA486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5FA-5000-48DE-A0A0-D63EF0D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283-EBED-4ABA-856C-902FF514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488-C1BF-4208-AA42-A0B8032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BB0-EC75-4CCE-B144-693C688B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429-4504-4B18-9CF9-AE373D9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9EC-6296-4406-A0D8-00127B57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1A64-7EEF-455F-87EA-EAB2D3868D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6094-861C-407A-AF41-4C6B062280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A57F-09E5-4D7C-BB36-BF9C8A25AD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shagazeta.ch/sites/default/files/2012-03-12_12502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01.olx.ru/ui/4/31/86/68922586_1---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нтидопинговое обеспечение физической культуры и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8920" y="3059280"/>
            <a:ext cx="87138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179280" y="3059280"/>
            <a:ext cx="87138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Заголовок 1"/>
          <p:cNvSpPr/>
          <p:nvPr/>
        </p:nvSpPr>
        <p:spPr>
          <a:xfrm>
            <a:off x="971640" y="210960"/>
            <a:ext cx="7572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ерапевтическое 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341280" y="900000"/>
            <a:ext cx="87152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8c93"/>
                </a:solidFill>
                <a:latin typeface="Arial Black"/>
                <a:ea typeface="Times New Roman"/>
              </a:rPr>
              <a:t>Критерии получения разрешения на 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апрещенная субстанция или метод необходимы для лечения острого или хронического заболевания, и, что неприменение данной запрещенной субстанции или метода приведет к значительному ухудшению состояния здоровья спортс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Т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ерапевтическое использование запрещенной субстанции или метода крайне маловероятно может привести к дополнительному улучшению спортивного 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Black"/>
              </a:rPr>
              <a:t>Отсутствие разумной терапевтической альтерн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еобходимость использования запрещенной субстанции или метода не является следствием предыдущего использования (без ТИ) субстанции или метода, запрещенных на момент их исполь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Сроки подачи за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0000"/>
            <a:ext cx="89280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1) Запрос на ТИ следует подавать не менее чем за 30 дней до начала соревнования, если речь не идет об экстренной или исключительной ситу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2) Если ГКС применялся </a:t>
            </a: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внутривенно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– запрос следует подавать за 14 дней с момента последнего применения ГКС до начала соревн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3) Если ГКС применялся </a:t>
            </a: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внутримышечно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– запрос следует подавать за 30 дней с момента последнего применения ГКС до начала соревн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Заголовок 1"/>
          <p:cNvSpPr/>
          <p:nvPr/>
        </p:nvSpPr>
        <p:spPr>
          <a:xfrm>
            <a:off x="1332000" y="317520"/>
            <a:ext cx="68515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Типичные ошибки при оформлении запросов на 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406440" y="898560"/>
            <a:ext cx="85694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брежное заполнение бланка запроса (неполный диагноз, отсутствие необходимых подписей или персональных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сутствие документов, подтверждающих диагноз (протоколы исследований, графики, например петля поток-объем при аст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правление запроса на использование субстанций, не требующих разрешения на ТИ (например, внутрисуставное введение ГКС, использование сальбутамола, формотерола и сальметерола в разрешенных дозировках, использование ингаляционных ГКС при астме, использование противозачаточ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ществование незапрещенной альтерн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0" y="57456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 Black"/>
              </a:rPr>
              <a:t>Обнаружение доп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Обнаружение допинга грозит спортсмену суровыми наказаниями, вплоть до полного отлучения от 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При первом выявлении запрещенных средств (за исключением симпатомиметических препаратов, таких как эфедрин и его производные) он дисквалифицируется на 2 года, при повторном – пожизн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В случае приема симпатомиметиков в первый раз – дисквалификация на 6 месяцев, во второй на 2 года, в третий – пожизн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При этом наказанию подвергается также тренер и врач, наблюдавший за спортсме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3080" y="0"/>
            <a:ext cx="719784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 Black"/>
                <a:ea typeface="Calibri"/>
              </a:rPr>
              <a:t>ВОЗМОЖНЫЕ САН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1511280" y="942840"/>
            <a:ext cx="59626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br>
              <a:rPr sz="2200"/>
            </a:b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1511280" y="658800"/>
            <a:ext cx="59626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793880" y="4003560"/>
            <a:ext cx="1190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1284120" y="4740120"/>
            <a:ext cx="65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d4dd"/>
                </a:solidFill>
                <a:latin typeface="Arial"/>
              </a:rPr>
              <a:t>П. 9.1 ОАП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Автоматическое аннулирование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601560"/>
          <a:ext cx="8642160" cy="4083120"/>
        </p:xfrm>
        <a:graphic>
          <a:graphicData uri="http://schemas.openxmlformats.org/drawingml/2006/table">
            <a:tbl>
              <a:tblPr/>
              <a:tblGrid>
                <a:gridCol w="5951520"/>
                <a:gridCol w="2690640"/>
              </a:tblGrid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тандартная сан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 в пробе запрещенной субста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5270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спользование или попытка использования запрещенной субстанции или мет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лонение, отказ или неявка на процедуру сдачи пр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525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рушение порядка предоставления информации о местонахожд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2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альсификация или попытка фаль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ладание запрещенной субстанции или мет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84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спространение или попытка распростран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2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начение или попытка на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оуча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2 до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прещенное сотрудн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bject 2"/>
          <p:cNvSpPr/>
          <p:nvPr/>
        </p:nvSpPr>
        <p:spPr>
          <a:xfrm>
            <a:off x="1117440" y="146160"/>
            <a:ext cx="561528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t">
            <a:spAutoFit/>
          </a:bodyPr>
          <a:p>
            <a:pPr marL="9360"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 Black"/>
                <a:ea typeface="Microsoft YaHei"/>
              </a:rPr>
              <a:t>Процедура прохождения допинг-контроля</a:t>
            </a:r>
            <a:r>
              <a:rPr b="0" lang="ru-RU" sz="1500" spc="-1" strike="noStrike">
                <a:solidFill>
                  <a:srgbClr val="44536a"/>
                </a:solidFill>
                <a:latin typeface="Calibri"/>
                <a:ea typeface="Microsoft YaHe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3"/>
          <p:cNvSpPr/>
          <p:nvPr/>
        </p:nvSpPr>
        <p:spPr>
          <a:xfrm>
            <a:off x="111744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1903221" y="0"/>
                </a:moveTo>
                <a:lnTo>
                  <a:pt x="88645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5" y="886967"/>
                </a:lnTo>
                <a:lnTo>
                  <a:pt x="1903221" y="886967"/>
                </a:lnTo>
                <a:lnTo>
                  <a:pt x="1937700" y="879992"/>
                </a:lnTo>
                <a:lnTo>
                  <a:pt x="1965880" y="860980"/>
                </a:lnTo>
                <a:lnTo>
                  <a:pt x="1984892" y="832800"/>
                </a:lnTo>
                <a:lnTo>
                  <a:pt x="1991868" y="798321"/>
                </a:lnTo>
                <a:lnTo>
                  <a:pt x="1991868" y="88645"/>
                </a:lnTo>
                <a:lnTo>
                  <a:pt x="1984892" y="54167"/>
                </a:lnTo>
                <a:lnTo>
                  <a:pt x="1965880" y="25987"/>
                </a:lnTo>
                <a:lnTo>
                  <a:pt x="1937700" y="6975"/>
                </a:lnTo>
                <a:lnTo>
                  <a:pt x="1903221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4"/>
          <p:cNvSpPr/>
          <p:nvPr/>
        </p:nvSpPr>
        <p:spPr>
          <a:xfrm>
            <a:off x="111744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5" y="0"/>
                </a:lnTo>
                <a:lnTo>
                  <a:pt x="1903221" y="0"/>
                </a:lnTo>
                <a:lnTo>
                  <a:pt x="1937700" y="6975"/>
                </a:lnTo>
                <a:lnTo>
                  <a:pt x="1965880" y="25987"/>
                </a:lnTo>
                <a:lnTo>
                  <a:pt x="1984892" y="54167"/>
                </a:lnTo>
                <a:lnTo>
                  <a:pt x="1991868" y="88645"/>
                </a:lnTo>
                <a:lnTo>
                  <a:pt x="1991868" y="798321"/>
                </a:lnTo>
                <a:lnTo>
                  <a:pt x="1984892" y="832800"/>
                </a:lnTo>
                <a:lnTo>
                  <a:pt x="1965880" y="860980"/>
                </a:lnTo>
                <a:lnTo>
                  <a:pt x="1937700" y="879992"/>
                </a:lnTo>
                <a:lnTo>
                  <a:pt x="1903221" y="886967"/>
                </a:lnTo>
                <a:lnTo>
                  <a:pt x="88645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5"/>
          <p:cNvSpPr/>
          <p:nvPr/>
        </p:nvSpPr>
        <p:spPr>
          <a:xfrm>
            <a:off x="1192320" y="857160"/>
            <a:ext cx="1006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Уведомление спортсме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6"/>
          <p:cNvSpPr/>
          <p:nvPr/>
        </p:nvSpPr>
        <p:spPr>
          <a:xfrm>
            <a:off x="1425600" y="1349280"/>
            <a:ext cx="15685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5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6"/>
                </a:lnTo>
                <a:lnTo>
                  <a:pt x="0" y="1484122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5" y="1648968"/>
                </a:lnTo>
                <a:lnTo>
                  <a:pt x="1827022" y="1648968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7" y="1484122"/>
                </a:lnTo>
                <a:lnTo>
                  <a:pt x="1991867" y="164846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7"/>
          <p:cNvSpPr/>
          <p:nvPr/>
        </p:nvSpPr>
        <p:spPr>
          <a:xfrm>
            <a:off x="1425600" y="1349280"/>
            <a:ext cx="15685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6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5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7" y="164846"/>
                </a:lnTo>
                <a:lnTo>
                  <a:pt x="1991867" y="1484122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8"/>
                </a:lnTo>
                <a:lnTo>
                  <a:pt x="164845" y="1648968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2"/>
                </a:lnTo>
                <a:lnTo>
                  <a:pt x="0" y="164846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8"/>
          <p:cNvSpPr/>
          <p:nvPr/>
        </p:nvSpPr>
        <p:spPr>
          <a:xfrm>
            <a:off x="1538280" y="1436760"/>
            <a:ext cx="982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98280" indent="-88920">
              <a:lnSpc>
                <a:spcPts val="1349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ава 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49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обяза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отсроч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9"/>
          <p:cNvSpPr/>
          <p:nvPr/>
        </p:nvSpPr>
        <p:spPr>
          <a:xfrm>
            <a:off x="2924280" y="846000"/>
            <a:ext cx="50328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392429" y="0"/>
                </a:moveTo>
                <a:lnTo>
                  <a:pt x="392429" y="99060"/>
                </a:lnTo>
                <a:lnTo>
                  <a:pt x="0" y="99060"/>
                </a:lnTo>
                <a:lnTo>
                  <a:pt x="0" y="396239"/>
                </a:lnTo>
                <a:lnTo>
                  <a:pt x="392429" y="396239"/>
                </a:lnTo>
                <a:lnTo>
                  <a:pt x="392429" y="495300"/>
                </a:lnTo>
                <a:lnTo>
                  <a:pt x="640079" y="247650"/>
                </a:lnTo>
                <a:lnTo>
                  <a:pt x="392429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0"/>
          <p:cNvSpPr/>
          <p:nvPr/>
        </p:nvSpPr>
        <p:spPr>
          <a:xfrm>
            <a:off x="2924280" y="846000"/>
            <a:ext cx="50328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0" y="99060"/>
                </a:moveTo>
                <a:lnTo>
                  <a:pt x="392429" y="99060"/>
                </a:lnTo>
                <a:lnTo>
                  <a:pt x="392429" y="0"/>
                </a:lnTo>
                <a:lnTo>
                  <a:pt x="640079" y="247650"/>
                </a:lnTo>
                <a:lnTo>
                  <a:pt x="392429" y="495300"/>
                </a:lnTo>
                <a:lnTo>
                  <a:pt x="392429" y="396239"/>
                </a:lnTo>
                <a:lnTo>
                  <a:pt x="0" y="396239"/>
                </a:lnTo>
                <a:lnTo>
                  <a:pt x="0" y="99060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11"/>
          <p:cNvSpPr/>
          <p:nvPr/>
        </p:nvSpPr>
        <p:spPr>
          <a:xfrm>
            <a:off x="363528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1903221" y="0"/>
                </a:moveTo>
                <a:lnTo>
                  <a:pt x="88645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5" y="886967"/>
                </a:lnTo>
                <a:lnTo>
                  <a:pt x="1903221" y="886967"/>
                </a:lnTo>
                <a:lnTo>
                  <a:pt x="1937700" y="879992"/>
                </a:lnTo>
                <a:lnTo>
                  <a:pt x="1965880" y="860980"/>
                </a:lnTo>
                <a:lnTo>
                  <a:pt x="1984892" y="832800"/>
                </a:lnTo>
                <a:lnTo>
                  <a:pt x="1991867" y="798321"/>
                </a:lnTo>
                <a:lnTo>
                  <a:pt x="1991867" y="88645"/>
                </a:lnTo>
                <a:lnTo>
                  <a:pt x="1984892" y="54167"/>
                </a:lnTo>
                <a:lnTo>
                  <a:pt x="1965880" y="25987"/>
                </a:lnTo>
                <a:lnTo>
                  <a:pt x="1937700" y="6975"/>
                </a:lnTo>
                <a:lnTo>
                  <a:pt x="1903221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2"/>
          <p:cNvSpPr/>
          <p:nvPr/>
        </p:nvSpPr>
        <p:spPr>
          <a:xfrm>
            <a:off x="363528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5" y="0"/>
                </a:lnTo>
                <a:lnTo>
                  <a:pt x="1903221" y="0"/>
                </a:lnTo>
                <a:lnTo>
                  <a:pt x="1937700" y="6975"/>
                </a:lnTo>
                <a:lnTo>
                  <a:pt x="1965880" y="25987"/>
                </a:lnTo>
                <a:lnTo>
                  <a:pt x="1984892" y="54167"/>
                </a:lnTo>
                <a:lnTo>
                  <a:pt x="1991867" y="88645"/>
                </a:lnTo>
                <a:lnTo>
                  <a:pt x="1991867" y="798321"/>
                </a:lnTo>
                <a:lnTo>
                  <a:pt x="1984892" y="832800"/>
                </a:lnTo>
                <a:lnTo>
                  <a:pt x="1965880" y="860980"/>
                </a:lnTo>
                <a:lnTo>
                  <a:pt x="1937700" y="879992"/>
                </a:lnTo>
                <a:lnTo>
                  <a:pt x="1903221" y="886967"/>
                </a:lnTo>
                <a:lnTo>
                  <a:pt x="88645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3"/>
          <p:cNvSpPr/>
          <p:nvPr/>
        </p:nvSpPr>
        <p:spPr>
          <a:xfrm>
            <a:off x="3711600" y="857160"/>
            <a:ext cx="1046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ункт допинг контро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14"/>
          <p:cNvSpPr/>
          <p:nvPr/>
        </p:nvSpPr>
        <p:spPr>
          <a:xfrm>
            <a:off x="3975120" y="1347840"/>
            <a:ext cx="15667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6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5"/>
                </a:lnTo>
                <a:lnTo>
                  <a:pt x="0" y="1484121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6" y="1648967"/>
                </a:lnTo>
                <a:lnTo>
                  <a:pt x="1827022" y="1648967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8" y="1484121"/>
                </a:lnTo>
                <a:lnTo>
                  <a:pt x="1991868" y="164845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15"/>
          <p:cNvSpPr/>
          <p:nvPr/>
        </p:nvSpPr>
        <p:spPr>
          <a:xfrm>
            <a:off x="3975120" y="1347840"/>
            <a:ext cx="15667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5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6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8" y="164845"/>
                </a:lnTo>
                <a:lnTo>
                  <a:pt x="1991868" y="1484121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7"/>
                </a:lnTo>
                <a:lnTo>
                  <a:pt x="164846" y="1648967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1"/>
                </a:lnTo>
                <a:lnTo>
                  <a:pt x="0" y="164845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16"/>
          <p:cNvSpPr/>
          <p:nvPr/>
        </p:nvSpPr>
        <p:spPr>
          <a:xfrm>
            <a:off x="4086360" y="1436760"/>
            <a:ext cx="112212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8280" indent="-88920">
              <a:lnSpc>
                <a:spcPts val="1287"/>
              </a:lnSpc>
              <a:spcBef>
                <a:spcPts val="22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авила пове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нахождение д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оконч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оцеду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17"/>
          <p:cNvSpPr/>
          <p:nvPr/>
        </p:nvSpPr>
        <p:spPr>
          <a:xfrm>
            <a:off x="5442120" y="846000"/>
            <a:ext cx="50292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392429" y="0"/>
                </a:moveTo>
                <a:lnTo>
                  <a:pt x="392429" y="99060"/>
                </a:lnTo>
                <a:lnTo>
                  <a:pt x="0" y="99060"/>
                </a:lnTo>
                <a:lnTo>
                  <a:pt x="0" y="396239"/>
                </a:lnTo>
                <a:lnTo>
                  <a:pt x="392429" y="396239"/>
                </a:lnTo>
                <a:lnTo>
                  <a:pt x="392429" y="495300"/>
                </a:lnTo>
                <a:lnTo>
                  <a:pt x="640079" y="247650"/>
                </a:lnTo>
                <a:lnTo>
                  <a:pt x="392429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8"/>
          <p:cNvSpPr/>
          <p:nvPr/>
        </p:nvSpPr>
        <p:spPr>
          <a:xfrm>
            <a:off x="5442120" y="846000"/>
            <a:ext cx="50292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0" y="99060"/>
                </a:moveTo>
                <a:lnTo>
                  <a:pt x="392429" y="99060"/>
                </a:lnTo>
                <a:lnTo>
                  <a:pt x="392429" y="0"/>
                </a:lnTo>
                <a:lnTo>
                  <a:pt x="640079" y="247650"/>
                </a:lnTo>
                <a:lnTo>
                  <a:pt x="392429" y="495300"/>
                </a:lnTo>
                <a:lnTo>
                  <a:pt x="392429" y="396239"/>
                </a:lnTo>
                <a:lnTo>
                  <a:pt x="0" y="396239"/>
                </a:lnTo>
                <a:lnTo>
                  <a:pt x="0" y="99060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19"/>
          <p:cNvSpPr/>
          <p:nvPr/>
        </p:nvSpPr>
        <p:spPr>
          <a:xfrm>
            <a:off x="6156360" y="806400"/>
            <a:ext cx="1566720" cy="698400"/>
          </a:xfrm>
          <a:custGeom>
            <a:avLst/>
            <a:gdLst/>
            <a:ahLst/>
            <a:rect l="l" t="t" r="r" b="b"/>
            <a:pathLst>
              <a:path w="1990725" h="887095">
                <a:moveTo>
                  <a:pt x="1901698" y="0"/>
                </a:moveTo>
                <a:lnTo>
                  <a:pt x="88646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6" y="886967"/>
                </a:lnTo>
                <a:lnTo>
                  <a:pt x="1901698" y="886967"/>
                </a:lnTo>
                <a:lnTo>
                  <a:pt x="1936176" y="879992"/>
                </a:lnTo>
                <a:lnTo>
                  <a:pt x="1964356" y="860980"/>
                </a:lnTo>
                <a:lnTo>
                  <a:pt x="1983368" y="832800"/>
                </a:lnTo>
                <a:lnTo>
                  <a:pt x="1990344" y="798321"/>
                </a:lnTo>
                <a:lnTo>
                  <a:pt x="1990344" y="88645"/>
                </a:lnTo>
                <a:lnTo>
                  <a:pt x="1983368" y="54167"/>
                </a:lnTo>
                <a:lnTo>
                  <a:pt x="1964356" y="25987"/>
                </a:lnTo>
                <a:lnTo>
                  <a:pt x="1936176" y="6975"/>
                </a:lnTo>
                <a:lnTo>
                  <a:pt x="1901698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20"/>
          <p:cNvSpPr/>
          <p:nvPr/>
        </p:nvSpPr>
        <p:spPr>
          <a:xfrm>
            <a:off x="6156360" y="806400"/>
            <a:ext cx="1566720" cy="698400"/>
          </a:xfrm>
          <a:custGeom>
            <a:avLst/>
            <a:gdLst/>
            <a:ahLst/>
            <a:rect l="l" t="t" r="r" b="b"/>
            <a:pathLst>
              <a:path w="199072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6" y="0"/>
                </a:lnTo>
                <a:lnTo>
                  <a:pt x="1901698" y="0"/>
                </a:lnTo>
                <a:lnTo>
                  <a:pt x="1936176" y="6975"/>
                </a:lnTo>
                <a:lnTo>
                  <a:pt x="1964356" y="25987"/>
                </a:lnTo>
                <a:lnTo>
                  <a:pt x="1983368" y="54167"/>
                </a:lnTo>
                <a:lnTo>
                  <a:pt x="1990344" y="88645"/>
                </a:lnTo>
                <a:lnTo>
                  <a:pt x="1990344" y="798321"/>
                </a:lnTo>
                <a:lnTo>
                  <a:pt x="1983368" y="832800"/>
                </a:lnTo>
                <a:lnTo>
                  <a:pt x="1964356" y="860980"/>
                </a:lnTo>
                <a:lnTo>
                  <a:pt x="1936176" y="879992"/>
                </a:lnTo>
                <a:lnTo>
                  <a:pt x="1901698" y="886967"/>
                </a:lnTo>
                <a:lnTo>
                  <a:pt x="88646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21"/>
          <p:cNvSpPr/>
          <p:nvPr/>
        </p:nvSpPr>
        <p:spPr>
          <a:xfrm>
            <a:off x="6229440" y="857160"/>
            <a:ext cx="1377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оцедура отбора проб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22"/>
          <p:cNvSpPr/>
          <p:nvPr/>
        </p:nvSpPr>
        <p:spPr>
          <a:xfrm>
            <a:off x="6461280" y="1347840"/>
            <a:ext cx="156816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6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5"/>
                </a:lnTo>
                <a:lnTo>
                  <a:pt x="0" y="1484121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6" y="1648967"/>
                </a:lnTo>
                <a:lnTo>
                  <a:pt x="1827022" y="1648967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8" y="1484121"/>
                </a:lnTo>
                <a:lnTo>
                  <a:pt x="1991868" y="164845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23"/>
          <p:cNvSpPr/>
          <p:nvPr/>
        </p:nvSpPr>
        <p:spPr>
          <a:xfrm>
            <a:off x="6461280" y="1347840"/>
            <a:ext cx="156816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5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6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8" y="164845"/>
                </a:lnTo>
                <a:lnTo>
                  <a:pt x="1991868" y="1484121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7"/>
                </a:lnTo>
                <a:lnTo>
                  <a:pt x="164846" y="1648967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1"/>
                </a:lnTo>
                <a:lnTo>
                  <a:pt x="0" y="164845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24"/>
          <p:cNvSpPr/>
          <p:nvPr/>
        </p:nvSpPr>
        <p:spPr>
          <a:xfrm>
            <a:off x="6573960" y="1436760"/>
            <a:ext cx="1231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98280" indent="-88920">
              <a:lnSpc>
                <a:spcPts val="1349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об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стандартна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омежуточна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дополнитель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кров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модифик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4"/>
          <p:cNvSpPr/>
          <p:nvPr/>
        </p:nvSpPr>
        <p:spPr>
          <a:xfrm>
            <a:off x="1204920" y="2755800"/>
            <a:ext cx="2009880" cy="124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5"/>
          <p:cNvSpPr/>
          <p:nvPr/>
        </p:nvSpPr>
        <p:spPr>
          <a:xfrm>
            <a:off x="3281400" y="2755800"/>
            <a:ext cx="2011320" cy="1247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20"/>
          <p:cNvSpPr/>
          <p:nvPr/>
        </p:nvSpPr>
        <p:spPr>
          <a:xfrm>
            <a:off x="1192320" y="4116240"/>
            <a:ext cx="1950840" cy="1182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21"/>
          <p:cNvSpPr/>
          <p:nvPr/>
        </p:nvSpPr>
        <p:spPr>
          <a:xfrm>
            <a:off x="3281400" y="4130640"/>
            <a:ext cx="1947960" cy="1168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2"/>
          <p:cNvSpPr/>
          <p:nvPr/>
        </p:nvSpPr>
        <p:spPr>
          <a:xfrm>
            <a:off x="5945040" y="2898720"/>
            <a:ext cx="1828800" cy="24004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4" descr=""/>
          <p:cNvPicPr/>
          <p:nvPr/>
        </p:nvPicPr>
        <p:blipFill>
          <a:blip r:embed="rId6"/>
          <a:stretch/>
        </p:blipFill>
        <p:spPr>
          <a:xfrm>
            <a:off x="7059600" y="104760"/>
            <a:ext cx="10000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14"/>
          <p:cNvSpPr/>
          <p:nvPr/>
        </p:nvSpPr>
        <p:spPr>
          <a:xfrm>
            <a:off x="1397160" y="3152880"/>
            <a:ext cx="5725800" cy="1644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3"/>
          <p:cNvSpPr/>
          <p:nvPr/>
        </p:nvSpPr>
        <p:spPr>
          <a:xfrm>
            <a:off x="1397160" y="2416320"/>
            <a:ext cx="57258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2"/>
          <p:cNvSpPr/>
          <p:nvPr/>
        </p:nvSpPr>
        <p:spPr>
          <a:xfrm>
            <a:off x="1397160" y="828720"/>
            <a:ext cx="5725800" cy="1417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3381480" y="275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1227240" y="1508040"/>
            <a:ext cx="5386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331560"/>
            <a:ext cx="7416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8c93"/>
                </a:solidFill>
                <a:latin typeface="Arial"/>
                <a:ea typeface="Calibri"/>
              </a:rPr>
              <a:t>ПРОЦЕДУРА ОБРАБОТКИ НАРУШЕНИЯ ПРАВИЛ ДОСТУПНОСТИ </a:t>
            </a:r>
            <a:br>
              <a:rPr sz="17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512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лучение протокола неудавшейся попытки или информации о некорректном или несвоевременном предоставлени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ведомление спортсмена и национальной федерации, 14 дней на предоставление объяс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Рассмотрение объяснений, принятие решения, 14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нформирование спортсмена и национальной федерации о вынесенном реш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14 дней на административный пересмо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ынесение решения после административного пересмотра, внесение информации в АДАМС, 14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Calibri"/>
              </a:rPr>
              <a:t>!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Calibri"/>
              </a:rPr>
              <a:t>Любое сочетание трех пропущенных тестов /случаев непредоставления информации – дисквалификация сроком на 2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низ 24"/>
          <p:cNvSpPr/>
          <p:nvPr/>
        </p:nvSpPr>
        <p:spPr>
          <a:xfrm flipH="1">
            <a:off x="4507920" y="1073160"/>
            <a:ext cx="112680" cy="2840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низ 25"/>
          <p:cNvSpPr/>
          <p:nvPr/>
        </p:nvSpPr>
        <p:spPr>
          <a:xfrm flipH="1">
            <a:off x="4506120" y="1725480"/>
            <a:ext cx="112680" cy="28440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низ 26"/>
          <p:cNvSpPr/>
          <p:nvPr/>
        </p:nvSpPr>
        <p:spPr>
          <a:xfrm flipH="1">
            <a:off x="4485600" y="2389320"/>
            <a:ext cx="112680" cy="2840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низ 27"/>
          <p:cNvSpPr/>
          <p:nvPr/>
        </p:nvSpPr>
        <p:spPr>
          <a:xfrm flipH="1">
            <a:off x="4497480" y="3040200"/>
            <a:ext cx="109440" cy="28260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низ 28"/>
          <p:cNvSpPr/>
          <p:nvPr/>
        </p:nvSpPr>
        <p:spPr>
          <a:xfrm flipH="1">
            <a:off x="4497480" y="3622680"/>
            <a:ext cx="110880" cy="28404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3080" y="0"/>
            <a:ext cx="719784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"/>
                <a:ea typeface="Calibri"/>
              </a:rPr>
              <a:t>ОСНОВАНИЯ ДЛЯ НАЧАЛА РАССЛЕ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0"/>
          <p:cNvSpPr/>
          <p:nvPr/>
        </p:nvSpPr>
        <p:spPr>
          <a:xfrm>
            <a:off x="1170000" y="1168560"/>
            <a:ext cx="1814400" cy="13604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й результат анализа, атипические показатели паспорта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1"/>
          <p:cNvSpPr/>
          <p:nvPr/>
        </p:nvSpPr>
        <p:spPr>
          <a:xfrm>
            <a:off x="5138640" y="1168560"/>
            <a:ext cx="2381400" cy="21542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з внешних источников (от спортсменов, персонала, представителей спортивной федерации; сообщения, поступившие по телефону или на электронную почту сотрудников РАА «РУСА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C:\Documents and Settings\ancela\Рабочий стол\Рисунок1.png"/>
          <p:cNvPicPr/>
          <p:nvPr/>
        </p:nvPicPr>
        <p:blipFill>
          <a:blip r:embed="rId1"/>
          <a:stretch/>
        </p:blipFill>
        <p:spPr>
          <a:xfrm>
            <a:off x="1170000" y="2643120"/>
            <a:ext cx="1758960" cy="2266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C:\Documents and Settings\ancela\Рабочий стол\250397213.jpg"/>
          <p:cNvPicPr/>
          <p:nvPr/>
        </p:nvPicPr>
        <p:blipFill>
          <a:blip r:embed="rId2"/>
          <a:stretch/>
        </p:blipFill>
        <p:spPr>
          <a:xfrm>
            <a:off x="5195880" y="3436920"/>
            <a:ext cx="2266920" cy="1246320"/>
          </a:xfrm>
          <a:prstGeom prst="rect">
            <a:avLst/>
          </a:prstGeom>
          <a:ln w="0">
            <a:noFill/>
          </a:ln>
        </p:spPr>
      </p:pic>
      <p:sp>
        <p:nvSpPr>
          <p:cNvPr id="224" name="Скругленный прямоугольник 15"/>
          <p:cNvSpPr/>
          <p:nvPr/>
        </p:nvSpPr>
        <p:spPr>
          <a:xfrm>
            <a:off x="3154320" y="1508040"/>
            <a:ext cx="1871640" cy="16448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т ИД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озможные случаи отказа от сдачи допинг-проб, попыток фальс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C:\Documents and Settings\tgaleta\Рабочий стол\Отчет, презентация\для обучения\c460194704691c490c068f0d4c8d68a3.jpg"/>
          <p:cNvPicPr/>
          <p:nvPr/>
        </p:nvPicPr>
        <p:blipFill>
          <a:blip r:embed="rId3"/>
          <a:stretch/>
        </p:blipFill>
        <p:spPr>
          <a:xfrm>
            <a:off x="3211560" y="3436920"/>
            <a:ext cx="1792080" cy="1247760"/>
          </a:xfrm>
          <a:prstGeom prst="rect">
            <a:avLst/>
          </a:prstGeom>
          <a:ln w="0">
            <a:noFill/>
          </a:ln>
        </p:spPr>
      </p:pic>
      <p:sp>
        <p:nvSpPr>
          <p:cNvPr id="226" name="Стрелка вниз 17"/>
          <p:cNvSpPr/>
          <p:nvPr/>
        </p:nvSpPr>
        <p:spPr>
          <a:xfrm>
            <a:off x="2021040" y="601560"/>
            <a:ext cx="169560" cy="45396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низ 18"/>
          <p:cNvSpPr/>
          <p:nvPr/>
        </p:nvSpPr>
        <p:spPr>
          <a:xfrm>
            <a:off x="6272280" y="601560"/>
            <a:ext cx="171360" cy="4539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низ 19"/>
          <p:cNvSpPr/>
          <p:nvPr/>
        </p:nvSpPr>
        <p:spPr>
          <a:xfrm>
            <a:off x="4118040" y="601560"/>
            <a:ext cx="169920" cy="7365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3080" y="159840"/>
            <a:ext cx="71978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c8c93"/>
                </a:solidFill>
                <a:latin typeface="Arial Black"/>
                <a:ea typeface="Calibri"/>
              </a:rPr>
              <a:t>ПРАВА СПОРТСМЕ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1511280" y="942840"/>
            <a:ext cx="59626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br>
              <a:rPr sz="2200"/>
            </a:b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1397160" y="658800"/>
            <a:ext cx="6462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1793880" y="4003560"/>
            <a:ext cx="1190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8"/>
          <p:cNvSpPr/>
          <p:nvPr/>
        </p:nvSpPr>
        <p:spPr>
          <a:xfrm>
            <a:off x="324000" y="714240"/>
            <a:ext cx="8496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Признание нарушения антидопинговых правил (до получения неблагоприятного результата или в короткий срок после получения уведом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ускоренные слушания по вопросу назначенно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  <a:ea typeface="Calibri"/>
              </a:rPr>
              <a:t>временного отстра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проведение вскрытия и исследования пробы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Лабораторные пакеты по пробам А и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участие спортсмена и/или его представителя в слушаниях по де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Возможность предоставления любых документов, которые могут иметь значение для вынесения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8000" y="201600"/>
            <a:ext cx="54770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Сервис для проверки лекарственных средств. </a:t>
            </a:r>
            <a:br>
              <a:rPr sz="1800"/>
            </a:b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 Black"/>
              </a:rPr>
              <a:t>List.rusad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1187280" y="1258920"/>
            <a:ext cx="691380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пинг существует столь же долго, сколько существует спорт: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82656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Атлеты Древней Греции применяли протеин, семена кунжута, употребляли перед соревнованиями некоторые виды психотропных гриб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Гладиаторы знаменитого Большого цирка в Риме (</a:t>
            </a:r>
            <a:r>
              <a:rPr b="0" lang="en-US" sz="1900" spc="-1" strike="noStrike">
                <a:solidFill>
                  <a:srgbClr val="3c8c93"/>
                </a:solidFill>
                <a:latin typeface="Arial Black"/>
              </a:rPr>
              <a:t>V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век до н.э.) принимали стимуляторы для того, чтобы не чувствовать боли и устал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В средние века нормандские вои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«берсеркеры» одурманивались перед битв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настоем психотропных грибов, чт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приводило их в состояние агрессии 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снижало чувствительность к бол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0" y="2771640"/>
            <a:ext cx="22255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Последствия допинга для</a:t>
            </a:r>
            <a:r>
              <a:rPr b="0" lang="en-US" sz="2400" spc="-1" strike="noStrike">
                <a:solidFill>
                  <a:srgbClr val="3c8c93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08000" y="647640"/>
            <a:ext cx="89280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епрессия, агрессивность, зависимость от препарат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йроэндокринные заболе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фаркт миокарда, сердечная недостаточность, гипертен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иа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ражения печ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ышенное потоотделение, огрубление кожи, остеоартрит и повышенный риск развития р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ышенный риск тромб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ексуальные рас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суль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множество других негативных послед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сточник: «Антидопинговое пособие ФИСУ»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antidopinglearninghub.org/sites/default/files/supporting-material/Anti-Doping%20Textbook%20-%20Russian%20-%202015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539640" y="53964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Допинги – Нарко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Марихуана (конопля) - это высушенные цветки, семена и листья растения индийской конопли. Является одним из самых распространенных наркотиков в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Марихуана для многих стала так называемым "средством от стресс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Наркотики уносят миллионы жизней каждый год, но наибольшее беспокойство вызывает то, с какой быстротой наркомания губит молодёжь, и чем это грозит в будущем всему ми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Является запрещенным допинг- препаратом который снижает способности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0" y="1440"/>
            <a:ext cx="8785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нюс и насвай - последствия употреб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1. Насвай и снюс являются разновидностями некурительных табачных изделий. Табак в различных видах и различными способами (курение, жевание, нюхание) может вызывать никотиновую зависимость. Употребление снюс и насвая дает усиливающий эффект действия токсических ингредиентов и ускоряет привык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2. Кустарное производство и отсутствие стандартов, а значит серьезный риск загрязненного табачного изделия (в составе примесей можно обнаружить свинец, мышьяк, кадмий, хром, никел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3. Вред для здоровья: сильное местное жжение слизистой ротовой полости, тяжесть в голове, апатия, головокружение. Большой риск лейкоплакии и патологических изменений ротовой полости, которые считаются предшественниками рака ротовой пол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4Насвай и снюс запрещены на территории Российской Федерации законом «Об охране здоровья граждан от воздействия окружающего табачного дыма и последствий потребления табака», их продажа запрещена и является административным правонару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-31680" y="3209760"/>
            <a:ext cx="9139320" cy="2189160"/>
          </a:xfrm>
          <a:prstGeom prst="rect">
            <a:avLst/>
          </a:prstGeom>
          <a:solidFill>
            <a:srgbClr val="0066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324000" y="3494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7524720" y="4684680"/>
            <a:ext cx="15843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324000" y="2476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bfc5"/>
                </a:solidFill>
                <a:latin typeface="Arial Black"/>
              </a:rPr>
              <a:t>Адреса актуальных сайтов и наименования приложений Ресурсы на русском я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РУСАДА: rusada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для проверки лекарств: list.rusad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ильное приложение «антидопинг пр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 «медицина» на сайте rf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pso.ru/antidop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-Лайн курс РУСАДА на triagonal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2" descr=""/>
          <p:cNvPicPr/>
          <p:nvPr/>
        </p:nvPicPr>
        <p:blipFill>
          <a:blip r:embed="rId1"/>
          <a:stretch/>
        </p:blipFill>
        <p:spPr>
          <a:xfrm>
            <a:off x="7308720" y="1141560"/>
            <a:ext cx="1428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7640"/>
            <a:ext cx="62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75d1"/>
                </a:solidFill>
                <a:latin typeface="Arial Black"/>
              </a:rPr>
              <a:t>История допинга в 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682200"/>
            <a:ext cx="91440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спользование допинга во время олимп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гр началось с самого их основания в 776 г. до н.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игр принимали галлюциногенн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олеутоляющие экстракты из грибов, различных трав и в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егодня эти препараты запрещены, однако в древности, и даже после возрождения Олимпийских игр в 1896 году, атлетам не запрещалось использовать снадобья, которые помогли бы им побе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 времени первых современных Олимпийских игр в 1896 году спортсмены обладали       широким арсеналом средств фармакологической поддержки, от кодеина до стрихнина (который является мощным стимулятором в околосмертельных доз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7380360" y="0"/>
            <a:ext cx="1781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75d1"/>
                </a:solidFill>
                <a:latin typeface="Arial Black"/>
              </a:rPr>
              <a:t>Доп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0360"/>
            <a:ext cx="784872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ятнадцать - двадцать лет тому назад допинг был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дной из проблем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спорта высших достижений, а за период времени с 1999 года, года образования Всемирного антидопингового агентства (ВАДА), он превратился в ег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сновную проблем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, причем эта проблема не приблизилась, а отдалилась от своего ре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Е.С. Волкова, Е.П. Сальникова, И.Э. Коновалова ОСНОВЫ АНТИДОПИНГОВОГО ОБЕСПЕЧЕНИЯ СПОРТА МОНОГРАФИЯ, Уфа, 2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0320" y="611280"/>
            <a:ext cx="8642160" cy="50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7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575d1"/>
                </a:solidFill>
                <a:latin typeface="Arial Black"/>
                <a:ea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Ст. 2 Всемирного антидопингового код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  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Допинг это не только наличие в пробе запрещ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субстанции, или ее метаболитов, или маркеров в проб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                       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взятой у спортсмена, но 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личие запрещенных субстанций в пробе спортсме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Использование или попытка использования спортсменом запрещенных субстанций и метод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Уклонение от сдачи проб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епредоставление информации о местонахождении и пропуски тес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Фальсификация или попытка фальсифик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бладание запрещенными в спорте субстанциями и метод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аспространение или попытка распространения запрещенных в спорте субстанций и мет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значение или попытка назначения спортсмену запрещенной субстанции и мет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999120" y="0"/>
            <a:ext cx="213696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Заголовок 1"/>
          <p:cNvSpPr/>
          <p:nvPr/>
        </p:nvSpPr>
        <p:spPr>
          <a:xfrm>
            <a:off x="179280" y="324000"/>
            <a:ext cx="871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РИТЕРИИ ВКЛЮЧЕНИЯ СУБСТАНЦИЙ И МЕТОДОВ В ЗАПРЕЩЕННЫЙ СПИ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Группа 8"/>
          <p:cNvGrpSpPr/>
          <p:nvPr/>
        </p:nvGrpSpPr>
        <p:grpSpPr>
          <a:xfrm>
            <a:off x="2124000" y="1258920"/>
            <a:ext cx="4942080" cy="3168720"/>
            <a:chOff x="2124000" y="1258920"/>
            <a:chExt cx="4942080" cy="3168720"/>
          </a:xfrm>
        </p:grpSpPr>
        <p:sp>
          <p:nvSpPr>
            <p:cNvPr id="146" name="Скругленный прямоугольник 9"/>
            <p:cNvSpPr/>
            <p:nvPr/>
          </p:nvSpPr>
          <p:spPr>
            <a:xfrm>
              <a:off x="2124000" y="12589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Улучшение спортивных результа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Скругленный прямоугольник 11"/>
            <p:cNvSpPr/>
            <p:nvPr/>
          </p:nvSpPr>
          <p:spPr>
            <a:xfrm>
              <a:off x="2124000" y="19843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Риск для здоровья спортсме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Скругленный прямоугольник 12"/>
            <p:cNvSpPr/>
            <p:nvPr/>
          </p:nvSpPr>
          <p:spPr>
            <a:xfrm>
              <a:off x="2124000" y="27115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Противоречие духу спор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13"/>
            <p:cNvSpPr/>
            <p:nvPr/>
          </p:nvSpPr>
          <p:spPr>
            <a:xfrm>
              <a:off x="2124000" y="3614760"/>
              <a:ext cx="4651560" cy="8128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Маскировка использования других запрещенных субстанций и мето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Группа 14"/>
            <p:cNvGrpSpPr/>
            <p:nvPr/>
          </p:nvGrpSpPr>
          <p:grpSpPr>
            <a:xfrm>
              <a:off x="6775200" y="1522800"/>
              <a:ext cx="290880" cy="1452240"/>
              <a:chOff x="6775200" y="1522800"/>
              <a:chExt cx="290880" cy="1452240"/>
            </a:xfrm>
          </p:grpSpPr>
          <p:grpSp>
            <p:nvGrpSpPr>
              <p:cNvPr id="151" name="Группа 15"/>
              <p:cNvGrpSpPr/>
              <p:nvPr/>
            </p:nvGrpSpPr>
            <p:grpSpPr>
              <a:xfrm>
                <a:off x="6775560" y="1523160"/>
                <a:ext cx="290520" cy="1451880"/>
                <a:chOff x="6775560" y="1523160"/>
                <a:chExt cx="290520" cy="1451880"/>
              </a:xfrm>
            </p:grpSpPr>
            <p:sp>
              <p:nvSpPr>
                <p:cNvPr id="152" name="Прямая соединительная линия 18"/>
                <p:cNvSpPr/>
                <p:nvPr/>
              </p:nvSpPr>
              <p:spPr>
                <a:xfrm>
                  <a:off x="6775560" y="1523160"/>
                  <a:ext cx="290520" cy="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Прямая соединительная линия 19"/>
                <p:cNvSpPr/>
                <p:nvPr/>
              </p:nvSpPr>
              <p:spPr>
                <a:xfrm>
                  <a:off x="6775560" y="2975040"/>
                  <a:ext cx="290520" cy="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Прямая соединительная линия 20"/>
                <p:cNvSpPr/>
                <p:nvPr/>
              </p:nvSpPr>
              <p:spPr>
                <a:xfrm>
                  <a:off x="7066080" y="1523160"/>
                  <a:ext cx="0" cy="145188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Прямая соединительная линия 16"/>
              <p:cNvSpPr/>
              <p:nvPr/>
            </p:nvSpPr>
            <p:spPr>
              <a:xfrm flipH="1">
                <a:off x="6775200" y="1522800"/>
                <a:ext cx="290520" cy="63936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ая соединительная линия 17"/>
              <p:cNvSpPr/>
              <p:nvPr/>
            </p:nvSpPr>
            <p:spPr>
              <a:xfrm>
                <a:off x="6775560" y="2335320"/>
                <a:ext cx="290520" cy="63936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Прямоугольник 1"/>
          <p:cNvSpPr/>
          <p:nvPr/>
        </p:nvSpPr>
        <p:spPr>
          <a:xfrm>
            <a:off x="5651640" y="447840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Отвечает как минимум 2 критерия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1128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                      </a:t>
            </a: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Запрещенный список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сновные субстанции и методы, запрещен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как в соревновательный, так и в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внесоревновательный периоды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3c8c93"/>
                </a:solidFill>
                <a:latin typeface="Arial Black"/>
              </a:rPr>
              <a:t>                       Запрещенные субстанции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0. – не допущенные к применению веществ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1. – анаболические агент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2. – пептидные гормоны, факторы роста и подобные субстан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3. – бета-2-агонисты (сальбутамол и др.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4. – гормональные и метаболические модулятор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5. – диуретики и другие маскирующие агенты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1600" spc="-1" strike="noStrike">
                <a:solidFill>
                  <a:srgbClr val="3c8c93"/>
                </a:solidFill>
                <a:latin typeface="Arial Black"/>
              </a:rPr>
              <a:t>Запрещенные метод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1. – усиление переноса кислорода (кровяной допинг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2. – химические и физические манипуляции (фальсификации, инфузии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3. – генный доп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Картинка 65 из 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8440"/>
            <a:ext cx="27716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7020000" cy="39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Arial Black"/>
              </a:rPr>
              <a:t>Запрещенный список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сновные субстанции и методы запрещенные в соревновательный период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6 – стимулятор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7. – наркоти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.8 – каннабиноид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.9 - глюкокортикостер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Картинка 56 из 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354400"/>
            <a:ext cx="3419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250920" y="539640"/>
            <a:ext cx="87138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Arial Black"/>
              </a:rPr>
              <a:t>Терапевтическое использование запрещенных субстанций или метод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заполнить запрос на терапевтическое исполь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приложить к запросу медицинскую документацию, подтверждающую диагноз и необходимость применения запрещенной субстанции или мет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указать контактные данные спортивного вр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cp:keywords/>
  <dc:language>en-US</dc:language>
  <cp:lastModifiedBy>Стадион6</cp:lastModifiedBy>
  <cp:lastPrinted>1899-12-30T00:00:00Z</cp:lastPrinted>
  <dcterms:modified xsi:type="dcterms:W3CDTF">2020-06-11T16:02:47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