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.В.В. - Лекция _ Концепция развития микологической помощи населению РФ 200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30D6AF-3D51-49CC-BA7F-9D463869659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821A94D-3805-486F-BAEE-DCFD51CB79B7}" type="datetime12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9:52 A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ftr" idx="35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 type="sldNum" idx="36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003AEE-6361-44FF-8F35-B1E345D43B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E87A9F-3B89-4CE1-A041-FC96371AD5BB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C62-37B8-482F-866D-C07B528C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402-9121-4B29-90A9-3CEFE1FA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9F6A5-5EDB-4718-A9F7-72A728EF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968D9-E500-42DF-8924-92B2B8B8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EB34C-7ECF-49E5-A382-5C4C9EE6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39714-22F4-4610-8C34-426366B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92B0C-F7B1-421C-BCC6-7526882D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B324C-BFF6-4681-88D1-6DACAF6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1708E-B33E-45E2-9D2C-04ADA1D6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DBEA6-D29A-43E3-A852-4F91BB6D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B3898-8C7F-4092-AA6D-FFCA88C6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A28DD-4C18-4FC4-BC48-DC263E2C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2C5-2D33-4837-93EF-21E6F356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5EE22-EC4C-4C28-B053-FA19EBE4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A5BDF-2D56-4C3D-88E6-11D3966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D6EB8-1527-49DC-82D2-FF584586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DD50B-DF9E-46C5-9287-911BD5D4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3BC52-7490-4459-83D4-D8E6B159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E621F-F02E-4649-B106-BAFBEEE5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467B9-CBFE-489F-BA01-93ADF63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1660A-F9A8-4A52-8FA4-70869EF9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593C8-89E9-4F41-BADF-4BEFB069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B8FA2-A598-4E4E-B1BA-F3047153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237-9C71-4DCD-840C-0B1270B4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645D2-5A06-4FC6-A9D0-2D93D78B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CB3B1-AF67-4026-B493-97EC8B3D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034E2-EE68-4D38-AD92-95800016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16BFB-9918-404F-A070-66D838F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ED39F-4622-4B31-890A-125F9265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6DB2E-DE62-4043-A8E4-1EC3DCDC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52B94-F764-484E-9455-E33B0005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46AB3-0FB1-439C-9A6E-FA45721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573CF-D9CE-408F-8960-0BB8DE8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1787A-71F6-4AEB-BF90-0041EDA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8327-9FF9-48D6-AA47-87C9ED78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C1B18-4F1C-4CD0-B835-600D7905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E13B1-B546-43E4-8D58-3BE39E5D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ACE7F-55DA-4FF4-A547-E24BEAD1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63A2-DA88-4569-848D-71E782AF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51AC-B9F6-4BC4-9CB6-AE1FAF1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73C8-EDB3-45E8-94C6-6EF850B6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37EF-8101-492F-ADD8-ED450BCA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68B4-7BA4-4029-B129-B35E62EB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06FB-D124-4259-8300-AB67DB41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A26-DFB3-4BF3-B19D-561B3079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22D7-E8FA-43A0-B93B-B2D70703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1319-D4AA-40E2-9022-79E1C45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E5B9-13A9-4144-A008-08E3739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CA73-C775-4B18-8DC2-898557BA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FEE8-447A-4F48-A215-15244C17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A4AA-CCB5-4CBB-9E9F-6BCDC7E1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E36A-6337-4677-A057-24E3553C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2D2D-62F2-4FB2-8481-8809A642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00FF9-3E36-4B9D-AA95-4CB96789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FE24-5CE4-40DB-B202-34D279F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E00-7FC2-4C05-A856-5B2F2337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5911-93BF-45EE-9FC9-26B94465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3B81-5089-4895-8951-5216578A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AAB9-C7A9-42FA-BB91-1FA6F916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5051-B1B7-4287-9C2C-ADB6B77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82909-2216-4BA8-8D7F-5BC04EF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D9DE-7F03-4874-9378-BC54A9E3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BC0E-3305-4AF1-8B7D-B4E5E479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39B5-AA45-4F8B-B439-0911636C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F39CE-2B99-4B42-8C26-5492D39B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8B7AA-C352-4BDD-BF5B-BE74662E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22A-ACC6-46CB-B71B-97E8AB2A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63C51-2852-4DE7-9D10-F59A0936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CF13A-EAB9-4720-B421-458988EE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3E23E-FE5C-4411-911E-3A30BA34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4FE1E-3DF5-429A-BA2A-44969BD9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83CE8-6F2B-42C6-AFFB-04691405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E304-0545-452A-A45C-9771E82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C7998-9BE1-4B4E-8B55-3EC3DF30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9BF87-FB47-4EDD-8073-13C2BFAB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FCD2-CB2B-4943-9565-2E19DCCE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D7AF5-3738-4647-B8FC-355218D5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B45-E973-4EFE-B364-F7C9E858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3731D-C2DD-4859-BBB2-1F27D85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21337-A6C2-4D6F-92A4-C8CD7441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2E0C-0514-4C18-B76F-1F524AF6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6E394-81BB-4BB9-AACD-8702F591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498C-22A3-4F5F-885B-265CE798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2B977-71F0-4024-9B01-B2FB3C65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C97FE-ADB5-4D14-8E70-409FE8C3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3A10E-F6EB-4E38-A9D0-A627D954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7C8BD-39C5-4B1C-854F-A409ECB0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98379-5826-4543-BB27-1A09E084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3AD-5775-4C84-8C89-824F6E67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24C38-6FAD-41DF-90C1-6AADD6BE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1795D-B56B-4219-9B27-A2179E94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3077B-3D7F-41BD-83D9-68356B39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AE77E-C450-498E-B441-ADFA71C8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B1FB-892F-4A5A-BD0E-94A7261F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030A1-176B-4365-A7D8-E447A267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9B315-821E-4D8E-924B-C8E9423E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D48F0-E42F-44F9-9792-C5C77BFA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A7578-96A4-4614-A796-EF637FD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7C683-31A9-4A8D-9B30-C5EA1C5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1DF-AE12-41F3-A714-2136BB72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18FB-0B4F-4709-AA46-32648EA1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2AFD3-E8E2-4230-B290-B2F2BC29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41A92-4AD7-4086-9B85-34C24D8B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0540B-2E05-454E-94E6-2763B60E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2BE5C-7374-4F49-82AF-A9E90676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202D-F004-4E46-873E-8B575F12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C484B-510A-4924-AF7C-30A8E464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CAAB1-A559-4ADC-80FD-201A8311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86255-FB63-4DBD-9C78-6CFE18FB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E9702-E8D6-48A0-8CC0-681E400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CDF-69C4-4C10-89D6-057578A6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C5A8B-C4C8-4717-9451-04E06011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CFC7E-E4A9-4E1E-967F-E6AFC7D0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09A2-25E9-4315-90A8-81FC9517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25B3A-487A-44DA-AC9A-D1D78B67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A7FF1-0CE7-429B-89CF-4A18806A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42365-AC57-4E0D-92FF-6EF2BA0E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D7511-1090-476D-B7D3-9ED82CEC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4B70B-840F-4103-976E-169637A3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239AA-E6BE-433E-B359-13CBCC58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8649-92DB-497B-AE55-69AB56F0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319-6D01-4BB2-BA8F-4357DC5D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0EB1C-6B3E-4E62-B034-932DC5CA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FEBE4-1B18-45D5-B746-8B0C24D0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6FF46-2F17-4B4F-ACFF-48681688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D59CA-5FC9-4F99-B2C1-5F3696EF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07BA-2992-4B00-98CD-80074665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05079-33AF-471A-B7D1-202504DD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4AF7B-1914-42AB-83DF-9131F9B0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FACC4-5390-4882-A65F-EBABBEEF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56ADE-41ED-46FC-A2D8-9E22F06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C1B58-17C8-4E4F-91EA-D51F904C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117C-0C34-46CB-9591-1BDF36F948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ррови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рпчочрепвчре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4840-2AB4-49CA-B66A-8B54A5091C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7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8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D1A8-8E75-419D-BED9-F7CC12CB985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еррови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рпчочрепвчре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E2E4-1E3B-49D1-B4E4-072E8963D8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EB7F-A646-4DE3-94FF-0502E00FC73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ррови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рпчочрепвчре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715D-CFE5-4C56-8A5E-77A7B79B1F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8065-7C97-42E5-8B06-FECB3618301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F78E-1EEA-42FE-BECE-9BEE60F116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DF70-69E4-45CC-A4EA-B3BE4FE1A7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еррови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рпчочрепвчре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F94B-3CDB-4E9F-943A-972DF52BB4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3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4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6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7E9F-BE5E-4759-8527-D2D3C6536EB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6800" y="2625840"/>
            <a:ext cx="8799480" cy="160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d2d8a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индрома менингита, отек- набухание головного мозг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936680" y="5157360"/>
            <a:ext cx="387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Р.Т. Мурзаба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Характеристика пневмококковой 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36600" y="999720"/>
            <a:ext cx="850752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222268"/>
                </a:solidFill>
                <a:latin typeface="Arial"/>
              </a:rPr>
              <a:t>По данным ВОЗ пневмококковый менингит дает самый высокий уровень летальности (до 25%) и инвалидности (до 60%), ежегодно умирает </a:t>
            </a:r>
            <a:r>
              <a:rPr b="0" lang="en-US" sz="2200" spc="-1" strike="noStrike">
                <a:solidFill>
                  <a:srgbClr val="222268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222268"/>
                </a:solidFill>
                <a:latin typeface="Arial"/>
              </a:rPr>
              <a:t>1,5 млн. ч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Ф ПМ занимает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2–3 мест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20-30%), летальность высокая у новорожденных (85%) и у пожилых (40-50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т возникать как первично (чаще), так и вторично (пневмония, отит, мастоидит, синусит, эндокардит, ЧМТ с ликвореей (3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болевают дети грудного возраста (15%) и пациенты старше 50 лет (75%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кторы риска ПМ: частые ОРВИ, перенесенная ЧМТ с ликвореей, хроническая патология легких и ЛОР-орг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Вакцинация против ПИ </a:t>
            </a:r>
            <a:r>
              <a:rPr b="0" lang="ru-RU" sz="22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кциной: «Пневмо-23» – детям 2 и 4,5 мес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V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 мес., в/м 0,5 мл; пожилым 1-й раз – пневмо13 (превенар 13), повторно через 3 г.-пневмо-2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09320" y="189000"/>
            <a:ext cx="839772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  <a:ea typeface="Arial"/>
              </a:rPr>
              <a:t>Клиника пневмококковой инфе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14200" y="928800"/>
            <a:ext cx="87026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ля ПМ характерно острое начало,  высокая лихорадка  до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2-х недель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тенсивные головные боли, у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60-70</a:t>
            </a:r>
            <a:r>
              <a:rPr b="0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%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1" lang="ru-RU" sz="23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1,2-й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ни болезни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очаговые поражения НС-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удороги и нарушение сознания, поражения черепных нервов, моно-, гемипарезы, птоз, двоение, косоглазие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Тяжесть течения ПМ обусловливается не интоксикацией, а  вовлечением в процесс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вещества мозг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аже при рано начатой АБТ на фоне быстрой консолида-ции гноя и низкой биодоступности возбудителя пневмококки активно размножаются и вызывают тяжелый менинго-энцефали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Ликвор очень мутный, зеленоватого цвета, плеоцитоз (500-1500) и много белка (1-10г/л), снижение сахар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Б/скопия –грам+, внеклеточно, диплококки, РЛА +85%,ПЦР +у 98-99%, бакпосев  +рез-т у 30-45%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Характеристика гемофильной инфекции (Haemophilus influenzae тип b) (5 случ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216000" y="1071360"/>
            <a:ext cx="8748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данным ВОЗ ежегод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ире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3 млн. случае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Б-инфекции, из них 380 тыс. летальных. В РФ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Б-менингиты-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2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место сред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М (10-30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90% людей палочка Пфейффера обитает на слизистой ВДП, капсульные штаммы - у 3-5% обследованных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М болеют преимущественно дети до 5  лет (85-90%), часто дети до 1 г., к 3 мес. исчезают материнские АТ; и пациенты с ХОБЛ старше 50 лет. Может быть в виде сепсиса, эпиглотт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М начинается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одостро с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шля, насморк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до 38-39°, ч/з 2-4 дня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ухудш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до 41°С, головные боли, рвота, менин-геальные знаки, нарушение сознания, на 2-3 дни - очаговые симптомы, нередко затяжное те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 20-40% детей после  ГМ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неврологические последствия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ительная санация ликвора. Летальность–5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икв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мутный, цитоз (1000-2000), нейтрофильный, белок (1,5-3 г/л), огромное количество бактерий в ликвор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нтибиотик выбора- цефтриаксон, ципрофлоксаци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3-х не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7160" y="106200"/>
            <a:ext cx="86896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Вторичные гнойные менинг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14200" y="928800"/>
            <a:ext cx="850104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Вторичный гнойный менингит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ся как осложнение гнойно-воспалительного процесса (чаще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 оти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синусит, пульпит, остеомиелит, эндокардит, сепсис), ЧМТ с ликвореей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ачало острейшее, быстрое развитие клиники, головные боли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до 40°С, упорная рвота. Резко выражены менингеальные знаки, застойные диски зрительных нервов,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рано очаговые!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имптомы,  нарушение сознания (субарахноидальные гнойные очаги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Важен подробный анамнез болезни, комплексное обследование (КТ, МРТ), осмотр ЛОР- врача, офтальмолога, стоматолог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ри вторичных менингитах необходима хирургическая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санация гнойного очаг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ранняя госпитализация в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специализированный стациона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8515440" y="6423120"/>
            <a:ext cx="511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20B5-BD86-49CA-A55A-73CCF60BA7F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8276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d2d8a"/>
                </a:solidFill>
                <a:latin typeface="Arial"/>
              </a:rPr>
              <a:t>Туберкулезный менингит (7-9% от всех форм) 4</a:t>
            </a:r>
            <a:r>
              <a:rPr b="1" lang="ru-RU" sz="2000" spc="-1" strike="noStrike">
                <a:solidFill>
                  <a:srgbClr val="2d2d8a"/>
                </a:solidFill>
                <a:latin typeface="Arial"/>
              </a:rPr>
              <a:t> случая в ИКБ № 4 в 201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23640" y="1214280"/>
            <a:ext cx="8404200" cy="549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Ф в 2018 г. 72,6 тыс.случаев туберкулеза /49,7; в РБ - 61 на 100 тыс. нас-я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Летальность от ТМ -15-32,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Туберкулезный менингит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 (30%),менингоэнцефалит (70%)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ериод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родро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1-8 нед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.)-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остепенное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, сначала головная боль, головокружение, тошнота, иногда рвота, субфебрилитет, общая слаб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ериод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раздраже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ихорадка до 39°, нарастает головная боль, рвота, апатия, сонливость, угнетение сознания, развивается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базальный менинги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пораже-нием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III,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VI,VII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, далее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VIII,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IX,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X, XII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 черепных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терминальный перио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 15-25 дни) преобладают признаки энцефалита: отсутствие сознания, дых-е Чейн-Стокса, центральные парезы, параличи, лихорадка (40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3840" y="188640"/>
            <a:ext cx="8929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Диагностика туберкулезного менингоэнцефа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226800" y="1304640"/>
            <a:ext cx="86295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е анамнеза (контакт с больны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уберкулиновые пробы, сроки вакцинации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ягощенный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преморбидны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н у 2 - В20, стадия 4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ника болезни: постепенное ухудшение состояния, менин геальный синдр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генография ОГК (милиарный ТВС легких), осмотр глаз-ного дна, КТ, МРТ, диагноз в первы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ней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иода!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Изменения в ликвор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зрачный, цитоз лимфоцитар-ный, 100-800 кл/мкл, высокий уровень белка (9,33 г/л), снижение сахара (в 2 раза). Образование фибринозной пленки через 24 часа (в 2 случаях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ализ ликвора на МБК методом бактериоскопии и в ПЦ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циенты переведены для лечения в РПТ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6929-4084-408C-9EFC-A1619F30B85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34084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Лабораторная диагностика менинг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16000" y="785520"/>
            <a:ext cx="8664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актериоскопия с окрашиванием по Граму ликвора, носо-глоточной слизи–выявление грам-отрицательных диплококков внутри-и внеклеточн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в РЛА в ликворе АГ возбудителей БМ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ningitidi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luenz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neumoni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- до 85%, ч/з 2-3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ЦР ДНК МК в ликворе и крови – информативность до 99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аканализы крови, носоглоточной слизи, ликвора (инфор-мативность до 45%), позволяет определить антибиотико-грамму и серотипирование. Рекомендуется внедрять в клин. практику некультуральную диагностику БМ (РЛА и ПЦР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ние парных сывороток на 8-й и 14-16-й дни болезни 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  <a:ea typeface="Arial"/>
              </a:rPr>
              <a:t>РНГА с менингококковыми эритроц. диагностикумам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, В, С -  в 25% диагностический титр АТ в разведении 1:40-1:80, АТ сохраняются до 3-х лет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уточнения бактериальной этиологии менингита определение 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  <a:ea typeface="Arial"/>
              </a:rPr>
              <a:t>прокальцитонина (БОФВ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сыворотке крови (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иммунохроматограф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3"/>
          <p:cNvSpPr/>
          <p:nvPr/>
        </p:nvSpPr>
        <p:spPr>
          <a:xfrm>
            <a:off x="1219320" y="1522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федра инфекционных болезней с курсом дерматовенерологии ИПО БГ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5" name="Picture 4" descr="~Meningitis_5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637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индром воспалительных изменений в ликв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93212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вет и прозрачность: гнойные менингиты – ликвор мутный, желто-зеленого цвета, серозные – бесцветный, прозрач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кроскопия 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носоглоточной слизи, ликвора, кров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вне- или внутриклеточные 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  <a:ea typeface="Arial"/>
              </a:rPr>
              <a:t>Грам (+) и (-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иплококк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еоцитоз: гнойные менингиты –доминируют нейтрофилы (от 1 до 10-20 тыс.), серозные – лимфоциты (100-1000 кл. в 1 мк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белка: при гнойных –  5-10 г/л, при серозных – 0,66-1,1 г/л (норма -0,15-0,45 г/л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хар: сни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2,1 ммоль/л при гнойном и туберкулезном менинги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7B05-F067-4D64-9026-482931330C4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5" descr=""/>
          <p:cNvPicPr/>
          <p:nvPr/>
        </p:nvPicPr>
        <p:blipFill>
          <a:blip r:embed="rId1"/>
          <a:stretch/>
        </p:blipFill>
        <p:spPr>
          <a:xfrm>
            <a:off x="0" y="130320"/>
            <a:ext cx="324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~Meningitis_8"/>
          <p:cNvPicPr/>
          <p:nvPr/>
        </p:nvPicPr>
        <p:blipFill>
          <a:blip r:embed="rId1"/>
          <a:stretch/>
        </p:blipFill>
        <p:spPr>
          <a:xfrm>
            <a:off x="2209680" y="685800"/>
            <a:ext cx="4108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206960" y="325080"/>
            <a:ext cx="4937040" cy="222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оражение нервной системы при инфекционных заболевания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2917800"/>
            <a:ext cx="838692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-324000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 особую тяжесть течения инфекционного заболевания, высокую летальность и возможность отдаленных неблагоприятных послед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C43F-4D57-4136-88EC-5E50F6F5CD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Picture 4" descr="bcb5ce7b-2c57-44ec-83bc-c43e42e5d67e"/>
          <p:cNvPicPr/>
          <p:nvPr/>
        </p:nvPicPr>
        <p:blipFill>
          <a:blip r:embed="rId1"/>
          <a:stretch/>
        </p:blipFill>
        <p:spPr>
          <a:xfrm>
            <a:off x="0" y="0"/>
            <a:ext cx="40608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Внутричерепное д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99880" y="1055520"/>
            <a:ext cx="850752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ЧД представляет собой гидростатическое давление цереброспинальной жидкости (ЦСЖ) в системе желудочков мозга и в субарахноидальном пространстве, оказываемое на полушария мозг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нормальных условиях оно зависит от секреции и абсорбции ликвора. В течение суток у здорового человека вырабатывается и резорбируется до 500-600 мл ликвора, обновляясь 4 раза в течение суток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екреция ликвора является активным процессом, она определяется гемодинамическим фактором и происходит со скоростью около 0,4 мл/мин при ВЧД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20 мм рт.с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о 70–85% ликвора образуется сосудистыми сплетениями желудочков мозга, 10–12% — сосудами мозговой паренхимы. В норме ВЧД равно 5–15 мм рт. с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9B3C-3972-4AB5-99E4-85A68B54B8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атогенез ОНГ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99880" y="982800"/>
            <a:ext cx="85075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и инфекционных заболеваний наиболее часто к раз- витию ОНГМ приводят бактериальные менингиты, менингоэнцефалиты и энцефали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атогенезе развития ОНГМ имеют знач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проницаемости ГЭБ, сосудистой стен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зморрея приводит к накоплению воды в белом веществе, на фоне гипоксии головного мозга проникновение ионов натрия и воды в клетку с её набуханием. Гипоксия гол.моз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копление жидкости в ограниченном пространстве ведет к закономерному повышению внутричерепного давл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ханическое раздражение болевых рецепторов мозговой оболочки и внутримозговых сосудов под действием токсинов, повышением ВЧД проявляется общемозговыми, менингеальными, затем и очаговыми симптомами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B775-A0CA-4552-916E-300AB90AAC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Стадии ОНГ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263520" y="982800"/>
            <a:ext cx="8616960" cy="58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линке отека мозга традиционно выделяют 3 стад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ение общемозгового синдрома, симптомы которого характерны для повышения ВЧ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ффузное рострокаудальное нарастание неврологических симптом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слокация мозговых структу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1. </a:t>
            </a:r>
            <a:r>
              <a:rPr b="1" i="1" lang="ru-RU" sz="2200" spc="-1" strike="noStrike">
                <a:solidFill>
                  <a:srgbClr val="2d2d8a"/>
                </a:solidFill>
                <a:latin typeface="Arial"/>
              </a:rPr>
              <a:t>Общемозговой синдр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ническая картина обычно обусловлена повышением ВЧД и имеет различные проявления в зависимости от скорости его нараст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ВЧД проявляется головной болью, тошнотой, рвотой, сонливостью, отеком дисков зрительных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яются менингеальные симптомы, повышаются сухожильные рефлексы, брадикардия, замедление моторных реакций. Характерны расстройства III и VI пар черепных нервов, судороги, выраженная сонлив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за декомпенсации ВЧД завершается дислокацией и вклинением головного моз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Arial"/>
              </a:rPr>
              <a:t>2. Синдром диффузного нарастания неврологической симпто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263160" y="1128240"/>
            <a:ext cx="85806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атологический процесс вовлекаются  вначале корковые, затем подкорковые и стволовые структуры мозг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теке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полушар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а происходит нарушение сознания и появляются генерализованные клонические судоро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влечение в процесс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подкорк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глубинных структур сопровождается психомоторным возбуждением, гиперкинезами, появлением хватательных и защитных рефлексов, нарастанием эпилептических пароксиз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ространение отека на нижние отделы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ствол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долговатый мозг) приводит к нарастанию нарушений витальных функций — дыхание Биота и сердечно-сосудис-той деятельности (замедление пульса и снижение АД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ышечная гипотония, арефлексия глубоких рефлексов, максимальное расширение зрачков  с отсутствием их реакции на св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304E-4C30-4459-B0DB-FCA5F21933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6979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d2d8a"/>
                </a:solidFill>
                <a:latin typeface="Arial"/>
              </a:rPr>
              <a:t>3.Синдром дислокации мозговых струк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99520" y="1201680"/>
            <a:ext cx="83869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нарастания ВЧГ и смещения участков мозга развиваются характерные очаговые симпто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ми из них являются стволовые симптомы с поражением глазодвигательных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о возникают внезапная рвота, ригидность мышц затылка, нарушение дыхания вплоть до остановки, кровообращения, угнетение реакции зрачков на свет, что является жизнеугрожающи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раженной дислокации головного мозга развиваются децеребрационная ригидность, брадикардия, дисфаг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Фаза декомпенсации ВЧ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отекает на фоне прогресси-рующего изменения сознания вплоть до комы и выраженных нарушений витальных функций вследствие дислокации и вклинения ствола мозга в большое затылочное отверст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642-BB2D-40A2-AFD2-2E50462E07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2d2d8a"/>
                </a:solidFill>
                <a:latin typeface="Arial"/>
                <a:ea typeface="Arial"/>
              </a:rPr>
              <a:t>Диагностика ОНГМ - общая оценка состояния пациен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" y="116496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гноз ОГМ основывается на учете клинических данных, при этом его прогрессирование сопровождается постепенным угнетением созн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пределения степени угнетения сознания широко используется шкала ком Глазго (ШКГ), предложенная G. Teasdale, B. Jennet (1974): 15 баллов — ясное сознание; 13–14 баллов — умеренное оглушение; 10–12 баллов — глубокое оглушение; 8–9 баллов — сопор; 6–7 баллов — умеренная кома; 4–5 баллов — глубокая кома;  3 балла — терминальная (запредельная) ко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Кром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ения состояния сознания, дается оценка следующих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физиологических функ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характер дыхания; вид и реакция зрачков; движения глазных яблок и окуловестибулярные реакции; двигательные реакции скелетной мускулату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E57E-C77F-4E6E-80D4-A5AD799D6E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"/>
          <p:cNvGraphicFramePr/>
          <p:nvPr/>
        </p:nvGraphicFramePr>
        <p:xfrm>
          <a:off x="285840" y="142920"/>
          <a:ext cx="8515440" cy="6537240"/>
        </p:xfrm>
        <a:graphic>
          <a:graphicData uri="http://schemas.openxmlformats.org/drawingml/2006/table">
            <a:tbl>
              <a:tblPr/>
              <a:tblGrid>
                <a:gridCol w="7143840"/>
                <a:gridCol w="1371600"/>
              </a:tblGrid>
              <a:tr h="285480">
                <a:tc>
                  <a:txBody>
                    <a:bodyPr lIns="0" rIns="0" tIns="0" bIns="0" anchor="t">
                      <a:noAutofit/>
                    </a:bodyPr>
                    <a:p>
                      <a:pPr marL="10800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Признак (шкала Глазго, 1974г.) для оценки ко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рывание гл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5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еакция на бо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23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еакция на голо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448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нтан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игательная реакц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наилучший ответ в непораженных конечностя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900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ие движ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6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ологическое разгибание в ответ на болевое разд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04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ологическое сгибание в ответ на болевое разд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55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дергивание конечности в ответ на болевое разд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55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сообразное движение в ответ на болевое раздражение (отталкива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е движений по команд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бальная реак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760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членораздельные зву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484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ссвязные слова, ответ по смыслу не соответствует вопрос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08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утанная реч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F976-F349-4392-B64E-7C179728B3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нтерпретация результатов шкалы Глазг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5 баллов — сознание яс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4-13 баллов — умеренное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оглушение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2—11 баллов — глубокое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оглушение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0—8 баллов —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сопор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7-6 баллов — умеренная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кома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5-4 баллов — глубокая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кома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3 балла — запредельная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кома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,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смерть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FE4A-FAB6-4E45-B81C-4DFF92C783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тивопоказания для люмбальной п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571760"/>
            <a:ext cx="8329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рушение уровня сознания (ШКГ менее 9 баллов), или флюктуирующее созн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тносительная брадикардия и гипертензия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чагов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неврологическая симптоматика, судорог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стабильная гемодинамика, дыхательная недостаточно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ептический шок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грессирующая геморрагическая сыпь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рушения гемостаза (уровень тромбоцитов менее 100 х10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/л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окальная инфекция кожи и мягких тканей в зоне проведения СМП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E912-EE3C-409C-8AAF-7FF136162B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оказания дл СМП у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итывая отсутствие специфических менингеальных проявлений у детей раннего возраста, ЦСП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казана всем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ациентам первого года жизни с ГМ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цениваются качественные характеристики ЦСЖ (цвет, прозрачность), исследуется плеоцитоз с определением клеточного состава, биохимические показатели  уровней белка, глюкозы,  натрия, хлоридов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сем больным с подозрением на смешанную форму ГМИ или ММ рекомендовано бактериологическое исследование (посев) цереброспинальной жидк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FCE2-B4E0-4012-B705-754487C568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56480" cy="136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marL="10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Менингиты- группа заболеваний, характери-зующихся общеинфекционным синдромом, поражением мозговых оболочек и воспалитель-ными изменениями в спинномозговой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08000" y="1744560"/>
          <a:ext cx="8820000" cy="4905360"/>
        </p:xfrm>
        <a:graphic>
          <a:graphicData uri="http://schemas.openxmlformats.org/drawingml/2006/table">
            <a:tbl>
              <a:tblPr/>
              <a:tblGrid>
                <a:gridCol w="3259080"/>
                <a:gridCol w="485640"/>
                <a:gridCol w="2544840"/>
                <a:gridCol w="2530440"/>
              </a:tblGrid>
              <a:tr h="39384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альные менинги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ойны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зны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енингококков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филококков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Туберкуле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невмококков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птококковый (пневмококковы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филитический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9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Инфлюэнца-менинги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бацилляр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ерио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384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ные менинги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Энтеровирусный 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ЕСНО и Коксак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иппо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петически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риппо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7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ингеальная форма КЭ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ираторно-синцитиаль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9FD2-1024-461E-9777-75A76EE150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араклинические методы обследования при отеке моз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57200" y="1456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 достоверным метода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носят данные МРТ, компьютерной томографии (КТ) и нейросонографии (у новорожденных и детей до года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едположительные (вероятные) метод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ключают электроэнцефалографию (ЭЭГ), Эхо-ЭС, нейрофтальмоскопию, церебральную ангиографию, сканирование мозга с применением радиоактивных изотоп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казаниях проводится ангиография, сонография зрительного нерва и люмбальная пункц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йроофтальмологический осмотр - полнокровие вен и начальный отек диска зрительного нерва, выраженный застой, кровоизлия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DF9E-736A-4929-9D80-EC9383316F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омощь при ГФМИ на догоспитальном эта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72960" y="1055520"/>
            <a:ext cx="85075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дозрении на НИ, менингит экстренная госпитализация в стационар обязательна! Транспортировка с приподнятой на 3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овой без поворота в сторо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нация ВДП и подача кислор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гипертермии – в/м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SimSun"/>
              </a:rPr>
              <a:t>анальгин 50% - 0,1 мл/год жизни; димедрол 1%, при возбуждении–пипольфен 2,5% 0,2 мл/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упир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ие судорог – седуксен (до 3-х мес.- 0,3мл, 3-6 мес.-0,5мл, 7мес.-2г- 0,5-1 мл; более 2 л-1,5-2 м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тибактериальная терапия (цефтриакс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гидратация (лазикс (0,5-1-2 мг/кг, магния сульфат 1 мл/год жизни) при отсутствии обезво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изнаках ОНГМ и для профилактики ИТШ-дексазон 0,5 мг/кг, преднизолон 1-2 мг/кг массы т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ечение в стационаре больных ГФ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85840" y="127476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рапия в специализированном отделении нейроинфекций или в ПИТ в инфекционном стациона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рименяются ЦС 3 поколения (цефтриаксон 2,0*2р в/в* 7-10 дней, цефатоксим, цефтазидим 2,0*3 раза/де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.использоваться бензилпенициллин из расчета 300-500 тыс. ед/кг/сутки в/м с интервалом в 4 часа, детям до 3 мес. - 500 тыс.ед/кг с интервалом 2-3 часа. Можно назначать полусинтетические пенициллины в тех же дозиров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урс а/б-терапии - 7-10 дней без снижения доз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итерий отмены а/б- санация ликвора (цитоз не более 100 клеток в 1 мкл, лимфоциты - 75%), стойко нормальная температур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а, хорошее самочувств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A76A-2387-4C86-8A63-8CDDBF341EA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76320" y="0"/>
            <a:ext cx="90676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e8f"/>
                </a:solidFill>
                <a:latin typeface="Arial"/>
              </a:rPr>
              <a:t>Этиотропная антимикробная терапия при бактериальных менингитах с идентифицированным аген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214200" y="907920"/>
          <a:ext cx="8715600" cy="5686560"/>
        </p:xfrm>
        <a:graphic>
          <a:graphicData uri="http://schemas.openxmlformats.org/drawingml/2006/table">
            <a:tbl>
              <a:tblPr/>
              <a:tblGrid>
                <a:gridCol w="2000520"/>
                <a:gridCol w="3354120"/>
                <a:gridCol w="3360960"/>
              </a:tblGrid>
              <a:tr h="57204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араты выб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ьтернативные препар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meningitid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фтриаксон 4,0 г/сут в/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нициллин 300-500 тыс. ЕД/кг/сут в/в на 6 введений, появляются </a:t>
                      </a: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резистентные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омицетин-сукцин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100 мг/кг/сут на 3 введения (не более 6,0 г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профлоксацин 400 мг/кг/сут в/в на 2 в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16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pneumoni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фтриаксон 4,0 г/сут в/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пициллин 300 мг/кг/сут в/в на 6 в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нициллин 300-500 тыс. ЕД/кг/сут в/в на 6 в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нкомицин 2,0 г/сут., в/в + рифампицин 900-1200 мг/сут на 2 при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опенем 3,0г/сут на 3 при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56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 influenzae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фтриаксон 4,0 г/сут в/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пициллин 300 мг/кг/сут в/в на 6 в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омицетин-сукцинат 80-100 мг/кг/сут через 8 ча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профлоксацин 400 мг/кг/сут в/в на 2 в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атогенетическая 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нтигипоксическ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езинтоксикационная (инфузии 40-50 мл/кг/сут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ивошоков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егидратационная (маннитол, фуросемид,  альбумин, глицерин, дексаметазон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ррекция ДВС-синдро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ивовоспалительная и десенсибилизирующ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аболическая и нейровегетативная защита мозга   (антиоксиданты, пирацетам, кавинтон, актовегин, церебральная  гипотерми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ивосудорожные средства (сибазон, дроперидол, ГОМ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5834-5170-41C1-AE22-0DE74C094A4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рапия отека голов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285840" y="114264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м вводимых растворов ограничивается до 75% от физиологической потребности: 10% р-р глюкозы, 20% р-р альбумина, полиионные солевые р-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"Стартовым" раствором м.б. 20% раствор маннитола из расчета 0,25-1,0 г/кг в течение 10-30 мин, инфузию препарата можно повторить через 8-12 час. Через 60-90 мин после введения маннитола для предотвращения синдрома "отдачи" -фуросемид 1-2 мг/кг мас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нормализации КОС в/в капельно полиионные солевые буферные растворы (ацесоль, квартасоль, лактасоль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судорогах противосудорожные средства до купирова-ния: диазепам - 0,1-0,2 мл/год жизни, повторно до 0,3-0,5 мг/кг, в стационаре - вальпроаты, барбитураты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ксаметазон с противоотечной  целью (16-32 мг/с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лажненный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FB7F-EC91-4125-8CA1-D4A0D6CD21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альпро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0004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льпроат обладает широким спектром противосудо-рожной активности, хотя используется в качестве лечения первой линии при тонико-клонических приступах, миоклонических припадках. Также внутривенно для лечения эпилептического стату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парат выпускается (конвульсофин-кальция вальпроата дигидрат в виде табл.по 300 мг, и по 50, 200 или 300 мг вальпроевой кислоты/вальпроата натрия, по 500 мг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(депакин-50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.пролонгированного действия, покрытых оболочкой (конвулекс - вальпроат натрия - по 300, 500 мг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псулах (конвулекс- вальпроевая кислота - по 150, 300, 500 мг), в виде сиропа (конвулекс - сироп для детей), по 50 мг вальпроата натрия в 1 мл, в виде раствора (капли) для приёма внутрь, по300 мг вальпроевой кислоты в 1 м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виде раствора для в/в введения (конвулекс), в ампулах по 5 мл, содержащего 100 мг/м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Седация при ОНГ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227160" y="872640"/>
            <a:ext cx="861696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рбитуровый наркоз обеспечивает выраженный противоотечный эффект. Для этого применяют высокие дозы барбитуратов: 10 мг/кг в течение 30 мин; 5 мг/кг каждый час в 3 дозы, поддерживающая доза 1 мг/кг в ча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бочные эффекты: артериальная гипотензия, угнетение сердечной деятельности, иммуносупрессия, увеличение риска инфекций, электролитные нарушения, острый токсический гепатит и ОП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 использование фенобарбитала 10 мг/кг внутри- венно в течение 30 мин медленно, с продолжающейся пер- фузией 5 мг/кг в час в течение 3 ч, с продолжением поддер- живающей инфузии в дозе 1 мг/кг в ча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ют также тиопентал натрия 2 мг/кг внутривенно в течение 20с до снижения ВЧД &lt;20 мм рт. ст. Дальнейший протокол предполагает введение вторичного болюса в дозе 3 мг/кг массы тела или третичного болюса – в дозе 5 мг/кг, при необходимости продолжение введения поддерживающей дозы 3 мг/кг в ча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5659-DE5C-47E5-82F9-A3C08C8811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испансерное наблю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5840" y="114300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еренесшие менингит находятся под наблюдением районного невропатолога и участкового врача не менее 2-х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сле выписк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стационара: через 1 мес., далее 1 раз в 3 мес. в течение первого года, 1 раз в 6 мес. в дальнейшем, при необходимости частота осмотров увеличив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выписке из стационара пациенту выдается справка с описанием мониторинга его состояния, проведенного лечения и лабораторного обследования, а также рекомендации по дальнейшему ведению реконвалесцент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Школьников и дошкольников не рекомендуется направлять в детские коллективы в течение 2-3 недель после выписки из стациона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C58F-D4CE-416A-AF5E-602F954DF5F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испансерное наблю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13840" y="10000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кольники, перенесшие ГФМИ, на 6 мес. освобождаются от занятий физкультурой и других физических нагруз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филактические прививки детям, перенесшим легкую степень менингококкемии могут быть проведены через 1 месяц после выздоровления, среднетяжелую - через 2-3 месяца, тяжелую - через 3-4 месяце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ям, перенесшим менингит или смешанную форму менингококовой инфекции, вакцинация может быть проведена не ранее, чем через 3 месяца при выздоровлении и только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осле осмотра невропатолог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личии последствий в виде органических поражений головного мозга, судорог, выраженных функциональных нарушений головного мозга - не ранее чем через год после их исчезновения или стойкой компенс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тели менингококка могут быть привиты сразу после санации, а перенесшие назофарингит - через 1 меся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54C8-3D53-4BFD-B50A-59E1237F121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9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Актуальные этиологические факторы менинги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39280" y="1592280"/>
            <a:ext cx="80852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buClr>
                <a:srgbClr val="a500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Arial"/>
              </a:rPr>
              <a:t>Бактериальные агенты: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</a:rPr>
              <a:t>менингококки, пневмококки, гемофильная палочка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рептококки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r.agalactiae)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афилококки,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</a:rPr>
              <a:t>микобактерии туберкулез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листерии, сальмонеллы, спирохет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800"/>
              </a:spcBef>
              <a:buClr>
                <a:srgbClr val="a500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Arial"/>
              </a:rPr>
              <a:t>Вирусные агенты: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</a:rPr>
              <a:t>энтеровирусы</a:t>
            </a:r>
            <a:r>
              <a:rPr b="0" lang="ru-RU" sz="2300" spc="-1" strike="noStrike">
                <a:solidFill>
                  <a:srgbClr val="262673"/>
                </a:solidFill>
                <a:latin typeface="Arial"/>
              </a:rPr>
              <a:t> (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ксаки А (1–24 типов) и В (1–6 типов), вирусы ECHO (1–34 типов), семейство герпесвирусов (ВПГ 1, 2 типа, ВЭБ, ВГЧ 6 типа), арбовирусы (КЭ), парамиксовирусы (эпидемического паротита, парагриппа), вирусы кори, краснухи, бешенст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D99D-B2F6-410F-80FC-F9B5DCF87F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99B7-92FC-4784-A74A-928F1C801D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Picture 4" descr="DSC_5984"/>
          <p:cNvPicPr/>
          <p:nvPr/>
        </p:nvPicPr>
        <p:blipFill>
          <a:blip r:embed="rId1"/>
          <a:srcRect l="0" t="4290" r="0" b="19305"/>
          <a:stretch/>
        </p:blipFill>
        <p:spPr>
          <a:xfrm>
            <a:off x="1582560" y="1600200"/>
            <a:ext cx="597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06200"/>
            <a:ext cx="8459640" cy="80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Патогенез поражения нервной системы при менингитах различной эт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42560" y="1196640"/>
            <a:ext cx="8767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При </a:t>
            </a:r>
            <a:r>
              <a:rPr b="1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вирусных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менингитах развиваются  дистрофические и некротические повреждения </a:t>
            </a:r>
            <a:r>
              <a:rPr b="1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нейроцитов и глиальных клеток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При бактериальных </a:t>
            </a:r>
            <a:r>
              <a:rPr b="1" lang="ru-RU" sz="2100" spc="-1" strike="noStrike">
                <a:solidFill>
                  <a:srgbClr val="2d2d8a"/>
                </a:solidFill>
                <a:latin typeface="Arial"/>
                <a:ea typeface="Arial"/>
              </a:rPr>
              <a:t>–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гнойное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воспаление </a:t>
            </a:r>
            <a:r>
              <a:rPr b="1" lang="ru-RU" sz="2100" spc="-1" strike="noStrike">
                <a:solidFill>
                  <a:srgbClr val="2d2d8a"/>
                </a:solidFill>
                <a:latin typeface="Arial"/>
                <a:ea typeface="Arial"/>
              </a:rPr>
              <a:t>мягких мозговых оболочек, б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лагодаря факторам патогенности бактерий (ЛПС, подавление фагоцитоза и бактерицидной активности крови, синте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IgA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-протеазы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ЛПС→плазморея→ белковый экссудат  и гнойный детрит формируют фибринозно-гнойный сгусток, он являясь питательной средой и снижая пенетрацию а/б, приводит к усилению размножения бактерий, повреждению нейроцитов, вещества ГМ→ менингоэнцефалиту, блоку в ликворных путях, ↑ гипоксии  мозг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проницаемости ГЭБ,сосудистой стенки, нарастающий интерстициальный отек белого вещества, набухание клеток и гиперпродукция ликвора приводят к ОНГМ, ВЧГ, при декомпен-сации которого наступает дислокация мозга с развитием паралича центра дыхания и сосудистого центра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FEF2-A604-4D7A-A0E2-0B6009F3CB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5"/>
          <p:cNvSpPr/>
          <p:nvPr/>
        </p:nvSpPr>
        <p:spPr>
          <a:xfrm>
            <a:off x="509760" y="1268280"/>
            <a:ext cx="70401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МЕНИНГИТ      ЭНЦЕФАЛИТ      МИЕЛ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33"/>
          <p:cNvSpPr/>
          <p:nvPr/>
        </p:nvSpPr>
        <p:spPr>
          <a:xfrm>
            <a:off x="1187280" y="404640"/>
            <a:ext cx="6769440" cy="797040"/>
          </a:xfrm>
          <a:custGeom>
            <a:avLst/>
            <a:gdLst>
              <a:gd name="textAreaLeft" fmla="*/ 0 w 6769440"/>
              <a:gd name="textAreaRight" fmla="*/ 6769800 w 676944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4264" h="502">
                <a:moveTo>
                  <a:pt x="0" y="502"/>
                </a:moveTo>
                <a:cubicBezTo>
                  <a:pt x="17" y="95"/>
                  <a:pt x="1476" y="0"/>
                  <a:pt x="2187" y="0"/>
                </a:cubicBezTo>
                <a:cubicBezTo>
                  <a:pt x="2898" y="0"/>
                  <a:pt x="4262" y="111"/>
                  <a:pt x="4264" y="502"/>
                </a:cubicBezTo>
              </a:path>
            </a:pathLst>
          </a:custGeom>
          <a:noFill/>
          <a:ln w="63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>
            <a:off x="7956720" y="1197000"/>
            <a:ext cx="0" cy="14436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40"/>
          <p:cNvSpPr/>
          <p:nvPr/>
        </p:nvSpPr>
        <p:spPr>
          <a:xfrm>
            <a:off x="1187280" y="1268280"/>
            <a:ext cx="0" cy="7164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Freeform 41"/>
          <p:cNvSpPr/>
          <p:nvPr/>
        </p:nvSpPr>
        <p:spPr>
          <a:xfrm>
            <a:off x="1692360" y="765000"/>
            <a:ext cx="2808360" cy="47484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1769" h="299">
                <a:moveTo>
                  <a:pt x="0" y="299"/>
                </a:moveTo>
                <a:cubicBezTo>
                  <a:pt x="47" y="18"/>
                  <a:pt x="557" y="16"/>
                  <a:pt x="852" y="8"/>
                </a:cubicBezTo>
                <a:cubicBezTo>
                  <a:pt x="1147" y="0"/>
                  <a:pt x="1720" y="32"/>
                  <a:pt x="1769" y="253"/>
                </a:cubicBezTo>
              </a:path>
            </a:pathLst>
          </a:custGeom>
          <a:noFill/>
          <a:ln w="633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42"/>
          <p:cNvSpPr/>
          <p:nvPr/>
        </p:nvSpPr>
        <p:spPr>
          <a:xfrm>
            <a:off x="1692360" y="1268280"/>
            <a:ext cx="0" cy="142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43"/>
          <p:cNvSpPr/>
          <p:nvPr/>
        </p:nvSpPr>
        <p:spPr>
          <a:xfrm>
            <a:off x="4500720" y="1197000"/>
            <a:ext cx="0" cy="14436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Freeform 45"/>
          <p:cNvSpPr/>
          <p:nvPr/>
        </p:nvSpPr>
        <p:spPr>
          <a:xfrm>
            <a:off x="4932360" y="765000"/>
            <a:ext cx="2232000" cy="41148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1406" h="259">
                <a:moveTo>
                  <a:pt x="0" y="259"/>
                </a:moveTo>
                <a:cubicBezTo>
                  <a:pt x="55" y="31"/>
                  <a:pt x="516" y="0"/>
                  <a:pt x="750" y="0"/>
                </a:cubicBezTo>
                <a:cubicBezTo>
                  <a:pt x="984" y="0"/>
                  <a:pt x="1318" y="71"/>
                  <a:pt x="1406" y="259"/>
                </a:cubicBezTo>
              </a:path>
            </a:pathLst>
          </a:custGeom>
          <a:noFill/>
          <a:ln w="633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46"/>
          <p:cNvSpPr/>
          <p:nvPr/>
        </p:nvSpPr>
        <p:spPr>
          <a:xfrm>
            <a:off x="4932360" y="1197000"/>
            <a:ext cx="0" cy="142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47"/>
          <p:cNvSpPr/>
          <p:nvPr/>
        </p:nvSpPr>
        <p:spPr>
          <a:xfrm>
            <a:off x="7164360" y="1197000"/>
            <a:ext cx="0" cy="142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Freeform 48"/>
          <p:cNvSpPr/>
          <p:nvPr/>
        </p:nvSpPr>
        <p:spPr>
          <a:xfrm>
            <a:off x="1187280" y="1792440"/>
            <a:ext cx="6697800" cy="365040"/>
          </a:xfrm>
          <a:custGeom>
            <a:avLst/>
            <a:gdLst>
              <a:gd name="textAreaLeft" fmla="*/ 0 w 6697800"/>
              <a:gd name="textAreaRight" fmla="*/ 6698160 w 669780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4219" h="460">
                <a:moveTo>
                  <a:pt x="0" y="45"/>
                </a:moveTo>
                <a:cubicBezTo>
                  <a:pt x="2" y="366"/>
                  <a:pt x="1520" y="460"/>
                  <a:pt x="2223" y="453"/>
                </a:cubicBezTo>
                <a:cubicBezTo>
                  <a:pt x="2926" y="446"/>
                  <a:pt x="4215" y="272"/>
                  <a:pt x="4219" y="0"/>
                </a:cubicBezTo>
              </a:path>
            </a:pathLst>
          </a:custGeom>
          <a:noFill/>
          <a:ln w="63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50"/>
          <p:cNvSpPr/>
          <p:nvPr/>
        </p:nvSpPr>
        <p:spPr>
          <a:xfrm flipV="1">
            <a:off x="4751280" y="1650600"/>
            <a:ext cx="1800" cy="530280"/>
          </a:xfrm>
          <a:prstGeom prst="line">
            <a:avLst/>
          </a:prstGeom>
          <a:ln w="63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52"/>
          <p:cNvSpPr/>
          <p:nvPr/>
        </p:nvSpPr>
        <p:spPr>
          <a:xfrm flipV="1">
            <a:off x="1187280" y="1773000"/>
            <a:ext cx="0" cy="21564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53"/>
          <p:cNvSpPr/>
          <p:nvPr/>
        </p:nvSpPr>
        <p:spPr>
          <a:xfrm flipV="1">
            <a:off x="7885080" y="1773000"/>
            <a:ext cx="0" cy="1429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54"/>
          <p:cNvSpPr/>
          <p:nvPr/>
        </p:nvSpPr>
        <p:spPr>
          <a:xfrm>
            <a:off x="179280" y="2260440"/>
            <a:ext cx="88218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</a:rPr>
              <a:t>Общемозговые симптомы: 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головная боль, рвота фонтаном, возбуждение, судороги, галлюцинации, нарушение сознан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</a:rPr>
              <a:t>Собственно оболочечные симптомы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Общая гиперестезия (кожная, гиперакузия, фотофобия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Менингеальные знаки: ригидность затылочных мышц, симптомы Кернига, Брудзинского, с-м Лессаж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Реактивные болевые феномены: с-м Данцига, Менделя и др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</a:rPr>
              <a:t>Синдромы очаговых поражений 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(энцефалит, поражение черепных нервов), оцениваются совместно с неврологом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262673"/>
                </a:solidFill>
                <a:uFillTx/>
                <a:latin typeface="Arial"/>
              </a:rPr>
              <a:t>Внешне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-гиперемия, синюшность лица, одышка, аритмия дыхания, повышение АД, бради-, тахикардия. Позднее клонико-тонические судороги, снижение фотореакции зрачков, плавающие гл.яблоки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Изменения на ЭЭГ, ликвор вытекает струей,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↑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 ликворного давления </a:t>
            </a:r>
            <a:r>
              <a:rPr b="0" lang="en-US" sz="2100" spc="-1" strike="noStrike">
                <a:solidFill>
                  <a:srgbClr val="262673"/>
                </a:solidFill>
                <a:latin typeface="Arial"/>
              </a:rPr>
              <a:t>&gt;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 200 мм.вод.ст., биомикроскопия сосудов глазного яблок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66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Менингококковый менинг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227160" y="1128240"/>
            <a:ext cx="868968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трейшее начало болезни, ведущий симптом - головная боль нарастающая, распирающего характера, чуть позже - рвота  «фонтаном». Фотофобия, гиперакузия, гиперестезия. Менингеальные знаки в первые 12 – 24 ча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2-3-й день редко (в 8-10%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ы поражения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череп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нервов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II,IV,VI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III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парезы глазодвигательного, слухового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знаки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энцефали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лишь у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,5%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резкие, чаще в виде  корковых расстройств (амнезия, галлюцин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 9 (12,5%) больных развилось тяжелое осложнение-ОНГМ (спутанное сознание, психомоторное возбуждение, судороги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сочетании с коккемией (у молодых людей в 30-45%, у детей в 70-90%) доминируют проявления коккемии: нарастает интоксикация, к концу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ня геморрагическая сыпь, затем 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8405640" y="6313320"/>
            <a:ext cx="584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9DB8-00D7-4544-84FC-36355C2F08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094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Особенности менингеального синдрома у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36240" y="1494000"/>
            <a:ext cx="83502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явления головной боли – беспокойство, плач, монотонный крик, в тяжелых случаях ст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имптом Кернига и ригидность затылочных мышц могут быть не выраже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ячивание родничка, ослабление или отсутствие его пульсации, «арбузный» звук при поколачивании по черепу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имптом «подвешивания»  Лессаж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редко начальные проявления менингеального синдрома - судорожный синдром и диаре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 детей часты смешанные формы коккемии и менингита (у 70-90%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1137-478A-496E-911A-D7AA3596940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1219320" y="1522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федра инфекционных болезней с курсом  ИДПО БГ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Picture 4" descr="~Menin_1"/>
          <p:cNvPicPr/>
          <p:nvPr/>
        </p:nvPicPr>
        <p:blipFill>
          <a:blip r:embed="rId1"/>
          <a:stretch/>
        </p:blipFill>
        <p:spPr>
          <a:xfrm>
            <a:off x="2286000" y="68580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3:29:17Z</dcterms:created>
  <dc:creator>Николай</dc:creator>
  <dc:description/>
  <dc:language>en-US</dc:language>
  <cp:lastModifiedBy>User</cp:lastModifiedBy>
  <cp:lastPrinted>2017-05-17T13:08:27Z</cp:lastPrinted>
  <dcterms:modified xsi:type="dcterms:W3CDTF">2020-02-26T16:19:08Z</dcterms:modified>
  <cp:revision>1245</cp:revision>
  <dc:subject/>
  <dc:title>Н.В.Васильева  директор клинической микологии С-Пб МАПО</dc:title>
</cp:coreProperties>
</file>