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.В.В. - Лекция _ Концепция развития микологической помощи населению РФ 2008.p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dt" idx="34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0FBB34-2AF2-495F-B4FF-F9843CF8CAD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54411E2-CBE3-478C-83BD-E9205BF9DB19}" type="datetime12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4:16 A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ftr" idx="35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 type="sldNum" idx="36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2935E0B-1F51-4CE5-907A-917C1F4644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EDFC875-34C4-4C02-B164-AA3CCC43563C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DEF-5FE8-4793-9B72-197C5D67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920-0351-4D1D-887E-1521A79B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178C4-2BE9-4F07-B855-F8398D0D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B488B-451D-4F5F-9C6E-E7CD9347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D0A79-6074-4120-818C-ED05C9CF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F4BAB-4F34-4BCF-A99D-D7277F9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0347E-8A16-41A3-A38C-8F4AF31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53F1A-43E4-4EA8-86A9-C3657B55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342D7-6AF2-41DB-A3A7-20071BF6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C7088-5952-4625-A206-45B3F7DF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E5344-CF60-4F5A-8456-75D288E8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590A1-D4B3-494F-9179-D5E007EB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ED8-6B5F-4699-991C-57FFAD6A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1083A-6054-4C92-BC2C-4D42B856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1A134-5B42-48AA-9415-B84F8F91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A3A4D-3C41-4BB9-962D-FC704BE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3C93A-AFAA-4C08-86D8-11476FE2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28078-65CB-4A15-956B-FEBE69AE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59F7A-2033-442F-A5FE-88D42399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58BFC-05DD-4F0A-9065-FB952DF8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1BAAB-5BD9-47BD-B2B1-18A99499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03241-E8BC-4200-95B7-E5D27168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E9A28-DD91-4115-BDDA-2B4DFAAC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E06-161C-4F8F-8904-AEFEEAE4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1B735-3CB4-4ACD-91B9-5AB8D15F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AA708-0F3A-499F-A7DE-97975CDE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F5713-E900-4D8B-AA43-C88D85F8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39492-F4D6-455E-A49B-0EC53AD9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1BE20-C32E-4C4F-872F-BE5C6E8A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4A2E0-183C-4AC5-9FA6-1E24C622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7E8B4-CB1E-4AEB-9BD8-209C0E32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1FD09-029E-4529-9DC8-0E46A7B4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877BD-D31D-4EBA-B59C-A3DC7E1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A8432-EA16-4BE7-B953-EA2B4F3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763C-D17D-4EFE-87A2-A27DEA0B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710E8-862E-4622-B9D6-DD91B831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964CF-884D-4DF4-943F-7204EBEF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CBC91-91C7-4DF2-B2F1-82338CDC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5E62-0BCF-4537-BDB1-F214279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0F74-F87F-4F07-BB1A-728D217C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E704-C49C-4C41-B64E-BBFC2AA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87E4-8439-4D44-99CB-29D091AA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6A12-D952-4BF3-8D3D-8904421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9FC9-12CF-4721-9BA6-795E810C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B19-F56E-4B7B-BC1C-2E365017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7755-2D1F-43CD-80DC-47BB822B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49F0-7D87-42CC-A0DC-048AF893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98B7-0E41-4604-BE23-62C57167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7473-2A10-4DAE-A701-32A1B05A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5B64-4369-4AEF-8792-918A9245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FD4A-F6B4-4C1C-85A9-CCF9BFB3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C3CD-5FF4-40C4-96D3-BCBEF680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9EB4-0BFA-4799-91E1-AFDB16EC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5BAB-BB7F-436E-B468-5D26EEDE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A162-38B1-4817-8969-B7008DEA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56A-ED31-45D5-A457-008FE6C1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E1D5-C07B-41F7-AE5B-614E690A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9D90F-F939-4AD1-8DDB-D2A1B117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5B79-3A25-473F-8CC3-69111811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DCEB-649E-4085-B9BB-4B33B8B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DDEEE-DB4A-4031-97A1-EC751C51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2B741-B694-4C04-BDBA-2D96B422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410C-7119-4A87-8ED5-5124BC29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AC82-77B2-455F-9B46-3F205FBF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C1C5-A72A-43EA-AF68-D76E3915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0F89-AC04-43DB-A6C2-82B858A9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8AD-9741-4BB3-93BB-F2C64768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E105-179B-4A66-9C6B-D7A59621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7B0D-F3FB-45EB-B30C-24AEC0AB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BAFE-F5DC-424D-8F56-9864AF67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E350-65A6-4E47-943D-FDFBBC9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B3C59-706C-4450-95A3-25DE651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6118-313E-4818-98BF-C6A81A7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00A8-C283-4A4D-A827-09BFA8F2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B90C-6C5F-4AA2-B02B-D29541F6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55CC-0D8C-4BA3-94FC-60B90557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955DE-CD01-4675-AAED-F42CA9DD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08F-C23D-4EBD-89E9-C37CCB14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83D16-1C28-4635-BE7B-A977308A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9741-14A7-456E-8297-55D86F4E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18A74-5DB8-4281-93EA-CFF00385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C550-6219-47B0-9F27-EC31B6EC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AEC7C-3AF5-402D-A252-36087DAC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8F580-A834-45D8-B78C-8E88E1C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CC91-9C0E-4F13-B884-59CE0C0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CF908-9A41-48A7-B305-791A9062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A13E-8CE4-45F6-9B11-669C8FA8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2D5F8-56AE-4B04-AF86-99FC94BD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23C-CF43-4E25-B22C-16D7C24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A11C3-AFDB-4D58-BA93-C738EA6A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CA147-B41D-4157-B520-94D24B26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A61DB-299C-4054-974A-BA1BA108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AF0E7-AEE0-4813-B23A-2A7044EB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68A91-0EB5-4B8D-A33C-89F89A83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A62D6-1B24-43DF-B22D-3491A5FF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6B0B-DE88-4408-AAB2-B12D9E2B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52EC-BB0A-4262-9648-168679BC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4EFE4-48F0-4F29-9235-248761D6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B1709-FF8C-449D-BB2B-86A3891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716-07BB-42DB-A9D1-0B12D997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D6C71-E97D-4586-B906-2171D780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5480F-E012-456A-8D46-91F23ACB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FB20B-AE84-482E-B058-64091C47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28A2A-E6D5-4A0A-9236-87443E1D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D0AE-2759-4809-A9DB-CA3B3319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4A00A-4A80-4692-981F-3D0F1155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340C-95FA-4D51-B24C-A742B2A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EF990-2F48-4118-9B8B-5431334C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9730-33D1-41C6-A792-98AA0BBD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439C4-141E-44C9-A066-B67AF5F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591-DC55-4C03-8755-A9A4FAB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D3CA4-933B-4969-8A9B-2C59D57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0E291-51D1-4F11-A68E-BA74CBF6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15D70-E8A0-4BC2-8C71-25E9A5E6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B7B3-22B8-4AA1-9FA8-C1543663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B16CA-5FFB-47DE-B11C-35B1E3AE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F1CB4-BB1F-4D83-ABE0-7142D6D3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349A4-9417-4DF0-B793-C60C1BD6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125C1-3F44-44A9-8C3F-37DC3165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9E80-9D80-4F80-8140-5C96829F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482BA-3FED-4979-885B-7C9F9E00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BE1-848E-45BF-B2E5-AD1CF3E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FFAB0-2171-4B3A-A2E6-EE0C0330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F8D18-7D3D-4983-A4DC-DDCE252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9357D-2AB4-4179-9AB1-4019EA24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D8C3-5612-4B3C-ABE3-20E12C02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89A2-B233-47DA-82AE-A7EFF1D9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183BC-4691-42A4-B1FA-0AF4F57A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23DEC-2478-45EF-A14F-EFA08F66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A1D4D-7427-4749-B857-B1660938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3A36B-4701-4F79-AC98-D0D3CDE4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E22D3-D98C-4D29-AE31-AA7224F9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BC2A-3526-47CE-95DA-4594AA18D6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ррови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рпчочрепвчре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CEE1-A429-4FFA-8126-091D55F29E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7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8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D074-81AF-4928-B7E3-3AA8C694CC6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еррови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рпчочрепвчре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1A8-5028-43FC-A682-6AF7C381F9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4558-18CC-4948-8084-AA5E6AD2F39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ррови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рпчочрепвчре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4BB8-7558-4BBA-B437-CBF4A07DF1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995B-1913-4D97-A583-F202D3778E2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D975-2B60-4287-B08C-BBDD3D1BBC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10A0-1467-4F3C-B1C3-584D72069E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еррови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арпчочрепвчре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D1B5-970A-480E-BB95-2BEDA1A4DC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3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4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6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Феррови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арпчочрепвчре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5A2B-8015-4E2C-9711-FA200BE6793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6800" y="2625840"/>
            <a:ext cx="8799480" cy="160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d2d8a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индрома менингита, отек- набухание головного мозг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936680" y="5157360"/>
            <a:ext cx="3870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Р.Т. Мурзаба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Характеристика пневмококковой 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36600" y="999720"/>
            <a:ext cx="850752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222268"/>
                </a:solidFill>
                <a:latin typeface="Arial"/>
              </a:rPr>
              <a:t>По данным ВОЗ пневмококковый менингит дает самый высокий уровень летальности (до 25%) и инвалидности (до 60%), ежегодно умирает </a:t>
            </a:r>
            <a:r>
              <a:rPr b="0" lang="en-US" sz="2200" spc="-1" strike="noStrike">
                <a:solidFill>
                  <a:srgbClr val="222268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222268"/>
                </a:solidFill>
                <a:latin typeface="Arial"/>
              </a:rPr>
              <a:t>1,5 млн. ч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Ф ПМ занимает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2–3 мест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20-30%), летальность высокая у новорожденных (85%) и у пожилых (40-50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т возникать как первично (чаще), так и вторично (пневмония, отит, мастоидит, синусит, эндокардит, ЧМТ с ликвореей (3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болевают дети грудного возраста (15%) и пациенты старше 50 лет (75%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кторы риска ПМ: частые ОРВИ, перенесенная ЧМТ с ликвореей, хроническая патология легких и ЛОР-орга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Вакцинация против ПИ </a:t>
            </a:r>
            <a:r>
              <a:rPr b="0" lang="ru-RU" sz="22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кциной: «Пневмо-23» – детям 2 и 4,5 мес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V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 мес., в/м 0,5 мл; пожилым 1-й раз – пневмо13 (превенар 13), повторно через 3 г.-пневмо-2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09320" y="189000"/>
            <a:ext cx="839772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  <a:ea typeface="Arial"/>
              </a:rPr>
              <a:t>Клиника пневмококковой инфе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14200" y="928800"/>
            <a:ext cx="87026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ля ПМ характерно острое начало,  высокая лихорадка  до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2-х недель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тенсивные головные боли, у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60-70</a:t>
            </a:r>
            <a:r>
              <a:rPr b="0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%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1" lang="ru-RU" sz="23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1,2-й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ни болезни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очаговые поражения НС-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удороги и нарушение сознания, поражения черепных нервов, моно-, гемипарезы, птоз, двоение, косоглазие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Тяжесть течения ПМ обусловливается не интоксикацией, а  вовлечением в процесс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вещества мозг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аже при рано начатой АБТ на фоне быстрой консолида-ции гноя и низкой биодоступности возбудителя пневмококки активно размножаются и вызывают тяжелый менинго-энцефали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Ликвор очень мутный, зеленоватого цвета, плеоцитоз (500-1500) и много белка (1-10г/л), снижение сахар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Б/скопия –грам+, внеклеточно, диплококки, РЛА +85%,ПЦР +у 98-99%, бакпосев  +рез-т у 30-45%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Характеристика гемофильной инфекции (Haemophilus influenzae тип b) (5 случ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216000" y="1071360"/>
            <a:ext cx="8748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данным ВОЗ ежегод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ире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3 млн. случае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Б-инфекции, из них 380 тыс. летальных. В РФ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Б-менингиты-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2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место сред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М (10-30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90% людей палочка Пфейффера обитает на слизистой ВДП, капсульные штаммы - у 3-5% обследованных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М болеют преимущественно дети до 5  лет (85-90%), часто дети до 1 г., к 3 мес. исчезают материнские АТ; и пациенты с ХОБЛ старше 50 лет. Может быть в виде сепсиса, эпиглотт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М начинается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одостро с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шля, насморк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до 38-39°, ч/з 2-4 дня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ухудшение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до 41°С, головные боли, рвота, менин-геальные знаки, нарушение сознания, на 2-3 дни - очаговые симптомы, нередко затяжное те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 20-40% детей после  ГМ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неврологические последствия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ительная санация ликвора. Летальность–5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икв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мутный, цитоз (1000-2000), нейтрофильный, белок (1,5-3 г/л), огромное количество бактерий в ликвор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нтибиотик выбора- цефтриаксон, ципрофлоксаци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3-х не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7160" y="106200"/>
            <a:ext cx="86896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Вторичные гнойные менинг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14200" y="928800"/>
            <a:ext cx="850104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Вторичный гнойный менингит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ся как осложнение гнойно-воспалительного процесса (чаще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 оти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синусит, пульпит, остеомиелит, эндокардит, сепсис), ЧМТ с ликвореей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ачало острейшее, быстрое развитие клиники, головные боли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до 40°С, упорная рвота. Резко выражены менингеальные знаки, застойные диски зрительных нервов, 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  <a:ea typeface="Arial"/>
              </a:rPr>
              <a:t>рано очаговые!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имптомы,  нарушение сознания (субарахноидальные гнойные очаги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Важен подробный анамнез болезни, комплексное обследование (КТ, МРТ), осмотр ЛОР- врача, офтальмолога, стоматолог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ри вторичных менингитах необходима хирургическая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санация гнойного очаг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ранняя госпитализация в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  <a:ea typeface="Arial"/>
              </a:rPr>
              <a:t>специализированный стациона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Номер слайда 3"/>
          <p:cNvSpPr/>
          <p:nvPr/>
        </p:nvSpPr>
        <p:spPr>
          <a:xfrm>
            <a:off x="8515440" y="6423120"/>
            <a:ext cx="511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7C68-FE44-4A46-9C4E-87139E4CB7D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8276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d2d8a"/>
                </a:solidFill>
                <a:latin typeface="Arial"/>
              </a:rPr>
              <a:t>Туберкулезный менингит (7-9% от всех форм) 4</a:t>
            </a:r>
            <a:r>
              <a:rPr b="1" lang="ru-RU" sz="2000" spc="-1" strike="noStrike">
                <a:solidFill>
                  <a:srgbClr val="2d2d8a"/>
                </a:solidFill>
                <a:latin typeface="Arial"/>
              </a:rPr>
              <a:t> случая в ИКБ № 4 в 201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23640" y="1214280"/>
            <a:ext cx="8404200" cy="549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Ф в 2018 г. 72,6 тыс.случаев туберкулеза /49,7; в РБ - 61 на 100 тыс. нас-я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Летальность от ТМ -15-32,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Туберкулезный менингит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 (30%),менингоэнцефалит (70%)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ериод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родро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1-8 нед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.)-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остепенное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, сначала головная боль, головокружение, тошнота, иногда рвота, субфебрилитет, общая слаб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период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раздраже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ихорадка до 39°, нарастает головная боль, рвота, апатия, сонливость, угнетение сознания, развивается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базальный менинги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пораже-нием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III,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VI,VII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, далее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VIII,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IX,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62673"/>
                </a:solidFill>
                <a:latin typeface="Arial"/>
              </a:rPr>
              <a:t>X, XII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 черепных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</a:rPr>
              <a:t>терминальный перио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 15-25 дни) преобладают признаки энцефалита: отсутствие сознания, дых-е Чейн-Стокса, центральные парезы, параличи, лихорадка (40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3840" y="188640"/>
            <a:ext cx="8929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Диагностика туберкулезного менингоэнцефа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226800" y="1304640"/>
            <a:ext cx="86295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е анамнеза (контакт с больны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уберкулиновые пробы, сроки вакцинации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ягощенный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преморбидны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н у 2 - В20, стадия 4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ника болезни: постепенное ухудшение состояния, менин геальный синдр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генография ОГК (милиарный ТВС легких), осмотр глаз-ного дна, КТ, МРТ, диагноз в первы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ней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иода!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Изменения в ликвор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зрачный, цитоз лимфоцитар-ный, 100-800 кл/мкл, высокий уровень белка (9,33 г/л), снижение сахара (в 2 раза). Образование фибринозной пленки через 24 часа (в 2 случаях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ализ ликвора на МБК методом бактериоскопии и в ПЦ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циенты переведены для лечения в РПТ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93D-0E94-4552-8836-E6F5FAB06605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34084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Лабораторная диагностика менинг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16000" y="785520"/>
            <a:ext cx="8664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актериоскопия с окрашиванием по Граму ликвора, носо-глоточной слизи–выявление грам-отрицательных диплококков внутри-и внеклеточн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в РЛА в ликворе АГ возбудителей БМ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ningitidi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luenz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neumoni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- до 85%, ч/з 2-3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ЦР ДНК МК в ликворе и крови – информативность до 99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аканализы крови, носоглоточной слизи, ликвора (инфор-мативность до 45%), позволяет определить антибиотико-грамму и серотипирование. Рекомендуется внедрять в клин. практику некультуральную диагностику БМ (РЛА и ПЦР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ние парных сывороток на 8-й и 14-16-й дни болезни 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  <a:ea typeface="Arial"/>
              </a:rPr>
              <a:t>РНГА с менингококковыми эритроц. диагностикумам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, В, С -  в 25% диагностический титр АТ в разведении 1:40-1:80, АТ сохраняются до 3-х лет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уточнения бактериальной этиологии менингита определение 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  <a:ea typeface="Arial"/>
              </a:rPr>
              <a:t>прокальцитонина (БОФВ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сыворотке крови (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иммунохроматограф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3"/>
          <p:cNvSpPr/>
          <p:nvPr/>
        </p:nvSpPr>
        <p:spPr>
          <a:xfrm>
            <a:off x="1219320" y="1522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федра инфекционных болезней с курсом дерматовенерологии ИПО БГ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5" name="Picture 4" descr="~Meningitis_5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637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Синдром воспалительных изменений в ликв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93212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вет и прозрачность: гнойные менингиты – ликвор мутный, желто-зеленого цвета, серозные – бесцветный, прозрач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кроскопия 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носоглоточной слизи, ликвора, кров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вне- или внутриклеточные 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  <a:ea typeface="Arial"/>
              </a:rPr>
              <a:t>Грам (+) и (-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иплококк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еоцитоз: гнойные менингиты –доминируют нейтрофилы (от 1 до 10-20 тыс.), серозные – лимфоциты (100-1000 кл. в 1 мк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белка: при гнойных –  5-10 г/л, при серозных – 0,66-1,1 г/л (норма -0,15-0,45 г/л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хар: сни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2,1 ммоль/л при гнойном и туберкулезном менинги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7025-C422-4E86-8B4F-9FB93A01D5F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5" descr=""/>
          <p:cNvPicPr/>
          <p:nvPr/>
        </p:nvPicPr>
        <p:blipFill>
          <a:blip r:embed="rId1"/>
          <a:stretch/>
        </p:blipFill>
        <p:spPr>
          <a:xfrm>
            <a:off x="0" y="130320"/>
            <a:ext cx="324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4" descr="~Meningitis_8"/>
          <p:cNvPicPr/>
          <p:nvPr/>
        </p:nvPicPr>
        <p:blipFill>
          <a:blip r:embed="rId1"/>
          <a:stretch/>
        </p:blipFill>
        <p:spPr>
          <a:xfrm>
            <a:off x="2209680" y="685800"/>
            <a:ext cx="4108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206960" y="325080"/>
            <a:ext cx="4937040" cy="222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оражение нервной системы при инфекционных заболеваниях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2917800"/>
            <a:ext cx="838692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-324000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 особую тяжесть течения инфекционного заболевания, высокую летальность и возможность отдаленных неблагоприятных послед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893B-AEB9-4B2C-90B6-A6B8C1CE34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5" name="Picture 4" descr="bcb5ce7b-2c57-44ec-83bc-c43e42e5d67e"/>
          <p:cNvPicPr/>
          <p:nvPr/>
        </p:nvPicPr>
        <p:blipFill>
          <a:blip r:embed="rId1"/>
          <a:stretch/>
        </p:blipFill>
        <p:spPr>
          <a:xfrm>
            <a:off x="0" y="0"/>
            <a:ext cx="40608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Внутричерепное д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99880" y="1055520"/>
            <a:ext cx="8507520" cy="58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ЧД представляет собой гидростатическое давление цереброспинальной жидкости (ЦСЖ) в системе желудочков мозга и в субарахноидальном пространстве, оказываемое на полушария мозг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нормальных условиях оно зависит от секреции и абсорбции ликвора. В течение суток у здорового человека вырабатывается и резорбируется до 500-600 мл ликвора, обновляясь 4 раза в течение суток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екреция ликвора является активным процессом, она определяется гемодинамическим фактором и происходит со скоростью около 0,4 мл/мин при ВЧД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20 мм рт.с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о 70–85% ликвора образуется сосудистыми сплетениями желудочков мозга, 10–12% — сосудами мозговой паренхимы. В норме ВЧД равно 5–15 мм рт. с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3D21-EEF0-447E-8335-5D6B358590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атогенез ОНГ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99880" y="982800"/>
            <a:ext cx="85075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и инфекционных заболеваний наиболее часто к раз- витию ОНГМ приводят бактериальные менингиты, менингоэнцефалиты и энцефали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атогенезе развития ОНГМ имеют знач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проницаемости ГЭБ, сосудистой стен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зморрея приводит к накоплению воды в белом веществе, на фоне гипоксии головного мозга проникновение ионов натрия и воды в клетку с её набуханием. Гипоксия гол.моз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копление жидкости в ограниченном пространстве ведет к закономерному повышению внутричерепного давл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ханическое раздражение болевых рецепторов мозговой оболочки и внутримозговых сосудов под действием токсинов, повышением ВЧД проявляется общемозговыми, менингеальными, затем и очаговыми симптомами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81A1-A5D8-4706-AA5D-43E9696F24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Стадии ОНГ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263520" y="982800"/>
            <a:ext cx="8616960" cy="58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линке отека мозга традиционно выделяют 3 стад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ение общемозгового синдрома, симптомы которого характерны для повышения ВЧ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ффузное рострокаудальное нарастание неврологических симптом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слокация мозговых структу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1. </a:t>
            </a:r>
            <a:r>
              <a:rPr b="1" i="1" lang="ru-RU" sz="2200" spc="-1" strike="noStrike">
                <a:solidFill>
                  <a:srgbClr val="2d2d8a"/>
                </a:solidFill>
                <a:latin typeface="Arial"/>
              </a:rPr>
              <a:t>Общемозговой синдр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ническая картина обычно обусловлена повышением ВЧД и имеет различные проявления в зависимости от скорости его нараст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ышение ВЧД проявляется головной болью, тошнотой, рвотой, сонливостью, отеком дисков зрительных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яются менингеальные симптомы, повышаются сухожильные рефлексы, брадикардия, замедление моторных реакций. Характерны расстройства III и VI пар черепных нервов, судороги, выраженная сонлив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за декомпенсации ВЧД завершается дислокацией и вклинением головного моз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8a"/>
                </a:solidFill>
                <a:latin typeface="Arial"/>
              </a:rPr>
              <a:t>2. Синдром диффузного нарастания неврологической симпто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263160" y="1128240"/>
            <a:ext cx="85806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атологический процесс вовлекаются  вначале корковые, затем подкорковые и стволовые структуры мозг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теке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полушар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а происходит нарушение сознания и появляются генерализованные клонические судоро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влечение в процесс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подкорк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глубинных структур сопровождается психомоторным возбуждением, гиперкинезами, появлением хватательных и защитных рефлексов, нарастанием эпилептических пароксиз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ространение отека на нижние отделы </a:t>
            </a:r>
            <a:r>
              <a:rPr b="1" lang="ru-RU" sz="2200" spc="-1" strike="noStrike">
                <a:solidFill>
                  <a:srgbClr val="2d2d8a"/>
                </a:solidFill>
                <a:latin typeface="Arial"/>
              </a:rPr>
              <a:t>ствол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долговатый мозг) приводит к нарастанию нарушений витальных функций — дыхание Биота и сердечно-сосудис-той деятельности (замедление пульса и снижение АД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ышечная гипотония, арефлексия глубоких рефлексов, максимальное расширение зрачков  с отсутствием их реакции на св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4E27-759F-4849-9429-DD6FF4A98D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6979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d2d8a"/>
                </a:solidFill>
                <a:latin typeface="Arial"/>
              </a:rPr>
              <a:t>3.Синдром дислокации мозговых струк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99520" y="1201680"/>
            <a:ext cx="83869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нарастания ВЧГ и смещения участков мозга развиваются характерные очаговые симпто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ми из них являются стволовые симптомы с поражением глазодвигательных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о возникают внезапная рвота, ригидность мышц затылка, нарушение дыхания вплоть до остановки, кровообращения, угнетение реакции зрачков на свет, что является жизнеугрожающи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раженной дислокации головного мозга развиваются децеребрационная ригидность, брадикардия, дисфаг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Фаза декомпенсации ВЧ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отекает на фоне прогресси-рующего изменения сознания вплоть до комы и выраженных нарушений витальных функций вследствие дислокации и вклинения ствола мозга в большое затылочное отверст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456B-782A-49B4-83CC-BF9767F310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2d2d8a"/>
                </a:solidFill>
                <a:latin typeface="Arial"/>
                <a:ea typeface="Arial"/>
              </a:rPr>
              <a:t>Диагностика ОНГМ - общая оценка состояния пациен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" y="116496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гноз ОГМ основывается на учете клинических данных, при этом его прогрессирование сопровождается постепенным угнетением созн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пределения степени угнетения сознания широко используется шкала ком Глазго (ШКГ), предложенная G. Teasdale, B. Jennet (1974): 15 баллов — ясное сознание; 13–14 баллов — умеренное оглушение; 10–12 баллов — глубокое оглушение; 8–9 баллов — сопор; 6–7 баллов — умеренная кома; 4–5 баллов — глубокая кома;  3 балла — терминальная (запредельная) ко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Кром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ения состояния сознания, дается оценка следующих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физиологических функ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характер дыхания; вид и реакция зрачков; движения глазных яблок и окуловестибулярные реакции; двигательные реакции скелетной мускулату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FFB-BA5C-40AD-9F73-02F54C67F9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"/>
          <p:cNvGraphicFramePr/>
          <p:nvPr/>
        </p:nvGraphicFramePr>
        <p:xfrm>
          <a:off x="285840" y="142920"/>
          <a:ext cx="8515440" cy="6537240"/>
        </p:xfrm>
        <a:graphic>
          <a:graphicData uri="http://schemas.openxmlformats.org/drawingml/2006/table">
            <a:tbl>
              <a:tblPr/>
              <a:tblGrid>
                <a:gridCol w="7143840"/>
                <a:gridCol w="1371600"/>
              </a:tblGrid>
              <a:tr h="285480">
                <a:tc>
                  <a:txBody>
                    <a:bodyPr lIns="0" rIns="0" tIns="0" bIns="0" anchor="t">
                      <a:noAutofit/>
                    </a:bodyPr>
                    <a:p>
                      <a:pPr marL="10800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Признак (шкала Глазго, 1974г.) для оценки ко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73"/>
                          </a:solidFill>
                          <a:latin typeface="Arial"/>
                          <a:ea typeface="Times New Roman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рывание гл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5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еакция на бо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23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еакция на голо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448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нтан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40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игательная реакц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наилучший ответ в непораженных конечностя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900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ие движ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6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ологическое разгибание в ответ на болевое разд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404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ологическое сгибание в ответ на болевое разд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55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дергивание конечности в ответ на болевое раздра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55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сообразное движение в ответ на болевое раздражение (отталкива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е движений по команд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бальная реак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сутст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760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членораздельные зву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9484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ссвязные слова, ответ по смыслу не соответствует вопрос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4408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утанная реч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720"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800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FD8B-A575-43BE-8395-EEAE905061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нтерпретация результатов шкалы Глазг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5 баллов — сознание яс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4-13 баллов — умеренное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оглушение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2—11 баллов — глубокое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оглушение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10—8 баллов —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сопор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7-6 баллов — умеренная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кома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5-4 баллов — глубокая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кома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3 балла — запредельная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кома</a:t>
            </a:r>
            <a:r>
              <a:rPr b="0" lang="ru-RU" sz="2400" spc="-1" strike="noStrike">
                <a:solidFill>
                  <a:srgbClr val="000f2e"/>
                </a:solidFill>
                <a:latin typeface="Arial"/>
              </a:rPr>
              <a:t>, </a:t>
            </a:r>
            <a:r>
              <a:rPr b="0" lang="ru-RU" sz="2400" spc="-1" strike="noStrike" u="sng">
                <a:solidFill>
                  <a:srgbClr val="000f2e"/>
                </a:solidFill>
                <a:uFillTx/>
                <a:latin typeface="Arial"/>
              </a:rPr>
              <a:t>смерть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f2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1254-F7E7-4A8A-9BEC-5E23D1C8BE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ротивопоказания для люмбальной п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571760"/>
            <a:ext cx="8329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рушение уровня сознания (ШКГ менее 9 баллов), или флюктуирующее созн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тносительная брадикардия и гипертензия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чагова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неврологическая симптоматика, судорог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стабильная гемодинамика, дыхательная недостаточно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ептический шок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грессирующая геморрагическая сыпь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рушения гемостаза (уровень тромбоцитов менее 100 х10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/л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окальная инфекция кожи и мягких тканей в зоне проведения СМП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D07B-CCC6-4239-B037-05933BDC9C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Показания дл СМП у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читывая отсутствие специфических менингеальных проявлений у детей раннего возраста, ЦСП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казана всем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ациентам первого года жизни с ГМ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цениваются качественные характеристики ЦСЖ (цвет, прозрачность), исследуется плеоцитоз с определением клеточного состава, биохимические показатели  уровней белка, глюкозы,  натрия, хлоридов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сем больным с подозрением на смешанную форму ГМИ или ММ рекомендовано бактериологическое исследование (посев) цереброспинальной жидк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41B5-B478-42A2-99EF-F01A8E79C9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556480" cy="136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marL="10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Менингиты- группа заболеваний, характери-зующихся общеинфекционным синдромом, поражением мозговых оболочек и воспалитель-ными изменениями в спинномозговой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08000" y="1744560"/>
          <a:ext cx="8820000" cy="4905360"/>
        </p:xfrm>
        <a:graphic>
          <a:graphicData uri="http://schemas.openxmlformats.org/drawingml/2006/table">
            <a:tbl>
              <a:tblPr/>
              <a:tblGrid>
                <a:gridCol w="3259080"/>
                <a:gridCol w="485640"/>
                <a:gridCol w="2544840"/>
                <a:gridCol w="2530440"/>
              </a:tblGrid>
              <a:tr h="39384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альные менинги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ойны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озны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енингококков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филококков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Туберкуле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невмококков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птококковый (пневмококковы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филитический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9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Инфлюэнца-менингит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бацилляр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ерио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384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ные менингиты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ичны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Энтеровирусный 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ЕСНО и Коксаки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иппо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петически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риппоз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7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ингеальная форма КЭ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ираторно-синцитиальны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376E-938E-404E-8D4C-8A87DC9539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араклинические методы обследования при отеке моз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57200" y="145692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 достоверным метода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носят данные МРТ, компьютерной томографии (КТ) и нейросонографии (у новорожденных и детей до года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едположительные (вероятные) метод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ключают электроэнцефалографию (ЭЭГ), Эхо-ЭС, нейрофтальмоскопию, церебральную ангиографию, сканирование мозга с применением радиоактивных изотоп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казаниях проводится ангиография, сонография зрительного нерва и люмбальная пункц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йроофтальмологический осмотр - полнокровие вен и начальный отек диска зрительного нерва, выраженный застой, кровоизлия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C86A-2DC0-46D9-ACDC-8DDC4DB451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Помощь при ГФМИ на догоспитальном эта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72960" y="1055520"/>
            <a:ext cx="85075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дозрении на НИ, менингит экстренная госпитализация в стационар обязательна! Транспортировка с приподнятой на 3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овой без поворота в сторо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нация ВДП и подача кислоро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гипертермии – в/м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SimSun"/>
              </a:rPr>
              <a:t>анальгин 50% - 0,1 мл/год жизни; димедрол 1%, при возбуждении–пипольфен 2,5% 0,2 мл/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упир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ие судорог – седуксен (до 3-х мес.- 0,3мл, 3-6 мес.-0,5мл, 7мес.-2г- 0,5-1 мл; более 2 л-1,5-2 м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тибактериальная терапия (цефтриакс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гидратация (лазикс (0,5-1-2 мг/кг, магния сульфат 1 мл/год жизни) при отсутствии обезво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изнаках ОНГМ и для профилактики ИТШ-дексазон 0,5 мг/кг, преднизолон 1-2 мг/кг массы т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ечение в стационаре больных ГФ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85840" y="127476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рапия в специализированном отделении нейроинфекций или в ПИТ в инфекционном стациона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33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рименяются ЦС 3 поколения (цефтриаксон 2,0*2р в/в* 7-10 дней, цефатоксим, цефтазидим 2,0*3 раза/де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.использоваться бензилпенициллин из расчета 300-500 тыс. ед/кг/сутки в/м с интервалом в 4 часа, детям до 3 мес. - 500 тыс.ед/кг с интервалом 2-3 часа. Можно назначать полусинтетические пенициллины в тех же дозиров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урс а/б-терапии - 7-10 дней без снижения доз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итерий отмены а/б- санация ликвора (цитоз не более 100 клеток в 1 мкл, лимфоциты - 75%), стойко нормальная температур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а, хорошее самочувств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A989-091C-4CC5-A134-62EBF4A56877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76320" y="0"/>
            <a:ext cx="906768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e8f"/>
                </a:solidFill>
                <a:latin typeface="Arial"/>
              </a:rPr>
              <a:t>Этиотропная антимикробная терапия при бактериальных менингитах с идентифицированным аген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214200" y="907920"/>
          <a:ext cx="8715600" cy="5686560"/>
        </p:xfrm>
        <a:graphic>
          <a:graphicData uri="http://schemas.openxmlformats.org/drawingml/2006/table">
            <a:tbl>
              <a:tblPr/>
              <a:tblGrid>
                <a:gridCol w="2000520"/>
                <a:gridCol w="3354120"/>
                <a:gridCol w="3360960"/>
              </a:tblGrid>
              <a:tr h="57204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араты выб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ьтернативные препара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meningitid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фтриаксон 4,0 г/сут в/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нициллин 300-500 тыс. ЕД/кг/сут в/в на 6 введений, появляются </a:t>
                      </a: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резистентные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омицетин-сукцин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100 мг/кг/сут на 3 введения (не более 6,0 г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профлоксацин 400 мг/кг/сут в/в на 2 в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16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pneumoni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фтриаксон 4,0 г/сут в/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пициллин 300 мг/кг/сут в/в на 6 в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нициллин 300-500 тыс. ЕД/кг/сут в/в на 6 в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нкомицин 2,0 г/сут., в/в + рифампицин 900-1200 мг/сут на 2 при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опенем 3,0г/сут на 3 при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560">
                <a:tc>
                  <a:txBody>
                    <a:bodyPr tIns="11520" bIns="1152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 influenzae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фтриаксон 4,0 г/сут в/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пициллин 300 мг/кг/сут в/в на 6 введ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11520" bIns="1152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вомицетин-сукцинат 80-100 мг/кг/сут через 8 ча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профлоксацин 400 мг/кг/сут в/в на 2 в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атогенетическая 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нтигипоксическ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езинтоксикационная (инфузии 40-50 мл/кг/сут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ивошоков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егидратационная (маннитол, фуросемид,  альбумин, глицерин, дексаметазон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ррекция ДВС-синдро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ивовоспалительная и десенсибилизирующа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аболическая и нейровегетативная защита мозга   (антиоксиданты, пирацетам, кавинтон, актовегин, церебральная  гипотерми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ивосудорожные средства (сибазон, дроперидол, ГОМ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5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18F3-B327-4DD7-A9DF-2F66402952E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рапия отека голов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285840" y="114264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м вводимых растворов ограничивается до 75% от физиологической потребности: 10% р-р глюкозы, 20% р-р альбумина, полиионные солевые р-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"Стартовым" раствором м.б. 20% раствор маннитола из расчета 0,25-1,0 г/кг в течение 10-30 мин, инфузию препарата можно повторить через 8-12 час. Через 60-90 мин после введения маннитола для предотвращения синдрома "отдачи" -фуросемид 1-2 мг/кг мас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нормализации КОС в/в капельно полиионные солевые буферные растворы (ацесоль, квартасоль, лактасоль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судорогах противосудорожные средства до купирова-ния: диазепам - 0,1-0,2 мл/год жизни, повторно до 0,3-0,5 мг/кг, в стационаре - вальпроаты, барбитураты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ксаметазон с противоотечной  целью (16-32 мг/с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лажненныйО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B926-800F-425A-AE2A-8912E25B73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альпроа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0004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льпроат обладает широким спектром противосудо-рожной активности, хотя используется в качестве лечения первой линии при тонико-клонических приступах, миоклонических припадках. Также внутривенно для лечения эпилептического стату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парат выпускается (конвульсофин-кальция вальпроата дигидрат в виде табл.по 300 мг, и по 50, 200 или 300 мг вальпроевой кислоты/вальпроата натрия, по 500 мг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(депакин-50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.пролонгированного действия, покрытых оболочкой (конвулекс - вальпроат натрия - по 300, 500 мг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псулах (конвулекс- вальпроевая кислота - по 150, 300, 500 мг), в виде сиропа (конвулекс - сироп для детей), по 50 мг вальпроата натрия в 1 мл, в виде раствора (капли) для приёма внутрь, по300 мг вальпроевой кислоты в 1 м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виде раствора для в/в введения (конвулекс), в ампулах по 5 мл, содержащего 100 мг/м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Седация при ОНГ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227160" y="872640"/>
            <a:ext cx="861696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рбитуровый наркоз обеспечивает выраженный противоотечный эффект. Для этого применяют высокие дозы барбитуратов: 10 мг/кг в течение 30 мин; 5 мг/кг каждый час в 3 дозы, поддерживающая доза 1 мг/кг в ча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бочные эффекты: артериальная гипотензия, угнетение сердечной деятельности, иммуносупрессия, увеличение риска инфекций, электролитные нарушения, острый токсический гепатит и ОП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 использование фенобарбитала 10 мг/кг внутри- венно в течение 30 мин медленно, с продолжающейся пер- фузией 5 мг/кг в час в течение 3 ч, с продолжением поддер- живающей инфузии в дозе 1 мг/кг в ча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ют также тиопентал натрия 2 мг/кг внутривенно в течение 20с до снижения ВЧД &lt;20 мм рт. ст. Дальнейший протокол предполагает введение вторичного болюса в дозе 3 мг/кг массы тела или третичного болюса – в дозе 5 мг/кг, при необходимости продолжение введения поддерживающей дозы 3 мг/кг в ча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1632-5CF1-459B-854D-CBF6385BBB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испансерное наблю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5840" y="114300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еренесшие менингит находятся под наблюдением районного невропатолога и участкового врача не менее 2-х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сле выписк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стационара: через 1 мес., далее 1 раз в 3 мес. в течение первого года, 1 раз в 6 мес. в дальнейшем, при необходимости частота осмотров увеличив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выписке из стационара пациенту выдается справка с описанием мониторинга его состояния, проведенного лечения и лабораторного обследования, а также рекомендации по дальнейшему ведению реконвалесцент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Школьников и дошкольников не рекомендуется направлять в детские коллективы в течение 2-3 недель после выписки из стациона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908-541D-40C7-92D6-B0685AB1E11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испансерное наблю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13840" y="100008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кольники, перенесшие ГФМИ, на 6 мес. освобождаются от занятий физкультурой и других физических нагруз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филактические прививки детям, перенесшим легкую степень менингококкемии могут быть проведены через 1 месяц после выздоровления, среднетяжелую - через 2-3 месяца, тяжелую - через 3-4 месяце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ям, перенесшим менингит или смешанную форму менингококовой инфекции, вакцинация может быть проведена не ранее, чем через 3 месяца при выздоровлении и только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осле осмотра невропатолог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личии последствий в виде органических поражений головного мозга, судорог, выраженных функциональных нарушений головного мозга - не ранее чем через год после их исчезновения или стойкой компенс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тели менингококка могут быть привиты сразу после санации, а перенесшие назофарингит - через 1 меся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D44E-4501-4A44-8438-965DECE4976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9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Актуальные этиологические факторы менинги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39280" y="1592280"/>
            <a:ext cx="80852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buClr>
                <a:srgbClr val="a500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Arial"/>
              </a:rPr>
              <a:t>Бактериальные агенты: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</a:rPr>
              <a:t>менингококки, пневмококки, гемофильная палочка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рептококки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r.agalactiae)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афилококки,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</a:rPr>
              <a:t>микобактерии туберкулез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листерии, сальмонеллы, спирохеты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800"/>
              </a:spcBef>
              <a:buClr>
                <a:srgbClr val="a500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50021"/>
                </a:solidFill>
                <a:latin typeface="Arial"/>
              </a:rPr>
              <a:t>Вирусные агенты: </a:t>
            </a:r>
            <a:r>
              <a:rPr b="1" lang="ru-RU" sz="2300" spc="-1" strike="noStrike">
                <a:solidFill>
                  <a:srgbClr val="262673"/>
                </a:solidFill>
                <a:latin typeface="Arial"/>
              </a:rPr>
              <a:t>энтеровирусы</a:t>
            </a:r>
            <a:r>
              <a:rPr b="0" lang="ru-RU" sz="2300" spc="-1" strike="noStrike">
                <a:solidFill>
                  <a:srgbClr val="262673"/>
                </a:solidFill>
                <a:latin typeface="Arial"/>
              </a:rPr>
              <a:t> (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ксаки А (1–24 типов) и В (1–6 типов), вирусы ECHO (1–34 типов), семейство герпесвирусов (ВПГ 1, 2 типа, ВЭБ, ВГЧ 6 типа), арбовирусы (КЭ), парамиксовирусы (эпидемического паротита, парагриппа), вирусы кори, краснухи, бешенств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9B7-D84B-4F94-9AFA-A1F9A3CD82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F1F3-A526-4AD6-A838-321F349F6E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8" name="Picture 4" descr="DSC_5984"/>
          <p:cNvPicPr/>
          <p:nvPr/>
        </p:nvPicPr>
        <p:blipFill>
          <a:blip r:embed="rId1"/>
          <a:srcRect l="0" t="4290" r="0" b="19305"/>
          <a:stretch/>
        </p:blipFill>
        <p:spPr>
          <a:xfrm>
            <a:off x="1582560" y="1600200"/>
            <a:ext cx="597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06200"/>
            <a:ext cx="8459640" cy="80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Патогенез поражения нервной системы при менингитах различной эт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42560" y="1196640"/>
            <a:ext cx="8767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При </a:t>
            </a:r>
            <a:r>
              <a:rPr b="1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вирусных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менингитах развиваются  дистрофические и некротические повреждения </a:t>
            </a:r>
            <a:r>
              <a:rPr b="1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нейроцитов и глиальных клеток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При бактериальных </a:t>
            </a:r>
            <a:r>
              <a:rPr b="1" lang="ru-RU" sz="2100" spc="-1" strike="noStrike">
                <a:solidFill>
                  <a:srgbClr val="2d2d8a"/>
                </a:solidFill>
                <a:latin typeface="Arial"/>
                <a:ea typeface="Arial"/>
              </a:rPr>
              <a:t>–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гнойное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воспаление </a:t>
            </a:r>
            <a:r>
              <a:rPr b="1" lang="ru-RU" sz="2100" spc="-1" strike="noStrike">
                <a:solidFill>
                  <a:srgbClr val="2d2d8a"/>
                </a:solidFill>
                <a:latin typeface="Arial"/>
                <a:ea typeface="Arial"/>
              </a:rPr>
              <a:t>мягких мозговых оболочек, б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лагодаря факторам патогенности бактерий (ЛПС, подавление фагоцитоза и бактерицидной активности крови, синте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IgA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-протеазы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ЛПС→плазморея→ белковый экссудат  и гнойный детрит формируют фибринозно-гнойный сгусток, он являясь питательной средой и снижая пенетрацию а/б, приводит к усилению размножения бактерий, повреждению нейроцитов, вещества ГМ→ менингоэнцефалиту, блоку в ликворных путях, ↑ гипоксии  мозг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проницаемости ГЭБ,сосудистой стенки, нарастающий интерстициальный отек белого вещества, набухание клеток и гиперпродукция ликвора приводят к ОНГМ, ВЧГ, при декомпен-сации которого наступает дислокация мозга с развитием паралича центра дыхания и сосудистого центра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EB7A-3008-44C6-8E0D-912064FCDF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5"/>
          <p:cNvSpPr/>
          <p:nvPr/>
        </p:nvSpPr>
        <p:spPr>
          <a:xfrm>
            <a:off x="509760" y="1268280"/>
            <a:ext cx="70401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Arial"/>
              </a:rPr>
              <a:t>МЕНИНГИТ      ЭНЦЕФАЛИТ      МИЕЛ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Freeform 33"/>
          <p:cNvSpPr/>
          <p:nvPr/>
        </p:nvSpPr>
        <p:spPr>
          <a:xfrm>
            <a:off x="1187280" y="404640"/>
            <a:ext cx="6769440" cy="797040"/>
          </a:xfrm>
          <a:custGeom>
            <a:avLst/>
            <a:gdLst>
              <a:gd name="textAreaLeft" fmla="*/ 0 w 6769440"/>
              <a:gd name="textAreaRight" fmla="*/ 6769800 w 676944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4264" h="502">
                <a:moveTo>
                  <a:pt x="0" y="502"/>
                </a:moveTo>
                <a:cubicBezTo>
                  <a:pt x="17" y="95"/>
                  <a:pt x="1476" y="0"/>
                  <a:pt x="2187" y="0"/>
                </a:cubicBezTo>
                <a:cubicBezTo>
                  <a:pt x="2898" y="0"/>
                  <a:pt x="4262" y="111"/>
                  <a:pt x="4264" y="502"/>
                </a:cubicBezTo>
              </a:path>
            </a:pathLst>
          </a:custGeom>
          <a:noFill/>
          <a:ln w="63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>
            <a:off x="7956720" y="1197000"/>
            <a:ext cx="0" cy="14436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40"/>
          <p:cNvSpPr/>
          <p:nvPr/>
        </p:nvSpPr>
        <p:spPr>
          <a:xfrm>
            <a:off x="1187280" y="1268280"/>
            <a:ext cx="0" cy="7164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Freeform 41"/>
          <p:cNvSpPr/>
          <p:nvPr/>
        </p:nvSpPr>
        <p:spPr>
          <a:xfrm>
            <a:off x="1692360" y="765000"/>
            <a:ext cx="2808360" cy="47484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1769" h="299">
                <a:moveTo>
                  <a:pt x="0" y="299"/>
                </a:moveTo>
                <a:cubicBezTo>
                  <a:pt x="47" y="18"/>
                  <a:pt x="557" y="16"/>
                  <a:pt x="852" y="8"/>
                </a:cubicBezTo>
                <a:cubicBezTo>
                  <a:pt x="1147" y="0"/>
                  <a:pt x="1720" y="32"/>
                  <a:pt x="1769" y="253"/>
                </a:cubicBezTo>
              </a:path>
            </a:pathLst>
          </a:custGeom>
          <a:noFill/>
          <a:ln w="633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42"/>
          <p:cNvSpPr/>
          <p:nvPr/>
        </p:nvSpPr>
        <p:spPr>
          <a:xfrm>
            <a:off x="1692360" y="1268280"/>
            <a:ext cx="0" cy="142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43"/>
          <p:cNvSpPr/>
          <p:nvPr/>
        </p:nvSpPr>
        <p:spPr>
          <a:xfrm>
            <a:off x="4500720" y="1197000"/>
            <a:ext cx="0" cy="14436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Freeform 45"/>
          <p:cNvSpPr/>
          <p:nvPr/>
        </p:nvSpPr>
        <p:spPr>
          <a:xfrm>
            <a:off x="4932360" y="765000"/>
            <a:ext cx="2232000" cy="41148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1406" h="259">
                <a:moveTo>
                  <a:pt x="0" y="259"/>
                </a:moveTo>
                <a:cubicBezTo>
                  <a:pt x="55" y="31"/>
                  <a:pt x="516" y="0"/>
                  <a:pt x="750" y="0"/>
                </a:cubicBezTo>
                <a:cubicBezTo>
                  <a:pt x="984" y="0"/>
                  <a:pt x="1318" y="71"/>
                  <a:pt x="1406" y="259"/>
                </a:cubicBezTo>
              </a:path>
            </a:pathLst>
          </a:custGeom>
          <a:noFill/>
          <a:ln w="633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46"/>
          <p:cNvSpPr/>
          <p:nvPr/>
        </p:nvSpPr>
        <p:spPr>
          <a:xfrm>
            <a:off x="4932360" y="1197000"/>
            <a:ext cx="0" cy="142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47"/>
          <p:cNvSpPr/>
          <p:nvPr/>
        </p:nvSpPr>
        <p:spPr>
          <a:xfrm>
            <a:off x="7164360" y="1197000"/>
            <a:ext cx="0" cy="142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Freeform 48"/>
          <p:cNvSpPr/>
          <p:nvPr/>
        </p:nvSpPr>
        <p:spPr>
          <a:xfrm>
            <a:off x="1187280" y="1792440"/>
            <a:ext cx="6697800" cy="365040"/>
          </a:xfrm>
          <a:custGeom>
            <a:avLst/>
            <a:gdLst>
              <a:gd name="textAreaLeft" fmla="*/ 0 w 6697800"/>
              <a:gd name="textAreaRight" fmla="*/ 6698160 w 669780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4219" h="460">
                <a:moveTo>
                  <a:pt x="0" y="45"/>
                </a:moveTo>
                <a:cubicBezTo>
                  <a:pt x="2" y="366"/>
                  <a:pt x="1520" y="460"/>
                  <a:pt x="2223" y="453"/>
                </a:cubicBezTo>
                <a:cubicBezTo>
                  <a:pt x="2926" y="446"/>
                  <a:pt x="4215" y="272"/>
                  <a:pt x="4219" y="0"/>
                </a:cubicBezTo>
              </a:path>
            </a:pathLst>
          </a:custGeom>
          <a:noFill/>
          <a:ln w="63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50"/>
          <p:cNvSpPr/>
          <p:nvPr/>
        </p:nvSpPr>
        <p:spPr>
          <a:xfrm flipV="1">
            <a:off x="4751280" y="1650600"/>
            <a:ext cx="1800" cy="530280"/>
          </a:xfrm>
          <a:prstGeom prst="line">
            <a:avLst/>
          </a:prstGeom>
          <a:ln w="63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52"/>
          <p:cNvSpPr/>
          <p:nvPr/>
        </p:nvSpPr>
        <p:spPr>
          <a:xfrm flipV="1">
            <a:off x="1187280" y="1773000"/>
            <a:ext cx="0" cy="21564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53"/>
          <p:cNvSpPr/>
          <p:nvPr/>
        </p:nvSpPr>
        <p:spPr>
          <a:xfrm flipV="1">
            <a:off x="7885080" y="1773000"/>
            <a:ext cx="0" cy="1429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54"/>
          <p:cNvSpPr/>
          <p:nvPr/>
        </p:nvSpPr>
        <p:spPr>
          <a:xfrm>
            <a:off x="179280" y="2260440"/>
            <a:ext cx="88218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</a:rPr>
              <a:t>Общемозговые симптомы: 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головная боль, рвота фонтаном, возбуждение, судороги, галлюцинации, нарушение сознан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</a:rPr>
              <a:t>Собственно оболочечные симптомы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Общая гиперестезия (кожная, гиперакузия, фотофобия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Менингеальные знаки: ригидность затылочных мышц, симптомы Кернига, Брудзинского, с-м Лессаж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Реактивные болевые феномены: с-м Данцига, Менделя и др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62673"/>
                </a:solidFill>
                <a:latin typeface="Arial"/>
              </a:rPr>
              <a:t>Синдромы очаговых поражений 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(энцефалит, поражение черепных нервов), оцениваются совместно с неврологом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262673"/>
                </a:solidFill>
                <a:uFillTx/>
                <a:latin typeface="Arial"/>
              </a:rPr>
              <a:t>Внешне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-гиперемия, синюшность лица, одышка, аритмия дыхания, повышение АД, бради-, тахикардия. Позднее клонико-тонические судороги, снижение фотореакции зрачков, плавающие гл.яблоки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50920" indent="-250920">
              <a:lnSpc>
                <a:spcPct val="85000"/>
              </a:lnSpc>
              <a:spcBef>
                <a:spcPts val="601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Изменения на ЭЭГ, ликвор вытекает струей,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  <a:ea typeface="Arial"/>
              </a:rPr>
              <a:t>↑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 ликворного давления </a:t>
            </a:r>
            <a:r>
              <a:rPr b="0" lang="en-US" sz="2100" spc="-1" strike="noStrike">
                <a:solidFill>
                  <a:srgbClr val="262673"/>
                </a:solidFill>
                <a:latin typeface="Arial"/>
              </a:rPr>
              <a:t>&gt;</a:t>
            </a:r>
            <a:r>
              <a:rPr b="0" lang="ru-RU" sz="2100" spc="-1" strike="noStrike">
                <a:solidFill>
                  <a:srgbClr val="262673"/>
                </a:solidFill>
                <a:latin typeface="Arial"/>
              </a:rPr>
              <a:t> 200 мм.вод.ст., биомикроскопия сосудов глазного яблок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66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Менингококковый менинг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227160" y="1128240"/>
            <a:ext cx="868968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трейшее начало болезни, ведущий симптом - головная боль нарастающая, распирающего характера, чуть позже - рвота  «фонтаном». Фотофобия, гиперакузия, гиперестезия. Менингеальные знаки в первые 12 – 24 час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 2-3-й день редко (в 8-10%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ы поражения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череп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нервов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II,IV,VI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III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парезы глазодвигательного, слухового нерв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знаки </a:t>
            </a:r>
            <a:r>
              <a:rPr b="1" lang="ru-RU" sz="2200" spc="-1" strike="noStrike">
                <a:solidFill>
                  <a:srgbClr val="262673"/>
                </a:solidFill>
                <a:latin typeface="Arial"/>
                <a:ea typeface="Arial"/>
              </a:rPr>
              <a:t>энцефали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лишь у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,5%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резкие, чаще в виде  корковых расстройств (амнезия, галлюцин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 9 (12,5%) больных развилось тяжелое осложнение-ОНГМ (спутанное сознание, психомоторное возбуждение, судороги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сочетании с коккемией (у молодых людей в 30-45%, у детей в 70-90%) доминируют проявления коккемии: нарастает интоксикация, к концу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ня геморрагическая сыпь, затем 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8405640" y="6313320"/>
            <a:ext cx="584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ADD6-1AE6-4541-A34D-5E40EE9CCF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0946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Особенности менингеального синдрома у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36240" y="1494000"/>
            <a:ext cx="8350200" cy="51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явления головной боли – беспокойство, плач, монотонный крик, в тяжелых случаях ст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имптом Кернига и ригидность затылочных мышц могут быть не выражен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ячивание родничка, ослабление или отсутствие его пульсации, «арбузный» звук при поколачивании по черепу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имптом «подвешивания»  Лессаж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редко начальные проявления менингеального синдрома - судорожный синдром и диаре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 детей часты смешанные формы коккемии и менингита (у 70-90%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17BD-43FE-4183-91BF-3193C8DE6B03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3"/>
          <p:cNvSpPr/>
          <p:nvPr/>
        </p:nvSpPr>
        <p:spPr>
          <a:xfrm>
            <a:off x="1219320" y="1522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федра инфекционных болезней с курсом  ИДПО БГ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Picture 4" descr="~Menin_1"/>
          <p:cNvPicPr/>
          <p:nvPr/>
        </p:nvPicPr>
        <p:blipFill>
          <a:blip r:embed="rId1"/>
          <a:stretch/>
        </p:blipFill>
        <p:spPr>
          <a:xfrm>
            <a:off x="2286000" y="68580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3:29:17Z</dcterms:created>
  <dc:creator>Николай</dc:creator>
  <dc:description/>
  <dc:language>en-US</dc:language>
  <cp:lastModifiedBy>User</cp:lastModifiedBy>
  <cp:lastPrinted>2017-05-17T13:08:27Z</cp:lastPrinted>
  <dcterms:modified xsi:type="dcterms:W3CDTF">2020-02-26T16:19:08Z</dcterms:modified>
  <cp:revision>1245</cp:revision>
  <dc:subject/>
  <dc:title>Н.В.Васильева  директор клинической микологии С-Пб МАПО</dc:title>
</cp:coreProperties>
</file>