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В.В. - Лекция _ Концепция развития микологической помощи населению РФ 200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DDD063-4AB6-40DD-B3EF-32D1E10B1FA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35F17F8-D394-4903-8805-A1B5B7ED6B66}" type="datetime12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7:05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24C16D-CEE7-43B7-935E-365A20F9B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F8DA00-C358-4B18-93BA-ED0FA48A46F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605-2DBA-462E-A8E1-38CF2FD9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672-E286-44EB-BBF8-004A891F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34E3-572D-4222-8908-9CFDCE8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22D9C-5B70-4AA1-A77E-111F855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0AC0A-4B8B-4D3B-A87C-022C4A43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EAA3C-E2EE-42CC-9AF1-5EEF2D7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1B60-7FA0-4743-9DD5-749635B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AB7CC-439B-471F-8B08-EFE9533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4BE36-2CFD-49BB-B964-0C7375A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67F35-8606-4302-9CF1-48793B3D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4805C-B38C-4079-A353-E6EA9B07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42844-6452-41C2-B181-05DB7C35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39F-759F-4554-93E3-CDC7913F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E71B-7A52-4DDA-B3E5-EF83247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F0E30-B8CF-4CAF-B845-5670D831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E2EC-B78C-46A5-8433-EF2832F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F3B35-35D6-487A-B48B-5E75AC9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0CFD2-57D5-4F82-B42F-984D2960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19BD-7E71-46BC-81AB-EE31170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25650-83FE-4B89-AA25-3175C74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7904-6549-4416-A089-F010138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F404D-2A44-4058-BA59-9B3E2B6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EB468-CD54-47AE-9374-30EF4A32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F6C-9ABC-4A2B-AB4B-16E0F479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4F2AB-D6B9-4BD2-9F28-53E05C03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07A92-F3E0-4F19-8806-CF93E55F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0DF1-2BC8-4B00-9064-189164EB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E842D-4B3A-4F8B-9DCB-10BC3698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B741E-7A11-4FBA-A7A8-C4541D72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E9028-1EE8-49B8-982B-F20518C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3E0AB-FB68-486F-BB75-D195869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66A17-B77C-4EBF-A985-174F561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5223-DB7D-4D45-B2E9-98395681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5531-B287-4695-ACA9-1114DD9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F3FA-0AF3-466E-8D2F-04C9A48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8CAE6-F4FA-41AD-94C5-2CCFCA9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1D530-A249-4B3A-ACB4-9353D97E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02E6-391E-498D-AAE8-2C26D5A5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A705-E8A5-4802-AE46-32BFD76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9B0F-4FA6-49C0-BDEE-218B0A2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342F-1A60-4FA8-93A8-6A054054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B99-AB1E-4D4D-9E1A-54BF241D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4282-781D-41B7-8062-68FD8CF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302-1D95-41BE-8591-1ADB86C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B34-570C-447A-B945-029B3CBB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A48-9103-48B2-BCF9-B4727B4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ED71-A184-41FB-B447-C6673BB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1A6-1686-402D-B5C3-7AB624C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44B7-C783-4499-AEE2-A4D916C8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3F0B-F2E8-45E8-85FD-E91A1917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AD86-37CC-45E5-BA5D-D55CD746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E91B-37BB-4CF7-84C0-C20A40D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6EFB-6B9D-43AD-A114-16E0510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2C1B-0D3C-4EB4-8FEF-41D950F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91CB-382D-4081-8AA8-A30CA54D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88D-2D52-4FD7-B509-2E8FAB4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9960-E65B-4F60-A509-B2A95311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3F2F-38D6-40C8-AA2D-DE88002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476E-722E-45D3-8855-2A3B903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FB90-8568-4FBF-853F-6C1FDA9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E379-1544-448F-BE16-EB5B2BC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FE59-1C95-432B-9A8D-8B42F1EA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30D6-23A2-42C1-9378-E97E98DA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AB62-85CB-4D5C-A390-D8AA860C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D88F-E2C0-4249-9698-2800861E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A64C-FB25-4A99-AF20-E03312CD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193-9267-4103-90AC-73C585A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0627-B42E-4248-A7F4-70B9675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2A87-093E-4B1A-87AC-0DBB898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C9DD-2983-4786-93A7-B251393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77D1-AF40-4BB4-866A-61ADA70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A476-A25C-47D9-A2A1-CA01196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194B-91AF-4CC7-90FB-C037B3C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8DFE-9BDD-4E39-8797-22C9F244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CBF3-10CD-4547-AD5D-D5173D40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D173-7D49-4DC3-8AD5-DF4CD7F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E250-C507-4290-9768-3C040354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D6C-2999-40F9-B827-2C6E358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06D9B-E2EB-4C2A-99E3-4DAC6FCF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67FD0-EC41-41E1-95DE-51B5715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B7EA-E38F-4F9C-9859-75ABEE7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E98C-FCD7-472D-982B-7558BFEC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D7A5-6B2E-457F-920B-D673626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CA18-FCA5-45AB-AE9B-F2E9A23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0030-2969-48AC-A22B-70BAAD3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4B2F-E0BF-4B45-A862-30091AF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AB921-4143-4A5A-86A8-FE84770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0D91-F70E-452A-9449-6D055411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4E4-CC8D-4232-966D-F0205E8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D56E-04DA-4023-835C-8E1E7C77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63C9-9E04-4393-B692-2444049E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DEE8-7AD3-4D17-B909-3286880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9B2C-2A0D-49E9-A522-3BD71A4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C3AC1-B3D8-4D8C-BBCD-B1B0F310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2999-AE30-4C06-94D4-0105582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2F460-AC8B-46AE-8A8A-8694A48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BCE0-447C-49B5-BD48-22BA50F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0F6D-BF2C-4A12-B5BC-46AF544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BDDB-A9C3-43B5-908F-F96E3A7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C42-3F36-4ED6-AC00-94B92A3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AB2B-503D-4C00-AB4B-D70CFAC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2C29-5EA3-4071-A790-1D944F67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707C7-E34C-48CE-BDC2-8AAE72AF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F3A0-2803-4815-90B4-CAE2302A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7C83-F234-4E5D-B3C3-4FCCFF4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CAEDA-3DBB-4167-A055-E50A15F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1A92-05BD-445E-93F9-6E2E55B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ADB3-B79D-4A78-9AA3-692BA2A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F1E1-F7A5-4A79-B30E-D03DEA2B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F01B-988F-437B-AA50-F55AE34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2A6-3B46-4928-A3B7-FAAFFF6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C0A4-C21D-46E9-B1E6-B2AE721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1246-A299-4EA7-9F7D-3BE8D22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A99E2-A723-4CB6-936E-3FE63410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B98BD-A423-46AA-BAEA-BCDF7D8D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FA3B-6963-4367-8033-996DF87E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7FE6-EF2D-46A0-97F0-7526BE8B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F514-8D4F-4095-A131-610336E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06334-FD5A-473F-984F-7F7487FF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A21D-4F1A-435F-A3B9-9714852B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AF63C-F91B-4220-9E8D-5ED2FA38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431-0F5A-46E4-B085-46807174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D100-E920-407D-A225-C454FC4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3227-83B1-4AD8-A7D1-89C3926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6E8B-313A-472D-BA98-4663567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3BA8-0C59-4FF6-8B9F-E096517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69F5B-3C1A-417C-882D-2474AF3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875B-623D-478E-A949-54604E28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0910-6D8B-49C1-B2F7-5DF6B4A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2F12E-4DC3-40D0-8AE8-62E10DB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4343F-0F4C-4F77-BC8A-AF309DE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33649-2223-40C1-B68C-851D383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0697-158F-423B-AF0E-2E5F2910C6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D69-D28A-498A-BE39-6BE38F857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8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F90-CD24-4707-A06D-08F930D754B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2DE2-A884-4157-9DB7-619E59EC44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761-61A2-4CA9-B416-A6D9E426E67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61BA-563F-46EC-8E5C-A1A03601E4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C065-1ABF-44C1-BAF7-23471F0AD32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F2F-5358-44E4-BD3B-1747180EBF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36B7-B3C9-4351-BC08-9A67ACDC97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EFD5-30B8-45E6-B9C3-B5DB8EA5F0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6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C300-09A4-4B85-AC7E-5930E78482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6800" y="2625840"/>
            <a:ext cx="8799480" cy="16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d2d8a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индрома менингита, отек- набухание головного моз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936680" y="5157360"/>
            <a:ext cx="387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Р.Т. Мурзаба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Характеристика пневмококковой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36600" y="999720"/>
            <a:ext cx="850752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По данным ВОЗ пневмококковый менингит дает самый высокий уровень летальности (до 25%) и инвалидности (до 60%), ежегодно умирает </a:t>
            </a:r>
            <a:r>
              <a:rPr b="0" lang="en-US" sz="2200" spc="-1" strike="noStrike">
                <a:solidFill>
                  <a:srgbClr val="222268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1,5 млн.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ПМ занимает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2–3 мест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0-30%), летальность высокая у новорожденных (85%) и у пожилых (40-50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возникать как первично (чаще), так и вторично (пневмония, отит, мастоидит, синусит, эндокардит, ЧМТ с ликвореей (3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болевают дети грудного возраста (15%) и пациенты старше 50 лет (75%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кторы риска ПМ: частые ОРВИ, перенесенная ЧМТ с ликвореей, хроническая патология легких и ЛОР-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Вакцинация против ПИ </a:t>
            </a:r>
            <a:r>
              <a:rPr b="0" lang="ru-RU" sz="2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кциной: «Пневмо-23» – детям 2 и 4,5 мес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V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мес., в/м 0,5 мл; пожилым 1-й раз – пневмо13 (превенар 13), повторно через 3 г.-пневмо-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9320" y="189000"/>
            <a:ext cx="839772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Клиника пневмококковой инфе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14200" y="928800"/>
            <a:ext cx="87026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ля ПМ характерно острое начало,  высокая лихорадка  до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2-х недель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тенсивные головные боли, у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60-70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%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1" lang="ru-RU" sz="23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1,2-й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ни болезни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очаговые поражения НС-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удороги и нарушение сознания, поражения черепных нервов, моно-, гемипарезы, птоз, двоение, косоглазие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яжесть течения ПМ обусловливается не интоксикацией, а  вовлечением в процесс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ещества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аже при рано начатой АБТ на фоне быстрой консолида-ции гноя и низкой биодоступности возбудителя пневмококки активно размножаются и вызывают тяжелый менинго-энцефали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Ликвор очень мутный, зеленоватого цвета, плеоцитоз (500-1500) и много белка (1-10г/л), снижение сахар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/скопия –грам+, внеклеточно, диплококки, РЛА +85%,ПЦР +у 98-99%, бакпосев  +рез-т у 30-45%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Характеристика гемофильной инфекции (Haemophilus influenzae тип b) (5 случ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16000" y="1071360"/>
            <a:ext cx="8748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данным ВОЗ ежег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ире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3 млн. случае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инфекции, из них 380 тыс. летальных. В РФ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менингиты-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2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место сред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М (10-30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90% людей палочка Пфейффера обитает на слизистой ВДП, капсульные штаммы - у 3-5% обследованных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болеют преимущественно дети до 5  лет (85-90%), часто дети до 1 г., к 3 мес. исчезают материнские АТ; и пациенты с ХОБЛ старше 50 лет. Может быть в виде сепсиса, эпиглотт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начинаетс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достро с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шля, насморк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38-39°, ч/з 2-4 дн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ухудш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41°С, головные боли, рвота, менин-геальные знаки, нарушение сознания, на 2-3 дни - очаговые симптомы, нередко затяжное те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20-40% детей после  ГМ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неврологические последствия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ая санация ликвора. Летальность–5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икв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мутный, цитоз (1000-2000), нейтрофильный, белок (1,5-3 г/л), огромное количество бактерий в ликвор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нтибиотик выбора- цефтриаксон, ципрофлоксаци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3-х н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7160" y="106200"/>
            <a:ext cx="86896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торичные гнойные менинг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4200" y="928800"/>
            <a:ext cx="850104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торичный гнойный менингит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ся как осложнение гнойно-воспалительного процесса (чаще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 оти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синусит, пульпит, остеомиелит, эндокардит, сепсис), ЧМТ с ликвореей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ачало острейшее, быстрое развитие клиники, головные боли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до 40°С, упорная рвота. Резко выражены менингеальные знаки, застойные диски зрительных нервов,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рано очаговые!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,  нарушение сознания (субарахноидальные гнойные очаг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ажен подробный анамнез болезни, комплексное обследование (КТ, МРТ), осмотр ЛОР- врача, офтальмолога, стоматолог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и вторичных менингитах необходима хирургическая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анация гнойного очаг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ранняя госпитализация в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пециализированный стациона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8515440" y="6423120"/>
            <a:ext cx="511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4F2-FD0A-42CA-A2D9-FE4B4766647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8276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d2d8a"/>
                </a:solidFill>
                <a:latin typeface="Arial"/>
              </a:rPr>
              <a:t>Туберкулезный менингит (7-9% от всех форм) 4</a:t>
            </a: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 случая в ИКБ № 4 в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23640" y="1214280"/>
            <a:ext cx="8404200" cy="54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в 2018 г. 72,6 тыс.случаев туберкулеза /49,7; в РБ - 61 на 100 тыс. нас-я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Летальность от ТМ -15-32,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уберкулезный менингит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(30%),менингоэнцефалит (70%)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риод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родро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1-8 нед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.)-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степенное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, сначала головная боль, головокружение, тошнота, иногда рвота, субфебрилитет, общая слаб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ериод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раздраже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ихорадка до 39°, нарастает головная боль, рвота, апатия, сонливость, угнетение сознания, развивается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базальный менинг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раже-нием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,V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, далее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X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X, X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 череп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ерминальный перио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15-25 дни) преобладают признаки энцефалита: отсутствие сознания, дых-е Чейн-Стокса, центральные парезы, параличи, лихорадка (40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929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Диагностика туберкулезного менингоэнцефа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226800" y="1304640"/>
            <a:ext cx="86295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 анамнеза (контакт с больны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уберкулиновые пробы, сроки вакцинации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ягощенный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преморбидны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н у 2 - В20, стадия 4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ка болезни: постепенное ухудшение состояния, менин геальный синд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генография ОГК (милиарный ТВС легких), осмотр глаз-ного дна, КТ, МРТ, диагноз в первы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не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иода!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Изменения в ликвор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зрачный, цитоз лимфоцитар-ный, 100-800 кл/мкл, высокий уровень белка (9,33 г/л), снижение сахара (в 2 раза). Образование фибринозной пленки через 24 часа (в 2 случаях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ликвора на МБК методом бактериоскопии и в ПЦ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циенты переведены для лечения в РП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26C-0949-450B-AE5B-52528D901A8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34084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абораторная диагностика менинг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6000" y="785520"/>
            <a:ext cx="8664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скопия с окрашиванием по Граму ликвора, носо-глоточной слизи–выявление грам-отрицательных диплококков внутри-и внеклето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в РЛА в ликворе АГ возбудителей БМ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d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luenz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- до 85%, ч/з 2-3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ЦР ДНК МК в ликворе и крови – информативность до 99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анализы крови, носоглоточной слизи, ликвора (инфор-мативность до 45%), позволяет определить антибиотико-грамму и серотипирование. Рекомендуется внедрять в клин. практику некультуральную диагностику БМ (РЛА и ПЦР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ние парных сывороток на 8-й и 14-16-й дни болезни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РНГА с менингококковыми эритроц. диагностикумам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, В, С -  в 25% диагностический титр АТ в разведении 1:40-1:80, АТ сохраняются до 3-х лет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уточнения бактериальной этиологии менингита определени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прокальцитонина (БОФВ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сыворотке крови (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иммунохроматограф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дерматовенерологии И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4" descr="~Meningitis_5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37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индром воспалительных изменений в ликв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93212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 и прозрачность: гнойные менингиты – ликвор мутный, желто-зеленого цвета, серозные – бесцветный, прозра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ия 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носоглоточной слизи, ликвора, кров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вне- или внутриклеточны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Грам (+) и (-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плокок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еоцитоз: гнойные менингиты –доминируют нейтрофилы (от 1 до 10-20 тыс.), серозные – лимфоциты (100-1000 кл. в 1 мк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белка: при гнойных –  5-10 г/л, при серозных – 0,66-1,1 г/л (норма -0,15-0,45 г/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хар: сни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,1 ммоль/л при гнойном и туберкулезном менинги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795E-C8FB-43A4-A899-25B7F69A23C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0" y="130320"/>
            <a:ext cx="32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~Meningitis_8"/>
          <p:cNvPicPr/>
          <p:nvPr/>
        </p:nvPicPr>
        <p:blipFill>
          <a:blip r:embed="rId1"/>
          <a:stretch/>
        </p:blipFill>
        <p:spPr>
          <a:xfrm>
            <a:off x="2209680" y="685800"/>
            <a:ext cx="4108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206960" y="325080"/>
            <a:ext cx="4937040" cy="222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ражение нервной системы при инфекционных заболеван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2917800"/>
            <a:ext cx="838692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 особую тяжесть течения инфекционного заболевания, высокую летальность и возможность отдаленных неблагоприятных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47A-7DD4-431B-A7E4-165FFED456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4" descr="bcb5ce7b-2c57-44ec-83bc-c43e42e5d67e"/>
          <p:cNvPicPr/>
          <p:nvPr/>
        </p:nvPicPr>
        <p:blipFill>
          <a:blip r:embed="rId1"/>
          <a:stretch/>
        </p:blipFill>
        <p:spPr>
          <a:xfrm>
            <a:off x="0" y="0"/>
            <a:ext cx="4060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нутричерепное д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99880" y="1055520"/>
            <a:ext cx="850752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ЧД представляет собой гидростатическое давление цереброспинальной жидкости (ЦСЖ) в системе желудочков мозга и в субарахноидальном пространстве, оказываемое на полушария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нормальных условиях оно зависит от секреции и абсорбции ликвора. В течение суток у здорового человека вырабатывается и резорбируется до 500-600 мл ликвора, обновляясь 4 раза в течение суток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креция ликвора является активным процессом, она определяется гемодинамическим фактором и происходит со скоростью около 0,4 мл/мин при ВЧД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20 мм рт.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 70–85% ликвора образуется сосудистыми сплетениями желудочков мозга, 10–12% — сосудами мозговой паренхимы. В норме ВЧД равно 5–15 мм рт. 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B246-8D6F-480D-9C39-3318D09900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тогенез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99880" y="98280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и инфекционных заболеваний наиболее часто к раз- витию ОНГМ приводят бактериальные менингиты, менингоэнцефалиты и энцефали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генезе развития ОНГМ имеют знач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проницаемости ГЭБ, сосудистой стен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зморрея приводит к накоплению воды в белом веществе, на фоне гипоксии головного мозга проникновение ионов натрия и воды в клетку с её набуханием. Гипоксия гол.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копление жидкости в ограниченном пространстве ведет к закономерному повышению внутричерепного дав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ханическое раздражение болевых рецепторов мозговой оболочки и внутримозговых сосудов под действием токсинов, повышением ВЧД проявляется общемозговыми, менингеальными, затем и очаговыми симптомам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39B1-EE3E-40D2-B9A7-7DA61885BB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тади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263520" y="982800"/>
            <a:ext cx="86169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линке отека мозга традиционно выделяют 3 стад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общемозгового синдрома, симптомы которого характерны для повышения ВЧ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ффузное рострокаудальное нарастание неврологических симптом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локация мозговых структу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i="1" lang="ru-RU" sz="2200" spc="-1" strike="noStrike">
                <a:solidFill>
                  <a:srgbClr val="2d2d8a"/>
                </a:solidFill>
                <a:latin typeface="Arial"/>
              </a:rPr>
              <a:t>Общемозговой синдр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картина обычно обусловлена повышением ВЧД и имеет различные проявления в зависимости от скорости его нараст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ВЧД проявляется головной болью, тошнотой, рвотой, сонливостью, отеком дисков зри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яются менингеальные симптомы, повышаются сухожильные рефлексы, брадикардия, замедление моторных реакций. Характерны расстройства III и VI пар черепных нервов, судороги, выраженная сонлив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 завершается дислокацией и вклинением головного 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rial"/>
              </a:rPr>
              <a:t>2. Синдром диффузного нарастания неврологической симпто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63160" y="1128240"/>
            <a:ext cx="85806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логический процесс вовлекаются  вначале корковые, затем подкорковые и стволовые структуры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теке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лушар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а происходит нарушение сознания и появляются генерализованные клонические судоро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влечение в процесс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дкорк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глубинных структур сопровождается психомоторным возбуждением, гиперкинезами, появлением хватательных и защитных рефлексов, нарастанием эпилептических пароксиз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остранение отека на нижние отделы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ствол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долговатый мозг) приводит к нарастанию нарушений витальных функций — дыхание Биота и сердечно-сосудис-той деятельности (замедление пульса и снижение АД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ышечная гипотония, арефлексия глубоких рефлексов, максимальное расширение зрачков  с отсутствием их реакции на с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F0B-D386-411B-BDC3-6EDEA02BCC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6979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8a"/>
                </a:solidFill>
                <a:latin typeface="Arial"/>
              </a:rPr>
              <a:t>3.Синдром дислокации мозг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99520" y="1201680"/>
            <a:ext cx="838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нарастания ВЧГ и смещения участков мозга развиваются характерные очаговые симпто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ми из них являются стволовые симптомы с поражением глазодвига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 возникают внезапная рвота, ригидность мышц затылка, нарушение дыхания вплоть до остановки, кровообращения, угнетение реакции зрачков на свет, что является жизнеугрожающ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раженной дислокации головного мозга развиваются децеребрационная ригидность, брадикардия, дисфаг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текает на фоне прогресси-рующего изменения сознания вплоть до комы и выраженных нарушений витальных функций вследствие дислокации и вклинения ствола мозга в большое затылочное отверст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DE8B-57F5-4799-B854-C3AA13661D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Диагностика ОНГМ - общая оценка состояния пациен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116496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з ОГМ основывается на учете клинических данных, при этом его прогрессирование сопровождается постепенным угнетением со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ределения степени угнетения сознания широко используется шкала ком Глазго (ШКГ), предложенная G. Teasdale, B. Jennet (1974): 15 баллов — ясное сознание; 13–14 баллов — умеренное оглушение; 10–12 баллов — глубокое оглушение; 8–9 баллов — сопор; 6–7 баллов — умеренная кома; 4–5 баллов — глубокая кома;  3 балла — терминальная (запредельная) ко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Кро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ения состояния сознания, дается оценка следующих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изиологических функ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характер дыхания; вид и реакция зрачков; движения глазных яблок и окуловестибулярные реакции; двигательные реакции скелетной мускула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4DB-A5BE-4755-9FF9-A93139AE7B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85840" y="142920"/>
          <a:ext cx="8515440" cy="6537240"/>
        </p:xfrm>
        <a:graphic>
          <a:graphicData uri="http://schemas.openxmlformats.org/drawingml/2006/table">
            <a:tbl>
              <a:tblPr/>
              <a:tblGrid>
                <a:gridCol w="7143840"/>
                <a:gridCol w="1371600"/>
              </a:tblGrid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Признак (шкала Глазго, 1974г.) для оценки к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рывание гл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5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бо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3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гол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4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нтан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игательная реакц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илучший ответ в непораженных конечностя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90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ие дв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6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раз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0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с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дергивание конечности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сообразное движение в ответ на болевое раздражение (отталкива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движений по команд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бальная реа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76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членораздельные зву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48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вязные слова, ответ по смыслу не соответствует вопрос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утанная ре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7DD-D3EA-4A0E-9DB5-B8FFA36375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нтерпретация результатов шкалы Глаз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5 баллов — сознание яс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4-13 баллов — умеренн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2—11 баллов — глубок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0—8 баллов —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опор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7-6 баллов — умерен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5-4 баллов — глубок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3 балла — запредель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мерть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5C9-65E4-4A84-8ABB-1F5E2CB8DF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тивопоказания для люмбальной п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571760"/>
            <a:ext cx="8329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е уровня сознания (ШКГ менее 9 баллов), или флюктуирующее созн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носительная брадикардия и гипертензи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чагов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неврологическая симптоматика, судорог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стабильная гемодинамика, дыхательная недостаточно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птический шо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грессирующая геморрагическая сыпь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я гемостаза (уровень тромбоцитов менее 100 х10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/л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кальная инфекция кожи и мягких тканей в зоне проведения СМП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8255-A650-4F3B-9F4B-1EBFD482F3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оказания дл СМП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ывая отсутствие специфических менингеальных проявлений у детей раннего возраста, ЦСП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казана всем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ациентам первого года жизни с ГМ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цениваются качественные характеристики ЦСЖ (цвет, прозрачность), исследуется плеоцитоз с определением клеточного состава, биохимические показатели  уровней белка, глюкозы,  натрия, хлоридов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сем больным с подозрением на смешанную форму ГМИ или ММ рекомендовано бактериологическое исследование (посев) цереброспинальной жидк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027-BC64-4656-88BF-C4E272229D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56480" cy="136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marL="10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Менингиты- группа заболеваний, характери-зующихся общеинфекционным синдромом, поражением мозговых оболочек и воспалитель-ными изменениями в спинномозговой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08000" y="1744560"/>
          <a:ext cx="8820000" cy="4905360"/>
        </p:xfrm>
        <a:graphic>
          <a:graphicData uri="http://schemas.openxmlformats.org/drawingml/2006/table">
            <a:tbl>
              <a:tblPr/>
              <a:tblGrid>
                <a:gridCol w="3259080"/>
                <a:gridCol w="485640"/>
                <a:gridCol w="2544840"/>
                <a:gridCol w="2530440"/>
              </a:tblGrid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аль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ой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з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енинг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фил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Туберкуле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невм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птококковый (пневмококковы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филитический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Инфлюэнца-менинги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ацилляр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ери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Энтеровирусный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ЕСНО и Коксак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петически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ингеальная форма КЭ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ираторно-синцитиаль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869-2FA4-4185-9D34-D86E7C4D4B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раклинические методы обследования при отеке моз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57200" y="1456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 достоверным метод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носят данные МРТ, компьютерной томографии (КТ) и нейросонографии (у новорожденных и детей до года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едположительные (вероятные) мето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ключают электроэнцефалографию (ЭЭГ), Эхо-ЭС, нейрофтальмоскопию, церебральную ангиографию, сканирование мозга с применением радиоактивных изото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казаниях проводится ангиография, сонография зрительного нерва и люмбальная пункц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йроофтальмологический осмотр - полнокровие вен и начальный отек диска зрительного нерва, выраженный застой, кровоизли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37F7-6D28-4552-A760-5C28407590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мощь при ГФМИ на догоспитальн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72960" y="1055520"/>
            <a:ext cx="85075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дозрении на НИ, менингит экстренная госпитализация в стационар обязательна! Транспортировка с приподнятой на 3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овой без поворота в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нация ВДП и подача кисло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гипертермии – в/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анальгин 50% - 0,1 мл/год жизни; димедрол 1%, при возбуждении–пипольфен 2,5% 0,2 мл/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пир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ие судорог – седуксен (до 3-х мес.- 0,3мл, 3-6 мес.-0,5мл, 7мес.-2г- 0,5-1 мл; более 2 л-1,5-2 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бактериальная терапия (цефтриакс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идратация (лазикс (0,5-1-2 мг/кг, магния сульфат 1 мл/год жизни) при отсутствии обезво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изнаках ОНГМ и для профилактики ИТШ-дексазон 0,5 мг/кг, преднизолон 1-2 мг/кг массы 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чение в стационаре больных ГФ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85840" y="127476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я в специализированном отделении нейроинфекций или в ПИТ в инфекционном стациона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няются ЦС 3 поколения (цефтриаксон 2,0*2р в/в* 7-10 дней, цефатоксим, цефтазидим 2,0*3 раза/д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.использоваться бензилпенициллин из расчета 300-500 тыс. ед/кг/сутки в/м с интервалом в 4 часа, детям до 3 мес. - 500 тыс.ед/кг с интервалом 2-3 часа. Можно назначать полусинтетические пенициллины в тех же дозиров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рс а/б-терапии - 7-10 дней без снижения доз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итерий отмены а/б- санация ликвора (цитоз не более 100 клеток в 1 мкл, лимфоциты - 75%), стойко нормальная температур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а, хорошее самочувств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0F1-2CF3-4286-AE3B-15C6EC5B677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76320" y="0"/>
            <a:ext cx="9067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e8f"/>
                </a:solidFill>
                <a:latin typeface="Arial"/>
              </a:rPr>
              <a:t>Этиотропная антимикробная терапия при бактериальных менингитах с идентифицированным аг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14200" y="907920"/>
          <a:ext cx="8715600" cy="5686560"/>
        </p:xfrm>
        <a:graphic>
          <a:graphicData uri="http://schemas.openxmlformats.org/drawingml/2006/table">
            <a:tbl>
              <a:tblPr/>
              <a:tblGrid>
                <a:gridCol w="2000520"/>
                <a:gridCol w="3354120"/>
                <a:gridCol w="3360960"/>
              </a:tblGrid>
              <a:tr h="57204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араты выб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ьтернативные препар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eningitid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, появляются </a:t>
                      </a: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резистентные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100 мг/кг/сут на 3 введения (не более 6,0 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neumoni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нкомицин 2,0 г/сут., в/в + рифампицин 900-1200 мг/сут на 2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енем 3,0г/сут на 3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5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influenzae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80-100 мг/кг/сут через 8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атогенетическая 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нтигипоксическ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зинтоксикационная (инфузии 40-50 мл/кг/сут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шоков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гидратационная (маннитол, фуросемид,  альбумин, глицерин, дексаметазон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ррекция ДВС-синдро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воспалительная и десенсибилизирующ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аболическая и нейровегетативная защита мозга   (антиоксиданты, пирацетам, кавинтон, актовегин, церебральная  гипотерм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судорожные средства (сибазон, дроперидол, ГОМ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EE7-EEEF-4290-99C0-91E2D8DD60E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рапия отека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вводимых растворов ограничивается до 75% от физиологической потребности: 10% р-р глюкозы, 20% р-р альбумина, полиионные солевые р-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Стартовым" раствором м.б. 20% раствор маннитола из расчета 0,25-1,0 г/кг в течение 10-30 мин, инфузию препарата можно повторить через 8-12 час. Через 60-90 мин после введения маннитола для предотвращения синдрома "отдачи" -фуросемид 1-2 мг/кг ма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ормализации КОС в/в капельно полиионные солевые буферные растворы (ацесоль, квартасоль, лактасоль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удорогах противосудорожные средства до купирова-ния: диазепам - 0,1-0,2 мл/год жизни, повторно до 0,3-0,5 мг/кг, в стационаре - вальпроаты, барбитураты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саметазон с противоотечной  целью (16-32 мг/с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лажненный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970C-EB9B-4BD0-9D5E-80CE92FAF8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альпро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0004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льпроат обладает широким спектром противосудо-рожной активности, хотя используется в качестве лечения первой линии при тонико-клонических приступах, миоклонических припадках. Также внутривенно для лечения эпилептического стату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парат выпускается (конвульсофин-кальция вальпроата дигидрат в виде табл.по 300 мг, и по 50, 200 или 300 мг вальпроевой кислоты/вальпроата натрия, по 500 мг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(депакин-50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.пролонгированного действия, покрытых оболочкой (конвулекс - вальпроат натрия - по 300, 500 мг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псулах (конвулекс- вальпроевая кислота - по 150, 300, 500 мг), в виде сиропа (конвулекс - сироп для детей), по 50 мг вальпроата натрия в 1 мл, в виде раствора (капли) для приёма внутрь, по300 мг вальпроевой кислоты в 1 м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виде раствора для в/в введения (конвулекс), в ампулах по 5 мл, содержащего 100 мг/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едация пр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27160" y="872640"/>
            <a:ext cx="861696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рбитуровый наркоз обеспечивает выраженный противоотечный эффект. Для этого применяют высокие дозы барбитуратов: 10 мг/кг в течение 30 мин; 5 мг/кг каждый час в 3 дозы, поддерживающая доза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очные эффекты: артериальная гипотензия, угнетение сердечной деятельности, иммуносупрессия, увеличение риска инфекций, электролитные нарушения, острый токсический гепатит и ОП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 использование фенобарбитала 10 мг/кг внутри- венно в течение 30 мин медленно, с продолжающейся пер- фузией 5 мг/кг в час в течение 3 ч, с продолжением поддер- живающей инфузии в дозе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ют также тиопентал натрия 2 мг/кг внутривенно в течение 20с до снижения ВЧД &lt;20 мм рт. ст. Дальнейший протокол предполагает введение вторичного болюса в дозе 3 мг/кг массы тела или третичного болюса – в дозе 5 мг/кг, при необходимости продолжение введения поддерживающей дозы 3 мг/кг в ч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C60-539D-48BD-809B-2AE52ED60F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5840" y="114300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еренесшие менингит находятся под наблюдением районного невропатолога и участкового врача не менее 2-х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сле выписк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стационара: через 1 мес., далее 1 раз в 3 мес. в течение первого года, 1 раз в 6 мес. в дальнейшем, при необходимости частота осмотров увеличив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иске из стационара пациенту выдается справка с описанием мониторинга его состояния, проведенного лечения и лабораторного обследования, а также рекомендации по дальнейшему ведению реконвалесцен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кольников и дошкольников не рекомендуется направлять в детские коллективы в течение 2-3 недель после выписки из стацион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4B0C-373E-4E22-B6C1-89076772E92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13840" y="10000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ьники, перенесшие ГФМИ, на 6 мес. освобождаются от занятий физкультурой и других физических нагруз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илактические прививки детям, перенесшим легкую степень менингококкемии могут быть проведены через 1 месяц после выздоровления, среднетяжелую - через 2-3 месяца, тяжелую - через 3-4 месяц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, перенесшим менингит или смешанную форму менингококовой инфекции, вакцинация может быть проведена не ранее, чем через 3 месяца при выздоровлении и тольк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осле осмотра невропатолог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личии последствий в виде органических поражений головного мозга, судорог, выраженных функциональных нарушений головного мозга - не ранее чем через год после их исчезновения или стойкой компенс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тели менингококка могут быть привиты сразу после санации, а перенесшие назофарингит - через 1 меся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1CF-6C4D-4D8B-9B24-95412F4781B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Актуальные этиологические факторы менинги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9280" y="1592280"/>
            <a:ext cx="80852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Бактериаль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енингококки, пневмококки, гемофильная палочка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рептококки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r.agalactiae)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афилококки,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икобактерии туберкулез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листерии, сальмонеллы, спирохет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Вирус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энтеровирусы</a:t>
            </a:r>
            <a:r>
              <a:rPr b="0" lang="ru-RU" sz="2300" spc="-1" strike="noStrike">
                <a:solidFill>
                  <a:srgbClr val="262673"/>
                </a:solidFill>
                <a:latin typeface="Arial"/>
              </a:rPr>
              <a:t> (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ксаки А (1–24 типов) и В (1–6 типов), вирусы ECHO (1–34 типов), семейство герпесвирусов (ВПГ 1, 2 типа, ВЭБ, ВГЧ 6 типа), арбовирусы (КЭ), парамиксовирусы (эпидемического паротита, парагриппа), вирусы кори, краснухи, бешен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B675-3FF9-4635-BCC0-C6934644C6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1DA-4C50-45C6-AE72-1FCFB30725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4" descr="DSC_5984"/>
          <p:cNvPicPr/>
          <p:nvPr/>
        </p:nvPicPr>
        <p:blipFill>
          <a:blip r:embed="rId1"/>
          <a:srcRect l="0" t="4290" r="0" b="19305"/>
          <a:stretch/>
        </p:blipFill>
        <p:spPr>
          <a:xfrm>
            <a:off x="1582560" y="1600200"/>
            <a:ext cx="597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06200"/>
            <a:ext cx="8459640" cy="80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Патогенез поражения нервной системы при менингитах различной эт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42560" y="1196640"/>
            <a:ext cx="876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ри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вирусных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нингитах развиваются  дистрофические и некротические повреждения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нейроцитов и глиальных клеток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При бактериальных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–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гнойное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оспаление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мягких мозговых оболочек, 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агодаря факторам патогенности бактерий (ЛПС, подавление фагоцитоза и бактерицидной активности крови, синте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g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протеазы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ПС→плазморея→ белковый экссудат  и гнойный детрит формируют фибринозно-гнойный сгусток, он являясь питательной средой и снижая пенетрацию а/б, приводит к усилению размножения бактерий, повреждению нейроцитов, вещества ГМ→ менингоэнцефалиту, блоку в ликворных путях, ↑ гипоксии  моз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проницаемости ГЭБ,сосудистой стенки, нарастающий интерстициальный отек белого вещества, набухание клеток и гиперпродукция ликвора приводят к ОНГМ, ВЧГ, при декомпен-сации которого наступает дислокация мозга с развитием паралича центра дыхания и сосудистого центра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106-84B5-47DD-B598-7B386386F7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5"/>
          <p:cNvSpPr/>
          <p:nvPr/>
        </p:nvSpPr>
        <p:spPr>
          <a:xfrm>
            <a:off x="509760" y="1268280"/>
            <a:ext cx="70401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МЕНИНГИТ      ЭНЦЕФАЛИТ      МИЕЛ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33"/>
          <p:cNvSpPr/>
          <p:nvPr/>
        </p:nvSpPr>
        <p:spPr>
          <a:xfrm>
            <a:off x="1187280" y="404640"/>
            <a:ext cx="6769440" cy="797040"/>
          </a:xfrm>
          <a:custGeom>
            <a:avLst/>
            <a:gdLst>
              <a:gd name="textAreaLeft" fmla="*/ 0 w 6769440"/>
              <a:gd name="textAreaRight" fmla="*/ 6769800 w 676944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4264" h="502">
                <a:moveTo>
                  <a:pt x="0" y="502"/>
                </a:moveTo>
                <a:cubicBezTo>
                  <a:pt x="17" y="95"/>
                  <a:pt x="1476" y="0"/>
                  <a:pt x="2187" y="0"/>
                </a:cubicBezTo>
                <a:cubicBezTo>
                  <a:pt x="2898" y="0"/>
                  <a:pt x="4262" y="111"/>
                  <a:pt x="4264" y="502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7956720" y="1197000"/>
            <a:ext cx="0" cy="14436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40"/>
          <p:cNvSpPr/>
          <p:nvPr/>
        </p:nvSpPr>
        <p:spPr>
          <a:xfrm>
            <a:off x="1187280" y="1268280"/>
            <a:ext cx="0" cy="71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41"/>
          <p:cNvSpPr/>
          <p:nvPr/>
        </p:nvSpPr>
        <p:spPr>
          <a:xfrm>
            <a:off x="1692360" y="765000"/>
            <a:ext cx="2808360" cy="4748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769" h="299">
                <a:moveTo>
                  <a:pt x="0" y="299"/>
                </a:moveTo>
                <a:cubicBezTo>
                  <a:pt x="47" y="18"/>
                  <a:pt x="557" y="16"/>
                  <a:pt x="852" y="8"/>
                </a:cubicBezTo>
                <a:cubicBezTo>
                  <a:pt x="1147" y="0"/>
                  <a:pt x="1720" y="32"/>
                  <a:pt x="1769" y="253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42"/>
          <p:cNvSpPr/>
          <p:nvPr/>
        </p:nvSpPr>
        <p:spPr>
          <a:xfrm>
            <a:off x="1692360" y="126828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43"/>
          <p:cNvSpPr/>
          <p:nvPr/>
        </p:nvSpPr>
        <p:spPr>
          <a:xfrm>
            <a:off x="4500720" y="1197000"/>
            <a:ext cx="0" cy="14436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45"/>
          <p:cNvSpPr/>
          <p:nvPr/>
        </p:nvSpPr>
        <p:spPr>
          <a:xfrm>
            <a:off x="4932360" y="765000"/>
            <a:ext cx="2232000" cy="4114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1406" h="259">
                <a:moveTo>
                  <a:pt x="0" y="259"/>
                </a:moveTo>
                <a:cubicBezTo>
                  <a:pt x="55" y="31"/>
                  <a:pt x="516" y="0"/>
                  <a:pt x="750" y="0"/>
                </a:cubicBezTo>
                <a:cubicBezTo>
                  <a:pt x="984" y="0"/>
                  <a:pt x="1318" y="71"/>
                  <a:pt x="1406" y="259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4932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7164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48"/>
          <p:cNvSpPr/>
          <p:nvPr/>
        </p:nvSpPr>
        <p:spPr>
          <a:xfrm>
            <a:off x="1187280" y="1792440"/>
            <a:ext cx="6697800" cy="36504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4219" h="460">
                <a:moveTo>
                  <a:pt x="0" y="45"/>
                </a:moveTo>
                <a:cubicBezTo>
                  <a:pt x="2" y="366"/>
                  <a:pt x="1520" y="460"/>
                  <a:pt x="2223" y="453"/>
                </a:cubicBezTo>
                <a:cubicBezTo>
                  <a:pt x="2926" y="446"/>
                  <a:pt x="4215" y="272"/>
                  <a:pt x="4219" y="0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50"/>
          <p:cNvSpPr/>
          <p:nvPr/>
        </p:nvSpPr>
        <p:spPr>
          <a:xfrm flipV="1">
            <a:off x="4751280" y="1650600"/>
            <a:ext cx="1800" cy="530280"/>
          </a:xfrm>
          <a:prstGeom prst="line">
            <a:avLst/>
          </a:prstGeom>
          <a:ln w="63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52"/>
          <p:cNvSpPr/>
          <p:nvPr/>
        </p:nvSpPr>
        <p:spPr>
          <a:xfrm flipV="1">
            <a:off x="1187280" y="1773000"/>
            <a:ext cx="0" cy="215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3"/>
          <p:cNvSpPr/>
          <p:nvPr/>
        </p:nvSpPr>
        <p:spPr>
          <a:xfrm flipV="1">
            <a:off x="7885080" y="1773000"/>
            <a:ext cx="0" cy="1429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54"/>
          <p:cNvSpPr/>
          <p:nvPr/>
        </p:nvSpPr>
        <p:spPr>
          <a:xfrm>
            <a:off x="179280" y="2260440"/>
            <a:ext cx="8821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Общемозговые симптомы: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головная боль, рвота фонтаном, возбуждение, судороги, галлюцинации, нарушение созна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обственно оболочечные симптомы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Общая гиперестезия (кожная, гиперакузия, фотофобия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Менингеальные знаки: ригидность затылочных мышц, симптомы Кернига, Брудзинского, с-м Лессаж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Реактивные болевые феномены: с-м Данцига, Менделя и др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индромы очаговых поражений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(энцефалит, поражение черепных нервов), оцениваются совместно с неврологом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262673"/>
                </a:solidFill>
                <a:uFillTx/>
                <a:latin typeface="Arial"/>
              </a:rPr>
              <a:t>Внешне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-гиперемия, синюшность лица, одышка, аритмия дыхания, повышение АД, бради-, тахикардия. Позднее клонико-тонические судороги, снижение фотореакции зрачков, плавающие гл.яблок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Изменения на ЭЭГ, ликвор вытекает струей,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↑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ликворного давления </a:t>
            </a:r>
            <a:r>
              <a:rPr b="0" lang="en-US" sz="2100" spc="-1" strike="noStrike">
                <a:solidFill>
                  <a:srgbClr val="262673"/>
                </a:solidFill>
                <a:latin typeface="Arial"/>
              </a:rPr>
              <a:t>&gt;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200 мм.вод.ст., биомикроскопия сосудов глазного яблок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6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Менингококковый менинг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227160" y="1128240"/>
            <a:ext cx="86896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трейшее начало болезни, ведущий симптом - головная боль нарастающая, распирающего характера, чуть позже - рвота  «фонтаном». Фотофобия, гиперакузия, гиперестезия. Менингеальные знаки в первые 12 – 24 ча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2-3-й день редко (в 8-10%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 поражени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череп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нервов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II,IV,VI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II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арезы глазодвигательного, слухового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энцефали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лишь 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,5%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резкие, чаще в виде  корковых расстройств (амнезия, галлюцин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9 (12,5%) больных развилось тяжелое осложнение-ОНГМ (спутанное сознание, психомоторное возбуждение, судороги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сочетании с коккемией (у молодых людей в 30-45%, у детей в 70-90%) доминируют проявления коккемии: нарастает интоксикация, к концу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ня геморрагическая сыпь, затем 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8405640" y="6313320"/>
            <a:ext cx="584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8874-7E13-4661-8525-D251B3BF0B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094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Особенности менингеального синдрома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36240" y="1494000"/>
            <a:ext cx="83502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явления головной боли – беспокойство, плач, монотонный крик, в тяжелых случаях ст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Кернига и ригидность затылочных мышц могут быть не выраже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ячивание родничка, ослабление или отсутствие его пульсации, «арбузный» звук при поколачивании по черепу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«подвешивания»  Лесса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редко начальные проявления менингеального синдрома - судорожный синдром и диаре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 детей часты смешанные формы коккемии и менингита (у 70-90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E82-B1D3-4E99-85B6-704F2977D6D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 ИД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4" descr="~Menin_1"/>
          <p:cNvPicPr/>
          <p:nvPr/>
        </p:nvPicPr>
        <p:blipFill>
          <a:blip r:embed="rId1"/>
          <a:stretch/>
        </p:blipFill>
        <p:spPr>
          <a:xfrm>
            <a:off x="2286000" y="68580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3:29:17Z</dcterms:created>
  <dc:creator>Николай</dc:creator>
  <dc:description/>
  <dc:language>en-US</dc:language>
  <cp:lastModifiedBy>User</cp:lastModifiedBy>
  <cp:lastPrinted>2017-05-17T13:08:27Z</cp:lastPrinted>
  <dcterms:modified xsi:type="dcterms:W3CDTF">2020-02-26T16:19:08Z</dcterms:modified>
  <cp:revision>1245</cp:revision>
  <dc:subject/>
  <dc:title>Н.В.Васильева  директор клинической микологии С-Пб МАПО</dc:title>
</cp:coreProperties>
</file>