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wmf" ContentType="image/x-wmf"/>
  <Override PartName="/ppt/media/image8.jpeg" ContentType="image/jpeg"/>
  <Override PartName="/ppt/media/image5.png" ContentType="image/png"/>
  <Override PartName="/ppt/media/image1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10.png" ContentType="image/png"/>
  <Override PartName="/ppt/media/image9.jpeg" ContentType="image/jpeg"/>
  <Override PartName="/ppt/media/image4.jpeg" ContentType="image/jpeg"/>
  <Override PartName="/ppt/media/image2.png" ContentType="image/png"/>
  <Override PartName="/ppt/media/image3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76116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69920-7C69-4078-8548-CF142DE0E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6FAE9-8042-4A13-8C0B-7BCBEA088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83FC-437A-432C-A69A-C0783558B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A54F-1ABB-4B8E-8658-CA3091A09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DBC0D-5D23-466E-8432-D746FFF4C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A3564-A825-4F38-AB1E-6AC72F4E5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422A2-C25D-4802-9F35-14FC2B17A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2E759-B29D-4C27-8F8D-BF4DE2EEB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7E94D-FF0C-44CE-AA31-BBBDC683A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7EF6A-F146-4693-B245-6FBFD232E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CB982-D5E4-49C2-984E-D5C943A81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B10D-298C-4D31-B998-35113673C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136CC-5759-48BF-8A95-20648BB31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7AEE5-5AAB-40F4-94D1-FE0B70435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ECF57-6A55-4BB6-BF4E-4A68799A8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9BC27-5938-4C41-B8D3-C3875A28B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3DC7C-EF5D-48B9-9EF0-0C41D537D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85BB74-0F28-4B36-8C06-646E77581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A63F2B-29B0-49BA-AAC5-B5A32A13C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ED10C8-6E46-437C-A282-0700A5C18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1D947F-953A-49E5-9F08-0249898EF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A9E0ED-73E7-4CE8-A9B0-2B35B56D4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045C-AE59-4DC2-962A-1CADF1C8E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45F373-4E0A-48A2-8B86-1D850369B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A734C4-2C89-4AAC-B0E6-A0543D8B6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DB97C2-89CF-4214-AF7B-DE030CEE0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F25416-8192-46CC-8580-B2D756398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5A7BCF-59ED-4BEC-888D-A895F59A8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1A2629-4DB1-4C2D-A044-622718059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83A04B-351F-4A81-BACB-F57C3E8E6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651420-5B0B-490C-A3E8-AC08C36F2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ADB494-E456-46EB-BBD9-F28CEA8AF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2D6C2E-6E07-4202-8B8B-8958B8CC0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5BF1-B634-41F4-A99D-8A3E38C53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D7802D-7263-4FC0-9BE8-05E861F07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8A9753-596E-4E86-98A9-8AA57618F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18E2DA-0F6A-4AE5-9C89-DFCF35F9C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60B643-6518-467E-99E2-BE4C31487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534520-3D28-43A8-9F62-5DCA98249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47DE03-4D35-4FD7-B608-C1947FC16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4D1BCC-67BB-4EAA-9F50-837CF9747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C2BA87-DA33-4790-B4CE-E9C6845C9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683AD7-BF55-4534-8F07-BE6243B35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856B-DF7C-4659-8684-D9E80CB0D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6FC0-DA19-4073-BDC3-D8FFB7213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0EB9-EFFF-464B-8084-0D2D2C382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84B2-4224-4B01-ABC0-B8AE51011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54A1-7FD3-4038-98EB-4060DBDA0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4010F-F65F-4B7B-9602-E233FC33B77F}" type="slidenum">
              <a:rPr b="1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882DB-8DB9-4873-9313-908B60256598}" type="slidenum">
              <a:rPr b="1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161EF-0CCF-4626-B4B5-4BBC4AE21673}" type="slidenum">
              <a:rPr b="1" lang="ru-RU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22BBC-6B7D-4D40-9921-AD7E91ED4C4D}" type="slidenum">
              <a:rPr b="1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6.xml"/><Relationship Id="rId3" Type="http://schemas.openxmlformats.org/officeDocument/2006/relationships/slide" Target="slide7.xml"/><Relationship Id="rId4" Type="http://schemas.openxmlformats.org/officeDocument/2006/relationships/slide" Target="slide8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Номер слайда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3F582-3656-4D3A-A9BD-3B217727F3D2}" type="slidenum">
              <a:rPr b="1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49"/>
          <p:cNvSpPr/>
          <p:nvPr/>
        </p:nvSpPr>
        <p:spPr>
          <a:xfrm>
            <a:off x="0" y="0"/>
            <a:ext cx="9144000" cy="2793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50"/>
          <p:cNvSpPr/>
          <p:nvPr/>
        </p:nvSpPr>
        <p:spPr>
          <a:xfrm>
            <a:off x="0" y="254160"/>
            <a:ext cx="9144000" cy="2793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51"/>
          <p:cNvSpPr/>
          <p:nvPr/>
        </p:nvSpPr>
        <p:spPr>
          <a:xfrm>
            <a:off x="0" y="533520"/>
            <a:ext cx="9144000" cy="2793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56"/>
          <p:cNvSpPr/>
          <p:nvPr/>
        </p:nvSpPr>
        <p:spPr>
          <a:xfrm>
            <a:off x="-36360" y="306864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103924080"/>
              </a:tabLst>
            </a:pPr>
            <a:r>
              <a:rPr b="1" lang="ru-RU" sz="3200" spc="-1" strike="noStrike">
                <a:solidFill>
                  <a:srgbClr val="009dd9"/>
                </a:solidFill>
                <a:latin typeface="Arial"/>
              </a:rPr>
              <a:t>«Гражданская оборона, основные понятия и определения, задачи ГО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48" descr="эмблема-фон-вмр"/>
          <p:cNvPicPr/>
          <p:nvPr/>
        </p:nvPicPr>
        <p:blipFill>
          <a:blip r:embed="rId1"/>
          <a:stretch/>
        </p:blipFill>
        <p:spPr>
          <a:xfrm>
            <a:off x="3708360" y="115920"/>
            <a:ext cx="159696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Номер слайда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A747B-5FAA-4908-A008-F1027B875D2B}" type="slidenum">
              <a:rPr b="1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4"/>
          <p:cNvSpPr/>
          <p:nvPr/>
        </p:nvSpPr>
        <p:spPr>
          <a:xfrm>
            <a:off x="152280" y="692280"/>
            <a:ext cx="8991720" cy="5251320"/>
          </a:xfrm>
          <a:prstGeom prst="downArrow">
            <a:avLst>
              <a:gd name="adj1" fmla="val 63556"/>
              <a:gd name="adj2" fmla="val 26162"/>
            </a:avLst>
          </a:prstGeom>
          <a:gradFill rotWithShape="0">
            <a:gsLst>
              <a:gs pos="0">
                <a:srgbClr val="e2d700"/>
              </a:gs>
              <a:gs pos="100000">
                <a:srgbClr val="ff00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5">
            <a:hlinkClick r:id="rId1" action="ppaction://hlinksldjump"/>
          </p:cNvPr>
          <p:cNvSpPr/>
          <p:nvPr/>
        </p:nvSpPr>
        <p:spPr>
          <a:xfrm>
            <a:off x="819000" y="981000"/>
            <a:ext cx="7543800" cy="762120"/>
          </a:xfrm>
          <a:prstGeom prst="flowChartAlternateProcess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ff99"/>
                </a:solidFill>
                <a:latin typeface="Arial"/>
              </a:rPr>
              <a:t>«ПОВСЕДНЕВНАЯ»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AutoShape 6">
            <a:hlinkClick r:id="rId2" action="ppaction://hlinksldjump"/>
          </p:cNvPr>
          <p:cNvSpPr/>
          <p:nvPr/>
        </p:nvSpPr>
        <p:spPr>
          <a:xfrm>
            <a:off x="781200" y="1920960"/>
            <a:ext cx="7619760" cy="914400"/>
          </a:xfrm>
          <a:prstGeom prst="flowChartAlternateProcess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ecff"/>
                </a:solidFill>
                <a:latin typeface="Arial"/>
              </a:rPr>
              <a:t>«ПЕРВООЧЕРЕДНЫЕ МЕРОПРИЯТИЯ ГО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ecff"/>
                </a:solidFill>
                <a:latin typeface="Arial"/>
              </a:rPr>
              <a:t>ПЕРВОЙ ГРУППЫ»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7">
            <a:hlinkClick r:id="rId3" action="ppaction://hlinksldjump"/>
          </p:cNvPr>
          <p:cNvSpPr/>
          <p:nvPr/>
        </p:nvSpPr>
        <p:spPr>
          <a:xfrm>
            <a:off x="743040" y="3013200"/>
            <a:ext cx="7696080" cy="914400"/>
          </a:xfrm>
          <a:prstGeom prst="flowChartAlternateProcess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dddddd"/>
                </a:solidFill>
                <a:latin typeface="Arial"/>
              </a:rPr>
              <a:t>«ПЕРВООЧЕРЕДНЫЕ МЕРОПРИЯТИЯ ГО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dddddd"/>
                </a:solidFill>
                <a:latin typeface="Arial"/>
              </a:rPr>
              <a:t>ВТОРОЙ ГРУППЫ»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8">
            <a:hlinkClick r:id="rId4" action="ppaction://hlinksldjump"/>
          </p:cNvPr>
          <p:cNvSpPr/>
          <p:nvPr/>
        </p:nvSpPr>
        <p:spPr>
          <a:xfrm>
            <a:off x="723960" y="4105440"/>
            <a:ext cx="7696080" cy="761760"/>
          </a:xfrm>
          <a:prstGeom prst="flowChartAlternateProcess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«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 Б Щ А Я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ГОТОВНОСТЬ ГО»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9"/>
          <p:cNvSpPr/>
          <p:nvPr/>
        </p:nvSpPr>
        <p:spPr>
          <a:xfrm>
            <a:off x="228600" y="5373720"/>
            <a:ext cx="8763120" cy="1129320"/>
          </a:xfrm>
          <a:prstGeom prst="rect">
            <a:avLst/>
          </a:prstGeom>
          <a:solidFill>
            <a:srgbClr val="ff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ПРИВЕДЕНИЕ  ГРАЖДАНСКОЙ ОБОРОНЫ В ГОТОВНОСТЬ МОЖЕТ ОСУЩЕСТВЛЯТЬСЯ ПОСЛЕДОВАТЕЛЬНО ПО СТЕПЕНЯМ,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ЛИБО СРАЗУ В ВЫСШУЮ СТЕПЕНЬ ГОТОВНОСТИ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МИНУЯ ПРОМЕЖУТОЧНЫЕ СТЕПЕНИ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10"/>
          <p:cNvSpPr/>
          <p:nvPr/>
        </p:nvSpPr>
        <p:spPr>
          <a:xfrm>
            <a:off x="76320" y="0"/>
            <a:ext cx="9067680" cy="57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3300"/>
                </a:solidFill>
                <a:latin typeface="Arial"/>
              </a:rPr>
              <a:t>СТЕПЕНИ  ГОТОВНОСТИ  ГРАЖДАНСКОЙ  ОБОРОНЫ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7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4" nodeType="afterEffect" fill="hold" presetClass="entr" presetID="1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41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Номер слайда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F0754-3F47-4515-820A-7D207B15B738}" type="slidenum">
              <a:rPr b="1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2"/>
          <p:cNvSpPr/>
          <p:nvPr/>
        </p:nvSpPr>
        <p:spPr>
          <a:xfrm>
            <a:off x="1676520" y="304920"/>
            <a:ext cx="5762520" cy="6094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ccecff"/>
            </a:solidFill>
            <a:miter/>
          </a:ln>
          <a:effectLst>
            <a:outerShdw dist="107932" dir="18900000" blurRad="0" rotWithShape="0">
              <a:srgbClr val="009dd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ff3300"/>
                </a:solidFill>
                <a:latin typeface="Arial"/>
              </a:rPr>
              <a:t>СТРУКТУРА   ГО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3"/>
          <p:cNvSpPr/>
          <p:nvPr/>
        </p:nvSpPr>
        <p:spPr>
          <a:xfrm>
            <a:off x="419040" y="1371600"/>
            <a:ext cx="8382240" cy="609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4617b"/>
                </a:solidFill>
                <a:latin typeface="Constantia"/>
              </a:rPr>
              <a:t>Органы управления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4"/>
          <p:cNvSpPr/>
          <p:nvPr/>
        </p:nvSpPr>
        <p:spPr>
          <a:xfrm>
            <a:off x="399960" y="2286000"/>
            <a:ext cx="8391600" cy="609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4617b"/>
                </a:solidFill>
                <a:latin typeface="Constantia"/>
              </a:rPr>
              <a:t>Силы и средства ГО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5"/>
          <p:cNvSpPr/>
          <p:nvPr/>
        </p:nvSpPr>
        <p:spPr>
          <a:xfrm>
            <a:off x="380880" y="3284640"/>
            <a:ext cx="8458200" cy="649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4617b"/>
                </a:solidFill>
                <a:latin typeface="Constantia"/>
              </a:rPr>
              <a:t>Система оповещения и связи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6"/>
          <p:cNvSpPr/>
          <p:nvPr/>
        </p:nvSpPr>
        <p:spPr>
          <a:xfrm>
            <a:off x="390600" y="4365720"/>
            <a:ext cx="8524800" cy="1752480"/>
          </a:xfrm>
          <a:prstGeom prst="rect">
            <a:avLst/>
          </a:prstGeom>
          <a:solidFill>
            <a:srgbClr val="ffffff"/>
          </a:solidFill>
          <a:ln w="255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4617b"/>
                </a:solidFill>
                <a:latin typeface="Constantia"/>
              </a:rPr>
              <a:t>Запасы материально-технических, продовольственных, медицинских и иных средств</a:t>
            </a:r>
            <a:endParaRPr b="1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Номер слайда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AADAB-4BC3-4B54-B2CA-5EC70E32DE14}" type="slidenum">
              <a:rPr b="1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10"/>
          <p:cNvSpPr/>
          <p:nvPr/>
        </p:nvSpPr>
        <p:spPr>
          <a:xfrm>
            <a:off x="95400" y="136440"/>
            <a:ext cx="8905680" cy="600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Силы гражданской обороны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лы гражданской обороны - воинские формирования, специально предназначенные для решения задач в области гражданской обороны, организационно объединенные в войска гражданской обороны, а также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аварийно - спасательные формирования и спасательные службы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343080"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Вооруженные Силы Российской Федерации, другие войска и воинские формирования выполняют задачи в области гражданской обороны в соответствии с законодательством Российской Федерации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решения задач в области гражданской обороны воинские части и подразделения Вооруженных Сил Российской Федерации, других войск и воинских формирований привлекаются в порядке, определенном Президентом Российской Федерации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Аварийно - спасательные службы и аварийно - спасательные формирования привлекаются для решения задач в области гражданской обороны в соответствии с законодательством Российской Федерации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Номер слайда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BA80B-144D-4F7F-948F-8D0AA0C6A395}" type="slidenum">
              <a:rPr b="1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9" descr="ОРГАНИЗАЦИИ-6"/>
          <p:cNvPicPr/>
          <p:nvPr/>
        </p:nvPicPr>
        <p:blipFill>
          <a:blip r:embed="rId1"/>
          <a:stretch/>
        </p:blipFill>
        <p:spPr>
          <a:xfrm>
            <a:off x="304920" y="4368960"/>
            <a:ext cx="2666880" cy="222696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2"/>
          <p:cNvSpPr/>
          <p:nvPr/>
        </p:nvSpPr>
        <p:spPr>
          <a:xfrm>
            <a:off x="0" y="0"/>
            <a:ext cx="9144000" cy="279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3"/>
          <p:cNvSpPr/>
          <p:nvPr/>
        </p:nvSpPr>
        <p:spPr>
          <a:xfrm>
            <a:off x="0" y="254160"/>
            <a:ext cx="9144000" cy="27936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СНОВНЫЕ  ПОНЯТИЯ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0" y="533520"/>
            <a:ext cx="9144000" cy="279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6"/>
          <p:cNvSpPr/>
          <p:nvPr/>
        </p:nvSpPr>
        <p:spPr>
          <a:xfrm>
            <a:off x="3780000" y="1041480"/>
            <a:ext cx="4876560" cy="57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ff"/>
                </a:solidFill>
                <a:latin typeface="Arial"/>
              </a:rPr>
              <a:t>  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Гражданская оборона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—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9dd9"/>
                </a:solidFill>
                <a:latin typeface="Arial"/>
              </a:rPr>
              <a:t>система мероприятий по подготовке к защите и по защите населения, материаль-ных и культурных ценностей на территории Российской Федерации от опасностей, возникающих при ведении военных действий или вследствие этих действий, </a:t>
            </a:r>
            <a:r>
              <a:rPr b="1" lang="ru-RU" sz="2400" spc="-1" strike="noStrike">
                <a:solidFill>
                  <a:srgbClr val="1fa5bb"/>
                </a:solidFill>
                <a:latin typeface="Arial"/>
              </a:rPr>
              <a:t>а также при возникновении чрезвычайных ситуаций природного и техногенного характера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7" descr="полномочия"/>
          <p:cNvPicPr/>
          <p:nvPr/>
        </p:nvPicPr>
        <p:blipFill>
          <a:blip r:embed="rId2"/>
          <a:stretch/>
        </p:blipFill>
        <p:spPr>
          <a:xfrm>
            <a:off x="228600" y="838080"/>
            <a:ext cx="2590920" cy="20224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ОРГАНИЗАЦИИ-7"/>
          <p:cNvPicPr/>
          <p:nvPr/>
        </p:nvPicPr>
        <p:blipFill>
          <a:blip r:embed="rId3"/>
          <a:stretch/>
        </p:blipFill>
        <p:spPr>
          <a:xfrm>
            <a:off x="1876320" y="2590920"/>
            <a:ext cx="178596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8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Номер слайда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C4B67-214C-45D7-B17B-E35627FDFFF4}" type="slidenum">
              <a:rPr b="1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5"/>
          <p:cNvSpPr/>
          <p:nvPr/>
        </p:nvSpPr>
        <p:spPr>
          <a:xfrm>
            <a:off x="0" y="333360"/>
            <a:ext cx="9144000" cy="13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63"/>
              </a:spcBef>
              <a:tabLst>
                <a:tab algn="l" pos="0"/>
                <a:tab algn="l" pos="198360"/>
                <a:tab algn="l" pos="396720"/>
                <a:tab algn="l" pos="595440"/>
                <a:tab algn="l" pos="793800"/>
                <a:tab algn="l" pos="992160"/>
                <a:tab algn="l" pos="1190520"/>
                <a:tab algn="l" pos="1389240"/>
                <a:tab algn="l" pos="1587600"/>
                <a:tab algn="l" pos="1785960"/>
                <a:tab algn="l" pos="1984320"/>
                <a:tab algn="l" pos="2182680"/>
                <a:tab algn="l" pos="2381400"/>
                <a:tab algn="l" pos="2579760"/>
                <a:tab algn="l" pos="2778120"/>
                <a:tab algn="l" pos="2976480"/>
                <a:tab algn="l" pos="3174840"/>
                <a:tab algn="l" pos="3373560"/>
                <a:tab algn="l" pos="3571920"/>
                <a:tab algn="l" pos="3770280"/>
                <a:tab algn="l" pos="3968640"/>
              </a:tabLst>
            </a:pPr>
            <a:r>
              <a:rPr b="1" lang="ru-RU" sz="1700" spc="-1" strike="noStrike">
                <a:solidFill>
                  <a:srgbClr val="1fa5bb"/>
                </a:solidFill>
                <a:latin typeface="Arial"/>
              </a:rPr>
              <a:t>Международным гуманитарным правом (Женевская конвенция защиты жертв войны 1949г.) гражданская оборона </a:t>
            </a:r>
            <a:r>
              <a:rPr b="1" lang="ru-RU" sz="1700" spc="-1" strike="noStrike">
                <a:solidFill>
                  <a:srgbClr val="009dd9"/>
                </a:solidFill>
                <a:latin typeface="Arial"/>
              </a:rPr>
              <a:t>определяется как выполнение гуманитарных задач, направленных на защиту гражданского населения и помощь ему в устранении последствий военных или стихийных бедствий, создание условий для его выживания. </a:t>
            </a:r>
            <a:endParaRPr b="1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WordArt 18"/>
          <p:cNvSpPr txBox="1"/>
          <p:nvPr/>
        </p:nvSpPr>
        <p:spPr>
          <a:xfrm>
            <a:off x="324000" y="1773360"/>
            <a:ext cx="41050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Impact"/>
              </a:rPr>
              <a:t>1 МАРТА -</a:t>
            </a:r>
            <a:endParaRPr b="1" lang="en-US" sz="1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Impact"/>
              <a:ea typeface="Impact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Impact"/>
              </a:rPr>
              <a:t>ВСЕМИРНЫЙ  ДЕНЬ  ГО</a:t>
            </a:r>
            <a:endParaRPr b="1" lang="en-US" sz="1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2" name="WordArt 20"/>
          <p:cNvSpPr txBox="1"/>
          <p:nvPr/>
        </p:nvSpPr>
        <p:spPr>
          <a:xfrm>
            <a:off x="5148360" y="1773360"/>
            <a:ext cx="35290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Impact"/>
              </a:rPr>
              <a:t>4 ОКТЯБРЯ</a:t>
            </a:r>
            <a:endParaRPr b="1" lang="en-US" sz="1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Impact"/>
              <a:ea typeface="Impact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ffffff"/>
                  </a:outerShdw>
                </a:effectLst>
                <a:latin typeface="Impact"/>
              </a:rPr>
              <a:t>ДЕНЬ ГО В РОССИИ</a:t>
            </a:r>
            <a:endParaRPr b="1" lang="en-US" sz="1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ffff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13" name="AutoShape 24"/>
          <p:cNvSpPr/>
          <p:nvPr/>
        </p:nvSpPr>
        <p:spPr>
          <a:xfrm>
            <a:off x="1046160" y="2293920"/>
            <a:ext cx="7053120" cy="22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26" descr=""/>
          <p:cNvPicPr/>
          <p:nvPr/>
        </p:nvPicPr>
        <p:blipFill>
          <a:blip r:embed="rId1"/>
          <a:stretch/>
        </p:blipFill>
        <p:spPr>
          <a:xfrm>
            <a:off x="3529080" y="3970440"/>
            <a:ext cx="2698560" cy="26985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215" name="Picture 27" descr=""/>
          <p:cNvPicPr/>
          <p:nvPr/>
        </p:nvPicPr>
        <p:blipFill>
          <a:blip r:embed="rId2"/>
          <a:stretch/>
        </p:blipFill>
        <p:spPr>
          <a:xfrm>
            <a:off x="6265800" y="3970440"/>
            <a:ext cx="2698920" cy="26985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16" name="Text Box 22"/>
          <p:cNvSpPr/>
          <p:nvPr/>
        </p:nvSpPr>
        <p:spPr>
          <a:xfrm>
            <a:off x="34920" y="2565360"/>
            <a:ext cx="8964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03924080"/>
              </a:tabLst>
            </a:pPr>
            <a:r>
              <a:rPr b="1" lang="ru-RU" sz="1600" spc="-1" strike="noStrike">
                <a:solidFill>
                  <a:srgbClr val="009dd9"/>
                </a:solidFill>
                <a:latin typeface="Arial"/>
              </a:rPr>
              <a:t>Международная организация гражданской обороны (МОГО) действует с 1972 года. В ее состав входят более 50 стран-участниц и 20 – в качестве наблюдателей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3924080"/>
              </a:tabLst>
            </a:pPr>
            <a:r>
              <a:rPr b="1" lang="ru-RU" sz="1600" spc="-1" strike="noStrike">
                <a:solidFill>
                  <a:srgbClr val="009dd9"/>
                </a:solidFill>
                <a:latin typeface="Arial"/>
              </a:rPr>
              <a:t>МЧС России вошло в нее в 1993 году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28"/>
          <p:cNvSpPr/>
          <p:nvPr/>
        </p:nvSpPr>
        <p:spPr>
          <a:xfrm>
            <a:off x="34920" y="3448080"/>
            <a:ext cx="360036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103924080"/>
              </a:tabLst>
            </a:pPr>
            <a:r>
              <a:rPr b="1" lang="ru-RU" sz="1600" spc="-1" strike="noStrike">
                <a:solidFill>
                  <a:srgbClr val="009dd9"/>
                </a:solidFill>
                <a:latin typeface="Arial"/>
              </a:rPr>
              <a:t>В 1996 году был создан Корпус чрезвычайного гуманитарного реагирования России, силы которого принимали участие в операциях ООН по обеспечению выживания в Руанде, Заире, Афганистане, Танзании. Министерство плодотворно сотрудничает с Норвежским Красным Крестом, Швейцарским корпусом помощи при катастрофах, с Австрией, Германией, Финляндией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Номер слайда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B7815-3CAF-4956-AF5C-B413C4CD69A5}" type="slidenum">
              <a:rPr b="1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ffff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ЭТАПЫ РАЗВИТИЯ   МПВО – ГО – РСЧС, ГО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Group 18"/>
          <p:cNvGrpSpPr/>
          <p:nvPr/>
        </p:nvGrpSpPr>
        <p:grpSpPr>
          <a:xfrm>
            <a:off x="2209680" y="1295280"/>
            <a:ext cx="6421680" cy="1028520"/>
            <a:chOff x="2209680" y="1295280"/>
            <a:chExt cx="6421680" cy="1028520"/>
          </a:xfrm>
        </p:grpSpPr>
        <p:sp>
          <p:nvSpPr>
            <p:cNvPr id="221" name="Text Box 10"/>
            <p:cNvSpPr/>
            <p:nvPr/>
          </p:nvSpPr>
          <p:spPr>
            <a:xfrm>
              <a:off x="2209680" y="1523880"/>
              <a:ext cx="1849680" cy="7999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80"/>
                  </a:solidFill>
                  <a:latin typeface="Arial"/>
                </a:rPr>
                <a:t>МПВО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Text Box 11"/>
            <p:cNvSpPr/>
            <p:nvPr/>
          </p:nvSpPr>
          <p:spPr>
            <a:xfrm>
              <a:off x="4603680" y="1523880"/>
              <a:ext cx="174168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80"/>
                  </a:solidFill>
                  <a:latin typeface="Arial"/>
                </a:rPr>
                <a:t>ГО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Text Box 12"/>
            <p:cNvSpPr/>
            <p:nvPr/>
          </p:nvSpPr>
          <p:spPr>
            <a:xfrm>
              <a:off x="6889680" y="1523880"/>
              <a:ext cx="174168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80"/>
                  </a:solidFill>
                  <a:latin typeface="Arial"/>
                </a:rPr>
                <a:t>РСЧС, ГО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Line 13"/>
            <p:cNvSpPr/>
            <p:nvPr/>
          </p:nvSpPr>
          <p:spPr>
            <a:xfrm>
              <a:off x="4059360" y="1866600"/>
              <a:ext cx="544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Line 14"/>
            <p:cNvSpPr/>
            <p:nvPr/>
          </p:nvSpPr>
          <p:spPr>
            <a:xfrm>
              <a:off x="6345360" y="1866600"/>
              <a:ext cx="544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Text Box 15"/>
            <p:cNvSpPr/>
            <p:nvPr/>
          </p:nvSpPr>
          <p:spPr>
            <a:xfrm>
              <a:off x="2644920" y="1295280"/>
              <a:ext cx="108900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cc3300"/>
                  </a:solidFill>
                  <a:latin typeface="Arial"/>
                </a:rPr>
                <a:t>1932</a:t>
              </a:r>
              <a:r>
                <a:rPr b="1" lang="ru-RU" sz="1400" spc="-1" strike="noStrike">
                  <a:solidFill>
                    <a:srgbClr val="cc3300"/>
                  </a:solidFill>
                  <a:latin typeface="Arial"/>
                </a:rPr>
                <a:t> г.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Text Box 16"/>
            <p:cNvSpPr/>
            <p:nvPr/>
          </p:nvSpPr>
          <p:spPr>
            <a:xfrm>
              <a:off x="4930920" y="1295280"/>
              <a:ext cx="119664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cc3300"/>
                  </a:solidFill>
                  <a:latin typeface="Arial"/>
                </a:rPr>
                <a:t>1961</a:t>
              </a:r>
              <a:r>
                <a:rPr b="1" lang="ru-RU" sz="1400" spc="-1" strike="noStrike">
                  <a:solidFill>
                    <a:srgbClr val="cc3300"/>
                  </a:solidFill>
                  <a:latin typeface="Arial"/>
                </a:rPr>
                <a:t> г.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17"/>
            <p:cNvSpPr/>
            <p:nvPr/>
          </p:nvSpPr>
          <p:spPr>
            <a:xfrm>
              <a:off x="7107120" y="1295280"/>
              <a:ext cx="1198800" cy="34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cc3300"/>
                  </a:solidFill>
                  <a:latin typeface="Arial"/>
                </a:rPr>
                <a:t>1992</a:t>
              </a:r>
              <a:r>
                <a:rPr b="1" lang="ru-RU" sz="1400" spc="-1" strike="noStrike">
                  <a:solidFill>
                    <a:srgbClr val="cc3300"/>
                  </a:solidFill>
                  <a:latin typeface="Arial"/>
                </a:rPr>
                <a:t> г.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29" name="Object 20"/>
          <p:cNvGraphicFramePr/>
          <p:nvPr/>
        </p:nvGraphicFramePr>
        <p:xfrm>
          <a:off x="304920" y="2133720"/>
          <a:ext cx="8432640" cy="4459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0" name="Object 2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133720"/>
                    <a:ext cx="8432640" cy="445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Text Box 21"/>
          <p:cNvSpPr/>
          <p:nvPr/>
        </p:nvSpPr>
        <p:spPr>
          <a:xfrm>
            <a:off x="0" y="1600200"/>
            <a:ext cx="20574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dd9"/>
                </a:solidFill>
                <a:latin typeface="Arial"/>
              </a:rPr>
              <a:t>ЭТАПЫ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9dd9"/>
                </a:solidFill>
                <a:latin typeface="Arial"/>
              </a:rPr>
              <a:t>РАЗВИТИЯ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Номер слайда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4C0EB-1708-48F8-AEFD-53F583EDD034}" type="slidenum">
              <a:rPr b="1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3"/>
          <p:cNvSpPr/>
          <p:nvPr/>
        </p:nvSpPr>
        <p:spPr>
          <a:xfrm>
            <a:off x="3419640" y="836640"/>
            <a:ext cx="5724360" cy="172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4"/>
          <p:cNvSpPr/>
          <p:nvPr/>
        </p:nvSpPr>
        <p:spPr>
          <a:xfrm>
            <a:off x="944640" y="5375160"/>
            <a:ext cx="1679400" cy="7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5"/>
          <p:cNvSpPr/>
          <p:nvPr/>
        </p:nvSpPr>
        <p:spPr>
          <a:xfrm>
            <a:off x="1356840" y="5438880"/>
            <a:ext cx="876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a4"/>
                </a:solidFill>
                <a:latin typeface="Times New Roman"/>
              </a:rPr>
              <a:t>ТРЕТИЙ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6"/>
          <p:cNvSpPr/>
          <p:nvPr/>
        </p:nvSpPr>
        <p:spPr>
          <a:xfrm>
            <a:off x="1479600" y="5851440"/>
            <a:ext cx="621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a4"/>
                </a:solidFill>
                <a:latin typeface="Times New Roman"/>
              </a:rPr>
              <a:t>ЭТАП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7"/>
          <p:cNvSpPr/>
          <p:nvPr/>
        </p:nvSpPr>
        <p:spPr>
          <a:xfrm>
            <a:off x="944640" y="3314880"/>
            <a:ext cx="1679400" cy="7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8"/>
          <p:cNvSpPr/>
          <p:nvPr/>
        </p:nvSpPr>
        <p:spPr>
          <a:xfrm>
            <a:off x="1338480" y="3378240"/>
            <a:ext cx="91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a4"/>
                </a:solidFill>
                <a:latin typeface="Times New Roman"/>
              </a:rPr>
              <a:t>ВТОРОЙ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9"/>
          <p:cNvSpPr/>
          <p:nvPr/>
        </p:nvSpPr>
        <p:spPr>
          <a:xfrm>
            <a:off x="1479600" y="3790800"/>
            <a:ext cx="621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a4"/>
                </a:solidFill>
                <a:latin typeface="Times New Roman"/>
              </a:rPr>
              <a:t>ЭТАП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10"/>
          <p:cNvSpPr/>
          <p:nvPr/>
        </p:nvSpPr>
        <p:spPr>
          <a:xfrm>
            <a:off x="944640" y="1298520"/>
            <a:ext cx="1679400" cy="7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11"/>
          <p:cNvSpPr/>
          <p:nvPr/>
        </p:nvSpPr>
        <p:spPr>
          <a:xfrm>
            <a:off x="1322640" y="1362240"/>
            <a:ext cx="948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a4"/>
                </a:solidFill>
                <a:latin typeface="Times New Roman"/>
              </a:rPr>
              <a:t>ПЕРВЫЙ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12"/>
          <p:cNvSpPr/>
          <p:nvPr/>
        </p:nvSpPr>
        <p:spPr>
          <a:xfrm>
            <a:off x="1479600" y="1774800"/>
            <a:ext cx="621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a4"/>
                </a:solidFill>
                <a:latin typeface="Times New Roman"/>
              </a:rPr>
              <a:t>ЭТАП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13"/>
          <p:cNvSpPr/>
          <p:nvPr/>
        </p:nvSpPr>
        <p:spPr>
          <a:xfrm>
            <a:off x="412920" y="73080"/>
            <a:ext cx="841824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14" descr=""/>
          <p:cNvPicPr/>
          <p:nvPr/>
        </p:nvPicPr>
        <p:blipFill>
          <a:blip r:embed="rId1"/>
          <a:stretch/>
        </p:blipFill>
        <p:spPr>
          <a:xfrm>
            <a:off x="455760" y="920880"/>
            <a:ext cx="2768400" cy="1860480"/>
          </a:xfrm>
          <a:prstGeom prst="rect">
            <a:avLst/>
          </a:prstGeom>
          <a:ln w="0">
            <a:noFill/>
          </a:ln>
        </p:spPr>
      </p:pic>
      <p:grpSp>
        <p:nvGrpSpPr>
          <p:cNvPr id="245" name="Group 55"/>
          <p:cNvGrpSpPr/>
          <p:nvPr/>
        </p:nvGrpSpPr>
        <p:grpSpPr>
          <a:xfrm>
            <a:off x="3556080" y="946080"/>
            <a:ext cx="5549760" cy="1403640"/>
            <a:chOff x="3556080" y="946080"/>
            <a:chExt cx="5549760" cy="1403640"/>
          </a:xfrm>
        </p:grpSpPr>
        <p:sp>
          <p:nvSpPr>
            <p:cNvPr id="246" name="Rectangle 15"/>
            <p:cNvSpPr/>
            <p:nvPr/>
          </p:nvSpPr>
          <p:spPr>
            <a:xfrm>
              <a:off x="4237920" y="946080"/>
              <a:ext cx="8712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3300"/>
                  </a:solidFill>
                  <a:latin typeface="Arial"/>
                </a:rPr>
                <a:t>1918 г.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Rectangle 16"/>
            <p:cNvSpPr/>
            <p:nvPr/>
          </p:nvSpPr>
          <p:spPr>
            <a:xfrm>
              <a:off x="5165280" y="94608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Rectangle 17"/>
            <p:cNvSpPr/>
            <p:nvPr/>
          </p:nvSpPr>
          <p:spPr>
            <a:xfrm>
              <a:off x="5417640" y="946080"/>
              <a:ext cx="1902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зарождение ГО 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Rectangle 18"/>
            <p:cNvSpPr/>
            <p:nvPr/>
          </p:nvSpPr>
          <p:spPr>
            <a:xfrm>
              <a:off x="7263720" y="946080"/>
              <a:ext cx="8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Rectangle 20"/>
            <p:cNvSpPr/>
            <p:nvPr/>
          </p:nvSpPr>
          <p:spPr>
            <a:xfrm>
              <a:off x="7445880" y="946080"/>
              <a:ext cx="14896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в воззвании 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Rectangle 21"/>
            <p:cNvSpPr/>
            <p:nvPr/>
          </p:nvSpPr>
          <p:spPr>
            <a:xfrm>
              <a:off x="3556080" y="1222200"/>
              <a:ext cx="46213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Комитета революционной обороны «К 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22"/>
            <p:cNvSpPr/>
            <p:nvPr/>
          </p:nvSpPr>
          <p:spPr>
            <a:xfrm>
              <a:off x="8031240" y="1222200"/>
              <a:ext cx="1011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населе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Rectangle 23"/>
            <p:cNvSpPr/>
            <p:nvPr/>
          </p:nvSpPr>
          <p:spPr>
            <a:xfrm>
              <a:off x="3561480" y="1495440"/>
              <a:ext cx="473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нию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Rectangle 24"/>
            <p:cNvSpPr/>
            <p:nvPr/>
          </p:nvSpPr>
          <p:spPr>
            <a:xfrm>
              <a:off x="4193280" y="1495440"/>
              <a:ext cx="491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Петрограда» были впервые определены 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25"/>
            <p:cNvSpPr/>
            <p:nvPr/>
          </p:nvSpPr>
          <p:spPr>
            <a:xfrm>
              <a:off x="3556080" y="1771560"/>
              <a:ext cx="50878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правила поведения населения в условиях 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Rectangle 26"/>
            <p:cNvSpPr/>
            <p:nvPr/>
          </p:nvSpPr>
          <p:spPr>
            <a:xfrm>
              <a:off x="3556440" y="2044440"/>
              <a:ext cx="42206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воздушного нападения противника.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7" name="Picture 30" descr=""/>
          <p:cNvPicPr/>
          <p:nvPr/>
        </p:nvPicPr>
        <p:blipFill>
          <a:blip r:embed="rId2"/>
          <a:stretch/>
        </p:blipFill>
        <p:spPr>
          <a:xfrm>
            <a:off x="455760" y="2852640"/>
            <a:ext cx="2792160" cy="193680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38" descr=""/>
          <p:cNvPicPr/>
          <p:nvPr/>
        </p:nvPicPr>
        <p:blipFill>
          <a:blip r:embed="rId3"/>
          <a:stretch/>
        </p:blipFill>
        <p:spPr>
          <a:xfrm>
            <a:off x="455760" y="4870440"/>
            <a:ext cx="2788920" cy="1901880"/>
          </a:xfrm>
          <a:prstGeom prst="rect">
            <a:avLst/>
          </a:prstGeom>
          <a:ln w="0">
            <a:noFill/>
          </a:ln>
        </p:spPr>
      </p:pic>
      <p:sp>
        <p:nvSpPr>
          <p:cNvPr id="259" name="Rectangle 50"/>
          <p:cNvSpPr/>
          <p:nvPr/>
        </p:nvSpPr>
        <p:spPr>
          <a:xfrm>
            <a:off x="473040" y="942840"/>
            <a:ext cx="2760840" cy="1838520"/>
          </a:xfrm>
          <a:prstGeom prst="rect">
            <a:avLst/>
          </a:prstGeom>
          <a:noFill/>
          <a:ln w="367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51"/>
          <p:cNvSpPr/>
          <p:nvPr/>
        </p:nvSpPr>
        <p:spPr>
          <a:xfrm>
            <a:off x="473040" y="2852640"/>
            <a:ext cx="2760840" cy="1944720"/>
          </a:xfrm>
          <a:prstGeom prst="rect">
            <a:avLst/>
          </a:prstGeom>
          <a:noFill/>
          <a:ln w="367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52"/>
          <p:cNvSpPr/>
          <p:nvPr/>
        </p:nvSpPr>
        <p:spPr>
          <a:xfrm>
            <a:off x="473040" y="4888080"/>
            <a:ext cx="2760840" cy="1885680"/>
          </a:xfrm>
          <a:prstGeom prst="rect">
            <a:avLst/>
          </a:prstGeom>
          <a:noFill/>
          <a:ln w="367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WordArt 54"/>
          <p:cNvSpPr txBox="1"/>
          <p:nvPr/>
        </p:nvSpPr>
        <p:spPr>
          <a:xfrm>
            <a:off x="395280" y="149400"/>
            <a:ext cx="8346960" cy="61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ЗАРОЖДЕНИЕ И РАЗВИТИЕ </a:t>
            </a:r>
            <a:endParaRPr b="1" lang="en-US" sz="14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ГРАЖДАНСКОЙ  ОБОРОНЫ</a:t>
            </a:r>
            <a:endParaRPr b="1" lang="en-US" sz="14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  <p:sp>
        <p:nvSpPr>
          <p:cNvPr id="263" name="Rectangle 56"/>
          <p:cNvSpPr/>
          <p:nvPr/>
        </p:nvSpPr>
        <p:spPr>
          <a:xfrm>
            <a:off x="3419640" y="4869000"/>
            <a:ext cx="5724360" cy="172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57"/>
          <p:cNvSpPr/>
          <p:nvPr/>
        </p:nvSpPr>
        <p:spPr>
          <a:xfrm>
            <a:off x="3419640" y="2852640"/>
            <a:ext cx="5724360" cy="172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Group 58"/>
          <p:cNvGrpSpPr/>
          <p:nvPr/>
        </p:nvGrpSpPr>
        <p:grpSpPr>
          <a:xfrm>
            <a:off x="3532320" y="2909880"/>
            <a:ext cx="5584680" cy="1489320"/>
            <a:chOff x="3532320" y="2909880"/>
            <a:chExt cx="5584680" cy="1489320"/>
          </a:xfrm>
        </p:grpSpPr>
        <p:sp>
          <p:nvSpPr>
            <p:cNvPr id="266" name="Rectangle 31"/>
            <p:cNvSpPr/>
            <p:nvPr/>
          </p:nvSpPr>
          <p:spPr>
            <a:xfrm>
              <a:off x="3706920" y="2989080"/>
              <a:ext cx="5311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3300"/>
                  </a:solidFill>
                  <a:latin typeface="Arial"/>
                </a:rPr>
                <a:t>4 октября 1932 г.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      Постановление   СНК    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32"/>
            <p:cNvSpPr/>
            <p:nvPr/>
          </p:nvSpPr>
          <p:spPr>
            <a:xfrm>
              <a:off x="4271400" y="3271680"/>
              <a:ext cx="4664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«О противовоздушной обороне СССР»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33"/>
            <p:cNvSpPr/>
            <p:nvPr/>
          </p:nvSpPr>
          <p:spPr>
            <a:xfrm>
              <a:off x="3532320" y="3544560"/>
              <a:ext cx="55710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МПВО организовывала и проводила комплекс 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34"/>
            <p:cNvSpPr/>
            <p:nvPr/>
          </p:nvSpPr>
          <p:spPr>
            <a:xfrm>
              <a:off x="3534120" y="3821040"/>
              <a:ext cx="50619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мероприятий по защите населения в зоне 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35"/>
            <p:cNvSpPr/>
            <p:nvPr/>
          </p:nvSpPr>
          <p:spPr>
            <a:xfrm>
              <a:off x="3532320" y="4093920"/>
              <a:ext cx="55846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досягаемости авиации вероятного противника.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37"/>
            <p:cNvSpPr/>
            <p:nvPr/>
          </p:nvSpPr>
          <p:spPr>
            <a:xfrm>
              <a:off x="3560760" y="2909880"/>
              <a:ext cx="5305680" cy="14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Group 59"/>
          <p:cNvGrpSpPr/>
          <p:nvPr/>
        </p:nvGrpSpPr>
        <p:grpSpPr>
          <a:xfrm>
            <a:off x="3605040" y="5060880"/>
            <a:ext cx="5389920" cy="1404000"/>
            <a:chOff x="3605040" y="5060880"/>
            <a:chExt cx="5389920" cy="1404000"/>
          </a:xfrm>
        </p:grpSpPr>
        <p:sp>
          <p:nvSpPr>
            <p:cNvPr id="273" name="Rectangle 39"/>
            <p:cNvSpPr/>
            <p:nvPr/>
          </p:nvSpPr>
          <p:spPr>
            <a:xfrm>
              <a:off x="4028040" y="5060880"/>
              <a:ext cx="567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3300"/>
                  </a:solidFill>
                  <a:latin typeface="Arial"/>
                </a:rPr>
                <a:t>1941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Rectangle 40"/>
            <p:cNvSpPr/>
            <p:nvPr/>
          </p:nvSpPr>
          <p:spPr>
            <a:xfrm>
              <a:off x="4596480" y="5060880"/>
              <a:ext cx="8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41"/>
            <p:cNvSpPr/>
            <p:nvPr/>
          </p:nvSpPr>
          <p:spPr>
            <a:xfrm>
              <a:off x="4671720" y="5060880"/>
              <a:ext cx="36216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ff3300"/>
                  </a:solidFill>
                  <a:latin typeface="Arial"/>
                </a:rPr>
                <a:t>1945гг.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 подразделения МПВО 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42"/>
            <p:cNvSpPr/>
            <p:nvPr/>
          </p:nvSpPr>
          <p:spPr>
            <a:xfrm>
              <a:off x="8299440" y="5060880"/>
              <a:ext cx="6955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оказы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43"/>
            <p:cNvSpPr/>
            <p:nvPr/>
          </p:nvSpPr>
          <p:spPr>
            <a:xfrm>
              <a:off x="8586000" y="5060880"/>
              <a:ext cx="8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44"/>
            <p:cNvSpPr/>
            <p:nvPr/>
          </p:nvSpPr>
          <p:spPr>
            <a:xfrm>
              <a:off x="3606120" y="5337000"/>
              <a:ext cx="5200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вали медицинскую помощь пострадавшим, 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Rectangle 45"/>
            <p:cNvSpPr/>
            <p:nvPr/>
          </p:nvSpPr>
          <p:spPr>
            <a:xfrm>
              <a:off x="3605400" y="5610240"/>
              <a:ext cx="50803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ликвидировали пожары, восстанавливали 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Rectangle 46"/>
            <p:cNvSpPr/>
            <p:nvPr/>
          </p:nvSpPr>
          <p:spPr>
            <a:xfrm>
              <a:off x="3605040" y="5886360"/>
              <a:ext cx="5333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коммуникации, обезвреживали боеприпасы, 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Rectangle 47"/>
            <p:cNvSpPr/>
            <p:nvPr/>
          </p:nvSpPr>
          <p:spPr>
            <a:xfrm>
              <a:off x="3607560" y="6159600"/>
              <a:ext cx="45802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строили укрепления и бомбоубежища.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Номер слайда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AA73C-0C94-4FC8-8A7E-8303CF58BCA5}" type="slidenum">
              <a:rPr b="1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1026"/>
          <p:cNvSpPr/>
          <p:nvPr/>
        </p:nvSpPr>
        <p:spPr>
          <a:xfrm>
            <a:off x="900000" y="5241960"/>
            <a:ext cx="15112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Impact"/>
              </a:rPr>
              <a:t>ШЕСТОЙ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Impact"/>
              </a:rPr>
              <a:t>ЭТАП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1027"/>
          <p:cNvSpPr/>
          <p:nvPr/>
        </p:nvSpPr>
        <p:spPr>
          <a:xfrm>
            <a:off x="971640" y="3079800"/>
            <a:ext cx="1512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Impact"/>
              </a:rPr>
              <a:t>ПЯТЫЙ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Impact"/>
              </a:rPr>
              <a:t>ЭТАП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1028"/>
          <p:cNvSpPr/>
          <p:nvPr/>
        </p:nvSpPr>
        <p:spPr>
          <a:xfrm>
            <a:off x="971640" y="835200"/>
            <a:ext cx="14396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Impact"/>
              </a:rPr>
              <a:t>ЧЕТВЕРТЫЙ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Impact"/>
              </a:rPr>
              <a:t>ЭТАП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1029" descr="mso12BC8"/>
          <p:cNvPicPr/>
          <p:nvPr/>
        </p:nvPicPr>
        <p:blipFill>
          <a:blip r:embed="rId1"/>
          <a:stretch/>
        </p:blipFill>
        <p:spPr>
          <a:xfrm>
            <a:off x="249120" y="260280"/>
            <a:ext cx="2881440" cy="192096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1031" descr="mso5B76E"/>
          <p:cNvPicPr/>
          <p:nvPr/>
        </p:nvPicPr>
        <p:blipFill>
          <a:blip r:embed="rId2"/>
          <a:stretch/>
        </p:blipFill>
        <p:spPr>
          <a:xfrm>
            <a:off x="249120" y="2421000"/>
            <a:ext cx="2881440" cy="195408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1033" descr="mso1F724"/>
          <p:cNvPicPr/>
          <p:nvPr/>
        </p:nvPicPr>
        <p:blipFill>
          <a:blip r:embed="rId3"/>
          <a:stretch/>
        </p:blipFill>
        <p:spPr>
          <a:xfrm>
            <a:off x="249120" y="4665600"/>
            <a:ext cx="2882880" cy="1968480"/>
          </a:xfrm>
          <a:prstGeom prst="rect">
            <a:avLst/>
          </a:prstGeom>
          <a:ln w="0">
            <a:noFill/>
          </a:ln>
        </p:spPr>
      </p:pic>
      <p:sp>
        <p:nvSpPr>
          <p:cNvPr id="289" name="Rectangle 1035"/>
          <p:cNvSpPr/>
          <p:nvPr/>
        </p:nvSpPr>
        <p:spPr>
          <a:xfrm>
            <a:off x="250920" y="260280"/>
            <a:ext cx="2881080" cy="19195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1036"/>
          <p:cNvSpPr/>
          <p:nvPr/>
        </p:nvSpPr>
        <p:spPr>
          <a:xfrm>
            <a:off x="250920" y="2432160"/>
            <a:ext cx="2881080" cy="191916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1037"/>
          <p:cNvSpPr/>
          <p:nvPr/>
        </p:nvSpPr>
        <p:spPr>
          <a:xfrm>
            <a:off x="250920" y="4653000"/>
            <a:ext cx="2881080" cy="1944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1039"/>
          <p:cNvSpPr/>
          <p:nvPr/>
        </p:nvSpPr>
        <p:spPr>
          <a:xfrm>
            <a:off x="3419640" y="333360"/>
            <a:ext cx="5724360" cy="172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030"/>
          <p:cNvSpPr/>
          <p:nvPr/>
        </p:nvSpPr>
        <p:spPr>
          <a:xfrm>
            <a:off x="3562200" y="477720"/>
            <a:ext cx="5473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1945-1961 гг.-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вершенствование МПВО, поиск эффективных путей  защиты населения и народного хозяйства от применения ОМП и развитие способов и средств защиты от обычного вооружения.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1040"/>
          <p:cNvSpPr/>
          <p:nvPr/>
        </p:nvSpPr>
        <p:spPr>
          <a:xfrm>
            <a:off x="3419640" y="4724280"/>
            <a:ext cx="5724360" cy="187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1041"/>
          <p:cNvSpPr/>
          <p:nvPr/>
        </p:nvSpPr>
        <p:spPr>
          <a:xfrm>
            <a:off x="3419640" y="2347920"/>
            <a:ext cx="5724360" cy="216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1032"/>
          <p:cNvSpPr/>
          <p:nvPr/>
        </p:nvSpPr>
        <p:spPr>
          <a:xfrm>
            <a:off x="3564000" y="2422440"/>
            <a:ext cx="54007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1961-1971 гг. –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еобразование МПВО в гражданскую оборону, строящуюся  п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рриториально-производственному признаку, вводится должность начальника ГО страны. Совершенствуются мероприятия защиты населения в военное время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1034"/>
          <p:cNvSpPr/>
          <p:nvPr/>
        </p:nvSpPr>
        <p:spPr>
          <a:xfrm>
            <a:off x="3537000" y="4843440"/>
            <a:ext cx="5572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1971-1992гг.–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льнейшее  развитие ГО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ведена должность Начальника ГО – замес-тителя МО. Идет накопление фонда ЗС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шается проблема обеспечения устойчи-вого функционирования экономики страны в военное, а также в мирное время.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Номер слайда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457C2-58C2-46AE-8EFC-7F3865619010}" type="slidenum">
              <a:rPr b="1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Picture 6" descr=""/>
          <p:cNvPicPr/>
          <p:nvPr/>
        </p:nvPicPr>
        <p:blipFill>
          <a:blip r:embed="rId1"/>
          <a:stretch/>
        </p:blipFill>
        <p:spPr>
          <a:xfrm>
            <a:off x="7164360" y="260280"/>
            <a:ext cx="1785960" cy="261936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7" descr="орел-МЧС"/>
          <p:cNvPicPr/>
          <p:nvPr/>
        </p:nvPicPr>
        <p:blipFill>
          <a:blip r:embed="rId2"/>
          <a:stretch/>
        </p:blipFill>
        <p:spPr>
          <a:xfrm>
            <a:off x="108000" y="3429000"/>
            <a:ext cx="1847880" cy="2362320"/>
          </a:xfrm>
          <a:prstGeom prst="rect">
            <a:avLst/>
          </a:prstGeom>
          <a:ln w="0">
            <a:noFill/>
          </a:ln>
        </p:spPr>
      </p:pic>
      <p:sp>
        <p:nvSpPr>
          <p:cNvPr id="301" name="Rectangle 9"/>
          <p:cNvSpPr/>
          <p:nvPr/>
        </p:nvSpPr>
        <p:spPr>
          <a:xfrm>
            <a:off x="2050920" y="3068640"/>
            <a:ext cx="6877080" cy="302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5"/>
          <p:cNvSpPr/>
          <p:nvPr/>
        </p:nvSpPr>
        <p:spPr>
          <a:xfrm>
            <a:off x="2052720" y="3141720"/>
            <a:ext cx="691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5.11.1995г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Постановлением Правительства РФ создается: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Единая государственная система предупреждения и ликвидации чрезвычайных ситуаций   (РСЧС)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июле 1997г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Произошла реорганизация штабов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 делам ГО и ЧС, являющихся подразделениями органов исполнительной власти субъектов РФ и органов местного самоуправления, в органы специально уполномоченные решать вопросы ГО.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июне 1999г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равительство РФ утвердило Положение о создании в органах структурных подразделений (работников), специально уполномоченных на решение задач в области ГО.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10"/>
          <p:cNvSpPr/>
          <p:nvPr/>
        </p:nvSpPr>
        <p:spPr>
          <a:xfrm>
            <a:off x="179280" y="260280"/>
            <a:ext cx="6877080" cy="25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2"/>
          <p:cNvSpPr/>
          <p:nvPr/>
        </p:nvSpPr>
        <p:spPr>
          <a:xfrm>
            <a:off x="287280" y="404640"/>
            <a:ext cx="673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В январе 1992 г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Гражданская  оборона выводится  из  структуры  МО и объединяется   с   ГКЧС.  Органы  управления  и войска нацеливаются на решение задач по защите населения и территорий от ЧС техногенного и природного  характера.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3300"/>
                </a:solidFill>
                <a:latin typeface="Arial"/>
              </a:rPr>
              <a:t>10.01.1994г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Государственный комитет по ЧС был преобразован в Министерство РФ по делам ГО, ЧС и ликвидации последствий стихийных бедствий (МЧС России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Номер слайда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9BD85-9C0B-4F87-84DE-15CD3273B92D}" type="slidenum">
              <a:rPr b="1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8"/>
          <p:cNvSpPr/>
          <p:nvPr/>
        </p:nvSpPr>
        <p:spPr>
          <a:xfrm>
            <a:off x="4481640" y="3048120"/>
            <a:ext cx="18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10"/>
          <p:cNvSpPr/>
          <p:nvPr/>
        </p:nvSpPr>
        <p:spPr>
          <a:xfrm>
            <a:off x="0" y="0"/>
            <a:ext cx="9144000" cy="2793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11"/>
          <p:cNvSpPr/>
          <p:nvPr/>
        </p:nvSpPr>
        <p:spPr>
          <a:xfrm>
            <a:off x="0" y="254160"/>
            <a:ext cx="9144000" cy="27936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cc"/>
                </a:solidFill>
                <a:latin typeface="Arial"/>
              </a:rPr>
              <a:t>ОСНОВНЫЕ   НАПРАВЛЕНИЯ   ПОЛИТИКИ    В    ОБЛАСТИ   ГО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12"/>
          <p:cNvSpPr/>
          <p:nvPr/>
        </p:nvSpPr>
        <p:spPr>
          <a:xfrm>
            <a:off x="0" y="533520"/>
            <a:ext cx="9144000" cy="2793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3"/>
          <p:cNvSpPr/>
          <p:nvPr/>
        </p:nvSpPr>
        <p:spPr>
          <a:xfrm>
            <a:off x="0" y="838080"/>
            <a:ext cx="9144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4"/>
          <p:cNvSpPr/>
          <p:nvPr/>
        </p:nvSpPr>
        <p:spPr>
          <a:xfrm>
            <a:off x="179280" y="1197000"/>
            <a:ext cx="8713800" cy="518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1125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звитие нормативно-правовой базы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1125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вершенствование системы управления и оповещения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1125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вышение эффективности защиты населения, материальных и культурных ценностей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1125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звитие сил ГО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1125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учение населения, подготовка руководящего состава, служб и сил ГО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1125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еспечение сохранения объектов, существенно необходимых для устойчивого функционирования экономики и выживания населения в военное время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1125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Формирование и развитие системы научных знаний в области ГО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1125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звитие международного сотрудничества в области ГО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15"/>
          <p:cNvSpPr/>
          <p:nvPr/>
        </p:nvSpPr>
        <p:spPr>
          <a:xfrm>
            <a:off x="457200" y="830160"/>
            <a:ext cx="81532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(Основы единой государственной политики в области ГО на период до 2010г.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Утверждены Президентом РФ 05.01.2004г.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0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1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Номер слайда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1467C-D182-43FE-913A-466DDA4BDF84}" type="slidenum">
              <a:rPr b="1" lang="ru-RU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5"/>
          <p:cNvSpPr/>
          <p:nvPr/>
        </p:nvSpPr>
        <p:spPr>
          <a:xfrm>
            <a:off x="395280" y="44280"/>
            <a:ext cx="8497800" cy="69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10392408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сновные мероприятия по защите населения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39240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внедрение современных технологий и способов защиты, реализация качественно новых подходов к созданию системы безопасности жизнедеятельности населения, обеспечению активного участия граждан и общественных организаций в мероприятиях ГО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39240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поддержание в готовности защитных сооружений ГО, обеспечивающих укрытие работающего персонала на объектах, отнесенных к категориям по гражданской обороне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39240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приспособление заглубленных помещений, метрополитенов и других сооружений подземного пространства, подготовка приспособленных сооружений для укрытия населения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39240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подготовка к строительству в угрожаемый период недостающих защитных сооружений ГО с упрощенным внутренним оборудованием для работающего персонала и укрытий простейшего типа для населения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39240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планирование и подготовка эвакуации населения, материальных и культурных ценностей в безопасные районы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39240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заблаговременная (в мирное время) подготовка этих районов для размещения эвакуированного населения, его жизнеобеспечения, хранения материальных и культурных ценностей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39240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совершенствование радиационной, химической, медико-биологической защиты населения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39240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создание запасов и своевременное обновление СИЗ и приборов РХР и ДК, улучшение условий хранения и осуществление контроля за их техническим состоянием; организация обеспечения населения, проживающего вблизи ХОО, промышленными СИЗ за счет средств этих объектов;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392408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организация накопления, храпения и использования для целей ГО запасов материально-технических, продовольственных, медицинских и иных средств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392408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6T05:06:00Z</dcterms:created>
  <dc:creator>User</dc:creator>
  <dc:description/>
  <dc:language>en-US</dc:language>
  <cp:lastModifiedBy>777</cp:lastModifiedBy>
  <dcterms:modified xsi:type="dcterms:W3CDTF">2020-05-14T12:54:04Z</dcterms:modified>
  <cp:revision>383</cp:revision>
  <dc:subject/>
  <dc:title>Презентация PowerPoint</dc:title>
</cp:coreProperties>
</file>