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E70E-D23A-4BBB-A838-EB66784AC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C63C-D228-44C4-95E9-F262F33D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2426-2424-4B59-B6A3-7C82274CE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A32-0A87-4249-AA1E-23C9859C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EB8A-9A6A-488E-A340-5134B090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442CC-DA0A-4AEB-B512-554C42FC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3601E-2885-4D47-BF72-8EBEDD24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6E95-2BBB-4DEF-88D4-4CFFF8EE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AE90-0089-48B3-A9F0-4E889172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C47A-9A03-49BD-A957-DB4B54114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95AB0-6D58-4753-9281-30C32C11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7DB8-8C3E-483E-AFD0-D304A7BD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E5461-A3E7-424E-909F-15C877A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884E-8B0C-4940-8AD0-04CDCEA1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8473-AE87-4772-96BC-CA6D268D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A45F-DF2D-4AE7-9D80-E1DFD9C3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B1B1-B135-4713-ABB4-48C0F6358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26E48-F87C-4EF5-BBB1-30C59733B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191B-4563-45E3-A808-7DD41BC6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8798C-E248-4F5B-9792-3C06E79F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9ADD-296F-4850-9912-1636F4B6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E278B-FFAD-42E7-A093-D67D5042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5F6-9B18-4586-B4A0-FC4FC3B6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D56D5-9020-4EC4-ABB1-3D7E2B2D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D462E-3D82-4286-A344-B120EBEA6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88D25-3D23-4E16-8A74-E6C75D05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470EC-0950-4E64-B83C-14ABF612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AA437-D9DA-4077-8213-982228C9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C4557-26D4-4EE6-B756-5DB632A1A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5795-72C7-4884-9A30-5BDBCA53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34AC9-A59C-4D15-B37C-73033ACE9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0465C-3704-40CF-A0EA-FC54CC21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B00CB-A4D3-4DFD-8532-0B5A97C6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482-9ACB-4964-8205-95A7CA4A0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5E73D-F295-482E-A8CD-E294EBF4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3A622-C433-4F38-AF91-E45A061C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29C3-74C7-4A6E-AF9E-0D9888F4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D026-6BEA-4269-B0E5-8709C496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E1999-414A-4FE4-94FC-ADF5AECF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0445-D20C-4590-8DC5-482D9DE7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A4D78-9D03-495B-8A90-4D87865E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992CF-7663-4490-B4DE-5FE52ACCB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A5CAD5-5C6D-4324-986E-67854A980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B33-4C15-4230-94A4-4F2A396A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ABE-2AC2-4940-8A34-77AC71CE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4B7-F359-43C3-8DEC-624963D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258-D597-43E0-80DF-22DFD568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B08-BE9B-45ED-8F54-EED822B2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8B3D-8C4B-4066-A5A6-CA4F8C366BFF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DA3F-F250-44DF-B5FF-9B500CA4824F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CBBA-D752-4F83-BA8E-707E6F6FA2A3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65F2-D4F1-47F1-963E-F92CC98ABE38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29A9-8B39-4B89-8298-A87D435717A8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9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0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-3636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0392408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"/>
              </a:rPr>
              <a:t>«Гражданская оборона, основные понятия и определения, задачи ГО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8" descr="эмблема-фон-вмр"/>
          <p:cNvPicPr/>
          <p:nvPr/>
        </p:nvPicPr>
        <p:blipFill>
          <a:blip r:embed="rId1"/>
          <a:stretch/>
        </p:blipFill>
        <p:spPr>
          <a:xfrm>
            <a:off x="3708360" y="115920"/>
            <a:ext cx="1596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7FE6-52DA-4344-8708-D69027738071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52280" y="692280"/>
            <a:ext cx="8991720" cy="5251320"/>
          </a:xfrm>
          <a:prstGeom prst="downArrow">
            <a:avLst>
              <a:gd name="adj1" fmla="val 63556"/>
              <a:gd name="adj2" fmla="val 26162"/>
            </a:avLst>
          </a:prstGeom>
          <a:gradFill rotWithShape="0">
            <a:gsLst>
              <a:gs pos="0">
                <a:srgbClr val="e2d7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rId1" action="ppaction://hlinksldjump"/>
          </p:cNvPr>
          <p:cNvSpPr/>
          <p:nvPr/>
        </p:nvSpPr>
        <p:spPr>
          <a:xfrm>
            <a:off x="819000" y="981000"/>
            <a:ext cx="7543800" cy="7621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Arial"/>
              </a:rPr>
              <a:t>«ПОВСЕДНЕВНАЯ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>
            <a:hlinkClick r:id="rId2" action="ppaction://hlinksldjump"/>
          </p:cNvPr>
          <p:cNvSpPr/>
          <p:nvPr/>
        </p:nvSpPr>
        <p:spPr>
          <a:xfrm>
            <a:off x="781200" y="1920960"/>
            <a:ext cx="7619760" cy="9144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«ПЕРВООЧЕРЕДНЫЕ МЕРОПРИЯТИЯ 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ЕРВОЙ ГРУПП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rId3" action="ppaction://hlinksldjump"/>
          </p:cNvPr>
          <p:cNvSpPr/>
          <p:nvPr/>
        </p:nvSpPr>
        <p:spPr>
          <a:xfrm>
            <a:off x="743040" y="3013200"/>
            <a:ext cx="7696080" cy="914400"/>
          </a:xfrm>
          <a:prstGeom prst="flowChartAlternateProcess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«ПЕРВООЧЕРЕДНЫЕ МЕРОПРИЯТИЯ 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dddd"/>
                </a:solidFill>
                <a:latin typeface="Arial"/>
              </a:rPr>
              <a:t>ВТОРОЙ ГРУПП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>
            <a:hlinkClick r:id="rId4" action="ppaction://hlinksldjump"/>
          </p:cNvPr>
          <p:cNvSpPr/>
          <p:nvPr/>
        </p:nvSpPr>
        <p:spPr>
          <a:xfrm>
            <a:off x="723960" y="4105440"/>
            <a:ext cx="7696080" cy="761760"/>
          </a:xfrm>
          <a:prstGeom prst="flowChartAlternateProcess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Б Щ А 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ОТОВНОСТЬ ГО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228600" y="5373720"/>
            <a:ext cx="8763120" cy="1129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ИВЕДЕНИЕ  ГРАЖДАНСКОЙ ОБОРОНЫ В ГОТОВНОСТЬ МОЖЕТ ОСУЩЕСТВЛЯТЬСЯ ПОСЛЕДОВАТЕЛЬНО ПО СТЕПЕНЯМ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ЛИБО СРАЗУ В ВЫСШУЮ СТЕПЕНЬ ГОТОВ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ИНУЯ ПРОМЕЖУТОЧНЫЕ СТЕПЕ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76320" y="0"/>
            <a:ext cx="906768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СТЕПЕНИ  ГОТОВНОСТИ  ГРАЖДАНСКОЙ  ОБОРОН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04D69-E231-4E04-83BF-C8B0F37B7DDA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676520" y="304920"/>
            <a:ext cx="576252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ccecff"/>
            </a:solidFill>
            <a:miter/>
          </a:ln>
          <a:effectLst>
            <a:outerShdw dist="107932" dir="189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3300"/>
                </a:solidFill>
                <a:latin typeface="Arial"/>
              </a:rPr>
              <a:t>СТРУКТУРА   Г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19040" y="1371600"/>
            <a:ext cx="83822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Органы управления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99960" y="2286000"/>
            <a:ext cx="83916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Силы и средства Г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80880" y="3284640"/>
            <a:ext cx="845820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Система оповещения и связи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90600" y="4365720"/>
            <a:ext cx="8524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Запасы материально-технических, продовольственных, медицинских и иных средств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3664-1E4C-4FE5-9B87-C9644DEBE751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5400" y="136440"/>
            <a:ext cx="89056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лы гражданской оборо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ы гражданской обороны - воинские формирования, специально предназначенные для решения задач в области гражданской обороны, организационно объединенные в войска гражданской обороны, а такж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аварийно - спасательные формирования и спасательные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ооруженные Силы Российской Федерации, другие войска и воинские формирования выполняют задачи в области гражданской обороны в соответствии с законодательств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задач в области гражданской обороны воинские части и подразделения Вооруженных Сил Российской Федерации, других войск и воинских формирований привлекаются в порядке, определенном Президент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варийно - спасательные службы и аварийно - спасательные формирования привлекаются для решения задач в области гражданской обороны в соответствии с законодательств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1F4D-5C8A-409C-9F57-0150EED9A63F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ОРГАНИЗАЦИИ-6"/>
          <p:cNvPicPr/>
          <p:nvPr/>
        </p:nvPicPr>
        <p:blipFill>
          <a:blip r:embed="rId1"/>
          <a:stretch/>
        </p:blipFill>
        <p:spPr>
          <a:xfrm>
            <a:off x="304920" y="4368960"/>
            <a:ext cx="2666880" cy="22269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 ПОНЯТ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780000" y="1041480"/>
            <a:ext cx="48765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жданская оборо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система мероприятий по подготовке к защите и по защите населения, материаль-ных и культурных ценностей на территории Российской Федерации от опасностей, возникающих при ведении военных действий или вследствие этих действий, </a:t>
            </a:r>
            <a:r>
              <a:rPr b="1" lang="ru-RU" sz="2400" spc="-1" strike="noStrike">
                <a:solidFill>
                  <a:srgbClr val="1fa5bb"/>
                </a:solidFill>
                <a:latin typeface="Arial"/>
              </a:rPr>
              <a:t>а также при возникновении чрезвычайных ситуаций природного и техногенного характе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полномочия"/>
          <p:cNvPicPr/>
          <p:nvPr/>
        </p:nvPicPr>
        <p:blipFill>
          <a:blip r:embed="rId2"/>
          <a:stretch/>
        </p:blipFill>
        <p:spPr>
          <a:xfrm>
            <a:off x="228600" y="838080"/>
            <a:ext cx="2590920" cy="2022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ОРГАНИЗАЦИИ-7"/>
          <p:cNvPicPr/>
          <p:nvPr/>
        </p:nvPicPr>
        <p:blipFill>
          <a:blip r:embed="rId3"/>
          <a:stretch/>
        </p:blipFill>
        <p:spPr>
          <a:xfrm>
            <a:off x="1876320" y="2590920"/>
            <a:ext cx="1785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EA14-BBC9-4154-A0BE-B1ED26F3CA1F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0" y="333360"/>
            <a:ext cx="9144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1" lang="ru-RU" sz="1700" spc="-1" strike="noStrike">
                <a:solidFill>
                  <a:srgbClr val="1fa5bb"/>
                </a:solidFill>
                <a:latin typeface="Arial"/>
              </a:rPr>
              <a:t>Международным гуманитарным правом (Женевская конвенция защиты жертв войны 1949г.) гражданская оборона </a:t>
            </a:r>
            <a:r>
              <a:rPr b="1" lang="ru-RU" sz="1700" spc="-1" strike="noStrike">
                <a:solidFill>
                  <a:srgbClr val="009dd9"/>
                </a:solidFill>
                <a:latin typeface="Arial"/>
              </a:rPr>
              <a:t>определяется как выполнение гуманитарных задач, направленных на защиту гражданского населения и помощь ему в устранении последствий военных или стихийных бедствий, создание условий для его выживания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8"/>
          <p:cNvSpPr txBox="1"/>
          <p:nvPr/>
        </p:nvSpPr>
        <p:spPr>
          <a:xfrm>
            <a:off x="324000" y="1773360"/>
            <a:ext cx="41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1 МАРТА -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ВСЕМИРНЫЙ  ДЕНЬ  ГО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20"/>
          <p:cNvSpPr txBox="1"/>
          <p:nvPr/>
        </p:nvSpPr>
        <p:spPr>
          <a:xfrm>
            <a:off x="5148360" y="17733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4 ОКТЯБРЯ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ДЕНЬ ГО В РОССИИ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24"/>
          <p:cNvSpPr/>
          <p:nvPr/>
        </p:nvSpPr>
        <p:spPr>
          <a:xfrm>
            <a:off x="1046160" y="2293920"/>
            <a:ext cx="70531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6" descr=""/>
          <p:cNvPicPr/>
          <p:nvPr/>
        </p:nvPicPr>
        <p:blipFill>
          <a:blip r:embed="rId1"/>
          <a:stretch/>
        </p:blipFill>
        <p:spPr>
          <a:xfrm>
            <a:off x="3529080" y="3970440"/>
            <a:ext cx="2698560" cy="269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5" name="Picture 27" descr=""/>
          <p:cNvPicPr/>
          <p:nvPr/>
        </p:nvPicPr>
        <p:blipFill>
          <a:blip r:embed="rId2"/>
          <a:stretch/>
        </p:blipFill>
        <p:spPr>
          <a:xfrm>
            <a:off x="6265800" y="3970440"/>
            <a:ext cx="2698920" cy="269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6" name="Text Box 22"/>
          <p:cNvSpPr/>
          <p:nvPr/>
        </p:nvSpPr>
        <p:spPr>
          <a:xfrm>
            <a:off x="34920" y="256536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Международная организация гражданской обороны (МОГО) действует с 1972 года. В ее состав входят более 50 стран-участниц и 20 – в качестве наблюдателей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МЧС России вошло в нее в 1993 г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34920" y="3448080"/>
            <a:ext cx="36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В 1996 году был создан Корпус чрезвычайного гуманитарного реагирования России, силы которого принимали участие в операциях ООН по обеспечению выживания в Руанде, Заире, Афганистане, Танзании. Министерство плодотворно сотрудничает с Норвежским Красным Крестом, Швейцарским корпусом помощи при катастрофах, с Австрией, Германией, Финляндией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53A-62CF-400B-8222-414B84AEA4F7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АПЫ РАЗВИТИЯ   МПВО – ГО – РСЧС, Г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8"/>
          <p:cNvGrpSpPr/>
          <p:nvPr/>
        </p:nvGrpSpPr>
        <p:grpSpPr>
          <a:xfrm>
            <a:off x="2209680" y="1295280"/>
            <a:ext cx="6421680" cy="1028520"/>
            <a:chOff x="2209680" y="1295280"/>
            <a:chExt cx="6421680" cy="1028520"/>
          </a:xfrm>
        </p:grpSpPr>
        <p:sp>
          <p:nvSpPr>
            <p:cNvPr id="221" name="Text Box 10"/>
            <p:cNvSpPr/>
            <p:nvPr/>
          </p:nvSpPr>
          <p:spPr>
            <a:xfrm>
              <a:off x="2209680" y="1523880"/>
              <a:ext cx="1849680" cy="799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МПВ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1"/>
            <p:cNvSpPr/>
            <p:nvPr/>
          </p:nvSpPr>
          <p:spPr>
            <a:xfrm>
              <a:off x="4603680" y="1523880"/>
              <a:ext cx="17416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Г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6889680" y="1523880"/>
              <a:ext cx="17416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РСЧС, Г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4059360" y="1866600"/>
              <a:ext cx="5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6345360" y="1866600"/>
              <a:ext cx="5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5"/>
            <p:cNvSpPr/>
            <p:nvPr/>
          </p:nvSpPr>
          <p:spPr>
            <a:xfrm>
              <a:off x="2644920" y="1295280"/>
              <a:ext cx="10890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32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6"/>
            <p:cNvSpPr/>
            <p:nvPr/>
          </p:nvSpPr>
          <p:spPr>
            <a:xfrm>
              <a:off x="4930920" y="1295280"/>
              <a:ext cx="1196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61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7107120" y="1295280"/>
              <a:ext cx="119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92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Object 20"/>
          <p:cNvGraphicFramePr/>
          <p:nvPr/>
        </p:nvGraphicFramePr>
        <p:xfrm>
          <a:off x="304920" y="2133720"/>
          <a:ext cx="843264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3264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21"/>
          <p:cNvSpPr/>
          <p:nvPr/>
        </p:nvSpPr>
        <p:spPr>
          <a:xfrm>
            <a:off x="0" y="16002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ЭТАПЫ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РАЗВИТ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6E5D7-7DA3-47CF-8A0C-A8040505D65E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419640" y="83664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944640" y="5375160"/>
            <a:ext cx="1679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56840" y="543888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ТРЕТ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479600" y="585144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944640" y="3314880"/>
            <a:ext cx="1679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338480" y="337824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В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479600" y="379080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944640" y="1298520"/>
            <a:ext cx="16794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1322640" y="1362240"/>
            <a:ext cx="94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ПЕРВ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479600" y="177480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412920" y="73080"/>
            <a:ext cx="841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"/>
          <p:cNvPicPr/>
          <p:nvPr/>
        </p:nvPicPr>
        <p:blipFill>
          <a:blip r:embed="rId1"/>
          <a:stretch/>
        </p:blipFill>
        <p:spPr>
          <a:xfrm>
            <a:off x="455760" y="920880"/>
            <a:ext cx="2768400" cy="1860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55"/>
          <p:cNvGrpSpPr/>
          <p:nvPr/>
        </p:nvGrpSpPr>
        <p:grpSpPr>
          <a:xfrm>
            <a:off x="3556080" y="946080"/>
            <a:ext cx="5549760" cy="1403640"/>
            <a:chOff x="3556080" y="946080"/>
            <a:chExt cx="5549760" cy="1403640"/>
          </a:xfrm>
        </p:grpSpPr>
        <p:sp>
          <p:nvSpPr>
            <p:cNvPr id="246" name="Rectangle 15"/>
            <p:cNvSpPr/>
            <p:nvPr/>
          </p:nvSpPr>
          <p:spPr>
            <a:xfrm>
              <a:off x="4237920" y="946080"/>
              <a:ext cx="87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18 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5165280" y="946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5417640" y="946080"/>
              <a:ext cx="190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рождение ГО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8"/>
            <p:cNvSpPr/>
            <p:nvPr/>
          </p:nvSpPr>
          <p:spPr>
            <a:xfrm>
              <a:off x="7263720" y="9460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7445880" y="946080"/>
              <a:ext cx="148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 воззвании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3556080" y="1222200"/>
              <a:ext cx="462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итета революционной обороны «К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8031240" y="1222200"/>
              <a:ext cx="1011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селе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3561480" y="1495440"/>
              <a:ext cx="47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ию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4193280" y="1495440"/>
              <a:ext cx="491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етрограда» были впервые определены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3556080" y="1771560"/>
              <a:ext cx="508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авила поведения населения в условиях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3556440" y="2044440"/>
              <a:ext cx="4220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оздушного нападения противник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30" descr=""/>
          <p:cNvPicPr/>
          <p:nvPr/>
        </p:nvPicPr>
        <p:blipFill>
          <a:blip r:embed="rId2"/>
          <a:stretch/>
        </p:blipFill>
        <p:spPr>
          <a:xfrm>
            <a:off x="455760" y="2852640"/>
            <a:ext cx="2792160" cy="1936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8" descr=""/>
          <p:cNvPicPr/>
          <p:nvPr/>
        </p:nvPicPr>
        <p:blipFill>
          <a:blip r:embed="rId3"/>
          <a:stretch/>
        </p:blipFill>
        <p:spPr>
          <a:xfrm>
            <a:off x="455760" y="4870440"/>
            <a:ext cx="2788920" cy="1901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0"/>
          <p:cNvSpPr/>
          <p:nvPr/>
        </p:nvSpPr>
        <p:spPr>
          <a:xfrm>
            <a:off x="473040" y="942840"/>
            <a:ext cx="2760840" cy="183852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1"/>
          <p:cNvSpPr/>
          <p:nvPr/>
        </p:nvSpPr>
        <p:spPr>
          <a:xfrm>
            <a:off x="473040" y="2852640"/>
            <a:ext cx="2760840" cy="194472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2"/>
          <p:cNvSpPr/>
          <p:nvPr/>
        </p:nvSpPr>
        <p:spPr>
          <a:xfrm>
            <a:off x="473040" y="4888080"/>
            <a:ext cx="2760840" cy="188568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4"/>
          <p:cNvSpPr txBox="1"/>
          <p:nvPr/>
        </p:nvSpPr>
        <p:spPr>
          <a:xfrm>
            <a:off x="395280" y="149400"/>
            <a:ext cx="8346960" cy="61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ЗАРОЖДЕНИЕ И РАЗВИТИЕ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РАЖДАНСКОЙ  ОБОРОНЫ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63" name="Rectangle 56"/>
          <p:cNvSpPr/>
          <p:nvPr/>
        </p:nvSpPr>
        <p:spPr>
          <a:xfrm>
            <a:off x="3419640" y="486900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3419640" y="285264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8"/>
          <p:cNvGrpSpPr/>
          <p:nvPr/>
        </p:nvGrpSpPr>
        <p:grpSpPr>
          <a:xfrm>
            <a:off x="3532320" y="2909880"/>
            <a:ext cx="5584680" cy="1489320"/>
            <a:chOff x="3532320" y="2909880"/>
            <a:chExt cx="5584680" cy="1489320"/>
          </a:xfrm>
        </p:grpSpPr>
        <p:sp>
          <p:nvSpPr>
            <p:cNvPr id="266" name="Rectangle 31"/>
            <p:cNvSpPr/>
            <p:nvPr/>
          </p:nvSpPr>
          <p:spPr>
            <a:xfrm>
              <a:off x="3706920" y="2989080"/>
              <a:ext cx="531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4 октября 1932 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Постановление   СНК   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4271400" y="3271680"/>
              <a:ext cx="4664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«О противовоздушной обороне СССР»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3"/>
            <p:cNvSpPr/>
            <p:nvPr/>
          </p:nvSpPr>
          <p:spPr>
            <a:xfrm>
              <a:off x="3532320" y="3544560"/>
              <a:ext cx="5571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ПВО организовывала и проводила комплекс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534120" y="3821040"/>
              <a:ext cx="506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ероприятий по защите населения в зоне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3532320" y="4093920"/>
              <a:ext cx="558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осягаемости авиации вероятного противник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7"/>
            <p:cNvSpPr/>
            <p:nvPr/>
          </p:nvSpPr>
          <p:spPr>
            <a:xfrm>
              <a:off x="3560760" y="2909880"/>
              <a:ext cx="530568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9"/>
          <p:cNvGrpSpPr/>
          <p:nvPr/>
        </p:nvGrpSpPr>
        <p:grpSpPr>
          <a:xfrm>
            <a:off x="3605040" y="5060880"/>
            <a:ext cx="5389920" cy="1404000"/>
            <a:chOff x="3605040" y="5060880"/>
            <a:chExt cx="5389920" cy="1404000"/>
          </a:xfrm>
        </p:grpSpPr>
        <p:sp>
          <p:nvSpPr>
            <p:cNvPr id="273" name="Rectangle 39"/>
            <p:cNvSpPr/>
            <p:nvPr/>
          </p:nvSpPr>
          <p:spPr>
            <a:xfrm>
              <a:off x="4028040" y="50608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4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0"/>
            <p:cNvSpPr/>
            <p:nvPr/>
          </p:nvSpPr>
          <p:spPr>
            <a:xfrm>
              <a:off x="4596480" y="5060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1"/>
            <p:cNvSpPr/>
            <p:nvPr/>
          </p:nvSpPr>
          <p:spPr>
            <a:xfrm>
              <a:off x="4671720" y="5060880"/>
              <a:ext cx="362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45г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подразделения МПВО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2"/>
            <p:cNvSpPr/>
            <p:nvPr/>
          </p:nvSpPr>
          <p:spPr>
            <a:xfrm>
              <a:off x="8299440" y="506088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казы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3"/>
            <p:cNvSpPr/>
            <p:nvPr/>
          </p:nvSpPr>
          <p:spPr>
            <a:xfrm>
              <a:off x="8586000" y="5060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4"/>
            <p:cNvSpPr/>
            <p:nvPr/>
          </p:nvSpPr>
          <p:spPr>
            <a:xfrm>
              <a:off x="3606120" y="5337000"/>
              <a:ext cx="520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али медицинскую помощь пострадавшим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5"/>
            <p:cNvSpPr/>
            <p:nvPr/>
          </p:nvSpPr>
          <p:spPr>
            <a:xfrm>
              <a:off x="3605400" y="5610240"/>
              <a:ext cx="508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ликвидировали пожары, восстанавливали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6"/>
            <p:cNvSpPr/>
            <p:nvPr/>
          </p:nvSpPr>
          <p:spPr>
            <a:xfrm>
              <a:off x="3605040" y="5886360"/>
              <a:ext cx="533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муникации, обезвреживали боеприпасы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7"/>
            <p:cNvSpPr/>
            <p:nvPr/>
          </p:nvSpPr>
          <p:spPr>
            <a:xfrm>
              <a:off x="3607560" y="6159600"/>
              <a:ext cx="4580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роили укрепления и бомбоубежищ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1CBE-7E8B-4A27-87CA-F077D766924C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26"/>
          <p:cNvSpPr/>
          <p:nvPr/>
        </p:nvSpPr>
        <p:spPr>
          <a:xfrm>
            <a:off x="900000" y="524196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ШЕСТ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27"/>
          <p:cNvSpPr/>
          <p:nvPr/>
        </p:nvSpPr>
        <p:spPr>
          <a:xfrm>
            <a:off x="971640" y="30798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ПЯТ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28"/>
          <p:cNvSpPr/>
          <p:nvPr/>
        </p:nvSpPr>
        <p:spPr>
          <a:xfrm>
            <a:off x="971640" y="835200"/>
            <a:ext cx="143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ЧЕТВЕРТ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29" descr="mso12BC8"/>
          <p:cNvPicPr/>
          <p:nvPr/>
        </p:nvPicPr>
        <p:blipFill>
          <a:blip r:embed="rId1"/>
          <a:stretch/>
        </p:blipFill>
        <p:spPr>
          <a:xfrm>
            <a:off x="249120" y="260280"/>
            <a:ext cx="2881440" cy="1920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31" descr="mso5B76E"/>
          <p:cNvPicPr/>
          <p:nvPr/>
        </p:nvPicPr>
        <p:blipFill>
          <a:blip r:embed="rId2"/>
          <a:stretch/>
        </p:blipFill>
        <p:spPr>
          <a:xfrm>
            <a:off x="249120" y="2421000"/>
            <a:ext cx="2881440" cy="195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33" descr="mso1F724"/>
          <p:cNvPicPr/>
          <p:nvPr/>
        </p:nvPicPr>
        <p:blipFill>
          <a:blip r:embed="rId3"/>
          <a:stretch/>
        </p:blipFill>
        <p:spPr>
          <a:xfrm>
            <a:off x="249120" y="4665600"/>
            <a:ext cx="2882880" cy="19684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250920" y="260280"/>
            <a:ext cx="2881080" cy="1919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36"/>
          <p:cNvSpPr/>
          <p:nvPr/>
        </p:nvSpPr>
        <p:spPr>
          <a:xfrm>
            <a:off x="250920" y="2432160"/>
            <a:ext cx="2881080" cy="1919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37"/>
          <p:cNvSpPr/>
          <p:nvPr/>
        </p:nvSpPr>
        <p:spPr>
          <a:xfrm>
            <a:off x="250920" y="4653000"/>
            <a:ext cx="2881080" cy="1944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39"/>
          <p:cNvSpPr/>
          <p:nvPr/>
        </p:nvSpPr>
        <p:spPr>
          <a:xfrm>
            <a:off x="3419640" y="33336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30"/>
          <p:cNvSpPr/>
          <p:nvPr/>
        </p:nvSpPr>
        <p:spPr>
          <a:xfrm>
            <a:off x="3562200" y="477720"/>
            <a:ext cx="54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45-1961 гг.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МПВО, поиск эффективных путей  защиты населения и народного хозяйства от применения ОМП и развитие способов и средств защиты от обычного вооружения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40"/>
          <p:cNvSpPr/>
          <p:nvPr/>
        </p:nvSpPr>
        <p:spPr>
          <a:xfrm>
            <a:off x="3419640" y="4724280"/>
            <a:ext cx="5724360" cy="18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41"/>
          <p:cNvSpPr/>
          <p:nvPr/>
        </p:nvSpPr>
        <p:spPr>
          <a:xfrm>
            <a:off x="3419640" y="2347920"/>
            <a:ext cx="572436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32"/>
          <p:cNvSpPr/>
          <p:nvPr/>
        </p:nvSpPr>
        <p:spPr>
          <a:xfrm>
            <a:off x="3564000" y="2422440"/>
            <a:ext cx="54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61-1971 гг.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ние МПВО в гражданскую оборону, строящуюся  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риториально-производственному признаку, вводится должность начальника ГО страны. Совершенствуются мероприятия защиты населения в военное врем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34"/>
          <p:cNvSpPr/>
          <p:nvPr/>
        </p:nvSpPr>
        <p:spPr>
          <a:xfrm>
            <a:off x="3537000" y="484344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71-1992гг.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ьнейшее  развитие Г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а должность Начальника ГО – замес-тителя МО. Идет накопление фонда З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ется проблема обеспечения устойчи-вого функционирования экономики страны в военное, а также в мирное врем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23B1-01E4-433C-B5EF-D9DB1F441667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85960" cy="2619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орел-МЧС"/>
          <p:cNvPicPr/>
          <p:nvPr/>
        </p:nvPicPr>
        <p:blipFill>
          <a:blip r:embed="rId2"/>
          <a:stretch/>
        </p:blipFill>
        <p:spPr>
          <a:xfrm>
            <a:off x="108000" y="3429000"/>
            <a:ext cx="1847880" cy="23623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9"/>
          <p:cNvSpPr/>
          <p:nvPr/>
        </p:nvSpPr>
        <p:spPr>
          <a:xfrm>
            <a:off x="2050920" y="3068640"/>
            <a:ext cx="687708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052720" y="314172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11.1995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ановлением Правительства РФ создается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диная государственная система предупреждения и ликвидации чрезвычайных ситуаций   (РСЧС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юле 1997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изошла реорганизация штабо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елам ГО и ЧС, являющихся подразделениями органов исполнительной власти субъектов РФ и органов местного самоуправления, в органы специально уполномоченные решать вопросы ГО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юне 1999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авительство РФ утвердило Положение о создании в органах структурных подразделений (работников), специально уполномоченных на решение задач в области ГО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179280" y="260280"/>
            <a:ext cx="687708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287280" y="404640"/>
            <a:ext cx="67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 январе 199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ражданская  оборона выводится  из  структуры  МО и объединяется   с   ГКЧС.  Органы  управления  и войска нацеливаются на решение задач по защите населения и территорий от ЧС техногенного и природного  характера.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0.01.1994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сударственный комитет по ЧС был преобразован в Министерство РФ по делам ГО, ЧС и ликвидации последствий стихийных бедствий (МЧС Росси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1266-3124-47EE-87A9-A406C6BA04A5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48164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ОСНОВНЫЕ   НАПРАВЛЕНИЯ   ПОЛИТИКИ    В    ОБЛАСТИ   ГО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179280" y="1197000"/>
            <a:ext cx="871380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нормативно-правовой баз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и оповещ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населения, материальных и культурных ценност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сил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ение населения, подготовка руководящего состава, служб и сил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сохранения объектов, существенно необходимых для устойчивого функционирования экономики и выживания населения в военное врем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и развитие системы научных знаний в области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международного сотрудничества в области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57200" y="83016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Основы единой государственной политики в области ГО на период до 2010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тверждены Президентом РФ 05.01.2004г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21B-C090-4D0C-AE81-B52FFCE39BB3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95280" y="44280"/>
            <a:ext cx="84978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мероприятия по защите населения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недрение современных технологий и способов защиты, реализация качественно новых подходов к созданию системы безопасности жизнедеятельности населения, обеспечению активного участия граждан и общественных организаций в мероприятиях ГО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ддержание в готовности защитных сооружений ГО, обеспечивающих укрытие работающего персонала на объектах, отнесенных к категориям по гражданской обороне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риспособление заглубленных помещений, метрополитенов и других сооружений подземного пространства, подготовка приспособленных сооружений для укрытия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дготовка к строительству в угрожаемый период недостающих защитных сооружений ГО с упрощенным внутренним оборудованием для работающего персонала и укрытий простейшего типа для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ланирование и подготовка эвакуации населения, материальных и культурных ценностей в безопасные районы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заблаговременная (в мирное время) подготовка этих районов для размещения эвакуированного населения, его жизнеобеспечения, хранения материальных и культурных ценностей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вершенствование радиационной, химической, медико-биологической защиты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здание запасов и своевременное обновление СИЗ и приборов РХР и ДК, улучшение условий хранения и осуществление контроля за их техническим состоянием; организация обеспечения населения, проживающего вблизи ХОО, промышленными СИЗ за счет средств этих объектов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организация накопления, храпения и использования для целей ГО запасов материально-технических, продовольственных, медицинских и иных средст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5:06:00Z</dcterms:created>
  <dc:creator>User</dc:creator>
  <dc:description/>
  <dc:language>en-US</dc:language>
  <cp:lastModifiedBy>777</cp:lastModifiedBy>
  <dcterms:modified xsi:type="dcterms:W3CDTF">2020-05-14T12:54:04Z</dcterms:modified>
  <cp:revision>383</cp:revision>
  <dc:subject/>
  <dc:title>Презентация PowerPoint</dc:title>
</cp:coreProperties>
</file>