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285-4601-4C6D-BC04-116FAD37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1F2-C0A2-4C81-9E95-747F3F5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431-C231-4F6E-AEDE-37ED9A21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3E4-2F67-4A34-A70E-15FA5220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4F2A-953E-4F30-90A3-19A8B468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50E-9943-4512-B34A-AB11006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CED-A17A-4C1D-A871-A56D95C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1F92-A296-4786-BC0A-E4431968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3C25-6BE7-4CB7-81CC-F1354A93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C396-7585-41D1-84C2-D294906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2EC0-19C3-453C-A069-D5C830F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898-C4E0-4E92-A968-16C8DD9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0026-584B-4D1F-B810-36EF1BD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1340-7FB0-4DC0-AE5F-3C71211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A89-B66B-4D84-9238-1E3E691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EA9-C86D-4758-95FF-802F4803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8585-944D-4751-8453-9294AE7A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B338-56C5-436C-AA93-DFA9A73F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DC11-BBC7-407F-AA8A-36BCF16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E6E7-74A2-4771-A2B2-8068BE9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D1F0-59EA-451B-A392-0BB11CF2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F005-8F8F-44DE-9025-2D336A5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DA3-D5D2-4852-AB34-F1445B6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486B-88A0-430E-8E35-AD8636E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2D7D-BCB2-4D95-B697-604C53D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4C08-6C4B-4D8C-8166-27222CA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CB10-05CE-4DA2-92E9-7C96E3F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2135-14D2-4364-9116-6DF85D5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681F-49DE-4BFC-9A41-C7F96FC4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F80F-B3F9-489E-A3C1-FB268A6C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A225-9A8B-4033-BF9C-2B4D3AEA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6EE6-BEB7-4666-9C74-748F1443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A608-B2D7-482C-BEB4-0705941D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33E-D71C-46FE-84E0-C71EE03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CEB1-A28D-4910-B5F1-D55DE24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365D-D6C1-45C4-9AFC-D69C57B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5C93-9CB4-4FED-849D-C55E496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683A-8D3F-42BA-965F-F6AD750F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4E72-1934-4F8B-A5F7-7F55738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964E-B4F7-4AEB-8FA2-BFD9A6B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7BEA-4412-497E-A2ED-4AD95348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9019-4BF5-4F63-89F2-44B03988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5108-23F0-47E1-AA6F-AC3C3098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891-04E0-4C0F-A692-AF720DB7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69C-E2C3-406F-ABF0-E2B205A6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3AF-EE60-43C8-A92F-97AE31F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C7F-F0CB-4FF4-A451-EE546D8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872-B0AA-4A9A-A41F-74FB49A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084-FF46-46E2-8548-28DE6F6F425C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D12-D314-4D95-BA45-95D10CFB03A8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3BD-834F-49FE-A979-DA3A69BD8182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8166-9DA3-4634-96C6-75FB705B6111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E2C-8D1C-4808-9B15-D9B3A5AA1FB9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-3636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0392408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"/>
              </a:rPr>
              <a:t>«Гражданская оборона, основные понятия и определения, задачи ГО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8" descr="эмблема-фон-вмр"/>
          <p:cNvPicPr/>
          <p:nvPr/>
        </p:nvPicPr>
        <p:blipFill>
          <a:blip r:embed="rId1"/>
          <a:stretch/>
        </p:blipFill>
        <p:spPr>
          <a:xfrm>
            <a:off x="3708360" y="11592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CD58-33B3-4D5F-9627-735B6246580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2280" y="692280"/>
            <a:ext cx="8991720" cy="5251320"/>
          </a:xfrm>
          <a:prstGeom prst="downArrow">
            <a:avLst>
              <a:gd name="adj1" fmla="val 63556"/>
              <a:gd name="adj2" fmla="val 26162"/>
            </a:avLst>
          </a:prstGeom>
          <a:gradFill rotWithShape="0">
            <a:gsLst>
              <a:gs pos="0">
                <a:srgbClr val="e2d7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rId1" action="ppaction://hlinksldjump"/>
          </p:cNvPr>
          <p:cNvSpPr/>
          <p:nvPr/>
        </p:nvSpPr>
        <p:spPr>
          <a:xfrm>
            <a:off x="819000" y="981000"/>
            <a:ext cx="7543800" cy="7621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Arial"/>
              </a:rPr>
              <a:t>«ПОВСЕДНЕВНАЯ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2" action="ppaction://hlinksldjump"/>
          </p:cNvPr>
          <p:cNvSpPr/>
          <p:nvPr/>
        </p:nvSpPr>
        <p:spPr>
          <a:xfrm>
            <a:off x="781200" y="1920960"/>
            <a:ext cx="7619760" cy="9144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ЕРВ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rId3" action="ppaction://hlinksldjump"/>
          </p:cNvPr>
          <p:cNvSpPr/>
          <p:nvPr/>
        </p:nvSpPr>
        <p:spPr>
          <a:xfrm>
            <a:off x="743040" y="3013200"/>
            <a:ext cx="7696080" cy="914400"/>
          </a:xfrm>
          <a:prstGeom prst="flowChartAlternateProcess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Arial"/>
              </a:rPr>
              <a:t>ВТОР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>
            <a:hlinkClick r:id="rId4" action="ppaction://hlinksldjump"/>
          </p:cNvPr>
          <p:cNvSpPr/>
          <p:nvPr/>
        </p:nvSpPr>
        <p:spPr>
          <a:xfrm>
            <a:off x="723960" y="4105440"/>
            <a:ext cx="7696080" cy="76176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Б Щ А 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ОТОВНОСТЬ ГО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228600" y="5373720"/>
            <a:ext cx="8763120" cy="112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ВЕДЕНИЕ  ГРАЖДАНСКОЙ ОБОРОНЫ В ГОТОВНОСТЬ МОЖЕТ ОСУЩЕСТВЛЯТЬСЯ ПОСЛЕДОВАТЕЛЬНО ПО СТЕПЕНЯМ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ИБО СРАЗУ В ВЫСШУЮ СТЕПЕНЬ ГОТО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ИНУЯ ПРОМЕЖУТОЧНЫЕ СТЕПЕ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76320" y="0"/>
            <a:ext cx="90676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СТЕПЕНИ  ГОТОВНОСТИ  ГРАЖДАНСКОЙ  ОБОРОН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BA8-0ED6-402F-8582-A43A20768BE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676520" y="304920"/>
            <a:ext cx="576252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ccecff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3300"/>
                </a:solidFill>
                <a:latin typeface="Arial"/>
              </a:rPr>
              <a:t>СТРУКТУРА  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19040" y="1371600"/>
            <a:ext cx="83822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Органы управления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9960" y="2286000"/>
            <a:ext cx="83916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лы и средства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80880" y="3284640"/>
            <a:ext cx="845820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стема оповещения и связи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90600" y="4365720"/>
            <a:ext cx="8524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Запасы материально-технических, продовольственных, медицинских и иных средств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210-2937-4F61-90C1-87AFFF0257F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5400" y="136440"/>
            <a:ext cx="89056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лы гражданской оборо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 гражданской обороны - воинские формирования, специально предназначенные для решения задач в области гражданской обороны, организационно объединенные в войска гражданской обороны, а такж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аварийно - спасательные формирования и спасательные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ооруженные Силы Российской Федерации, другие войска и воинские формирования выполняют задачи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задач в области гражданской обороны воинские части и подразделения Вооруженных Сил Российской Федерации, других войск и воинских формирований привлекаются в порядке, определенном Президент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варийно - спасательные службы и аварийно - спасательные формирования привлекаются для решения задач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16C-36F1-4662-9B47-60C772E6128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ОРГАНИЗАЦИИ-6"/>
          <p:cNvPicPr/>
          <p:nvPr/>
        </p:nvPicPr>
        <p:blipFill>
          <a:blip r:embed="rId1"/>
          <a:stretch/>
        </p:blipFill>
        <p:spPr>
          <a:xfrm>
            <a:off x="304920" y="4368960"/>
            <a:ext cx="2666880" cy="22269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 ПОНЯТ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780000" y="1041480"/>
            <a:ext cx="48765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система мероприятий по подготовке к защите и по защите населения, материаль-ных и культурных ценностей на территории Российской Федерации от опасностей, возникающих при ведении военных действий или вследствие этих действий, </a:t>
            </a:r>
            <a:r>
              <a:rPr b="1" lang="ru-RU" sz="2400" spc="-1" strike="noStrike">
                <a:solidFill>
                  <a:srgbClr val="1fa5bb"/>
                </a:solidFill>
                <a:latin typeface="Arial"/>
              </a:rPr>
              <a:t>а также при возникновении чрезвычайных ситуаций природного и техногенного характе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полномочия"/>
          <p:cNvPicPr/>
          <p:nvPr/>
        </p:nvPicPr>
        <p:blipFill>
          <a:blip r:embed="rId2"/>
          <a:stretch/>
        </p:blipFill>
        <p:spPr>
          <a:xfrm>
            <a:off x="228600" y="838080"/>
            <a:ext cx="2590920" cy="2022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ОРГАНИЗАЦИИ-7"/>
          <p:cNvPicPr/>
          <p:nvPr/>
        </p:nvPicPr>
        <p:blipFill>
          <a:blip r:embed="rId3"/>
          <a:stretch/>
        </p:blipFill>
        <p:spPr>
          <a:xfrm>
            <a:off x="1876320" y="2590920"/>
            <a:ext cx="1785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D5B-B7E3-4B07-A992-4B799E15E0EA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0" y="333360"/>
            <a:ext cx="9144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1" lang="ru-RU" sz="1700" spc="-1" strike="noStrike">
                <a:solidFill>
                  <a:srgbClr val="1fa5bb"/>
                </a:solidFill>
                <a:latin typeface="Arial"/>
              </a:rPr>
              <a:t>Международным гуманитарным правом (Женевская конвенция защиты жертв войны 1949г.) гражданская оборона </a:t>
            </a:r>
            <a:r>
              <a:rPr b="1" lang="ru-RU" sz="1700" spc="-1" strike="noStrike">
                <a:solidFill>
                  <a:srgbClr val="009dd9"/>
                </a:solidFill>
                <a:latin typeface="Arial"/>
              </a:rPr>
              <a:t>определяется как выполнение гуманитарных задач, направленных на защиту гражданского населения и помощь ему в устранении последствий военных или стихийных бедствий, создание условий для его выживания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8"/>
          <p:cNvSpPr txBox="1"/>
          <p:nvPr/>
        </p:nvSpPr>
        <p:spPr>
          <a:xfrm>
            <a:off x="324000" y="177336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1 МАРТА -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ВСЕМИРНЫЙ  ДЕНЬ  ГО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20"/>
          <p:cNvSpPr txBox="1"/>
          <p:nvPr/>
        </p:nvSpPr>
        <p:spPr>
          <a:xfrm>
            <a:off x="5148360" y="177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4 ОКТЯБРЯ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ДЕНЬ ГО В РОССИИ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1046160" y="2293920"/>
            <a:ext cx="70531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6" descr=""/>
          <p:cNvPicPr/>
          <p:nvPr/>
        </p:nvPicPr>
        <p:blipFill>
          <a:blip r:embed="rId1"/>
          <a:stretch/>
        </p:blipFill>
        <p:spPr>
          <a:xfrm>
            <a:off x="3529080" y="3970440"/>
            <a:ext cx="269856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5" name="Picture 27" descr=""/>
          <p:cNvPicPr/>
          <p:nvPr/>
        </p:nvPicPr>
        <p:blipFill>
          <a:blip r:embed="rId2"/>
          <a:stretch/>
        </p:blipFill>
        <p:spPr>
          <a:xfrm>
            <a:off x="6265800" y="3970440"/>
            <a:ext cx="269892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6" name="Text Box 22"/>
          <p:cNvSpPr/>
          <p:nvPr/>
        </p:nvSpPr>
        <p:spPr>
          <a:xfrm>
            <a:off x="34920" y="25653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еждународная организация гражданской обороны (МОГО) действует с 1972 года. В ее состав входят более 50 стран-участниц и 20 – в качестве наблюдател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ЧС России вошло в нее в 1993 г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4920" y="3448080"/>
            <a:ext cx="36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В 1996 году был создан Корпус чрезвычайного гуманитарного реагирования России, силы которого принимали участие в операциях ООН по обеспечению выживания в Руанде, Заире, Афганистане, Танзании. Министерство плодотворно сотрудничает с Норвежским Красным Крестом, Швейцарским корпусом помощи при катастрофах, с Австрией, Германией, Финлянди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774-F3ED-4E69-B912-5650A6141C8B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РАЗВИТИЯ   МПВО – ГО – РСЧС, Г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"/>
          <p:cNvGrpSpPr/>
          <p:nvPr/>
        </p:nvGrpSpPr>
        <p:grpSpPr>
          <a:xfrm>
            <a:off x="2209680" y="1295280"/>
            <a:ext cx="6421680" cy="1028520"/>
            <a:chOff x="2209680" y="1295280"/>
            <a:chExt cx="6421680" cy="1028520"/>
          </a:xfrm>
        </p:grpSpPr>
        <p:sp>
          <p:nvSpPr>
            <p:cNvPr id="221" name="Text Box 10"/>
            <p:cNvSpPr/>
            <p:nvPr/>
          </p:nvSpPr>
          <p:spPr>
            <a:xfrm>
              <a:off x="2209680" y="1523880"/>
              <a:ext cx="1849680" cy="799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МПВ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4603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6889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РСЧС, 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4059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6345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2644920" y="1295280"/>
              <a:ext cx="1089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3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6"/>
            <p:cNvSpPr/>
            <p:nvPr/>
          </p:nvSpPr>
          <p:spPr>
            <a:xfrm>
              <a:off x="4930920" y="1295280"/>
              <a:ext cx="1196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61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7107120" y="1295280"/>
              <a:ext cx="119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9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Object 20"/>
          <p:cNvGraphicFramePr/>
          <p:nvPr/>
        </p:nvGraphicFramePr>
        <p:xfrm>
          <a:off x="304920" y="2133720"/>
          <a:ext cx="843264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326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1"/>
          <p:cNvSpPr/>
          <p:nvPr/>
        </p:nvSpPr>
        <p:spPr>
          <a:xfrm>
            <a:off x="0" y="1600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ЭТАПЫ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РАЗВИТ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1ACC-D5FE-4313-8F07-02E521AB5D0E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419640" y="836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944640" y="5375160"/>
            <a:ext cx="1679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56840" y="543888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ТРЕТ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479600" y="585144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44640" y="3314880"/>
            <a:ext cx="167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338480" y="337824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В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479600" y="3790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944640" y="1298520"/>
            <a:ext cx="1679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1322640" y="1362240"/>
            <a:ext cx="9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ПЕРВ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79600" y="1774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12920" y="73080"/>
            <a:ext cx="841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"/>
          <p:cNvPicPr/>
          <p:nvPr/>
        </p:nvPicPr>
        <p:blipFill>
          <a:blip r:embed="rId1"/>
          <a:stretch/>
        </p:blipFill>
        <p:spPr>
          <a:xfrm>
            <a:off x="455760" y="920880"/>
            <a:ext cx="2768400" cy="1860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55"/>
          <p:cNvGrpSpPr/>
          <p:nvPr/>
        </p:nvGrpSpPr>
        <p:grpSpPr>
          <a:xfrm>
            <a:off x="3556080" y="946080"/>
            <a:ext cx="5549760" cy="1403640"/>
            <a:chOff x="3556080" y="946080"/>
            <a:chExt cx="5549760" cy="1403640"/>
          </a:xfrm>
        </p:grpSpPr>
        <p:sp>
          <p:nvSpPr>
            <p:cNvPr id="246" name="Rectangle 15"/>
            <p:cNvSpPr/>
            <p:nvPr/>
          </p:nvSpPr>
          <p:spPr>
            <a:xfrm>
              <a:off x="4237920" y="946080"/>
              <a:ext cx="87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18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5165280" y="946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5417640" y="946080"/>
              <a:ext cx="190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рождение Г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"/>
            <p:cNvSpPr/>
            <p:nvPr/>
          </p:nvSpPr>
          <p:spPr>
            <a:xfrm>
              <a:off x="7263720" y="9460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7445880" y="946080"/>
              <a:ext cx="148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 воззвани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3556080" y="1222200"/>
              <a:ext cx="462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итета революционной обороны «К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8031240" y="1222200"/>
              <a:ext cx="101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сел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3561480" y="1495440"/>
              <a:ext cx="47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ию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4193280" y="1495440"/>
              <a:ext cx="491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трограда» были впервые определены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3556080" y="1771560"/>
              <a:ext cx="508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вила поведения населения в условиях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3556440" y="2044440"/>
              <a:ext cx="422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оздушного нападения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455760" y="2852640"/>
            <a:ext cx="2792160" cy="1936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"/>
          <p:cNvPicPr/>
          <p:nvPr/>
        </p:nvPicPr>
        <p:blipFill>
          <a:blip r:embed="rId3"/>
          <a:stretch/>
        </p:blipFill>
        <p:spPr>
          <a:xfrm>
            <a:off x="455760" y="4870440"/>
            <a:ext cx="2788920" cy="1901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0"/>
          <p:cNvSpPr/>
          <p:nvPr/>
        </p:nvSpPr>
        <p:spPr>
          <a:xfrm>
            <a:off x="473040" y="942840"/>
            <a:ext cx="2760840" cy="18385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473040" y="2852640"/>
            <a:ext cx="2760840" cy="19447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2"/>
          <p:cNvSpPr/>
          <p:nvPr/>
        </p:nvSpPr>
        <p:spPr>
          <a:xfrm>
            <a:off x="473040" y="4888080"/>
            <a:ext cx="2760840" cy="188568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4"/>
          <p:cNvSpPr txBox="1"/>
          <p:nvPr/>
        </p:nvSpPr>
        <p:spPr>
          <a:xfrm>
            <a:off x="395280" y="149400"/>
            <a:ext cx="8346960" cy="61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РОЖДЕНИЕ И РАЗВИТИЕ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РАЖДАНСКОЙ  ОБОРОНЫ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63" name="Rectangle 56"/>
          <p:cNvSpPr/>
          <p:nvPr/>
        </p:nvSpPr>
        <p:spPr>
          <a:xfrm>
            <a:off x="3419640" y="486900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3419640" y="2852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8"/>
          <p:cNvGrpSpPr/>
          <p:nvPr/>
        </p:nvGrpSpPr>
        <p:grpSpPr>
          <a:xfrm>
            <a:off x="3532320" y="2909880"/>
            <a:ext cx="5584680" cy="1489320"/>
            <a:chOff x="3532320" y="2909880"/>
            <a:chExt cx="5584680" cy="1489320"/>
          </a:xfrm>
        </p:grpSpPr>
        <p:sp>
          <p:nvSpPr>
            <p:cNvPr id="266" name="Rectangle 31"/>
            <p:cNvSpPr/>
            <p:nvPr/>
          </p:nvSpPr>
          <p:spPr>
            <a:xfrm>
              <a:off x="3706920" y="2989080"/>
              <a:ext cx="531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4 октября 1932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Постановление   СНК  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4271400" y="3271680"/>
              <a:ext cx="466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О противовоздушной обороне СССР»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3532320" y="3544560"/>
              <a:ext cx="557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ПВО организовывала и проводила комплекс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534120" y="3821040"/>
              <a:ext cx="50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ероприятий по защите населения в зон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532320" y="4093920"/>
              <a:ext cx="558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сягаемости авиации вероятного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7"/>
            <p:cNvSpPr/>
            <p:nvPr/>
          </p:nvSpPr>
          <p:spPr>
            <a:xfrm>
              <a:off x="3560760" y="2909880"/>
              <a:ext cx="530568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9"/>
          <p:cNvGrpSpPr/>
          <p:nvPr/>
        </p:nvGrpSpPr>
        <p:grpSpPr>
          <a:xfrm>
            <a:off x="3605040" y="5060880"/>
            <a:ext cx="5389920" cy="1404000"/>
            <a:chOff x="3605040" y="5060880"/>
            <a:chExt cx="5389920" cy="1404000"/>
          </a:xfrm>
        </p:grpSpPr>
        <p:sp>
          <p:nvSpPr>
            <p:cNvPr id="273" name="Rectangle 39"/>
            <p:cNvSpPr/>
            <p:nvPr/>
          </p:nvSpPr>
          <p:spPr>
            <a:xfrm>
              <a:off x="4028040" y="506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0"/>
            <p:cNvSpPr/>
            <p:nvPr/>
          </p:nvSpPr>
          <p:spPr>
            <a:xfrm>
              <a:off x="459648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1"/>
            <p:cNvSpPr/>
            <p:nvPr/>
          </p:nvSpPr>
          <p:spPr>
            <a:xfrm>
              <a:off x="4671720" y="5060880"/>
              <a:ext cx="362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5г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подразделения МПВ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2"/>
            <p:cNvSpPr/>
            <p:nvPr/>
          </p:nvSpPr>
          <p:spPr>
            <a:xfrm>
              <a:off x="8299440" y="50608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каз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3"/>
            <p:cNvSpPr/>
            <p:nvPr/>
          </p:nvSpPr>
          <p:spPr>
            <a:xfrm>
              <a:off x="858600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4"/>
            <p:cNvSpPr/>
            <p:nvPr/>
          </p:nvSpPr>
          <p:spPr>
            <a:xfrm>
              <a:off x="3606120" y="5337000"/>
              <a:ext cx="520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али медицинскую помощь пострадавшим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3605400" y="5610240"/>
              <a:ext cx="508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иквидировали пожары, восстанавливал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6"/>
            <p:cNvSpPr/>
            <p:nvPr/>
          </p:nvSpPr>
          <p:spPr>
            <a:xfrm>
              <a:off x="3605040" y="5886360"/>
              <a:ext cx="533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муникации, обезвреживали боеприпасы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7"/>
            <p:cNvSpPr/>
            <p:nvPr/>
          </p:nvSpPr>
          <p:spPr>
            <a:xfrm>
              <a:off x="3607560" y="6159600"/>
              <a:ext cx="458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роили укрепления и бомбоубежищ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57D-1787-41B0-9016-5685A3963A1E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26"/>
          <p:cNvSpPr/>
          <p:nvPr/>
        </p:nvSpPr>
        <p:spPr>
          <a:xfrm>
            <a:off x="900000" y="524196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ШЕС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27"/>
          <p:cNvSpPr/>
          <p:nvPr/>
        </p:nvSpPr>
        <p:spPr>
          <a:xfrm>
            <a:off x="971640" y="30798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ПЯ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28"/>
          <p:cNvSpPr/>
          <p:nvPr/>
        </p:nvSpPr>
        <p:spPr>
          <a:xfrm>
            <a:off x="971640" y="835200"/>
            <a:ext cx="143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ЧЕТВЕР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29" descr="mso12BC8"/>
          <p:cNvPicPr/>
          <p:nvPr/>
        </p:nvPicPr>
        <p:blipFill>
          <a:blip r:embed="rId1"/>
          <a:stretch/>
        </p:blipFill>
        <p:spPr>
          <a:xfrm>
            <a:off x="249120" y="260280"/>
            <a:ext cx="2881440" cy="192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31" descr="mso5B76E"/>
          <p:cNvPicPr/>
          <p:nvPr/>
        </p:nvPicPr>
        <p:blipFill>
          <a:blip r:embed="rId2"/>
          <a:stretch/>
        </p:blipFill>
        <p:spPr>
          <a:xfrm>
            <a:off x="249120" y="2421000"/>
            <a:ext cx="2881440" cy="195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33" descr="mso1F724"/>
          <p:cNvPicPr/>
          <p:nvPr/>
        </p:nvPicPr>
        <p:blipFill>
          <a:blip r:embed="rId3"/>
          <a:stretch/>
        </p:blipFill>
        <p:spPr>
          <a:xfrm>
            <a:off x="249120" y="4665600"/>
            <a:ext cx="2882880" cy="1968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250920" y="260280"/>
            <a:ext cx="2881080" cy="191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36"/>
          <p:cNvSpPr/>
          <p:nvPr/>
        </p:nvSpPr>
        <p:spPr>
          <a:xfrm>
            <a:off x="250920" y="2432160"/>
            <a:ext cx="2881080" cy="191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37"/>
          <p:cNvSpPr/>
          <p:nvPr/>
        </p:nvSpPr>
        <p:spPr>
          <a:xfrm>
            <a:off x="250920" y="4653000"/>
            <a:ext cx="2881080" cy="1944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39"/>
          <p:cNvSpPr/>
          <p:nvPr/>
        </p:nvSpPr>
        <p:spPr>
          <a:xfrm>
            <a:off x="3419640" y="33336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30"/>
          <p:cNvSpPr/>
          <p:nvPr/>
        </p:nvSpPr>
        <p:spPr>
          <a:xfrm>
            <a:off x="3562200" y="47772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45-1961 гг.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МПВО, поиск эффективных путей  защиты населения и народного хозяйства от применения ОМП и развитие способов и средств защиты от обычного вооружени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40"/>
          <p:cNvSpPr/>
          <p:nvPr/>
        </p:nvSpPr>
        <p:spPr>
          <a:xfrm>
            <a:off x="3419640" y="4724280"/>
            <a:ext cx="5724360" cy="18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41"/>
          <p:cNvSpPr/>
          <p:nvPr/>
        </p:nvSpPr>
        <p:spPr>
          <a:xfrm>
            <a:off x="3419640" y="2347920"/>
            <a:ext cx="57243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32"/>
          <p:cNvSpPr/>
          <p:nvPr/>
        </p:nvSpPr>
        <p:spPr>
          <a:xfrm>
            <a:off x="3564000" y="2422440"/>
            <a:ext cx="54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61-1971 гг.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МПВО в гражданскую оборону, строящуюся 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риториально-производственному признаку, вводится должность начальника ГО страны. Совершенствуются мероприятия защиты населения в военное врем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34"/>
          <p:cNvSpPr/>
          <p:nvPr/>
        </p:nvSpPr>
        <p:spPr>
          <a:xfrm>
            <a:off x="3537000" y="484344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71-1992гг.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нейшее  развитие Г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а должность Начальника ГО – замес-тителя МО. Идет накопление фонда З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ется проблема обеспечения устойчи-вого функционирования экономики страны в военное, а также в мирное врем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FF6-2A7C-4907-B20E-272AD4727BB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85960" cy="2619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орел-МЧС"/>
          <p:cNvPicPr/>
          <p:nvPr/>
        </p:nvPicPr>
        <p:blipFill>
          <a:blip r:embed="rId2"/>
          <a:stretch/>
        </p:blipFill>
        <p:spPr>
          <a:xfrm>
            <a:off x="108000" y="3429000"/>
            <a:ext cx="1847880" cy="23623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9"/>
          <p:cNvSpPr/>
          <p:nvPr/>
        </p:nvSpPr>
        <p:spPr>
          <a:xfrm>
            <a:off x="2050920" y="3068640"/>
            <a:ext cx="687708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052720" y="314172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11.1995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ановлением Правительства РФ создается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диная государственная система предупреждения и ликвидации чрезвычайных ситуаций   (РСЧС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ле 1997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изошла реорганизация штаб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ам ГО и ЧС, являющихся подразделениями органов исполнительной власти субъектов РФ и органов местного самоуправления, в органы специально уполномоченные решать вопросы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не 1999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авительство РФ утвердило Положение о создании в органах структурных подразделений (работников), специально уполномоченных на решение задач в области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79280" y="260280"/>
            <a:ext cx="6877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87280" y="40464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 январе 199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ражданская  оборона выводится  из  структуры  МО и объединяется   с   ГКЧС.  Органы  управления  и войска нацеливаются на решение задач по защите населения и территорий от ЧС техногенного и природного  характера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0.01.1994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сударственный комитет по ЧС был преобразован в Министерство РФ по делам ГО, ЧС и ликвидации последствий стихийных бедствий (МЧС Росси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C5B7-BA2B-4262-B2C6-52CB6ECF1223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48164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ОСНОВНЫЕ   НАПРАВЛЕНИЯ   ПОЛИТИКИ    В    ОБЛАСТИ   Г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179280" y="1197000"/>
            <a:ext cx="871380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нормативно-правовой баз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и оповещ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населения, материальных и культурных ценност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е населения, подготовка руководящего состава, служб и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сохранения объектов, существенно необходимых для устойчивого функционирования экономики и выживания населения в военное врем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и развитие системы научных знаний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международного сотрудничества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57200" y="83016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Основы единой государственной политики в области ГО на период до 2010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тверждены Президентом РФ 05.01.2004г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A5B-345D-4F23-BBE1-06B465DE97E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95280" y="44280"/>
            <a:ext cx="84978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мероприятия по защите населения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недрение современных технологий и способов защиты, реализация качественно новых подходов к созданию системы безопасности жизнедеятельности населения, обеспечению активного участия граждан и общественных организаций в мероприятиях Г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держание в готовности защитных сооружений ГО, обеспечивающих укрытие работающего персонала на объектах, отнесенных к категориям по гражданской обороне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риспособление заглубленных помещений, метрополитенов и других сооружений подземного пространства, подготовка приспособленных сооружений для укрыти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готовка к строительству в угрожаемый период недостающих защитных сооружений ГО с упрощенным внутренним оборудованием для работающего персонала и укрытий простейшего типа дл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анирование и подготовка эвакуации населения, материальных и культурных ценностей в безопасные район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аблаговременная (в мирное время) подготовка этих районов для размещения эвакуированного населения, его жизнеобеспечения, хранения материальных и культурных ценносте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вершенствование радиационной, химической, медико-биологической защиты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здание запасов и своевременное обновление СИЗ и приборов РХР и ДК, улучшение условий хранения и осуществление контроля за их техническим состоянием; организация обеспечения населения, проживающего вблизи ХОО, промышленными СИЗ за счет средств этих объект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организация накопления, храпения и использования для целей ГО запасов материально-технических, продовольственных, медицинских и иных средст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5:06:00Z</dcterms:created>
  <dc:creator>User</dc:creator>
  <dc:description/>
  <dc:language>en-US</dc:language>
  <cp:lastModifiedBy>777</cp:lastModifiedBy>
  <dcterms:modified xsi:type="dcterms:W3CDTF">2020-05-14T12:54:04Z</dcterms:modified>
  <cp:revision>383</cp:revision>
  <dc:subject/>
  <dc:title>Презентация PowerPoint</dc:title>
</cp:coreProperties>
</file>