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40.png" ContentType="image/png"/>
  <Override PartName="/ppt/media/image9.jpeg" ContentType="image/jpeg"/>
  <Override PartName="/ppt/media/image41.png" ContentType="image/png"/>
  <Override PartName="/ppt/media/image13.png" ContentType="image/png"/>
  <Override PartName="/ppt/media/image46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4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5EC6-B203-442F-99B7-B0D20BF43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2974-B11B-470B-BBCC-D5FA94E30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2A62-674C-41B4-8777-CAE61608FA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DA97-ED43-4967-B88E-7D34A2C8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F68-DFDF-440A-BA92-34CFA498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962-4FEE-409B-B07E-A4325191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53A-7C4B-4765-8BA8-ED611A1A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856-FE27-4395-995A-2CC6A076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445-2242-4994-9750-6F815447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FD5-7BD6-4AE7-9095-55E75E9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CED-5A78-40DF-981D-7060823F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3D2-EE6C-4F60-9E00-0A4D60D2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F1A-A288-405D-A024-6D16E476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EDE-454B-4DBD-A4E2-9F88CEE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6AC-99A4-41A1-8029-3CC99A8D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25F3-4317-49C6-87E0-ADDC82FD6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828440"/>
            <a:ext cx="2971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f7f7f"/>
                </a:solidFill>
                <a:latin typeface="Arial"/>
              </a:rPr>
              <a:t>Болезни и гигиена зр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505320" y="304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FB38-5BB3-4DAC-BDE4-E9D0829DA965}" type="datetime">
              <a:rPr b="0" lang="ru-RU" sz="4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8600" y="1447920"/>
            <a:ext cx="4762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У людей, страдающих дальнозоркостью, постоянно напряжены глазные мышцы, поэтому часто возникает зрительное переутомление и головная бо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редметы, находящиеся на близком расстоянии (20–30 см от глаз) видны не чёт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889520" y="4038480"/>
            <a:ext cx="3568680" cy="20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9"/>
          <p:cNvSpPr/>
          <p:nvPr/>
        </p:nvSpPr>
        <p:spPr>
          <a:xfrm>
            <a:off x="3962520" y="1371600"/>
            <a:ext cx="51814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560"/>
            <a:ext cx="8217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рекция дальнозор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476600" y="3083040"/>
            <a:ext cx="5602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s://upload.wikimedia.org/wikipedia/commons/thumb/1/1d/Hypermetropia_color.png/800px-Hypermetropia_color.png"/>
          <p:cNvPicPr/>
          <p:nvPr/>
        </p:nvPicPr>
        <p:blipFill>
          <a:blip r:embed="rId1"/>
          <a:stretch/>
        </p:blipFill>
        <p:spPr>
          <a:xfrm>
            <a:off x="5530680" y="1447920"/>
            <a:ext cx="3308400" cy="4500360"/>
          </a:xfrm>
          <a:prstGeom prst="rect">
            <a:avLst/>
          </a:prstGeom>
          <a:ln w="0">
            <a:noFill/>
          </a:ln>
        </p:spPr>
      </p:pic>
      <p:sp>
        <p:nvSpPr>
          <p:cNvPr id="115" name="Текст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ояковыпуклая линза меняет фокусное рас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0" y="1201680"/>
            <a:ext cx="594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все младенцы — дальнозоркие. У большинства этот дефект пропадает в связи с ростом глазного ябл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а возрастной дальнозоркости — уменьшение способности хрусталика изменять кривизну. Этот процесс начинается в возрасте около 25 лет, к 40—50 годам приводит к снижению остроты зрения при чтении на обычном расстоянии от глаз (25—30 см), к 65 годам глаз уже практически полностью теряет способность к аккомод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74674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8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арушение зрения, при котором человек плохо видит вдали. Исправляется двояковогнутыми  линз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2971800"/>
            <a:ext cx="7467480" cy="25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нарушение зрения, при котором человек плохо видит вблизи. Исправляется двояковыпуклыми линз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13031967173543"/>
          <p:cNvPicPr/>
          <p:nvPr/>
        </p:nvPicPr>
        <p:blipFill>
          <a:blip r:embed="rId1"/>
          <a:stretch/>
        </p:blipFill>
        <p:spPr>
          <a:xfrm>
            <a:off x="7448400" y="108000"/>
            <a:ext cx="1619280" cy="2025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7448400" y="2209680"/>
            <a:ext cx="1619280" cy="243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6261120" y="4697280"/>
            <a:ext cx="28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4"/>
          <a:stretch/>
        </p:blipFill>
        <p:spPr>
          <a:xfrm>
            <a:off x="3060720" y="4697280"/>
            <a:ext cx="28828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24240" y="167040"/>
            <a:ext cx="5837400" cy="808200"/>
          </a:xfrm>
          <a:prstGeom prst="rect">
            <a:avLst/>
          </a:prstGeom>
          <a:solidFill>
            <a:srgbClr val="6f2f6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Болезни гл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320" y="1371240"/>
            <a:ext cx="8991360" cy="4724280"/>
          </a:xfrm>
          <a:prstGeom prst="rect">
            <a:avLst/>
          </a:prstGeom>
          <a:solidFill>
            <a:srgbClr val="6f2f61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нъюнктивит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-воспа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слизистой оболочки гла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ячмень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- гнойное воспаление края 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атаракта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- помутнение хрустал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глаукома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– повышение внутриглазного давления, приводящее к атрофии зрительного нер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бельмо</a:t>
            </a:r>
            <a:r>
              <a:rPr b="0" i="1" lang="ru-RU" sz="3200" spc="-1" strike="noStrike">
                <a:solidFill>
                  <a:srgbClr val="ffffff"/>
                </a:solidFill>
                <a:latin typeface="Georgia"/>
              </a:rPr>
              <a:t> – помутнение роговицы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main_right_1"/>
          <p:cNvPicPr/>
          <p:nvPr/>
        </p:nvPicPr>
        <p:blipFill>
          <a:blip r:embed="rId1"/>
          <a:stretch/>
        </p:blipFill>
        <p:spPr>
          <a:xfrm>
            <a:off x="6921360" y="0"/>
            <a:ext cx="21463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6172200"/>
            <a:ext cx="2895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ред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2635929"/>
          <p:cNvPicPr/>
          <p:nvPr/>
        </p:nvPicPr>
        <p:blipFill>
          <a:blip r:embed="rId1"/>
          <a:stretch/>
        </p:blipFill>
        <p:spPr>
          <a:xfrm>
            <a:off x="152280" y="1219320"/>
            <a:ext cx="4359240" cy="287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135369"/>
          <p:cNvPicPr/>
          <p:nvPr/>
        </p:nvPicPr>
        <p:blipFill>
          <a:blip r:embed="rId2"/>
          <a:stretch/>
        </p:blipFill>
        <p:spPr>
          <a:xfrm>
            <a:off x="6175440" y="1457280"/>
            <a:ext cx="2371680" cy="287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cs622730.vk.me/v622730009/18329/jQqE8ART7D8.jpg"/>
          <p:cNvPicPr/>
          <p:nvPr/>
        </p:nvPicPr>
        <p:blipFill>
          <a:blip r:embed="rId3"/>
          <a:stretch/>
        </p:blipFill>
        <p:spPr>
          <a:xfrm>
            <a:off x="1981080" y="3352680"/>
            <a:ext cx="3840120" cy="2880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ение в движущемся транспорте, чтение лежа, длительная работа с компьютером, плохое освещение, близкое расстояние объекта от глаз  приводят к переутомлению ресничной мышцы и снижению остроты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40266db3872d28da6f881f9cc75589c1"/>
          <p:cNvPicPr/>
          <p:nvPr/>
        </p:nvPicPr>
        <p:blipFill>
          <a:blip r:embed="rId4"/>
          <a:stretch/>
        </p:blipFill>
        <p:spPr>
          <a:xfrm>
            <a:off x="5819760" y="3978360"/>
            <a:ext cx="33242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ое питание – залог хорошего з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5805000"/>
            <a:ext cx="7772400" cy="3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poglazam.ru/wp-content/uploads/2016/01/glaznye-kapli-dlja-uluchshenija-zrenija-pri-blizorukosti7.jpg"/>
          <p:cNvPicPr/>
          <p:nvPr/>
        </p:nvPicPr>
        <p:blipFill>
          <a:blip r:embed="rId1"/>
          <a:stretch/>
        </p:blipFill>
        <p:spPr>
          <a:xfrm>
            <a:off x="1244520" y="1295280"/>
            <a:ext cx="7290000" cy="4859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едостатке витамин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образуется пигмент родопсин в палочках, при этом человек плохо видит в темноте — заболевание называется «куриная слепо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игиена зр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письма, чтения, работы на компьютере расстояние от глаз до книги, монитора – не менее 3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длительной работы глаз делай перерыв через каждые 20 минут, смотри в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ещение рабочего места должно быть достаточным, но не слишком яр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ри глаза руками, береги от пы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ги от травм, используй защитн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тесняйся носить 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ворачивая головы переведи взгляд в левый нижний угол, в правый верхний, в правый нижний, в левый верхний угол. Повтори 5 –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ыми глазами медленно, плавно рисуем восьмёрку в пространстве по горизонтали, вертик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щение глазными яблоками при сомкнутых веках по часовой стрелке и против 8-1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 раскрыть глаза и смотреть на далёкий объект 20 секунд, потом на близкий о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поморгать 20-30с. Закрыть глаза и посидеть спокойно 1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ко зажмуриться на 5 с, а потом на 5 с шир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ь  глаза. Повторить 1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594560" y="5454720"/>
            <a:ext cx="154944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1371600"/>
            <a:ext cx="91440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бочки в сетчатке делятся на три группы, одни возбуждаю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расным св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торые — 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зеле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ретьи —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ин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сли не работает какая-то группа колбочек, развиваются заболевания, при которых человек аномально различает какие –  т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rcRect l="0" t="2327" r="0" b="0"/>
          <a:stretch/>
        </p:blipFill>
        <p:spPr>
          <a:xfrm>
            <a:off x="1447920" y="3505320"/>
            <a:ext cx="6105240" cy="3276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1"/>
          <p:cNvSpPr/>
          <p:nvPr/>
        </p:nvSpPr>
        <p:spPr>
          <a:xfrm>
            <a:off x="0" y="163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достатки цветовос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Администратор.2FEFC0C42F15401\Рабочий стол\dalton.jpg"/>
          <p:cNvPicPr/>
          <p:nvPr/>
        </p:nvPicPr>
        <p:blipFill>
          <a:blip r:embed="rId1"/>
          <a:stretch/>
        </p:blipFill>
        <p:spPr>
          <a:xfrm>
            <a:off x="5560920" y="1384200"/>
            <a:ext cx="3506760" cy="4645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320" y="1371240"/>
            <a:ext cx="5333760" cy="4724280"/>
          </a:xfrm>
          <a:prstGeom prst="rect">
            <a:avLst/>
          </a:prstGeom>
          <a:solidFill>
            <a:srgbClr val="6f2f61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ледственная, реже приобретённая особенность зрения, выражающаяся в неспособности различать один или несколько цветов. Названа в честь Джона Дальтона, который впервые описал один из видов цветовой слепоты на основании собственных ощущений, в 1794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4600" y="167040"/>
            <a:ext cx="7894800" cy="808200"/>
          </a:xfrm>
          <a:prstGeom prst="rect">
            <a:avLst/>
          </a:prstGeom>
          <a:solidFill>
            <a:srgbClr val="6f2f6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Дальтонизм – цветовая слеп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600200"/>
          </a:xfrm>
          <a:prstGeom prst="rect">
            <a:avLst/>
          </a:prstGeom>
          <a:solidFill>
            <a:srgbClr val="6f2f61"/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рение – одно из ведущих чувств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к как в познании внешнего мира  играет первостепенную ро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66720" y="1295280"/>
            <a:ext cx="4800600" cy="4724640"/>
          </a:xfrm>
          <a:prstGeom prst="rect">
            <a:avLst/>
          </a:prstGeom>
          <a:solidFill>
            <a:srgbClr val="6f2f61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ьтонизм поражает примерно восемь мужчин из ста и одну женщину из двухсот. Вероятно, это объясняется дефектными колбочками и обычно передаётся по наследству. Дальтоники не различают красный и зеленый цвета, воспринимают их как сер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www.help-eyes.ru/public/images/img_170.jpg"/>
          <p:cNvPicPr/>
          <p:nvPr/>
        </p:nvPicPr>
        <p:blipFill>
          <a:blip r:embed="rId1"/>
          <a:stretch/>
        </p:blipFill>
        <p:spPr>
          <a:xfrm>
            <a:off x="304920" y="1295280"/>
            <a:ext cx="3809880" cy="233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Администратор.2FEFC0C42F15401\Рабочий стол\241864165.jpg"/>
          <p:cNvPicPr/>
          <p:nvPr/>
        </p:nvPicPr>
        <p:blipFill>
          <a:blip r:embed="rId2"/>
          <a:stretch/>
        </p:blipFill>
        <p:spPr>
          <a:xfrm>
            <a:off x="228600" y="3675240"/>
            <a:ext cx="38829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Администратор.2FEFC0C42F15401\Рабочий стол\test1.jpg"/>
          <p:cNvPicPr/>
          <p:nvPr/>
        </p:nvPicPr>
        <p:blipFill>
          <a:blip r:embed="rId1"/>
          <a:stretch/>
        </p:blipFill>
        <p:spPr>
          <a:xfrm>
            <a:off x="0" y="0"/>
            <a:ext cx="5334120" cy="5353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" descr="дальтонизм"/>
          <p:cNvPicPr/>
          <p:nvPr/>
        </p:nvPicPr>
        <p:blipFill>
          <a:blip r:embed="rId2"/>
          <a:stretch/>
        </p:blipFill>
        <p:spPr>
          <a:xfrm>
            <a:off x="5029200" y="34290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2" descr="тест на дальтонизм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тест на цветовосприятие"/>
          <p:cNvPicPr/>
          <p:nvPr/>
        </p:nvPicPr>
        <p:blipFill>
          <a:blip r:embed="rId4"/>
          <a:stretch/>
        </p:blipFill>
        <p:spPr>
          <a:xfrm>
            <a:off x="0" y="4786200"/>
            <a:ext cx="2428920" cy="20718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тест для дальтоника"/>
          <p:cNvPicPr/>
          <p:nvPr/>
        </p:nvPicPr>
        <p:blipFill>
          <a:blip r:embed="rId5"/>
          <a:stretch/>
        </p:blipFill>
        <p:spPr>
          <a:xfrm>
            <a:off x="2428920" y="4786200"/>
            <a:ext cx="26002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228600"/>
            <a:ext cx="9213840" cy="6480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7315200" y="228600"/>
            <a:ext cx="1836720" cy="5375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149400"/>
            <a:ext cx="9191520" cy="6480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7391520" y="149400"/>
            <a:ext cx="1836720" cy="5375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-3240" y="225360"/>
            <a:ext cx="9070920" cy="6480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315200" y="228600"/>
            <a:ext cx="1800360" cy="5375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-9360" y="152280"/>
            <a:ext cx="9153360" cy="64803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391520" y="152280"/>
            <a:ext cx="1726920" cy="5375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http://www.vesberdsk.ru/articles/files/2010/04/zdorovye.jpg"/>
          <p:cNvPicPr/>
          <p:nvPr/>
        </p:nvPicPr>
        <p:blipFill>
          <a:blip r:embed="rId1"/>
          <a:stretch/>
        </p:blipFill>
        <p:spPr>
          <a:xfrm>
            <a:off x="1922400" y="1339920"/>
            <a:ext cx="7201080" cy="4680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 стр. 248-2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968480" y="1219320"/>
            <a:ext cx="5346720" cy="4932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0" y="76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люзия 1. Если долго смотреть на точку в центре рисунка – цветные пятна исчез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G:\Мои рисунки\Новые изображения\37d7141020c0755170eeea1132e7c4de.jpg"/>
          <p:cNvPicPr/>
          <p:nvPr/>
        </p:nvPicPr>
        <p:blipFill>
          <a:blip r:embed="rId1"/>
          <a:srcRect l="0" t="19291" r="0" b="0"/>
          <a:stretch/>
        </p:blipFill>
        <p:spPr>
          <a:xfrm>
            <a:off x="76320" y="1447920"/>
            <a:ext cx="8989920" cy="4643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0" y="-76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люзия 2. Лицо слева и лицо справа может казаться то добрым, то злым, в зависимости от рас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G:\Мои рисунки\биология\анатомия\interesnyj_test.jpg"/>
          <p:cNvPicPr/>
          <p:nvPr/>
        </p:nvPicPr>
        <p:blipFill>
          <a:blip r:embed="rId1"/>
          <a:stretch/>
        </p:blipFill>
        <p:spPr>
          <a:xfrm>
            <a:off x="770040" y="1168560"/>
            <a:ext cx="758988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8"/>
          <p:cNvSpPr/>
          <p:nvPr/>
        </p:nvSpPr>
        <p:spPr>
          <a:xfrm>
            <a:off x="0" y="1371600"/>
            <a:ext cx="914400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12" descr=""/>
          <p:cNvPicPr/>
          <p:nvPr/>
        </p:nvPicPr>
        <p:blipFill>
          <a:blip r:embed="rId1"/>
          <a:stretch/>
        </p:blipFill>
        <p:spPr>
          <a:xfrm>
            <a:off x="-263520" y="914400"/>
            <a:ext cx="10017000" cy="3387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3"/>
          <p:cNvSpPr/>
          <p:nvPr/>
        </p:nvSpPr>
        <p:spPr>
          <a:xfrm>
            <a:off x="228600" y="4572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нешнее изоб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5"/>
          <p:cNvCxnSpPr/>
          <p:nvPr/>
        </p:nvCxnSpPr>
        <p:spPr>
          <a:xfrm flipV="1">
            <a:off x="1522800" y="3276000"/>
            <a:ext cx="1080" cy="1261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6" name="Прямая со стрелкой 5"/>
          <p:cNvCxnSpPr/>
          <p:nvPr/>
        </p:nvCxnSpPr>
        <p:spPr>
          <a:xfrm flipV="1">
            <a:off x="4266000" y="3463200"/>
            <a:ext cx="2520" cy="1261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7" name="TextBox 13"/>
          <p:cNvSpPr/>
          <p:nvPr/>
        </p:nvSpPr>
        <p:spPr>
          <a:xfrm>
            <a:off x="3046320" y="4608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зображение на сетча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6084720" y="4191120"/>
            <a:ext cx="30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зображение, восстановленное в моз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1"/>
          <p:cNvCxnSpPr/>
          <p:nvPr/>
        </p:nvCxnSpPr>
        <p:spPr>
          <a:xfrm flipH="1" flipV="1">
            <a:off x="7466760" y="3263040"/>
            <a:ext cx="1080" cy="108036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60" name="Rectangle 2" descr=""/>
          <p:cNvPicPr/>
          <p:nvPr/>
        </p:nvPicPr>
        <p:blipFill>
          <a:blip r:embed="rId2"/>
          <a:stretch/>
        </p:blipFill>
        <p:spPr>
          <a:xfrm>
            <a:off x="463680" y="109440"/>
            <a:ext cx="8242200" cy="1033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5486400"/>
            <a:ext cx="9144000" cy="129528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учи света проникают в глаз, фокусируются хрусталиком и на сетчатке, возникает перевернутое изображение. Нервные окончания посылают сигнал в мозг, при этом картинка переворачивается так, что предмет воспринимается правиль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можности  глаза челове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4876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ккомод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глаза приспосабливаться к видению как на близком, так и на далеком расстоянии, за счет изменения кривизны хрустали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ел аккомодации – 10 см от глаза.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стояние наилучшего видени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ез напряжения)   для нормального глаза – 25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24512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рмальное зре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ёткое изображение возникает на сетчатке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нормальное зрение copy"/>
          <p:cNvPicPr/>
          <p:nvPr/>
        </p:nvPicPr>
        <p:blipFill>
          <a:blip r:embed="rId1"/>
          <a:stretch/>
        </p:blipFill>
        <p:spPr>
          <a:xfrm>
            <a:off x="3562200" y="1219320"/>
            <a:ext cx="7299360" cy="485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Ход луча при нормальном зрении"/>
          <p:cNvPicPr/>
          <p:nvPr/>
        </p:nvPicPr>
        <p:blipFill>
          <a:blip r:embed="rId2"/>
          <a:stretch/>
        </p:blipFill>
        <p:spPr>
          <a:xfrm>
            <a:off x="304920" y="2448000"/>
            <a:ext cx="314316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6"/>
          <p:cNvSpPr/>
          <p:nvPr/>
        </p:nvSpPr>
        <p:spPr>
          <a:xfrm>
            <a:off x="3886200" y="1447920"/>
            <a:ext cx="5257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лизорукость – чёткое изображение возникает перед сетчат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зное яблоко удлинённой фор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величенная кривизна хруста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6172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плохо видит предметы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yopic"/>
          <p:cNvPicPr/>
          <p:nvPr/>
        </p:nvPicPr>
        <p:blipFill>
          <a:blip r:embed="rId1"/>
          <a:stretch/>
        </p:blipFill>
        <p:spPr>
          <a:xfrm>
            <a:off x="4419720" y="1371600"/>
            <a:ext cx="472104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upload.wikimedia.org/wikipedia/commons/thumb/e/e0/Myopia_and_lens_correction.svg/491px-Myopia_and_lens_correction.svg.png"/>
          <p:cNvPicPr/>
          <p:nvPr/>
        </p:nvPicPr>
        <p:blipFill>
          <a:blip r:embed="rId2"/>
          <a:srcRect l="0" t="0" r="0" b="49624"/>
          <a:stretch/>
        </p:blipFill>
        <p:spPr>
          <a:xfrm>
            <a:off x="3209760" y="3657600"/>
            <a:ext cx="34196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7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яжести заболевания в близорукости выделяют три степе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7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ая: до −3 диопт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7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: от −3,25 до −6 диоптр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77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ая: свыше −6 диоптрий. Близорукость может быть врождённой, а может появиться со временем и прогрессир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https://upload.wikimedia.org/wikipedia/commons/9/9d/Human_eyesight_two_children_and_ball_normal_vision_color.jpg"/>
          <p:cNvPicPr/>
          <p:nvPr/>
        </p:nvPicPr>
        <p:blipFill>
          <a:blip r:embed="rId1"/>
          <a:stretch/>
        </p:blipFill>
        <p:spPr>
          <a:xfrm>
            <a:off x="6186600" y="1295280"/>
            <a:ext cx="2843280" cy="23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https://upload.wikimedia.org/wikipedia/commons/e/e3/Human_eyesight_two_children_and_ball_with_myopia.jpg"/>
          <p:cNvPicPr/>
          <p:nvPr/>
        </p:nvPicPr>
        <p:blipFill>
          <a:blip r:embed="rId2"/>
          <a:stretch/>
        </p:blipFill>
        <p:spPr>
          <a:xfrm>
            <a:off x="6186600" y="3755880"/>
            <a:ext cx="2843280" cy="237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143000" y="0"/>
            <a:ext cx="1076400" cy="120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4"/>
          <a:stretch/>
        </p:blipFill>
        <p:spPr>
          <a:xfrm>
            <a:off x="2743200" y="0"/>
            <a:ext cx="1066680" cy="120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5"/>
          <a:stretch/>
        </p:blipFill>
        <p:spPr>
          <a:xfrm>
            <a:off x="4343400" y="0"/>
            <a:ext cx="100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9"/>
          <p:cNvSpPr/>
          <p:nvPr/>
        </p:nvSpPr>
        <p:spPr>
          <a:xfrm>
            <a:off x="4343400" y="1371600"/>
            <a:ext cx="48006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476600" y="3083040"/>
            <a:ext cx="3983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76600" y="3083040"/>
            <a:ext cx="1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https://upload.wikimedia.org/wikipedia/commons/thumb/e/e0/Myopia_and_lens_correction.svg/491px-Myopia_and_lens_correction.svg.png"/>
          <p:cNvPicPr/>
          <p:nvPr/>
        </p:nvPicPr>
        <p:blipFill>
          <a:blip r:embed="rId1"/>
          <a:stretch/>
        </p:blipFill>
        <p:spPr>
          <a:xfrm>
            <a:off x="5192640" y="1411200"/>
            <a:ext cx="3341880" cy="4608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рекция близору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яковогнутая линза меняет фокусное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3886200" y="1447920"/>
            <a:ext cx="5257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льнозоркость – чёткое изображение возникает за сетчат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зное яблоко укороченной фор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меньшенная кривизна хруста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6172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плохо видит предметы вбли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yperop"/>
          <p:cNvPicPr/>
          <p:nvPr/>
        </p:nvPicPr>
        <p:blipFill>
          <a:blip r:embed="rId1"/>
          <a:stretch/>
        </p:blipFill>
        <p:spPr>
          <a:xfrm>
            <a:off x="3733920" y="1295280"/>
            <a:ext cx="5381640" cy="288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upload.wikimedia.org/wikipedia/commons/thumb/1/1d/Hypermetropia_color.png/800px-Hypermetropia_color.png"/>
          <p:cNvPicPr/>
          <p:nvPr/>
        </p:nvPicPr>
        <p:blipFill>
          <a:blip r:embed="rId2"/>
          <a:srcRect l="0" t="0" r="0" b="52763"/>
          <a:stretch/>
        </p:blipFill>
        <p:spPr>
          <a:xfrm>
            <a:off x="3352680" y="3809880"/>
            <a:ext cx="367668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дим</dc:creator>
  <dc:description/>
  <dc:language>en-US</dc:language>
  <cp:lastModifiedBy>Вадим</cp:lastModifiedBy>
  <dcterms:modified xsi:type="dcterms:W3CDTF">2020-03-27T18:00:08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